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8720" y="742680"/>
            <a:ext cx="4956120" cy="37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move the slide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9"/>
          <p:cNvSpPr/>
          <p:nvPr/>
        </p:nvSpPr>
        <p:spPr>
          <a:xfrm>
            <a:off x="476280" y="388800"/>
            <a:ext cx="5842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>
            <a:off x="476280" y="9223200"/>
            <a:ext cx="5842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hdr"/>
          </p:nvPr>
        </p:nvSpPr>
        <p:spPr>
          <a:xfrm>
            <a:off x="469800" y="149400"/>
            <a:ext cx="5842080" cy="17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2" descr="unfccc_logos+text"/>
          <p:cNvPicPr/>
          <p:nvPr/>
        </p:nvPicPr>
        <p:blipFill>
          <a:blip r:embed="rId2"/>
          <a:stretch/>
        </p:blipFill>
        <p:spPr>
          <a:xfrm>
            <a:off x="476280" y="9333000"/>
            <a:ext cx="5840280" cy="57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1"/>
          <p:cNvSpPr/>
          <p:nvPr/>
        </p:nvSpPr>
        <p:spPr>
          <a:xfrm>
            <a:off x="469800" y="149400"/>
            <a:ext cx="58420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Header Placeholder 3"/>
          <p:cNvSpPr/>
          <p:nvPr/>
        </p:nvSpPr>
        <p:spPr>
          <a:xfrm>
            <a:off x="469800" y="149400"/>
            <a:ext cx="58420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78674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98920"/>
            <a:ext cx="78674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60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60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9892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9892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9892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35040" y="1263600"/>
            <a:ext cx="7867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7867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10920" y="188640"/>
            <a:ext cx="7869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504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600"/>
            <a:ext cx="7867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632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5040" y="3598920"/>
            <a:ext cx="78674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78674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5040" y="3598920"/>
            <a:ext cx="78674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504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632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080" y="126360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55120" y="126360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35040" y="359892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080" y="359892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55120" y="359892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35040" y="1263600"/>
            <a:ext cx="7867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7867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7867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10920" y="188640"/>
            <a:ext cx="7869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3504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632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5040" y="3598920"/>
            <a:ext cx="78674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78674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35040" y="3598920"/>
            <a:ext cx="78674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504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632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080" y="126360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55120" y="126360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35040" y="359892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080" y="359892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55120" y="359892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35040" y="1263600"/>
            <a:ext cx="7867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7867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10920" y="188640"/>
            <a:ext cx="7869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3504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632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5040" y="3598920"/>
            <a:ext cx="78674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78674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35040" y="3598920"/>
            <a:ext cx="78674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504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632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95080" y="126360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55120" y="126360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5040" y="359892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95080" y="359892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55120" y="359892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35040" y="1263600"/>
            <a:ext cx="7867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7867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10920" y="188640"/>
            <a:ext cx="7869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3504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632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5040" y="3598920"/>
            <a:ext cx="78674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78674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35040" y="3598920"/>
            <a:ext cx="78674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3504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632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10920" y="188640"/>
            <a:ext cx="7869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95080" y="126360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55120" y="126360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35040" y="359892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95080" y="359892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55120" y="3598920"/>
            <a:ext cx="25329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9892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600"/>
            <a:ext cx="3839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98920"/>
            <a:ext cx="78674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3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7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6" descr="unfccc-letter-es-e-header"/>
          <p:cNvPicPr/>
          <p:nvPr/>
        </p:nvPicPr>
        <p:blipFill>
          <a:blip r:embed="rId2"/>
          <a:srcRect l="0" t="0" r="86370" b="44262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35040" y="1263600"/>
            <a:ext cx="7867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35712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0000" indent="-26964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70000" indent="-26820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38200" indent="-26676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38200" indent="-26676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38200" indent="-26676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7"/>
          <p:cNvSpPr/>
          <p:nvPr/>
        </p:nvSpPr>
        <p:spPr>
          <a:xfrm>
            <a:off x="631800" y="981000"/>
            <a:ext cx="7875720" cy="180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unfccc-letter-es-e-header"/>
          <p:cNvPicPr/>
          <p:nvPr/>
        </p:nvPicPr>
        <p:blipFill>
          <a:blip r:embed="rId2"/>
          <a:srcRect l="0" t="0" r="86370" b="44262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4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8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9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0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2" descr="unfccc-letter-es-e-header"/>
          <p:cNvPicPr/>
          <p:nvPr/>
        </p:nvPicPr>
        <p:blipFill>
          <a:blip r:embed="rId3"/>
          <a:srcRect l="0" t="0" r="86370" b="44262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CCC secretariat, MDA 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Sergey KONONOV; Manager, Inventories and Data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1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unfccc-letter-es-e-header"/>
          <p:cNvPicPr/>
          <p:nvPr/>
        </p:nvPicPr>
        <p:blipFill>
          <a:blip r:embed="rId3"/>
          <a:srcRect l="0" t="0" r="86370" b="44262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35040" y="1263600"/>
            <a:ext cx="7867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35712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0000" indent="-26964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70000" indent="-26820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38200" indent="-26676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38200" indent="-26676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38200" indent="-26676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3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NFCCC secretariat, MDA 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4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ergey KONONOV; Manager, Inventories and Data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36"/>
          <p:cNvSpPr/>
          <p:nvPr/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FCCC secretariat, MDA program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7"/>
          <p:cNvSpPr/>
          <p:nvPr/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Xuehong Wang, Programme Offi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280" y="907920"/>
            <a:ext cx="7882200" cy="29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n Overview of Parties’ Submissions on the Review Guidelines for the GHG inventories, national communications and biennial reports</a:t>
            </a:r>
            <a:endParaRPr b="0" lang="en-US" sz="3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24960" y="4581360"/>
            <a:ext cx="788220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echnical workshop on the review guidelines of NC and B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7-9 October 2013, Bo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93dc"/>
                </a:solidFill>
                <a:latin typeface="Arial"/>
              </a:rPr>
              <a:t>5. Key elements of review guidelines – </a:t>
            </a:r>
            <a:r>
              <a:rPr b="1" lang="en-US" sz="2800" spc="-1" strike="noStrike">
                <a:solidFill>
                  <a:srgbClr val="b62306"/>
                </a:solidFill>
                <a:latin typeface="Arial"/>
              </a:rPr>
              <a:t>for one single set of guidelines</a:t>
            </a:r>
            <a:endParaRPr b="1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52" name="Content Placeholder 3" descr=""/>
          <p:cNvPicPr/>
          <p:nvPr/>
        </p:nvPicPr>
        <p:blipFill>
          <a:blip r:embed="rId1"/>
          <a:stretch/>
        </p:blipFill>
        <p:spPr>
          <a:xfrm>
            <a:off x="609480" y="1627200"/>
            <a:ext cx="7869240" cy="44751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4"/>
          <p:cNvSpPr/>
          <p:nvPr/>
        </p:nvSpPr>
        <p:spPr>
          <a:xfrm>
            <a:off x="755640" y="126828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rt IV: Review guidelines for N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93dc"/>
                </a:solidFill>
                <a:latin typeface="Arial"/>
              </a:rPr>
              <a:t>5. Key elements of review guidelines – </a:t>
            </a:r>
            <a:r>
              <a:rPr b="1" lang="en-US" sz="2800" spc="-1" strike="noStrike">
                <a:solidFill>
                  <a:srgbClr val="b62306"/>
                </a:solidFill>
                <a:latin typeface="Arial"/>
              </a:rPr>
              <a:t>for one single set of guidelines</a:t>
            </a:r>
            <a:endParaRPr b="1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55" name="Content Placeholder 3" descr=""/>
          <p:cNvPicPr/>
          <p:nvPr/>
        </p:nvPicPr>
        <p:blipFill>
          <a:blip r:embed="rId1"/>
          <a:stretch/>
        </p:blipFill>
        <p:spPr>
          <a:xfrm>
            <a:off x="609480" y="1554120"/>
            <a:ext cx="7869240" cy="44751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4"/>
          <p:cNvSpPr/>
          <p:nvPr/>
        </p:nvSpPr>
        <p:spPr>
          <a:xfrm>
            <a:off x="826920" y="119700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rt III: Review guidelines for 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93dc"/>
                </a:solidFill>
                <a:latin typeface="Arial"/>
              </a:rPr>
              <a:t>5. Key elements of review guidelines – </a:t>
            </a:r>
            <a:r>
              <a:rPr b="1" lang="en-US" sz="2800" spc="-1" strike="noStrike">
                <a:solidFill>
                  <a:srgbClr val="b62306"/>
                </a:solidFill>
                <a:latin typeface="Arial"/>
              </a:rPr>
              <a:t>three sets of individual review guidelines</a:t>
            </a:r>
            <a:endParaRPr b="1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58" name="Content Placeholder 3" descr=""/>
          <p:cNvPicPr/>
          <p:nvPr/>
        </p:nvPicPr>
        <p:blipFill>
          <a:blip r:embed="rId1"/>
          <a:stretch/>
        </p:blipFill>
        <p:spPr>
          <a:xfrm>
            <a:off x="633240" y="1262160"/>
            <a:ext cx="795672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281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93dc"/>
                </a:solidFill>
                <a:latin typeface="Arial"/>
              </a:rPr>
              <a:t>6. Timing/schedule and format of reviews – </a:t>
            </a:r>
            <a:r>
              <a:rPr b="1" lang="en-US" sz="2400" spc="-1" strike="noStrike">
                <a:solidFill>
                  <a:srgbClr val="b62306"/>
                </a:solidFill>
                <a:latin typeface="Arial"/>
              </a:rPr>
              <a:t>Option 1</a:t>
            </a:r>
            <a:endParaRPr b="1" lang="en-US" sz="24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60" name="Content Placeholder 3" descr=""/>
          <p:cNvPicPr/>
          <p:nvPr/>
        </p:nvPicPr>
        <p:blipFill>
          <a:blip r:embed="rId1"/>
          <a:stretch/>
        </p:blipFill>
        <p:spPr>
          <a:xfrm>
            <a:off x="622440" y="1054080"/>
            <a:ext cx="8137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93dc"/>
                </a:solidFill>
                <a:latin typeface="Arial"/>
              </a:rPr>
              <a:t>6. Timing/schedule and format of reviews – </a:t>
            </a:r>
            <a:r>
              <a:rPr b="1" lang="en-US" sz="2400" spc="-1" strike="noStrike">
                <a:solidFill>
                  <a:srgbClr val="b62306"/>
                </a:solidFill>
                <a:latin typeface="Arial"/>
              </a:rPr>
              <a:t>Option 2</a:t>
            </a:r>
            <a:endParaRPr b="1" lang="en-US" sz="2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35040" y="1263600"/>
            <a:ext cx="7867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-country reviews for both BRs and N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C reviews could be conducted in conjunction with the review under the K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93dc"/>
                </a:solidFill>
                <a:latin typeface="Arial"/>
              </a:rPr>
              <a:t>6. Timing/schedule and format of reviews – </a:t>
            </a:r>
            <a:r>
              <a:rPr b="1" lang="en-US" sz="2400" spc="-1" strike="noStrike">
                <a:solidFill>
                  <a:srgbClr val="b62306"/>
                </a:solidFill>
                <a:latin typeface="Arial"/>
              </a:rPr>
              <a:t>Option 3</a:t>
            </a:r>
            <a:endParaRPr b="1" lang="en-US" sz="24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64" name="Content Placeholder 3" descr=""/>
          <p:cNvPicPr/>
          <p:nvPr/>
        </p:nvPicPr>
        <p:blipFill>
          <a:blip r:embed="rId1"/>
          <a:stretch/>
        </p:blipFill>
        <p:spPr>
          <a:xfrm>
            <a:off x="596880" y="1616040"/>
            <a:ext cx="7894800" cy="4498920"/>
          </a:xfrm>
          <a:prstGeom prst="rect">
            <a:avLst/>
          </a:prstGeom>
          <a:ln w="0">
            <a:noFill/>
          </a:ln>
        </p:spPr>
      </p:pic>
      <p:sp>
        <p:nvSpPr>
          <p:cNvPr id="265" name="TextBox 4"/>
          <p:cNvSpPr/>
          <p:nvPr/>
        </p:nvSpPr>
        <p:spPr>
          <a:xfrm>
            <a:off x="684360" y="1125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93dc"/>
                </a:solidFill>
                <a:latin typeface="Arial"/>
              </a:rPr>
              <a:t>6. Timing/schedule and format of reviews – </a:t>
            </a:r>
            <a:r>
              <a:rPr b="1" lang="en-US" sz="2400" spc="-1" strike="noStrike">
                <a:solidFill>
                  <a:srgbClr val="b62306"/>
                </a:solidFill>
                <a:latin typeface="Arial"/>
              </a:rPr>
              <a:t>Option 4</a:t>
            </a:r>
            <a:endParaRPr b="1" lang="en-US" sz="2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35040" y="1263600"/>
            <a:ext cx="7867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in-country and centralized review formats should be available to Parties under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and format of each review should be determined on the ba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ference of Party under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ther considerations, including the number of review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d in one year, availability of resources and exp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93dc"/>
                </a:solidFill>
                <a:latin typeface="Arial"/>
              </a:rPr>
              <a:t>7. Specific matters on the guidelines</a:t>
            </a:r>
            <a:endParaRPr b="1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69" name="Content Placeholder 1" descr=""/>
          <p:cNvPicPr/>
          <p:nvPr/>
        </p:nvPicPr>
        <p:blipFill>
          <a:blip r:embed="rId1"/>
          <a:stretch/>
        </p:blipFill>
        <p:spPr>
          <a:xfrm>
            <a:off x="622440" y="1262160"/>
            <a:ext cx="789300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93dc"/>
                </a:solidFill>
                <a:latin typeface="Arial"/>
              </a:rPr>
              <a:t>Outline of presentation</a:t>
            </a:r>
            <a:endParaRPr b="1" lang="en-US" sz="32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31" name="Content Placeholder 3" descr=""/>
          <p:cNvPicPr/>
          <p:nvPr/>
        </p:nvPicPr>
        <p:blipFill>
          <a:blip r:embed="rId1"/>
          <a:stretch/>
        </p:blipFill>
        <p:spPr>
          <a:xfrm>
            <a:off x="633240" y="1262160"/>
            <a:ext cx="787104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93dc"/>
                </a:solidFill>
                <a:latin typeface="Arial"/>
              </a:rPr>
              <a:t>1. Overview of submissions</a:t>
            </a:r>
            <a:endParaRPr b="1" lang="en-US" sz="32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33" name="Content Placeholder 3" descr=""/>
          <p:cNvPicPr/>
          <p:nvPr/>
        </p:nvPicPr>
        <p:blipFill>
          <a:blip r:embed="rId1"/>
          <a:stretch/>
        </p:blipFill>
        <p:spPr>
          <a:xfrm>
            <a:off x="633240" y="1255680"/>
            <a:ext cx="787104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08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93dc"/>
                </a:solidFill>
                <a:latin typeface="Arial"/>
              </a:rPr>
              <a:t>2. Review principles and overall approach</a:t>
            </a:r>
            <a:endParaRPr b="1" lang="en-US" sz="32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35" name="Content Placeholder 3" descr=""/>
          <p:cNvPicPr/>
          <p:nvPr/>
        </p:nvPicPr>
        <p:blipFill>
          <a:blip r:embed="rId1"/>
          <a:stretch/>
        </p:blipFill>
        <p:spPr>
          <a:xfrm>
            <a:off x="633240" y="1262160"/>
            <a:ext cx="7871040" cy="4473360"/>
          </a:xfrm>
          <a:prstGeom prst="rect">
            <a:avLst/>
          </a:prstGeom>
          <a:ln w="0">
            <a:noFill/>
          </a:ln>
        </p:spPr>
      </p:pic>
      <p:pic>
        <p:nvPicPr>
          <p:cNvPr id="236" name="Diagram 4" descr=""/>
          <p:cNvPicPr/>
          <p:nvPr/>
        </p:nvPicPr>
        <p:blipFill>
          <a:blip r:embed="rId2"/>
          <a:stretch/>
        </p:blipFill>
        <p:spPr>
          <a:xfrm>
            <a:off x="804960" y="1414440"/>
            <a:ext cx="767376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93dc"/>
                </a:solidFill>
                <a:latin typeface="Arial"/>
              </a:rPr>
              <a:t>3. Scope of review guidelines</a:t>
            </a:r>
            <a:endParaRPr b="1" lang="en-US" sz="32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38" name="Content Placeholder 3" descr=""/>
          <p:cNvPicPr/>
          <p:nvPr/>
        </p:nvPicPr>
        <p:blipFill>
          <a:blip r:embed="rId1"/>
          <a:stretch/>
        </p:blipFill>
        <p:spPr>
          <a:xfrm>
            <a:off x="633240" y="1262160"/>
            <a:ext cx="789480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78692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93dc"/>
                </a:solidFill>
                <a:latin typeface="Arial"/>
              </a:rPr>
              <a:t>4. Structure of review guidelines – one single set of review guidelines</a:t>
            </a:r>
            <a:endParaRPr b="1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40" name="Content Placeholder 3" descr=""/>
          <p:cNvPicPr/>
          <p:nvPr/>
        </p:nvPicPr>
        <p:blipFill>
          <a:blip r:embed="rId1"/>
          <a:stretch/>
        </p:blipFill>
        <p:spPr>
          <a:xfrm>
            <a:off x="622440" y="1262160"/>
            <a:ext cx="8034120" cy="4473360"/>
          </a:xfrm>
          <a:prstGeom prst="rect">
            <a:avLst/>
          </a:prstGeom>
          <a:ln w="0">
            <a:noFill/>
          </a:ln>
        </p:spPr>
      </p:pic>
      <p:sp>
        <p:nvSpPr>
          <p:cNvPr id="241" name="TextBox 4"/>
          <p:cNvSpPr/>
          <p:nvPr/>
        </p:nvSpPr>
        <p:spPr>
          <a:xfrm>
            <a:off x="826920" y="141300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86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93dc"/>
                </a:solidFill>
                <a:latin typeface="Arial"/>
              </a:rPr>
              <a:t>4. Structure of review guidelines – one single set of review guidelines</a:t>
            </a:r>
            <a:endParaRPr b="1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43" name="Content Placeholder 3" descr=""/>
          <p:cNvPicPr/>
          <p:nvPr/>
        </p:nvPicPr>
        <p:blipFill>
          <a:blip r:embed="rId1"/>
          <a:stretch/>
        </p:blipFill>
        <p:spPr>
          <a:xfrm>
            <a:off x="622440" y="1262160"/>
            <a:ext cx="7888320" cy="4473360"/>
          </a:xfrm>
          <a:prstGeom prst="rect">
            <a:avLst/>
          </a:prstGeom>
          <a:ln w="0">
            <a:noFill/>
          </a:ln>
        </p:spPr>
      </p:pic>
      <p:sp>
        <p:nvSpPr>
          <p:cNvPr id="244" name="TextBox 4"/>
          <p:cNvSpPr/>
          <p:nvPr/>
        </p:nvSpPr>
        <p:spPr>
          <a:xfrm>
            <a:off x="900000" y="148428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78692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93dc"/>
                </a:solidFill>
                <a:latin typeface="Arial"/>
              </a:rPr>
              <a:t>4. Structure of review guidelines – three sets of individual review guidelines</a:t>
            </a:r>
            <a:endParaRPr b="1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46" name="Content Placeholder 10" descr=""/>
          <p:cNvPicPr/>
          <p:nvPr/>
        </p:nvPicPr>
        <p:blipFill>
          <a:blip r:embed="rId1"/>
          <a:stretch/>
        </p:blipFill>
        <p:spPr>
          <a:xfrm>
            <a:off x="609480" y="1341360"/>
            <a:ext cx="7894800" cy="45356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11"/>
          <p:cNvSpPr/>
          <p:nvPr/>
        </p:nvSpPr>
        <p:spPr>
          <a:xfrm>
            <a:off x="1116000" y="12841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6360" y="404640"/>
            <a:ext cx="81360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93dc"/>
                </a:solidFill>
                <a:latin typeface="Arial"/>
              </a:rPr>
              <a:t>5. Key elements of review guidelines – </a:t>
            </a:r>
            <a:r>
              <a:rPr b="1" lang="en-US" sz="2800" spc="-1" strike="noStrike">
                <a:solidFill>
                  <a:srgbClr val="b62306"/>
                </a:solidFill>
                <a:latin typeface="Arial"/>
              </a:rPr>
              <a:t>for one single set of guidelines</a:t>
            </a:r>
            <a:endParaRPr b="1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49" name="Content Placeholder 3" descr=""/>
          <p:cNvPicPr/>
          <p:nvPr/>
        </p:nvPicPr>
        <p:blipFill>
          <a:blip r:embed="rId1"/>
          <a:stretch/>
        </p:blipFill>
        <p:spPr>
          <a:xfrm>
            <a:off x="609480" y="1500120"/>
            <a:ext cx="7869240" cy="44672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4"/>
          <p:cNvSpPr/>
          <p:nvPr/>
        </p:nvSpPr>
        <p:spPr>
          <a:xfrm>
            <a:off x="971640" y="112536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rt I: Overarching section – general aspects of review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0:31:06Z</dcterms:created>
  <dc:creator>kononov</dc:creator>
  <dc:description/>
  <dc:language>en-US</dc:language>
  <cp:lastModifiedBy>Javier Hanna</cp:lastModifiedBy>
  <cp:lastPrinted>2013-10-01T12:25:40Z</cp:lastPrinted>
  <dcterms:modified xsi:type="dcterms:W3CDTF">2013-10-04T13:18:47Z</dcterms:modified>
  <cp:revision>110</cp:revision>
  <dc:subject/>
  <dc:title>TITLE HEADER</dc:title>
</cp:coreProperties>
</file>