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6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7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7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Calibri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6" descr="unfccc-letter-es-e-header"/>
          <p:cNvPicPr/>
          <p:nvPr/>
        </p:nvPicPr>
        <p:blipFill>
          <a:blip r:embed="rId2"/>
          <a:srcRect l="0" t="0" r="86373" b="44262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7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9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unfccc_logos_big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9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unfccc_logos_big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34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8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9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0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2" descr="unfccc-letter-es-e-header"/>
          <p:cNvPicPr/>
          <p:nvPr/>
        </p:nvPicPr>
        <p:blipFill>
          <a:blip r:embed="rId3"/>
          <a:srcRect l="0" t="0" r="86373" b="44262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5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6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Firstname Lastname, Job TitleUNFCCC secretari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249192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irst technical workshop on the revision of the Guidelines for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the review of Biennial Reports and National Communications, including National Inventory reviews for developed country Parties </a:t>
            </a:r>
            <a:endParaRPr b="0" lang="en-US" sz="3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39640" y="6243480"/>
            <a:ext cx="583236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700" spc="-1" strike="noStrike">
                <a:solidFill>
                  <a:srgbClr val="000000"/>
                </a:solidFill>
                <a:latin typeface="Arial"/>
              </a:rPr>
              <a:t>Javier Hann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1700" spc="-1" strike="noStrike">
                <a:solidFill>
                  <a:srgbClr val="000000"/>
                </a:solidFill>
                <a:latin typeface="Arial"/>
              </a:rPr>
              <a:t>, MDA - UNFCCCsecretariat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611280" y="4508640"/>
            <a:ext cx="78818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onn, Germany, 7 October 20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5920" y="1052640"/>
            <a:ext cx="8434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lnSpc>
                <a:spcPct val="150000"/>
              </a:lnSpc>
              <a:buClr>
                <a:srgbClr val="246eb9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6eb9"/>
                </a:solidFill>
                <a:latin typeface="Calibri"/>
              </a:rPr>
              <a:t>SBSTA 38 (2013):</a:t>
            </a: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ok note of the conclusions of the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meeting of lead reviewers;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ted that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ppropriate streamlining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f the review process could improve its efficiency and cost-effectiveness: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482840" indent="-3477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st effective, efficient and practical review processes without compromising qualit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849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497b"/>
                </a:solidFill>
                <a:latin typeface="Calibri"/>
              </a:rPr>
              <a:t>Concluded that the </a:t>
            </a:r>
            <a:r>
              <a:rPr b="1" lang="en-GB" sz="2000" spc="-1" strike="noStrike">
                <a:solidFill>
                  <a:srgbClr val="18497b"/>
                </a:solidFill>
                <a:latin typeface="Calibri"/>
              </a:rPr>
              <a:t>review of NCs should be conducted in conjunction with the review of BRs </a:t>
            </a:r>
            <a:r>
              <a:rPr b="0" lang="en-GB" sz="2000" spc="-1" strike="noStrike">
                <a:solidFill>
                  <a:srgbClr val="18497b"/>
                </a:solidFill>
                <a:latin typeface="Calibri"/>
              </a:rPr>
              <a:t>in the years when both reports are submitted;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849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497b"/>
                </a:solidFill>
                <a:latin typeface="Calibri"/>
              </a:rPr>
              <a:t>Agreed that the </a:t>
            </a:r>
            <a:r>
              <a:rPr b="1" lang="en-GB" sz="2000" spc="-1" strike="noStrike">
                <a:solidFill>
                  <a:srgbClr val="18497b"/>
                </a:solidFill>
                <a:latin typeface="Calibri"/>
              </a:rPr>
              <a:t>same information submitted in NCs, BRs and GHG inventories would be reviewed only once</a:t>
            </a:r>
            <a:r>
              <a:rPr b="0" lang="en-GB" sz="2000" spc="-1" strike="noStrike">
                <a:solidFill>
                  <a:srgbClr val="18497b"/>
                </a:solidFill>
                <a:latin typeface="Calibri"/>
              </a:rPr>
              <a:t>;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7" name="Rectangle 2"/>
          <p:cNvGrpSpPr/>
          <p:nvPr/>
        </p:nvGrpSpPr>
        <p:grpSpPr>
          <a:xfrm>
            <a:off x="0" y="19080"/>
            <a:ext cx="8547120" cy="1395360"/>
            <a:chOff x="0" y="19080"/>
            <a:chExt cx="8547120" cy="1395360"/>
          </a:xfrm>
        </p:grpSpPr>
        <p:pic>
          <p:nvPicPr>
            <p:cNvPr id="388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19080"/>
              <a:ext cx="85471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663480" y="450720"/>
              <a:ext cx="7869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b93dc"/>
                  </a:solidFill>
                  <a:latin typeface="Calibri"/>
                </a:rPr>
                <a:t>Work programm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250920" y="1052640"/>
            <a:ext cx="864216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7000"/>
          </a:bodyPr>
          <a:p>
            <a:pPr marL="332640" indent="-332640">
              <a:lnSpc>
                <a:spcPct val="150000"/>
              </a:lnSpc>
              <a:buClr>
                <a:srgbClr val="246eb9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6eb9"/>
                </a:solidFill>
                <a:latin typeface="Calibri"/>
              </a:rPr>
              <a:t>SBSTA 38 (2013):</a:t>
            </a: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buClr>
                <a:srgbClr val="000000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ted that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eviews of NCs and BRs could be conducted through a combination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f in-country and centralized reviews, only through centralized reviews, or only through in-country reviews: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49760" indent="-336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urther </a:t>
            </a:r>
            <a:r>
              <a:rPr b="1" lang="en-GB" sz="2000" spc="-1" strike="noStrike">
                <a:solidFill>
                  <a:srgbClr val="18497b"/>
                </a:solidFill>
                <a:latin typeface="Calibri"/>
              </a:rPr>
              <a:t>discussions on the specific format and combination of review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uld be carried out </a:t>
            </a:r>
            <a:r>
              <a:rPr b="0" lang="en-GB" sz="2000" spc="-1" strike="noStrike">
                <a:solidFill>
                  <a:srgbClr val="18497b"/>
                </a:solidFill>
                <a:latin typeface="Calibri"/>
              </a:rPr>
              <a:t>during the first technical workshop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buClr>
                <a:srgbClr val="18497b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497b"/>
                </a:solidFill>
                <a:latin typeface="Calibri"/>
              </a:rPr>
              <a:t>Identified </a:t>
            </a:r>
            <a:r>
              <a:rPr b="1" lang="en-GB" sz="2000" spc="-1" strike="noStrike">
                <a:solidFill>
                  <a:srgbClr val="18497b"/>
                </a:solidFill>
                <a:latin typeface="Calibri"/>
              </a:rPr>
              <a:t>two alternatives to structuring the review guideline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49760" indent="-336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ne set of review guideline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general approach  + specific requirements for review of NCs, BRs and GHG inventori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49760" indent="-336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ree separate sets of review guideline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NCs + BRs + GHG inventor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Rectangle 2"/>
          <p:cNvGrpSpPr/>
          <p:nvPr/>
        </p:nvGrpSpPr>
        <p:grpSpPr>
          <a:xfrm>
            <a:off x="0" y="19080"/>
            <a:ext cx="8547120" cy="1395360"/>
            <a:chOff x="0" y="19080"/>
            <a:chExt cx="8547120" cy="1395360"/>
          </a:xfrm>
        </p:grpSpPr>
        <p:pic>
          <p:nvPicPr>
            <p:cNvPr id="392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19080"/>
              <a:ext cx="85471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663480" y="450720"/>
              <a:ext cx="7869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b93dc"/>
                  </a:solidFill>
                  <a:latin typeface="Calibri"/>
                </a:rPr>
                <a:t>Work programm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250920" y="1052640"/>
            <a:ext cx="864216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9000"/>
          </a:bodyPr>
          <a:p>
            <a:pPr marL="339480" indent="-339480">
              <a:lnSpc>
                <a:spcPct val="150000"/>
              </a:lnSpc>
              <a:buClr>
                <a:srgbClr val="246eb9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6eb9"/>
                </a:solidFill>
                <a:latin typeface="Calibri"/>
              </a:rPr>
              <a:t>SBSTA 38 (2013):</a:t>
            </a: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18497b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497b"/>
                </a:solidFill>
                <a:latin typeface="Calibri"/>
              </a:rPr>
              <a:t>First technical workshop </a:t>
            </a:r>
            <a:r>
              <a:rPr b="1" lang="en-GB" sz="2000" spc="-1" strike="noStrike">
                <a:solidFill>
                  <a:srgbClr val="18497b"/>
                </a:solidFill>
                <a:latin typeface="Calibri"/>
              </a:rPr>
              <a:t>should focus on mapping information requirements in BRs and NCs </a:t>
            </a:r>
            <a:r>
              <a:rPr b="0" lang="en-GB" sz="2000" spc="-1" strike="noStrike">
                <a:solidFill>
                  <a:srgbClr val="18497b"/>
                </a:solidFill>
                <a:latin typeface="Calibri"/>
              </a:rPr>
              <a:t>reporting guidelines to identify: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71360" indent="-343800">
              <a:lnSpc>
                <a:spcPct val="150000"/>
              </a:lnSpc>
              <a:spcBef>
                <a:spcPts val="499"/>
              </a:spcBef>
              <a:buClr>
                <a:srgbClr val="18497b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8497b"/>
                </a:solidFill>
                <a:latin typeface="Calibri"/>
              </a:rPr>
              <a:t>overlapping</a:t>
            </a:r>
            <a:r>
              <a:rPr b="0" lang="en-GB" sz="2000" spc="-1" strike="noStrike">
                <a:solidFill>
                  <a:srgbClr val="18497b"/>
                </a:solidFill>
                <a:latin typeface="Calibri"/>
              </a:rPr>
              <a:t> reporting requirements (substantively common and duplicated informatio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71360" indent="-343800">
              <a:lnSpc>
                <a:spcPct val="150000"/>
              </a:lnSpc>
              <a:spcBef>
                <a:spcPts val="499"/>
              </a:spcBef>
              <a:buClr>
                <a:srgbClr val="18497b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8497b"/>
                </a:solidFill>
                <a:latin typeface="Calibri"/>
              </a:rPr>
              <a:t>unique</a:t>
            </a:r>
            <a:r>
              <a:rPr b="0" lang="en-GB" sz="2000" spc="-1" strike="noStrike">
                <a:solidFill>
                  <a:srgbClr val="18497b"/>
                </a:solidFill>
                <a:latin typeface="Calibri"/>
              </a:rPr>
              <a:t> information in BRs and NC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Unique information to BR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uld serve as starting point for a discussion for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ing BR review guideline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verlapping  reporting information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 NC and BR could serve a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put to discussion on streamlining the review proces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Rectangle 2"/>
          <p:cNvGrpSpPr/>
          <p:nvPr/>
        </p:nvGrpSpPr>
        <p:grpSpPr>
          <a:xfrm>
            <a:off x="0" y="19080"/>
            <a:ext cx="8547120" cy="1395360"/>
            <a:chOff x="0" y="19080"/>
            <a:chExt cx="8547120" cy="1395360"/>
          </a:xfrm>
        </p:grpSpPr>
        <p:pic>
          <p:nvPicPr>
            <p:cNvPr id="396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19080"/>
              <a:ext cx="85471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663480" y="450720"/>
              <a:ext cx="7869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b93dc"/>
                  </a:solidFill>
                  <a:latin typeface="Calibri"/>
                </a:rPr>
                <a:t>Work programm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250920" y="1052640"/>
            <a:ext cx="864216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7000"/>
          </a:bodyPr>
          <a:p>
            <a:pPr marL="332640" indent="-332640">
              <a:lnSpc>
                <a:spcPct val="130000"/>
              </a:lnSpc>
              <a:buClr>
                <a:srgbClr val="246eb9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6eb9"/>
                </a:solidFill>
                <a:latin typeface="Calibri"/>
              </a:rPr>
              <a:t>SBSTA 38 (2013):</a:t>
            </a: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30000"/>
              </a:lnSpc>
              <a:buClr>
                <a:srgbClr val="18497b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497b"/>
                </a:solidFill>
                <a:latin typeface="Calibri"/>
              </a:rPr>
              <a:t>Parties to </a:t>
            </a:r>
            <a:r>
              <a:rPr b="1" lang="en-GB" sz="2000" spc="-1" strike="noStrike">
                <a:solidFill>
                  <a:srgbClr val="18497b"/>
                </a:solidFill>
                <a:latin typeface="Calibri"/>
              </a:rPr>
              <a:t>submit additional views </a:t>
            </a:r>
            <a:r>
              <a:rPr b="0" lang="en-GB" sz="2000" spc="-1" strike="noStrike">
                <a:solidFill>
                  <a:srgbClr val="18497b"/>
                </a:solidFill>
                <a:latin typeface="Calibri"/>
              </a:rPr>
              <a:t>on: </a:t>
            </a:r>
            <a:r>
              <a:rPr b="1" lang="en-GB" sz="2000" spc="-1" strike="noStrike">
                <a:solidFill>
                  <a:srgbClr val="18497b"/>
                </a:solidFill>
                <a:latin typeface="Calibri"/>
              </a:rPr>
              <a:t>scope, structure, timing, outline and publication of review reports</a:t>
            </a:r>
            <a:r>
              <a:rPr b="0" lang="en-GB" sz="2000" spc="-1" strike="noStrike">
                <a:solidFill>
                  <a:srgbClr val="18497b"/>
                </a:solidFill>
                <a:latin typeface="Calibri"/>
              </a:rPr>
              <a:t>;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30000"/>
              </a:lnSpc>
              <a:buClr>
                <a:srgbClr val="18497b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8497b"/>
                </a:solidFill>
                <a:latin typeface="Calibri"/>
              </a:rPr>
              <a:t>Specific views on key elements and content, and proposed texts</a:t>
            </a:r>
            <a:r>
              <a:rPr b="0" lang="en-GB" sz="2000" spc="-1" strike="noStrike">
                <a:solidFill>
                  <a:srgbClr val="18497b"/>
                </a:solidFill>
                <a:latin typeface="Calibri"/>
              </a:rPr>
              <a:t>, of the review guidelines for NCs and BRs;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30000"/>
              </a:lnSpc>
              <a:buClr>
                <a:srgbClr val="000000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retariat to prepare a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ynthesis report and a draft of the review guideline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ased on Parties’ submissions, in which options proposed should be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raceable in a transparent manner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30000"/>
              </a:lnSpc>
              <a:buClr>
                <a:srgbClr val="000000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retariat to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begin the development of new training materials and procedures for review of NCs and B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which should cover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eporting requirements and procedures for general aspects of the review proces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49760" indent="-33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retariat to present developed  materials and procedures at SBSTA 3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9" name="Rectangle 2"/>
          <p:cNvGrpSpPr/>
          <p:nvPr/>
        </p:nvGrpSpPr>
        <p:grpSpPr>
          <a:xfrm>
            <a:off x="0" y="19080"/>
            <a:ext cx="8547120" cy="1395360"/>
            <a:chOff x="0" y="19080"/>
            <a:chExt cx="8547120" cy="1395360"/>
          </a:xfrm>
        </p:grpSpPr>
        <p:pic>
          <p:nvPicPr>
            <p:cNvPr id="400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19080"/>
              <a:ext cx="85471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663480" y="450720"/>
              <a:ext cx="7869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b93dc"/>
                  </a:solidFill>
                  <a:latin typeface="Calibri"/>
                </a:rPr>
                <a:t>Work programm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250920" y="1052640"/>
            <a:ext cx="864216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lnSpc>
                <a:spcPct val="130000"/>
              </a:lnSpc>
              <a:buClr>
                <a:srgbClr val="246eb9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6eb9"/>
                </a:solidFill>
                <a:latin typeface="Calibri"/>
              </a:rPr>
              <a:t>Agenda contains three main sessions:</a:t>
            </a:r>
            <a:endParaRPr b="0" i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re we are now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the future will look lik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s to be don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genda has be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epared under the guidance of the SBSTA Chai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agenda i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lexibl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hall meet the objectives of the workshop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ccommodate its timing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 cover all the main points under discussion, as well as to </a:t>
            </a:r>
            <a:r>
              <a:rPr b="1" lang="en-GB" sz="2000" spc="-1" strike="noStrike">
                <a:solidFill>
                  <a:srgbClr val="18497b"/>
                </a:solidFill>
                <a:latin typeface="Calibri"/>
              </a:rPr>
              <a:t>provide to SBSTA 39 with a draft review guidelines for its considera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3" name="Rectangle 2"/>
          <p:cNvGrpSpPr/>
          <p:nvPr/>
        </p:nvGrpSpPr>
        <p:grpSpPr>
          <a:xfrm>
            <a:off x="0" y="19080"/>
            <a:ext cx="8547120" cy="1395360"/>
            <a:chOff x="0" y="19080"/>
            <a:chExt cx="8547120" cy="1395360"/>
          </a:xfrm>
        </p:grpSpPr>
        <p:pic>
          <p:nvPicPr>
            <p:cNvPr id="404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19080"/>
              <a:ext cx="85471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663480" y="450720"/>
              <a:ext cx="7869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b93dc"/>
                  </a:solidFill>
                  <a:latin typeface="Calibri"/>
                </a:rPr>
                <a:t>Organization of the wor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50920" y="1052640"/>
            <a:ext cx="864216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343080" indent="-343080">
              <a:lnSpc>
                <a:spcPct val="130000"/>
              </a:lnSpc>
              <a:buClr>
                <a:srgbClr val="246eb9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6eb9"/>
                </a:solidFill>
                <a:latin typeface="Calibri"/>
              </a:rPr>
              <a:t>First session: Where we are n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tion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tailed recapitulation of the mandate and the advances in the work program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view of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ties’ view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verall structure and approach to the review guideline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 BRs, NCs and GHG inventori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verlapping and unique  information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reporting requirement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Views on general and specific key element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f the review guideli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82560" indent="-347760">
              <a:lnSpc>
                <a:spcPct val="130000"/>
              </a:lnSpc>
              <a:buClr>
                <a:srgbClr val="000000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Rectangle 2"/>
          <p:cNvGrpSpPr/>
          <p:nvPr/>
        </p:nvGrpSpPr>
        <p:grpSpPr>
          <a:xfrm>
            <a:off x="0" y="19080"/>
            <a:ext cx="8547120" cy="1395360"/>
            <a:chOff x="0" y="19080"/>
            <a:chExt cx="8547120" cy="1395360"/>
          </a:xfrm>
        </p:grpSpPr>
        <p:pic>
          <p:nvPicPr>
            <p:cNvPr id="408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19080"/>
              <a:ext cx="85471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63480" y="450720"/>
              <a:ext cx="7869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b93dc"/>
                  </a:solidFill>
                  <a:latin typeface="Calibri"/>
                </a:rPr>
                <a:t>Organization of the wor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Down Arrow 1"/>
          <p:cNvSpPr/>
          <p:nvPr/>
        </p:nvSpPr>
        <p:spPr>
          <a:xfrm>
            <a:off x="3589200" y="5445000"/>
            <a:ext cx="201636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b93d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68360" y="980640"/>
            <a:ext cx="842472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343080" indent="-343080">
              <a:lnSpc>
                <a:spcPct val="130000"/>
              </a:lnSpc>
              <a:buClr>
                <a:srgbClr val="246eb9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6eb9"/>
                </a:solidFill>
                <a:latin typeface="Calibri"/>
              </a:rPr>
              <a:t>Second session: What the future will look lik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dentification of overlapping and unique inform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BRs, NCs and GHG inventor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ete and detailed mapp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reporting require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nning for the International Assessment and Review Proces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im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for the technical reviews and multilateral assessment and needed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stitutional arrangement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82560" indent="-347760">
              <a:lnSpc>
                <a:spcPct val="130000"/>
              </a:lnSpc>
              <a:buClr>
                <a:srgbClr val="000000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2" name="Rectangle 2"/>
          <p:cNvGrpSpPr/>
          <p:nvPr/>
        </p:nvGrpSpPr>
        <p:grpSpPr>
          <a:xfrm>
            <a:off x="0" y="19080"/>
            <a:ext cx="8547120" cy="1395360"/>
            <a:chOff x="0" y="19080"/>
            <a:chExt cx="8547120" cy="1395360"/>
          </a:xfrm>
        </p:grpSpPr>
        <p:pic>
          <p:nvPicPr>
            <p:cNvPr id="413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19080"/>
              <a:ext cx="85471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663480" y="450720"/>
              <a:ext cx="7869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b93dc"/>
                  </a:solidFill>
                  <a:latin typeface="Calibri"/>
                </a:rPr>
                <a:t>Organization of the wor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Down Arrow 1"/>
          <p:cNvSpPr/>
          <p:nvPr/>
        </p:nvSpPr>
        <p:spPr>
          <a:xfrm>
            <a:off x="3586320" y="5516640"/>
            <a:ext cx="2016000" cy="433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b93d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Down Arrow 5"/>
          <p:cNvSpPr/>
          <p:nvPr/>
        </p:nvSpPr>
        <p:spPr>
          <a:xfrm>
            <a:off x="3530520" y="3141720"/>
            <a:ext cx="201636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b93d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250560" y="1198080"/>
            <a:ext cx="878508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1000"/>
          </a:bodyPr>
          <a:p>
            <a:pPr lvl="1" marL="312120" indent="-312120">
              <a:buClr>
                <a:srgbClr val="246eb9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6eb9"/>
                </a:solidFill>
                <a:latin typeface="Calibri"/>
              </a:rPr>
              <a:t>Third session: What is to be do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view of the draft review guidelin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91880" indent="-312120">
              <a:spcBef>
                <a:spcPts val="499"/>
              </a:spcBef>
              <a:buClr>
                <a:srgbClr val="000000"/>
              </a:buClr>
              <a:buSzPct val="15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ete text of the review guidelin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ased on the Parties’ views and experiences of the secretari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ree main session discuss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12120" indent="-31212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, approach and overall structure of the review guidelin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12120" indent="-31212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rmat, procedures and timing of the reviews =&gt; streamlining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12120" indent="-31212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issues: identification of problems, role of the LRs and the secretariat, training activities, outline of review report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12120" indent="-31212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12120" indent="-31212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21000" indent="-316440">
              <a:lnSpc>
                <a:spcPts val="29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ork on the tex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General approach, review of NCs and review of BRs.</a:t>
            </a:r>
            <a:endParaRPr b="0" i="1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21000" indent="-316440">
              <a:lnSpc>
                <a:spcPct val="100000"/>
              </a:lnSpc>
              <a:buClr>
                <a:srgbClr val="000000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Rectangle 2"/>
          <p:cNvGrpSpPr/>
          <p:nvPr/>
        </p:nvGrpSpPr>
        <p:grpSpPr>
          <a:xfrm>
            <a:off x="0" y="19080"/>
            <a:ext cx="8547120" cy="1395360"/>
            <a:chOff x="0" y="19080"/>
            <a:chExt cx="8547120" cy="1395360"/>
          </a:xfrm>
        </p:grpSpPr>
        <p:pic>
          <p:nvPicPr>
            <p:cNvPr id="419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19080"/>
              <a:ext cx="85471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663480" y="450720"/>
              <a:ext cx="7869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b93dc"/>
                  </a:solidFill>
                  <a:latin typeface="Calibri"/>
                </a:rPr>
                <a:t>Organization of the wor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Down Arrow 5"/>
          <p:cNvSpPr/>
          <p:nvPr/>
        </p:nvSpPr>
        <p:spPr>
          <a:xfrm>
            <a:off x="3786120" y="2565360"/>
            <a:ext cx="162252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b93d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Down Arrow 6"/>
          <p:cNvSpPr/>
          <p:nvPr/>
        </p:nvSpPr>
        <p:spPr>
          <a:xfrm>
            <a:off x="3753000" y="5013360"/>
            <a:ext cx="162216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b93d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0" y="1117080"/>
            <a:ext cx="84247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179280" indent="0" algn="ctr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 algn="ctr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 algn="ctr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b93dc"/>
                </a:solidFill>
                <a:latin typeface="Calibri"/>
                <a:ea typeface="ＭＳ Ｐゴシック"/>
              </a:rPr>
              <a:t>Thank you!!!</a:t>
            </a:r>
            <a:endParaRPr b="0" i="1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 algn="ctr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 algn="ctr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611280" y="1268280"/>
            <a:ext cx="78674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749"/>
              </a:spcBef>
              <a:buClr>
                <a:srgbClr val="246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246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rk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246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BSTA 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246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BSTA 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246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zation of th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246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ree sessions of the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Rectangle 2"/>
          <p:cNvGrpSpPr/>
          <p:nvPr/>
        </p:nvGrpSpPr>
        <p:grpSpPr>
          <a:xfrm>
            <a:off x="0" y="19080"/>
            <a:ext cx="8547120" cy="1395360"/>
            <a:chOff x="0" y="19080"/>
            <a:chExt cx="8547120" cy="1395360"/>
          </a:xfrm>
        </p:grpSpPr>
        <p:pic>
          <p:nvPicPr>
            <p:cNvPr id="355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19080"/>
              <a:ext cx="85471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663480" y="450720"/>
              <a:ext cx="7869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b93dc"/>
                  </a:solidFill>
                  <a:latin typeface="Calibri"/>
                </a:rPr>
                <a:t>Outlin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539640" y="105264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9000"/>
          </a:bodyPr>
          <a:p>
            <a:pPr marL="339480" indent="-339480">
              <a:lnSpc>
                <a:spcPts val="2699"/>
              </a:lnSpc>
              <a:buClr>
                <a:srgbClr val="246eb9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46eb9"/>
                </a:solidFill>
                <a:latin typeface="Calibri"/>
              </a:rPr>
              <a:t>1/CP.16 (2010)</a:t>
            </a:r>
            <a:r>
              <a:rPr b="1" lang="en-GB" sz="2200" spc="-1" strike="noStrike">
                <a:solidFill>
                  <a:srgbClr val="246eb9"/>
                </a:solidFill>
                <a:latin typeface="Calibri"/>
              </a:rPr>
              <a:t>:</a:t>
            </a:r>
            <a:endParaRPr b="0" i="1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veloped country Parties should enhance their reporting in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National Communication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and submit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Biennial Report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19880" indent="-5673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gres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made in achieving emission reduction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19880" indent="-5673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vis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of financial, technological and capacity-building support to developing country Pa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19880" indent="-567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uilding on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isting reporting and review guideline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processes and experiences, establishes a work programm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19880" indent="-5673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evision of guidelines for the review of national communications, including the biennial repor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annual greenhouse gas inventories and national inventory system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19880" indent="-5673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Modalities and procedures for international assessment and review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f emissions and removals related to quantified economy-wide emission reduction targe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Rectangle 2"/>
          <p:cNvGrpSpPr/>
          <p:nvPr/>
        </p:nvGrpSpPr>
        <p:grpSpPr>
          <a:xfrm>
            <a:off x="0" y="19080"/>
            <a:ext cx="8547120" cy="1395360"/>
            <a:chOff x="0" y="19080"/>
            <a:chExt cx="8547120" cy="1395360"/>
          </a:xfrm>
        </p:grpSpPr>
        <p:pic>
          <p:nvPicPr>
            <p:cNvPr id="359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19080"/>
              <a:ext cx="85471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663480" y="450720"/>
              <a:ext cx="7869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b93dc"/>
                  </a:solidFill>
                  <a:latin typeface="Calibri"/>
                </a:rPr>
                <a:t>Backgroun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95280" y="1052640"/>
            <a:ext cx="85694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2000"/>
          </a:bodyPr>
          <a:p>
            <a:pPr marL="315360" indent="-315360">
              <a:lnSpc>
                <a:spcPct val="150000"/>
              </a:lnSpc>
              <a:buClr>
                <a:srgbClr val="246eb9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46eb9"/>
                </a:solidFill>
                <a:latin typeface="Calibri"/>
              </a:rPr>
              <a:t>2/CP.17 (2011)</a:t>
            </a:r>
            <a:r>
              <a:rPr b="1" lang="en-GB" sz="2200" spc="-1" strike="noStrike">
                <a:solidFill>
                  <a:srgbClr val="246eb9"/>
                </a:solidFill>
                <a:latin typeface="Calibri"/>
              </a:rPr>
              <a:t>:</a:t>
            </a:r>
            <a:endParaRPr b="0" i="1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Recognize the need to have an </a:t>
            </a: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efficient, cost-effective and practical 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international assessment and review (</a:t>
            </a: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IAR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) process which </a:t>
            </a: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does not impose excessive burden on Parties and on the secretariat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IAR process 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will be conducted through a </a:t>
            </a: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technical review of information 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and a </a:t>
            </a: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multilateral assessment of the implementation 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of quantified economy-wide emission reduction targets;</a:t>
            </a:r>
            <a:endParaRPr b="0" i="1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work programme 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on the </a:t>
            </a: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revision of the review guidelines 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under the SBSTA, with a view to concluding them no later than COP 19;</a:t>
            </a:r>
            <a:endParaRPr b="0" i="1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Secretariat to enhance </a:t>
            </a: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coordination between different review processes 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in such a way as to </a:t>
            </a: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ensure effective and efficient processes and procedures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Rectangle 2"/>
          <p:cNvGrpSpPr/>
          <p:nvPr/>
        </p:nvGrpSpPr>
        <p:grpSpPr>
          <a:xfrm>
            <a:off x="0" y="19080"/>
            <a:ext cx="8547120" cy="1395360"/>
            <a:chOff x="0" y="19080"/>
            <a:chExt cx="8547120" cy="1395360"/>
          </a:xfrm>
        </p:grpSpPr>
        <p:pic>
          <p:nvPicPr>
            <p:cNvPr id="363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19080"/>
              <a:ext cx="85471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663480" y="450720"/>
              <a:ext cx="7869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b93dc"/>
                  </a:solidFill>
                  <a:latin typeface="Calibri"/>
                </a:rPr>
                <a:t>Backgroun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93200" y="1270080"/>
            <a:ext cx="8209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2000"/>
          </a:bodyPr>
          <a:p>
            <a:pPr marL="315360" indent="-315360">
              <a:lnSpc>
                <a:spcPts val="2699"/>
              </a:lnSpc>
              <a:buClr>
                <a:srgbClr val="246eb9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6eb9"/>
                </a:solidFill>
                <a:latin typeface="Calibri"/>
              </a:rPr>
              <a:t>SBSTA 36 (2012):</a:t>
            </a: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itiated consideration of the work programme:</a:t>
            </a:r>
            <a:endParaRPr b="0" i="1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 revising the review guidelines, Parties should take into account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perience in reporting and review of information under the Convention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nd the need to have a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ost-effective, efficient and practical review proces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hat does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not impose an excessive burden on Parties or the secretaria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i="1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ecretariat to prepare a technical paper on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urrent review processes under the Convention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perience in coordinating reviews of NCs and annual GHG inventorie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f Annex I Parties for SBSTA 37;</a:t>
            </a:r>
            <a:endParaRPr b="0" i="1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arties to submit views on the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lements of the work programme, timeline of activities, and key element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of the revision of the review guidelines.</a:t>
            </a:r>
            <a:endParaRPr b="0" i="1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6" name="Rectangle 2"/>
          <p:cNvGrpSpPr/>
          <p:nvPr/>
        </p:nvGrpSpPr>
        <p:grpSpPr>
          <a:xfrm>
            <a:off x="0" y="19080"/>
            <a:ext cx="8547120" cy="1395360"/>
            <a:chOff x="0" y="19080"/>
            <a:chExt cx="8547120" cy="1395360"/>
          </a:xfrm>
        </p:grpSpPr>
        <p:pic>
          <p:nvPicPr>
            <p:cNvPr id="367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19080"/>
              <a:ext cx="85471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663480" y="450720"/>
              <a:ext cx="7869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b93dc"/>
                  </a:solidFill>
                  <a:latin typeface="Calibri"/>
                </a:rPr>
                <a:t>Work programm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12480" y="105264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1000"/>
          </a:bodyPr>
          <a:p>
            <a:pPr marL="312120" indent="-312120">
              <a:lnSpc>
                <a:spcPct val="150000"/>
              </a:lnSpc>
              <a:buClr>
                <a:srgbClr val="246eb9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6eb9"/>
                </a:solidFill>
                <a:latin typeface="Calibri"/>
              </a:rPr>
              <a:t>SBSTA 37 (2012):</a:t>
            </a: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Agreed on the work programme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n revision of the review guidelines:</a:t>
            </a:r>
            <a:endParaRPr b="0" i="1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buClr>
                <a:srgbClr val="000000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Cs and BRs review guidelines  will be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mpleted by COP 19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buClr>
                <a:srgbClr val="000000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HG inventories review guidelin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an be completed by COP 20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ake into account the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perience with the review of information submitted by Annex I Parties under the Convention,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cluding submissions from Parties and the secretariat’s experience with coordinating reviews;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eed to have a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st-effective, efficient and practical review proces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at does not impose an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cessive burden on Parties, experts or the secretaria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ead reviewers to discuss in 2013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ptions to improve the cost-effectiveness, efficiency and practicality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of the review process as input for SBSTA 38;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Rectangle 2"/>
          <p:cNvGrpSpPr/>
          <p:nvPr/>
        </p:nvGrpSpPr>
        <p:grpSpPr>
          <a:xfrm>
            <a:off x="0" y="42840"/>
            <a:ext cx="8547120" cy="1395360"/>
            <a:chOff x="0" y="42840"/>
            <a:chExt cx="8547120" cy="1395360"/>
          </a:xfrm>
        </p:grpSpPr>
        <p:pic>
          <p:nvPicPr>
            <p:cNvPr id="371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42840"/>
              <a:ext cx="85471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663480" y="476280"/>
              <a:ext cx="7869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b93dc"/>
                  </a:solidFill>
                  <a:latin typeface="Calibri"/>
                </a:rPr>
                <a:t>Work programm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ounded Rectangle 1"/>
          <p:cNvSpPr/>
          <p:nvPr/>
        </p:nvSpPr>
        <p:spPr>
          <a:xfrm>
            <a:off x="250920" y="2781360"/>
            <a:ext cx="8497800" cy="1439640"/>
          </a:xfrm>
          <a:prstGeom prst="roundRect">
            <a:avLst>
              <a:gd name="adj" fmla="val 16667"/>
            </a:avLst>
          </a:prstGeom>
          <a:solidFill>
            <a:srgbClr val="dbe9f8"/>
          </a:solidFill>
          <a:ln w="12600">
            <a:solidFill>
              <a:srgbClr val="184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12480" y="1052640"/>
            <a:ext cx="82198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2000"/>
          </a:bodyPr>
          <a:p>
            <a:pPr marL="315360" indent="-315360">
              <a:lnSpc>
                <a:spcPct val="150000"/>
              </a:lnSpc>
              <a:buClr>
                <a:srgbClr val="246eb9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6eb9"/>
                </a:solidFill>
                <a:latin typeface="Calibri"/>
              </a:rPr>
              <a:t>SBSTA 37 (2012):</a:t>
            </a: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retariat to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rganize technical workshops in 2013 and 2014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s part of the work programme to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dvance the work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and to prepare workshop reports as inputs to discussions at SBSTA;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50000"/>
              </a:lnSpc>
              <a:buClr>
                <a:srgbClr val="1849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497b"/>
                </a:solidFill>
                <a:latin typeface="Calibri"/>
              </a:rPr>
              <a:t>First workshop will be held in the second half of 2013 to </a:t>
            </a:r>
            <a:r>
              <a:rPr b="1" lang="en-GB" sz="2000" spc="-1" strike="noStrike">
                <a:solidFill>
                  <a:srgbClr val="18497b"/>
                </a:solidFill>
                <a:latin typeface="Calibri"/>
              </a:rPr>
              <a:t>discuss the overall structure and approach to the review guidelines to BRs, NCs and GHG inventories</a:t>
            </a:r>
            <a:r>
              <a:rPr b="0" lang="en-GB" sz="2000" spc="-1" strike="noStrike">
                <a:solidFill>
                  <a:srgbClr val="18497b"/>
                </a:solidFill>
                <a:latin typeface="Calibri"/>
              </a:rPr>
              <a:t>, and the </a:t>
            </a:r>
            <a:r>
              <a:rPr b="1" lang="en-GB" sz="2000" spc="-1" strike="noStrike">
                <a:solidFill>
                  <a:srgbClr val="18497b"/>
                </a:solidFill>
                <a:latin typeface="Calibri"/>
              </a:rPr>
              <a:t>draft of the review guidelines for BRs and NCs</a:t>
            </a:r>
            <a:r>
              <a:rPr b="0" lang="en-GB" sz="2000" spc="-1" strike="noStrike">
                <a:solidFill>
                  <a:srgbClr val="18497b"/>
                </a:solidFill>
                <a:latin typeface="Calibri"/>
              </a:rPr>
              <a:t>;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ond workshop in the first half of 2014 to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ntinue discussions on the revised review guidelines for GHG inventorie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ork programme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uld be adjusted and could be additional workshop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efore COP 20.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5" name="Rectangle 2"/>
          <p:cNvGrpSpPr/>
          <p:nvPr/>
        </p:nvGrpSpPr>
        <p:grpSpPr>
          <a:xfrm>
            <a:off x="0" y="19080"/>
            <a:ext cx="8547120" cy="1395360"/>
            <a:chOff x="0" y="19080"/>
            <a:chExt cx="8547120" cy="1395360"/>
          </a:xfrm>
        </p:grpSpPr>
        <p:pic>
          <p:nvPicPr>
            <p:cNvPr id="376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19080"/>
              <a:ext cx="85471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663480" y="450720"/>
              <a:ext cx="7869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b93dc"/>
                  </a:solidFill>
                  <a:latin typeface="Calibri"/>
                </a:rPr>
                <a:t>Work programm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85920" y="1052640"/>
            <a:ext cx="8434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8000"/>
          </a:bodyPr>
          <a:p>
            <a:pPr marL="335880" indent="-335880">
              <a:lnSpc>
                <a:spcPct val="150000"/>
              </a:lnSpc>
              <a:buClr>
                <a:srgbClr val="246eb9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6eb9"/>
                </a:solidFill>
                <a:latin typeface="Calibri"/>
              </a:rPr>
              <a:t>SBSTA 37 (2012):</a:t>
            </a: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246eb9"/>
                </a:solidFill>
                <a:latin typeface="Calibri"/>
              </a:rPr>
              <a:t>Work programme activities: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arties to submit views on the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verall approach and structure, outline, key elements and content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f the review guidelines for NCs and BRs by 15 July 2013;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retariat to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epare a synthesis report and draft revised review guideline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r NCs and BRs,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based on Parties’ submission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y 15 September 2013;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1849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497b"/>
                </a:solidFill>
                <a:latin typeface="Calibri"/>
              </a:rPr>
              <a:t>Secretariat to prepare a </a:t>
            </a:r>
            <a:r>
              <a:rPr b="1" lang="en-GB" sz="2000" spc="-1" strike="noStrike">
                <a:solidFill>
                  <a:srgbClr val="18497b"/>
                </a:solidFill>
                <a:latin typeface="Calibri"/>
              </a:rPr>
              <a:t>report on the first workshop, containing the draft revised review guidelines for NCs and BRs</a:t>
            </a:r>
            <a:r>
              <a:rPr b="0" lang="en-GB" sz="2000" spc="-1" strike="noStrike">
                <a:solidFill>
                  <a:srgbClr val="18497b"/>
                </a:solidFill>
                <a:latin typeface="Calibri"/>
              </a:rPr>
              <a:t>, as input to SBSTA 39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1849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497b"/>
                </a:solidFill>
                <a:latin typeface="Calibri"/>
              </a:rPr>
              <a:t>First workshop discussions </a:t>
            </a:r>
            <a:r>
              <a:rPr b="1" lang="en-GB" sz="2000" spc="-1" strike="noStrike">
                <a:solidFill>
                  <a:srgbClr val="18497b"/>
                </a:solidFill>
                <a:latin typeface="Calibri"/>
              </a:rPr>
              <a:t>based on Parties’ submissions and outcome of lead reviewers’ meeting</a:t>
            </a:r>
            <a:r>
              <a:rPr b="0" lang="en-GB" sz="2000" spc="-1" strike="noStrike">
                <a:solidFill>
                  <a:srgbClr val="18497b"/>
                </a:solidFill>
                <a:latin typeface="Calibri"/>
              </a:rPr>
              <a:t> in 2013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9" name="Rectangle 2"/>
          <p:cNvGrpSpPr/>
          <p:nvPr/>
        </p:nvGrpSpPr>
        <p:grpSpPr>
          <a:xfrm>
            <a:off x="0" y="19080"/>
            <a:ext cx="8547120" cy="1395360"/>
            <a:chOff x="0" y="19080"/>
            <a:chExt cx="8547120" cy="1395360"/>
          </a:xfrm>
        </p:grpSpPr>
        <p:pic>
          <p:nvPicPr>
            <p:cNvPr id="380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19080"/>
              <a:ext cx="85471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663480" y="450720"/>
              <a:ext cx="7869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b93dc"/>
                  </a:solidFill>
                  <a:latin typeface="Calibri"/>
                </a:rPr>
                <a:t>Work programm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539280" y="1052640"/>
            <a:ext cx="7993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246eb9"/>
                </a:solidFill>
                <a:latin typeface="Calibri"/>
              </a:rPr>
              <a:t>Lead reviewers meeting (2013):</a:t>
            </a: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sideration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options to improve the cost-effectiveness, efficiency and practicalit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of the review process:</a:t>
            </a: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reamlining the review process through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mbining different types of review and modifying their format and frequenc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fessionalization of the review proces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nhance training activitie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rough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xpanding the curriculum to cover key elements of the review of NCs and BR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3" name="Rectangle 2"/>
          <p:cNvGrpSpPr/>
          <p:nvPr/>
        </p:nvGrpSpPr>
        <p:grpSpPr>
          <a:xfrm>
            <a:off x="0" y="19080"/>
            <a:ext cx="8547120" cy="1395360"/>
            <a:chOff x="0" y="19080"/>
            <a:chExt cx="8547120" cy="1395360"/>
          </a:xfrm>
        </p:grpSpPr>
        <p:pic>
          <p:nvPicPr>
            <p:cNvPr id="384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19080"/>
              <a:ext cx="85471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663480" y="450720"/>
              <a:ext cx="7869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b93dc"/>
                  </a:solidFill>
                  <a:latin typeface="Calibri"/>
                </a:rPr>
                <a:t>Work programm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8:01:42Z</dcterms:created>
  <dc:creator>Tinus Pulles</dc:creator>
  <dc:description/>
  <dc:language>en-US</dc:language>
  <cp:lastModifiedBy>Javier Hanna</cp:lastModifiedBy>
  <dcterms:modified xsi:type="dcterms:W3CDTF">2013-10-04T16:24:55Z</dcterms:modified>
  <cp:revision>259</cp:revision>
  <dc:subject/>
  <dc:title>Course on review of higher tiers non-LULUCF and LULUCF sectors</dc:title>
</cp:coreProperties>
</file>