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8720" y="742680"/>
            <a:ext cx="4956120" cy="37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476280" y="388800"/>
            <a:ext cx="5842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476280" y="9223200"/>
            <a:ext cx="5842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hdr"/>
          </p:nvPr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2" descr="unfccc_logos+text"/>
          <p:cNvPicPr/>
          <p:nvPr/>
        </p:nvPicPr>
        <p:blipFill>
          <a:blip r:embed="rId2"/>
          <a:stretch/>
        </p:blipFill>
        <p:spPr>
          <a:xfrm>
            <a:off x="476280" y="9333000"/>
            <a:ext cx="5840280" cy="57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1"/>
          <p:cNvSpPr/>
          <p:nvPr/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Header Placeholder 3"/>
          <p:cNvSpPr/>
          <p:nvPr/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Header Placeholder 3"/>
          <p:cNvSpPr/>
          <p:nvPr/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9892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10920" y="188640"/>
            <a:ext cx="7869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632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5040" y="359892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632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08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5512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504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08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5512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10920" y="188640"/>
            <a:ext cx="7869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632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35040" y="359892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632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08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5512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504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08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5512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10920" y="188640"/>
            <a:ext cx="7869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9892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10920" y="188640"/>
            <a:ext cx="7869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632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5040" y="359892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632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10920" y="188640"/>
            <a:ext cx="7869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9508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5512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3504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9508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5512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7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unfccc-letter-es-e-header"/>
          <p:cNvPicPr/>
          <p:nvPr/>
        </p:nvPicPr>
        <p:blipFill>
          <a:blip r:embed="rId2"/>
          <a:srcRect l="0" t="0" r="86370" b="44262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35712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0000" indent="-26964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0000" indent="-26820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38200" indent="-26676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38200" indent="-26676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38200" indent="-26676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31800" y="981000"/>
            <a:ext cx="7875720" cy="180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unfccc-letter-es-e-header"/>
          <p:cNvPicPr/>
          <p:nvPr/>
        </p:nvPicPr>
        <p:blipFill>
          <a:blip r:embed="rId2"/>
          <a:srcRect l="0" t="0" r="86370" b="44262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4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8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9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0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2" descr="unfccc-letter-es-e-header"/>
          <p:cNvPicPr/>
          <p:nvPr/>
        </p:nvPicPr>
        <p:blipFill>
          <a:blip r:embed="rId3"/>
          <a:srcRect l="0" t="0" r="86370" b="44262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CCC secretariat, MDA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Sergey KONONOV; Manager, Inventories and Data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unfccc-letter-es-e-header"/>
          <p:cNvPicPr/>
          <p:nvPr/>
        </p:nvPicPr>
        <p:blipFill>
          <a:blip r:embed="rId3"/>
          <a:srcRect l="0" t="0" r="86370" b="44262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35712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0000" indent="-26964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0000" indent="-26820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38200" indent="-26676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38200" indent="-26676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38200" indent="-26676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FCCC secretariat, MDA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ergey KONONOV; Manager, Inventories and Data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6"/>
          <p:cNvSpPr/>
          <p:nvPr/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FCCC secretariat, MDA progra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7"/>
          <p:cNvSpPr/>
          <p:nvPr/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Xuehong Wang, Programme Offi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280" y="907920"/>
            <a:ext cx="7882200" cy="29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n Overview of the Draft Review Guidelines</a:t>
            </a:r>
            <a:endParaRPr b="0" lang="en-US" sz="3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24960" y="4581360"/>
            <a:ext cx="788220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echnical workshop on the review guidelines of NC and B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7-9 October 2013, Bo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93dc"/>
                </a:solidFill>
                <a:latin typeface="Arial"/>
              </a:rPr>
              <a:t>Identification of problems</a:t>
            </a:r>
            <a:endParaRPr b="1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52" name="Content Placeholder 3" descr=""/>
          <p:cNvPicPr/>
          <p:nvPr/>
        </p:nvPicPr>
        <p:blipFill>
          <a:blip r:embed="rId1"/>
          <a:stretch/>
        </p:blipFill>
        <p:spPr>
          <a:xfrm>
            <a:off x="633240" y="1249200"/>
            <a:ext cx="787104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93dc"/>
                </a:solidFill>
                <a:latin typeface="Arial"/>
              </a:rPr>
              <a:t>Role of LRs and secretariat</a:t>
            </a:r>
            <a:endParaRPr b="1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54" name="Content Placeholder 3" descr=""/>
          <p:cNvPicPr/>
          <p:nvPr/>
        </p:nvPicPr>
        <p:blipFill>
          <a:blip r:embed="rId1"/>
          <a:stretch/>
        </p:blipFill>
        <p:spPr>
          <a:xfrm>
            <a:off x="633240" y="1262160"/>
            <a:ext cx="788220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93dc"/>
                </a:solidFill>
                <a:latin typeface="Arial"/>
              </a:rPr>
              <a:t>Training for BR and NC reviewers</a:t>
            </a:r>
            <a:endParaRPr b="1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56" name="Content Placeholder 3" descr=""/>
          <p:cNvPicPr/>
          <p:nvPr/>
        </p:nvPicPr>
        <p:blipFill>
          <a:blip r:embed="rId1"/>
          <a:stretch/>
        </p:blipFill>
        <p:spPr>
          <a:xfrm>
            <a:off x="633240" y="1262160"/>
            <a:ext cx="787104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93dc"/>
                </a:solidFill>
                <a:latin typeface="Arial"/>
              </a:rPr>
              <a:t>Outline of BR and NC review reports</a:t>
            </a:r>
            <a:endParaRPr b="1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58" name="Content Placeholder 3" descr=""/>
          <p:cNvPicPr/>
          <p:nvPr/>
        </p:nvPicPr>
        <p:blipFill>
          <a:blip r:embed="rId1"/>
          <a:stretch/>
        </p:blipFill>
        <p:spPr>
          <a:xfrm>
            <a:off x="633240" y="1249200"/>
            <a:ext cx="7871040" cy="4499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C:\Documents and Settings\Wang\Local Settings\Temporary Internet Files\Content.IE5\764ZDZ8D\MC900389266[1].wmf"/>
          <p:cNvPicPr/>
          <p:nvPr/>
        </p:nvPicPr>
        <p:blipFill>
          <a:blip r:embed="rId2"/>
          <a:stretch/>
        </p:blipFill>
        <p:spPr>
          <a:xfrm>
            <a:off x="7451640" y="2500200"/>
            <a:ext cx="895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93dc"/>
                </a:solidFill>
                <a:latin typeface="Arial"/>
              </a:rPr>
              <a:t>Annual report to SBSTA</a:t>
            </a:r>
            <a:endParaRPr b="1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61" name="Content Placeholder 3" descr=""/>
          <p:cNvPicPr/>
          <p:nvPr/>
        </p:nvPicPr>
        <p:blipFill>
          <a:blip r:embed="rId1"/>
          <a:stretch/>
        </p:blipFill>
        <p:spPr>
          <a:xfrm>
            <a:off x="633240" y="1262160"/>
            <a:ext cx="787104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93dc"/>
                </a:solidFill>
                <a:latin typeface="Arial"/>
              </a:rPr>
              <a:t>Approach of work</a:t>
            </a: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7867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Diagram 1" descr=""/>
          <p:cNvPicPr/>
          <p:nvPr/>
        </p:nvPicPr>
        <p:blipFill>
          <a:blip r:embed="rId1"/>
          <a:stretch/>
        </p:blipFill>
        <p:spPr>
          <a:xfrm>
            <a:off x="530280" y="1395360"/>
            <a:ext cx="7827840" cy="40672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684360" y="5013360"/>
            <a:ext cx="48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i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more clarity, continuity and consistency with the approaches and languages used in the existing guidelines, in order to facilitate discu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93dc"/>
                </a:solidFill>
                <a:latin typeface="Arial"/>
              </a:rPr>
              <a:t>Approach of work (cont.)</a:t>
            </a: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35" name="Content Placeholder 3" descr=""/>
          <p:cNvPicPr/>
          <p:nvPr/>
        </p:nvPicPr>
        <p:blipFill>
          <a:blip r:embed="rId1"/>
          <a:stretch/>
        </p:blipFill>
        <p:spPr>
          <a:xfrm>
            <a:off x="622440" y="1255680"/>
            <a:ext cx="7893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93dc"/>
                </a:solidFill>
                <a:latin typeface="Arial"/>
              </a:rPr>
              <a:t>Structure of review guidelines</a:t>
            </a:r>
            <a:endParaRPr b="1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37" name="Content Placeholder 2" descr=""/>
          <p:cNvPicPr/>
          <p:nvPr/>
        </p:nvPicPr>
        <p:blipFill>
          <a:blip r:embed="rId1"/>
          <a:stretch/>
        </p:blipFill>
        <p:spPr>
          <a:xfrm>
            <a:off x="628560" y="1262160"/>
            <a:ext cx="788220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6360" y="404640"/>
            <a:ext cx="81360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93dc"/>
                </a:solidFill>
                <a:latin typeface="Arial"/>
              </a:rPr>
              <a:t>Outline for </a:t>
            </a:r>
            <a:r>
              <a:rPr b="1" lang="en-US" sz="2800" spc="-1" strike="noStrike">
                <a:solidFill>
                  <a:srgbClr val="b62306"/>
                </a:solidFill>
                <a:latin typeface="Arial"/>
              </a:rPr>
              <a:t>one single set of guidelines</a:t>
            </a:r>
            <a:endParaRPr b="1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39" name="Content Placeholder 3" descr=""/>
          <p:cNvPicPr/>
          <p:nvPr/>
        </p:nvPicPr>
        <p:blipFill>
          <a:blip r:embed="rId1"/>
          <a:stretch/>
        </p:blipFill>
        <p:spPr>
          <a:xfrm>
            <a:off x="609480" y="1500120"/>
            <a:ext cx="7912080" cy="44672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"/>
          <p:cNvSpPr/>
          <p:nvPr/>
        </p:nvSpPr>
        <p:spPr>
          <a:xfrm>
            <a:off x="971640" y="112536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t I: Overarching section – general aspects of re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93dc"/>
                </a:solidFill>
                <a:latin typeface="Arial"/>
              </a:rPr>
              <a:t>Outline for</a:t>
            </a:r>
            <a:r>
              <a:rPr b="1" lang="en-US" sz="2800" spc="-1" strike="noStrike">
                <a:solidFill>
                  <a:srgbClr val="b62306"/>
                </a:solidFill>
                <a:latin typeface="Arial"/>
              </a:rPr>
              <a:t> one single set of guidelines</a:t>
            </a:r>
            <a:endParaRPr b="1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42" name="Content Placeholder 3" descr=""/>
          <p:cNvPicPr/>
          <p:nvPr/>
        </p:nvPicPr>
        <p:blipFill>
          <a:blip r:embed="rId1"/>
          <a:stretch/>
        </p:blipFill>
        <p:spPr>
          <a:xfrm>
            <a:off x="609480" y="1627200"/>
            <a:ext cx="7869240" cy="44751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755640" y="1268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t IV: Review guidelines for N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93dc"/>
                </a:solidFill>
                <a:latin typeface="Arial"/>
              </a:rPr>
              <a:t>Outline for</a:t>
            </a:r>
            <a:r>
              <a:rPr b="1" lang="en-US" sz="2800" spc="-1" strike="noStrike">
                <a:solidFill>
                  <a:srgbClr val="b62306"/>
                </a:solidFill>
                <a:latin typeface="Arial"/>
              </a:rPr>
              <a:t> one single set of guidelines</a:t>
            </a:r>
            <a:endParaRPr b="1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45" name="Content Placeholder 3" descr=""/>
          <p:cNvPicPr/>
          <p:nvPr/>
        </p:nvPicPr>
        <p:blipFill>
          <a:blip r:embed="rId1"/>
          <a:stretch/>
        </p:blipFill>
        <p:spPr>
          <a:xfrm>
            <a:off x="609480" y="1554120"/>
            <a:ext cx="7869240" cy="44751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4"/>
          <p:cNvSpPr/>
          <p:nvPr/>
        </p:nvSpPr>
        <p:spPr>
          <a:xfrm>
            <a:off x="826920" y="11970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t III: Review guidelines for 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907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93dc"/>
                </a:solidFill>
                <a:latin typeface="Arial"/>
              </a:rPr>
              <a:t>Outline of </a:t>
            </a:r>
            <a:r>
              <a:rPr b="1" lang="en-US" sz="2800" spc="-1" strike="noStrike">
                <a:solidFill>
                  <a:srgbClr val="b62306"/>
                </a:solidFill>
                <a:latin typeface="Arial"/>
              </a:rPr>
              <a:t>three sets of individual review guidelines</a:t>
            </a:r>
            <a:endParaRPr b="1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48" name="Content Placeholder 3" descr=""/>
          <p:cNvPicPr/>
          <p:nvPr/>
        </p:nvPicPr>
        <p:blipFill>
          <a:blip r:embed="rId1"/>
          <a:stretch/>
        </p:blipFill>
        <p:spPr>
          <a:xfrm>
            <a:off x="633240" y="1262160"/>
            <a:ext cx="795672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93dc"/>
                </a:solidFill>
                <a:latin typeface="Arial"/>
              </a:rPr>
              <a:t>Specific matters on the guidelines</a:t>
            </a:r>
            <a:endParaRPr b="1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50" name="Content Placeholder 1" descr=""/>
          <p:cNvPicPr/>
          <p:nvPr/>
        </p:nvPicPr>
        <p:blipFill>
          <a:blip r:embed="rId1"/>
          <a:stretch/>
        </p:blipFill>
        <p:spPr>
          <a:xfrm>
            <a:off x="622440" y="1262160"/>
            <a:ext cx="789300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0:31:06Z</dcterms:created>
  <dc:creator>kononov</dc:creator>
  <dc:description/>
  <dc:language>en-US</dc:language>
  <cp:lastModifiedBy>Xuehong WANG</cp:lastModifiedBy>
  <cp:lastPrinted>2004-03-02T21:24:15Z</cp:lastPrinted>
  <dcterms:modified xsi:type="dcterms:W3CDTF">2013-10-04T12:26:31Z</dcterms:modified>
  <cp:revision>121</cp:revision>
  <dc:subject/>
  <dc:title>TITLE HEADER</dc:title>
</cp:coreProperties>
</file>