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5ECF32-51EE-4845-B8D3-2D08D36370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E814F-0B70-4093-9B9B-B95F4A5B52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76400" y="86508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7920" y="4722840"/>
            <a:ext cx="498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64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3880" y="157176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30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64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3880" y="4146840"/>
            <a:ext cx="230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3040" y="142920"/>
            <a:ext cx="7143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3520" y="414684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3520" y="1571760"/>
            <a:ext cx="34858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3040" y="4146840"/>
            <a:ext cx="71438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612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2336760" y="0"/>
            <a:ext cx="680724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3040" y="142920"/>
            <a:ext cx="71438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43040" y="1571760"/>
            <a:ext cx="714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547640" y="1052640"/>
            <a:ext cx="7345440" cy="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69228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00200" y="4495680"/>
            <a:ext cx="71629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Newton Pacio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3000" y="1803240"/>
            <a:ext cx="77788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etrics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62720" y="3505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1547640" y="4495680"/>
            <a:ext cx="7596360" cy="12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85960" y="378936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onn, 04 April 201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1692360" y="189000"/>
            <a:ext cx="6500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common metrics to calculate th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ivalence of  anthropogenic greenhouse gas emissions by sources and removals by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s it time to revisit the basket approach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Verdana"/>
              </a:rPr>
              <a:t>Keep one overall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Multiple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roposal for dealing with F-gases in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Papers questioning the basket approach and pointing for the Montreal Protocol lessons  (e.g. Daniel et al.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visiting the Baske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ngle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rom temperature to concentration to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How to compare traject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iscounting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How to assess the cost before sharing the bu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Different countries differ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Market mechanisms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2 equivalent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Translating Goals into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ptions to share th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Pledges (bottom-up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op-dow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vidual partie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cond commitment period of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ottom-Up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Durba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Open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urden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2160" y="5950080"/>
            <a:ext cx="766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722160" y="569880"/>
            <a:ext cx="7378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razil and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2"/>
          <p:cNvSpPr/>
          <p:nvPr/>
        </p:nvSpPr>
        <p:spPr>
          <a:xfrm flipV="1" rot="10800000">
            <a:off x="1785600" y="5659200"/>
            <a:ext cx="67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ta: Oak Ridge National Laboratory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2, Energy and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"/>
          <p:cNvSpPr/>
          <p:nvPr/>
        </p:nvSpPr>
        <p:spPr>
          <a:xfrm>
            <a:off x="755640" y="630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Brazilian Emissions in 2005 &lt; UK emissions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rrent annu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istorical respons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ibution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tribution to global average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on of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GDP per ca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Human Develop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gh correlation with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ngerous anthropogenic interference with the climate system should be prevented on the basi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sket of gases and basket of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from a gas have the same influence from the atmosphere point of view regardless of the anthropogenic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From the equity point of view, anthropogenic sources may have different evaluation, 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emissions from food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om the policy side, there are still many option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specific metric not necessary will be appropriate to all situations were a basket of gases i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election of 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valuatio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Burde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storical responsibility to climate change is key  in establishing budgets when sharing the burden and a common metric has to ref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Final Re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y we need a common 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ultiple greenhous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eed to provide an information about a non-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ghg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yp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influence -&gt; contribution to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cenarios an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 of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Responsibili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 (cost/benefi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hoice of gases to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e metric fits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s it possible? Is it desi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Common Metrics and Polic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thropogenic emissions and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Greenhouse gases not controlled by the Montre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influence of other GHG and non-anthropogenic sources and s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NFCCC objective and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stabilization of greenhouse ga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entrations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t a level that would prevent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ngerous anthropogenic interference with the climate syste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basis of equity and in accordance with their common but differentiated responsibilities and respective capabilit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olicy Issues and Policy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aluating the dangerous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missions -&gt; Concentrations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imate Change (global) -&gt; Damage (regional o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climate change (measure of interference)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emperature increase (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rate of temperatur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sea level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Basket of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measures (proxy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cumulative radiative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ing global average temperature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ost recent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urban Platform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: “holding the increase in global average temperature below </a:t>
            </a: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2 °C or 1.5 °C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above pre-industrial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orever below 2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Overshooting allo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termediary goals (checkpoints) – trajectory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ary scenario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Emissions and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Verdana"/>
              </a:rPr>
              <a:t>Individual gases o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Dangerous anthropogenic interference</a:t>
            </a:r>
            <a:br>
              <a:rPr sz="2200"/>
            </a:b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 with the clim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722160" y="569880"/>
            <a:ext cx="513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33440" y="1820880"/>
            <a:ext cx="485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iginal s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Kyoto Protocol baske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lexibility of mitigation options to Annex I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ption: Brazilia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Burden sharing among Annex I Parties based on contribution to climate change (top-down appro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Average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300"/>
              </a:spcBef>
              <a:buClr>
                <a:srgbClr val="008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Verdana"/>
              </a:rPr>
              <a:t>Sea level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oo innovative at that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doption of a bottom-u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On the shelf option: GWP (not developed with a policy objective in m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pag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ventories: total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options: policie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itigation analysis: cost/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Basket of Gas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ation of annual anthropogenic emissions and removals of individual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issions in 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ice, easy and understandable (?)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, mandatory (GWP 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Non Annex I, (GWP SAR if re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Annex I from 2015 submission on (GWP from AR4) (most recent scienc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Time-series from 1990 on re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GWP from AR5 will be available at this point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Fixed GWP along the time-series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Keep the individual gases estimates in metric units archived. It is the basic and useful  information (policies can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GHG Inventorie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26920" y="134100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nex I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Quantified Emission Limitation and Reductions in CO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eq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Flexibility of different gas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Market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different contributions to combat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n-Annex I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Clean Development Mechanism (CDM) 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Inappropriate metric can lead to incorrect evaluation of the projec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ítulo 1"/>
          <p:cNvSpPr/>
          <p:nvPr/>
        </p:nvSpPr>
        <p:spPr>
          <a:xfrm>
            <a:off x="222120" y="203040"/>
            <a:ext cx="8569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Mitigation Options and GW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9:35:34Z</dcterms:created>
  <dc:creator>Rede do MCT - RCT</dc:creator>
  <dc:description/>
  <dc:language>en-US</dc:language>
  <cp:lastModifiedBy>Newton</cp:lastModifiedBy>
  <dcterms:modified xsi:type="dcterms:W3CDTF">2012-04-02T06:33:46Z</dcterms:modified>
  <cp:revision>625</cp:revision>
  <dc:subject/>
  <dc:title>Slide sem título</dc:title>
</cp:coreProperties>
</file>