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43196B-70A0-4F98-A497-3E85B27E29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EFDE79-5212-447C-8D52-EDD86B942A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76400" y="86508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7920" y="4722840"/>
            <a:ext cx="4989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3040" y="414684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352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864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388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304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864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388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3040" y="142920"/>
            <a:ext cx="7143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352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9036000" y="0"/>
            <a:ext cx="108000" cy="6121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2336760" y="0"/>
            <a:ext cx="6807240" cy="1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547640" y="1052640"/>
            <a:ext cx="7345440" cy="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3520" y="69228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00200" y="4495680"/>
            <a:ext cx="71629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Newton Pacior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3000" y="1803240"/>
            <a:ext cx="777888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Goa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etrics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562720" y="35053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1547640" y="4495680"/>
            <a:ext cx="7596360" cy="12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85960" y="3789360"/>
            <a:ext cx="70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Bonn, 04 April 201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9"/>
          <p:cNvSpPr/>
          <p:nvPr/>
        </p:nvSpPr>
        <p:spPr>
          <a:xfrm>
            <a:off x="1692360" y="189000"/>
            <a:ext cx="6500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 on common metrics to calculate th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quivalence of  anthropogenic greenhouse gas emissions by sources and removals by s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s it time to revisit the basket approach o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Verdana"/>
              </a:rPr>
              <a:t>Keep one overall bas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Multiple bas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Proposal for dealing with F-gases in the Montre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Papers questioning the basket approach and pointing for the Montreal Protocol lessons  (e.g. Daniel et al.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Revisiting the Basket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ingle 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rom temperature to concentration to emis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How to compare trajecto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Discounting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n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n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Verdana"/>
              </a:rPr>
              <a:t>How to assess the cost before sharing the burd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Different countries differen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Market mechanisms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sket of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2 equivalent traj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 traj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Translating Goals into Budg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ptions to share the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Pledges (bottom-up appro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op-dow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Respon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dividual partie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econd commitment period of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Bottom-Up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Durban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pen 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urden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22160" y="5950080"/>
            <a:ext cx="7666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ata: Oak Ridge National Laboratory</a:t>
            </a: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2, Energy and 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722160" y="569880"/>
            <a:ext cx="73789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razil and U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ângulo 2"/>
          <p:cNvSpPr/>
          <p:nvPr/>
        </p:nvSpPr>
        <p:spPr>
          <a:xfrm flipV="1" rot="10800000">
            <a:off x="1785600" y="5659200"/>
            <a:ext cx="67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ta: Oak Ridge National Laboratory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2, Energy and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3"/>
          <p:cNvSpPr/>
          <p:nvPr/>
        </p:nvSpPr>
        <p:spPr>
          <a:xfrm>
            <a:off x="755640" y="6308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"/>
              </a:rPr>
              <a:t>Brazilian Emissions in 2005 &lt; UK emissions in 1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8762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on of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rrent annual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per ca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Historical responsi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ibution to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mulative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ntribution to global average temperatur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Respo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on of Cap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GDP per ca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Human Developmen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igh correlation with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angerous anthropogenic interference with the climate system should be prevented on the basi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sket of gases and basket of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from a gas have the same influence from the atmosphere point of view regardless of the anthropogenic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From the equity point of view, anthropogenic sources may have different evaluation, e.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missions from fossil fuel combu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missions from food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Equ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rom the policy side, there are still many options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e specific metric not necessary will be appropriate to all situations were a basket of gases i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cenarios and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election of 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valuation of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Burden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istorical responsibility to climate change is key  in establishing budgets when sharing the burden and a common metric has to reflec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Final Rema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hy we need a common metr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ultiple greenhous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eed to provide an information about a non-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ghg in 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ype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imate change influence -&gt; contribution to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cenarios and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ventories of emissions and 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Responsibility to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Go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 (cost/benefit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hoice of gases to cons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e metric fits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s it possible? Is it desir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Common Metrics and Policy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NFCCC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thropogenic emissions and 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Greenhouse gases not controlled by the Montre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ssue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: influence of other GHG and non-anthropogenic sources and si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NFCCC objective and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tabilization of greenhouse gas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centrations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at a level that would prevent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angerous anthropogenic interference with the climate system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n the basis of equity and in accordance with their common but differentiated responsibilities and respective capabiliti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Policy Issues and Policy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ng the dangerous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missions -&gt; Concentrations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imate Change (global) -&gt; Damage (regional or 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ing climate change (measure of interference)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emperature increase (ave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rate of temperatur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sea level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Basket of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ary measures (proxy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mulative radiative fo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Dangerous anthropogenic interference</a:t>
            </a:r>
            <a:br>
              <a:rPr sz="2200"/>
            </a:b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 with the clim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ing global average temperature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ost recent policy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urban Platform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: “holding the increase in global average temperature below </a:t>
            </a: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2 °C or 1.5 °C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above pre-industrial leve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orever below 2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vershooting allow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termediary goals (checkpoints) – trajectory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ary scenarios and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and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 or 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Dangerous anthropogenic interference</a:t>
            </a:r>
            <a:br>
              <a:rPr sz="2200"/>
            </a:b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 with the clim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722160" y="569880"/>
            <a:ext cx="513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233440" y="1820880"/>
            <a:ext cx="48596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riginal s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Kyoto Protocol basket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Flexibility of mitigation options to Annex I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ption: Brazilian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Burden sharing among Annex I Parties based on contribution to climate change (top-down approa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300"/>
              </a:spcBef>
              <a:buClr>
                <a:srgbClr val="008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Verdana"/>
              </a:rPr>
              <a:t>Average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300"/>
              </a:spcBef>
              <a:buClr>
                <a:srgbClr val="008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Verdana"/>
              </a:rPr>
              <a:t>Sea level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Too innovative at that point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doption of a bottom-up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n the shelf option: GWP (not developed with a policy objective in m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pagatio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ventories: total GHG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: policies an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analysis: cost/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asket of Gase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imation of annual anthropogenic emissions and removals of individual Greenhous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issions in C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ice, easy and understandable (?)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nex I , mandatory (GWP 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on Annex I, (GWP SAR if repor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nex I from 2015 submission on (GWP from AR4) (most recent scienc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Time-series from 1990 on recalc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GWP from AR5 will be available at this point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Fixed GWP along the time-series make sen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Keep the individual gases estimates in metric units archived. It is the basic and useful  information (policies can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GHG Inventorie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nnex I Pa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Quantified Emission Limitation and Reductions in 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q under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lexibility of different gas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arket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appropriate metric can lead different contributions to combat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n-Annex I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ean Development Mechanism (CDM) under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appropriate metric can lead to incorrect evaluation of the project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Mitigation Option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9:35:34Z</dcterms:created>
  <dc:creator>Rede do MCT - RCT</dc:creator>
  <dc:description/>
  <dc:language>en-US</dc:language>
  <cp:lastModifiedBy>Newton</cp:lastModifiedBy>
  <dcterms:modified xsi:type="dcterms:W3CDTF">2012-04-02T06:33:46Z</dcterms:modified>
  <cp:revision>625</cp:revision>
  <dc:subject/>
  <dc:title>Slide sem título</dc:title>
</cp:coreProperties>
</file>