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1BF2-5880-4211-970B-6DC25BC68C7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ＭＩＲＯＣ－ＥＳＭへの入力データ（Ｒ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実験結果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1DF3-35ED-4807-8C34-E51A98933AC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シナリオ別の温暖化のパターン．シナリオ間でパターンはそれほど違わず，全体の平均が違う感じ．我々のモデルは，北極海におけるアイスアルベドフィードバックがちょっと強く，２０４０年までには夏の海氷がなくなってしま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C339-FE84-47F2-9BDD-91B22D12FF0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おけるＣＣＲをとってみた．シナリオ依存性が若干あることが分かる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CO2 GHG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効果による温暖化分を取り除いて補正をかけても同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A766-D7CC-408D-94FD-40B7AF16A2A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もうひとつ，ＣＣＲのシナリオ依存性をもたらす要因としては，海洋の熱吸収が考えられる．すなわち，「遅い」シナリオほど定常に近い状態を保ちながら時間変化していくので，大気から海洋への熱フラックスは小さくなる．すると，単位排出量当たりの温暖化は大きくなる理屈．単一シナリオのなかでは，海洋への熱フラックスが昇温に比例することを利用して，この効果に関する補正をかけることにす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F65-FE9F-4D2D-8B6A-6683A3BFBFF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我々のモデルでは，ＣＣＲには若干のモデル依存性があった．それは海洋熱吸収によるものであり，海洋熱吸収の大きな「速い」シナリオほど見かけのＣＣＲが小さくな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9236-1866-48AA-BF4B-5FF47FC8542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気中の人為起源炭素量と昇温の関係をとってみると，海洋熱吸収の効果を除いても値が収束せず，メトリックスとしては累積排出量の方が優れていることが分か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62C4-F0FB-436F-8DA0-5F5697B00A2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が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寄せ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，安定化に向けての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限界について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の図，上から２本目と３本目の線はＧＷＰで見れば同じだが，安定化レベルは全然違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安定化に向けては，ＧＴＰの方が良い指標だが，五十歩百歩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9C60-43ED-400B-9185-3A0835D7C59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提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短寿命成分に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長寿命成分（Ｃ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など）には 累積炭素排出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060D-21DE-4B93-A2C9-0A874ABE266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来は，ＣＯ２「濃度」がメトリック（基準）になっていた．この表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 WG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報告書からとったものだが，一番左の欄にはＣＯ２濃度が来ており，その濃度を達成するための排出削減目安などが記されてい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66BC-CA6A-41A4-9DAA-780A555E0E5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濃度メトリックに基づいて作った排出パスがこれ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，濃度メトリックは「それに基づいて，社会経済学者がシナリオを開発しようとするとき，炭素循環についての知識が要求される」という欠点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B1D-65FC-4FE3-86D1-81E496B6FE9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 (2009)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，累積排出量と気温上昇の間に，よい線形の関係があること，その傾きはモデルにより異なる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 deg.C/TtC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範囲にあることを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5C8-F628-4297-BC34-8B565D35DA6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前図の傾き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 Carbon Respons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呼び，炭素循環－気候結合モデルのよいメトリックになるとした．「普通の」気候モデルにおける気候感度にあた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A51-CD80-479F-A59C-921D9A5C06E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ＣＣＲがシナリオに依らないことを例証した（ＣＯ２濃度がよい指標と言えないことも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CA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示して指摘）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検討されたのは数例の理想的なシナリオにすぎず，また簡略モデルによる実験であるので，ＲＣＰのようなある程度現実的なシナリオの下でのＧＣＭによる実験結果を見ることには大きな意味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alized model simulations of the CC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Simulation with a 1% per year atmospheric CO 2 increase for 70 years, showing temperature change per unit atmospheric carbon increase (DT/DC A : thin red line, right axis), airborne fraction of cumulative carbon emissions (DC A /E T : thin blue line, left axis) and CCR (thick red line, right axis). In this simulation, cumulative airborne fraction decreased with time owing to a delayed carbon cycle response to a rapid prescribed rate of atmospheric CO 2 increase. This is consistent with saturating carbon sinks at higher atmospheric CO 2 , which leads to an increased airborne fraction of annual emissions with increasing atmospheric CO 2 . b, Simulations with an instantaneous doubling (solid lines) and quadrupling (dashed lines) of atmospheric CO 2 for 1,000 years (colours as in a). In all cases, the cumulative airborne fraction decreased with time, whereas the temperature change per unit atmospheric carbon increased with time; consequently, the CCR (defined as the product of these two quantities) remained constant i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7C7D-6E71-45A7-BCAE-A1AA80D0840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9D0-6372-478B-84B5-CF007FA9F3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Team MIROC (UT, JAMSTEC, NIES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地球システムモデル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MIROC-ES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ＣＭＩＰ５実験に基づいて，累積炭素排出量と昇温の関係を解析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植生モデルは動的植生モデル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256-42CA-44B7-AA49-B9A0C393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FBE-3E7D-4435-A409-18FC8C4A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100-297F-41FD-A886-431238D6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E47-1D61-4236-BFFD-F1412F43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981D-44E0-48DF-8DE3-328D0A52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EF5E-AABB-43B4-9B63-1CC5B49A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ED9-AE14-4A46-A181-C1978C98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71E3-DAB5-4152-8D36-8BF6FCC0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E598-5BD5-45B6-A957-1408CDBA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8753-A4E2-4FFE-9C8A-7EA99BD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700-A701-40B2-9DFE-E82F4FC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C27-DD08-4E31-81F1-B02504A7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2C51-157D-485D-97FA-C4B1BFA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0C1-3B00-4370-A142-6BCF5B3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65D-2ABC-458A-995E-75787FE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AE7E-FCF0-4CAE-9012-D286DE5F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0755-41FA-4510-82C3-1DC0964B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E5E3-1489-4222-BB6F-39997863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505D-AD3D-402C-B8F6-BB2B3FB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D814-6038-4257-A9D1-2ED2F04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3C3E-AF18-4307-893B-40CE68CC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1500-328C-4C9F-BA59-D4E362C7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445-5866-47D0-A9B9-EA0AD87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5CD6-DF3F-466C-9A8A-B83BF835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E359-2E41-4975-813B-1E027D5D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781F-63B5-4410-AFB2-616A62B8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6D05-5B29-41AF-90BE-6D8EABB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3392-ACCB-4FFD-B408-58E99CA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6EB5-B404-448C-8E22-D877725C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B5CC-501C-4323-A26B-77F208BD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7588-B2E0-4A6F-8CC0-9D5B95D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F89FB-F2B3-426B-B1C8-81AB29A9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A7C5-D5B8-4D04-BE7F-90CF163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666-F58D-425D-AB48-62E47E6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0C72-D788-4060-9F5E-1143B2C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19EF-7391-4848-946D-15F64C3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03E5-6C4A-44BE-80AA-22EEB75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D36F-46AA-4B7C-8666-64B6907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C098-A8EB-4B86-B4C7-D8D28FE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7624-4791-4BB8-A07E-86351281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4A25-EFFB-4B7C-AAA9-60E4E67B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5199-1A61-4FC4-AC78-F1647395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4D08-82C1-4D36-AC38-BF444C8B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E4D00-9661-44DD-BD41-8C73B6FB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BB2-01EA-452E-BED9-CEF56475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6D34C-A316-4FD9-961E-75BCE3E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967A-C7BA-489A-B726-3BB2B29A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1236C-5134-4B81-BE49-46E40F9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68B0-D134-41DC-9D19-67C45F34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0B12-CBB5-4B2E-9ED1-CAB58E6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A6564-079B-4CED-96E8-CC4BB560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8DDB-54E3-4C10-9960-E1466BC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6CA4-33CD-4CE4-AACE-A000D021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1F3F-4EFC-4013-A588-0352D9D9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C6B1-9246-4236-AC02-11E228D8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AFB-1D5C-4396-BE2A-C0AAC609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79E1-87E9-4187-A5CA-2F8724B2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9382-20CF-4296-95D3-573F9FE4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64BC4-A6BC-4708-8356-27B586D1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4CA8-5967-4AF4-A310-735783F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DB4C-B713-4D18-8882-C85B3BB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1FFBF-DF2A-46BD-9924-47B386E1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6756-DC3E-4F9A-9E9B-CFB122A1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F3B7-6D4C-4484-8F5E-F8EF95B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E5FA-CE0D-4020-8A4E-861F99F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0014-A738-448D-B50C-4D89CA40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E92-8734-449B-BABA-BF0581C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F8B5-A688-4CD8-A81C-2DCA549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C6BEE-2D27-483E-99CE-53CD09C6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6F6D-CC4B-41D4-9309-1A4C29DC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F23E6-F226-4F7D-B088-6CFF8D6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3D500-BA07-4859-873E-0AC0589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41791-E8E3-4B3F-8BD0-50433707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F505D-EA32-43BA-B672-A51ECAAA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322EF-6CDB-4D17-BB51-05631861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E0B27-CF7B-4184-A9B3-E5E1B225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ABFC-C27E-4664-9AB6-DBD0326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F70-E40E-4CA6-B9ED-FA8D152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78114-3F90-4949-9FC4-5DCAB4D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D79E-2515-471C-A4B9-CC47A3E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D0535-2D8E-4D4E-A77E-3028405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92ED-128D-41A4-A62F-7651DB36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FADD3-8774-4982-85A3-510A4203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CEF-5152-4FF7-96A9-1B2F2BB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DA80-5E6D-4E3A-86C7-91955F128E3E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円/楕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円/楕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円/楕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0640-92AB-47DD-B707-524B7758D7EF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正方形/長方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円/楕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円/楕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円/楕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599B-3AF5-46A7-A4A7-C70ADDB70A59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8FC-E68B-4822-A9F3-0CAC3F3EC4DE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正方形/長方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FF3-B657-486D-BBCD-3F4483E41C59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AD96-15F5-4AD8-A790-69D31C1EE207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正方形/長方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フローチャート: 処理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フローチャート: 処理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FC0-3CF3-4BA5-9794-9E79D07C5A44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197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Carbon emission metrics for climate stabilization and the implications to metrics</a:t>
            </a:r>
            <a:br>
              <a:rPr sz="3900"/>
            </a:b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for non-CO2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ichio Kawamiy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earch Institute for Global 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pan Agency for Marine-earth Science an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lobal warming projection with MIROC-ESM under RCP scenario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Picture 2" descr="C:\Users\michio\Documents\My Dropbox\セミナー、講演\ボン12年4月\CO2scenario.png"/>
          <p:cNvPicPr/>
          <p:nvPr/>
        </p:nvPicPr>
        <p:blipFill>
          <a:blip r:embed="rId1"/>
          <a:stretch/>
        </p:blipFill>
        <p:spPr>
          <a:xfrm>
            <a:off x="1042920" y="2492280"/>
            <a:ext cx="4140360" cy="304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michio\Documents\My Dropbox\セミナー、講演\ボン12年4月\T2timeseries.png"/>
          <p:cNvPicPr/>
          <p:nvPr/>
        </p:nvPicPr>
        <p:blipFill>
          <a:blip r:embed="rId2"/>
          <a:stretch/>
        </p:blipFill>
        <p:spPr>
          <a:xfrm>
            <a:off x="5137200" y="2492280"/>
            <a:ext cx="4006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0" t="2377" r="0" b="0"/>
          <a:stretch/>
        </p:blipFill>
        <p:spPr>
          <a:xfrm>
            <a:off x="252360" y="260280"/>
            <a:ext cx="8658360" cy="597708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3"/>
          <p:cNvSpPr/>
          <p:nvPr/>
        </p:nvSpPr>
        <p:spPr>
          <a:xfrm>
            <a:off x="70920" y="0"/>
            <a:ext cx="16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テキスト ボックス 4"/>
          <p:cNvSpPr/>
          <p:nvPr/>
        </p:nvSpPr>
        <p:spPr>
          <a:xfrm>
            <a:off x="2124000" y="333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mperature Rise averaged over 2090’s relative to 1980-1999 aver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limate Carbon Response in MIROC-E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9" name="図プレースホルダー 7" descr="gfig.chng.19.ccr.womgs.fai.pv.pn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4643280" y="2852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30" name="図プレースホルダー 6" descr="gfig.chng.19.ccr.withmgs.pv.png"/>
          <p:cNvPicPr/>
          <p:nvPr/>
        </p:nvPicPr>
        <p:blipFill>
          <a:blip r:embed="rId2"/>
          <a:srcRect l="-10662" t="0" r="-10662" b="0"/>
          <a:stretch/>
        </p:blipFill>
        <p:spPr>
          <a:xfrm>
            <a:off x="-306360" y="2816280"/>
            <a:ext cx="4327560" cy="2674800"/>
          </a:xfrm>
          <a:prstGeom prst="rect">
            <a:avLst/>
          </a:prstGeom>
          <a:ln w="0">
            <a:noFill/>
          </a:ln>
        </p:spPr>
      </p:pic>
      <p:sp>
        <p:nvSpPr>
          <p:cNvPr id="431" name="テキスト ボックス 16"/>
          <p:cNvSpPr/>
          <p:nvPr/>
        </p:nvSpPr>
        <p:spPr>
          <a:xfrm>
            <a:off x="250920" y="256536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テキスト ボックス 18"/>
          <p:cNvSpPr/>
          <p:nvPr/>
        </p:nvSpPr>
        <p:spPr>
          <a:xfrm>
            <a:off x="4944960" y="2602080"/>
            <a:ext cx="3492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テキスト ボックス 26"/>
          <p:cNvSpPr/>
          <p:nvPr/>
        </p:nvSpPr>
        <p:spPr>
          <a:xfrm>
            <a:off x="3402000" y="303228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CP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テキスト ボックス 27"/>
          <p:cNvSpPr/>
          <p:nvPr/>
        </p:nvSpPr>
        <p:spPr>
          <a:xfrm>
            <a:off x="3402000" y="3824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CP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テキスト ボックス 28"/>
          <p:cNvSpPr/>
          <p:nvPr/>
        </p:nvSpPr>
        <p:spPr>
          <a:xfrm>
            <a:off x="3402000" y="33195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CP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テキスト ボックス 29"/>
          <p:cNvSpPr/>
          <p:nvPr/>
        </p:nvSpPr>
        <p:spPr>
          <a:xfrm>
            <a:off x="3402000" y="3608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CP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8423280" y="323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8421840" y="382284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テキスト ボックス 23"/>
          <p:cNvSpPr/>
          <p:nvPr/>
        </p:nvSpPr>
        <p:spPr>
          <a:xfrm>
            <a:off x="8424720" y="3556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8418600" y="4076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nother possible cause for scenario dependence of CC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42" name="図形グループ 17"/>
          <p:cNvGrpSpPr/>
          <p:nvPr/>
        </p:nvGrpSpPr>
        <p:grpSpPr>
          <a:xfrm>
            <a:off x="1685880" y="1457280"/>
            <a:ext cx="6840720" cy="5400720"/>
            <a:chOff x="1685880" y="1457280"/>
            <a:chExt cx="6840720" cy="5400720"/>
          </a:xfrm>
        </p:grpSpPr>
        <p:sp>
          <p:nvSpPr>
            <p:cNvPr id="443" name="角丸四角形 4"/>
            <p:cNvSpPr/>
            <p:nvPr/>
          </p:nvSpPr>
          <p:spPr>
            <a:xfrm>
              <a:off x="1685880" y="1457280"/>
              <a:ext cx="6815880" cy="5400720"/>
            </a:xfrm>
            <a:prstGeom prst="roundRect">
              <a:avLst>
                <a:gd name="adj" fmla="val 71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444" name="図形グループ 48"/>
            <p:cNvGrpSpPr/>
            <p:nvPr/>
          </p:nvGrpSpPr>
          <p:grpSpPr>
            <a:xfrm>
              <a:off x="1876680" y="1539720"/>
              <a:ext cx="3653280" cy="3065040"/>
              <a:chOff x="1876680" y="1539720"/>
              <a:chExt cx="3653280" cy="3065040"/>
            </a:xfrm>
          </p:grpSpPr>
          <p:grpSp>
            <p:nvGrpSpPr>
              <p:cNvPr id="445" name="図形グループ 31"/>
              <p:cNvGrpSpPr/>
              <p:nvPr/>
            </p:nvGrpSpPr>
            <p:grpSpPr>
              <a:xfrm>
                <a:off x="1876680" y="1539720"/>
                <a:ext cx="3653280" cy="3065040"/>
                <a:chOff x="1876680" y="1539720"/>
                <a:chExt cx="3653280" cy="3065040"/>
              </a:xfrm>
            </p:grpSpPr>
            <p:pic>
              <p:nvPicPr>
                <p:cNvPr id="446" name="直線矢印コネクタ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2800" y="3803760"/>
                  <a:ext cx="282276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直線矢印コネクタ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83200" y="2145600"/>
                  <a:ext cx="383760" cy="20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直線コネクタ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86880" y="2377080"/>
                  <a:ext cx="1883880" cy="170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直線コネクタ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3450240"/>
                  <a:ext cx="1658160" cy="64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テキスト ボックス 24"/>
                <p:cNvSpPr/>
                <p:nvPr/>
              </p:nvSpPr>
              <p:spPr>
                <a:xfrm>
                  <a:off x="2734920" y="4000320"/>
                  <a:ext cx="27950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Global temp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ch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テキスト ボックス 25"/>
                <p:cNvSpPr/>
                <p:nvPr/>
              </p:nvSpPr>
              <p:spPr>
                <a:xfrm rot="16200000">
                  <a:off x="528120" y="2887920"/>
                  <a:ext cx="306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Ocean heat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452" name="テキスト ボックス 18"/>
              <p:cNvSpPr/>
              <p:nvPr/>
            </p:nvSpPr>
            <p:spPr>
              <a:xfrm>
                <a:off x="2797920" y="197280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A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53" name="テキスト ボックス 19"/>
              <p:cNvSpPr/>
              <p:nvPr/>
            </p:nvSpPr>
            <p:spPr>
              <a:xfrm>
                <a:off x="3337920" y="302148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B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54" name="図形グループ 41"/>
            <p:cNvGrpSpPr/>
            <p:nvPr/>
          </p:nvGrpSpPr>
          <p:grpSpPr>
            <a:xfrm>
              <a:off x="2145960" y="5305320"/>
              <a:ext cx="2805480" cy="1333800"/>
              <a:chOff x="2145960" y="5305320"/>
              <a:chExt cx="2805480" cy="1333800"/>
            </a:xfrm>
          </p:grpSpPr>
          <p:pic>
            <p:nvPicPr>
              <p:cNvPr id="455" name="正方形/長方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5960" y="5305320"/>
                <a:ext cx="2805480" cy="76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正方形/長方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5960" y="6104520"/>
                <a:ext cx="2805480" cy="53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下矢印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2440" y="5742720"/>
                <a:ext cx="79488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図形グループ 42"/>
            <p:cNvGrpSpPr/>
            <p:nvPr/>
          </p:nvGrpSpPr>
          <p:grpSpPr>
            <a:xfrm>
              <a:off x="5448240" y="5305320"/>
              <a:ext cx="2805480" cy="1353960"/>
              <a:chOff x="5448240" y="5305320"/>
              <a:chExt cx="2805480" cy="1353960"/>
            </a:xfrm>
          </p:grpSpPr>
          <p:pic>
            <p:nvPicPr>
              <p:cNvPr id="459" name="正方形/長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8240" y="5305320"/>
                <a:ext cx="280548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正方形/長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8240" y="6112440"/>
                <a:ext cx="280548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下矢印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23280" y="5765760"/>
                <a:ext cx="443520" cy="61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テキスト ボックス 8"/>
            <p:cNvSpPr/>
            <p:nvPr/>
          </p:nvSpPr>
          <p:spPr>
            <a:xfrm>
              <a:off x="2424240" y="47628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3" name="テキスト ボックス 9"/>
            <p:cNvSpPr/>
            <p:nvPr/>
          </p:nvSpPr>
          <p:spPr>
            <a:xfrm>
              <a:off x="5758920" y="4785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4" name="テキスト ボックス 10"/>
            <p:cNvSpPr/>
            <p:nvPr/>
          </p:nvSpPr>
          <p:spPr>
            <a:xfrm>
              <a:off x="5701680" y="2101680"/>
              <a:ext cx="282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hanges in ocean heat uptake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Q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W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H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5" name="テキスト ボックス 26"/>
          <p:cNvSpPr/>
          <p:nvPr/>
        </p:nvSpPr>
        <p:spPr>
          <a:xfrm>
            <a:off x="2549520" y="1528920"/>
            <a:ext cx="4865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Efficiency of ocean heat upta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図プレースホルダー 15" descr="gfig.chng.19.ccr.womgs.woohu-kappa.fai.pv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700360" y="2060640"/>
            <a:ext cx="4325760" cy="267480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19"/>
          <p:cNvSpPr/>
          <p:nvPr/>
        </p:nvSpPr>
        <p:spPr>
          <a:xfrm>
            <a:off x="2843280" y="1700280"/>
            <a:ext cx="468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</a:t>
            </a: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Ocean-heat-uptake  (OHU)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テキスト ボックス 4"/>
          <p:cNvSpPr/>
          <p:nvPr/>
        </p:nvSpPr>
        <p:spPr>
          <a:xfrm>
            <a:off x="183528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is moderately scenario dependent in our case, but can be corrected in terms of OH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図プレースホルダー 7" descr="gfig.chng.17.dTdC.womgs.woohu-kappa.fai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50920" y="3860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0" name="図プレースホルダー 5" descr="gfig.chng.17.dTdC.withmgs.png"/>
          <p:cNvPicPr/>
          <p:nvPr/>
        </p:nvPicPr>
        <p:blipFill>
          <a:blip r:embed="rId2"/>
          <a:srcRect l="0" t="8791" r="0" b="8791"/>
          <a:stretch/>
        </p:blipFill>
        <p:spPr>
          <a:xfrm>
            <a:off x="181080" y="77940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1" name="図プレースホルダー 6" descr="gfig.chng.17.dTdC.womgs.fai.png"/>
          <p:cNvPicPr/>
          <p:nvPr/>
        </p:nvPicPr>
        <p:blipFill>
          <a:blip r:embed="rId3"/>
          <a:srcRect l="0" t="8776" r="0" b="8776"/>
          <a:stretch/>
        </p:blipFill>
        <p:spPr>
          <a:xfrm>
            <a:off x="4708440" y="779400"/>
            <a:ext cx="4326120" cy="26751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0"/>
          <p:cNvSpPr/>
          <p:nvPr/>
        </p:nvSpPr>
        <p:spPr>
          <a:xfrm>
            <a:off x="-7920" y="3240"/>
            <a:ext cx="87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Airborne CO2 is again not a good metric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テキスト ボックス 16"/>
          <p:cNvSpPr/>
          <p:nvPr/>
        </p:nvSpPr>
        <p:spPr>
          <a:xfrm>
            <a:off x="73836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テキスト ボックス 18"/>
          <p:cNvSpPr/>
          <p:nvPr/>
        </p:nvSpPr>
        <p:spPr>
          <a:xfrm>
            <a:off x="529920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テキスト ボックス 19"/>
          <p:cNvSpPr/>
          <p:nvPr/>
        </p:nvSpPr>
        <p:spPr>
          <a:xfrm>
            <a:off x="162000" y="3565440"/>
            <a:ext cx="435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  Ocean heat uptake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mplications for establishing metrics for short-lived and long-lived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02920" y="2178000"/>
            <a:ext cx="7497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t is important to recognize the difference between short-lived and long-lived GHGs with the same GWP, in particular for discussing climate stabiliz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r stabilization issues, cumulative emission (CE) of long-lived GHGs may be more desirable than concentr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re may be a moderate scenario dependence of CE, especially for fast scenarios due to that of ocean heat uptake (OHU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training OHU efficiency may improve the validity of CE as a metric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roduction: limitation of single basket approa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443560" cy="2808000"/>
          </a:xfrm>
          <a:prstGeom prst="rect">
            <a:avLst/>
          </a:prstGeom>
          <a:ln w="0">
            <a:noFill/>
          </a:ln>
        </p:spPr>
      </p:pic>
      <p:sp>
        <p:nvSpPr>
          <p:cNvPr id="374" name="テキスト ボックス 5"/>
          <p:cNvSpPr/>
          <p:nvPr/>
        </p:nvSpPr>
        <p:spPr>
          <a:xfrm>
            <a:off x="5580000" y="2781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ane+640GtC” and “1280GtC, No Methane” have the same forcing in terms of GWP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&gt; “Single basket approach” does not work for discussing stabilization levels. (Eby et al., 2009; Solomon et al.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テキスト ボックス 6"/>
          <p:cNvSpPr/>
          <p:nvPr/>
        </p:nvSpPr>
        <p:spPr>
          <a:xfrm>
            <a:off x="5940360" y="2060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cings for these two lines have the same  value of GWP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6" name="直線矢印コネクタ 8"/>
          <p:cNvCxnSpPr>
            <a:stCxn id="375" idx="1"/>
          </p:cNvCxnSpPr>
          <p:nvPr/>
        </p:nvCxnSpPr>
        <p:spPr>
          <a:xfrm flipH="1" flipV="1">
            <a:off x="3058560" y="2060280"/>
            <a:ext cx="288180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直線矢印コネクタ 9"/>
          <p:cNvCxnSpPr>
            <a:stCxn id="375" idx="1"/>
          </p:cNvCxnSpPr>
          <p:nvPr/>
        </p:nvCxnSpPr>
        <p:spPr>
          <a:xfrm flipH="1">
            <a:off x="3058560" y="2292120"/>
            <a:ext cx="2881800" cy="1292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911840" cy="2421000"/>
          </a:xfrm>
          <a:prstGeom prst="rect">
            <a:avLst/>
          </a:prstGeom>
          <a:ln w="0">
            <a:noFill/>
          </a:ln>
        </p:spPr>
      </p:pic>
      <p:sp>
        <p:nvSpPr>
          <p:cNvPr id="379" name="テキスト ボックス 13"/>
          <p:cNvSpPr/>
          <p:nvPr/>
        </p:nvSpPr>
        <p:spPr>
          <a:xfrm>
            <a:off x="521964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TP is superior when discussing stab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t roles of short-lived and long-lived ag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71280" y="15998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hort-lived: “trim” the peak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ong-lived: determine the stabilization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042920" y="364500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-basket approach” is proposed ( Solomon et al., 20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&gt; GTP for short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mulative emission for long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2 concentration has been often used as a carbon emission metric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テキスト ボックス 7"/>
          <p:cNvSpPr/>
          <p:nvPr/>
        </p:nvSpPr>
        <p:spPr>
          <a:xfrm>
            <a:off x="6369120" y="602136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0" y="2349360"/>
            <a:ext cx="905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n concentration metrics is converted to socio-economic scenario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9288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テキスト ボックス 3"/>
          <p:cNvSpPr/>
          <p:nvPr/>
        </p:nvSpPr>
        <p:spPr>
          <a:xfrm>
            <a:off x="7071480" y="655020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テキスト ボックス 4"/>
          <p:cNvSpPr/>
          <p:nvPr/>
        </p:nvSpPr>
        <p:spPr>
          <a:xfrm>
            <a:off x="1476360" y="5877000"/>
            <a:ext cx="71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2 emission paths to achieve CO2 concentration stab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umulative carbon emission as a metric for climate stabilization level and transient climate respons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051440" cy="331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861000" cy="3264120"/>
          </a:xfrm>
          <a:prstGeom prst="rect">
            <a:avLst/>
          </a:prstGeom>
          <a:ln w="0">
            <a:noFill/>
          </a:ln>
        </p:spPr>
      </p:pic>
      <p:sp>
        <p:nvSpPr>
          <p:cNvPr id="393" name="テキスト ボックス 6"/>
          <p:cNvSpPr/>
          <p:nvPr/>
        </p:nvSpPr>
        <p:spPr>
          <a:xfrm>
            <a:off x="601200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tthews et al. (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tif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テキスト ボックス 2"/>
          <p:cNvSpPr/>
          <p:nvPr/>
        </p:nvSpPr>
        <p:spPr>
          <a:xfrm>
            <a:off x="900000" y="1557360"/>
            <a:ext cx="82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CR = T/CE = (T/CA)(CA/CE) = α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CR: Climate-carbon response (matthews et al., 200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α(=T/CA): Temperature rise per unit airborne carb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(=CA/CE): Airborne fr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テキスト ボックス 3"/>
          <p:cNvSpPr/>
          <p:nvPr/>
        </p:nvSpPr>
        <p:spPr>
          <a:xfrm>
            <a:off x="912960" y="3716280"/>
            <a:ext cx="611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f.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Climate sensitivity: λ=T/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: Radiative for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テキスト ボックス 4"/>
          <p:cNvSpPr/>
          <p:nvPr/>
        </p:nvSpPr>
        <p:spPr>
          <a:xfrm>
            <a:off x="1258920" y="5445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may be regarded as “earth system sensitivity”, with the forcing being anthropogenic carbon emission rather than radiative forc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3745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CR may be independent of scenar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52960" cy="58420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5"/>
          <p:cNvSpPr/>
          <p:nvPr/>
        </p:nvSpPr>
        <p:spPr>
          <a:xfrm>
            <a:off x="5788080" y="692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%/year incre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テキスト ボックス 6"/>
          <p:cNvSpPr/>
          <p:nvPr/>
        </p:nvSpPr>
        <p:spPr>
          <a:xfrm>
            <a:off x="5657760" y="3500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anteneous x2 &amp; x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ROC-ESM: a GCM-based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arth System Mode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796000" y="3303720"/>
            <a:ext cx="297000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SR/NIES/FRCG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42(~2.8ºx2.8º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80 (TOA:80k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CO (CCSR/FRCG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vilinear grid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0.5-1.0)º x 1.4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4" name="図形グループ 3"/>
          <p:cNvGrpSpPr/>
          <p:nvPr/>
        </p:nvGrpSpPr>
        <p:grpSpPr>
          <a:xfrm>
            <a:off x="1476360" y="4265640"/>
            <a:ext cx="3600360" cy="2592360"/>
            <a:chOff x="1476360" y="4265640"/>
            <a:chExt cx="3600360" cy="2592360"/>
          </a:xfrm>
        </p:grpSpPr>
        <p:sp>
          <p:nvSpPr>
            <p:cNvPr id="405" name="正方形/長方形 5"/>
            <p:cNvSpPr/>
            <p:nvPr/>
          </p:nvSpPr>
          <p:spPr>
            <a:xfrm>
              <a:off x="1476360" y="4309200"/>
              <a:ext cx="3600360" cy="254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正方形/長方形 7"/>
            <p:cNvSpPr/>
            <p:nvPr/>
          </p:nvSpPr>
          <p:spPr>
            <a:xfrm>
              <a:off x="2085120" y="4778280"/>
              <a:ext cx="2324160" cy="957600"/>
            </a:xfrm>
            <a:prstGeom prst="rect">
              <a:avLst/>
            </a:prstGeom>
            <a:solidFill>
              <a:srgbClr val="fdd7ba"/>
            </a:solidFill>
            <a:ln w="25560">
              <a:solidFill>
                <a:srgbClr val="3891a7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正方形/長方形 8"/>
            <p:cNvSpPr/>
            <p:nvPr/>
          </p:nvSpPr>
          <p:spPr>
            <a:xfrm>
              <a:off x="1644840" y="5847840"/>
              <a:ext cx="1454040" cy="891360"/>
            </a:xfrm>
            <a:prstGeom prst="rect">
              <a:avLst/>
            </a:prstGeom>
            <a:solidFill>
              <a:srgbClr val="fcbcbc"/>
            </a:solidFill>
            <a:ln w="25560">
              <a:solidFill>
                <a:srgbClr val="ff000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正方形/長方形 10"/>
            <p:cNvSpPr/>
            <p:nvPr/>
          </p:nvSpPr>
          <p:spPr>
            <a:xfrm>
              <a:off x="3381480" y="5861880"/>
              <a:ext cx="1462320" cy="891360"/>
            </a:xfrm>
            <a:prstGeom prst="rect">
              <a:avLst/>
            </a:prstGeom>
            <a:solidFill>
              <a:srgbClr val="bce292"/>
            </a:solidFill>
            <a:ln w="25560">
              <a:solidFill>
                <a:srgbClr val="00b05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テキスト ボックス 10"/>
            <p:cNvSpPr/>
            <p:nvPr/>
          </p:nvSpPr>
          <p:spPr>
            <a:xfrm>
              <a:off x="2051280" y="4778280"/>
              <a:ext cx="244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Atmosphere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テキスト ボックス 11"/>
            <p:cNvSpPr/>
            <p:nvPr/>
          </p:nvSpPr>
          <p:spPr>
            <a:xfrm>
              <a:off x="1476360" y="582948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テキスト ボックス 12"/>
            <p:cNvSpPr/>
            <p:nvPr/>
          </p:nvSpPr>
          <p:spPr>
            <a:xfrm>
              <a:off x="3217320" y="583200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Lan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テキスト ボックス 13"/>
            <p:cNvSpPr/>
            <p:nvPr/>
          </p:nvSpPr>
          <p:spPr>
            <a:xfrm>
              <a:off x="2193840" y="503388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IROC-AGC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テキスト ボックス 14"/>
            <p:cNvSpPr/>
            <p:nvPr/>
          </p:nvSpPr>
          <p:spPr>
            <a:xfrm>
              <a:off x="2193840" y="534924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PRINTARS (CHASER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4" name="テキスト ボックス 15"/>
            <p:cNvSpPr/>
            <p:nvPr/>
          </p:nvSpPr>
          <p:spPr>
            <a:xfrm>
              <a:off x="1798560" y="609408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COC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テキスト ボックス 16"/>
            <p:cNvSpPr/>
            <p:nvPr/>
          </p:nvSpPr>
          <p:spPr>
            <a:xfrm>
              <a:off x="1798560" y="64094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NPZ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テキスト ボックス 17"/>
            <p:cNvSpPr/>
            <p:nvPr/>
          </p:nvSpPr>
          <p:spPr>
            <a:xfrm>
              <a:off x="3553560" y="610920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ATSIR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テキスト ボックス 18"/>
            <p:cNvSpPr/>
            <p:nvPr/>
          </p:nvSpPr>
          <p:spPr>
            <a:xfrm>
              <a:off x="3551760" y="64238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EIB-DGV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テキスト ボックス 19"/>
            <p:cNvSpPr/>
            <p:nvPr/>
          </p:nvSpPr>
          <p:spPr>
            <a:xfrm>
              <a:off x="2180160" y="42656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403"/>
                  </a:solidFill>
                  <a:latin typeface="HGｺﾞｼｯｸE"/>
                </a:rPr>
                <a:t>MIROC-ES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19" name="図 20" descr=""/>
          <p:cNvPicPr/>
          <p:nvPr/>
        </p:nvPicPr>
        <p:blipFill>
          <a:blip r:embed="rId1"/>
          <a:stretch/>
        </p:blipFill>
        <p:spPr>
          <a:xfrm>
            <a:off x="390600" y="3565440"/>
            <a:ext cx="1687320" cy="16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michio\Documents\My Dropbox\論文査読・投稿\Climate Sense\図1地球システム統合モデル_eng.tif"/>
          <p:cNvPicPr/>
          <p:nvPr/>
        </p:nvPicPr>
        <p:blipFill>
          <a:blip r:embed="rId2"/>
          <a:stretch/>
        </p:blipFill>
        <p:spPr>
          <a:xfrm>
            <a:off x="1476360" y="1413000"/>
            <a:ext cx="4057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3:09:04Z</dcterms:created>
  <dc:creator>michio</dc:creator>
  <dc:description/>
  <dc:language>en-US</dc:language>
  <cp:lastModifiedBy>michio</cp:lastModifiedBy>
  <dcterms:modified xsi:type="dcterms:W3CDTF">2012-03-27T21:24:15Z</dcterms:modified>
  <cp:revision>14</cp:revision>
  <dc:subject/>
  <dc:title>Carbon emission metrics and its relevance to metrics for non-CO2 GHGs</dc:title>
</cp:coreProperties>
</file>