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BEE4-22D6-4054-8777-88A7391FF32B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ＭＩＲＯＣ－ＥＳＭへの入力データ（Ｒ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実験結果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0C3D-9D8A-4908-A330-0775EB57D4F1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シナリオ別の温暖化のパターン．シナリオ間でパターンはそれほど違わず，全体の平均が違う感じ．我々のモデルは，北極海におけるアイスアルベドフィードバックがちょっと強く，２０４０年までには夏の海氷がなくなってしまう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DF8A-4D5B-43FA-BB78-2DB4C2510498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OC-ES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におけるＣＣＲをとってみた．シナリオ依存性が若干あることが分かる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CO2 GHG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効果による温暖化分を取り除いて補正をかけても同じ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4C6E-8DF1-44AE-B2C4-CE5A268EB8A8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もうひとつ，ＣＣＲのシナリオ依存性をもたらす要因としては，海洋の熱吸収が考えられる．すなわち，「遅い」シナリオほど定常に近い状態を保ちながら時間変化していくので，大気から海洋への熱フラックスは小さくなる．すると，単位排出量当たりの温暖化は大きくなる理屈．単一シナリオのなかでは，海洋への熱フラックスが昇温に比例することを利用して，この効果に関する補正をかけることにす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1155-8D8E-4239-8CC1-4101F24D3175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我々のモデルでは，ＣＣＲには若干のモデル依存性があった．それは海洋熱吸収によるものであり，海洋熱吸収の大きな「速い」シナリオほど見かけのＣＣＲが小さくな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3959-C9AD-41A5-A830-672E25A41C80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大気中の人為起源炭素量と昇温の関係をとってみると，海洋熱吸収の効果を除いても値が収束せず，メトリックスとしては累積排出量の方が優れていることが分か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1CE8-96E9-4E89-9C9C-099A3C78F704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omon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らが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CRP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に寄せ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pape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，安定化に向けての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Basket Approach”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限界について指摘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上の図，上から２本目と３本目の線はＧＷＰで見れば同じだが，安定化レベルは全然違う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安定化に向けては，ＧＴＰの方が良い指標だが，五十歩百歩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5EA2-09DD-4575-9E3C-195D52684FEC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CRP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Paper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omon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らは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-basket approach”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を提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短寿命成分には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T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長寿命成分（Ｃ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など）には 累積炭素排出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69AA-CC5B-4F9F-BD6C-88CAC42D0108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従来は，ＣＯ２「濃度」がメトリック（基準）になっていた．この表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PCC WG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報告書からとったものだが，一番左の欄にはＣＯ２濃度が来ており，その濃度を達成するための排出削減目安などが記されてい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DE91-D9BA-4DCC-AA14-89A7A14B12EA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濃度メトリックに基づいて作った排出パスがこれ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ただし，濃度メトリックは「それに基づいて，社会経済学者がシナリオを開発しようとするとき，炭素循環についての知識が要求される」という欠点があ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C4FE-A543-4FFD-8C1B-FE7833897A04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s et al (2009)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，累積排出量と気温上昇の間に，よい線形の関係があること，その傾きはモデルにより異なる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2 deg.C/TtC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範囲にあることを指摘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5248-243B-4365-896A-F2E5DDCE15A5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s et al. (2009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前図の傾き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 Carbon Response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呼び，炭素循環－気候結合モデルのよいメトリックになるとした．「普通の」気候モデルにおける気候感度にあた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7566-C955-432D-8125-2C3ED46B67B9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s et al. (2009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ＣＣＲがシナリオに依らないことを例証した（ＣＯ２濃度がよい指標と言えないことも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/CA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を示して指摘）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ただし検討されたのは数例の理想的なシナリオにすぎず，また簡略モデルによる実験であるので，ＲＣＰのようなある程度現実的なシナリオの下でのＧＣＭによる実験結果を見ることには大きな意味があ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ealized model simulations of the CC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Simulation with a 1% per year atmospheric CO 2 increase for 70 years, showing temperature change per unit atmospheric carbon increase (DT/DC A : thin red line, right axis), airborne fraction of cumulative carbon emissions (DC A /E T : thin blue line, left axis) and CCR (thick red line, right axis). In this simulation, cumulative airborne fraction decreased with time owing to a delayed carbon cycle response to a rapid prescribed rate of atmospheric CO 2 increase. This is consistent with saturating carbon sinks at higher atmospheric CO 2 , which leads to an increased airborne fraction of annual emissions with increasing atmospheric CO 2 . b, Simulations with an instantaneous doubling (solid lines) and quadrupling (dashed lines) of atmospheric CO 2 for 1,000 years (colours as in a). In all cases, the cumulative airborne fraction decreased with time, whereas the temperature change per unit atmospheric carbon increased with time; consequently, the CCR (defined as the product of these two quantities) remained constant in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A57A-2C35-45F4-A4C1-B64F3F64BB73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474B-36A4-4555-B65A-19438247248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Team MIROC (UT, JAMSTEC, NIES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による地球システムモデル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MIROC-ESM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によるＣＭＩＰ５実験に基づいて，累積炭素排出量と昇温の関係を解析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植生モデルは動的植生モデル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ED8-6F22-4029-BA4A-0B5484FE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ABB-D866-4DC7-BF61-49ED3678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496-C268-4130-915F-A1798E02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9EAC-C72B-4961-ADCF-A9432E42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5C03-64EF-498F-AA14-E2DA23CC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3546-0818-4A64-B273-D48D244D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9A61-41F8-439B-84AC-7D94430C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A923-ADCE-487B-A1F5-3DE1696B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0478-E9C5-4B92-BABD-59FA7D1C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BE43-5D12-4BAF-876B-DF76B344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7F37-C4F5-4196-8F11-5FBE199E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2A42-E6CC-4953-A35F-FBF5AC00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1C38-11E7-4F08-A1D5-01D23AE0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E0A9-3DA8-4611-B0DB-DD5AE65C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5953-85BC-45D2-A5DB-7F66FBBF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DD8F-75A1-4FB8-9C32-C0BE8DF5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16DA-3431-4F49-90A9-56EB5FA3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CD2B3-4474-4DF1-84A2-B9B46843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3F475-32E5-459A-AFD6-23EAD956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A63B8-17BE-452F-BAA3-8C9C7A30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722AF-4C48-4B26-A0D0-FC647200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CE1D4-1A50-47CB-9A86-5A6C060B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D74-EA9F-4799-AE34-1044DB88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8C29D-02D2-42FE-9107-A1142EF2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0B51-C5CA-4652-8E59-4DB767F0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867F4-670B-462A-8EB6-312A4FEA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3C07-7805-44D6-BD15-FB3F9920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3CE0E-6BF3-43C6-BE4F-FBCB8905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E5B97-4C60-46B6-976E-3EB0E02D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DE0C8-DB67-4090-A63C-A8E3139C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BCEE0-AF30-457C-9B77-54539978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0343B-F3EE-467A-A2C5-60961975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A1F03-3ADD-4EB4-B929-46D07612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036-8BF0-4006-9350-0ACE257D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5841F-6C81-4DF3-9BE0-18BE58C1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55735-DBFB-4022-9B9D-60FAAB98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06707-90F0-43D0-8292-20445180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43577-AE5B-401C-9CEB-1C5A87C1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94C82-6624-4AEC-85A4-8FFC4077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96A5B-E1CD-4097-B956-2E57D5A3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A324C-B740-4207-ADA3-EC3A99CD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13244-947E-42A4-9BDF-05BA42AB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E300B-B904-4370-BBE1-B51C1C26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18829-AA58-4A21-8295-988D36A5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B54-D69B-4D45-9751-4AC42026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59A5A-5D4C-459A-9B53-3B90C6BE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1AB0C-A87D-446F-AFCA-910F3198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CE258-2EDF-4640-AE95-8AEC9BAE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E4B04-4042-4C0E-BEB6-B14C019F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FFD5D-5137-4538-87C3-BE4C6A85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29C9F-4FC5-447C-B43A-B850F214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FDBF0-4EFE-4B53-9D32-C5884813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8A0ED-17B5-46A6-B671-114DA4D7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E4A97-727B-4979-8BC7-A76C29C3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5FC3A-F94F-4B29-8643-DCD0A7DB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44F-3B69-4A28-971A-A3A486F1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54590-6B03-4BEB-ABC7-EC13DEC8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79DDD-B959-4AD7-B850-6F91B060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6C77B-748C-47CE-B9B9-57E585A7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EFDB5-D921-4785-861B-C44EEC2C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B9AAC-A143-414D-9B55-485F18D2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C868C-74F0-446C-BD06-45A376F9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92D20-137E-4AC7-A0D2-7EB2D9D2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9EA02-E6C2-407B-BFB9-59EB5142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DC653-730F-4648-9CF5-5E157819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D6205-5827-49DC-98F5-36035A72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6DA-F854-4A3B-AE27-18829184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65CD4-4A5B-4F9A-B7B3-A0D9023F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A72C9-847F-42BC-892F-C48517E0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B3BC5-E649-48DD-A85A-BF17A62A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51238-D824-4568-8702-A32F7A81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04267-64DF-4461-9B0C-0EA11B86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4D7E6-14DE-4CE6-BDB8-C2AE6535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03EEA-056E-473C-BEF5-A1A9279F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336B0-5EEB-45C1-A9C8-3E1C150B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E0ACF-7BF4-40F8-B8C8-28F7421C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C9491-A10C-4E45-B5D6-C5FB4A66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A01-7825-4845-8E73-A578E29D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43FDC-F6AE-4E81-88ED-204BE2EB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DE6C9-2501-4EEB-B7C5-7282E84A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58551-A9A7-42A8-8D38-6EEFF710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03CA5-DE7D-4A3B-A778-21C0F83E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8CBFC-166C-4EEE-81B0-57114786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5D2-9C8B-4990-B292-254CB897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0D3E-14B7-4197-BF73-710247F83527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円/楕円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円/楕円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円/楕円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039D-1AB1-4BB7-AC5C-8F108D07822A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正方形/長方形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正方形/長方形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円/楕円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円/楕円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円/楕円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CC5E-FBAF-48AF-BA6A-FA1599660089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E45E-D762-47C8-A6DB-333A4E16130C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正方形/長方形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正方形/長方形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7335-5D74-4E21-A163-EA7BA04BCA40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8470-4257-472A-836A-01EDB43BD6CA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正方形/長方形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正方形/長方形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フローチャート: 処理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フローチャート: 処理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4399-DE5F-4DBF-BB12-D054290B470A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0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23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58920" y="836280"/>
            <a:ext cx="719784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572314"/>
                </a:solidFill>
                <a:latin typeface="Gill Sans MT"/>
              </a:rPr>
              <a:t>Carbon emission metrics for climate stabilization and the implications to metrics</a:t>
            </a:r>
            <a:br>
              <a:rPr sz="3900"/>
            </a:br>
            <a:r>
              <a:rPr b="0" i="1" lang="en-US" sz="3900" spc="-1" strike="noStrike">
                <a:solidFill>
                  <a:srgbClr val="572314"/>
                </a:solidFill>
                <a:latin typeface="Gill Sans MT"/>
              </a:rPr>
              <a:t>for non-CO2 GHG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Michio Kawamiy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Research Institute for Global Chan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apan Agency for Marine-earth Science and Techn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Global warming projection with MIROC-ESM under RCP scenario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2" name="Picture 2" descr="C:\Users\michio\Documents\My Dropbox\セミナー、講演\ボン12年4月\CO2scenario.png"/>
          <p:cNvPicPr/>
          <p:nvPr/>
        </p:nvPicPr>
        <p:blipFill>
          <a:blip r:embed="rId1"/>
          <a:stretch/>
        </p:blipFill>
        <p:spPr>
          <a:xfrm>
            <a:off x="1042920" y="2492280"/>
            <a:ext cx="4140360" cy="3041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Users\michio\Documents\My Dropbox\セミナー、講演\ボン12年4月\T2timeseries.png"/>
          <p:cNvPicPr/>
          <p:nvPr/>
        </p:nvPicPr>
        <p:blipFill>
          <a:blip r:embed="rId2"/>
          <a:stretch/>
        </p:blipFill>
        <p:spPr>
          <a:xfrm>
            <a:off x="5137200" y="2492280"/>
            <a:ext cx="40068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rcRect l="0" t="2377" r="0" b="0"/>
          <a:stretch/>
        </p:blipFill>
        <p:spPr>
          <a:xfrm>
            <a:off x="252360" y="260280"/>
            <a:ext cx="8658360" cy="5977080"/>
          </a:xfrm>
          <a:prstGeom prst="rect">
            <a:avLst/>
          </a:prstGeom>
          <a:ln w="0">
            <a:noFill/>
          </a:ln>
        </p:spPr>
      </p:pic>
      <p:sp>
        <p:nvSpPr>
          <p:cNvPr id="426" name="テキスト ボックス 3"/>
          <p:cNvSpPr/>
          <p:nvPr/>
        </p:nvSpPr>
        <p:spPr>
          <a:xfrm>
            <a:off x="70920" y="0"/>
            <a:ext cx="16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ROC-ESM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結果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テキスト ボックス 4"/>
          <p:cNvSpPr/>
          <p:nvPr/>
        </p:nvSpPr>
        <p:spPr>
          <a:xfrm>
            <a:off x="2124000" y="333360"/>
            <a:ext cx="482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emperature Rise averaged over 2090’s relative to 1980-1999 averag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limate Carbon Response in MIROC-ESM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9" name="図プレースホルダー 7" descr="gfig.chng.19.ccr.womgs.fai.pv.png"/>
          <p:cNvPicPr/>
          <p:nvPr/>
        </p:nvPicPr>
        <p:blipFill>
          <a:blip r:embed="rId1"/>
          <a:srcRect l="-10662" t="0" r="-10662" b="0"/>
          <a:stretch/>
        </p:blipFill>
        <p:spPr>
          <a:xfrm>
            <a:off x="4643280" y="2852640"/>
            <a:ext cx="4327560" cy="2675160"/>
          </a:xfrm>
          <a:prstGeom prst="rect">
            <a:avLst/>
          </a:prstGeom>
          <a:ln w="0">
            <a:noFill/>
          </a:ln>
        </p:spPr>
      </p:pic>
      <p:pic>
        <p:nvPicPr>
          <p:cNvPr id="430" name="図プレースホルダー 6" descr="gfig.chng.19.ccr.withmgs.pv.png"/>
          <p:cNvPicPr/>
          <p:nvPr/>
        </p:nvPicPr>
        <p:blipFill>
          <a:blip r:embed="rId2"/>
          <a:srcRect l="-10662" t="0" r="-10662" b="0"/>
          <a:stretch/>
        </p:blipFill>
        <p:spPr>
          <a:xfrm>
            <a:off x="-306360" y="2816280"/>
            <a:ext cx="4327560" cy="2674800"/>
          </a:xfrm>
          <a:prstGeom prst="rect">
            <a:avLst/>
          </a:prstGeom>
          <a:ln w="0">
            <a:noFill/>
          </a:ln>
        </p:spPr>
      </p:pic>
      <p:sp>
        <p:nvSpPr>
          <p:cNvPr id="431" name="テキスト ボックス 16"/>
          <p:cNvSpPr/>
          <p:nvPr/>
        </p:nvSpPr>
        <p:spPr>
          <a:xfrm>
            <a:off x="250920" y="2565360"/>
            <a:ext cx="34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1) With all anthropogenic forcing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テキスト ボックス 18"/>
          <p:cNvSpPr/>
          <p:nvPr/>
        </p:nvSpPr>
        <p:spPr>
          <a:xfrm>
            <a:off x="4944960" y="2602080"/>
            <a:ext cx="3492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2) non-CO2 GHG corrected CC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テキスト ボックス 26"/>
          <p:cNvSpPr/>
          <p:nvPr/>
        </p:nvSpPr>
        <p:spPr>
          <a:xfrm>
            <a:off x="3402000" y="3032280"/>
            <a:ext cx="16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CP2.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テキスト ボックス 27"/>
          <p:cNvSpPr/>
          <p:nvPr/>
        </p:nvSpPr>
        <p:spPr>
          <a:xfrm>
            <a:off x="3402000" y="3824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Gill Sans MT"/>
              </a:rPr>
              <a:t>RCP6.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テキスト ボックス 28"/>
          <p:cNvSpPr/>
          <p:nvPr/>
        </p:nvSpPr>
        <p:spPr>
          <a:xfrm>
            <a:off x="3402000" y="331956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RCP4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テキスト ボックス 29"/>
          <p:cNvSpPr/>
          <p:nvPr/>
        </p:nvSpPr>
        <p:spPr>
          <a:xfrm>
            <a:off x="3402000" y="36082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RCP8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テキスト ボックス 21"/>
          <p:cNvSpPr/>
          <p:nvPr/>
        </p:nvSpPr>
        <p:spPr>
          <a:xfrm>
            <a:off x="8423280" y="32353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2.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テキスト ボックス 22"/>
          <p:cNvSpPr/>
          <p:nvPr/>
        </p:nvSpPr>
        <p:spPr>
          <a:xfrm>
            <a:off x="8421840" y="382284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Gill Sans MT"/>
              </a:rPr>
              <a:t>R6.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テキスト ボックス 23"/>
          <p:cNvSpPr/>
          <p:nvPr/>
        </p:nvSpPr>
        <p:spPr>
          <a:xfrm>
            <a:off x="8424720" y="35560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R4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テキスト ボックス 24"/>
          <p:cNvSpPr/>
          <p:nvPr/>
        </p:nvSpPr>
        <p:spPr>
          <a:xfrm>
            <a:off x="8418600" y="40766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R8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nother possible cause for scenario dependence of CC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42" name="図形グループ 17"/>
          <p:cNvGrpSpPr/>
          <p:nvPr/>
        </p:nvGrpSpPr>
        <p:grpSpPr>
          <a:xfrm>
            <a:off x="1685880" y="1457280"/>
            <a:ext cx="6840720" cy="5400720"/>
            <a:chOff x="1685880" y="1457280"/>
            <a:chExt cx="6840720" cy="5400720"/>
          </a:xfrm>
        </p:grpSpPr>
        <p:sp>
          <p:nvSpPr>
            <p:cNvPr id="443" name="角丸四角形 4"/>
            <p:cNvSpPr/>
            <p:nvPr/>
          </p:nvSpPr>
          <p:spPr>
            <a:xfrm>
              <a:off x="1685880" y="1457280"/>
              <a:ext cx="6815880" cy="5400720"/>
            </a:xfrm>
            <a:prstGeom prst="roundRect">
              <a:avLst>
                <a:gd name="adj" fmla="val 715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444" name="図形グループ 48"/>
            <p:cNvGrpSpPr/>
            <p:nvPr/>
          </p:nvGrpSpPr>
          <p:grpSpPr>
            <a:xfrm>
              <a:off x="1876680" y="1539720"/>
              <a:ext cx="3653280" cy="3065040"/>
              <a:chOff x="1876680" y="1539720"/>
              <a:chExt cx="3653280" cy="3065040"/>
            </a:xfrm>
          </p:grpSpPr>
          <p:grpSp>
            <p:nvGrpSpPr>
              <p:cNvPr id="445" name="図形グループ 31"/>
              <p:cNvGrpSpPr/>
              <p:nvPr/>
            </p:nvGrpSpPr>
            <p:grpSpPr>
              <a:xfrm>
                <a:off x="1876680" y="1539720"/>
                <a:ext cx="3653280" cy="3065040"/>
                <a:chOff x="1876680" y="1539720"/>
                <a:chExt cx="3653280" cy="3065040"/>
              </a:xfrm>
            </p:grpSpPr>
            <p:pic>
              <p:nvPicPr>
                <p:cNvPr id="446" name="直線矢印コネクタ 2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42800" y="3803760"/>
                  <a:ext cx="2822760" cy="383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直線矢印コネクタ 2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383200" y="2145600"/>
                  <a:ext cx="383760" cy="2042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直線コネクタ 2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486880" y="2377080"/>
                  <a:ext cx="1883880" cy="170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直線コネクタ 2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93000" y="3450240"/>
                  <a:ext cx="1658160" cy="640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0" name="テキスト ボックス 24"/>
                <p:cNvSpPr/>
                <p:nvPr/>
              </p:nvSpPr>
              <p:spPr>
                <a:xfrm>
                  <a:off x="2734920" y="4000320"/>
                  <a:ext cx="2795040" cy="50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Global temperature</a:t>
                  </a:r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  <a:p>
                  <a:pPr>
                    <a:lnSpc>
                      <a:spcPts val="1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change</a:t>
                  </a:r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</p:txBody>
            </p:sp>
            <p:sp>
              <p:nvSpPr>
                <p:cNvPr id="451" name="テキスト ボックス 25"/>
                <p:cNvSpPr/>
                <p:nvPr/>
              </p:nvSpPr>
              <p:spPr>
                <a:xfrm rot="16200000">
                  <a:off x="528120" y="2887920"/>
                  <a:ext cx="306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Ocean heat uptake</a:t>
                  </a:r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</p:txBody>
            </p:sp>
          </p:grpSp>
          <p:sp>
            <p:nvSpPr>
              <p:cNvPr id="452" name="テキスト ボックス 18"/>
              <p:cNvSpPr/>
              <p:nvPr/>
            </p:nvSpPr>
            <p:spPr>
              <a:xfrm>
                <a:off x="2797920" y="1972800"/>
                <a:ext cx="217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Scenario A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53" name="テキスト ボックス 19"/>
              <p:cNvSpPr/>
              <p:nvPr/>
            </p:nvSpPr>
            <p:spPr>
              <a:xfrm>
                <a:off x="3337920" y="3021480"/>
                <a:ext cx="217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Scenario B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54" name="図形グループ 41"/>
            <p:cNvGrpSpPr/>
            <p:nvPr/>
          </p:nvGrpSpPr>
          <p:grpSpPr>
            <a:xfrm>
              <a:off x="2145960" y="5305320"/>
              <a:ext cx="2805480" cy="1333800"/>
              <a:chOff x="2145960" y="5305320"/>
              <a:chExt cx="2805480" cy="1333800"/>
            </a:xfrm>
          </p:grpSpPr>
          <p:pic>
            <p:nvPicPr>
              <p:cNvPr id="455" name="正方形/長方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2145960" y="5305320"/>
                <a:ext cx="2805480" cy="76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正方形/長方形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2145960" y="6104520"/>
                <a:ext cx="2805480" cy="53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下矢印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3142440" y="5742720"/>
                <a:ext cx="794880" cy="615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8" name="図形グループ 42"/>
            <p:cNvGrpSpPr/>
            <p:nvPr/>
          </p:nvGrpSpPr>
          <p:grpSpPr>
            <a:xfrm>
              <a:off x="5448240" y="5305320"/>
              <a:ext cx="2805480" cy="1353960"/>
              <a:chOff x="5448240" y="5305320"/>
              <a:chExt cx="2805480" cy="1353960"/>
            </a:xfrm>
          </p:grpSpPr>
          <p:pic>
            <p:nvPicPr>
              <p:cNvPr id="459" name="正方形/長方形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448240" y="5305320"/>
                <a:ext cx="2805480" cy="78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正方形/長方形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5448240" y="6112440"/>
                <a:ext cx="2805480" cy="54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1" name="下矢印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6623280" y="5765760"/>
                <a:ext cx="443520" cy="61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2" name="テキスト ボックス 8"/>
            <p:cNvSpPr/>
            <p:nvPr/>
          </p:nvSpPr>
          <p:spPr>
            <a:xfrm>
              <a:off x="2424240" y="476280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cenario A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63" name="テキスト ボックス 9"/>
            <p:cNvSpPr/>
            <p:nvPr/>
          </p:nvSpPr>
          <p:spPr>
            <a:xfrm>
              <a:off x="5758920" y="478548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cenario B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64" name="テキスト ボックス 10"/>
            <p:cNvSpPr/>
            <p:nvPr/>
          </p:nvSpPr>
          <p:spPr>
            <a:xfrm>
              <a:off x="5701680" y="2101680"/>
              <a:ext cx="282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hanges in ocean heat uptake: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Q =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W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LW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H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LH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=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5" name="テキスト ボックス 26"/>
          <p:cNvSpPr/>
          <p:nvPr/>
        </p:nvSpPr>
        <p:spPr>
          <a:xfrm>
            <a:off x="2549520" y="1528920"/>
            <a:ext cx="4865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  <a:ea typeface="Arial Narrow"/>
              </a:rPr>
              <a:t>Efficiency of ocean heat uptak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図プレースホルダー 15" descr="gfig.chng.19.ccr.womgs.woohu-kappa.fai.pv.png"/>
          <p:cNvPicPr/>
          <p:nvPr/>
        </p:nvPicPr>
        <p:blipFill>
          <a:blip r:embed="rId1"/>
          <a:srcRect l="0" t="8791" r="0" b="8791"/>
          <a:stretch/>
        </p:blipFill>
        <p:spPr>
          <a:xfrm>
            <a:off x="2700360" y="2060640"/>
            <a:ext cx="4325760" cy="2674800"/>
          </a:xfrm>
          <a:prstGeom prst="rect">
            <a:avLst/>
          </a:prstGeom>
          <a:ln w="0">
            <a:noFill/>
          </a:ln>
        </p:spPr>
      </p:pic>
      <p:sp>
        <p:nvSpPr>
          <p:cNvPr id="467" name="テキスト ボックス 19"/>
          <p:cNvSpPr/>
          <p:nvPr/>
        </p:nvSpPr>
        <p:spPr>
          <a:xfrm>
            <a:off x="2843280" y="1700280"/>
            <a:ext cx="468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3)</a:t>
            </a:r>
            <a:r>
              <a:rPr b="0" lang="ja-JP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Ocean-heat-uptake  (OHU) corrected CC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テキスト ボックス 4"/>
          <p:cNvSpPr/>
          <p:nvPr/>
        </p:nvSpPr>
        <p:spPr>
          <a:xfrm>
            <a:off x="1835280" y="537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CR is moderately scenario dependent in our case, but can be corrected in terms of OHU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図プレースホルダー 7" descr="gfig.chng.17.dTdC.womgs.woohu-kappa.fai.png"/>
          <p:cNvPicPr/>
          <p:nvPr/>
        </p:nvPicPr>
        <p:blipFill>
          <a:blip r:embed="rId1"/>
          <a:srcRect l="0" t="8791" r="0" b="8791"/>
          <a:stretch/>
        </p:blipFill>
        <p:spPr>
          <a:xfrm>
            <a:off x="250920" y="3860640"/>
            <a:ext cx="4327560" cy="2675160"/>
          </a:xfrm>
          <a:prstGeom prst="rect">
            <a:avLst/>
          </a:prstGeom>
          <a:ln w="0">
            <a:noFill/>
          </a:ln>
        </p:spPr>
      </p:pic>
      <p:pic>
        <p:nvPicPr>
          <p:cNvPr id="470" name="図プレースホルダー 5" descr="gfig.chng.17.dTdC.withmgs.png"/>
          <p:cNvPicPr/>
          <p:nvPr/>
        </p:nvPicPr>
        <p:blipFill>
          <a:blip r:embed="rId2"/>
          <a:srcRect l="0" t="8791" r="0" b="8791"/>
          <a:stretch/>
        </p:blipFill>
        <p:spPr>
          <a:xfrm>
            <a:off x="181080" y="779400"/>
            <a:ext cx="4327560" cy="2675160"/>
          </a:xfrm>
          <a:prstGeom prst="rect">
            <a:avLst/>
          </a:prstGeom>
          <a:ln w="0">
            <a:noFill/>
          </a:ln>
        </p:spPr>
      </p:pic>
      <p:pic>
        <p:nvPicPr>
          <p:cNvPr id="471" name="図プレースホルダー 6" descr="gfig.chng.17.dTdC.womgs.fai.png"/>
          <p:cNvPicPr/>
          <p:nvPr/>
        </p:nvPicPr>
        <p:blipFill>
          <a:blip r:embed="rId3"/>
          <a:srcRect l="0" t="8776" r="0" b="8776"/>
          <a:stretch/>
        </p:blipFill>
        <p:spPr>
          <a:xfrm>
            <a:off x="4708440" y="779400"/>
            <a:ext cx="4326120" cy="2675160"/>
          </a:xfrm>
          <a:prstGeom prst="rect">
            <a:avLst/>
          </a:prstGeom>
          <a:ln w="0">
            <a:noFill/>
          </a:ln>
        </p:spPr>
      </p:pic>
      <p:sp>
        <p:nvSpPr>
          <p:cNvPr id="472" name="テキスト ボックス 10"/>
          <p:cNvSpPr/>
          <p:nvPr/>
        </p:nvSpPr>
        <p:spPr>
          <a:xfrm>
            <a:off x="-7920" y="3240"/>
            <a:ext cx="87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  <a:ea typeface="Arial Narrow"/>
              </a:rPr>
              <a:t>Airborne CO2 is again not a good metrics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テキスト ボックス 16"/>
          <p:cNvSpPr/>
          <p:nvPr/>
        </p:nvSpPr>
        <p:spPr>
          <a:xfrm>
            <a:off x="738360" y="528480"/>
            <a:ext cx="34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1) With all anthropogenic forcing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テキスト ボックス 18"/>
          <p:cNvSpPr/>
          <p:nvPr/>
        </p:nvSpPr>
        <p:spPr>
          <a:xfrm>
            <a:off x="5299200" y="528480"/>
            <a:ext cx="34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2) non-CO2 GHG correct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テキスト ボックス 19"/>
          <p:cNvSpPr/>
          <p:nvPr/>
        </p:nvSpPr>
        <p:spPr>
          <a:xfrm>
            <a:off x="162000" y="3565440"/>
            <a:ext cx="4352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3)  Ocean heat uptake correct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mplications for establishing metrics for short-lived and long-lived GHG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402920" y="2178000"/>
            <a:ext cx="7497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It is important to recognize the difference between short-lived and long-lived GHGs with the same GWP, in particular for discussing climate stabilization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For stabilization issues, cumulative emission (CE) of long-lived GHGs may be more desirable than concentration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There may be a moderate scenario dependence of CE, especially for fast scenarios due to that of ocean heat uptake (OHU)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Constraining OHU efficiency may improve the validity of CE as a metrics. 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ntroduction: limitation of single basket approach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443560" cy="2808000"/>
          </a:xfrm>
          <a:prstGeom prst="rect">
            <a:avLst/>
          </a:prstGeom>
          <a:ln w="0">
            <a:noFill/>
          </a:ln>
        </p:spPr>
      </p:pic>
      <p:sp>
        <p:nvSpPr>
          <p:cNvPr id="374" name="テキスト ボックス 5"/>
          <p:cNvSpPr/>
          <p:nvPr/>
        </p:nvSpPr>
        <p:spPr>
          <a:xfrm>
            <a:off x="5580000" y="2781360"/>
            <a:ext cx="35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ethane+640GtC” and “1280GtC, No Methane” have the same forcing in terms of GWP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-&gt; “Single basket approach” does not work for discussing stabilization levels. (Eby et al., 2009; Solomon et al., 2011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テキスト ボックス 6"/>
          <p:cNvSpPr/>
          <p:nvPr/>
        </p:nvSpPr>
        <p:spPr>
          <a:xfrm>
            <a:off x="5940360" y="206064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Forcings for these two lines have the same  value of GWP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76" name="直線矢印コネクタ 8"/>
          <p:cNvCxnSpPr>
            <a:stCxn id="375" idx="1"/>
          </p:cNvCxnSpPr>
          <p:nvPr/>
        </p:nvCxnSpPr>
        <p:spPr>
          <a:xfrm flipH="1" flipV="1">
            <a:off x="3058560" y="2060280"/>
            <a:ext cx="2881800" cy="232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直線矢印コネクタ 9"/>
          <p:cNvCxnSpPr>
            <a:stCxn id="375" idx="1"/>
          </p:cNvCxnSpPr>
          <p:nvPr/>
        </p:nvCxnSpPr>
        <p:spPr>
          <a:xfrm flipH="1">
            <a:off x="3058560" y="2292120"/>
            <a:ext cx="2881800" cy="12924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395280" y="4437000"/>
            <a:ext cx="4911840" cy="2421000"/>
          </a:xfrm>
          <a:prstGeom prst="rect">
            <a:avLst/>
          </a:prstGeom>
          <a:ln w="0">
            <a:noFill/>
          </a:ln>
        </p:spPr>
      </p:pic>
      <p:sp>
        <p:nvSpPr>
          <p:cNvPr id="379" name="テキスト ボックス 13"/>
          <p:cNvSpPr/>
          <p:nvPr/>
        </p:nvSpPr>
        <p:spPr>
          <a:xfrm>
            <a:off x="5219640" y="59500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TP is superior when discussing stabiliz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Different roles of short-lived and long-lived agen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71280" y="1599840"/>
            <a:ext cx="8172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hort-lived: “trim” the peak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Long-lived: determine the stabilization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テキスト ボックス 3"/>
          <p:cNvSpPr/>
          <p:nvPr/>
        </p:nvSpPr>
        <p:spPr>
          <a:xfrm>
            <a:off x="1042920" y="3645000"/>
            <a:ext cx="7850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o-basket approach” is proposed ( Solomon et al., 2011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&gt; GTP for short-lived ag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umulative emission for long-lived ag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2 concentration has been often used as a carbon emission metrics…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テキスト ボックス 7"/>
          <p:cNvSpPr/>
          <p:nvPr/>
        </p:nvSpPr>
        <p:spPr>
          <a:xfrm>
            <a:off x="6369120" y="602136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PCC  AR5 WG3 (2007)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0" y="2349360"/>
            <a:ext cx="90504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…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hen concentration metrics is converted to socio-economic scenarios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492880" cy="3959280"/>
          </a:xfrm>
          <a:prstGeom prst="rect">
            <a:avLst/>
          </a:prstGeom>
          <a:ln w="0">
            <a:noFill/>
          </a:ln>
        </p:spPr>
      </p:pic>
      <p:sp>
        <p:nvSpPr>
          <p:cNvPr id="388" name="テキスト ボックス 3"/>
          <p:cNvSpPr/>
          <p:nvPr/>
        </p:nvSpPr>
        <p:spPr>
          <a:xfrm>
            <a:off x="7071480" y="655020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PCC  AR5 WG3 (2007)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テキスト ボックス 4"/>
          <p:cNvSpPr/>
          <p:nvPr/>
        </p:nvSpPr>
        <p:spPr>
          <a:xfrm>
            <a:off x="1476360" y="5877000"/>
            <a:ext cx="715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O2 emission paths to achieve CO2 concentration stabi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umulative carbon emission as a metric for climate stabilization level and transient climate respons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4051440" cy="3311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5076720" y="2852640"/>
            <a:ext cx="3861000" cy="3264120"/>
          </a:xfrm>
          <a:prstGeom prst="rect">
            <a:avLst/>
          </a:prstGeom>
          <a:ln w="0">
            <a:noFill/>
          </a:ln>
        </p:spPr>
      </p:pic>
      <p:sp>
        <p:nvSpPr>
          <p:cNvPr id="393" name="テキスト ボックス 6"/>
          <p:cNvSpPr/>
          <p:nvPr/>
        </p:nvSpPr>
        <p:spPr>
          <a:xfrm>
            <a:off x="6012000" y="630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atthews et al. (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tifica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テキスト ボックス 2"/>
          <p:cNvSpPr/>
          <p:nvPr/>
        </p:nvSpPr>
        <p:spPr>
          <a:xfrm>
            <a:off x="900000" y="1557360"/>
            <a:ext cx="8244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CR = T/CE = (T/CA)(CA/CE) = α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CR: Climate-carbon response (matthews et al., 2009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α(=T/CA): Temperature rise per unit airborne carb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(=CA/CE): Airborne fra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テキスト ボックス 3"/>
          <p:cNvSpPr/>
          <p:nvPr/>
        </p:nvSpPr>
        <p:spPr>
          <a:xfrm>
            <a:off x="912960" y="3716280"/>
            <a:ext cx="6118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 MT"/>
              </a:rPr>
              <a:t>Cf.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Climate sensitivity: λ=T/F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: Radiative forc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テキスト ボックス 4"/>
          <p:cNvSpPr/>
          <p:nvPr/>
        </p:nvSpPr>
        <p:spPr>
          <a:xfrm>
            <a:off x="1258920" y="544500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CR may be regarded as “earth system sensitivity”, with the forcing being anthropogenic carbon emission rather than radiative forcing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37450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CR may be independent of scenari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4788000" y="765000"/>
            <a:ext cx="4152960" cy="5842080"/>
          </a:xfrm>
          <a:prstGeom prst="rect">
            <a:avLst/>
          </a:prstGeom>
          <a:ln w="0">
            <a:noFill/>
          </a:ln>
        </p:spPr>
      </p:pic>
      <p:sp>
        <p:nvSpPr>
          <p:cNvPr id="400" name="テキスト ボックス 5"/>
          <p:cNvSpPr/>
          <p:nvPr/>
        </p:nvSpPr>
        <p:spPr>
          <a:xfrm>
            <a:off x="5788080" y="6922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%/year incre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テキスト ボックス 6"/>
          <p:cNvSpPr/>
          <p:nvPr/>
        </p:nvSpPr>
        <p:spPr>
          <a:xfrm>
            <a:off x="5657760" y="35002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stanteneous x2 &amp; x4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MIROC-ESM: a GCM-based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arth System Model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5796000" y="3303720"/>
            <a:ext cx="2970000" cy="32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CSR/NIES/FRCG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42(~2.8ºx2.8º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80 (TOA:80km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GC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CO (CCSR/FRCGC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urvilinear grid syste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0.5-1.0)º x 1.4º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4" name="図形グループ 3"/>
          <p:cNvGrpSpPr/>
          <p:nvPr/>
        </p:nvGrpSpPr>
        <p:grpSpPr>
          <a:xfrm>
            <a:off x="1476360" y="4265640"/>
            <a:ext cx="3600360" cy="2592360"/>
            <a:chOff x="1476360" y="4265640"/>
            <a:chExt cx="3600360" cy="2592360"/>
          </a:xfrm>
        </p:grpSpPr>
        <p:sp>
          <p:nvSpPr>
            <p:cNvPr id="405" name="正方形/長方形 5"/>
            <p:cNvSpPr/>
            <p:nvPr/>
          </p:nvSpPr>
          <p:spPr>
            <a:xfrm>
              <a:off x="1476360" y="4309200"/>
              <a:ext cx="3600360" cy="254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6" name="正方形/長方形 7"/>
            <p:cNvSpPr/>
            <p:nvPr/>
          </p:nvSpPr>
          <p:spPr>
            <a:xfrm>
              <a:off x="2085120" y="4778280"/>
              <a:ext cx="2324160" cy="957600"/>
            </a:xfrm>
            <a:prstGeom prst="rect">
              <a:avLst/>
            </a:prstGeom>
            <a:solidFill>
              <a:srgbClr val="fdd7ba"/>
            </a:solidFill>
            <a:ln w="25560">
              <a:solidFill>
                <a:srgbClr val="3891a7"/>
              </a:solidFill>
              <a:round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7" name="正方形/長方形 8"/>
            <p:cNvSpPr/>
            <p:nvPr/>
          </p:nvSpPr>
          <p:spPr>
            <a:xfrm>
              <a:off x="1644840" y="5847840"/>
              <a:ext cx="1454040" cy="891360"/>
            </a:xfrm>
            <a:prstGeom prst="rect">
              <a:avLst/>
            </a:prstGeom>
            <a:solidFill>
              <a:srgbClr val="fcbcbc"/>
            </a:solidFill>
            <a:ln w="25560">
              <a:solidFill>
                <a:srgbClr val="ff0000"/>
              </a:solidFill>
              <a:round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8" name="正方形/長方形 10"/>
            <p:cNvSpPr/>
            <p:nvPr/>
          </p:nvSpPr>
          <p:spPr>
            <a:xfrm>
              <a:off x="3381480" y="5861880"/>
              <a:ext cx="1462320" cy="891360"/>
            </a:xfrm>
            <a:prstGeom prst="rect">
              <a:avLst/>
            </a:prstGeom>
            <a:solidFill>
              <a:srgbClr val="bce292"/>
            </a:solidFill>
            <a:ln w="25560">
              <a:solidFill>
                <a:srgbClr val="00b050"/>
              </a:solidFill>
              <a:round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9" name="テキスト ボックス 10"/>
            <p:cNvSpPr/>
            <p:nvPr/>
          </p:nvSpPr>
          <p:spPr>
            <a:xfrm>
              <a:off x="2051280" y="4778280"/>
              <a:ext cx="2443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Atmosphere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0" name="テキスト ボックス 11"/>
            <p:cNvSpPr/>
            <p:nvPr/>
          </p:nvSpPr>
          <p:spPr>
            <a:xfrm>
              <a:off x="1476360" y="5829480"/>
              <a:ext cx="1760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Ocean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1" name="テキスト ボックス 12"/>
            <p:cNvSpPr/>
            <p:nvPr/>
          </p:nvSpPr>
          <p:spPr>
            <a:xfrm>
              <a:off x="3217320" y="5832000"/>
              <a:ext cx="1760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Land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2" name="テキスト ボックス 13"/>
            <p:cNvSpPr/>
            <p:nvPr/>
          </p:nvSpPr>
          <p:spPr>
            <a:xfrm>
              <a:off x="2193840" y="5033880"/>
              <a:ext cx="211932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MIROC-AGCM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3" name="テキスト ボックス 14"/>
            <p:cNvSpPr/>
            <p:nvPr/>
          </p:nvSpPr>
          <p:spPr>
            <a:xfrm>
              <a:off x="2193840" y="5349240"/>
              <a:ext cx="211932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SPRINTARS (CHASER)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4" name="テキスト ボックス 15"/>
            <p:cNvSpPr/>
            <p:nvPr/>
          </p:nvSpPr>
          <p:spPr>
            <a:xfrm>
              <a:off x="1798560" y="609408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COCO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5" name="テキスト ボックス 16"/>
            <p:cNvSpPr/>
            <p:nvPr/>
          </p:nvSpPr>
          <p:spPr>
            <a:xfrm>
              <a:off x="1798560" y="640944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NPZD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6" name="テキスト ボックス 17"/>
            <p:cNvSpPr/>
            <p:nvPr/>
          </p:nvSpPr>
          <p:spPr>
            <a:xfrm>
              <a:off x="3553560" y="610920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MATSIRO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7" name="テキスト ボックス 18"/>
            <p:cNvSpPr/>
            <p:nvPr/>
          </p:nvSpPr>
          <p:spPr>
            <a:xfrm>
              <a:off x="3551760" y="642384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SEIB-DGVM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8" name="テキスト ボックス 19"/>
            <p:cNvSpPr/>
            <p:nvPr/>
          </p:nvSpPr>
          <p:spPr>
            <a:xfrm>
              <a:off x="2180160" y="4265640"/>
              <a:ext cx="21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403"/>
                  </a:solidFill>
                  <a:latin typeface="HGｺﾞｼｯｸE"/>
                </a:rPr>
                <a:t>MIROC-ESM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419" name="図 20" descr=""/>
          <p:cNvPicPr/>
          <p:nvPr/>
        </p:nvPicPr>
        <p:blipFill>
          <a:blip r:embed="rId1"/>
          <a:stretch/>
        </p:blipFill>
        <p:spPr>
          <a:xfrm>
            <a:off x="390600" y="3565440"/>
            <a:ext cx="1687320" cy="1689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Users\michio\Documents\My Dropbox\論文査読・投稿\Climate Sense\図1地球システム統合モデル_eng.tif"/>
          <p:cNvPicPr/>
          <p:nvPr/>
        </p:nvPicPr>
        <p:blipFill>
          <a:blip r:embed="rId2"/>
          <a:stretch/>
        </p:blipFill>
        <p:spPr>
          <a:xfrm>
            <a:off x="1476360" y="1413000"/>
            <a:ext cx="40575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03:09:04Z</dcterms:created>
  <dc:creator>michio</dc:creator>
  <dc:description/>
  <dc:language>en-US</dc:language>
  <cp:lastModifiedBy>michio</cp:lastModifiedBy>
  <dcterms:modified xsi:type="dcterms:W3CDTF">2012-03-27T21:24:15Z</dcterms:modified>
  <cp:revision>14</cp:revision>
  <dc:subject/>
  <dc:title>Carbon emission metrics and its relevance to metrics for non-CO2 GHGs</dc:title>
</cp:coreProperties>
</file>