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E6A0-F13F-454B-9A26-386E148EDB03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ＭＩＲＯＣ－ＥＳＭへの入力データ（Ｒ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実験結果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E89C-CCD5-4787-9601-0E3C51D758AF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シナリオ別の温暖化のパターン．シナリオ間でパターンはそれほど違わず，全体の平均が違う感じ．我々のモデルは，北極海におけるアイスアルベドフィードバックがちょっと強く，２０４０年までには夏の海氷がなくなってしまう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225A-F7FB-4BB2-BFCC-9AE4B5E6C1D6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OC-ESM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におけるＣＣＲをとってみた．シナリオ依存性が若干あることが分かる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CO2 GHG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効果による温暖化分を取り除いて補正をかけても同じ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61FA-3D01-4731-877C-3D8C2A54623E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もうひとつ，ＣＣＲのシナリオ依存性をもたらす要因としては，海洋の熱吸収が考えられる．すなわち，「遅い」シナリオほど定常に近い状態を保ちながら時間変化していくので，大気から海洋への熱フラックスは小さくなる．すると，単位排出量当たりの温暖化は大きくなる理屈．単一シナリオのなかでは，海洋への熱フラックスが昇温に比例することを利用して，この効果に関する補正をかけることにす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3DDE-84A8-4B81-942E-6D5C91E35406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我々のモデルでは，ＣＣＲには若干のモデル依存性があった．それは海洋熱吸収によるものであり，海洋熱吸収の大きな「速い」シナリオほど見かけのＣＣＲが小さくな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77D7-6096-407C-AF6A-C264F4026126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大気中の人為起源炭素量と昇温の関係をとってみると，海洋熱吸収の効果を除いても値が収束せず，メトリックスとしては累積排出量の方が優れていることが分か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1D81-B0CD-4C5A-B541-385CC6728A98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omon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らが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CRP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に寄せ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paper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で，安定化に向けての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Basket Approach”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限界について指摘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上の図，上から２本目と３本目の線はＧＷＰで見れば同じだが，安定化レベルは全然違う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安定化に向けては，ＧＴＰの方が良い指標だが，五十歩百歩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1ADC-8D2A-4D67-9E38-2462230D9955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CRP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Paper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で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omon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らは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-basket approach”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を提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短寿命成分には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T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長寿命成分（Ｃ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など）には 累積炭素排出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31F5-E61B-40D6-9A0C-A1B32223296E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従来は，ＣＯ２「濃度」がメトリック（基準）になっていた．この表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PCC WG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報告書からとったものだが，一番左の欄にはＣＯ２濃度が来ており，その濃度を達成するための排出削減目安などが記されてい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697A-6DA0-4601-87AC-ECB8C53E28AC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濃度メトリックに基づいて作った排出パスがこれ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ただし，濃度メトリックは「それに基づいて，社会経済学者がシナリオを開発しようとするとき，炭素循環についての知識が要求される」という欠点があ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3E09-B8AD-4CC0-8772-E88E5A97771D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hews et al (2009)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，累積排出量と気温上昇の間に，よい線形の関係があること，その傾きはモデルにより異なる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2 deg.C/TtC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範囲にあることを指摘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5B93-1D01-46C4-AA88-BB189B0CE655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hews et al. (2009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前図の傾き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 Carbon Response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呼び，炭素循環－気候結合モデルのよいメトリックになるとした．「普通の」気候モデルにおける気候感度にあた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7305-AB42-411B-8B03-9831E49D5FCD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hews et al. (2009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ＣＣＲがシナリオに依らないことを例証した（ＣＯ２濃度がよい指標と言えないことも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/CA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を示して指摘）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ただし検討されたのは数例の理想的なシナリオにすぎず，また簡略モデルによる実験であるので，ＲＣＰのようなある程度現実的なシナリオの下でのＧＣＭによる実験結果を見ることには大きな意味がある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ealized model simulations of the CC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Simulation with a 1% per year atmospheric CO 2 increase for 70 years, showing temperature change per unit atmospheric carbon increase (DT/DC A : thin red line, right axis), airborne fraction of cumulative carbon emissions (DC A /E T : thin blue line, left axis) and CCR (thick red line, right axis). In this simulation, cumulative airborne fraction decreased with time owing to a delayed carbon cycle response to a rapid prescribed rate of atmospheric CO 2 increase. This is consistent with saturating carbon sinks at higher atmospheric CO 2 , which leads to an increased airborne fraction of annual emissions with increasing atmospheric CO 2 . b, Simulations with an instantaneous doubling (solid lines) and quadrupling (dashed lines) of atmospheric CO 2 for 1,000 years (colours as in a). In all cases, the cumulative airborne fraction decreased with time, whereas the temperature change per unit atmospheric carbon increased with time; consequently, the CCR (defined as the product of these two quantities) remained constant in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4612-AC1A-4362-960E-45045D73584A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9489-9C3B-482B-990E-0FB09AD07B8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Team MIROC (UT, JAMSTEC, NIES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による地球システムモデル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MIROC-ESM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によるＣＭＩＰ５実験に基づいて，累積炭素排出量と昇温の関係を解析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植生モデルは動的植生モデル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CAF-8CC8-41C9-9DF1-6A78AF9A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B6B1-C383-4C98-A66A-D87A277F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4E4E-7781-47A9-B912-8D19356B1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5075-62F3-4247-9031-5D8B803D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EF50-C36F-486D-9E3F-5DD2C3A3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48B3-6934-40C3-839D-FF2906B3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31E2-C0AD-4AB3-93AD-D1E2F55C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19FB-A557-45F1-8FB8-FDD0CD7A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FB85-D721-4B92-AD19-1305479C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C62E-BFC7-46A4-8007-08B21948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1021-B0C5-4A79-A0F4-D35DB088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1EE5-E8FD-47EA-87B1-3388213A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BFEB-0DB9-4BDA-BEA8-F42F1987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B23A-38D4-4CA3-97B7-D8BED511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182E-ECD1-4551-A860-7A6E6C5E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BC27-7945-4B48-AD5A-62147BD0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8C15-7ED1-4C15-9291-744085B3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D9605-9C95-40A0-BBBA-31697B51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EA159-8F32-4B47-BFCC-C5491DB4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6D8FC-752B-44CB-B7F5-C87E7DB4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F2DFB-96EF-4569-BF0A-91D416CA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55BF8-17B5-48A8-8CA4-A0D23961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5FCC-5E3F-4100-9882-80B913FA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75431-3844-47BC-8589-E9A41964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B728E-8F74-4636-8193-B6C74D94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BBADF-E97A-45E4-B1BC-A6D90EDA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B49FB-FB8D-4CDC-9A13-472423AA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D1AC0-E39F-49AB-BB41-632E7250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E01B4-A128-4E0B-805A-8AB8662D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C9B80-FEA0-4F47-87F2-81E26B64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ECE2A-FC49-4083-B527-B469AA3C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8C2DF-BA77-4DA9-A781-455294B8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33F6F-AFC7-45F6-AC35-CEBC050E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E00-105D-4657-877D-EF4889DD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927D7-FB18-4EDB-84CC-B9A88F13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688CF-A121-4BCE-8A34-9C65A3A3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C178C-D866-43D7-A6D1-56491526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42E4A-1F3F-42F1-B833-334A540E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E08E4-2FD2-4AF5-8290-8675A3B0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52112-F493-49F6-B9E7-24A9A47A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B062A-C3AC-4AB7-9C74-AD7AD6DF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7DB76-24EA-4013-B811-69F978C6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B2FE8-55D9-42DF-9C94-81C48FDD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96BC5-E343-48A1-9BC1-C07ECAC9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16E0-3BC2-4054-9040-F693721D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B0DBD-DA68-4E3D-865E-7AF10662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83D23-D8E2-4F74-8DF2-34A796B9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D2254-51C5-438C-8404-821D9D3D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3961B-F341-484B-A880-208EF0AE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F6380-5BB2-48CB-878F-0EC38FDE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71D4D-66DA-4677-8A6A-051EDAD2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80377-F62A-43CF-A1A1-FECF7260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9E4EC-ADC6-47AC-AF4E-B701EBC2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A94FF-AC4B-4313-93CF-0D96D223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9CADF-1330-421E-AE80-05F1B90E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AB5-08E4-4E84-9289-91242E30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B6E30-93C8-46BA-AAAE-615BED47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575AC-BE9A-40A9-AF35-34DEEFDA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4D119-FAF4-4CBD-80EB-003D46E1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D3557-4B48-4A31-9FFA-EAEC77EA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5F8C4-EBA1-4AEC-90B6-28FFE76E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00D8A-8A6B-4244-8186-9ABF0A46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D2C22-DFD6-49AB-B429-F7A522F8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FF4F3-EE1F-4B6B-A8AC-1E18A572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FF85B-27B1-4BA5-A4BB-A5C2C68F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719D6-0990-4FBC-9639-1310C354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ABFC-D836-4781-BAAC-EB9EFDEF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D195A-6957-4485-9B2E-65407A93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0A42D-14C5-4E12-9144-90419D82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90586-1A34-49A5-B218-F25711F0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5E619-AD85-49DC-BB8E-6946CF8E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0070F-0936-45FF-A4A5-DB11A624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ABFC8-1AC8-4F34-A65F-93EF79D8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1938B-B41D-4D8D-A3EE-BE0557F4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B75FA-11CF-4738-AC06-8B2B6374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7246D-42F4-4B2B-BEAD-11B90BD8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4A6C6-012E-46D6-8D79-22C2F545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163F-C557-4D31-B9D2-6AA12BD7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C12E2-A370-463F-9D5C-1BDA1CB9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CA32A-7700-4806-8AFF-4C09E416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57903-EB3E-49D0-A2BD-2D55491C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8D51B-DEDB-4792-BBBE-91A28A7D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9EA6E-95CC-4A7E-AF9D-59815934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B221-919F-4B84-817F-D6970C2C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D6F6-50A4-4E30-B0C1-F929CD6AE835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円/楕円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円/楕円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円/楕円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541C-0CA8-4F2F-B44E-2274AB1BBD00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正方形/長方形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正方形/長方形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円/楕円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円/楕円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円/楕円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7E20-A9A9-49F3-A78E-284793AFA291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7746-58E0-499E-AA32-BD3C86618EDC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正方形/長方形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正方形/長方形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4242-35F5-4A22-85D8-9F72726F0EAA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5694-A3DF-4278-8875-D11EA0943B95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正方形/長方形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正方形/長方形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フローチャート: 処理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フローチャート: 処理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9DC0-C066-4A7E-B903-85E4E0805988}" type="slidenum">
              <a:rPr b="0" lang="ja-JP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0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23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58920" y="836280"/>
            <a:ext cx="719784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572314"/>
                </a:solidFill>
                <a:latin typeface="Gill Sans MT"/>
              </a:rPr>
              <a:t>Carbon emission metrics for climate stabilization and the implications to metrics</a:t>
            </a:r>
            <a:br>
              <a:rPr sz="3900"/>
            </a:br>
            <a:r>
              <a:rPr b="0" i="1" lang="en-US" sz="3900" spc="-1" strike="noStrike">
                <a:solidFill>
                  <a:srgbClr val="572314"/>
                </a:solidFill>
                <a:latin typeface="Gill Sans MT"/>
              </a:rPr>
              <a:t>for non-CO2 GHG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Michio Kawamiy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Research Institute for Global Chan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apan Agency for Marine-earth Science and Technolog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Global warming projection with MIROC-ESM under RCP scenario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22" name="Picture 2" descr="C:\Users\michio\Documents\My Dropbox\セミナー、講演\ボン12年4月\CO2scenario.png"/>
          <p:cNvPicPr/>
          <p:nvPr/>
        </p:nvPicPr>
        <p:blipFill>
          <a:blip r:embed="rId1"/>
          <a:stretch/>
        </p:blipFill>
        <p:spPr>
          <a:xfrm>
            <a:off x="1042920" y="2492280"/>
            <a:ext cx="4140360" cy="30416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C:\Users\michio\Documents\My Dropbox\セミナー、講演\ボン12年4月\T2timeseries.png"/>
          <p:cNvPicPr/>
          <p:nvPr/>
        </p:nvPicPr>
        <p:blipFill>
          <a:blip r:embed="rId2"/>
          <a:stretch/>
        </p:blipFill>
        <p:spPr>
          <a:xfrm>
            <a:off x="5137200" y="2492280"/>
            <a:ext cx="40068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rcRect l="0" t="2377" r="0" b="0"/>
          <a:stretch/>
        </p:blipFill>
        <p:spPr>
          <a:xfrm>
            <a:off x="252360" y="260280"/>
            <a:ext cx="8658360" cy="5977080"/>
          </a:xfrm>
          <a:prstGeom prst="rect">
            <a:avLst/>
          </a:prstGeom>
          <a:ln w="0">
            <a:noFill/>
          </a:ln>
        </p:spPr>
      </p:pic>
      <p:sp>
        <p:nvSpPr>
          <p:cNvPr id="426" name="テキスト ボックス 3"/>
          <p:cNvSpPr/>
          <p:nvPr/>
        </p:nvSpPr>
        <p:spPr>
          <a:xfrm>
            <a:off x="70920" y="0"/>
            <a:ext cx="16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ROC-ESM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結果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テキスト ボックス 4"/>
          <p:cNvSpPr/>
          <p:nvPr/>
        </p:nvSpPr>
        <p:spPr>
          <a:xfrm>
            <a:off x="2124000" y="333360"/>
            <a:ext cx="4824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emperature Rise averaged over 2090’s relative to 1980-1999 averag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limate Carbon Response in MIROC-ESM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29" name="図プレースホルダー 7" descr="gfig.chng.19.ccr.womgs.fai.pv.png"/>
          <p:cNvPicPr/>
          <p:nvPr/>
        </p:nvPicPr>
        <p:blipFill>
          <a:blip r:embed="rId1"/>
          <a:srcRect l="-10662" t="0" r="-10662" b="0"/>
          <a:stretch/>
        </p:blipFill>
        <p:spPr>
          <a:xfrm>
            <a:off x="4643280" y="2852640"/>
            <a:ext cx="4327560" cy="2675160"/>
          </a:xfrm>
          <a:prstGeom prst="rect">
            <a:avLst/>
          </a:prstGeom>
          <a:ln w="0">
            <a:noFill/>
          </a:ln>
        </p:spPr>
      </p:pic>
      <p:pic>
        <p:nvPicPr>
          <p:cNvPr id="430" name="図プレースホルダー 6" descr="gfig.chng.19.ccr.withmgs.pv.png"/>
          <p:cNvPicPr/>
          <p:nvPr/>
        </p:nvPicPr>
        <p:blipFill>
          <a:blip r:embed="rId2"/>
          <a:srcRect l="-10662" t="0" r="-10662" b="0"/>
          <a:stretch/>
        </p:blipFill>
        <p:spPr>
          <a:xfrm>
            <a:off x="-306360" y="2816280"/>
            <a:ext cx="4327560" cy="2674800"/>
          </a:xfrm>
          <a:prstGeom prst="rect">
            <a:avLst/>
          </a:prstGeom>
          <a:ln w="0">
            <a:noFill/>
          </a:ln>
        </p:spPr>
      </p:pic>
      <p:sp>
        <p:nvSpPr>
          <p:cNvPr id="431" name="テキスト ボックス 16"/>
          <p:cNvSpPr/>
          <p:nvPr/>
        </p:nvSpPr>
        <p:spPr>
          <a:xfrm>
            <a:off x="250920" y="2565360"/>
            <a:ext cx="3492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1) With all anthropogenic forcing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テキスト ボックス 18"/>
          <p:cNvSpPr/>
          <p:nvPr/>
        </p:nvSpPr>
        <p:spPr>
          <a:xfrm>
            <a:off x="4944960" y="2602080"/>
            <a:ext cx="3492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2) non-CO2 GHG corrected CC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テキスト ボックス 26"/>
          <p:cNvSpPr/>
          <p:nvPr/>
        </p:nvSpPr>
        <p:spPr>
          <a:xfrm>
            <a:off x="3402000" y="3032280"/>
            <a:ext cx="16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CP2.6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テキスト ボックス 27"/>
          <p:cNvSpPr/>
          <p:nvPr/>
        </p:nvSpPr>
        <p:spPr>
          <a:xfrm>
            <a:off x="3402000" y="38242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Gill Sans MT"/>
              </a:rPr>
              <a:t>RCP6.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テキスト ボックス 28"/>
          <p:cNvSpPr/>
          <p:nvPr/>
        </p:nvSpPr>
        <p:spPr>
          <a:xfrm>
            <a:off x="3402000" y="331956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RCP4.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テキスト ボックス 29"/>
          <p:cNvSpPr/>
          <p:nvPr/>
        </p:nvSpPr>
        <p:spPr>
          <a:xfrm>
            <a:off x="3402000" y="360828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RCP8.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テキスト ボックス 21"/>
          <p:cNvSpPr/>
          <p:nvPr/>
        </p:nvSpPr>
        <p:spPr>
          <a:xfrm>
            <a:off x="8423280" y="32353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2.6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テキスト ボックス 22"/>
          <p:cNvSpPr/>
          <p:nvPr/>
        </p:nvSpPr>
        <p:spPr>
          <a:xfrm>
            <a:off x="8421840" y="3822840"/>
            <a:ext cx="12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Gill Sans MT"/>
              </a:rPr>
              <a:t>R6.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テキスト ボックス 23"/>
          <p:cNvSpPr/>
          <p:nvPr/>
        </p:nvSpPr>
        <p:spPr>
          <a:xfrm>
            <a:off x="8424720" y="355608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R4.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テキスト ボックス 24"/>
          <p:cNvSpPr/>
          <p:nvPr/>
        </p:nvSpPr>
        <p:spPr>
          <a:xfrm>
            <a:off x="8418600" y="40766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R8.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nother possible cause for scenario dependence of CCR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442" name="図形グループ 17"/>
          <p:cNvGrpSpPr/>
          <p:nvPr/>
        </p:nvGrpSpPr>
        <p:grpSpPr>
          <a:xfrm>
            <a:off x="1685880" y="1457280"/>
            <a:ext cx="6840720" cy="5400720"/>
            <a:chOff x="1685880" y="1457280"/>
            <a:chExt cx="6840720" cy="5400720"/>
          </a:xfrm>
        </p:grpSpPr>
        <p:sp>
          <p:nvSpPr>
            <p:cNvPr id="443" name="角丸四角形 4"/>
            <p:cNvSpPr/>
            <p:nvPr/>
          </p:nvSpPr>
          <p:spPr>
            <a:xfrm>
              <a:off x="1685880" y="1457280"/>
              <a:ext cx="6815880" cy="5400720"/>
            </a:xfrm>
            <a:prstGeom prst="roundRect">
              <a:avLst>
                <a:gd name="adj" fmla="val 715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444" name="図形グループ 48"/>
            <p:cNvGrpSpPr/>
            <p:nvPr/>
          </p:nvGrpSpPr>
          <p:grpSpPr>
            <a:xfrm>
              <a:off x="1876680" y="1539720"/>
              <a:ext cx="3653280" cy="3065040"/>
              <a:chOff x="1876680" y="1539720"/>
              <a:chExt cx="3653280" cy="3065040"/>
            </a:xfrm>
          </p:grpSpPr>
          <p:grpSp>
            <p:nvGrpSpPr>
              <p:cNvPr id="445" name="図形グループ 31"/>
              <p:cNvGrpSpPr/>
              <p:nvPr/>
            </p:nvGrpSpPr>
            <p:grpSpPr>
              <a:xfrm>
                <a:off x="1876680" y="1539720"/>
                <a:ext cx="3653280" cy="3065040"/>
                <a:chOff x="1876680" y="1539720"/>
                <a:chExt cx="3653280" cy="3065040"/>
              </a:xfrm>
            </p:grpSpPr>
            <p:pic>
              <p:nvPicPr>
                <p:cNvPr id="446" name="直線矢印コネクタ 2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42800" y="3803760"/>
                  <a:ext cx="2822760" cy="383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直線矢印コネクタ 2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383200" y="2145600"/>
                  <a:ext cx="383760" cy="2042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直線コネクタ 2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486880" y="2377080"/>
                  <a:ext cx="1883880" cy="170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直線コネクタ 2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493000" y="3450240"/>
                  <a:ext cx="1658160" cy="640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0" name="テキスト ボックス 24"/>
                <p:cNvSpPr/>
                <p:nvPr/>
              </p:nvSpPr>
              <p:spPr>
                <a:xfrm>
                  <a:off x="2734920" y="4000320"/>
                  <a:ext cx="2795040" cy="50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Global temperature</a:t>
                  </a:r>
                  <a:endParaRPr b="0" lang="en-US" sz="1800" spc="-1" strike="noStrike">
                    <a:solidFill>
                      <a:srgbClr val="000000"/>
                    </a:solidFill>
                    <a:latin typeface="Gill Sans MT"/>
                  </a:endParaRPr>
                </a:p>
                <a:p>
                  <a:pPr>
                    <a:lnSpc>
                      <a:spcPts val="1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change</a:t>
                  </a:r>
                  <a:endParaRPr b="0" lang="en-US" sz="1800" spc="-1" strike="noStrike">
                    <a:solidFill>
                      <a:srgbClr val="000000"/>
                    </a:solidFill>
                    <a:latin typeface="Gill Sans MT"/>
                  </a:endParaRPr>
                </a:p>
              </p:txBody>
            </p:sp>
            <p:sp>
              <p:nvSpPr>
                <p:cNvPr id="451" name="テキスト ボックス 25"/>
                <p:cNvSpPr/>
                <p:nvPr/>
              </p:nvSpPr>
              <p:spPr>
                <a:xfrm rot="16200000">
                  <a:off x="528120" y="2887920"/>
                  <a:ext cx="306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Ocean heat uptake</a:t>
                  </a:r>
                  <a:endParaRPr b="0" lang="en-US" sz="1800" spc="-1" strike="noStrike">
                    <a:solidFill>
                      <a:srgbClr val="000000"/>
                    </a:solidFill>
                    <a:latin typeface="Gill Sans MT"/>
                  </a:endParaRPr>
                </a:p>
              </p:txBody>
            </p:sp>
          </p:grpSp>
          <p:sp>
            <p:nvSpPr>
              <p:cNvPr id="452" name="テキスト ボックス 18"/>
              <p:cNvSpPr/>
              <p:nvPr/>
            </p:nvSpPr>
            <p:spPr>
              <a:xfrm>
                <a:off x="2797920" y="1972800"/>
                <a:ext cx="217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Scenario A</a:t>
                </a: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453" name="テキスト ボックス 19"/>
              <p:cNvSpPr/>
              <p:nvPr/>
            </p:nvSpPr>
            <p:spPr>
              <a:xfrm>
                <a:off x="3337920" y="3021480"/>
                <a:ext cx="217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Scenario B</a:t>
                </a: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454" name="図形グループ 41"/>
            <p:cNvGrpSpPr/>
            <p:nvPr/>
          </p:nvGrpSpPr>
          <p:grpSpPr>
            <a:xfrm>
              <a:off x="2145960" y="5305320"/>
              <a:ext cx="2805480" cy="1333800"/>
              <a:chOff x="2145960" y="5305320"/>
              <a:chExt cx="2805480" cy="1333800"/>
            </a:xfrm>
          </p:grpSpPr>
          <p:pic>
            <p:nvPicPr>
              <p:cNvPr id="455" name="正方形/長方形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2145960" y="5305320"/>
                <a:ext cx="2805480" cy="76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6" name="正方形/長方形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2145960" y="6104520"/>
                <a:ext cx="2805480" cy="53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下矢印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3142440" y="5742720"/>
                <a:ext cx="794880" cy="615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8" name="図形グループ 42"/>
            <p:cNvGrpSpPr/>
            <p:nvPr/>
          </p:nvGrpSpPr>
          <p:grpSpPr>
            <a:xfrm>
              <a:off x="5448240" y="5305320"/>
              <a:ext cx="2805480" cy="1353960"/>
              <a:chOff x="5448240" y="5305320"/>
              <a:chExt cx="2805480" cy="1353960"/>
            </a:xfrm>
          </p:grpSpPr>
          <p:pic>
            <p:nvPicPr>
              <p:cNvPr id="459" name="正方形/長方形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5448240" y="5305320"/>
                <a:ext cx="2805480" cy="78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0" name="正方形/長方形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5448240" y="6112440"/>
                <a:ext cx="2805480" cy="54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1" name="下矢印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6623280" y="5765760"/>
                <a:ext cx="443520" cy="61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2" name="テキスト ボックス 8"/>
            <p:cNvSpPr/>
            <p:nvPr/>
          </p:nvSpPr>
          <p:spPr>
            <a:xfrm>
              <a:off x="2424240" y="4762800"/>
              <a:ext cx="21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cenario A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63" name="テキスト ボックス 9"/>
            <p:cNvSpPr/>
            <p:nvPr/>
          </p:nvSpPr>
          <p:spPr>
            <a:xfrm>
              <a:off x="5758920" y="4785480"/>
              <a:ext cx="21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cenario B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64" name="テキスト ボックス 10"/>
            <p:cNvSpPr/>
            <p:nvPr/>
          </p:nvSpPr>
          <p:spPr>
            <a:xfrm>
              <a:off x="5701680" y="2101680"/>
              <a:ext cx="2824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hanges in ocean heat uptake: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Q =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W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LW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H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LH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=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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65" name="テキスト ボックス 26"/>
          <p:cNvSpPr/>
          <p:nvPr/>
        </p:nvSpPr>
        <p:spPr>
          <a:xfrm>
            <a:off x="2549520" y="1528920"/>
            <a:ext cx="4865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  <a:ea typeface="Arial Narrow"/>
              </a:rPr>
              <a:t>Efficiency of ocean heat uptak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図プレースホルダー 15" descr="gfig.chng.19.ccr.womgs.woohu-kappa.fai.pv.png"/>
          <p:cNvPicPr/>
          <p:nvPr/>
        </p:nvPicPr>
        <p:blipFill>
          <a:blip r:embed="rId1"/>
          <a:srcRect l="0" t="8791" r="0" b="8791"/>
          <a:stretch/>
        </p:blipFill>
        <p:spPr>
          <a:xfrm>
            <a:off x="2700360" y="2060640"/>
            <a:ext cx="4325760" cy="2674800"/>
          </a:xfrm>
          <a:prstGeom prst="rect">
            <a:avLst/>
          </a:prstGeom>
          <a:ln w="0">
            <a:noFill/>
          </a:ln>
        </p:spPr>
      </p:pic>
      <p:sp>
        <p:nvSpPr>
          <p:cNvPr id="467" name="テキスト ボックス 19"/>
          <p:cNvSpPr/>
          <p:nvPr/>
        </p:nvSpPr>
        <p:spPr>
          <a:xfrm>
            <a:off x="2843280" y="1700280"/>
            <a:ext cx="4681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3)</a:t>
            </a:r>
            <a:r>
              <a:rPr b="0" lang="ja-JP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Ocean-heat-uptake  (OHU) corrected CC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テキスト ボックス 4"/>
          <p:cNvSpPr/>
          <p:nvPr/>
        </p:nvSpPr>
        <p:spPr>
          <a:xfrm>
            <a:off x="1835280" y="5373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CR is moderately scenario dependent in our case, but can be corrected in terms of OHU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図プレースホルダー 7" descr="gfig.chng.17.dTdC.womgs.woohu-kappa.fai.png"/>
          <p:cNvPicPr/>
          <p:nvPr/>
        </p:nvPicPr>
        <p:blipFill>
          <a:blip r:embed="rId1"/>
          <a:srcRect l="0" t="8791" r="0" b="8791"/>
          <a:stretch/>
        </p:blipFill>
        <p:spPr>
          <a:xfrm>
            <a:off x="250920" y="3860640"/>
            <a:ext cx="4327560" cy="2675160"/>
          </a:xfrm>
          <a:prstGeom prst="rect">
            <a:avLst/>
          </a:prstGeom>
          <a:ln w="0">
            <a:noFill/>
          </a:ln>
        </p:spPr>
      </p:pic>
      <p:pic>
        <p:nvPicPr>
          <p:cNvPr id="470" name="図プレースホルダー 5" descr="gfig.chng.17.dTdC.withmgs.png"/>
          <p:cNvPicPr/>
          <p:nvPr/>
        </p:nvPicPr>
        <p:blipFill>
          <a:blip r:embed="rId2"/>
          <a:srcRect l="0" t="8791" r="0" b="8791"/>
          <a:stretch/>
        </p:blipFill>
        <p:spPr>
          <a:xfrm>
            <a:off x="181080" y="779400"/>
            <a:ext cx="4327560" cy="2675160"/>
          </a:xfrm>
          <a:prstGeom prst="rect">
            <a:avLst/>
          </a:prstGeom>
          <a:ln w="0">
            <a:noFill/>
          </a:ln>
        </p:spPr>
      </p:pic>
      <p:pic>
        <p:nvPicPr>
          <p:cNvPr id="471" name="図プレースホルダー 6" descr="gfig.chng.17.dTdC.womgs.fai.png"/>
          <p:cNvPicPr/>
          <p:nvPr/>
        </p:nvPicPr>
        <p:blipFill>
          <a:blip r:embed="rId3"/>
          <a:srcRect l="0" t="8776" r="0" b="8776"/>
          <a:stretch/>
        </p:blipFill>
        <p:spPr>
          <a:xfrm>
            <a:off x="4708440" y="779400"/>
            <a:ext cx="4326120" cy="2675160"/>
          </a:xfrm>
          <a:prstGeom prst="rect">
            <a:avLst/>
          </a:prstGeom>
          <a:ln w="0">
            <a:noFill/>
          </a:ln>
        </p:spPr>
      </p:pic>
      <p:sp>
        <p:nvSpPr>
          <p:cNvPr id="472" name="テキスト ボックス 10"/>
          <p:cNvSpPr/>
          <p:nvPr/>
        </p:nvSpPr>
        <p:spPr>
          <a:xfrm>
            <a:off x="-7920" y="3240"/>
            <a:ext cx="87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  <a:ea typeface="Arial Narrow"/>
              </a:rPr>
              <a:t>Airborne CO2 is again not a good metrics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テキスト ボックス 16"/>
          <p:cNvSpPr/>
          <p:nvPr/>
        </p:nvSpPr>
        <p:spPr>
          <a:xfrm>
            <a:off x="738360" y="528480"/>
            <a:ext cx="3492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1) With all anthropogenic forcing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テキスト ボックス 18"/>
          <p:cNvSpPr/>
          <p:nvPr/>
        </p:nvSpPr>
        <p:spPr>
          <a:xfrm>
            <a:off x="5299200" y="528480"/>
            <a:ext cx="3492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2) non-CO2 GHG correcte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テキスト ボックス 19"/>
          <p:cNvSpPr/>
          <p:nvPr/>
        </p:nvSpPr>
        <p:spPr>
          <a:xfrm>
            <a:off x="162000" y="3565440"/>
            <a:ext cx="4352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3)  Ocean heat uptake correcte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9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Implications for establishing metrics for short-lived and long-lived GHG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402920" y="2178000"/>
            <a:ext cx="7497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It is important to recognize the difference between short-lived and long-lived GHGs with the same GWP, in particular for discussing climate stabilization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For stabilization issues, cumulative emission (CE) of long-lived GHGs may be more desirable than concentration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There may be a moderate scenario dependence of CE, especially for fast scenarios due to that of ocean heat uptake (OHU)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Constraining OHU efficiency may improve the validity of CE as a metrics. 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Introduction: limitation of single basket approach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443560" cy="2808000"/>
          </a:xfrm>
          <a:prstGeom prst="rect">
            <a:avLst/>
          </a:prstGeom>
          <a:ln w="0">
            <a:noFill/>
          </a:ln>
        </p:spPr>
      </p:pic>
      <p:sp>
        <p:nvSpPr>
          <p:cNvPr id="374" name="テキスト ボックス 5"/>
          <p:cNvSpPr/>
          <p:nvPr/>
        </p:nvSpPr>
        <p:spPr>
          <a:xfrm>
            <a:off x="5580000" y="2781360"/>
            <a:ext cx="356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ethane+640GtC” and “1280GtC, No Methane” have the same forcing in terms of GWP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-&gt; “Single basket approach” does not work for discussing stabilization levels. (Eby et al., 2009; Solomon et al., 2011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テキスト ボックス 6"/>
          <p:cNvSpPr/>
          <p:nvPr/>
        </p:nvSpPr>
        <p:spPr>
          <a:xfrm>
            <a:off x="5940360" y="2060640"/>
            <a:ext cx="23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Forcings for these two lines have the same  value of GWP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376" name="直線矢印コネクタ 8"/>
          <p:cNvCxnSpPr>
            <a:stCxn id="375" idx="1"/>
          </p:cNvCxnSpPr>
          <p:nvPr/>
        </p:nvCxnSpPr>
        <p:spPr>
          <a:xfrm flipH="1" flipV="1">
            <a:off x="3058560" y="2060280"/>
            <a:ext cx="2881800" cy="232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直線矢印コネクタ 9"/>
          <p:cNvCxnSpPr>
            <a:stCxn id="375" idx="1"/>
          </p:cNvCxnSpPr>
          <p:nvPr/>
        </p:nvCxnSpPr>
        <p:spPr>
          <a:xfrm flipH="1">
            <a:off x="3058560" y="2292120"/>
            <a:ext cx="2881800" cy="12924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395280" y="4437000"/>
            <a:ext cx="4911840" cy="2421000"/>
          </a:xfrm>
          <a:prstGeom prst="rect">
            <a:avLst/>
          </a:prstGeom>
          <a:ln w="0">
            <a:noFill/>
          </a:ln>
        </p:spPr>
      </p:pic>
      <p:sp>
        <p:nvSpPr>
          <p:cNvPr id="379" name="テキスト ボックス 13"/>
          <p:cNvSpPr/>
          <p:nvPr/>
        </p:nvSpPr>
        <p:spPr>
          <a:xfrm>
            <a:off x="5219640" y="595008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TP is superior when discussing stabiliz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Different roles of short-lived and long-lived agent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71280" y="1599840"/>
            <a:ext cx="8172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hort-lived: “trim” the peak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Long-lived: determine the stabilization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テキスト ボックス 3"/>
          <p:cNvSpPr/>
          <p:nvPr/>
        </p:nvSpPr>
        <p:spPr>
          <a:xfrm>
            <a:off x="1042920" y="3645000"/>
            <a:ext cx="7850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wo-basket approach” is proposed ( Solomon et al., 2011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&gt; GTP for short-lived ag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umulative emission for long-lived ag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O2 concentration has been often used as a carbon emission metrics…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テキスト ボックス 7"/>
          <p:cNvSpPr/>
          <p:nvPr/>
        </p:nvSpPr>
        <p:spPr>
          <a:xfrm>
            <a:off x="6369120" y="6021360"/>
            <a:ext cx="221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PCC  AR5 WG3 (2007)</a:t>
            </a:r>
            <a:r>
              <a:rPr b="0" lang="ja-JP" sz="1400" spc="-1" strike="noStrike">
                <a:solidFill>
                  <a:srgbClr val="000000"/>
                </a:solidFill>
                <a:latin typeface="Gill Sans MT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5" name="Picture 9" descr=""/>
          <p:cNvPicPr/>
          <p:nvPr/>
        </p:nvPicPr>
        <p:blipFill>
          <a:blip r:embed="rId1"/>
          <a:stretch/>
        </p:blipFill>
        <p:spPr>
          <a:xfrm>
            <a:off x="0" y="2349360"/>
            <a:ext cx="90504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…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hen concentration metrics is converted to socio-economic scenarios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492880" cy="3959280"/>
          </a:xfrm>
          <a:prstGeom prst="rect">
            <a:avLst/>
          </a:prstGeom>
          <a:ln w="0">
            <a:noFill/>
          </a:ln>
        </p:spPr>
      </p:pic>
      <p:sp>
        <p:nvSpPr>
          <p:cNvPr id="388" name="テキスト ボックス 3"/>
          <p:cNvSpPr/>
          <p:nvPr/>
        </p:nvSpPr>
        <p:spPr>
          <a:xfrm>
            <a:off x="7071480" y="6550200"/>
            <a:ext cx="221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PCC  AR5 WG3 (2007)</a:t>
            </a:r>
            <a:r>
              <a:rPr b="0" lang="ja-JP" sz="1400" spc="-1" strike="noStrike">
                <a:solidFill>
                  <a:srgbClr val="000000"/>
                </a:solidFill>
                <a:latin typeface="Gill Sans MT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テキスト ボックス 4"/>
          <p:cNvSpPr/>
          <p:nvPr/>
        </p:nvSpPr>
        <p:spPr>
          <a:xfrm>
            <a:off x="1476360" y="5877000"/>
            <a:ext cx="715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O2 emission paths to achieve CO2 concentration stabiliz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umulative carbon emission as a metric for climate stabilization level and transient climate respons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4051440" cy="3311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5076720" y="2852640"/>
            <a:ext cx="3861000" cy="3264120"/>
          </a:xfrm>
          <a:prstGeom prst="rect">
            <a:avLst/>
          </a:prstGeom>
          <a:ln w="0">
            <a:noFill/>
          </a:ln>
        </p:spPr>
      </p:pic>
      <p:sp>
        <p:nvSpPr>
          <p:cNvPr id="393" name="テキスト ボックス 6"/>
          <p:cNvSpPr/>
          <p:nvPr/>
        </p:nvSpPr>
        <p:spPr>
          <a:xfrm>
            <a:off x="6012000" y="6308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atthews et al. (2009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tifica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テキスト ボックス 2"/>
          <p:cNvSpPr/>
          <p:nvPr/>
        </p:nvSpPr>
        <p:spPr>
          <a:xfrm>
            <a:off x="900000" y="1557360"/>
            <a:ext cx="82440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CR = T/CE = (T/CA)(CA/CE) = αA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CR: Climate-carbon response (matthews et al., 2009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α(=T/CA): Temperature rise per unit airborne carb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(=CA/CE): Airborne fra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テキスト ボックス 3"/>
          <p:cNvSpPr/>
          <p:nvPr/>
        </p:nvSpPr>
        <p:spPr>
          <a:xfrm>
            <a:off x="912960" y="3716280"/>
            <a:ext cx="6118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ill Sans MT"/>
              </a:rPr>
              <a:t>Cf.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Climate sensitivity: λ=T/F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: Radiative forc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テキスト ボックス 4"/>
          <p:cNvSpPr/>
          <p:nvPr/>
        </p:nvSpPr>
        <p:spPr>
          <a:xfrm>
            <a:off x="1258920" y="544500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CR may be regarded as “earth system sensitivity”, with the forcing being anthropogenic carbon emission rather than radiative forcing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374508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CR may be independent of scenari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4788000" y="765000"/>
            <a:ext cx="4152960" cy="5842080"/>
          </a:xfrm>
          <a:prstGeom prst="rect">
            <a:avLst/>
          </a:prstGeom>
          <a:ln w="0">
            <a:noFill/>
          </a:ln>
        </p:spPr>
      </p:pic>
      <p:sp>
        <p:nvSpPr>
          <p:cNvPr id="400" name="テキスト ボックス 5"/>
          <p:cNvSpPr/>
          <p:nvPr/>
        </p:nvSpPr>
        <p:spPr>
          <a:xfrm>
            <a:off x="5788080" y="69228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1%/year incre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テキスト ボックス 6"/>
          <p:cNvSpPr/>
          <p:nvPr/>
        </p:nvSpPr>
        <p:spPr>
          <a:xfrm>
            <a:off x="5657760" y="35002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stanteneous x2 &amp; x4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MIROC-ESM: a GCM-based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arth System Model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5796000" y="3303720"/>
            <a:ext cx="2970000" cy="328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GC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CSR/NIES/FRCG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42(~2.8ºx2.8º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80 (TOA:80km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GC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CO (CCSR/FRCGC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urvilinear grid syste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0.5-1.0)º x 1.4º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4" name="図形グループ 3"/>
          <p:cNvGrpSpPr/>
          <p:nvPr/>
        </p:nvGrpSpPr>
        <p:grpSpPr>
          <a:xfrm>
            <a:off x="1476360" y="4265640"/>
            <a:ext cx="3600360" cy="2592360"/>
            <a:chOff x="1476360" y="4265640"/>
            <a:chExt cx="3600360" cy="2592360"/>
          </a:xfrm>
        </p:grpSpPr>
        <p:sp>
          <p:nvSpPr>
            <p:cNvPr id="405" name="正方形/長方形 5"/>
            <p:cNvSpPr/>
            <p:nvPr/>
          </p:nvSpPr>
          <p:spPr>
            <a:xfrm>
              <a:off x="1476360" y="4309200"/>
              <a:ext cx="3600360" cy="254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6" name="正方形/長方形 7"/>
            <p:cNvSpPr/>
            <p:nvPr/>
          </p:nvSpPr>
          <p:spPr>
            <a:xfrm>
              <a:off x="2085120" y="4778280"/>
              <a:ext cx="2324160" cy="957600"/>
            </a:xfrm>
            <a:prstGeom prst="rect">
              <a:avLst/>
            </a:prstGeom>
            <a:solidFill>
              <a:srgbClr val="fdd7ba"/>
            </a:solidFill>
            <a:ln w="25560">
              <a:solidFill>
                <a:srgbClr val="3891a7"/>
              </a:solidFill>
              <a:round/>
            </a:ln>
            <a:effectLst>
              <a:outerShdw dist="19040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7" name="正方形/長方形 8"/>
            <p:cNvSpPr/>
            <p:nvPr/>
          </p:nvSpPr>
          <p:spPr>
            <a:xfrm>
              <a:off x="1644840" y="5847840"/>
              <a:ext cx="1454040" cy="891360"/>
            </a:xfrm>
            <a:prstGeom prst="rect">
              <a:avLst/>
            </a:prstGeom>
            <a:solidFill>
              <a:srgbClr val="fcbcbc"/>
            </a:solidFill>
            <a:ln w="25560">
              <a:solidFill>
                <a:srgbClr val="ff0000"/>
              </a:solidFill>
              <a:round/>
            </a:ln>
            <a:effectLst>
              <a:outerShdw dist="19040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8" name="正方形/長方形 10"/>
            <p:cNvSpPr/>
            <p:nvPr/>
          </p:nvSpPr>
          <p:spPr>
            <a:xfrm>
              <a:off x="3381480" y="5861880"/>
              <a:ext cx="1462320" cy="891360"/>
            </a:xfrm>
            <a:prstGeom prst="rect">
              <a:avLst/>
            </a:prstGeom>
            <a:solidFill>
              <a:srgbClr val="bce292"/>
            </a:solidFill>
            <a:ln w="25560">
              <a:solidFill>
                <a:srgbClr val="00b050"/>
              </a:solidFill>
              <a:round/>
            </a:ln>
            <a:effectLst>
              <a:outerShdw dist="19040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9" name="テキスト ボックス 10"/>
            <p:cNvSpPr/>
            <p:nvPr/>
          </p:nvSpPr>
          <p:spPr>
            <a:xfrm>
              <a:off x="2051280" y="4778280"/>
              <a:ext cx="2443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Atmosphere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0" name="テキスト ボックス 11"/>
            <p:cNvSpPr/>
            <p:nvPr/>
          </p:nvSpPr>
          <p:spPr>
            <a:xfrm>
              <a:off x="1476360" y="5829480"/>
              <a:ext cx="1760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Ocean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1" name="テキスト ボックス 12"/>
            <p:cNvSpPr/>
            <p:nvPr/>
          </p:nvSpPr>
          <p:spPr>
            <a:xfrm>
              <a:off x="3217320" y="5832000"/>
              <a:ext cx="1760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Land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2" name="テキスト ボックス 13"/>
            <p:cNvSpPr/>
            <p:nvPr/>
          </p:nvSpPr>
          <p:spPr>
            <a:xfrm>
              <a:off x="2193840" y="5033880"/>
              <a:ext cx="211932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MIROC-AGCM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3" name="テキスト ボックス 14"/>
            <p:cNvSpPr/>
            <p:nvPr/>
          </p:nvSpPr>
          <p:spPr>
            <a:xfrm>
              <a:off x="2193840" y="5349240"/>
              <a:ext cx="211932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SPRINTARS (CHASER)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4" name="テキスト ボックス 15"/>
            <p:cNvSpPr/>
            <p:nvPr/>
          </p:nvSpPr>
          <p:spPr>
            <a:xfrm>
              <a:off x="1798560" y="6094080"/>
              <a:ext cx="113616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COCO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5" name="テキスト ボックス 16"/>
            <p:cNvSpPr/>
            <p:nvPr/>
          </p:nvSpPr>
          <p:spPr>
            <a:xfrm>
              <a:off x="1798560" y="6409440"/>
              <a:ext cx="113616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NPZD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6" name="テキスト ボックス 17"/>
            <p:cNvSpPr/>
            <p:nvPr/>
          </p:nvSpPr>
          <p:spPr>
            <a:xfrm>
              <a:off x="3553560" y="6109200"/>
              <a:ext cx="113616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MATSIRO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7" name="テキスト ボックス 18"/>
            <p:cNvSpPr/>
            <p:nvPr/>
          </p:nvSpPr>
          <p:spPr>
            <a:xfrm>
              <a:off x="3551760" y="6423840"/>
              <a:ext cx="1136160" cy="246240"/>
            </a:xfrm>
            <a:prstGeom prst="rect">
              <a:avLst/>
            </a:prstGeom>
            <a:noFill/>
            <a:ln w="9360">
              <a:solidFill>
                <a:srgbClr val="080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80403"/>
                  </a:solidFill>
                  <a:latin typeface="HGｺﾞｼｯｸE"/>
                </a:rPr>
                <a:t>SEIB-DGVM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8" name="テキスト ボックス 19"/>
            <p:cNvSpPr/>
            <p:nvPr/>
          </p:nvSpPr>
          <p:spPr>
            <a:xfrm>
              <a:off x="2180160" y="4265640"/>
              <a:ext cx="21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403"/>
                  </a:solidFill>
                  <a:latin typeface="HGｺﾞｼｯｸE"/>
                </a:rPr>
                <a:t>MIROC-ESM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419" name="図 20" descr=""/>
          <p:cNvPicPr/>
          <p:nvPr/>
        </p:nvPicPr>
        <p:blipFill>
          <a:blip r:embed="rId1"/>
          <a:stretch/>
        </p:blipFill>
        <p:spPr>
          <a:xfrm>
            <a:off x="390600" y="3565440"/>
            <a:ext cx="1687320" cy="1689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Users\michio\Documents\My Dropbox\論文査読・投稿\Climate Sense\図1地球システム統合モデル_eng.tif"/>
          <p:cNvPicPr/>
          <p:nvPr/>
        </p:nvPicPr>
        <p:blipFill>
          <a:blip r:embed="rId2"/>
          <a:stretch/>
        </p:blipFill>
        <p:spPr>
          <a:xfrm>
            <a:off x="1476360" y="1413000"/>
            <a:ext cx="40575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03:09:04Z</dcterms:created>
  <dc:creator>michio</dc:creator>
  <dc:description/>
  <dc:language>en-US</dc:language>
  <cp:lastModifiedBy>michio</cp:lastModifiedBy>
  <dcterms:modified xsi:type="dcterms:W3CDTF">2012-03-27T21:24:15Z</dcterms:modified>
  <cp:revision>14</cp:revision>
  <dc:subject/>
  <dc:title>Carbon emission metrics and its relevance to metrics for non-CO2 GHGs</dc:title>
</cp:coreProperties>
</file>