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89A-035A-402C-867D-D8E6F2CDD54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ＭＩＲＯＣ－ＥＳＭへの入力データ（Ｒ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実験結果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C79A-53BB-48E0-ACB8-2802469D1DF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シナリオ別の温暖化のパターン．シナリオ間でパターンはそれほど違わず，全体の平均が違う感じ．我々のモデルは，北極海におけるアイスアルベドフィードバックがちょっと強く，２０４０年までには夏の海氷がなくなってしま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D489-4CD7-4A5B-96A5-71FD6ADF7A0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おけるＣＣＲをとってみた．シナリオ依存性が若干あることが分かる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CO2 GHG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効果による温暖化分を取り除いて補正をかけても同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0483-6BA4-47DC-9E96-F54023F0ED5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もうひとつ，ＣＣＲのシナリオ依存性をもたらす要因としては，海洋の熱吸収が考えられる．すなわち，「遅い」シナリオほど定常に近い状態を保ちながら時間変化していくので，大気から海洋への熱フラックスは小さくなる．すると，単位排出量当たりの温暖化は大きくなる理屈．単一シナリオのなかでは，海洋への熱フラックスが昇温に比例することを利用して，この効果に関する補正をかけることにす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5A7-388F-4FEE-A30D-889AF0F6956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我々のモデルでは，ＣＣＲには若干のモデル依存性があった．それは海洋熱吸収によるものであり，海洋熱吸収の大きな「速い」シナリオほど見かけのＣＣＲが小さくな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68AC-530E-4F45-ACBE-3B962073312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大気中の人為起源炭素量と昇温の関係をとってみると，海洋熱吸収の効果を除いても値が収束せず，メトリックスとしては累積排出量の方が優れていることが分か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D3A-B391-46F2-BD46-DAEF5F8240C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が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寄せ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，安定化に向けての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限界について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の図，上から２本目と３本目の線はＧＷＰで見れば同じだが，安定化レベルは全然違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安定化に向けては，ＧＴＰの方が良い指標だが，五十歩百歩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BCE1-3FC8-4ECE-B94A-967774B84D2E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-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提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短寿命成分に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長寿命成分（Ｃ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など）には 累積炭素排出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C14E-E738-4E4A-8580-531F376F7A9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来は，ＣＯ２「濃度」がメトリック（基準）になっていた．この表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 WG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報告書からとったものだが，一番左の欄にはＣＯ２濃度が来ており，その濃度を達成するための排出削減目安などが記されてい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6B84-3F2F-49E5-8777-417A04A064B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濃度メトリックに基づいて作った排出パスがこれ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，濃度メトリックは「それに基づいて，社会経済学者がシナリオを開発しようとするとき，炭素循環についての知識が要求される」という欠点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670-B980-40D5-8A29-4A235C7E7B8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 (2009)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，累積排出量と気温上昇の間に，よい線形の関係があること，その傾きはモデルにより異なる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 deg.C/TtC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範囲にあることを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5538-4A3E-490A-A8E1-810A98AC545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前図の傾き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 Carbon Response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呼び，炭素循環－気候結合モデルのよいメトリックになるとした．「普通の」気候モデルにおける気候感度にあた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C26A-310F-4DA2-9321-6D66AD67C57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ＣＣＲがシナリオに依らないことを例証した（ＣＯ２濃度がよい指標と言えないことも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CA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示して指摘）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検討されたのは数例の理想的なシナリオにすぎず，また簡略モデルによる実験であるので，ＲＣＰのようなある程度現実的なシナリオの下でのＧＣＭによる実験結果を見ることには大きな意味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alized model simulations of the CC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Simulation with a 1% per year atmospheric CO 2 increase for 70 years, showing temperature change per unit atmospheric carbon increase (DT/DC A : thin red line, right axis), airborne fraction of cumulative carbon emissions (DC A /E T : thin blue line, left axis) and CCR (thick red line, right axis). In this simulation, cumulative airborne fraction decreased with time owing to a delayed carbon cycle response to a rapid prescribed rate of atmospheric CO 2 increase. This is consistent with saturating carbon sinks at higher atmospheric CO 2 , which leads to an increased airborne fraction of annual emissions with increasing atmospheric CO 2 . b, Simulations with an instantaneous doubling (solid lines) and quadrupling (dashed lines) of atmospheric CO 2 for 1,000 years (colours as in a). In all cases, the cumulative airborne fraction decreased with time, whereas the temperature change per unit atmospheric carbon increased with time; consequently, the CCR (defined as the product of these two quantities) remained constant i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3EE8-5FEC-4C4A-8B29-24A2881E2A4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8946-30C0-42DC-A1F3-FD3CF0201B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Team MIROC (UT, JAMSTEC, NIES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地球システムモデル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MIROC-ES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ＣＭＩＰ５実験に基づいて，累積炭素排出量と昇温の関係を解析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植生モデルは動的植生モデル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79D-EAB5-4A2D-A696-A159D11C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DCC-B45C-4060-8A54-20086EC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74F-9206-4AE7-8E7F-4C195C98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053-3DA4-40AA-9666-8D17FCA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E8D8-99BB-4250-B350-86E7CB7F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EA42-9EFD-4B04-B91A-8573B0BD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0226-C36D-4692-881E-B64D4C0C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590-572B-40C7-9E70-196EB13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541D-A6CA-422B-9504-A6328298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4067-DE8F-4572-AF81-B86E7A2A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F22E-451A-46BC-8772-A7EB5922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73D-899F-464B-95A7-6525AC91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10EB-123B-46EA-8829-AFEEC2C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ABB-1F7B-47FC-AC95-2A34ACC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05E-B99D-4C84-9190-D626E230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6CE2-D1DB-4CE0-BF76-13A84C8D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A28D-035D-4017-BD60-5A315FAA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978CE-B90F-4D4B-A57E-A526C45B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9AE0-A65F-4A60-A94D-5C73CD31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6721-6566-49FC-B191-E2BC090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8EB4-01AC-4517-82DE-ED13902D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2FD0-F951-4396-A2F1-3B04906A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040-A319-4BFA-94B8-AC3F674C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6D28-0937-465D-861A-64FC5F3D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D9E7-3AD5-4FEF-AFAC-930FD484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E0A8-E6B9-4513-B300-C20F29E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C994-7132-42A6-B48D-581CFAE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27F9-E08D-4E7A-871E-9ED39CD4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BDB1-56F4-4A9D-927D-5CD79A21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D14C-7961-4870-BE8F-ACDD07A3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5F32-0EE8-4311-9116-7FD152DD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A202-3DF5-42FE-BCE7-E2AB12F5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A87A-E95F-42E2-9F13-8BAFA5C0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17D-FF7A-4EA7-A6C7-BC88E958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62AF-2020-4821-923C-FCE10DBE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28D3-6512-444A-B1B3-3607E9C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B5F7-D76A-409A-A426-D0E527BF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3E0A-D428-4047-A532-E6CC6A1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CBC8-FEE7-437B-BFA0-72F94B74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F97A-8213-4587-911E-6FD0B4F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7C67-3A70-41EC-9489-039E564A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1C4F-9D38-40CC-AB12-308BCE10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BBAC-FBFF-4F96-8B38-0E5CD76B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1F78-8E01-4CD4-9D94-D0990E3D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BB2-43C6-4BD2-A470-DA27416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2B83-783A-43DF-BF2E-51D7BBE8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18F57-D862-47ED-AFE4-66106375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CDC4-612A-4682-8353-DD8446C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C9C6-3E58-4486-8320-9298B3EB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FEB57-7638-4863-BC4E-61D11E6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64CE-5F9D-4249-A985-A6151B4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3422-C1A9-4665-AEE8-CC1DC08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BDFE-5400-415C-9899-3BA7C08E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613D-156B-4034-85C9-E14EC59A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B5E7-0835-40DF-901E-CF1EB7A9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4B1-A1CD-4651-986F-073C4C2D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0DE0-8906-490F-9FF3-54F1FD1F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13EE-AA44-4EAE-A390-EDB39261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D97D-F1BC-47BD-92EC-3744F47F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E71D-7B47-44F6-9033-78502DC8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1E0AB-20AA-4FDA-8B8B-6C44F7C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367B-5DAF-4734-88A3-5F4BAF58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1110-BA2D-49A7-B695-4D4C75F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8037D-35D3-4438-A730-1AFCFB8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668DB-A57C-4968-8B7C-482BE70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929F7-04F8-4618-A974-E98498B0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8F5-C2B8-483C-857F-4831BAC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B8C2-F9B4-40C3-BBC1-884ABCE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E8751-6C3A-4FF8-A2F5-114827AF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6485F-33AA-4BFB-8166-74D1CC77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EFB8-2E22-49E1-B01F-CFCD47E3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D699-1E2F-4DDA-A26D-F5820F06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95A9-0561-4DEB-9616-00925BEB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6B970-D810-463F-8B01-C3A7E3D3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10B31-5E20-4257-9629-228B15BC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E01A-9F2E-4B07-ACAE-9E4F234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8ECD-6582-499B-BD25-8DA86B8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D5B-EDAC-4FC8-B0DB-D954F2A5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2049-6460-4959-87E7-DF2F0A8C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32D8-90AC-4549-8CD4-7D74DF6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A3DA5-B1D1-4A26-8FDE-6B17B3F5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75FEE-34C2-4A85-BD26-756B1C7D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4193-F282-4600-AA10-B4F1B4E4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ACB-3FD7-4411-B3E9-322576A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C1C1-479B-475F-BE01-DAE3EA084D7F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円/楕円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円/楕円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円/楕円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891-3127-40F1-95D7-2F5A8813117B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正方形/長方形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円/楕円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円/楕円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円/楕円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66C-00D3-4DF0-B30F-C876088CA483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D7C-7E4F-4E48-95B7-AE521F0C8815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正方形/長方形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正方形/長方形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05D4-FB84-4677-8C31-31FCB27D5D36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3D84-98D8-46C2-9B75-BC0707074B85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正方形/長方形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正方形/長方形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フローチャート: 処理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フローチャート: 処理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091-0CF2-4132-8D53-0C1A5D18A3BD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197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Carbon emission metrics for climate stabilization and the implications to metrics</a:t>
            </a:r>
            <a:br>
              <a:rPr sz="3900"/>
            </a:b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for non-CO2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ichio Kawamiy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earch Institute for Global 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pan Agency for Marine-earth Science an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lobal warming projection with MIROC-ESM under RCP scenario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Picture 2" descr="C:\Users\michio\Documents\My Dropbox\セミナー、講演\ボン12年4月\CO2scenario.png"/>
          <p:cNvPicPr/>
          <p:nvPr/>
        </p:nvPicPr>
        <p:blipFill>
          <a:blip r:embed="rId1"/>
          <a:stretch/>
        </p:blipFill>
        <p:spPr>
          <a:xfrm>
            <a:off x="1042920" y="2492280"/>
            <a:ext cx="4140360" cy="304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michio\Documents\My Dropbox\セミナー、講演\ボン12年4月\T2timeseries.png"/>
          <p:cNvPicPr/>
          <p:nvPr/>
        </p:nvPicPr>
        <p:blipFill>
          <a:blip r:embed="rId2"/>
          <a:stretch/>
        </p:blipFill>
        <p:spPr>
          <a:xfrm>
            <a:off x="5137200" y="2492280"/>
            <a:ext cx="4006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0" t="2377" r="0" b="0"/>
          <a:stretch/>
        </p:blipFill>
        <p:spPr>
          <a:xfrm>
            <a:off x="252360" y="260280"/>
            <a:ext cx="8658360" cy="5977080"/>
          </a:xfrm>
          <a:prstGeom prst="rect">
            <a:avLst/>
          </a:prstGeom>
          <a:ln w="0">
            <a:noFill/>
          </a:ln>
        </p:spPr>
      </p:pic>
      <p:sp>
        <p:nvSpPr>
          <p:cNvPr id="426" name="テキスト ボックス 3"/>
          <p:cNvSpPr/>
          <p:nvPr/>
        </p:nvSpPr>
        <p:spPr>
          <a:xfrm>
            <a:off x="70920" y="0"/>
            <a:ext cx="16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結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テキスト ボックス 4"/>
          <p:cNvSpPr/>
          <p:nvPr/>
        </p:nvSpPr>
        <p:spPr>
          <a:xfrm>
            <a:off x="2124000" y="333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mperature Rise averaged over 2090’s relative to 1980-1999 aver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limate Carbon Response in MIROC-E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9" name="図プレースホルダー 7" descr="gfig.chng.19.ccr.womgs.fai.pv.pn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4643280" y="2852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30" name="図プレースホルダー 6" descr="gfig.chng.19.ccr.withmgs.pv.png"/>
          <p:cNvPicPr/>
          <p:nvPr/>
        </p:nvPicPr>
        <p:blipFill>
          <a:blip r:embed="rId2"/>
          <a:srcRect l="-10662" t="0" r="-10662" b="0"/>
          <a:stretch/>
        </p:blipFill>
        <p:spPr>
          <a:xfrm>
            <a:off x="-306360" y="2816280"/>
            <a:ext cx="4327560" cy="2674800"/>
          </a:xfrm>
          <a:prstGeom prst="rect">
            <a:avLst/>
          </a:prstGeom>
          <a:ln w="0">
            <a:noFill/>
          </a:ln>
        </p:spPr>
      </p:pic>
      <p:sp>
        <p:nvSpPr>
          <p:cNvPr id="431" name="テキスト ボックス 16"/>
          <p:cNvSpPr/>
          <p:nvPr/>
        </p:nvSpPr>
        <p:spPr>
          <a:xfrm>
            <a:off x="250920" y="256536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テキスト ボックス 18"/>
          <p:cNvSpPr/>
          <p:nvPr/>
        </p:nvSpPr>
        <p:spPr>
          <a:xfrm>
            <a:off x="4944960" y="2602080"/>
            <a:ext cx="3492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テキスト ボックス 26"/>
          <p:cNvSpPr/>
          <p:nvPr/>
        </p:nvSpPr>
        <p:spPr>
          <a:xfrm>
            <a:off x="3402000" y="303228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CP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テキスト ボックス 27"/>
          <p:cNvSpPr/>
          <p:nvPr/>
        </p:nvSpPr>
        <p:spPr>
          <a:xfrm>
            <a:off x="3402000" y="3824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CP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テキスト ボックス 28"/>
          <p:cNvSpPr/>
          <p:nvPr/>
        </p:nvSpPr>
        <p:spPr>
          <a:xfrm>
            <a:off x="3402000" y="33195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CP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テキスト ボックス 29"/>
          <p:cNvSpPr/>
          <p:nvPr/>
        </p:nvSpPr>
        <p:spPr>
          <a:xfrm>
            <a:off x="3402000" y="3608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CP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テキスト ボックス 21"/>
          <p:cNvSpPr/>
          <p:nvPr/>
        </p:nvSpPr>
        <p:spPr>
          <a:xfrm>
            <a:off x="8423280" y="3235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テキスト ボックス 22"/>
          <p:cNvSpPr/>
          <p:nvPr/>
        </p:nvSpPr>
        <p:spPr>
          <a:xfrm>
            <a:off x="8421840" y="382284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テキスト ボックス 23"/>
          <p:cNvSpPr/>
          <p:nvPr/>
        </p:nvSpPr>
        <p:spPr>
          <a:xfrm>
            <a:off x="8424720" y="3556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テキスト ボックス 24"/>
          <p:cNvSpPr/>
          <p:nvPr/>
        </p:nvSpPr>
        <p:spPr>
          <a:xfrm>
            <a:off x="8418600" y="4076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nother possible cause for scenario dependence of CC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42" name="図形グループ 17"/>
          <p:cNvGrpSpPr/>
          <p:nvPr/>
        </p:nvGrpSpPr>
        <p:grpSpPr>
          <a:xfrm>
            <a:off x="1685880" y="1457280"/>
            <a:ext cx="6840720" cy="5400720"/>
            <a:chOff x="1685880" y="1457280"/>
            <a:chExt cx="6840720" cy="5400720"/>
          </a:xfrm>
        </p:grpSpPr>
        <p:sp>
          <p:nvSpPr>
            <p:cNvPr id="443" name="角丸四角形 4"/>
            <p:cNvSpPr/>
            <p:nvPr/>
          </p:nvSpPr>
          <p:spPr>
            <a:xfrm>
              <a:off x="1685880" y="1457280"/>
              <a:ext cx="6815880" cy="5400720"/>
            </a:xfrm>
            <a:prstGeom prst="roundRect">
              <a:avLst>
                <a:gd name="adj" fmla="val 71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444" name="図形グループ 48"/>
            <p:cNvGrpSpPr/>
            <p:nvPr/>
          </p:nvGrpSpPr>
          <p:grpSpPr>
            <a:xfrm>
              <a:off x="1876680" y="1539720"/>
              <a:ext cx="3653280" cy="3065040"/>
              <a:chOff x="1876680" y="1539720"/>
              <a:chExt cx="3653280" cy="3065040"/>
            </a:xfrm>
          </p:grpSpPr>
          <p:grpSp>
            <p:nvGrpSpPr>
              <p:cNvPr id="445" name="図形グループ 31"/>
              <p:cNvGrpSpPr/>
              <p:nvPr/>
            </p:nvGrpSpPr>
            <p:grpSpPr>
              <a:xfrm>
                <a:off x="1876680" y="1539720"/>
                <a:ext cx="3653280" cy="3065040"/>
                <a:chOff x="1876680" y="1539720"/>
                <a:chExt cx="3653280" cy="3065040"/>
              </a:xfrm>
            </p:grpSpPr>
            <p:pic>
              <p:nvPicPr>
                <p:cNvPr id="446" name="直線矢印コネクタ 2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2800" y="3803760"/>
                  <a:ext cx="2822760" cy="38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直線矢印コネクタ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83200" y="2145600"/>
                  <a:ext cx="383760" cy="20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直線コネクタ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86880" y="2377080"/>
                  <a:ext cx="1883880" cy="170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直線コネクタ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3450240"/>
                  <a:ext cx="1658160" cy="64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テキスト ボックス 24"/>
                <p:cNvSpPr/>
                <p:nvPr/>
              </p:nvSpPr>
              <p:spPr>
                <a:xfrm>
                  <a:off x="2734920" y="4000320"/>
                  <a:ext cx="27950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Global temp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chang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テキスト ボックス 25"/>
                <p:cNvSpPr/>
                <p:nvPr/>
              </p:nvSpPr>
              <p:spPr>
                <a:xfrm rot="16200000">
                  <a:off x="528120" y="2887920"/>
                  <a:ext cx="306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Ocean heat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452" name="テキスト ボックス 18"/>
              <p:cNvSpPr/>
              <p:nvPr/>
            </p:nvSpPr>
            <p:spPr>
              <a:xfrm>
                <a:off x="2797920" y="197280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A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53" name="テキスト ボックス 19"/>
              <p:cNvSpPr/>
              <p:nvPr/>
            </p:nvSpPr>
            <p:spPr>
              <a:xfrm>
                <a:off x="3337920" y="302148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B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54" name="図形グループ 41"/>
            <p:cNvGrpSpPr/>
            <p:nvPr/>
          </p:nvGrpSpPr>
          <p:grpSpPr>
            <a:xfrm>
              <a:off x="2145960" y="5305320"/>
              <a:ext cx="2805480" cy="1333800"/>
              <a:chOff x="2145960" y="5305320"/>
              <a:chExt cx="2805480" cy="1333800"/>
            </a:xfrm>
          </p:grpSpPr>
          <p:pic>
            <p:nvPicPr>
              <p:cNvPr id="455" name="正方形/長方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5960" y="5305320"/>
                <a:ext cx="2805480" cy="76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正方形/長方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145960" y="6104520"/>
                <a:ext cx="2805480" cy="53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下矢印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2440" y="5742720"/>
                <a:ext cx="79488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図形グループ 42"/>
            <p:cNvGrpSpPr/>
            <p:nvPr/>
          </p:nvGrpSpPr>
          <p:grpSpPr>
            <a:xfrm>
              <a:off x="5448240" y="5305320"/>
              <a:ext cx="2805480" cy="1353960"/>
              <a:chOff x="5448240" y="5305320"/>
              <a:chExt cx="2805480" cy="1353960"/>
            </a:xfrm>
          </p:grpSpPr>
          <p:pic>
            <p:nvPicPr>
              <p:cNvPr id="459" name="正方形/長方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448240" y="5305320"/>
                <a:ext cx="2805480" cy="78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正方形/長方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8240" y="6112440"/>
                <a:ext cx="280548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下矢印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23280" y="5765760"/>
                <a:ext cx="443520" cy="61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テキスト ボックス 8"/>
            <p:cNvSpPr/>
            <p:nvPr/>
          </p:nvSpPr>
          <p:spPr>
            <a:xfrm>
              <a:off x="2424240" y="47628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3" name="テキスト ボックス 9"/>
            <p:cNvSpPr/>
            <p:nvPr/>
          </p:nvSpPr>
          <p:spPr>
            <a:xfrm>
              <a:off x="5758920" y="4785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4" name="テキスト ボックス 10"/>
            <p:cNvSpPr/>
            <p:nvPr/>
          </p:nvSpPr>
          <p:spPr>
            <a:xfrm>
              <a:off x="5701680" y="2101680"/>
              <a:ext cx="282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hanges in ocean heat uptake: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Q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W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H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5" name="テキスト ボックス 26"/>
          <p:cNvSpPr/>
          <p:nvPr/>
        </p:nvSpPr>
        <p:spPr>
          <a:xfrm>
            <a:off x="2549520" y="1528920"/>
            <a:ext cx="4865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Efficiency of ocean heat upta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図プレースホルダー 15" descr="gfig.chng.19.ccr.womgs.woohu-kappa.fai.pv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700360" y="2060640"/>
            <a:ext cx="4325760" cy="267480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19"/>
          <p:cNvSpPr/>
          <p:nvPr/>
        </p:nvSpPr>
        <p:spPr>
          <a:xfrm>
            <a:off x="2843280" y="1700280"/>
            <a:ext cx="468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</a:t>
            </a: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Ocean-heat-uptake  (OHU)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テキスト ボックス 4"/>
          <p:cNvSpPr/>
          <p:nvPr/>
        </p:nvSpPr>
        <p:spPr>
          <a:xfrm>
            <a:off x="183528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is moderately scenario dependent in our case, but can be corrected in terms of OH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図プレースホルダー 7" descr="gfig.chng.17.dTdC.womgs.woohu-kappa.fai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50920" y="3860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0" name="図プレースホルダー 5" descr="gfig.chng.17.dTdC.withmgs.png"/>
          <p:cNvPicPr/>
          <p:nvPr/>
        </p:nvPicPr>
        <p:blipFill>
          <a:blip r:embed="rId2"/>
          <a:srcRect l="0" t="8791" r="0" b="8791"/>
          <a:stretch/>
        </p:blipFill>
        <p:spPr>
          <a:xfrm>
            <a:off x="181080" y="77940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1" name="図プレースホルダー 6" descr="gfig.chng.17.dTdC.womgs.fai.png"/>
          <p:cNvPicPr/>
          <p:nvPr/>
        </p:nvPicPr>
        <p:blipFill>
          <a:blip r:embed="rId3"/>
          <a:srcRect l="0" t="8776" r="0" b="8776"/>
          <a:stretch/>
        </p:blipFill>
        <p:spPr>
          <a:xfrm>
            <a:off x="4708440" y="779400"/>
            <a:ext cx="4326120" cy="267516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0"/>
          <p:cNvSpPr/>
          <p:nvPr/>
        </p:nvSpPr>
        <p:spPr>
          <a:xfrm>
            <a:off x="-7920" y="3240"/>
            <a:ext cx="87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Airborne CO2 is again not a good metric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テキスト ボックス 16"/>
          <p:cNvSpPr/>
          <p:nvPr/>
        </p:nvSpPr>
        <p:spPr>
          <a:xfrm>
            <a:off x="73836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テキスト ボックス 18"/>
          <p:cNvSpPr/>
          <p:nvPr/>
        </p:nvSpPr>
        <p:spPr>
          <a:xfrm>
            <a:off x="529920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テキスト ボックス 19"/>
          <p:cNvSpPr/>
          <p:nvPr/>
        </p:nvSpPr>
        <p:spPr>
          <a:xfrm>
            <a:off x="162000" y="3565440"/>
            <a:ext cx="435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  Ocean heat uptake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mplications for establishing metrics for short-lived and long-lived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02920" y="2178000"/>
            <a:ext cx="7497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t is important to recognize the difference between short-lived and long-lived GHGs with the same GWP, in particular for discussing climate stabiliz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r stabilization issues, cumulative emission (CE) of long-lived GHGs may be more desirable than concentr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re may be a moderate scenario dependence of CE, especially for fast scenarios due to that of ocean heat uptake (OHU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nstraining OHU efficiency may improve the validity of CE as a metrics.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roduction: limitation of single basket approa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443560" cy="2808000"/>
          </a:xfrm>
          <a:prstGeom prst="rect">
            <a:avLst/>
          </a:prstGeom>
          <a:ln w="0">
            <a:noFill/>
          </a:ln>
        </p:spPr>
      </p:pic>
      <p:sp>
        <p:nvSpPr>
          <p:cNvPr id="374" name="テキスト ボックス 5"/>
          <p:cNvSpPr/>
          <p:nvPr/>
        </p:nvSpPr>
        <p:spPr>
          <a:xfrm>
            <a:off x="5580000" y="2781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ane+640GtC” and “1280GtC, No Methane” have the same forcing in terms of GWP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&gt; “Single basket approach” does not work for discussing stabilization levels. (Eby et al., 2009; Solomon et al.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テキスト ボックス 6"/>
          <p:cNvSpPr/>
          <p:nvPr/>
        </p:nvSpPr>
        <p:spPr>
          <a:xfrm>
            <a:off x="5940360" y="206064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cings for these two lines have the same  value of GWP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6" name="直線矢印コネクタ 8"/>
          <p:cNvCxnSpPr>
            <a:stCxn id="375" idx="1"/>
          </p:cNvCxnSpPr>
          <p:nvPr/>
        </p:nvCxnSpPr>
        <p:spPr>
          <a:xfrm flipH="1" flipV="1">
            <a:off x="3058560" y="2060280"/>
            <a:ext cx="288180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直線矢印コネクタ 9"/>
          <p:cNvCxnSpPr>
            <a:stCxn id="375" idx="1"/>
          </p:cNvCxnSpPr>
          <p:nvPr/>
        </p:nvCxnSpPr>
        <p:spPr>
          <a:xfrm flipH="1">
            <a:off x="3058560" y="2292120"/>
            <a:ext cx="2881800" cy="1292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911840" cy="2421000"/>
          </a:xfrm>
          <a:prstGeom prst="rect">
            <a:avLst/>
          </a:prstGeom>
          <a:ln w="0">
            <a:noFill/>
          </a:ln>
        </p:spPr>
      </p:pic>
      <p:sp>
        <p:nvSpPr>
          <p:cNvPr id="379" name="テキスト ボックス 13"/>
          <p:cNvSpPr/>
          <p:nvPr/>
        </p:nvSpPr>
        <p:spPr>
          <a:xfrm>
            <a:off x="5219640" y="59500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TP is superior when discussing stabil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t roles of short-lived and long-lived ag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71280" y="15998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hort-lived: “trim” the peak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ong-lived: determine the stabilization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042920" y="3645000"/>
            <a:ext cx="78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-basket approach” is proposed ( Solomon et al., 20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&gt; GTP for short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mulative emission for long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2 concentration has been often used as a carbon emission metric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テキスト ボックス 7"/>
          <p:cNvSpPr/>
          <p:nvPr/>
        </p:nvSpPr>
        <p:spPr>
          <a:xfrm>
            <a:off x="6369120" y="602136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0" y="2349360"/>
            <a:ext cx="905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n concentration metrics is converted to socio-economic scenarios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9288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テキスト ボックス 3"/>
          <p:cNvSpPr/>
          <p:nvPr/>
        </p:nvSpPr>
        <p:spPr>
          <a:xfrm>
            <a:off x="7071480" y="655020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テキスト ボックス 4"/>
          <p:cNvSpPr/>
          <p:nvPr/>
        </p:nvSpPr>
        <p:spPr>
          <a:xfrm>
            <a:off x="1476360" y="5877000"/>
            <a:ext cx="71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2 emission paths to achieve CO2 concentration stab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umulative carbon emission as a metric for climate stabilization level and transient climate respons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051440" cy="3311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861000" cy="3264120"/>
          </a:xfrm>
          <a:prstGeom prst="rect">
            <a:avLst/>
          </a:prstGeom>
          <a:ln w="0">
            <a:noFill/>
          </a:ln>
        </p:spPr>
      </p:pic>
      <p:sp>
        <p:nvSpPr>
          <p:cNvPr id="393" name="テキスト ボックス 6"/>
          <p:cNvSpPr/>
          <p:nvPr/>
        </p:nvSpPr>
        <p:spPr>
          <a:xfrm>
            <a:off x="601200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tthews et al. (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tif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テキスト ボックス 2"/>
          <p:cNvSpPr/>
          <p:nvPr/>
        </p:nvSpPr>
        <p:spPr>
          <a:xfrm>
            <a:off x="900000" y="1557360"/>
            <a:ext cx="82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CR = T/CE = (T/CA)(CA/CE) = α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CR: Climate-carbon response (matthews et al., 200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α(=T/CA): Temperature rise per unit airborne carb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(=CA/CE): Airborne fra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テキスト ボックス 3"/>
          <p:cNvSpPr/>
          <p:nvPr/>
        </p:nvSpPr>
        <p:spPr>
          <a:xfrm>
            <a:off x="912960" y="3716280"/>
            <a:ext cx="611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f.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Climate sensitivity: λ=T/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: Radiative for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テキスト ボックス 4"/>
          <p:cNvSpPr/>
          <p:nvPr/>
        </p:nvSpPr>
        <p:spPr>
          <a:xfrm>
            <a:off x="1258920" y="5445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may be regarded as “earth system sensitivity”, with the forcing being anthropogenic carbon emission rather than radiative forc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3745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CR may be independent of scenar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52960" cy="5842080"/>
          </a:xfrm>
          <a:prstGeom prst="rect">
            <a:avLst/>
          </a:prstGeom>
          <a:ln w="0">
            <a:noFill/>
          </a:ln>
        </p:spPr>
      </p:pic>
      <p:sp>
        <p:nvSpPr>
          <p:cNvPr id="400" name="テキスト ボックス 5"/>
          <p:cNvSpPr/>
          <p:nvPr/>
        </p:nvSpPr>
        <p:spPr>
          <a:xfrm>
            <a:off x="5788080" y="692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%/year incre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テキスト ボックス 6"/>
          <p:cNvSpPr/>
          <p:nvPr/>
        </p:nvSpPr>
        <p:spPr>
          <a:xfrm>
            <a:off x="5657760" y="3500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anteneous x2 &amp; x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ROC-ESM: a GCM-based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arth System Mode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796000" y="3303720"/>
            <a:ext cx="297000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SR/NIES/FRCG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42(~2.8ºx2.8º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80 (TOA:80km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CO (CCSR/FRCG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rvilinear grid syst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0.5-1.0)º x 1.4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4" name="図形グループ 3"/>
          <p:cNvGrpSpPr/>
          <p:nvPr/>
        </p:nvGrpSpPr>
        <p:grpSpPr>
          <a:xfrm>
            <a:off x="1476360" y="4265640"/>
            <a:ext cx="3600360" cy="2592360"/>
            <a:chOff x="1476360" y="4265640"/>
            <a:chExt cx="3600360" cy="2592360"/>
          </a:xfrm>
        </p:grpSpPr>
        <p:sp>
          <p:nvSpPr>
            <p:cNvPr id="405" name="正方形/長方形 5"/>
            <p:cNvSpPr/>
            <p:nvPr/>
          </p:nvSpPr>
          <p:spPr>
            <a:xfrm>
              <a:off x="1476360" y="4309200"/>
              <a:ext cx="3600360" cy="254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正方形/長方形 7"/>
            <p:cNvSpPr/>
            <p:nvPr/>
          </p:nvSpPr>
          <p:spPr>
            <a:xfrm>
              <a:off x="2085120" y="4778280"/>
              <a:ext cx="2324160" cy="957600"/>
            </a:xfrm>
            <a:prstGeom prst="rect">
              <a:avLst/>
            </a:prstGeom>
            <a:solidFill>
              <a:srgbClr val="fdd7ba"/>
            </a:solidFill>
            <a:ln w="25560">
              <a:solidFill>
                <a:srgbClr val="3891a7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正方形/長方形 8"/>
            <p:cNvSpPr/>
            <p:nvPr/>
          </p:nvSpPr>
          <p:spPr>
            <a:xfrm>
              <a:off x="1644840" y="5847840"/>
              <a:ext cx="1454040" cy="891360"/>
            </a:xfrm>
            <a:prstGeom prst="rect">
              <a:avLst/>
            </a:prstGeom>
            <a:solidFill>
              <a:srgbClr val="fcbcbc"/>
            </a:solidFill>
            <a:ln w="25560">
              <a:solidFill>
                <a:srgbClr val="ff000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正方形/長方形 10"/>
            <p:cNvSpPr/>
            <p:nvPr/>
          </p:nvSpPr>
          <p:spPr>
            <a:xfrm>
              <a:off x="3381480" y="5861880"/>
              <a:ext cx="1462320" cy="891360"/>
            </a:xfrm>
            <a:prstGeom prst="rect">
              <a:avLst/>
            </a:prstGeom>
            <a:solidFill>
              <a:srgbClr val="bce292"/>
            </a:solidFill>
            <a:ln w="25560">
              <a:solidFill>
                <a:srgbClr val="00b05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テキスト ボックス 10"/>
            <p:cNvSpPr/>
            <p:nvPr/>
          </p:nvSpPr>
          <p:spPr>
            <a:xfrm>
              <a:off x="2051280" y="4778280"/>
              <a:ext cx="2443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Atmosphere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テキスト ボックス 11"/>
            <p:cNvSpPr/>
            <p:nvPr/>
          </p:nvSpPr>
          <p:spPr>
            <a:xfrm>
              <a:off x="1476360" y="582948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テキスト ボックス 12"/>
            <p:cNvSpPr/>
            <p:nvPr/>
          </p:nvSpPr>
          <p:spPr>
            <a:xfrm>
              <a:off x="3217320" y="583200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Lan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テキスト ボックス 13"/>
            <p:cNvSpPr/>
            <p:nvPr/>
          </p:nvSpPr>
          <p:spPr>
            <a:xfrm>
              <a:off x="2193840" y="503388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IROC-AGC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テキスト ボックス 14"/>
            <p:cNvSpPr/>
            <p:nvPr/>
          </p:nvSpPr>
          <p:spPr>
            <a:xfrm>
              <a:off x="2193840" y="534924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PRINTARS (CHASER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4" name="テキスト ボックス 15"/>
            <p:cNvSpPr/>
            <p:nvPr/>
          </p:nvSpPr>
          <p:spPr>
            <a:xfrm>
              <a:off x="1798560" y="609408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COC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5" name="テキスト ボックス 16"/>
            <p:cNvSpPr/>
            <p:nvPr/>
          </p:nvSpPr>
          <p:spPr>
            <a:xfrm>
              <a:off x="1798560" y="64094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NPZ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6" name="テキスト ボックス 17"/>
            <p:cNvSpPr/>
            <p:nvPr/>
          </p:nvSpPr>
          <p:spPr>
            <a:xfrm>
              <a:off x="3553560" y="610920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ATSIR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7" name="テキスト ボックス 18"/>
            <p:cNvSpPr/>
            <p:nvPr/>
          </p:nvSpPr>
          <p:spPr>
            <a:xfrm>
              <a:off x="3551760" y="64238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EIB-DGV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8" name="テキスト ボックス 19"/>
            <p:cNvSpPr/>
            <p:nvPr/>
          </p:nvSpPr>
          <p:spPr>
            <a:xfrm>
              <a:off x="2180160" y="42656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403"/>
                  </a:solidFill>
                  <a:latin typeface="HGｺﾞｼｯｸE"/>
                </a:rPr>
                <a:t>MIROC-ESM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19" name="図 20" descr=""/>
          <p:cNvPicPr/>
          <p:nvPr/>
        </p:nvPicPr>
        <p:blipFill>
          <a:blip r:embed="rId1"/>
          <a:stretch/>
        </p:blipFill>
        <p:spPr>
          <a:xfrm>
            <a:off x="390600" y="3565440"/>
            <a:ext cx="1687320" cy="16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michio\Documents\My Dropbox\論文査読・投稿\Climate Sense\図1地球システム統合モデル_eng.tif"/>
          <p:cNvPicPr/>
          <p:nvPr/>
        </p:nvPicPr>
        <p:blipFill>
          <a:blip r:embed="rId2"/>
          <a:stretch/>
        </p:blipFill>
        <p:spPr>
          <a:xfrm>
            <a:off x="1476360" y="1413000"/>
            <a:ext cx="4057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3:09:04Z</dcterms:created>
  <dc:creator>michio</dc:creator>
  <dc:description/>
  <dc:language>en-US</dc:language>
  <cp:lastModifiedBy>michio</cp:lastModifiedBy>
  <dcterms:modified xsi:type="dcterms:W3CDTF">2012-03-27T21:24:15Z</dcterms:modified>
  <cp:revision>14</cp:revision>
  <dc:subject/>
  <dc:title>Carbon emission metrics and its relevance to metrics for non-CO2 GHGs</dc:title>
</cp:coreProperties>
</file>