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E580-A767-4179-A2BB-7C02F69D4030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ＭＩＲＯＣ－ＥＳＭへの入力データ（Ｒ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実験結果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48B0-A89F-4801-BB0B-938774E6DF21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シナリオ別の温暖化のパターン．シナリオ間でパターンはそれほど違わず，全体の平均が違う感じ．我々のモデルは，北極海におけるアイスアルベドフィードバックがちょっと強く，２０４０年までには夏の海氷がなくなってしまう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5C97-8656-469A-B064-BB81C169F3BC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OC-ES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におけるＣＣＲをとってみた．シナリオ依存性が若干あることが分かる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CO2 GHG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効果による温暖化分を取り除いて補正をかけても同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DFD7-26EA-4705-8130-8D340CF4075C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もうひとつ，ＣＣＲのシナリオ依存性をもたらす要因としては，海洋の熱吸収が考えられる．すなわち，「遅い」シナリオほど定常に近い状態を保ちながら時間変化していくので，大気から海洋への熱フラックスは小さくなる．すると，単位排出量当たりの温暖化は大きくなる理屈．単一シナリオのなかでは，海洋への熱フラックスが昇温に比例することを利用して，この効果に関する補正をかけることにす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F7E7-DA0B-4E76-8234-6580B01D6A20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我々のモデルでは，ＣＣＲには若干のモデル依存性があった．それは海洋熱吸収によるものであり，海洋熱吸収の大きな「速い」シナリオほど見かけのＣＣＲが小さくな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9792-59FE-4737-8452-79ABDB57EA67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大気中の人為起源炭素量と昇温の関係をとってみると，海洋熱吸収の効果を除いても値が収束せず，メトリックスとしては累積排出量の方が優れていることが分か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5877-B6E3-447D-A32F-2D27B204BDDA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omon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らが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CRP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に寄せ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pape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，安定化に向けての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Basket Approach”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限界について指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上の図，上から２本目と３本目の線はＧＷＰで見れば同じだが，安定化レベルは全然違う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安定化に向けては，ＧＴＰの方が良い指標だが，五十歩百歩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D905-BF05-4028-BEB8-3EAEB2ECBF59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CRP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Paper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omon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らは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-basket approach”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を提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短寿命成分には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T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長寿命成分（Ｃ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など）には 累積炭素排出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5A85-8309-4713-A151-4620D2347792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従来は，ＣＯ２「濃度」がメトリック（基準）になっていた．この表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CC WG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報告書からとったものだが，一番左の欄にはＣＯ２濃度が来ており，その濃度を達成するための排出削減目安などが記されてい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AB63-1F2D-4A68-9FB6-576882611AB9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濃度メトリックに基づいて作った排出パスがこれ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ただし，濃度メトリックは「それに基づいて，社会経済学者がシナリオを開発しようとするとき，炭素循環についての知識が要求される」という欠点があ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A287-80F7-48C4-B4FB-A692CC5D9D7B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 (2009)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，累積排出量と気温上昇の間に，よい線形の関係があること，その傾きはモデルにより異なる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2 deg.C/TtC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範囲にあることを指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540E-5E46-4DC4-AB02-F6049F22D1E5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. (2009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前図の傾き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 Carbon Response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呼び，炭素循環－気候結合モデルのよいメトリックになるとした．「普通の」気候モデルにおける気候感度にあた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7DF9-251C-46F5-9C61-40C9AA91D74A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. (2009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ＣＣＲがシナリオに依らないことを例証した（ＣＯ２濃度がよい指標と言えないことも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/CA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を示して指摘）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ただし検討されたのは数例の理想的なシナリオにすぎず，また簡略モデルによる実験であるので，ＲＣＰのようなある程度現実的なシナリオの下でのＧＣＭによる実験結果を見ることには大きな意味があ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ealized model simulations of the CC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Simulation with a 1% per year atmospheric CO 2 increase for 70 years, showing temperature change per unit atmospheric carbon increase (DT/DC A : thin red line, right axis), airborne fraction of cumulative carbon emissions (DC A /E T : thin blue line, left axis) and CCR (thick red line, right axis). In this simulation, cumulative airborne fraction decreased with time owing to a delayed carbon cycle response to a rapid prescribed rate of atmospheric CO 2 increase. This is consistent with saturating carbon sinks at higher atmospheric CO 2 , which leads to an increased airborne fraction of annual emissions with increasing atmospheric CO 2 . b, Simulations with an instantaneous doubling (solid lines) and quadrupling (dashed lines) of atmospheric CO 2 for 1,000 years (colours as in a). In all cases, the cumulative airborne fraction decreased with time, whereas the temperature change per unit atmospheric carbon increased with time; consequently, the CCR (defined as the product of these two quantities) remained constant in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E95A-125E-4D11-AE22-D25AA991F8B5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1EE7-AD19-45D9-AA07-824E8F22212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Team MIROC (UT, JAMSTEC, NIES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による地球システムモデル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MIROC-ESM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によるＣＭＩＰ５実験に基づいて，累積炭素排出量と昇温の関係を解析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植生モデルは動的植生モデル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5EE0-DBF4-459E-A9D8-465F8B07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B16-AF4F-4460-A102-D4400BF3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C3A-5BB2-4486-9664-046DADCA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F53-BF8D-4C1F-9A97-29F3D8D6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F487-5D32-4DF7-AC97-4C4868B2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C0B8-1476-4B9C-A12F-009B6B8D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9FF8-1857-46FA-8EEA-A471829B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5DD1-DD88-4701-B9AB-7F4D33EF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E87A-0FFE-42EA-B937-5AF84F19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21BA-B180-46AE-A0F9-3483BDFA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BC97-0240-498E-BF15-A0432EB3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66F-598F-431C-AEBA-FA7F7C58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ADEE-9BC6-4694-B6D4-D59D4900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316B-B4E6-4894-B040-FFE06553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D8F3-BEF5-469A-A7A4-505B50AC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76E9-164E-472C-B00B-D95C1362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16D2-C04D-448B-A32D-CC88E9A8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1CEC7-790C-4108-A56C-6BBA3BD0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568B-6AD8-40A5-87FD-319668C0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8A743-E154-4B27-8E73-8E877772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2B9B-4045-43DC-90A9-73B1D06F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1C62F-1877-4927-AAF0-5AAF1B4F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663-0C35-47C9-965A-B05F1F07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44D2F-5C20-44B5-95CB-D44ED674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C8726-807D-4FC3-9CCC-434EE6B5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DD7A-1139-42A1-822A-5F5069FF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FA1CC-C19C-468F-B310-AEEB2127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35EDF-44A1-4DBC-8785-CED2B302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F2946-F734-4F2B-AE77-BA9FA6DD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CA797-7F76-4665-AD61-36D50B6D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E5429-73D0-4E2A-856D-75B87236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D8C7E-5309-455E-9361-7D0F7487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26CDF-6B7E-4A70-B156-8ECD4CB5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E0E-0C4C-4D19-9858-E7120174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69E21-A218-40B5-BC04-BDAD0C81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C48AD-E35E-45D5-AE16-33BF9B99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A53FD-2067-4201-A817-4573E98F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BBEB6-9D44-48D1-BD39-1EB8505F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B8059-EBF5-4A51-AB90-98465D66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5093C-BA96-4BD4-8796-7F10178E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417F-E030-4673-BCDD-00A26D8C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2A12F-B222-4A93-97F7-779FAE3D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CDBAE-19A3-46F6-9E53-10D9401A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7653F-A0DC-45A4-9F46-4CD6CA61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380-A309-4C49-BA42-8A9247B7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F864B-2F32-460C-83C7-92646A9C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3F3B4-B68A-4C78-ABD8-8611D9B0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67159-E1CD-4A69-AA78-849C88A2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B0156-9419-4B95-88DD-4E1C5B9D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09CF3-8919-4CE8-AE1C-765B7F29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87DD6-FC5E-442E-B09D-D5658ABB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C0FDE-DBBF-42D1-B32D-ABE93280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0515C-C562-44B8-BDDF-A5C16F59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9BFB9-D37A-433A-8169-6A981A69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E7BFE-04E7-4B2D-9792-3090B968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2C4-2789-4FBE-97C2-B070BE3A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61C7B-9321-481A-8152-EF8BB0A1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D3C57-44CA-4980-AC6A-A0C1E766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E4A09-3F27-4F64-89A9-BA826C51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828BC-FF9A-4322-B997-AC8537F8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C4D98-09D7-44C2-8A6F-2B30278B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9EE96-0EB1-4D0A-8E67-0E2A202F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69E93-0A3E-4EC4-86C4-213F9DF4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76E19-C8A8-48E2-8C22-C9DBF7F1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B1A95-4FB7-4364-A6D0-06461D46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20B35-3993-4029-B5B5-EF93FD7A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7C00-86A8-463F-B4DD-DF1FFFA9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E8294-2FC9-4FAD-AFE8-DB419E65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3E57B-BDED-4EEF-98F5-9B88F423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4C36E-04F8-4B98-AFB0-C27FB586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AAAD3-DB1E-48D2-8912-F588EC18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51574-D803-4514-A5C2-65809AF8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552C4-FCC1-452E-863F-8FBEE882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3C0A3-7F58-49B8-B9B9-A980373F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65EB2-223F-4619-877E-FA7CADF2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C3F8F-41DE-469D-ACEE-F1ABB814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E4E1E-EADA-482F-B540-597A737D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43E-957D-4378-93D6-1B9E0D6D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4D79F-B2D8-485A-8620-DF29C0EE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E37D5-0A4A-4EB7-994B-BCEAC28E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CD1F9-F2BE-4D25-97F6-ABE64703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9C054-DCBE-4C49-BBF8-DF67F05F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F7483-6684-4AE6-A5C1-6D09DFD7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BC0-033B-4FD2-9592-C5B1A3FB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8FFE-642C-48C4-92C8-89BA4DB221BA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円/楕円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円/楕円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円/楕円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D0BD-4E22-466D-8EEF-24EB8F53F93A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正方形/長方形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正方形/長方形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円/楕円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円/楕円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円/楕円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37CB-6AC7-43DE-B7AC-4A6E1AA3E008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4433-BF93-489B-8A68-BF6D44B7AFB7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正方形/長方形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正方形/長方形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B2A4-5F66-4433-AF51-A7A7F4AC0DC2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09A1-C46B-437F-9AE1-A846291CB9EC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正方形/長方形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正方形/長方形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フローチャート: 処理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フローチャート: 処理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B8AB-0115-4581-9288-317EA8C6C7C5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0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23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719784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572314"/>
                </a:solidFill>
                <a:latin typeface="Gill Sans MT"/>
              </a:rPr>
              <a:t>Carbon emission metrics for climate stabilization and the implications to metrics</a:t>
            </a:r>
            <a:br>
              <a:rPr sz="3900"/>
            </a:br>
            <a:r>
              <a:rPr b="0" i="1" lang="en-US" sz="3900" spc="-1" strike="noStrike">
                <a:solidFill>
                  <a:srgbClr val="572314"/>
                </a:solidFill>
                <a:latin typeface="Gill Sans MT"/>
              </a:rPr>
              <a:t>for non-CO2 GHG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Michio Kawamiy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Research Institute for Global Chan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apan Agency for Marine-earth Science and Tech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Global warming projection with MIROC-ESM under RCP scenario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2" name="Picture 2" descr="C:\Users\michio\Documents\My Dropbox\セミナー、講演\ボン12年4月\CO2scenario.png"/>
          <p:cNvPicPr/>
          <p:nvPr/>
        </p:nvPicPr>
        <p:blipFill>
          <a:blip r:embed="rId1"/>
          <a:stretch/>
        </p:blipFill>
        <p:spPr>
          <a:xfrm>
            <a:off x="1042920" y="2492280"/>
            <a:ext cx="4140360" cy="3041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Users\michio\Documents\My Dropbox\セミナー、講演\ボン12年4月\T2timeseries.png"/>
          <p:cNvPicPr/>
          <p:nvPr/>
        </p:nvPicPr>
        <p:blipFill>
          <a:blip r:embed="rId2"/>
          <a:stretch/>
        </p:blipFill>
        <p:spPr>
          <a:xfrm>
            <a:off x="5137200" y="2492280"/>
            <a:ext cx="40068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rcRect l="0" t="2377" r="0" b="0"/>
          <a:stretch/>
        </p:blipFill>
        <p:spPr>
          <a:xfrm>
            <a:off x="252360" y="260280"/>
            <a:ext cx="8658360" cy="5977080"/>
          </a:xfrm>
          <a:prstGeom prst="rect">
            <a:avLst/>
          </a:prstGeom>
          <a:ln w="0">
            <a:noFill/>
          </a:ln>
        </p:spPr>
      </p:pic>
      <p:sp>
        <p:nvSpPr>
          <p:cNvPr id="426" name="テキスト ボックス 3"/>
          <p:cNvSpPr/>
          <p:nvPr/>
        </p:nvSpPr>
        <p:spPr>
          <a:xfrm>
            <a:off x="70920" y="0"/>
            <a:ext cx="16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ROC-ESM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結果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テキスト ボックス 4"/>
          <p:cNvSpPr/>
          <p:nvPr/>
        </p:nvSpPr>
        <p:spPr>
          <a:xfrm>
            <a:off x="2124000" y="333360"/>
            <a:ext cx="482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emperature Rise averaged over 2090’s relative to 1980-1999 avera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limate Carbon Response in MIROC-ES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9" name="図プレースホルダー 7" descr="gfig.chng.19.ccr.womgs.fai.pv.png"/>
          <p:cNvPicPr/>
          <p:nvPr/>
        </p:nvPicPr>
        <p:blipFill>
          <a:blip r:embed="rId1"/>
          <a:srcRect l="-10662" t="0" r="-10662" b="0"/>
          <a:stretch/>
        </p:blipFill>
        <p:spPr>
          <a:xfrm>
            <a:off x="4643280" y="285264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30" name="図プレースホルダー 6" descr="gfig.chng.19.ccr.withmgs.pv.png"/>
          <p:cNvPicPr/>
          <p:nvPr/>
        </p:nvPicPr>
        <p:blipFill>
          <a:blip r:embed="rId2"/>
          <a:srcRect l="-10662" t="0" r="-10662" b="0"/>
          <a:stretch/>
        </p:blipFill>
        <p:spPr>
          <a:xfrm>
            <a:off x="-306360" y="2816280"/>
            <a:ext cx="4327560" cy="2674800"/>
          </a:xfrm>
          <a:prstGeom prst="rect">
            <a:avLst/>
          </a:prstGeom>
          <a:ln w="0">
            <a:noFill/>
          </a:ln>
        </p:spPr>
      </p:pic>
      <p:sp>
        <p:nvSpPr>
          <p:cNvPr id="431" name="テキスト ボックス 16"/>
          <p:cNvSpPr/>
          <p:nvPr/>
        </p:nvSpPr>
        <p:spPr>
          <a:xfrm>
            <a:off x="250920" y="256536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1) With all anthropogenic forcing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テキスト ボックス 18"/>
          <p:cNvSpPr/>
          <p:nvPr/>
        </p:nvSpPr>
        <p:spPr>
          <a:xfrm>
            <a:off x="4944960" y="2602080"/>
            <a:ext cx="3492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2) non-CO2 GHG corrected CC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テキスト ボックス 26"/>
          <p:cNvSpPr/>
          <p:nvPr/>
        </p:nvSpPr>
        <p:spPr>
          <a:xfrm>
            <a:off x="3402000" y="3032280"/>
            <a:ext cx="16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CP2.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テキスト ボックス 27"/>
          <p:cNvSpPr/>
          <p:nvPr/>
        </p:nvSpPr>
        <p:spPr>
          <a:xfrm>
            <a:off x="3402000" y="3824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Gill Sans MT"/>
              </a:rPr>
              <a:t>RCP6.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テキスト ボックス 28"/>
          <p:cNvSpPr/>
          <p:nvPr/>
        </p:nvSpPr>
        <p:spPr>
          <a:xfrm>
            <a:off x="3402000" y="331956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CP4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テキスト ボックス 29"/>
          <p:cNvSpPr/>
          <p:nvPr/>
        </p:nvSpPr>
        <p:spPr>
          <a:xfrm>
            <a:off x="3402000" y="36082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RCP8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テキスト ボックス 21"/>
          <p:cNvSpPr/>
          <p:nvPr/>
        </p:nvSpPr>
        <p:spPr>
          <a:xfrm>
            <a:off x="8423280" y="32353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2.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テキスト ボックス 22"/>
          <p:cNvSpPr/>
          <p:nvPr/>
        </p:nvSpPr>
        <p:spPr>
          <a:xfrm>
            <a:off x="8421840" y="382284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Gill Sans MT"/>
              </a:rPr>
              <a:t>R6.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テキスト ボックス 23"/>
          <p:cNvSpPr/>
          <p:nvPr/>
        </p:nvSpPr>
        <p:spPr>
          <a:xfrm>
            <a:off x="8424720" y="35560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4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テキスト ボックス 24"/>
          <p:cNvSpPr/>
          <p:nvPr/>
        </p:nvSpPr>
        <p:spPr>
          <a:xfrm>
            <a:off x="8418600" y="40766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R8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nother possible cause for scenario dependence of CC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42" name="図形グループ 17"/>
          <p:cNvGrpSpPr/>
          <p:nvPr/>
        </p:nvGrpSpPr>
        <p:grpSpPr>
          <a:xfrm>
            <a:off x="1685880" y="1457280"/>
            <a:ext cx="6840720" cy="5400720"/>
            <a:chOff x="1685880" y="1457280"/>
            <a:chExt cx="6840720" cy="5400720"/>
          </a:xfrm>
        </p:grpSpPr>
        <p:sp>
          <p:nvSpPr>
            <p:cNvPr id="443" name="角丸四角形 4"/>
            <p:cNvSpPr/>
            <p:nvPr/>
          </p:nvSpPr>
          <p:spPr>
            <a:xfrm>
              <a:off x="1685880" y="1457280"/>
              <a:ext cx="6815880" cy="5400720"/>
            </a:xfrm>
            <a:prstGeom prst="roundRect">
              <a:avLst>
                <a:gd name="adj" fmla="val 715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444" name="図形グループ 48"/>
            <p:cNvGrpSpPr/>
            <p:nvPr/>
          </p:nvGrpSpPr>
          <p:grpSpPr>
            <a:xfrm>
              <a:off x="1876680" y="1539720"/>
              <a:ext cx="3653280" cy="3065040"/>
              <a:chOff x="1876680" y="1539720"/>
              <a:chExt cx="3653280" cy="3065040"/>
            </a:xfrm>
          </p:grpSpPr>
          <p:grpSp>
            <p:nvGrpSpPr>
              <p:cNvPr id="445" name="図形グループ 31"/>
              <p:cNvGrpSpPr/>
              <p:nvPr/>
            </p:nvGrpSpPr>
            <p:grpSpPr>
              <a:xfrm>
                <a:off x="1876680" y="1539720"/>
                <a:ext cx="3653280" cy="3065040"/>
                <a:chOff x="1876680" y="1539720"/>
                <a:chExt cx="3653280" cy="3065040"/>
              </a:xfrm>
            </p:grpSpPr>
            <p:pic>
              <p:nvPicPr>
                <p:cNvPr id="446" name="直線矢印コネクタ 2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42800" y="3803760"/>
                  <a:ext cx="2822760" cy="383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直線矢印コネクタ 2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383200" y="2145600"/>
                  <a:ext cx="383760" cy="2042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直線コネクタ 2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486880" y="2377080"/>
                  <a:ext cx="1883880" cy="170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直線コネクタ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93000" y="3450240"/>
                  <a:ext cx="1658160" cy="640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0" name="テキスト ボックス 24"/>
                <p:cNvSpPr/>
                <p:nvPr/>
              </p:nvSpPr>
              <p:spPr>
                <a:xfrm>
                  <a:off x="2734920" y="4000320"/>
                  <a:ext cx="2795040" cy="50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Global tempera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  <a:p>
                  <a:pPr>
                    <a:lnSpc>
                      <a:spcPts val="1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chang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</p:txBody>
            </p:sp>
            <p:sp>
              <p:nvSpPr>
                <p:cNvPr id="451" name="テキスト ボックス 25"/>
                <p:cNvSpPr/>
                <p:nvPr/>
              </p:nvSpPr>
              <p:spPr>
                <a:xfrm rot="16200000">
                  <a:off x="528120" y="2887920"/>
                  <a:ext cx="306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Ocean heat uptak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</p:txBody>
            </p:sp>
          </p:grpSp>
          <p:sp>
            <p:nvSpPr>
              <p:cNvPr id="452" name="テキスト ボックス 18"/>
              <p:cNvSpPr/>
              <p:nvPr/>
            </p:nvSpPr>
            <p:spPr>
              <a:xfrm>
                <a:off x="2797920" y="1972800"/>
                <a:ext cx="217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Scenario A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53" name="テキスト ボックス 19"/>
              <p:cNvSpPr/>
              <p:nvPr/>
            </p:nvSpPr>
            <p:spPr>
              <a:xfrm>
                <a:off x="3337920" y="3021480"/>
                <a:ext cx="217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Scenario B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54" name="図形グループ 41"/>
            <p:cNvGrpSpPr/>
            <p:nvPr/>
          </p:nvGrpSpPr>
          <p:grpSpPr>
            <a:xfrm>
              <a:off x="2145960" y="5305320"/>
              <a:ext cx="2805480" cy="1333800"/>
              <a:chOff x="2145960" y="5305320"/>
              <a:chExt cx="2805480" cy="1333800"/>
            </a:xfrm>
          </p:grpSpPr>
          <p:pic>
            <p:nvPicPr>
              <p:cNvPr id="455" name="正方形/長方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5960" y="5305320"/>
                <a:ext cx="2805480" cy="76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正方形/長方形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2145960" y="6104520"/>
                <a:ext cx="2805480" cy="53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下矢印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3142440" y="5742720"/>
                <a:ext cx="794880" cy="615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図形グループ 42"/>
            <p:cNvGrpSpPr/>
            <p:nvPr/>
          </p:nvGrpSpPr>
          <p:grpSpPr>
            <a:xfrm>
              <a:off x="5448240" y="5305320"/>
              <a:ext cx="2805480" cy="1353960"/>
              <a:chOff x="5448240" y="5305320"/>
              <a:chExt cx="2805480" cy="1353960"/>
            </a:xfrm>
          </p:grpSpPr>
          <p:pic>
            <p:nvPicPr>
              <p:cNvPr id="459" name="正方形/長方形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448240" y="5305320"/>
                <a:ext cx="2805480" cy="78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正方形/長方形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5448240" y="6112440"/>
                <a:ext cx="2805480" cy="54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1" name="下矢印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23280" y="5765760"/>
                <a:ext cx="443520" cy="61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2" name="テキスト ボックス 8"/>
            <p:cNvSpPr/>
            <p:nvPr/>
          </p:nvSpPr>
          <p:spPr>
            <a:xfrm>
              <a:off x="2424240" y="476280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cenario A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63" name="テキスト ボックス 9"/>
            <p:cNvSpPr/>
            <p:nvPr/>
          </p:nvSpPr>
          <p:spPr>
            <a:xfrm>
              <a:off x="5758920" y="478548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cenario B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64" name="テキスト ボックス 10"/>
            <p:cNvSpPr/>
            <p:nvPr/>
          </p:nvSpPr>
          <p:spPr>
            <a:xfrm>
              <a:off x="5701680" y="2101680"/>
              <a:ext cx="282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hanges in ocean heat uptake: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Q =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W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LW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H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LH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=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5" name="テキスト ボックス 26"/>
          <p:cNvSpPr/>
          <p:nvPr/>
        </p:nvSpPr>
        <p:spPr>
          <a:xfrm>
            <a:off x="2549520" y="1528920"/>
            <a:ext cx="4865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Efficiency of ocean heat uptak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図プレースホルダー 15" descr="gfig.chng.19.ccr.womgs.woohu-kappa.fai.pv.png"/>
          <p:cNvPicPr/>
          <p:nvPr/>
        </p:nvPicPr>
        <p:blipFill>
          <a:blip r:embed="rId1"/>
          <a:srcRect l="0" t="8791" r="0" b="8791"/>
          <a:stretch/>
        </p:blipFill>
        <p:spPr>
          <a:xfrm>
            <a:off x="2700360" y="2060640"/>
            <a:ext cx="4325760" cy="2674800"/>
          </a:xfrm>
          <a:prstGeom prst="rect">
            <a:avLst/>
          </a:prstGeom>
          <a:ln w="0">
            <a:noFill/>
          </a:ln>
        </p:spPr>
      </p:pic>
      <p:sp>
        <p:nvSpPr>
          <p:cNvPr id="467" name="テキスト ボックス 19"/>
          <p:cNvSpPr/>
          <p:nvPr/>
        </p:nvSpPr>
        <p:spPr>
          <a:xfrm>
            <a:off x="2843280" y="1700280"/>
            <a:ext cx="468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)</a:t>
            </a:r>
            <a:r>
              <a:rPr b="0" lang="ja-JP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Ocean-heat-uptake  (OHU) corrected CC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テキスト ボックス 4"/>
          <p:cNvSpPr/>
          <p:nvPr/>
        </p:nvSpPr>
        <p:spPr>
          <a:xfrm>
            <a:off x="1835280" y="537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R is moderately scenario dependent in our case, but can be corrected in terms of OHU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図プレースホルダー 7" descr="gfig.chng.17.dTdC.womgs.woohu-kappa.fai.png"/>
          <p:cNvPicPr/>
          <p:nvPr/>
        </p:nvPicPr>
        <p:blipFill>
          <a:blip r:embed="rId1"/>
          <a:srcRect l="0" t="8791" r="0" b="8791"/>
          <a:stretch/>
        </p:blipFill>
        <p:spPr>
          <a:xfrm>
            <a:off x="250920" y="386064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70" name="図プレースホルダー 5" descr="gfig.chng.17.dTdC.withmgs.png"/>
          <p:cNvPicPr/>
          <p:nvPr/>
        </p:nvPicPr>
        <p:blipFill>
          <a:blip r:embed="rId2"/>
          <a:srcRect l="0" t="8791" r="0" b="8791"/>
          <a:stretch/>
        </p:blipFill>
        <p:spPr>
          <a:xfrm>
            <a:off x="181080" y="77940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71" name="図プレースホルダー 6" descr="gfig.chng.17.dTdC.womgs.fai.png"/>
          <p:cNvPicPr/>
          <p:nvPr/>
        </p:nvPicPr>
        <p:blipFill>
          <a:blip r:embed="rId3"/>
          <a:srcRect l="0" t="8776" r="0" b="8776"/>
          <a:stretch/>
        </p:blipFill>
        <p:spPr>
          <a:xfrm>
            <a:off x="4708440" y="779400"/>
            <a:ext cx="4326120" cy="2675160"/>
          </a:xfrm>
          <a:prstGeom prst="rect">
            <a:avLst/>
          </a:prstGeom>
          <a:ln w="0">
            <a:noFill/>
          </a:ln>
        </p:spPr>
      </p:pic>
      <p:sp>
        <p:nvSpPr>
          <p:cNvPr id="472" name="テキスト ボックス 10"/>
          <p:cNvSpPr/>
          <p:nvPr/>
        </p:nvSpPr>
        <p:spPr>
          <a:xfrm>
            <a:off x="-7920" y="3240"/>
            <a:ext cx="87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Airborne CO2 is again not a good metrics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テキスト ボックス 16"/>
          <p:cNvSpPr/>
          <p:nvPr/>
        </p:nvSpPr>
        <p:spPr>
          <a:xfrm>
            <a:off x="738360" y="52848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1) With all anthropogenic forcing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テキスト ボックス 18"/>
          <p:cNvSpPr/>
          <p:nvPr/>
        </p:nvSpPr>
        <p:spPr>
          <a:xfrm>
            <a:off x="5299200" y="52848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2) non-CO2 GHG correct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テキスト ボックス 19"/>
          <p:cNvSpPr/>
          <p:nvPr/>
        </p:nvSpPr>
        <p:spPr>
          <a:xfrm>
            <a:off x="162000" y="3565440"/>
            <a:ext cx="4352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)  Ocean heat uptake correct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mplications for establishing metrics for short-lived and long-lived GHG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402920" y="2178000"/>
            <a:ext cx="7497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It is important to recognize the difference between short-lived and long-lived GHGs with the same GWP, in particular for discussing climate stabilization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For stabilization issues, cumulative emission (CE) of long-lived GHGs may be more desirable than concentration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ere may be a moderate scenario dependence of CE, especially for fast scenarios due to that of ocean heat uptake (OHU)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Constraining OHU efficiency may improve the validity of CE as a metrics.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ntroduction: limitation of single basket approa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443560" cy="2808000"/>
          </a:xfrm>
          <a:prstGeom prst="rect">
            <a:avLst/>
          </a:prstGeom>
          <a:ln w="0">
            <a:noFill/>
          </a:ln>
        </p:spPr>
      </p:pic>
      <p:sp>
        <p:nvSpPr>
          <p:cNvPr id="374" name="テキスト ボックス 5"/>
          <p:cNvSpPr/>
          <p:nvPr/>
        </p:nvSpPr>
        <p:spPr>
          <a:xfrm>
            <a:off x="5580000" y="2781360"/>
            <a:ext cx="35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ethane+640GtC” and “1280GtC, No Methane” have the same forcing in terms of GWP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-&gt; “Single basket approach” does not work for discussing stabilization levels. (Eby et al., 2009; Solomon et al., 2011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テキスト ボックス 6"/>
          <p:cNvSpPr/>
          <p:nvPr/>
        </p:nvSpPr>
        <p:spPr>
          <a:xfrm>
            <a:off x="5940360" y="206064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orcings for these two lines have the same  value of GWP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76" name="直線矢印コネクタ 8"/>
          <p:cNvCxnSpPr>
            <a:stCxn id="375" idx="1"/>
          </p:cNvCxnSpPr>
          <p:nvPr/>
        </p:nvCxnSpPr>
        <p:spPr>
          <a:xfrm flipH="1" flipV="1">
            <a:off x="3058560" y="2060280"/>
            <a:ext cx="2881800" cy="232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直線矢印コネクタ 9"/>
          <p:cNvCxnSpPr>
            <a:stCxn id="375" idx="1"/>
          </p:cNvCxnSpPr>
          <p:nvPr/>
        </p:nvCxnSpPr>
        <p:spPr>
          <a:xfrm flipH="1">
            <a:off x="3058560" y="2292120"/>
            <a:ext cx="2881800" cy="12924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395280" y="4437000"/>
            <a:ext cx="4911840" cy="2421000"/>
          </a:xfrm>
          <a:prstGeom prst="rect">
            <a:avLst/>
          </a:prstGeom>
          <a:ln w="0">
            <a:noFill/>
          </a:ln>
        </p:spPr>
      </p:pic>
      <p:sp>
        <p:nvSpPr>
          <p:cNvPr id="379" name="テキスト ボックス 13"/>
          <p:cNvSpPr/>
          <p:nvPr/>
        </p:nvSpPr>
        <p:spPr>
          <a:xfrm>
            <a:off x="5219640" y="59500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TP is superior when discussing stabiliz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Different roles of short-lived and long-lived agen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71280" y="1599840"/>
            <a:ext cx="8172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hort-lived: “trim” the peak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Long-lived: determine the stabilization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042920" y="3645000"/>
            <a:ext cx="785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-basket approach” is proposed ( Solomon et al., 2011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&gt; GTP for short-lived ag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umulative emission for long-lived ag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2 concentration has been often used as a carbon emission metrics…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テキスト ボックス 7"/>
          <p:cNvSpPr/>
          <p:nvPr/>
        </p:nvSpPr>
        <p:spPr>
          <a:xfrm>
            <a:off x="6369120" y="602136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PCC  AR5 WG3 (2007)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0" y="2349360"/>
            <a:ext cx="90504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…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en concentration metrics is converted to socio-economic scenarios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492880" cy="3959280"/>
          </a:xfrm>
          <a:prstGeom prst="rect">
            <a:avLst/>
          </a:prstGeom>
          <a:ln w="0">
            <a:noFill/>
          </a:ln>
        </p:spPr>
      </p:pic>
      <p:sp>
        <p:nvSpPr>
          <p:cNvPr id="388" name="テキスト ボックス 3"/>
          <p:cNvSpPr/>
          <p:nvPr/>
        </p:nvSpPr>
        <p:spPr>
          <a:xfrm>
            <a:off x="7071480" y="655020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PCC  AR5 WG3 (2007)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テキスト ボックス 4"/>
          <p:cNvSpPr/>
          <p:nvPr/>
        </p:nvSpPr>
        <p:spPr>
          <a:xfrm>
            <a:off x="1476360" y="5877000"/>
            <a:ext cx="715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O2 emission paths to achieve CO2 concentration stab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umulative carbon emission as a metric for climate stabilization level and transient climate respons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4051440" cy="3311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5076720" y="2852640"/>
            <a:ext cx="3861000" cy="3264120"/>
          </a:xfrm>
          <a:prstGeom prst="rect">
            <a:avLst/>
          </a:prstGeom>
          <a:ln w="0">
            <a:noFill/>
          </a:ln>
        </p:spPr>
      </p:pic>
      <p:sp>
        <p:nvSpPr>
          <p:cNvPr id="393" name="テキスト ボックス 6"/>
          <p:cNvSpPr/>
          <p:nvPr/>
        </p:nvSpPr>
        <p:spPr>
          <a:xfrm>
            <a:off x="6012000" y="630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atthews et al. (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tifica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テキスト ボックス 2"/>
          <p:cNvSpPr/>
          <p:nvPr/>
        </p:nvSpPr>
        <p:spPr>
          <a:xfrm>
            <a:off x="900000" y="1557360"/>
            <a:ext cx="8244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CR = T/CE = (T/CA)(CA/CE) = α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CR: Climate-carbon response (matthews et al., 2009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α(=T/CA): Temperature rise per unit airborne carb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(=CA/CE): Airborne fra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テキスト ボックス 3"/>
          <p:cNvSpPr/>
          <p:nvPr/>
        </p:nvSpPr>
        <p:spPr>
          <a:xfrm>
            <a:off x="912960" y="3716280"/>
            <a:ext cx="611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Cf.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Climate sensitivity: λ=T/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: Radiative forc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テキスト ボックス 4"/>
          <p:cNvSpPr/>
          <p:nvPr/>
        </p:nvSpPr>
        <p:spPr>
          <a:xfrm>
            <a:off x="1258920" y="544500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R may be regarded as “earth system sensitivity”, with the forcing being anthropogenic carbon emission rather than radiative forcing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37450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CR may be independent of scenari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4788000" y="765000"/>
            <a:ext cx="4152960" cy="5842080"/>
          </a:xfrm>
          <a:prstGeom prst="rect">
            <a:avLst/>
          </a:prstGeom>
          <a:ln w="0">
            <a:noFill/>
          </a:ln>
        </p:spPr>
      </p:pic>
      <p:sp>
        <p:nvSpPr>
          <p:cNvPr id="400" name="テキスト ボックス 5"/>
          <p:cNvSpPr/>
          <p:nvPr/>
        </p:nvSpPr>
        <p:spPr>
          <a:xfrm>
            <a:off x="5788080" y="6922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%/year incre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テキスト ボックス 6"/>
          <p:cNvSpPr/>
          <p:nvPr/>
        </p:nvSpPr>
        <p:spPr>
          <a:xfrm>
            <a:off x="5657760" y="35002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stanteneous x2 &amp; x4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MIROC-ESM: a GCM-based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arth System Model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5796000" y="3303720"/>
            <a:ext cx="2970000" cy="32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SR/NIES/FRCG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42(~2.8ºx2.8º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80 (TOA:80km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GC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CO (CCSR/FRCGC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urvilinear grid syste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0.5-1.0)º x 1.4º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4" name="図形グループ 3"/>
          <p:cNvGrpSpPr/>
          <p:nvPr/>
        </p:nvGrpSpPr>
        <p:grpSpPr>
          <a:xfrm>
            <a:off x="1476360" y="4265640"/>
            <a:ext cx="3600360" cy="2592360"/>
            <a:chOff x="1476360" y="4265640"/>
            <a:chExt cx="3600360" cy="2592360"/>
          </a:xfrm>
        </p:grpSpPr>
        <p:sp>
          <p:nvSpPr>
            <p:cNvPr id="405" name="正方形/長方形 5"/>
            <p:cNvSpPr/>
            <p:nvPr/>
          </p:nvSpPr>
          <p:spPr>
            <a:xfrm>
              <a:off x="1476360" y="4309200"/>
              <a:ext cx="3600360" cy="254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6" name="正方形/長方形 7"/>
            <p:cNvSpPr/>
            <p:nvPr/>
          </p:nvSpPr>
          <p:spPr>
            <a:xfrm>
              <a:off x="2085120" y="4778280"/>
              <a:ext cx="2324160" cy="957600"/>
            </a:xfrm>
            <a:prstGeom prst="rect">
              <a:avLst/>
            </a:prstGeom>
            <a:solidFill>
              <a:srgbClr val="fdd7ba"/>
            </a:solidFill>
            <a:ln w="25560">
              <a:solidFill>
                <a:srgbClr val="3891a7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7" name="正方形/長方形 8"/>
            <p:cNvSpPr/>
            <p:nvPr/>
          </p:nvSpPr>
          <p:spPr>
            <a:xfrm>
              <a:off x="1644840" y="5847840"/>
              <a:ext cx="1454040" cy="891360"/>
            </a:xfrm>
            <a:prstGeom prst="rect">
              <a:avLst/>
            </a:prstGeom>
            <a:solidFill>
              <a:srgbClr val="fcbcbc"/>
            </a:solidFill>
            <a:ln w="25560">
              <a:solidFill>
                <a:srgbClr val="ff0000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8" name="正方形/長方形 10"/>
            <p:cNvSpPr/>
            <p:nvPr/>
          </p:nvSpPr>
          <p:spPr>
            <a:xfrm>
              <a:off x="3381480" y="5861880"/>
              <a:ext cx="1462320" cy="891360"/>
            </a:xfrm>
            <a:prstGeom prst="rect">
              <a:avLst/>
            </a:prstGeom>
            <a:solidFill>
              <a:srgbClr val="bce292"/>
            </a:solidFill>
            <a:ln w="25560">
              <a:solidFill>
                <a:srgbClr val="00b050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9" name="テキスト ボックス 10"/>
            <p:cNvSpPr/>
            <p:nvPr/>
          </p:nvSpPr>
          <p:spPr>
            <a:xfrm>
              <a:off x="2051280" y="4778280"/>
              <a:ext cx="2443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Atmosphere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0" name="テキスト ボックス 11"/>
            <p:cNvSpPr/>
            <p:nvPr/>
          </p:nvSpPr>
          <p:spPr>
            <a:xfrm>
              <a:off x="1476360" y="5829480"/>
              <a:ext cx="1760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Ocean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1" name="テキスト ボックス 12"/>
            <p:cNvSpPr/>
            <p:nvPr/>
          </p:nvSpPr>
          <p:spPr>
            <a:xfrm>
              <a:off x="3217320" y="5832000"/>
              <a:ext cx="1760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Land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2" name="テキスト ボックス 13"/>
            <p:cNvSpPr/>
            <p:nvPr/>
          </p:nvSpPr>
          <p:spPr>
            <a:xfrm>
              <a:off x="2193840" y="5033880"/>
              <a:ext cx="211932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MIROC-AGCM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3" name="テキスト ボックス 14"/>
            <p:cNvSpPr/>
            <p:nvPr/>
          </p:nvSpPr>
          <p:spPr>
            <a:xfrm>
              <a:off x="2193840" y="5349240"/>
              <a:ext cx="211932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SPRINTARS (CHASER)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4" name="テキスト ボックス 15"/>
            <p:cNvSpPr/>
            <p:nvPr/>
          </p:nvSpPr>
          <p:spPr>
            <a:xfrm>
              <a:off x="1798560" y="609408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COCO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5" name="テキスト ボックス 16"/>
            <p:cNvSpPr/>
            <p:nvPr/>
          </p:nvSpPr>
          <p:spPr>
            <a:xfrm>
              <a:off x="1798560" y="640944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NPZD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6" name="テキスト ボックス 17"/>
            <p:cNvSpPr/>
            <p:nvPr/>
          </p:nvSpPr>
          <p:spPr>
            <a:xfrm>
              <a:off x="3553560" y="610920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MATSIRO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7" name="テキスト ボックス 18"/>
            <p:cNvSpPr/>
            <p:nvPr/>
          </p:nvSpPr>
          <p:spPr>
            <a:xfrm>
              <a:off x="3551760" y="642384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SEIB-DGVM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8" name="テキスト ボックス 19"/>
            <p:cNvSpPr/>
            <p:nvPr/>
          </p:nvSpPr>
          <p:spPr>
            <a:xfrm>
              <a:off x="2180160" y="4265640"/>
              <a:ext cx="21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403"/>
                  </a:solidFill>
                  <a:latin typeface="HGｺﾞｼｯｸE"/>
                </a:rPr>
                <a:t>MIROC-ESM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419" name="図 20" descr=""/>
          <p:cNvPicPr/>
          <p:nvPr/>
        </p:nvPicPr>
        <p:blipFill>
          <a:blip r:embed="rId1"/>
          <a:stretch/>
        </p:blipFill>
        <p:spPr>
          <a:xfrm>
            <a:off x="390600" y="3565440"/>
            <a:ext cx="1687320" cy="1689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Users\michio\Documents\My Dropbox\論文査読・投稿\Climate Sense\図1地球システム統合モデル_eng.tif"/>
          <p:cNvPicPr/>
          <p:nvPr/>
        </p:nvPicPr>
        <p:blipFill>
          <a:blip r:embed="rId2"/>
          <a:stretch/>
        </p:blipFill>
        <p:spPr>
          <a:xfrm>
            <a:off x="1476360" y="1413000"/>
            <a:ext cx="40575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3:09:04Z</dcterms:created>
  <dc:creator>michio</dc:creator>
  <dc:description/>
  <dc:language>en-US</dc:language>
  <cp:lastModifiedBy>michio</cp:lastModifiedBy>
  <dcterms:modified xsi:type="dcterms:W3CDTF">2012-03-27T21:24:15Z</dcterms:modified>
  <cp:revision>14</cp:revision>
  <dc:subject/>
  <dc:title>Carbon emission metrics and its relevance to metrics for non-CO2 GHGs</dc:title>
</cp:coreProperties>
</file>