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5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5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5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A03-B8D1-4CF6-9109-614679425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DCAB-5575-401F-B429-B4D2EA74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503-1D5E-4BE8-A94A-F83953F9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DAFF-DF7B-4812-9BEA-AC319C45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B48F-EFAF-4E63-915E-5371E0ED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A283-9338-4E09-AF19-91E29E14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5AF-566F-4469-A830-18C779AE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CDF-920F-4439-AFB2-959E0E45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944-E9A4-4683-9430-5E87A21C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1400" y="4689360"/>
            <a:ext cx="53755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FBC-BCF6-48A8-B3E6-03F8415B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39A-5604-4756-B18D-CE19522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4E5F-AE41-4A8C-A377-072685F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A3D8-617D-4F34-82EA-E838E65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A5E9-E462-4AC4-9D6A-15ED054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CE28-8C75-42EB-8552-C50757D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16A6C-1284-4448-8A77-8B38BAB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F245-5C9F-4709-AECD-B99467EA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680E-2456-4B1E-8F1C-55EA74C7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3598-EA01-462B-8CBD-65230D0E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FAEDE-F51B-4FD7-97F6-3327F0B0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4B3B-5229-4162-8662-2B2B7E1F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68B-BF81-40CE-85DE-36C51969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9DA61-652B-4423-92D7-82DB7B2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CC4D-040F-4CDC-967C-80159702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5FA0-4490-4E78-B875-911B99B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5004-7F55-4528-A04A-296B8E53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53CC-9AC4-4E29-AC58-158077C0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428F-F343-4D9B-BE0F-9630DB9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4DBD-9283-4CF4-8F57-86FAE92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7C98-0CA9-4F10-9C91-49650C7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BE39-C83E-49B9-8E04-5D8850A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D088-0E3D-4502-8DCC-98291153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0D2-6866-4A87-BCFA-A50E2D58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35D7-9F9E-498B-AC5B-CC6501DF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A3EC-F4F3-484E-B2A2-03625B8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C660-34C9-40C3-AA97-18B0BEF3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7778-4C8C-4924-9434-D124E31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F563F-DF5C-4CEC-B075-D9C4C18C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8B2A0-4938-4098-AA95-5ABE7A8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6AD1-D898-4CAB-9B70-E85D6D9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4D1A-879B-4696-8D4A-3EDB89F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106C4-240F-4C17-AF47-C2ED60B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0929-76C6-47E8-8257-CF0EF0B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811D-730C-4395-A871-4791FB6C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AD36-C6F1-4F7D-A86F-CE51945D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1A7B-1613-4FCD-A631-842EDC0B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198CD-D040-41C0-BD6D-07F01DA9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7C36-68B7-436F-94DE-1CB0B63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16F4-AFDD-45CD-94E7-0B938F7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C311-D8A1-4E23-B02E-B4EC68A7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03A5-8D36-4BC3-B2AC-701C4A0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BF11E-3114-4CE9-A79E-8AEF80E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BFDF2-6F5A-4ACA-92AE-17216F1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D29B9-33D2-427B-87F6-F4BD04A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629F5-6CAE-4D14-810B-B293946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ADDA6-436A-4299-ADCB-6F29CA12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969D-A230-4789-B6E9-F39D9C6F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5F0B1-9416-44D2-84A2-3CC9804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F7DB7-7D39-45A5-B9E5-A1621268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42B48-1211-4497-BF97-10E9B85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CF113-93DF-4D96-8753-8294B3E8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02710-67E6-4164-8632-AF13970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1C2EC-7A96-4875-9B9E-32291D0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9C6E4-5602-407F-8BC5-8111C36B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3ED5-FF85-4135-A4B7-F7EF0A6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26854-BD78-49C9-B771-7DD7270A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08BD7-AE62-415E-87BB-359C8BF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038D6-AF8E-4945-B162-4696719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66577-A881-44D8-8369-94B7750E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9CACE-ACA0-4BED-BC52-9686958F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5C044-3F0A-424B-8A27-3CF350F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3669-E6BF-49F9-B466-EF185C5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F1752-94BF-4A84-BBC2-D9A5F049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D518A-FD05-467E-8013-305CECF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FF48-1C46-45D4-A51C-F169647B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5EBA-51FD-4868-91BB-5BF745C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E723B-8ACD-465D-A186-BB02190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6EFB6-6540-4FE7-8263-F88A3BA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A705-386B-4B4C-8689-931CB0E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B1A7-F55F-4DA3-A9DD-01EA018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D2D2-119C-49BD-97C6-9A57DC5C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4D6BE-80F0-47E8-9063-B6A01A1A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119A4-FDE8-4ED1-B227-910ABF26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2EB53-EC72-43AE-8EAE-C57237E4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15FDA-EA83-4CA0-A888-A9A61453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9F1EE-DCEC-4C19-9AEE-079D142E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C0430-0C6D-4760-B414-E7ADC418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9B191-485C-4AB9-89D4-AE4E927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35BF4-B835-4A8C-A9DE-C2D2D18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29E11-2C90-4B9F-93F1-5207A06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C429-1107-415D-A2D9-36AA880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0C1B0-58AB-46B3-9B10-98BE4EBF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24FB0-380D-42B9-8731-B9DE0BD7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03936-22E8-4FF2-8B64-DA1C6402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1CBF4-0BD5-49D8-86FF-41FD4A02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13C41-99F2-4661-8CB6-F29DD4D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F0453-630E-459A-8298-8DE861B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1A0A1-E1DE-47E8-85B5-1792DFD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3E9AA-7F8E-4CBE-9798-36941DF3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2DCC2-C789-43F5-97B3-63067180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E8EC1-A266-4FD6-B6B8-CF15476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9CA88-9352-40FC-A8F9-542135D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6672F-D3B2-4306-972C-37D4200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CBDC3-4435-4D26-99DF-1EFD27C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76003-F05F-4B1B-B5AA-9748C0F4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AA302-A6DF-4E53-B5C1-C302C35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ECCB3-1E21-4138-9764-71358D75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33648-A0E0-4753-B4E9-353C362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87F7F-9B38-405A-8773-52AF7EFD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3ACF9-840A-47AF-B06B-421638B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1C74E-6066-4A14-88EC-10F8D98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56357-D3AB-4D28-9929-2727BEBE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A1F49-CD95-4E8E-8175-5FA700E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925-9265-4711-9DE6-3D24BF43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D624B-BD72-46F4-A7E1-3CAA5C0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8F5DC-D31A-4FBB-B45A-5AF41A0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D3D85-F6D4-48DD-9AE4-DFAB2E1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EA15B-22B3-4C3D-B314-F1A6A335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3853D-FBD3-4984-BA15-D7D1BEE1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D8123-8CA0-4980-874D-42C403E1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C46DD-70C8-4E8D-8A44-4C9E2BC0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1A519-0AE7-4BDB-AC93-63908DC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A0704-9465-4417-A883-84B1CDD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E1E12-616A-4720-A507-32271DC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AF905-4BF3-4BDE-BC5F-60EF0941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635F4-4C97-4599-851E-5A96CEB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4FE8D-50B4-437B-ACC9-4E826E1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F7FA6-FCF6-447E-BE45-EAB30AE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AABE1-11D4-4D72-A61B-FBB13CB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8FF5A-E83A-4B58-AEE6-BF25AC9E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F62D4-E705-4CED-87C9-4F028077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FA70E-4571-4B9F-A31B-6F8CAED6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6B1BF-A74C-421F-80A5-100DD3F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B97B6-BE1B-4414-A6CE-257C43B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49E39-1D30-4C85-897D-F6216BEE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9DAD1-5AB0-4C42-930F-31FCCDD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18403-95FC-4E40-B0CE-2586741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3C865-4196-48A1-BADC-681FB62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F6EA1-5829-4390-BC9A-C872A7B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81A89-E284-497A-82DF-489D3FD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523C6-0D01-4574-B6DB-FF481B64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3D439-4EE2-452D-8EF8-040DA5E7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BB52F-5092-4B4C-BCF3-B98EDB51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EF158-78AF-43CB-8AE5-E499B3F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67B33-5BCA-48DC-A4FF-BC0673D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0A059-3CA6-4BEC-AB9F-A9DCAC1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C1B6E-EBB4-4597-B463-ED94640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2936F-781D-46E8-81E2-E6508B0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3FC06-E753-453F-822A-3301AEA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05BA7-AD12-4D34-B813-3BB1207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C1192-9859-4C0C-AC26-D6F321A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FD8A6-8EFC-46B2-B346-142BB93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72900-A470-42C9-B024-22B582C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4BDE1-E435-4363-B2BE-106B4DE4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EC7D9-C388-48FE-904F-00CD999B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847-B139-44DB-A8FA-FCFC68C2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42EF-F7CB-4263-A818-C4AD3C8F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DB0-92D6-4846-8DBD-7441088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A2A8-A4C1-444B-B9E8-0F90402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A8E-16FC-4570-98F5-C92153C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7D26-8CE6-4522-B886-B17DB96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56B8-4AA5-4585-8529-61129F1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32A1-5AAB-41CF-B18E-FC790E9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251F-AFB4-45A1-B9A1-0E4D337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961-ACDC-4602-8F15-8BEDAC7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764-D93F-4CAB-B1E4-D11CCD4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50F1-3E2B-4929-A28B-D91FEDB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C14-687A-40F9-A9E0-FCFB3221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1CA-EDD5-42CD-8947-099B208A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A6B-E62B-4729-A5B9-900B5FCF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8C5-2CE5-4DA6-8BC8-2B35E1F1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F3E3-703C-4B63-BA11-C2BEC4AD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6B5C-C2B5-44AF-80CA-9DAE567A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7D06-59DC-454F-9471-601A253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7B35-2D2F-4B75-931D-E225EF18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95E8-CA43-4444-BB26-83A21F3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6243-9125-4055-8605-E08215D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462D-A38A-48C5-87EF-5F2FE39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6DC5-9D18-48DD-B1CA-E5A7468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912F-1844-4BDC-BDA8-04B8EAC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106-BF6D-48AD-A80C-7238A21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99EA-53FB-400B-89B4-2D774F4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FAA3-4545-410A-B9AF-8E63FE80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5256-9D20-4007-AAEA-99871C2F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B1E2-5A7C-4509-ADD1-22D489FF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04D6-F9AD-43D5-B4BF-4D03B0D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36DB-E09F-40FF-8779-14D7A9BF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BA7D9-8664-4452-8201-4E3E55F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B675-5D61-4548-AB8A-D2ECD5E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2159-6B92-45C6-94CE-EF16DF43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DBB5-17D5-4403-9A76-A5F5CFF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7B0-A203-4436-A4E4-88886DC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74FA-632D-4810-A494-BBD11ED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A71A-8DB9-4BA4-B32A-18595A5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45CC-1155-41AC-8D69-78E4ABBD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1EED-5EF4-4E31-BD1A-55312A4C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0846-4BE6-4CCD-A745-4FB78F5F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A5796-3E74-4854-A2DB-51258D1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45EC-7A66-4414-93CE-B399861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17D3-B930-4390-9627-CEB7FCC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8FDD-7D89-4349-B348-D1A9FD9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533E-F4B2-429A-AEA6-BD3AAF1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685-2B7A-45E1-83D5-3057E16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EFEDB-7CE1-458A-BDD6-13988557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D861-B6A0-49A2-8590-7ECC35A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6148-2CC8-4A57-9F44-521DC8E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95E8C-1819-4DB4-8F7C-6203025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D4FC-A1C1-4199-8BE2-1B5A7947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CD43-3461-4541-8BD6-6AF10AB2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2F72-F9A9-4624-9768-0A8FD4F0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00CB-BC5C-4C9D-B404-09109A0E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C2A1-6385-4CF6-A5B9-421D943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32F1-96F8-47C3-A396-4ECED66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083-0215-489A-9F17-12942D533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54BF9-1F8C-4E59-80F8-67443BD7B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7983D-C49D-44D9-9FE5-D87BD084B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6410B-5CFE-4FDA-88EF-F0A086EF9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B4E68-EB1A-490C-AA21-A536057CA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73848-C876-4F60-8817-AB51BDA09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9E338-A00F-42FD-BCF8-E5E431016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799F0-7371-4A9B-B98B-0A8EF7D3A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99984-81C5-4100-8CC2-40724D07A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18549-0F29-4CA2-AF44-82D925AC4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F7FA6-0BB3-4349-9053-1D83A99F2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3EE95-6556-429F-BB6C-677E54984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cenery_003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285-09A6-45DC-B91F-1839CB139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PCClogoWMOUNEP_BL.ai"/>
          <p:cNvPicPr/>
          <p:nvPr/>
        </p:nvPicPr>
        <p:blipFill>
          <a:blip r:embed="rId2"/>
          <a:stretch/>
        </p:blipFill>
        <p:spPr>
          <a:xfrm>
            <a:off x="4325760" y="5791320"/>
            <a:ext cx="4741920" cy="101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5D4C-BC4B-4916-B142-B02907FFE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C2C-4E59-4887-A8DA-F120AE54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CB943-9FE4-4817-83EE-B59496F0C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DF641-88A5-417B-948F-62805AC87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HG metrics in the WGIII contribution to the AR5</a:t>
            </a:r>
            <a:br>
              <a:rPr sz="15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nn, 03 April 2012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n Minx, Steffen Brunner &amp; Ottmar Edenho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4" descr="cc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4460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explicit about how metrics ar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utal clarification of alternative emission metrics and their relationships – including both physical and more comprehensive economic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e underlying uncertainties and value jud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relationship alternative emission metrics to purpose of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ative comparisons and/or assessment of numerical values for alternative metrics as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ssessment of metrics in context of WGIII contribution to A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8FF910-7B50-49E8-A8D3-5B4BCC1FECD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feld 2"/>
          <p:cNvSpPr/>
          <p:nvPr/>
        </p:nvSpPr>
        <p:spPr>
          <a:xfrm>
            <a:off x="1567440" y="32130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449280" y="1422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C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and scientifically sound review of the relevant literatu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disparate views for which there is significant scientific or technical support;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-neutral presentation of the scientific content in a manner relevant to policy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417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C9AC3F-7B06-45A7-8D77-6729CE5A503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449280" y="134136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llenges for WGIII assessmen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scientific resolution of value di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to distinguish facts and values n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potentially fundamental uncertainties associated with long-term policy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lications for WGIII assess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of uncertainties both in quantitative and qualitativ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cy of contested value-laden assumptions and implicit value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0" y="561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CEE402-C90F-411E-B313-401592ECD6A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bgerundetes Rechteck 2"/>
          <p:cNvSpPr/>
          <p:nvPr/>
        </p:nvSpPr>
        <p:spPr>
          <a:xfrm>
            <a:off x="1619280" y="1989000"/>
            <a:ext cx="6265800" cy="3230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CC and other scientific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Division of labour at the science-polic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A27246-DA88-46CE-9957-4183E0DB4BD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Bild1"/>
          <p:cNvPicPr/>
          <p:nvPr/>
        </p:nvPicPr>
        <p:blipFill>
          <a:blip r:embed="rId1"/>
          <a:stretch/>
        </p:blipFill>
        <p:spPr>
          <a:xfrm>
            <a:off x="1116000" y="1557360"/>
            <a:ext cx="6594480" cy="2913120"/>
          </a:xfrm>
          <a:prstGeom prst="rect">
            <a:avLst/>
          </a:prstGeom>
          <a:ln w="0">
            <a:noFill/>
          </a:ln>
        </p:spPr>
      </p:pic>
      <p:sp>
        <p:nvSpPr>
          <p:cNvPr id="871" name="Textfeld 1"/>
          <p:cNvSpPr/>
          <p:nvPr/>
        </p:nvSpPr>
        <p:spPr>
          <a:xfrm>
            <a:off x="2137320" y="5003640"/>
            <a:ext cx="435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Edenhofer and Kowarsch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0" y="3459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GIII Assessment: Exploring the Solution Space – a map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7C95EF-BD1C-4501-9CEE-22774CDD9F7A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1"/>
          <a:stretch/>
        </p:blipFill>
        <p:spPr>
          <a:xfrm>
            <a:off x="971640" y="1295280"/>
            <a:ext cx="7200720" cy="5407200"/>
          </a:xfrm>
          <a:prstGeom prst="rect">
            <a:avLst/>
          </a:prstGeom>
          <a:ln w="0">
            <a:noFill/>
          </a:ln>
        </p:spPr>
      </p:pic>
      <p:sp>
        <p:nvSpPr>
          <p:cNvPr id="875" name="Freeform 10"/>
          <p:cNvSpPr/>
          <p:nvPr/>
        </p:nvSpPr>
        <p:spPr>
          <a:xfrm>
            <a:off x="2610000" y="3024360"/>
            <a:ext cx="866520" cy="2892240"/>
          </a:xfrm>
          <a:custGeom>
            <a:avLst/>
            <a:gdLst/>
            <a:ahLst/>
            <a:rect l="l" t="t" r="r" b="b"/>
            <a:pathLst>
              <a:path w="546" h="1822">
                <a:moveTo>
                  <a:pt x="392" y="1822"/>
                </a:moveTo>
                <a:cubicBezTo>
                  <a:pt x="417" y="1750"/>
                  <a:pt x="403" y="1666"/>
                  <a:pt x="365" y="1601"/>
                </a:cubicBezTo>
                <a:cubicBezTo>
                  <a:pt x="347" y="1571"/>
                  <a:pt x="318" y="1549"/>
                  <a:pt x="298" y="1520"/>
                </a:cubicBezTo>
                <a:cubicBezTo>
                  <a:pt x="289" y="1490"/>
                  <a:pt x="268" y="1469"/>
                  <a:pt x="258" y="1440"/>
                </a:cubicBezTo>
                <a:cubicBezTo>
                  <a:pt x="263" y="1304"/>
                  <a:pt x="252" y="1274"/>
                  <a:pt x="285" y="1179"/>
                </a:cubicBezTo>
                <a:cubicBezTo>
                  <a:pt x="283" y="1157"/>
                  <a:pt x="283" y="1134"/>
                  <a:pt x="278" y="1112"/>
                </a:cubicBezTo>
                <a:cubicBezTo>
                  <a:pt x="272" y="1088"/>
                  <a:pt x="218" y="1038"/>
                  <a:pt x="198" y="1025"/>
                </a:cubicBezTo>
                <a:cubicBezTo>
                  <a:pt x="188" y="998"/>
                  <a:pt x="180" y="995"/>
                  <a:pt x="158" y="978"/>
                </a:cubicBezTo>
                <a:cubicBezTo>
                  <a:pt x="141" y="965"/>
                  <a:pt x="133" y="946"/>
                  <a:pt x="117" y="931"/>
                </a:cubicBezTo>
                <a:cubicBezTo>
                  <a:pt x="77" y="849"/>
                  <a:pt x="131" y="948"/>
                  <a:pt x="84" y="891"/>
                </a:cubicBezTo>
                <a:cubicBezTo>
                  <a:pt x="73" y="877"/>
                  <a:pt x="67" y="859"/>
                  <a:pt x="57" y="844"/>
                </a:cubicBezTo>
                <a:cubicBezTo>
                  <a:pt x="50" y="820"/>
                  <a:pt x="34" y="813"/>
                  <a:pt x="24" y="790"/>
                </a:cubicBezTo>
                <a:cubicBezTo>
                  <a:pt x="18" y="777"/>
                  <a:pt x="10" y="750"/>
                  <a:pt x="10" y="750"/>
                </a:cubicBezTo>
                <a:cubicBezTo>
                  <a:pt x="12" y="723"/>
                  <a:pt x="0" y="609"/>
                  <a:pt x="51" y="583"/>
                </a:cubicBezTo>
                <a:cubicBezTo>
                  <a:pt x="63" y="577"/>
                  <a:pt x="95" y="568"/>
                  <a:pt x="111" y="563"/>
                </a:cubicBezTo>
                <a:cubicBezTo>
                  <a:pt x="177" y="517"/>
                  <a:pt x="229" y="509"/>
                  <a:pt x="305" y="489"/>
                </a:cubicBezTo>
                <a:cubicBezTo>
                  <a:pt x="337" y="468"/>
                  <a:pt x="317" y="479"/>
                  <a:pt x="365" y="462"/>
                </a:cubicBezTo>
                <a:cubicBezTo>
                  <a:pt x="391" y="453"/>
                  <a:pt x="393" y="430"/>
                  <a:pt x="412" y="415"/>
                </a:cubicBezTo>
                <a:cubicBezTo>
                  <a:pt x="429" y="401"/>
                  <a:pt x="483" y="397"/>
                  <a:pt x="499" y="395"/>
                </a:cubicBezTo>
                <a:cubicBezTo>
                  <a:pt x="525" y="386"/>
                  <a:pt x="531" y="378"/>
                  <a:pt x="546" y="355"/>
                </a:cubicBezTo>
                <a:cubicBezTo>
                  <a:pt x="541" y="314"/>
                  <a:pt x="546" y="288"/>
                  <a:pt x="519" y="261"/>
                </a:cubicBezTo>
                <a:cubicBezTo>
                  <a:pt x="512" y="238"/>
                  <a:pt x="502" y="231"/>
                  <a:pt x="486" y="214"/>
                </a:cubicBezTo>
                <a:cubicBezTo>
                  <a:pt x="483" y="169"/>
                  <a:pt x="497" y="117"/>
                  <a:pt x="472" y="80"/>
                </a:cubicBezTo>
                <a:cubicBezTo>
                  <a:pt x="463" y="66"/>
                  <a:pt x="412" y="16"/>
                  <a:pt x="412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1660680" y="3024360"/>
            <a:ext cx="1625400" cy="2892240"/>
          </a:xfrm>
          <a:custGeom>
            <a:avLst/>
            <a:gdLst/>
            <a:ahLst/>
            <a:rect l="l" t="t" r="r" b="b"/>
            <a:pathLst>
              <a:path w="1024" h="1822">
                <a:moveTo>
                  <a:pt x="977" y="1822"/>
                </a:moveTo>
                <a:cubicBezTo>
                  <a:pt x="970" y="1773"/>
                  <a:pt x="970" y="1754"/>
                  <a:pt x="930" y="1728"/>
                </a:cubicBezTo>
                <a:cubicBezTo>
                  <a:pt x="919" y="1697"/>
                  <a:pt x="908" y="1689"/>
                  <a:pt x="876" y="1681"/>
                </a:cubicBezTo>
                <a:cubicBezTo>
                  <a:pt x="861" y="1658"/>
                  <a:pt x="848" y="1659"/>
                  <a:pt x="829" y="1641"/>
                </a:cubicBezTo>
                <a:cubicBezTo>
                  <a:pt x="819" y="1608"/>
                  <a:pt x="830" y="1631"/>
                  <a:pt x="803" y="1607"/>
                </a:cubicBezTo>
                <a:cubicBezTo>
                  <a:pt x="791" y="1597"/>
                  <a:pt x="769" y="1574"/>
                  <a:pt x="769" y="1574"/>
                </a:cubicBezTo>
                <a:cubicBezTo>
                  <a:pt x="752" y="1527"/>
                  <a:pt x="716" y="1489"/>
                  <a:pt x="689" y="1447"/>
                </a:cubicBezTo>
                <a:cubicBezTo>
                  <a:pt x="681" y="1435"/>
                  <a:pt x="685" y="1417"/>
                  <a:pt x="675" y="1407"/>
                </a:cubicBezTo>
                <a:cubicBezTo>
                  <a:pt x="671" y="1402"/>
                  <a:pt x="666" y="1398"/>
                  <a:pt x="662" y="1393"/>
                </a:cubicBezTo>
                <a:cubicBezTo>
                  <a:pt x="641" y="1332"/>
                  <a:pt x="577" y="1286"/>
                  <a:pt x="528" y="1246"/>
                </a:cubicBezTo>
                <a:cubicBezTo>
                  <a:pt x="504" y="1226"/>
                  <a:pt x="483" y="1201"/>
                  <a:pt x="461" y="1179"/>
                </a:cubicBezTo>
                <a:cubicBezTo>
                  <a:pt x="447" y="1165"/>
                  <a:pt x="406" y="1138"/>
                  <a:pt x="387" y="1125"/>
                </a:cubicBezTo>
                <a:cubicBezTo>
                  <a:pt x="361" y="1085"/>
                  <a:pt x="321" y="1059"/>
                  <a:pt x="280" y="1038"/>
                </a:cubicBezTo>
                <a:cubicBezTo>
                  <a:pt x="273" y="1034"/>
                  <a:pt x="266" y="1030"/>
                  <a:pt x="260" y="1025"/>
                </a:cubicBezTo>
                <a:cubicBezTo>
                  <a:pt x="255" y="1021"/>
                  <a:pt x="252" y="1014"/>
                  <a:pt x="247" y="1011"/>
                </a:cubicBezTo>
                <a:cubicBezTo>
                  <a:pt x="235" y="1004"/>
                  <a:pt x="219" y="1004"/>
                  <a:pt x="206" y="998"/>
                </a:cubicBezTo>
                <a:cubicBezTo>
                  <a:pt x="140" y="966"/>
                  <a:pt x="224" y="1003"/>
                  <a:pt x="173" y="971"/>
                </a:cubicBezTo>
                <a:cubicBezTo>
                  <a:pt x="169" y="968"/>
                  <a:pt x="137" y="959"/>
                  <a:pt x="133" y="958"/>
                </a:cubicBezTo>
                <a:cubicBezTo>
                  <a:pt x="131" y="927"/>
                  <a:pt x="139" y="892"/>
                  <a:pt x="126" y="864"/>
                </a:cubicBezTo>
                <a:cubicBezTo>
                  <a:pt x="120" y="852"/>
                  <a:pt x="96" y="867"/>
                  <a:pt x="86" y="857"/>
                </a:cubicBezTo>
                <a:cubicBezTo>
                  <a:pt x="81" y="852"/>
                  <a:pt x="107" y="843"/>
                  <a:pt x="126" y="837"/>
                </a:cubicBezTo>
                <a:cubicBezTo>
                  <a:pt x="117" y="833"/>
                  <a:pt x="109" y="826"/>
                  <a:pt x="99" y="824"/>
                </a:cubicBezTo>
                <a:cubicBezTo>
                  <a:pt x="82" y="820"/>
                  <a:pt x="61" y="827"/>
                  <a:pt x="46" y="817"/>
                </a:cubicBezTo>
                <a:cubicBezTo>
                  <a:pt x="41" y="814"/>
                  <a:pt x="83" y="773"/>
                  <a:pt x="86" y="770"/>
                </a:cubicBezTo>
                <a:cubicBezTo>
                  <a:pt x="79" y="766"/>
                  <a:pt x="74" y="759"/>
                  <a:pt x="66" y="757"/>
                </a:cubicBezTo>
                <a:cubicBezTo>
                  <a:pt x="46" y="752"/>
                  <a:pt x="24" y="759"/>
                  <a:pt x="6" y="750"/>
                </a:cubicBezTo>
                <a:cubicBezTo>
                  <a:pt x="0" y="747"/>
                  <a:pt x="10" y="737"/>
                  <a:pt x="12" y="730"/>
                </a:cubicBezTo>
                <a:cubicBezTo>
                  <a:pt x="14" y="723"/>
                  <a:pt x="16" y="716"/>
                  <a:pt x="19" y="710"/>
                </a:cubicBezTo>
                <a:cubicBezTo>
                  <a:pt x="39" y="670"/>
                  <a:pt x="60" y="657"/>
                  <a:pt x="99" y="643"/>
                </a:cubicBezTo>
                <a:cubicBezTo>
                  <a:pt x="126" y="618"/>
                  <a:pt x="143" y="590"/>
                  <a:pt x="173" y="569"/>
                </a:cubicBezTo>
                <a:cubicBezTo>
                  <a:pt x="219" y="498"/>
                  <a:pt x="311" y="489"/>
                  <a:pt x="387" y="482"/>
                </a:cubicBezTo>
                <a:cubicBezTo>
                  <a:pt x="400" y="446"/>
                  <a:pt x="417" y="430"/>
                  <a:pt x="374" y="415"/>
                </a:cubicBezTo>
                <a:cubicBezTo>
                  <a:pt x="364" y="386"/>
                  <a:pt x="348" y="370"/>
                  <a:pt x="327" y="348"/>
                </a:cubicBezTo>
                <a:cubicBezTo>
                  <a:pt x="325" y="341"/>
                  <a:pt x="324" y="333"/>
                  <a:pt x="320" y="328"/>
                </a:cubicBezTo>
                <a:cubicBezTo>
                  <a:pt x="315" y="322"/>
                  <a:pt x="302" y="323"/>
                  <a:pt x="300" y="315"/>
                </a:cubicBezTo>
                <a:cubicBezTo>
                  <a:pt x="297" y="300"/>
                  <a:pt x="326" y="299"/>
                  <a:pt x="347" y="295"/>
                </a:cubicBezTo>
                <a:cubicBezTo>
                  <a:pt x="419" y="223"/>
                  <a:pt x="480" y="233"/>
                  <a:pt x="582" y="228"/>
                </a:cubicBezTo>
                <a:cubicBezTo>
                  <a:pt x="626" y="212"/>
                  <a:pt x="652" y="206"/>
                  <a:pt x="702" y="201"/>
                </a:cubicBezTo>
                <a:cubicBezTo>
                  <a:pt x="734" y="180"/>
                  <a:pt x="766" y="165"/>
                  <a:pt x="796" y="141"/>
                </a:cubicBezTo>
                <a:cubicBezTo>
                  <a:pt x="809" y="131"/>
                  <a:pt x="828" y="105"/>
                  <a:pt x="843" y="100"/>
                </a:cubicBezTo>
                <a:cubicBezTo>
                  <a:pt x="858" y="95"/>
                  <a:pt x="874" y="96"/>
                  <a:pt x="890" y="94"/>
                </a:cubicBezTo>
                <a:cubicBezTo>
                  <a:pt x="920" y="84"/>
                  <a:pt x="924" y="56"/>
                  <a:pt x="950" y="40"/>
                </a:cubicBezTo>
                <a:cubicBezTo>
                  <a:pt x="968" y="29"/>
                  <a:pt x="997" y="27"/>
                  <a:pt x="1017" y="20"/>
                </a:cubicBezTo>
                <a:cubicBezTo>
                  <a:pt x="1019" y="13"/>
                  <a:pt x="1024" y="0"/>
                  <a:pt x="102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6"/>
          <p:cNvSpPr/>
          <p:nvPr/>
        </p:nvSpPr>
        <p:spPr>
          <a:xfrm>
            <a:off x="3132000" y="3067200"/>
            <a:ext cx="430200" cy="2817720"/>
          </a:xfrm>
          <a:custGeom>
            <a:avLst/>
            <a:gdLst/>
            <a:ahLst/>
            <a:rect l="l" t="t" r="r" b="b"/>
            <a:pathLst>
              <a:path w="271" h="1775">
                <a:moveTo>
                  <a:pt x="63" y="1775"/>
                </a:moveTo>
                <a:cubicBezTo>
                  <a:pt x="78" y="1759"/>
                  <a:pt x="91" y="1747"/>
                  <a:pt x="110" y="1735"/>
                </a:cubicBezTo>
                <a:cubicBezTo>
                  <a:pt x="118" y="1710"/>
                  <a:pt x="125" y="1687"/>
                  <a:pt x="130" y="1661"/>
                </a:cubicBezTo>
                <a:cubicBezTo>
                  <a:pt x="128" y="1621"/>
                  <a:pt x="155" y="1495"/>
                  <a:pt x="103" y="1447"/>
                </a:cubicBezTo>
                <a:cubicBezTo>
                  <a:pt x="88" y="1394"/>
                  <a:pt x="109" y="1454"/>
                  <a:pt x="83" y="1413"/>
                </a:cubicBezTo>
                <a:cubicBezTo>
                  <a:pt x="67" y="1388"/>
                  <a:pt x="71" y="1362"/>
                  <a:pt x="50" y="1339"/>
                </a:cubicBezTo>
                <a:cubicBezTo>
                  <a:pt x="34" y="1292"/>
                  <a:pt x="40" y="1313"/>
                  <a:pt x="30" y="1279"/>
                </a:cubicBezTo>
                <a:cubicBezTo>
                  <a:pt x="32" y="1221"/>
                  <a:pt x="0" y="1063"/>
                  <a:pt x="90" y="1031"/>
                </a:cubicBezTo>
                <a:cubicBezTo>
                  <a:pt x="100" y="1003"/>
                  <a:pt x="116" y="994"/>
                  <a:pt x="123" y="964"/>
                </a:cubicBezTo>
                <a:cubicBezTo>
                  <a:pt x="126" y="932"/>
                  <a:pt x="129" y="870"/>
                  <a:pt x="143" y="837"/>
                </a:cubicBezTo>
                <a:cubicBezTo>
                  <a:pt x="149" y="822"/>
                  <a:pt x="165" y="823"/>
                  <a:pt x="177" y="817"/>
                </a:cubicBezTo>
                <a:cubicBezTo>
                  <a:pt x="206" y="802"/>
                  <a:pt x="227" y="772"/>
                  <a:pt x="251" y="750"/>
                </a:cubicBezTo>
                <a:cubicBezTo>
                  <a:pt x="254" y="594"/>
                  <a:pt x="271" y="352"/>
                  <a:pt x="257" y="187"/>
                </a:cubicBezTo>
                <a:cubicBezTo>
                  <a:pt x="256" y="171"/>
                  <a:pt x="235" y="161"/>
                  <a:pt x="224" y="154"/>
                </a:cubicBezTo>
                <a:cubicBezTo>
                  <a:pt x="195" y="113"/>
                  <a:pt x="173" y="69"/>
                  <a:pt x="137" y="33"/>
                </a:cubicBezTo>
                <a:cubicBezTo>
                  <a:pt x="127" y="23"/>
                  <a:pt x="103" y="14"/>
                  <a:pt x="103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 rot="16200000">
            <a:off x="-2123280" y="3793680"/>
            <a:ext cx="58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  <a:ea typeface="Lucida Sans Unicode"/>
              </a:rPr>
              <a:t>http://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  <a:ea typeface="Lucida Sans Unicode"/>
              </a:rPr>
              <a:t>www.trail.ch/gallery/albums/trail/graubunden/fuorcla-surlej/corvatsch-fuorcla-surlej-val-roseg-09_09_2006-img_2598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132000" y="201600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 flipH="1" flipV="1">
            <a:off x="3132000" y="2015640"/>
            <a:ext cx="144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3"/>
          <p:cNvSpPr/>
          <p:nvPr/>
        </p:nvSpPr>
        <p:spPr>
          <a:xfrm>
            <a:off x="3059280" y="1944720"/>
            <a:ext cx="14436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 flipV="1">
            <a:off x="3132000" y="489600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8"/>
          <p:cNvSpPr/>
          <p:nvPr/>
        </p:nvSpPr>
        <p:spPr>
          <a:xfrm>
            <a:off x="3059280" y="4824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 rot="21363000">
            <a:off x="3156120" y="2077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 flipH="1" flipV="1">
            <a:off x="5630760" y="2092320"/>
            <a:ext cx="144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5557680" y="2021040"/>
            <a:ext cx="144720" cy="7128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2"/>
          <p:cNvSpPr/>
          <p:nvPr/>
        </p:nvSpPr>
        <p:spPr>
          <a:xfrm>
            <a:off x="5651640" y="2158920"/>
            <a:ext cx="1224000" cy="50508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1"/>
          <p:cNvSpPr/>
          <p:nvPr/>
        </p:nvSpPr>
        <p:spPr>
          <a:xfrm rot="21363000">
            <a:off x="5664600" y="222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2"/>
          <p:cNvSpPr/>
          <p:nvPr/>
        </p:nvSpPr>
        <p:spPr>
          <a:xfrm>
            <a:off x="3995640" y="244800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3924360" y="2376360"/>
            <a:ext cx="144360" cy="71640"/>
          </a:xfrm>
          <a:prstGeom prst="ellipse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 rot="21363000">
            <a:off x="4019760" y="250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Go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9"/>
          <p:cNvSpPr/>
          <p:nvPr/>
        </p:nvSpPr>
        <p:spPr>
          <a:xfrm flipH="1" flipV="1">
            <a:off x="3995640" y="2448000"/>
            <a:ext cx="12240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9"/>
          <p:cNvSpPr/>
          <p:nvPr/>
        </p:nvSpPr>
        <p:spPr>
          <a:xfrm>
            <a:off x="3537000" y="3168720"/>
            <a:ext cx="565200" cy="1112760"/>
          </a:xfrm>
          <a:custGeom>
            <a:avLst/>
            <a:gdLst/>
            <a:ahLst/>
            <a:rect l="l" t="t" r="r" b="b"/>
            <a:pathLst>
              <a:path w="356" h="701">
                <a:moveTo>
                  <a:pt x="0" y="692"/>
                </a:moveTo>
                <a:cubicBezTo>
                  <a:pt x="56" y="690"/>
                  <a:pt x="82" y="701"/>
                  <a:pt x="120" y="676"/>
                </a:cubicBezTo>
                <a:cubicBezTo>
                  <a:pt x="147" y="636"/>
                  <a:pt x="132" y="609"/>
                  <a:pt x="136" y="548"/>
                </a:cubicBezTo>
                <a:cubicBezTo>
                  <a:pt x="139" y="498"/>
                  <a:pt x="180" y="450"/>
                  <a:pt x="220" y="424"/>
                </a:cubicBezTo>
                <a:cubicBezTo>
                  <a:pt x="233" y="405"/>
                  <a:pt x="238" y="392"/>
                  <a:pt x="256" y="380"/>
                </a:cubicBezTo>
                <a:cubicBezTo>
                  <a:pt x="263" y="360"/>
                  <a:pt x="269" y="340"/>
                  <a:pt x="276" y="320"/>
                </a:cubicBezTo>
                <a:cubicBezTo>
                  <a:pt x="279" y="312"/>
                  <a:pt x="281" y="304"/>
                  <a:pt x="284" y="296"/>
                </a:cubicBezTo>
                <a:cubicBezTo>
                  <a:pt x="285" y="292"/>
                  <a:pt x="288" y="284"/>
                  <a:pt x="288" y="284"/>
                </a:cubicBezTo>
                <a:cubicBezTo>
                  <a:pt x="287" y="253"/>
                  <a:pt x="256" y="79"/>
                  <a:pt x="308" y="44"/>
                </a:cubicBezTo>
                <a:cubicBezTo>
                  <a:pt x="315" y="34"/>
                  <a:pt x="327" y="19"/>
                  <a:pt x="336" y="12"/>
                </a:cubicBezTo>
                <a:cubicBezTo>
                  <a:pt x="339" y="9"/>
                  <a:pt x="344" y="10"/>
                  <a:pt x="348" y="8"/>
                </a:cubicBezTo>
                <a:cubicBezTo>
                  <a:pt x="351" y="6"/>
                  <a:pt x="353" y="3"/>
                  <a:pt x="356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"/>
          <p:cNvSpPr/>
          <p:nvPr/>
        </p:nvSpPr>
        <p:spPr>
          <a:xfrm>
            <a:off x="3282840" y="3160800"/>
            <a:ext cx="1114560" cy="2725560"/>
          </a:xfrm>
          <a:custGeom>
            <a:avLst/>
            <a:gdLst/>
            <a:ahLst/>
            <a:rect l="l" t="t" r="r" b="b"/>
            <a:pathLst>
              <a:path w="702" h="1717">
                <a:moveTo>
                  <a:pt x="0" y="1717"/>
                </a:moveTo>
                <a:cubicBezTo>
                  <a:pt x="19" y="1704"/>
                  <a:pt x="38" y="1688"/>
                  <a:pt x="52" y="1669"/>
                </a:cubicBezTo>
                <a:cubicBezTo>
                  <a:pt x="62" y="1639"/>
                  <a:pt x="47" y="1675"/>
                  <a:pt x="68" y="1649"/>
                </a:cubicBezTo>
                <a:cubicBezTo>
                  <a:pt x="74" y="1642"/>
                  <a:pt x="75" y="1632"/>
                  <a:pt x="80" y="1625"/>
                </a:cubicBezTo>
                <a:cubicBezTo>
                  <a:pt x="81" y="1597"/>
                  <a:pt x="63" y="1439"/>
                  <a:pt x="120" y="1401"/>
                </a:cubicBezTo>
                <a:cubicBezTo>
                  <a:pt x="124" y="1380"/>
                  <a:pt x="126" y="1373"/>
                  <a:pt x="144" y="1361"/>
                </a:cubicBezTo>
                <a:cubicBezTo>
                  <a:pt x="151" y="1341"/>
                  <a:pt x="162" y="1325"/>
                  <a:pt x="180" y="1313"/>
                </a:cubicBezTo>
                <a:cubicBezTo>
                  <a:pt x="191" y="1296"/>
                  <a:pt x="204" y="1287"/>
                  <a:pt x="216" y="1269"/>
                </a:cubicBezTo>
                <a:cubicBezTo>
                  <a:pt x="237" y="1237"/>
                  <a:pt x="227" y="1230"/>
                  <a:pt x="264" y="1205"/>
                </a:cubicBezTo>
                <a:cubicBezTo>
                  <a:pt x="280" y="1194"/>
                  <a:pt x="295" y="1188"/>
                  <a:pt x="312" y="1177"/>
                </a:cubicBezTo>
                <a:cubicBezTo>
                  <a:pt x="319" y="1172"/>
                  <a:pt x="336" y="1169"/>
                  <a:pt x="336" y="1169"/>
                </a:cubicBezTo>
                <a:cubicBezTo>
                  <a:pt x="353" y="1152"/>
                  <a:pt x="359" y="1143"/>
                  <a:pt x="380" y="1129"/>
                </a:cubicBezTo>
                <a:cubicBezTo>
                  <a:pt x="384" y="1126"/>
                  <a:pt x="392" y="1121"/>
                  <a:pt x="392" y="1121"/>
                </a:cubicBezTo>
                <a:cubicBezTo>
                  <a:pt x="401" y="1107"/>
                  <a:pt x="410" y="1098"/>
                  <a:pt x="424" y="1089"/>
                </a:cubicBezTo>
                <a:cubicBezTo>
                  <a:pt x="432" y="1066"/>
                  <a:pt x="423" y="1087"/>
                  <a:pt x="440" y="1065"/>
                </a:cubicBezTo>
                <a:cubicBezTo>
                  <a:pt x="446" y="1057"/>
                  <a:pt x="456" y="1041"/>
                  <a:pt x="456" y="1041"/>
                </a:cubicBezTo>
                <a:cubicBezTo>
                  <a:pt x="453" y="972"/>
                  <a:pt x="453" y="926"/>
                  <a:pt x="404" y="877"/>
                </a:cubicBezTo>
                <a:cubicBezTo>
                  <a:pt x="392" y="840"/>
                  <a:pt x="391" y="804"/>
                  <a:pt x="404" y="765"/>
                </a:cubicBezTo>
                <a:cubicBezTo>
                  <a:pt x="406" y="723"/>
                  <a:pt x="397" y="664"/>
                  <a:pt x="432" y="629"/>
                </a:cubicBezTo>
                <a:cubicBezTo>
                  <a:pt x="445" y="616"/>
                  <a:pt x="453" y="604"/>
                  <a:pt x="468" y="593"/>
                </a:cubicBezTo>
                <a:cubicBezTo>
                  <a:pt x="476" y="587"/>
                  <a:pt x="492" y="577"/>
                  <a:pt x="492" y="577"/>
                </a:cubicBezTo>
                <a:cubicBezTo>
                  <a:pt x="526" y="526"/>
                  <a:pt x="504" y="494"/>
                  <a:pt x="488" y="445"/>
                </a:cubicBezTo>
                <a:cubicBezTo>
                  <a:pt x="502" y="404"/>
                  <a:pt x="509" y="375"/>
                  <a:pt x="548" y="349"/>
                </a:cubicBezTo>
                <a:cubicBezTo>
                  <a:pt x="563" y="327"/>
                  <a:pt x="551" y="347"/>
                  <a:pt x="560" y="313"/>
                </a:cubicBezTo>
                <a:cubicBezTo>
                  <a:pt x="576" y="248"/>
                  <a:pt x="596" y="272"/>
                  <a:pt x="680" y="269"/>
                </a:cubicBezTo>
                <a:cubicBezTo>
                  <a:pt x="702" y="255"/>
                  <a:pt x="693" y="228"/>
                  <a:pt x="672" y="221"/>
                </a:cubicBezTo>
                <a:cubicBezTo>
                  <a:pt x="671" y="184"/>
                  <a:pt x="673" y="146"/>
                  <a:pt x="668" y="109"/>
                </a:cubicBezTo>
                <a:cubicBezTo>
                  <a:pt x="667" y="104"/>
                  <a:pt x="623" y="77"/>
                  <a:pt x="616" y="73"/>
                </a:cubicBezTo>
                <a:cubicBezTo>
                  <a:pt x="608" y="68"/>
                  <a:pt x="592" y="57"/>
                  <a:pt x="592" y="57"/>
                </a:cubicBezTo>
                <a:cubicBezTo>
                  <a:pt x="585" y="46"/>
                  <a:pt x="564" y="29"/>
                  <a:pt x="552" y="25"/>
                </a:cubicBezTo>
                <a:cubicBezTo>
                  <a:pt x="535" y="0"/>
                  <a:pt x="546" y="1"/>
                  <a:pt x="532" y="1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2"/>
          <p:cNvSpPr/>
          <p:nvPr/>
        </p:nvSpPr>
        <p:spPr>
          <a:xfrm>
            <a:off x="3295800" y="3124080"/>
            <a:ext cx="2603520" cy="2770200"/>
          </a:xfrm>
          <a:custGeom>
            <a:avLst/>
            <a:gdLst/>
            <a:ahLst/>
            <a:rect l="l" t="t" r="r" b="b"/>
            <a:pathLst>
              <a:path w="1640" h="1745">
                <a:moveTo>
                  <a:pt x="0" y="1744"/>
                </a:moveTo>
                <a:cubicBezTo>
                  <a:pt x="28" y="1743"/>
                  <a:pt x="56" y="1745"/>
                  <a:pt x="84" y="1740"/>
                </a:cubicBezTo>
                <a:cubicBezTo>
                  <a:pt x="102" y="1737"/>
                  <a:pt x="132" y="1704"/>
                  <a:pt x="144" y="1692"/>
                </a:cubicBezTo>
                <a:cubicBezTo>
                  <a:pt x="176" y="1660"/>
                  <a:pt x="198" y="1613"/>
                  <a:pt x="236" y="1588"/>
                </a:cubicBezTo>
                <a:cubicBezTo>
                  <a:pt x="250" y="1567"/>
                  <a:pt x="292" y="1525"/>
                  <a:pt x="312" y="1512"/>
                </a:cubicBezTo>
                <a:cubicBezTo>
                  <a:pt x="355" y="1483"/>
                  <a:pt x="290" y="1528"/>
                  <a:pt x="336" y="1492"/>
                </a:cubicBezTo>
                <a:cubicBezTo>
                  <a:pt x="344" y="1486"/>
                  <a:pt x="360" y="1476"/>
                  <a:pt x="360" y="1476"/>
                </a:cubicBezTo>
                <a:cubicBezTo>
                  <a:pt x="377" y="1450"/>
                  <a:pt x="394" y="1442"/>
                  <a:pt x="420" y="1424"/>
                </a:cubicBezTo>
                <a:cubicBezTo>
                  <a:pt x="475" y="1341"/>
                  <a:pt x="508" y="1363"/>
                  <a:pt x="620" y="1360"/>
                </a:cubicBezTo>
                <a:cubicBezTo>
                  <a:pt x="628" y="1357"/>
                  <a:pt x="636" y="1355"/>
                  <a:pt x="644" y="1352"/>
                </a:cubicBezTo>
                <a:cubicBezTo>
                  <a:pt x="648" y="1351"/>
                  <a:pt x="656" y="1348"/>
                  <a:pt x="656" y="1348"/>
                </a:cubicBezTo>
                <a:cubicBezTo>
                  <a:pt x="668" y="1336"/>
                  <a:pt x="674" y="1325"/>
                  <a:pt x="688" y="1316"/>
                </a:cubicBezTo>
                <a:cubicBezTo>
                  <a:pt x="693" y="1300"/>
                  <a:pt x="694" y="1283"/>
                  <a:pt x="700" y="1268"/>
                </a:cubicBezTo>
                <a:cubicBezTo>
                  <a:pt x="704" y="1258"/>
                  <a:pt x="731" y="1223"/>
                  <a:pt x="740" y="1220"/>
                </a:cubicBezTo>
                <a:cubicBezTo>
                  <a:pt x="750" y="1217"/>
                  <a:pt x="759" y="1214"/>
                  <a:pt x="768" y="1208"/>
                </a:cubicBezTo>
                <a:cubicBezTo>
                  <a:pt x="781" y="1198"/>
                  <a:pt x="786" y="1185"/>
                  <a:pt x="800" y="1176"/>
                </a:cubicBezTo>
                <a:cubicBezTo>
                  <a:pt x="831" y="1129"/>
                  <a:pt x="875" y="1135"/>
                  <a:pt x="928" y="1132"/>
                </a:cubicBezTo>
                <a:cubicBezTo>
                  <a:pt x="951" y="1124"/>
                  <a:pt x="980" y="1105"/>
                  <a:pt x="1000" y="1092"/>
                </a:cubicBezTo>
                <a:cubicBezTo>
                  <a:pt x="1008" y="1087"/>
                  <a:pt x="1024" y="1076"/>
                  <a:pt x="1024" y="1076"/>
                </a:cubicBezTo>
                <a:cubicBezTo>
                  <a:pt x="1044" y="1046"/>
                  <a:pt x="1081" y="1020"/>
                  <a:pt x="1116" y="1008"/>
                </a:cubicBezTo>
                <a:cubicBezTo>
                  <a:pt x="1153" y="952"/>
                  <a:pt x="1111" y="914"/>
                  <a:pt x="1096" y="868"/>
                </a:cubicBezTo>
                <a:cubicBezTo>
                  <a:pt x="1092" y="835"/>
                  <a:pt x="1089" y="799"/>
                  <a:pt x="1060" y="780"/>
                </a:cubicBezTo>
                <a:cubicBezTo>
                  <a:pt x="1059" y="776"/>
                  <a:pt x="1059" y="771"/>
                  <a:pt x="1056" y="768"/>
                </a:cubicBezTo>
                <a:cubicBezTo>
                  <a:pt x="1053" y="764"/>
                  <a:pt x="1047" y="764"/>
                  <a:pt x="1044" y="760"/>
                </a:cubicBezTo>
                <a:cubicBezTo>
                  <a:pt x="1040" y="753"/>
                  <a:pt x="1039" y="744"/>
                  <a:pt x="1036" y="736"/>
                </a:cubicBezTo>
                <a:cubicBezTo>
                  <a:pt x="1035" y="732"/>
                  <a:pt x="1032" y="724"/>
                  <a:pt x="1032" y="724"/>
                </a:cubicBezTo>
                <a:cubicBezTo>
                  <a:pt x="1034" y="685"/>
                  <a:pt x="1016" y="632"/>
                  <a:pt x="1052" y="608"/>
                </a:cubicBezTo>
                <a:cubicBezTo>
                  <a:pt x="1058" y="591"/>
                  <a:pt x="1064" y="573"/>
                  <a:pt x="1080" y="568"/>
                </a:cubicBezTo>
                <a:cubicBezTo>
                  <a:pt x="1091" y="552"/>
                  <a:pt x="1097" y="550"/>
                  <a:pt x="1116" y="544"/>
                </a:cubicBezTo>
                <a:cubicBezTo>
                  <a:pt x="1124" y="542"/>
                  <a:pt x="1140" y="536"/>
                  <a:pt x="1140" y="536"/>
                </a:cubicBezTo>
                <a:cubicBezTo>
                  <a:pt x="1144" y="524"/>
                  <a:pt x="1148" y="512"/>
                  <a:pt x="1152" y="500"/>
                </a:cubicBezTo>
                <a:cubicBezTo>
                  <a:pt x="1153" y="496"/>
                  <a:pt x="1152" y="489"/>
                  <a:pt x="1156" y="488"/>
                </a:cubicBezTo>
                <a:cubicBezTo>
                  <a:pt x="1168" y="484"/>
                  <a:pt x="1181" y="483"/>
                  <a:pt x="1192" y="476"/>
                </a:cubicBezTo>
                <a:cubicBezTo>
                  <a:pt x="1209" y="465"/>
                  <a:pt x="1233" y="442"/>
                  <a:pt x="1252" y="436"/>
                </a:cubicBezTo>
                <a:cubicBezTo>
                  <a:pt x="1266" y="422"/>
                  <a:pt x="1284" y="413"/>
                  <a:pt x="1304" y="408"/>
                </a:cubicBezTo>
                <a:cubicBezTo>
                  <a:pt x="1316" y="400"/>
                  <a:pt x="1328" y="392"/>
                  <a:pt x="1340" y="384"/>
                </a:cubicBezTo>
                <a:cubicBezTo>
                  <a:pt x="1344" y="381"/>
                  <a:pt x="1352" y="376"/>
                  <a:pt x="1352" y="376"/>
                </a:cubicBezTo>
                <a:cubicBezTo>
                  <a:pt x="1355" y="372"/>
                  <a:pt x="1356" y="367"/>
                  <a:pt x="1360" y="364"/>
                </a:cubicBezTo>
                <a:cubicBezTo>
                  <a:pt x="1371" y="357"/>
                  <a:pt x="1385" y="359"/>
                  <a:pt x="1396" y="352"/>
                </a:cubicBezTo>
                <a:cubicBezTo>
                  <a:pt x="1414" y="340"/>
                  <a:pt x="1435" y="335"/>
                  <a:pt x="1456" y="328"/>
                </a:cubicBezTo>
                <a:cubicBezTo>
                  <a:pt x="1496" y="315"/>
                  <a:pt x="1434" y="335"/>
                  <a:pt x="1484" y="320"/>
                </a:cubicBezTo>
                <a:cubicBezTo>
                  <a:pt x="1492" y="318"/>
                  <a:pt x="1508" y="312"/>
                  <a:pt x="1508" y="312"/>
                </a:cubicBezTo>
                <a:cubicBezTo>
                  <a:pt x="1517" y="298"/>
                  <a:pt x="1526" y="289"/>
                  <a:pt x="1540" y="280"/>
                </a:cubicBezTo>
                <a:cubicBezTo>
                  <a:pt x="1555" y="258"/>
                  <a:pt x="1540" y="275"/>
                  <a:pt x="1560" y="264"/>
                </a:cubicBezTo>
                <a:cubicBezTo>
                  <a:pt x="1568" y="259"/>
                  <a:pt x="1584" y="248"/>
                  <a:pt x="1584" y="248"/>
                </a:cubicBezTo>
                <a:cubicBezTo>
                  <a:pt x="1594" y="233"/>
                  <a:pt x="1609" y="218"/>
                  <a:pt x="1624" y="208"/>
                </a:cubicBezTo>
                <a:cubicBezTo>
                  <a:pt x="1631" y="197"/>
                  <a:pt x="1640" y="172"/>
                  <a:pt x="1640" y="172"/>
                </a:cubicBezTo>
                <a:cubicBezTo>
                  <a:pt x="1639" y="164"/>
                  <a:pt x="1640" y="155"/>
                  <a:pt x="1636" y="148"/>
                </a:cubicBezTo>
                <a:cubicBezTo>
                  <a:pt x="1632" y="140"/>
                  <a:pt x="1619" y="140"/>
                  <a:pt x="1612" y="136"/>
                </a:cubicBezTo>
                <a:cubicBezTo>
                  <a:pt x="1565" y="110"/>
                  <a:pt x="1611" y="128"/>
                  <a:pt x="1564" y="112"/>
                </a:cubicBezTo>
                <a:cubicBezTo>
                  <a:pt x="1551" y="108"/>
                  <a:pt x="1528" y="92"/>
                  <a:pt x="1528" y="92"/>
                </a:cubicBezTo>
                <a:cubicBezTo>
                  <a:pt x="1517" y="75"/>
                  <a:pt x="1520" y="71"/>
                  <a:pt x="1536" y="60"/>
                </a:cubicBezTo>
                <a:cubicBezTo>
                  <a:pt x="1539" y="52"/>
                  <a:pt x="1547" y="15"/>
                  <a:pt x="1552" y="12"/>
                </a:cubicBezTo>
                <a:cubicBezTo>
                  <a:pt x="1565" y="3"/>
                  <a:pt x="1564" y="9"/>
                  <a:pt x="1564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5"/>
          <p:cNvSpPr/>
          <p:nvPr/>
        </p:nvSpPr>
        <p:spPr>
          <a:xfrm>
            <a:off x="4102200" y="3871800"/>
            <a:ext cx="1015920" cy="141480"/>
          </a:xfrm>
          <a:custGeom>
            <a:avLst/>
            <a:gdLst/>
            <a:ahLst/>
            <a:rect l="l" t="t" r="r" b="b"/>
            <a:pathLst>
              <a:path w="640" h="89">
                <a:moveTo>
                  <a:pt x="0" y="89"/>
                </a:moveTo>
                <a:cubicBezTo>
                  <a:pt x="5" y="73"/>
                  <a:pt x="10" y="66"/>
                  <a:pt x="24" y="57"/>
                </a:cubicBezTo>
                <a:cubicBezTo>
                  <a:pt x="62" y="0"/>
                  <a:pt x="135" y="35"/>
                  <a:pt x="204" y="33"/>
                </a:cubicBezTo>
                <a:cubicBezTo>
                  <a:pt x="252" y="26"/>
                  <a:pt x="303" y="34"/>
                  <a:pt x="352" y="37"/>
                </a:cubicBezTo>
                <a:cubicBezTo>
                  <a:pt x="387" y="49"/>
                  <a:pt x="409" y="47"/>
                  <a:pt x="452" y="49"/>
                </a:cubicBezTo>
                <a:cubicBezTo>
                  <a:pt x="485" y="60"/>
                  <a:pt x="522" y="49"/>
                  <a:pt x="556" y="45"/>
                </a:cubicBezTo>
                <a:cubicBezTo>
                  <a:pt x="574" y="33"/>
                  <a:pt x="566" y="26"/>
                  <a:pt x="588" y="21"/>
                </a:cubicBezTo>
                <a:cubicBezTo>
                  <a:pt x="605" y="27"/>
                  <a:pt x="610" y="22"/>
                  <a:pt x="616" y="5"/>
                </a:cubicBezTo>
                <a:cubicBezTo>
                  <a:pt x="632" y="10"/>
                  <a:pt x="624" y="9"/>
                  <a:pt x="640" y="9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7"/>
          <p:cNvSpPr/>
          <p:nvPr/>
        </p:nvSpPr>
        <p:spPr>
          <a:xfrm>
            <a:off x="3537000" y="4280040"/>
            <a:ext cx="368280" cy="253800"/>
          </a:xfrm>
          <a:custGeom>
            <a:avLst/>
            <a:gdLst/>
            <a:ahLst/>
            <a:rect l="l" t="t" r="r" b="b"/>
            <a:pathLst>
              <a:path w="232" h="160">
                <a:moveTo>
                  <a:pt x="232" y="160"/>
                </a:moveTo>
                <a:cubicBezTo>
                  <a:pt x="207" y="122"/>
                  <a:pt x="153" y="119"/>
                  <a:pt x="112" y="116"/>
                </a:cubicBezTo>
                <a:cubicBezTo>
                  <a:pt x="93" y="110"/>
                  <a:pt x="69" y="96"/>
                  <a:pt x="52" y="84"/>
                </a:cubicBezTo>
                <a:cubicBezTo>
                  <a:pt x="57" y="68"/>
                  <a:pt x="62" y="61"/>
                  <a:pt x="76" y="52"/>
                </a:cubicBezTo>
                <a:cubicBezTo>
                  <a:pt x="79" y="48"/>
                  <a:pt x="88" y="43"/>
                  <a:pt x="84" y="40"/>
                </a:cubicBezTo>
                <a:cubicBezTo>
                  <a:pt x="70" y="29"/>
                  <a:pt x="39" y="42"/>
                  <a:pt x="68" y="32"/>
                </a:cubicBezTo>
                <a:cubicBezTo>
                  <a:pt x="47" y="18"/>
                  <a:pt x="18" y="18"/>
                  <a:pt x="0" y="0"/>
                </a:cubicBez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3132000" y="4967280"/>
            <a:ext cx="1224000" cy="504720"/>
          </a:xfrm>
          <a:custGeom>
            <a:avLst/>
            <a:gdLst/>
            <a:ahLst/>
            <a:rect l="l" t="t" r="r" b="b"/>
            <a:pathLst>
              <a:path w="771" h="318">
                <a:moveTo>
                  <a:pt x="0" y="0"/>
                </a:moveTo>
                <a:lnTo>
                  <a:pt x="771" y="136"/>
                </a:lnTo>
                <a:lnTo>
                  <a:pt x="45" y="318"/>
                </a:ln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 rot="21363000">
            <a:off x="3133440" y="5033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"/>
          <p:cNvSpPr/>
          <p:nvPr/>
        </p:nvSpPr>
        <p:spPr>
          <a:xfrm>
            <a:off x="3448080" y="3111480"/>
            <a:ext cx="3130560" cy="2944800"/>
          </a:xfrm>
          <a:custGeom>
            <a:avLst/>
            <a:gdLst/>
            <a:ahLst/>
            <a:rect l="l" t="t" r="r" b="b"/>
            <a:pathLst>
              <a:path w="1972" h="1855">
                <a:moveTo>
                  <a:pt x="0" y="1756"/>
                </a:moveTo>
                <a:cubicBezTo>
                  <a:pt x="5" y="1761"/>
                  <a:pt x="18" y="1772"/>
                  <a:pt x="20" y="1780"/>
                </a:cubicBezTo>
                <a:cubicBezTo>
                  <a:pt x="25" y="1796"/>
                  <a:pt x="20" y="1814"/>
                  <a:pt x="28" y="1828"/>
                </a:cubicBezTo>
                <a:cubicBezTo>
                  <a:pt x="32" y="1836"/>
                  <a:pt x="61" y="1843"/>
                  <a:pt x="64" y="1844"/>
                </a:cubicBezTo>
                <a:cubicBezTo>
                  <a:pt x="72" y="1847"/>
                  <a:pt x="88" y="1852"/>
                  <a:pt x="88" y="1852"/>
                </a:cubicBezTo>
                <a:cubicBezTo>
                  <a:pt x="185" y="1848"/>
                  <a:pt x="169" y="1855"/>
                  <a:pt x="228" y="1816"/>
                </a:cubicBezTo>
                <a:cubicBezTo>
                  <a:pt x="248" y="1755"/>
                  <a:pt x="264" y="1697"/>
                  <a:pt x="320" y="1660"/>
                </a:cubicBezTo>
                <a:cubicBezTo>
                  <a:pt x="328" y="1648"/>
                  <a:pt x="352" y="1632"/>
                  <a:pt x="352" y="1632"/>
                </a:cubicBezTo>
                <a:cubicBezTo>
                  <a:pt x="384" y="1633"/>
                  <a:pt x="416" y="1633"/>
                  <a:pt x="448" y="1636"/>
                </a:cubicBezTo>
                <a:cubicBezTo>
                  <a:pt x="456" y="1637"/>
                  <a:pt x="464" y="1642"/>
                  <a:pt x="472" y="1644"/>
                </a:cubicBezTo>
                <a:cubicBezTo>
                  <a:pt x="496" y="1650"/>
                  <a:pt x="483" y="1646"/>
                  <a:pt x="512" y="1656"/>
                </a:cubicBezTo>
                <a:cubicBezTo>
                  <a:pt x="520" y="1659"/>
                  <a:pt x="536" y="1664"/>
                  <a:pt x="536" y="1664"/>
                </a:cubicBezTo>
                <a:cubicBezTo>
                  <a:pt x="547" y="1663"/>
                  <a:pt x="557" y="1662"/>
                  <a:pt x="568" y="1660"/>
                </a:cubicBezTo>
                <a:cubicBezTo>
                  <a:pt x="576" y="1658"/>
                  <a:pt x="592" y="1652"/>
                  <a:pt x="592" y="1652"/>
                </a:cubicBezTo>
                <a:cubicBezTo>
                  <a:pt x="602" y="1637"/>
                  <a:pt x="611" y="1632"/>
                  <a:pt x="628" y="1624"/>
                </a:cubicBezTo>
                <a:cubicBezTo>
                  <a:pt x="642" y="1603"/>
                  <a:pt x="640" y="1576"/>
                  <a:pt x="648" y="1552"/>
                </a:cubicBezTo>
                <a:cubicBezTo>
                  <a:pt x="651" y="1544"/>
                  <a:pt x="656" y="1528"/>
                  <a:pt x="656" y="1528"/>
                </a:cubicBezTo>
                <a:cubicBezTo>
                  <a:pt x="659" y="1500"/>
                  <a:pt x="648" y="1441"/>
                  <a:pt x="676" y="1432"/>
                </a:cubicBezTo>
                <a:cubicBezTo>
                  <a:pt x="695" y="1437"/>
                  <a:pt x="700" y="1443"/>
                  <a:pt x="716" y="1432"/>
                </a:cubicBezTo>
                <a:cubicBezTo>
                  <a:pt x="734" y="1404"/>
                  <a:pt x="729" y="1417"/>
                  <a:pt x="736" y="1396"/>
                </a:cubicBezTo>
                <a:cubicBezTo>
                  <a:pt x="737" y="1387"/>
                  <a:pt x="734" y="1375"/>
                  <a:pt x="740" y="1368"/>
                </a:cubicBezTo>
                <a:cubicBezTo>
                  <a:pt x="745" y="1362"/>
                  <a:pt x="752" y="1380"/>
                  <a:pt x="764" y="1388"/>
                </a:cubicBezTo>
                <a:cubicBezTo>
                  <a:pt x="774" y="1394"/>
                  <a:pt x="789" y="1400"/>
                  <a:pt x="800" y="1404"/>
                </a:cubicBezTo>
                <a:cubicBezTo>
                  <a:pt x="812" y="1392"/>
                  <a:pt x="829" y="1382"/>
                  <a:pt x="840" y="1368"/>
                </a:cubicBezTo>
                <a:cubicBezTo>
                  <a:pt x="846" y="1360"/>
                  <a:pt x="856" y="1344"/>
                  <a:pt x="856" y="1344"/>
                </a:cubicBezTo>
                <a:cubicBezTo>
                  <a:pt x="866" y="1358"/>
                  <a:pt x="874" y="1358"/>
                  <a:pt x="884" y="1372"/>
                </a:cubicBezTo>
                <a:cubicBezTo>
                  <a:pt x="908" y="1367"/>
                  <a:pt x="912" y="1359"/>
                  <a:pt x="936" y="1364"/>
                </a:cubicBezTo>
                <a:cubicBezTo>
                  <a:pt x="1010" y="1363"/>
                  <a:pt x="1196" y="1392"/>
                  <a:pt x="1272" y="1316"/>
                </a:cubicBezTo>
                <a:cubicBezTo>
                  <a:pt x="1282" y="1286"/>
                  <a:pt x="1313" y="1281"/>
                  <a:pt x="1340" y="1272"/>
                </a:cubicBezTo>
                <a:cubicBezTo>
                  <a:pt x="1351" y="1256"/>
                  <a:pt x="1364" y="1239"/>
                  <a:pt x="1380" y="1228"/>
                </a:cubicBezTo>
                <a:cubicBezTo>
                  <a:pt x="1390" y="1214"/>
                  <a:pt x="1398" y="1213"/>
                  <a:pt x="1412" y="1204"/>
                </a:cubicBezTo>
                <a:cubicBezTo>
                  <a:pt x="1428" y="1180"/>
                  <a:pt x="1449" y="1176"/>
                  <a:pt x="1472" y="1160"/>
                </a:cubicBezTo>
                <a:cubicBezTo>
                  <a:pt x="1476" y="1147"/>
                  <a:pt x="1484" y="1137"/>
                  <a:pt x="1488" y="1124"/>
                </a:cubicBezTo>
                <a:cubicBezTo>
                  <a:pt x="1489" y="1103"/>
                  <a:pt x="1489" y="1081"/>
                  <a:pt x="1492" y="1060"/>
                </a:cubicBezTo>
                <a:cubicBezTo>
                  <a:pt x="1494" y="1047"/>
                  <a:pt x="1508" y="1024"/>
                  <a:pt x="1508" y="1024"/>
                </a:cubicBezTo>
                <a:cubicBezTo>
                  <a:pt x="1505" y="984"/>
                  <a:pt x="1511" y="944"/>
                  <a:pt x="1476" y="920"/>
                </a:cubicBezTo>
                <a:cubicBezTo>
                  <a:pt x="1477" y="900"/>
                  <a:pt x="1477" y="880"/>
                  <a:pt x="1480" y="860"/>
                </a:cubicBezTo>
                <a:cubicBezTo>
                  <a:pt x="1486" y="825"/>
                  <a:pt x="1545" y="829"/>
                  <a:pt x="1564" y="828"/>
                </a:cubicBezTo>
                <a:cubicBezTo>
                  <a:pt x="1623" y="808"/>
                  <a:pt x="1669" y="771"/>
                  <a:pt x="1732" y="764"/>
                </a:cubicBezTo>
                <a:cubicBezTo>
                  <a:pt x="1745" y="744"/>
                  <a:pt x="1757" y="724"/>
                  <a:pt x="1768" y="704"/>
                </a:cubicBezTo>
                <a:cubicBezTo>
                  <a:pt x="1773" y="696"/>
                  <a:pt x="1784" y="680"/>
                  <a:pt x="1784" y="680"/>
                </a:cubicBezTo>
                <a:cubicBezTo>
                  <a:pt x="1794" y="640"/>
                  <a:pt x="1776" y="690"/>
                  <a:pt x="1828" y="660"/>
                </a:cubicBezTo>
                <a:cubicBezTo>
                  <a:pt x="1835" y="656"/>
                  <a:pt x="1833" y="644"/>
                  <a:pt x="1836" y="636"/>
                </a:cubicBezTo>
                <a:cubicBezTo>
                  <a:pt x="1843" y="614"/>
                  <a:pt x="1851" y="591"/>
                  <a:pt x="1856" y="568"/>
                </a:cubicBezTo>
                <a:cubicBezTo>
                  <a:pt x="1858" y="560"/>
                  <a:pt x="1853" y="547"/>
                  <a:pt x="1860" y="544"/>
                </a:cubicBezTo>
                <a:cubicBezTo>
                  <a:pt x="1877" y="536"/>
                  <a:pt x="1897" y="541"/>
                  <a:pt x="1916" y="540"/>
                </a:cubicBezTo>
                <a:cubicBezTo>
                  <a:pt x="1923" y="471"/>
                  <a:pt x="1912" y="517"/>
                  <a:pt x="1956" y="488"/>
                </a:cubicBezTo>
                <a:cubicBezTo>
                  <a:pt x="1960" y="476"/>
                  <a:pt x="1964" y="464"/>
                  <a:pt x="1968" y="452"/>
                </a:cubicBezTo>
                <a:cubicBezTo>
                  <a:pt x="1969" y="448"/>
                  <a:pt x="1972" y="440"/>
                  <a:pt x="1972" y="440"/>
                </a:cubicBezTo>
                <a:cubicBezTo>
                  <a:pt x="1969" y="397"/>
                  <a:pt x="1964" y="347"/>
                  <a:pt x="1924" y="320"/>
                </a:cubicBezTo>
                <a:cubicBezTo>
                  <a:pt x="1921" y="316"/>
                  <a:pt x="1919" y="311"/>
                  <a:pt x="1916" y="308"/>
                </a:cubicBezTo>
                <a:cubicBezTo>
                  <a:pt x="1913" y="305"/>
                  <a:pt x="1907" y="304"/>
                  <a:pt x="1904" y="300"/>
                </a:cubicBezTo>
                <a:cubicBezTo>
                  <a:pt x="1894" y="287"/>
                  <a:pt x="1896" y="278"/>
                  <a:pt x="1880" y="268"/>
                </a:cubicBezTo>
                <a:cubicBezTo>
                  <a:pt x="1874" y="250"/>
                  <a:pt x="1871" y="248"/>
                  <a:pt x="1856" y="240"/>
                </a:cubicBezTo>
                <a:cubicBezTo>
                  <a:pt x="1848" y="235"/>
                  <a:pt x="1832" y="224"/>
                  <a:pt x="1832" y="224"/>
                </a:cubicBezTo>
                <a:cubicBezTo>
                  <a:pt x="1827" y="216"/>
                  <a:pt x="1817" y="212"/>
                  <a:pt x="1812" y="204"/>
                </a:cubicBezTo>
                <a:cubicBezTo>
                  <a:pt x="1797" y="180"/>
                  <a:pt x="1796" y="153"/>
                  <a:pt x="1760" y="148"/>
                </a:cubicBezTo>
                <a:cubicBezTo>
                  <a:pt x="1743" y="146"/>
                  <a:pt x="1725" y="145"/>
                  <a:pt x="1708" y="144"/>
                </a:cubicBezTo>
                <a:cubicBezTo>
                  <a:pt x="1694" y="122"/>
                  <a:pt x="1673" y="116"/>
                  <a:pt x="1652" y="104"/>
                </a:cubicBezTo>
                <a:cubicBezTo>
                  <a:pt x="1634" y="94"/>
                  <a:pt x="1622" y="81"/>
                  <a:pt x="1604" y="72"/>
                </a:cubicBezTo>
                <a:cubicBezTo>
                  <a:pt x="1596" y="68"/>
                  <a:pt x="1588" y="64"/>
                  <a:pt x="1580" y="60"/>
                </a:cubicBezTo>
                <a:cubicBezTo>
                  <a:pt x="1572" y="55"/>
                  <a:pt x="1556" y="44"/>
                  <a:pt x="1556" y="44"/>
                </a:cubicBezTo>
                <a:cubicBezTo>
                  <a:pt x="1541" y="21"/>
                  <a:pt x="1501" y="0"/>
                  <a:pt x="1472" y="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55600" y="27936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Four Parts of the 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789120" y="1108080"/>
            <a:ext cx="7192800" cy="4826160"/>
            <a:chOff x="789120" y="1108080"/>
            <a:chExt cx="7192800" cy="4826160"/>
          </a:xfrm>
        </p:grpSpPr>
        <p:sp>
          <p:nvSpPr>
            <p:cNvPr id="904" name="Rounded Rectangle 9"/>
            <p:cNvSpPr/>
            <p:nvPr/>
          </p:nvSpPr>
          <p:spPr>
            <a:xfrm>
              <a:off x="789120" y="1108080"/>
              <a:ext cx="7100640" cy="67320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ounded Rectangle 9"/>
            <p:cNvSpPr/>
            <p:nvPr/>
          </p:nvSpPr>
          <p:spPr>
            <a:xfrm>
              <a:off x="798480" y="2004840"/>
              <a:ext cx="7101000" cy="81756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Fram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ounded Rectangle 9"/>
            <p:cNvSpPr/>
            <p:nvPr/>
          </p:nvSpPr>
          <p:spPr>
            <a:xfrm>
              <a:off x="824040" y="2967120"/>
              <a:ext cx="7119720" cy="155232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thways for Mitigating Climate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ounded Rectangle 9"/>
            <p:cNvSpPr/>
            <p:nvPr/>
          </p:nvSpPr>
          <p:spPr>
            <a:xfrm>
              <a:off x="861840" y="4667400"/>
              <a:ext cx="7120080" cy="1266840"/>
            </a:xfrm>
            <a:prstGeom prst="roundRect">
              <a:avLst>
                <a:gd name="adj" fmla="val 16667"/>
              </a:avLst>
            </a:prstGeom>
            <a:solidFill>
              <a:srgbClr val="dde7f3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art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Assessment of Policies, Institutions and Fi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84BF79-BC5C-4F9C-AB7E-E2C86335727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255600" y="114480"/>
            <a:ext cx="8564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The Working Group III Assessment as a Cartography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9"/>
          <p:cNvSpPr/>
          <p:nvPr/>
        </p:nvSpPr>
        <p:spPr>
          <a:xfrm>
            <a:off x="789120" y="1108080"/>
            <a:ext cx="7100640" cy="67320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9"/>
          <p:cNvSpPr/>
          <p:nvPr/>
        </p:nvSpPr>
        <p:spPr>
          <a:xfrm>
            <a:off x="798480" y="1916280"/>
            <a:ext cx="7101000" cy="9061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9"/>
          <p:cNvSpPr/>
          <p:nvPr/>
        </p:nvSpPr>
        <p:spPr>
          <a:xfrm>
            <a:off x="824040" y="2967120"/>
            <a:ext cx="7119720" cy="1552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hways for Miti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ounded Rectangle 9"/>
          <p:cNvSpPr/>
          <p:nvPr/>
        </p:nvSpPr>
        <p:spPr>
          <a:xfrm>
            <a:off x="861840" y="4667400"/>
            <a:ext cx="7120080" cy="14983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essment of Poli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and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312326-89A4-4FFE-A063-B248BBB8206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1" descr=""/>
          <p:cNvPicPr/>
          <p:nvPr/>
        </p:nvPicPr>
        <p:blipFill>
          <a:blip r:embed="rId1"/>
          <a:stretch/>
        </p:blipFill>
        <p:spPr>
          <a:xfrm>
            <a:off x="3852720" y="2008080"/>
            <a:ext cx="712800" cy="7002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" descr=""/>
          <p:cNvPicPr/>
          <p:nvPr/>
        </p:nvPicPr>
        <p:blipFill>
          <a:blip r:embed="rId2"/>
          <a:stretch/>
        </p:blipFill>
        <p:spPr>
          <a:xfrm>
            <a:off x="3851280" y="3017880"/>
            <a:ext cx="1974960" cy="1441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3" descr=""/>
          <p:cNvPicPr/>
          <p:nvPr/>
        </p:nvPicPr>
        <p:blipFill>
          <a:blip r:embed="rId3"/>
          <a:stretch/>
        </p:blipFill>
        <p:spPr>
          <a:xfrm>
            <a:off x="3846600" y="4826160"/>
            <a:ext cx="13017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Textfeld 4"/>
          <p:cNvSpPr/>
          <p:nvPr/>
        </p:nvSpPr>
        <p:spPr>
          <a:xfrm>
            <a:off x="4572000" y="1909800"/>
            <a:ext cx="33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gend to 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concepts and methods o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feld 14"/>
          <p:cNvSpPr/>
          <p:nvPr/>
        </p:nvSpPr>
        <p:spPr>
          <a:xfrm>
            <a:off x="5862600" y="306864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ut feasible mitigat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feld 15"/>
          <p:cNvSpPr/>
          <p:nvPr/>
        </p:nvSpPr>
        <p:spPr>
          <a:xfrm>
            <a:off x="5148360" y="4694400"/>
            <a:ext cx="27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igation too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policy instruments, institutional arrangements and financ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5961D0-F4C2-4984-BA0C-5C8AC2ED85F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bgerundetes Rechteck 4"/>
          <p:cNvSpPr/>
          <p:nvPr/>
        </p:nvSpPr>
        <p:spPr>
          <a:xfrm>
            <a:off x="306360" y="2589120"/>
            <a:ext cx="8642520" cy="2135160"/>
          </a:xfrm>
          <a:prstGeom prst="roundRect">
            <a:avLst>
              <a:gd name="adj" fmla="val 16667"/>
            </a:avLst>
          </a:prstGeom>
          <a:solidFill>
            <a:srgbClr val="4073ac"/>
          </a:solidFill>
          <a:ln w="25560">
            <a:solidFill>
              <a:srgbClr val="2c5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edicated chapter or Section on metrics in the Plenary approved Working Group III outline of the AR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55600" y="263520"/>
            <a:ext cx="856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here will metrics be cov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6E6C9B-6F0B-4697-9567-2E68399EF45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3166920" y="2589120"/>
            <a:ext cx="615816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e 4"/>
          <p:cNvSpPr/>
          <p:nvPr/>
        </p:nvSpPr>
        <p:spPr>
          <a:xfrm>
            <a:off x="2851200" y="1741320"/>
            <a:ext cx="61135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Gewinkelte Verbindung 6"/>
          <p:cNvCxnSpPr>
            <a:stCxn id="944" idx="3"/>
          </p:cNvCxnSpPr>
          <p:nvPr/>
        </p:nvCxnSpPr>
        <p:spPr>
          <a:xfrm rot="10800000">
            <a:off x="8243280" y="1483560"/>
            <a:ext cx="732600" cy="413640"/>
          </a:xfrm>
          <a:prstGeom prst="bentConnector3">
            <a:avLst>
              <a:gd name="adj1" fmla="val 231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5" name="Gewinkelte Verbindung 12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107532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6" name="Geschweifte Klammer rechts 15"/>
          <p:cNvSpPr/>
          <p:nvPr/>
        </p:nvSpPr>
        <p:spPr>
          <a:xfrm>
            <a:off x="8342280" y="3284640"/>
            <a:ext cx="316080" cy="2025720"/>
          </a:xfrm>
          <a:custGeom>
            <a:avLst/>
            <a:gdLst>
              <a:gd name="textAreaLeft" fmla="*/ 0 w 316080"/>
              <a:gd name="textAreaRight" fmla="*/ 114120 w 316080"/>
              <a:gd name="textAreaTop" fmla="*/ 65520 h 2025720"/>
              <a:gd name="textAreaBottom" fmla="*/ 1960200 h 20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7"/>
                  <a:pt x="10800" y="2233"/>
                </a:cubicBezTo>
                <a:lnTo>
                  <a:pt x="10800" y="8713"/>
                </a:lnTo>
                <a:cubicBezTo>
                  <a:pt x="10800" y="9830"/>
                  <a:pt x="16200" y="10946"/>
                  <a:pt x="21600" y="10946"/>
                </a:cubicBezTo>
                <a:cubicBezTo>
                  <a:pt x="16200" y="10946"/>
                  <a:pt x="10800" y="12063"/>
                  <a:pt x="10800" y="13179"/>
                </a:cubicBezTo>
                <a:lnTo>
                  <a:pt x="10800" y="19367"/>
                </a:lnTo>
                <a:cubicBezTo>
                  <a:pt x="10800" y="204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Gewinkelte Verbindung 17"/>
          <p:cNvCxnSpPr>
            <a:stCxn id="953" idx="6"/>
          </p:cNvCxnSpPr>
          <p:nvPr/>
        </p:nvCxnSpPr>
        <p:spPr>
          <a:xfrm flipV="1" rot="10800000">
            <a:off x="7524720" y="1993680"/>
            <a:ext cx="1440360" cy="788040"/>
          </a:xfrm>
          <a:prstGeom prst="bentConnector3">
            <a:avLst>
              <a:gd name="adj1" fmla="val 225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Gewinkelte Verbindung 27"/>
          <p:cNvCxnSpPr/>
          <p:nvPr/>
        </p:nvCxnSpPr>
        <p:spPr>
          <a:xfrm rot="5400000">
            <a:off x="6706800" y="3805200"/>
            <a:ext cx="4260240" cy="255960"/>
          </a:xfrm>
          <a:prstGeom prst="bentConnector3">
            <a:avLst>
              <a:gd name="adj1" fmla="val 9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Gewinkelte Verbindung 34836"/>
          <p:cNvCxnSpPr>
            <a:stCxn id="953" idx="6"/>
          </p:cNvCxnSpPr>
          <p:nvPr/>
        </p:nvCxnSpPr>
        <p:spPr>
          <a:xfrm flipV="1" rot="10800000">
            <a:off x="8711640" y="1993680"/>
            <a:ext cx="253080" cy="2304000"/>
          </a:xfrm>
          <a:prstGeom prst="bentConnector4">
            <a:avLst>
              <a:gd name="adj1" fmla="val 1282"/>
              <a:gd name="adj2" fmla="val 9990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Geschweifte Klammer rechts 23"/>
          <p:cNvSpPr/>
          <p:nvPr/>
        </p:nvSpPr>
        <p:spPr>
          <a:xfrm>
            <a:off x="8435880" y="5442120"/>
            <a:ext cx="168480" cy="1234800"/>
          </a:xfrm>
          <a:custGeom>
            <a:avLst/>
            <a:gdLst>
              <a:gd name="textAreaLeft" fmla="*/ 0 w 168480"/>
              <a:gd name="textAreaRight" fmla="*/ 60840 w 168480"/>
              <a:gd name="textAreaTop" fmla="*/ 34560 h 1234800"/>
              <a:gd name="textAreaBottom" fmla="*/ 1200240 h 12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6"/>
                  <a:pt x="10800" y="1951"/>
                </a:cubicBezTo>
                <a:lnTo>
                  <a:pt x="10800" y="8995"/>
                </a:lnTo>
                <a:cubicBezTo>
                  <a:pt x="10800" y="9971"/>
                  <a:pt x="16200" y="10946"/>
                  <a:pt x="21600" y="10946"/>
                </a:cubicBezTo>
                <a:cubicBezTo>
                  <a:pt x="16200" y="10946"/>
                  <a:pt x="10800" y="11922"/>
                  <a:pt x="10800" y="12897"/>
                </a:cubicBezTo>
                <a:lnTo>
                  <a:pt x="10800" y="19649"/>
                </a:lnTo>
                <a:cubicBezTo>
                  <a:pt x="10800" y="206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nn</cp:lastModifiedBy>
  <dcterms:modified xsi:type="dcterms:W3CDTF">2012-04-03T06:14:12Z</dcterms:modified>
  <cp:revision>179</cp:revision>
  <dc:subject/>
  <dc:title>Slide 1</dc:title>
</cp:coreProperties>
</file>