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52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53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54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C957-E3E3-4660-80F1-E82FC614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E718-A05A-470F-B730-327D8BBFB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6D82-8615-45E1-A7CF-382D7770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D441-7E9F-4475-852C-168466DD4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A5BE-B59E-4856-A389-E7A63D53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8885-587D-4B30-BF06-7C173BA0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2BB-51BE-4EBD-8201-73DD243B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9CB-B5D2-4EC3-85E4-BBAACA888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CFC1-E6A3-4A35-B057-2DDC46CEF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337-A451-4210-89AD-05510098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2F2-A6C0-4D61-A031-0FE97789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02A69-584B-48D0-955A-8F6FD626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9A8F4-9C10-4398-91E6-ED1E5F2E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848F6-0E1F-4FB5-AE4A-38D888B9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0BD86-568C-46B5-8919-71266A2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E151A-4FFE-47BC-8556-D8DEB3B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5AE71-EEF0-4159-959C-000C6D05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850D9-715D-44CD-A547-A24D8FFC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F231-6F8C-4D79-915A-1E556A73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4803A-5738-47FE-9ED6-124DA4A5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7C768-00C0-428B-A650-836D041D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015-88B6-479B-9083-42B92A90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9FD7D-B5B7-44CB-83FD-70A769E7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17505-63F6-4D24-8370-CC7F00DA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A9338-B0BA-49C6-9B9E-8D244A0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95D39-B425-41BE-99F2-870C76A2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336BF-7DAB-47DF-B864-8BD34528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0AD54-8C4A-4D13-90D3-338FBE1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DDA4-A243-408F-9341-4DFA830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082A-F898-49E5-9E6A-569CAA80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2D905-C32B-44E7-9F35-50847C40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1E752-3570-45DB-A074-A3478411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310-C768-42F0-B381-67975B7A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36D5B-AC8D-46C4-ABDE-864DC6E7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60A6B-9B0D-4651-A533-703E6A95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5CD9C-1BA6-443E-BFBE-7FA873F2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CBB0F-2A35-4D3E-930B-D52EE7EF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615C7-A2C6-4027-922C-42663BF6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3F871-773A-4DB4-8270-CDCCA85D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539D4-2E58-470D-86D6-007F0D6E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A52DE-DA81-478D-8EBE-D0370834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B34D-840E-4122-872E-FA85529C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ED30F-9914-4871-A62C-AD0BFAAA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56F94-6DFB-48E4-AC12-1783C6BD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EA5A2-34EC-415B-9F63-164BE4A2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B7DC4-908A-4BF5-A6F8-51C5691D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03412-C49E-463D-AC70-2AE8AAD4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DD2EA-042F-4572-BEB0-6EFCBDAE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F952F-72BB-4EB6-8350-0348F198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E03F6-9064-4B68-ADA9-DBFF642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3B0AE-575E-46F9-BB22-7A4CCFAE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1E5C7-E449-4DD4-BBFF-087A365C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107F3-550A-4A83-9447-1F4D553C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9D666-C8CA-4995-BF2E-35F3A6EB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A5DD5-3580-4C5F-8267-4F687FE1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4DCEE-70F5-450F-B733-9DA12CCE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F3385-9CB6-4E2D-8D0C-FF4F53C7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842F8-E537-4913-AD94-12E0F24F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8DD6F-37BB-4BAF-B49F-A635C8D6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B0BE6-0597-4C12-9B95-12063B96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D5227-40D2-48CB-BF5A-24C7E6FF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067D6-1037-4175-B669-321797DC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99767-E6E1-4150-BE90-279ECDE2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E7658-8D4B-4FA5-B369-B2957EC3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2EEC4-7B4C-43BE-B0DC-5698C1F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2C13D-8201-496D-9837-DC345CC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BDFBC-6179-4E70-94E8-B7CA8187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E5A46-5980-4232-8E2B-476A34BF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982A5-27EC-41D9-9F96-F5550A97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4C309-CB75-452C-8DE3-CB25A6FA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EE5D1-FD0D-4AAB-A98E-08878BA5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B7003-F215-45DA-8613-F9E38E17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524B8-CFC7-4654-8939-E0D76806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1E68D-ECB7-46DC-ACCA-84BC4DBB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23FAD-CE50-461D-9805-D0B82BD7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CEDAE-D92A-4451-A249-053749B7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9FE13-6C65-489C-A111-6AACF83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961EB-E9FC-4615-BE0E-4FD6B34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D4E33-99E2-4552-8160-DE9D9D0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68AE1-A4DE-438C-9843-33650242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17CA0-54D4-4FA3-AB2C-6CA56FEA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97327-2025-43FE-BF32-0917FC3E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08DF2-6D4A-435B-9277-DD005875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241F5-7D33-4BD7-960D-52B3BD2D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E78F9-D4F9-44C4-B937-9B0D4E76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347B7-14E2-40A7-8FCE-DEF7853E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A48CD-7ACA-422E-BB90-6A32807A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5878C-7C1D-4D98-9B0E-67EB7E03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A5854-867D-4495-AA4E-73599602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E32FB-2761-4B4A-9D5A-FE275CA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8B19F-00AE-42C5-8FFA-E918186C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79DF4-847D-4BC1-A436-43AA1769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A1600-56CB-41E2-B100-A5881309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77025-D0F3-4FA2-B7B7-ED917722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170A5-2278-4406-87A3-CDF4CEBC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08631-E561-47BB-B935-CA9F1599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0555C-83B4-41D8-894C-AF21C645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0D68A-FC52-4780-9B23-650DA271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F3046-F6B9-453E-A294-A05728D3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E468C-FBD7-42C9-8701-47A501B8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F2CD3-8E00-4CEB-B770-29213F84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7766E-773D-4498-BF44-3AA60895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313A6-EEE3-4B67-837A-65248B9D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49FBE-720C-43C8-B4E4-7DCFB0BE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4B0B6-3F49-4C06-A23A-17D97FB1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46A42-E992-4891-86DA-A266A97B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20840-B99A-4040-8E72-A7C7A7A9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2EE76-B61D-4D9B-B1EB-95B3C6FD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239F7-17A8-4451-95E6-8AA74246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D007F-D09D-4C7C-BB26-FC14F984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67B9B-D3B2-4BD9-830A-619A5E69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281D0-5D87-46A2-B43C-9A180B7B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E24A5-D7BA-41F2-9741-1D9214B8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667-9149-4B05-8420-E6A8F328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C2B1F-A43E-42C4-AD16-21CF7DBD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926F1-091C-475F-A9AB-33F293E4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D7BC9-F587-4A33-9C65-44383FAC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4AE80-B12D-44D9-BCAD-78C57D64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57022-A497-431D-A83D-5A613272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CB67A-DC19-41F2-984C-4DB722AE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7C2D4-09C6-4449-897F-6D5695C9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01DFD-713D-44EB-AE91-2336C5B0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FDF90-BCB2-40DB-BA6A-A9EA9BA9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71DC2-2C3C-43E5-9DA1-358300FA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554D8-513A-441B-88B0-50B4C406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1737B-53C9-4C19-8F77-98957F2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FD214-FC8D-4C81-AB2A-A64997F0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B1CF6-3488-42EA-BFD7-94C0755A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292A7-19AE-4AD8-B768-34E097C7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39DD9-AC2B-4B60-B8FD-6F607C9F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DE1BB-9380-42DF-B6ED-B9174053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143F9-B739-4501-ABD8-2DB2B265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7A488-4F79-45D8-AF0F-FAC70A65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048ED-FAB1-4C26-98D4-C98C9DB5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E9106-4E70-49E2-8D66-304ABF27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8BFFF-8044-42E5-BFEC-ECF390B7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97C14-44DC-41B7-B6DF-025E5EC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F196E-A390-411C-B8E1-A2BD702F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AC744-3458-4B72-B093-6B0B086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0CD70-F260-4C3B-BA4C-666CF0B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ECFCF-F522-454E-BDA5-0609C9C5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79FF5-2F26-442B-BD7E-2FB6D03D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EE182-19C1-41DE-B906-38440738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4E36A-82C8-4FD9-855E-628B428A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1079C-4691-4B23-959E-E48B7C11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29B2B-6113-47B0-ADE3-18E0C956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3EFB8-48EC-4E89-AC39-BE81BED4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85214-3E02-4411-B54E-26ABBDFE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10478-2FF8-4884-8F79-FA0BC486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75D89-1727-4C9A-BF4D-4465F77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D49C4-D0A7-456C-87D8-046B271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6241F-FF98-4122-AF52-9DBCB65F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5B087B-CBA1-43B2-B904-97EF68E7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6F1A4-C1D9-44FC-B4D8-470A97F5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7087B-8376-4231-AD0D-1B3479A5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03F-8797-4EB3-8876-2B0E3674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0A86-EC8A-4040-BE7D-AAAC185A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65C1-A9C7-4D08-B0B9-F554292B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F410-457E-421E-B29E-1C2B456F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297-379D-4F9E-80FE-455DC027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12C5-3BB9-42DA-B780-EE5E781C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4CC2-D3D6-412F-B452-EF8F32E6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7ACB-8C39-41EA-A4AA-ABE9747A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D81B-3905-416E-A16E-AD4EDB4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D213-EA61-4B21-867B-B4410E7C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A1D2-F127-4C91-B8BE-8C06915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D0FC-3952-4147-A051-15BA5143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7D9F-AC81-472F-B7DF-62A27F68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3185-5D96-42FF-981F-12BF17D2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33F-C984-4792-8D02-D48EEA80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76B-D864-4078-8006-C972172D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B792-CF1E-47F6-9684-3EFCCFE2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067D-32B1-4E56-A9D7-6BE4453D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55ED-8EEF-441D-910B-13F0933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0475-7CA8-4612-8E62-F4881D42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CB41-D7D9-4933-900C-EE7CEF89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8B36-5581-4118-91F2-8F7EEE5E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ADEE-8D0A-4ADD-8EF9-052ECC7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6CEE-7293-4999-B0E6-B4A58751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45BD-0BB9-42A7-8A20-67453B6C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F44-3634-4609-B9A2-9CFEAB4A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B391-E841-40B5-B3A7-A009EFA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7617-4762-4643-B8E0-10A0A710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AD16-07EA-407E-8EE3-0AC1FC9E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5AEAD-FD59-43AF-B4C4-C9B2BB4C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255A-58CE-4515-8E14-8CA5427C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BB971-5717-41F3-8091-F47100D8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9897-5D29-4CDD-B685-9BA29670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104F9-BDE5-4B79-A44F-96F8009C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4521-CE2C-4A06-9630-70225FB8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E8D97-F267-4C62-A543-7363460E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A67-DAC3-4E9E-8FD3-07F21ED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6A7FC-220D-45ED-A71F-3FDA8777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1E488-413E-49BE-A357-3DDAA07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6CC80-CAF0-4A49-ADC1-A5DC7628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E4937-0047-41EE-A550-9529B439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E420-B765-4FAF-A65D-B2CA0604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1466-AC06-4751-B16E-BDCEB79C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EBFD3-E74E-4BB3-B898-87C06CE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8F23-7DCC-4525-BB24-49CDAEBD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20FE2-9DD8-493C-828A-2CDA7259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5F6B6-C7C1-41CF-927F-0D9E98E2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ACD-56D0-4FD9-B632-49D9E3F2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A8D0C-E7EC-46F4-B7F4-374458D9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4DDB8-C13F-4BFB-A4F3-CF297AE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C551A-3673-4414-8684-8573C391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A0853-E43C-4411-9A39-37A0F39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AE48-2F7E-40C0-B9E2-03CDBDB0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F17FA-D70D-4DD8-AB98-2E02C7BD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D8B4-69F4-4188-B122-771B8601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A4E96-658D-4B6B-AC42-31D28D57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40D76-9DB7-4061-8B2B-F404F479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18719-80A8-460E-B78C-911A9FA3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3943-EB35-462F-9FF9-BF054EBA1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8594D-B5B2-4F75-8604-A43A8F006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9FCC3-FAE2-4D42-9955-14EBA99C2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57025-CCF1-4B23-96B0-F409883BB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E8808-9A4F-4D90-BEEE-C3D194519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8AFC2-9685-4109-BB4A-B387FD8F4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92BCB-8D1C-4750-8FE2-D95E43769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E767F-60B5-4F48-B9B6-C6C7A859B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CDF54-CE08-404A-B10E-215A23500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C09DB-95F2-4A52-8530-388E01540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67292-AF92-4310-B51B-1692CD2E5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DD225-A62A-4C58-8898-0BE3E8F6B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cenery_003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1E69-BA23-44E0-A59C-C29AEA9A9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IPCClogoWMOUNEP_BL.ai"/>
          <p:cNvPicPr/>
          <p:nvPr/>
        </p:nvPicPr>
        <p:blipFill>
          <a:blip r:embed="rId2"/>
          <a:stretch/>
        </p:blipFill>
        <p:spPr>
          <a:xfrm>
            <a:off x="4325760" y="5791320"/>
            <a:ext cx="4741920" cy="1015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00F6-F655-431A-B065-D2CA507E7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54FB-40F3-4F72-BECA-15B48721D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BC23D-B472-4E77-AF57-BC20321FC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7A7AB-A297-4AFB-B917-CAA5E97FE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HG metrics in the WGIII contribution to the AR5</a:t>
            </a:r>
            <a:br>
              <a:rPr sz="15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nn, 03 April 2012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an Minx, Steffen Brunner &amp; Ottmar Edenhof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4" descr="cc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5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44460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explicit about how metrics ar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utal clarification of alternative emission metrics and their relationships – including both physical and more comprehensive economic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e underlying uncertainties and value jud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relationship alternative emission metrics to purpose of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ative comparisons and/or assessment of numerical values for alternative metrics as approp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ssessment of metrics in context of WGIII contribution to A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98D92E-7389-4A1A-BE54-91A3C201A13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feld 2"/>
          <p:cNvSpPr/>
          <p:nvPr/>
        </p:nvSpPr>
        <p:spPr>
          <a:xfrm>
            <a:off x="1567440" y="3213000"/>
            <a:ext cx="59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44928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C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rehensive and scientifically sound review of the relevant literatu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of disparate views for which there is significant scientific or technical support;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cy-neutral presentation of the scientific content in a manner relevant to policyma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2B3C6E-D7A1-4FBF-8A43-C324B51DFEE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449280" y="1341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hallenges for WGIII assessment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scientific resolution of value dis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ossible to distinguish facts and values nea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gh potentially fundamental uncertainties associated with long-term policy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mplications for WGIII assessm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 of uncertainties both in quantitative and qualitativ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parency of contested value-laden assumptions and implicit value jud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0" y="561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24FF7C-E771-48CD-A29A-8E973C656EF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bgerundetes Rechteck 2"/>
          <p:cNvSpPr/>
          <p:nvPr/>
        </p:nvSpPr>
        <p:spPr>
          <a:xfrm>
            <a:off x="1619280" y="1989000"/>
            <a:ext cx="6265800" cy="3230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CC and other scientific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Division of labour at the science-polic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E925BC-8E73-4EBA-84C6-45CE3009F50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Bild1"/>
          <p:cNvPicPr/>
          <p:nvPr/>
        </p:nvPicPr>
        <p:blipFill>
          <a:blip r:embed="rId1"/>
          <a:stretch/>
        </p:blipFill>
        <p:spPr>
          <a:xfrm>
            <a:off x="1116000" y="1557360"/>
            <a:ext cx="6594480" cy="2913120"/>
          </a:xfrm>
          <a:prstGeom prst="rect">
            <a:avLst/>
          </a:prstGeom>
          <a:ln w="0">
            <a:noFill/>
          </a:ln>
        </p:spPr>
      </p:pic>
      <p:sp>
        <p:nvSpPr>
          <p:cNvPr id="871" name="Textfeld 1"/>
          <p:cNvSpPr/>
          <p:nvPr/>
        </p:nvSpPr>
        <p:spPr>
          <a:xfrm>
            <a:off x="2137320" y="5003640"/>
            <a:ext cx="435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d from: Edenhofer and Kowarsch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GIII Assessment: Exploring the Solution Space – a mapp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8925E1-1B95-482B-99B4-F1D4D9BE09B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5" descr=""/>
          <p:cNvPicPr/>
          <p:nvPr/>
        </p:nvPicPr>
        <p:blipFill>
          <a:blip r:embed="rId1"/>
          <a:stretch/>
        </p:blipFill>
        <p:spPr>
          <a:xfrm>
            <a:off x="971640" y="1295280"/>
            <a:ext cx="7200720" cy="5407200"/>
          </a:xfrm>
          <a:prstGeom prst="rect">
            <a:avLst/>
          </a:prstGeom>
          <a:ln w="0">
            <a:noFill/>
          </a:ln>
        </p:spPr>
      </p:pic>
      <p:sp>
        <p:nvSpPr>
          <p:cNvPr id="875" name="Freeform 10"/>
          <p:cNvSpPr/>
          <p:nvPr/>
        </p:nvSpPr>
        <p:spPr>
          <a:xfrm>
            <a:off x="2610000" y="3024360"/>
            <a:ext cx="866520" cy="2892240"/>
          </a:xfrm>
          <a:custGeom>
            <a:avLst/>
            <a:gdLst/>
            <a:ahLst/>
            <a:rect l="l" t="t" r="r" b="b"/>
            <a:pathLst>
              <a:path w="546" h="1822">
                <a:moveTo>
                  <a:pt x="392" y="1822"/>
                </a:moveTo>
                <a:cubicBezTo>
                  <a:pt x="417" y="1750"/>
                  <a:pt x="403" y="1666"/>
                  <a:pt x="365" y="1601"/>
                </a:cubicBezTo>
                <a:cubicBezTo>
                  <a:pt x="347" y="1571"/>
                  <a:pt x="318" y="1549"/>
                  <a:pt x="298" y="1520"/>
                </a:cubicBezTo>
                <a:cubicBezTo>
                  <a:pt x="289" y="1490"/>
                  <a:pt x="268" y="1469"/>
                  <a:pt x="258" y="1440"/>
                </a:cubicBezTo>
                <a:cubicBezTo>
                  <a:pt x="263" y="1304"/>
                  <a:pt x="252" y="1274"/>
                  <a:pt x="285" y="1179"/>
                </a:cubicBezTo>
                <a:cubicBezTo>
                  <a:pt x="283" y="1157"/>
                  <a:pt x="283" y="1134"/>
                  <a:pt x="278" y="1112"/>
                </a:cubicBezTo>
                <a:cubicBezTo>
                  <a:pt x="272" y="1088"/>
                  <a:pt x="218" y="1038"/>
                  <a:pt x="198" y="1025"/>
                </a:cubicBezTo>
                <a:cubicBezTo>
                  <a:pt x="188" y="998"/>
                  <a:pt x="180" y="995"/>
                  <a:pt x="158" y="978"/>
                </a:cubicBezTo>
                <a:cubicBezTo>
                  <a:pt x="141" y="965"/>
                  <a:pt x="133" y="946"/>
                  <a:pt x="117" y="931"/>
                </a:cubicBezTo>
                <a:cubicBezTo>
                  <a:pt x="77" y="849"/>
                  <a:pt x="131" y="948"/>
                  <a:pt x="84" y="891"/>
                </a:cubicBezTo>
                <a:cubicBezTo>
                  <a:pt x="73" y="877"/>
                  <a:pt x="67" y="859"/>
                  <a:pt x="57" y="844"/>
                </a:cubicBezTo>
                <a:cubicBezTo>
                  <a:pt x="50" y="820"/>
                  <a:pt x="34" y="813"/>
                  <a:pt x="24" y="790"/>
                </a:cubicBezTo>
                <a:cubicBezTo>
                  <a:pt x="18" y="777"/>
                  <a:pt x="10" y="750"/>
                  <a:pt x="10" y="750"/>
                </a:cubicBezTo>
                <a:cubicBezTo>
                  <a:pt x="12" y="723"/>
                  <a:pt x="0" y="609"/>
                  <a:pt x="51" y="583"/>
                </a:cubicBezTo>
                <a:cubicBezTo>
                  <a:pt x="63" y="577"/>
                  <a:pt x="95" y="568"/>
                  <a:pt x="111" y="563"/>
                </a:cubicBezTo>
                <a:cubicBezTo>
                  <a:pt x="177" y="517"/>
                  <a:pt x="229" y="509"/>
                  <a:pt x="305" y="489"/>
                </a:cubicBezTo>
                <a:cubicBezTo>
                  <a:pt x="337" y="468"/>
                  <a:pt x="317" y="479"/>
                  <a:pt x="365" y="462"/>
                </a:cubicBezTo>
                <a:cubicBezTo>
                  <a:pt x="391" y="453"/>
                  <a:pt x="393" y="430"/>
                  <a:pt x="412" y="415"/>
                </a:cubicBezTo>
                <a:cubicBezTo>
                  <a:pt x="429" y="401"/>
                  <a:pt x="483" y="397"/>
                  <a:pt x="499" y="395"/>
                </a:cubicBezTo>
                <a:cubicBezTo>
                  <a:pt x="525" y="386"/>
                  <a:pt x="531" y="378"/>
                  <a:pt x="546" y="355"/>
                </a:cubicBezTo>
                <a:cubicBezTo>
                  <a:pt x="541" y="314"/>
                  <a:pt x="546" y="288"/>
                  <a:pt x="519" y="261"/>
                </a:cubicBezTo>
                <a:cubicBezTo>
                  <a:pt x="512" y="238"/>
                  <a:pt x="502" y="231"/>
                  <a:pt x="486" y="214"/>
                </a:cubicBezTo>
                <a:cubicBezTo>
                  <a:pt x="483" y="169"/>
                  <a:pt x="497" y="117"/>
                  <a:pt x="472" y="80"/>
                </a:cubicBezTo>
                <a:cubicBezTo>
                  <a:pt x="463" y="66"/>
                  <a:pt x="412" y="16"/>
                  <a:pt x="412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1660680" y="3024360"/>
            <a:ext cx="1625400" cy="2892240"/>
          </a:xfrm>
          <a:custGeom>
            <a:avLst/>
            <a:gdLst/>
            <a:ahLst/>
            <a:rect l="l" t="t" r="r" b="b"/>
            <a:pathLst>
              <a:path w="1024" h="1822">
                <a:moveTo>
                  <a:pt x="977" y="1822"/>
                </a:moveTo>
                <a:cubicBezTo>
                  <a:pt x="970" y="1773"/>
                  <a:pt x="970" y="1754"/>
                  <a:pt x="930" y="1728"/>
                </a:cubicBezTo>
                <a:cubicBezTo>
                  <a:pt x="919" y="1697"/>
                  <a:pt x="908" y="1689"/>
                  <a:pt x="876" y="1681"/>
                </a:cubicBezTo>
                <a:cubicBezTo>
                  <a:pt x="861" y="1658"/>
                  <a:pt x="848" y="1659"/>
                  <a:pt x="829" y="1641"/>
                </a:cubicBezTo>
                <a:cubicBezTo>
                  <a:pt x="819" y="1608"/>
                  <a:pt x="830" y="1631"/>
                  <a:pt x="803" y="1607"/>
                </a:cubicBezTo>
                <a:cubicBezTo>
                  <a:pt x="791" y="1597"/>
                  <a:pt x="769" y="1574"/>
                  <a:pt x="769" y="1574"/>
                </a:cubicBezTo>
                <a:cubicBezTo>
                  <a:pt x="752" y="1527"/>
                  <a:pt x="716" y="1489"/>
                  <a:pt x="689" y="1447"/>
                </a:cubicBezTo>
                <a:cubicBezTo>
                  <a:pt x="681" y="1435"/>
                  <a:pt x="685" y="1417"/>
                  <a:pt x="675" y="1407"/>
                </a:cubicBezTo>
                <a:cubicBezTo>
                  <a:pt x="671" y="1402"/>
                  <a:pt x="666" y="1398"/>
                  <a:pt x="662" y="1393"/>
                </a:cubicBezTo>
                <a:cubicBezTo>
                  <a:pt x="641" y="1332"/>
                  <a:pt x="577" y="1286"/>
                  <a:pt x="528" y="1246"/>
                </a:cubicBezTo>
                <a:cubicBezTo>
                  <a:pt x="504" y="1226"/>
                  <a:pt x="483" y="1201"/>
                  <a:pt x="461" y="1179"/>
                </a:cubicBezTo>
                <a:cubicBezTo>
                  <a:pt x="447" y="1165"/>
                  <a:pt x="406" y="1138"/>
                  <a:pt x="387" y="1125"/>
                </a:cubicBezTo>
                <a:cubicBezTo>
                  <a:pt x="361" y="1085"/>
                  <a:pt x="321" y="1059"/>
                  <a:pt x="280" y="1038"/>
                </a:cubicBezTo>
                <a:cubicBezTo>
                  <a:pt x="273" y="1034"/>
                  <a:pt x="266" y="1030"/>
                  <a:pt x="260" y="1025"/>
                </a:cubicBezTo>
                <a:cubicBezTo>
                  <a:pt x="255" y="1021"/>
                  <a:pt x="252" y="1014"/>
                  <a:pt x="247" y="1011"/>
                </a:cubicBezTo>
                <a:cubicBezTo>
                  <a:pt x="235" y="1004"/>
                  <a:pt x="219" y="1004"/>
                  <a:pt x="206" y="998"/>
                </a:cubicBezTo>
                <a:cubicBezTo>
                  <a:pt x="140" y="966"/>
                  <a:pt x="224" y="1003"/>
                  <a:pt x="173" y="971"/>
                </a:cubicBezTo>
                <a:cubicBezTo>
                  <a:pt x="169" y="968"/>
                  <a:pt x="137" y="959"/>
                  <a:pt x="133" y="958"/>
                </a:cubicBezTo>
                <a:cubicBezTo>
                  <a:pt x="131" y="927"/>
                  <a:pt x="139" y="892"/>
                  <a:pt x="126" y="864"/>
                </a:cubicBezTo>
                <a:cubicBezTo>
                  <a:pt x="120" y="852"/>
                  <a:pt x="96" y="867"/>
                  <a:pt x="86" y="857"/>
                </a:cubicBezTo>
                <a:cubicBezTo>
                  <a:pt x="81" y="852"/>
                  <a:pt x="107" y="843"/>
                  <a:pt x="126" y="837"/>
                </a:cubicBezTo>
                <a:cubicBezTo>
                  <a:pt x="117" y="833"/>
                  <a:pt x="109" y="826"/>
                  <a:pt x="99" y="824"/>
                </a:cubicBezTo>
                <a:cubicBezTo>
                  <a:pt x="82" y="820"/>
                  <a:pt x="61" y="827"/>
                  <a:pt x="46" y="817"/>
                </a:cubicBezTo>
                <a:cubicBezTo>
                  <a:pt x="41" y="814"/>
                  <a:pt x="83" y="773"/>
                  <a:pt x="86" y="770"/>
                </a:cubicBezTo>
                <a:cubicBezTo>
                  <a:pt x="79" y="766"/>
                  <a:pt x="74" y="759"/>
                  <a:pt x="66" y="757"/>
                </a:cubicBezTo>
                <a:cubicBezTo>
                  <a:pt x="46" y="752"/>
                  <a:pt x="24" y="759"/>
                  <a:pt x="6" y="750"/>
                </a:cubicBezTo>
                <a:cubicBezTo>
                  <a:pt x="0" y="747"/>
                  <a:pt x="10" y="737"/>
                  <a:pt x="12" y="730"/>
                </a:cubicBezTo>
                <a:cubicBezTo>
                  <a:pt x="14" y="723"/>
                  <a:pt x="16" y="716"/>
                  <a:pt x="19" y="710"/>
                </a:cubicBezTo>
                <a:cubicBezTo>
                  <a:pt x="39" y="670"/>
                  <a:pt x="60" y="657"/>
                  <a:pt x="99" y="643"/>
                </a:cubicBezTo>
                <a:cubicBezTo>
                  <a:pt x="126" y="618"/>
                  <a:pt x="143" y="590"/>
                  <a:pt x="173" y="569"/>
                </a:cubicBezTo>
                <a:cubicBezTo>
                  <a:pt x="219" y="498"/>
                  <a:pt x="311" y="489"/>
                  <a:pt x="387" y="482"/>
                </a:cubicBezTo>
                <a:cubicBezTo>
                  <a:pt x="400" y="446"/>
                  <a:pt x="417" y="430"/>
                  <a:pt x="374" y="415"/>
                </a:cubicBezTo>
                <a:cubicBezTo>
                  <a:pt x="364" y="386"/>
                  <a:pt x="348" y="370"/>
                  <a:pt x="327" y="348"/>
                </a:cubicBezTo>
                <a:cubicBezTo>
                  <a:pt x="325" y="341"/>
                  <a:pt x="324" y="333"/>
                  <a:pt x="320" y="328"/>
                </a:cubicBezTo>
                <a:cubicBezTo>
                  <a:pt x="315" y="322"/>
                  <a:pt x="302" y="323"/>
                  <a:pt x="300" y="315"/>
                </a:cubicBezTo>
                <a:cubicBezTo>
                  <a:pt x="297" y="300"/>
                  <a:pt x="326" y="299"/>
                  <a:pt x="347" y="295"/>
                </a:cubicBezTo>
                <a:cubicBezTo>
                  <a:pt x="419" y="223"/>
                  <a:pt x="480" y="233"/>
                  <a:pt x="582" y="228"/>
                </a:cubicBezTo>
                <a:cubicBezTo>
                  <a:pt x="626" y="212"/>
                  <a:pt x="652" y="206"/>
                  <a:pt x="702" y="201"/>
                </a:cubicBezTo>
                <a:cubicBezTo>
                  <a:pt x="734" y="180"/>
                  <a:pt x="766" y="165"/>
                  <a:pt x="796" y="141"/>
                </a:cubicBezTo>
                <a:cubicBezTo>
                  <a:pt x="809" y="131"/>
                  <a:pt x="828" y="105"/>
                  <a:pt x="843" y="100"/>
                </a:cubicBezTo>
                <a:cubicBezTo>
                  <a:pt x="858" y="95"/>
                  <a:pt x="874" y="96"/>
                  <a:pt x="890" y="94"/>
                </a:cubicBezTo>
                <a:cubicBezTo>
                  <a:pt x="920" y="84"/>
                  <a:pt x="924" y="56"/>
                  <a:pt x="950" y="40"/>
                </a:cubicBezTo>
                <a:cubicBezTo>
                  <a:pt x="968" y="29"/>
                  <a:pt x="997" y="27"/>
                  <a:pt x="1017" y="20"/>
                </a:cubicBezTo>
                <a:cubicBezTo>
                  <a:pt x="1019" y="13"/>
                  <a:pt x="1024" y="0"/>
                  <a:pt x="102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6"/>
          <p:cNvSpPr/>
          <p:nvPr/>
        </p:nvSpPr>
        <p:spPr>
          <a:xfrm>
            <a:off x="3132000" y="3067200"/>
            <a:ext cx="430200" cy="2817720"/>
          </a:xfrm>
          <a:custGeom>
            <a:avLst/>
            <a:gdLst/>
            <a:ahLst/>
            <a:rect l="l" t="t" r="r" b="b"/>
            <a:pathLst>
              <a:path w="271" h="1775">
                <a:moveTo>
                  <a:pt x="63" y="1775"/>
                </a:moveTo>
                <a:cubicBezTo>
                  <a:pt x="78" y="1759"/>
                  <a:pt x="91" y="1747"/>
                  <a:pt x="110" y="1735"/>
                </a:cubicBezTo>
                <a:cubicBezTo>
                  <a:pt x="118" y="1710"/>
                  <a:pt x="125" y="1687"/>
                  <a:pt x="130" y="1661"/>
                </a:cubicBezTo>
                <a:cubicBezTo>
                  <a:pt x="128" y="1621"/>
                  <a:pt x="155" y="1495"/>
                  <a:pt x="103" y="1447"/>
                </a:cubicBezTo>
                <a:cubicBezTo>
                  <a:pt x="88" y="1394"/>
                  <a:pt x="109" y="1454"/>
                  <a:pt x="83" y="1413"/>
                </a:cubicBezTo>
                <a:cubicBezTo>
                  <a:pt x="67" y="1388"/>
                  <a:pt x="71" y="1362"/>
                  <a:pt x="50" y="1339"/>
                </a:cubicBezTo>
                <a:cubicBezTo>
                  <a:pt x="34" y="1292"/>
                  <a:pt x="40" y="1313"/>
                  <a:pt x="30" y="1279"/>
                </a:cubicBezTo>
                <a:cubicBezTo>
                  <a:pt x="32" y="1221"/>
                  <a:pt x="0" y="1063"/>
                  <a:pt x="90" y="1031"/>
                </a:cubicBezTo>
                <a:cubicBezTo>
                  <a:pt x="100" y="1003"/>
                  <a:pt x="116" y="994"/>
                  <a:pt x="123" y="964"/>
                </a:cubicBezTo>
                <a:cubicBezTo>
                  <a:pt x="126" y="932"/>
                  <a:pt x="129" y="870"/>
                  <a:pt x="143" y="837"/>
                </a:cubicBezTo>
                <a:cubicBezTo>
                  <a:pt x="149" y="822"/>
                  <a:pt x="165" y="823"/>
                  <a:pt x="177" y="817"/>
                </a:cubicBezTo>
                <a:cubicBezTo>
                  <a:pt x="206" y="802"/>
                  <a:pt x="227" y="772"/>
                  <a:pt x="251" y="750"/>
                </a:cubicBezTo>
                <a:cubicBezTo>
                  <a:pt x="254" y="594"/>
                  <a:pt x="271" y="352"/>
                  <a:pt x="257" y="187"/>
                </a:cubicBezTo>
                <a:cubicBezTo>
                  <a:pt x="256" y="171"/>
                  <a:pt x="235" y="161"/>
                  <a:pt x="224" y="154"/>
                </a:cubicBezTo>
                <a:cubicBezTo>
                  <a:pt x="195" y="113"/>
                  <a:pt x="173" y="69"/>
                  <a:pt x="137" y="33"/>
                </a:cubicBezTo>
                <a:cubicBezTo>
                  <a:pt x="127" y="23"/>
                  <a:pt x="103" y="14"/>
                  <a:pt x="103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7"/>
          <p:cNvSpPr/>
          <p:nvPr/>
        </p:nvSpPr>
        <p:spPr>
          <a:xfrm rot="16200000">
            <a:off x="-2123280" y="3793680"/>
            <a:ext cx="58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  <a:ea typeface="Lucida Sans Unicode"/>
              </a:rPr>
              <a:t>http://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  <a:ea typeface="Lucida Sans Unicode"/>
              </a:rPr>
              <a:t>www.trail.ch/gallery/albums/trail/graubunden/fuorcla-surlej/corvatsch-fuorcla-surlej-val-roseg-09_09_2006-img_2598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2"/>
          <p:cNvSpPr/>
          <p:nvPr/>
        </p:nvSpPr>
        <p:spPr>
          <a:xfrm>
            <a:off x="3132000" y="201600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9"/>
          <p:cNvSpPr/>
          <p:nvPr/>
        </p:nvSpPr>
        <p:spPr>
          <a:xfrm flipH="1" flipV="1">
            <a:off x="3132000" y="2015640"/>
            <a:ext cx="14472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3"/>
          <p:cNvSpPr/>
          <p:nvPr/>
        </p:nvSpPr>
        <p:spPr>
          <a:xfrm>
            <a:off x="3059280" y="1944720"/>
            <a:ext cx="14436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7"/>
          <p:cNvSpPr/>
          <p:nvPr/>
        </p:nvSpPr>
        <p:spPr>
          <a:xfrm flipH="1" flipV="1">
            <a:off x="3132000" y="489600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8"/>
          <p:cNvSpPr/>
          <p:nvPr/>
        </p:nvSpPr>
        <p:spPr>
          <a:xfrm>
            <a:off x="3059280" y="4824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1"/>
          <p:cNvSpPr/>
          <p:nvPr/>
        </p:nvSpPr>
        <p:spPr>
          <a:xfrm rot="21363000">
            <a:off x="3156120" y="2077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 flipH="1" flipV="1">
            <a:off x="5630760" y="209232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5557680" y="2021040"/>
            <a:ext cx="14472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2"/>
          <p:cNvSpPr/>
          <p:nvPr/>
        </p:nvSpPr>
        <p:spPr>
          <a:xfrm>
            <a:off x="5651640" y="215892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1"/>
          <p:cNvSpPr/>
          <p:nvPr/>
        </p:nvSpPr>
        <p:spPr>
          <a:xfrm rot="21363000">
            <a:off x="5664600" y="2228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2"/>
          <p:cNvSpPr/>
          <p:nvPr/>
        </p:nvSpPr>
        <p:spPr>
          <a:xfrm>
            <a:off x="3995640" y="244800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3924360" y="2376360"/>
            <a:ext cx="144360" cy="7164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1"/>
          <p:cNvSpPr/>
          <p:nvPr/>
        </p:nvSpPr>
        <p:spPr>
          <a:xfrm rot="21363000">
            <a:off x="4019760" y="250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9"/>
          <p:cNvSpPr/>
          <p:nvPr/>
        </p:nvSpPr>
        <p:spPr>
          <a:xfrm flipH="1" flipV="1">
            <a:off x="3995640" y="2448000"/>
            <a:ext cx="12240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39"/>
          <p:cNvSpPr/>
          <p:nvPr/>
        </p:nvSpPr>
        <p:spPr>
          <a:xfrm>
            <a:off x="3537000" y="3168720"/>
            <a:ext cx="565200" cy="1112760"/>
          </a:xfrm>
          <a:custGeom>
            <a:avLst/>
            <a:gdLst/>
            <a:ahLst/>
            <a:rect l="l" t="t" r="r" b="b"/>
            <a:pathLst>
              <a:path w="356" h="701">
                <a:moveTo>
                  <a:pt x="0" y="692"/>
                </a:moveTo>
                <a:cubicBezTo>
                  <a:pt x="56" y="690"/>
                  <a:pt x="82" y="701"/>
                  <a:pt x="120" y="676"/>
                </a:cubicBezTo>
                <a:cubicBezTo>
                  <a:pt x="147" y="636"/>
                  <a:pt x="132" y="609"/>
                  <a:pt x="136" y="548"/>
                </a:cubicBezTo>
                <a:cubicBezTo>
                  <a:pt x="139" y="498"/>
                  <a:pt x="180" y="450"/>
                  <a:pt x="220" y="424"/>
                </a:cubicBezTo>
                <a:cubicBezTo>
                  <a:pt x="233" y="405"/>
                  <a:pt x="238" y="392"/>
                  <a:pt x="256" y="380"/>
                </a:cubicBezTo>
                <a:cubicBezTo>
                  <a:pt x="263" y="360"/>
                  <a:pt x="269" y="340"/>
                  <a:pt x="276" y="320"/>
                </a:cubicBezTo>
                <a:cubicBezTo>
                  <a:pt x="279" y="312"/>
                  <a:pt x="281" y="304"/>
                  <a:pt x="284" y="296"/>
                </a:cubicBezTo>
                <a:cubicBezTo>
                  <a:pt x="285" y="292"/>
                  <a:pt x="288" y="284"/>
                  <a:pt x="288" y="284"/>
                </a:cubicBezTo>
                <a:cubicBezTo>
                  <a:pt x="287" y="253"/>
                  <a:pt x="256" y="79"/>
                  <a:pt x="308" y="44"/>
                </a:cubicBezTo>
                <a:cubicBezTo>
                  <a:pt x="315" y="34"/>
                  <a:pt x="327" y="19"/>
                  <a:pt x="336" y="12"/>
                </a:cubicBezTo>
                <a:cubicBezTo>
                  <a:pt x="339" y="9"/>
                  <a:pt x="344" y="10"/>
                  <a:pt x="348" y="8"/>
                </a:cubicBezTo>
                <a:cubicBezTo>
                  <a:pt x="351" y="6"/>
                  <a:pt x="353" y="3"/>
                  <a:pt x="356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1"/>
          <p:cNvSpPr/>
          <p:nvPr/>
        </p:nvSpPr>
        <p:spPr>
          <a:xfrm>
            <a:off x="3282840" y="3160800"/>
            <a:ext cx="1114560" cy="2725560"/>
          </a:xfrm>
          <a:custGeom>
            <a:avLst/>
            <a:gdLst/>
            <a:ahLst/>
            <a:rect l="l" t="t" r="r" b="b"/>
            <a:pathLst>
              <a:path w="702" h="1717">
                <a:moveTo>
                  <a:pt x="0" y="1717"/>
                </a:moveTo>
                <a:cubicBezTo>
                  <a:pt x="19" y="1704"/>
                  <a:pt x="38" y="1688"/>
                  <a:pt x="52" y="1669"/>
                </a:cubicBezTo>
                <a:cubicBezTo>
                  <a:pt x="62" y="1639"/>
                  <a:pt x="47" y="1675"/>
                  <a:pt x="68" y="1649"/>
                </a:cubicBezTo>
                <a:cubicBezTo>
                  <a:pt x="74" y="1642"/>
                  <a:pt x="75" y="1632"/>
                  <a:pt x="80" y="1625"/>
                </a:cubicBezTo>
                <a:cubicBezTo>
                  <a:pt x="81" y="1597"/>
                  <a:pt x="63" y="1439"/>
                  <a:pt x="120" y="1401"/>
                </a:cubicBezTo>
                <a:cubicBezTo>
                  <a:pt x="124" y="1380"/>
                  <a:pt x="126" y="1373"/>
                  <a:pt x="144" y="1361"/>
                </a:cubicBezTo>
                <a:cubicBezTo>
                  <a:pt x="151" y="1341"/>
                  <a:pt x="162" y="1325"/>
                  <a:pt x="180" y="1313"/>
                </a:cubicBezTo>
                <a:cubicBezTo>
                  <a:pt x="191" y="1296"/>
                  <a:pt x="204" y="1287"/>
                  <a:pt x="216" y="1269"/>
                </a:cubicBezTo>
                <a:cubicBezTo>
                  <a:pt x="237" y="1237"/>
                  <a:pt x="227" y="1230"/>
                  <a:pt x="264" y="1205"/>
                </a:cubicBezTo>
                <a:cubicBezTo>
                  <a:pt x="280" y="1194"/>
                  <a:pt x="295" y="1188"/>
                  <a:pt x="312" y="1177"/>
                </a:cubicBezTo>
                <a:cubicBezTo>
                  <a:pt x="319" y="1172"/>
                  <a:pt x="336" y="1169"/>
                  <a:pt x="336" y="1169"/>
                </a:cubicBezTo>
                <a:cubicBezTo>
                  <a:pt x="353" y="1152"/>
                  <a:pt x="359" y="1143"/>
                  <a:pt x="380" y="1129"/>
                </a:cubicBezTo>
                <a:cubicBezTo>
                  <a:pt x="384" y="1126"/>
                  <a:pt x="392" y="1121"/>
                  <a:pt x="392" y="1121"/>
                </a:cubicBezTo>
                <a:cubicBezTo>
                  <a:pt x="401" y="1107"/>
                  <a:pt x="410" y="1098"/>
                  <a:pt x="424" y="1089"/>
                </a:cubicBezTo>
                <a:cubicBezTo>
                  <a:pt x="432" y="1066"/>
                  <a:pt x="423" y="1087"/>
                  <a:pt x="440" y="1065"/>
                </a:cubicBezTo>
                <a:cubicBezTo>
                  <a:pt x="446" y="1057"/>
                  <a:pt x="456" y="1041"/>
                  <a:pt x="456" y="1041"/>
                </a:cubicBezTo>
                <a:cubicBezTo>
                  <a:pt x="453" y="972"/>
                  <a:pt x="453" y="926"/>
                  <a:pt x="404" y="877"/>
                </a:cubicBezTo>
                <a:cubicBezTo>
                  <a:pt x="392" y="840"/>
                  <a:pt x="391" y="804"/>
                  <a:pt x="404" y="765"/>
                </a:cubicBezTo>
                <a:cubicBezTo>
                  <a:pt x="406" y="723"/>
                  <a:pt x="397" y="664"/>
                  <a:pt x="432" y="629"/>
                </a:cubicBezTo>
                <a:cubicBezTo>
                  <a:pt x="445" y="616"/>
                  <a:pt x="453" y="604"/>
                  <a:pt x="468" y="593"/>
                </a:cubicBezTo>
                <a:cubicBezTo>
                  <a:pt x="476" y="587"/>
                  <a:pt x="492" y="577"/>
                  <a:pt x="492" y="577"/>
                </a:cubicBezTo>
                <a:cubicBezTo>
                  <a:pt x="526" y="526"/>
                  <a:pt x="504" y="494"/>
                  <a:pt x="488" y="445"/>
                </a:cubicBezTo>
                <a:cubicBezTo>
                  <a:pt x="502" y="404"/>
                  <a:pt x="509" y="375"/>
                  <a:pt x="548" y="349"/>
                </a:cubicBezTo>
                <a:cubicBezTo>
                  <a:pt x="563" y="327"/>
                  <a:pt x="551" y="347"/>
                  <a:pt x="560" y="313"/>
                </a:cubicBezTo>
                <a:cubicBezTo>
                  <a:pt x="576" y="248"/>
                  <a:pt x="596" y="272"/>
                  <a:pt x="680" y="269"/>
                </a:cubicBezTo>
                <a:cubicBezTo>
                  <a:pt x="702" y="255"/>
                  <a:pt x="693" y="228"/>
                  <a:pt x="672" y="221"/>
                </a:cubicBezTo>
                <a:cubicBezTo>
                  <a:pt x="671" y="184"/>
                  <a:pt x="673" y="146"/>
                  <a:pt x="668" y="109"/>
                </a:cubicBezTo>
                <a:cubicBezTo>
                  <a:pt x="667" y="104"/>
                  <a:pt x="623" y="77"/>
                  <a:pt x="616" y="73"/>
                </a:cubicBezTo>
                <a:cubicBezTo>
                  <a:pt x="608" y="68"/>
                  <a:pt x="592" y="57"/>
                  <a:pt x="592" y="57"/>
                </a:cubicBezTo>
                <a:cubicBezTo>
                  <a:pt x="585" y="46"/>
                  <a:pt x="564" y="29"/>
                  <a:pt x="552" y="25"/>
                </a:cubicBezTo>
                <a:cubicBezTo>
                  <a:pt x="535" y="0"/>
                  <a:pt x="546" y="1"/>
                  <a:pt x="532" y="1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2"/>
          <p:cNvSpPr/>
          <p:nvPr/>
        </p:nvSpPr>
        <p:spPr>
          <a:xfrm>
            <a:off x="3295800" y="3124080"/>
            <a:ext cx="2603520" cy="2770200"/>
          </a:xfrm>
          <a:custGeom>
            <a:avLst/>
            <a:gdLst/>
            <a:ahLst/>
            <a:rect l="l" t="t" r="r" b="b"/>
            <a:pathLst>
              <a:path w="1640" h="1745">
                <a:moveTo>
                  <a:pt x="0" y="1744"/>
                </a:moveTo>
                <a:cubicBezTo>
                  <a:pt x="28" y="1743"/>
                  <a:pt x="56" y="1745"/>
                  <a:pt x="84" y="1740"/>
                </a:cubicBezTo>
                <a:cubicBezTo>
                  <a:pt x="102" y="1737"/>
                  <a:pt x="132" y="1704"/>
                  <a:pt x="144" y="1692"/>
                </a:cubicBezTo>
                <a:cubicBezTo>
                  <a:pt x="176" y="1660"/>
                  <a:pt x="198" y="1613"/>
                  <a:pt x="236" y="1588"/>
                </a:cubicBezTo>
                <a:cubicBezTo>
                  <a:pt x="250" y="1567"/>
                  <a:pt x="292" y="1525"/>
                  <a:pt x="312" y="1512"/>
                </a:cubicBezTo>
                <a:cubicBezTo>
                  <a:pt x="355" y="1483"/>
                  <a:pt x="290" y="1528"/>
                  <a:pt x="336" y="1492"/>
                </a:cubicBezTo>
                <a:cubicBezTo>
                  <a:pt x="344" y="1486"/>
                  <a:pt x="360" y="1476"/>
                  <a:pt x="360" y="1476"/>
                </a:cubicBezTo>
                <a:cubicBezTo>
                  <a:pt x="377" y="1450"/>
                  <a:pt x="394" y="1442"/>
                  <a:pt x="420" y="1424"/>
                </a:cubicBezTo>
                <a:cubicBezTo>
                  <a:pt x="475" y="1341"/>
                  <a:pt x="508" y="1363"/>
                  <a:pt x="620" y="1360"/>
                </a:cubicBezTo>
                <a:cubicBezTo>
                  <a:pt x="628" y="1357"/>
                  <a:pt x="636" y="1355"/>
                  <a:pt x="644" y="1352"/>
                </a:cubicBezTo>
                <a:cubicBezTo>
                  <a:pt x="648" y="1351"/>
                  <a:pt x="656" y="1348"/>
                  <a:pt x="656" y="1348"/>
                </a:cubicBezTo>
                <a:cubicBezTo>
                  <a:pt x="668" y="1336"/>
                  <a:pt x="674" y="1325"/>
                  <a:pt x="688" y="1316"/>
                </a:cubicBezTo>
                <a:cubicBezTo>
                  <a:pt x="693" y="1300"/>
                  <a:pt x="694" y="1283"/>
                  <a:pt x="700" y="1268"/>
                </a:cubicBezTo>
                <a:cubicBezTo>
                  <a:pt x="704" y="1258"/>
                  <a:pt x="731" y="1223"/>
                  <a:pt x="740" y="1220"/>
                </a:cubicBezTo>
                <a:cubicBezTo>
                  <a:pt x="750" y="1217"/>
                  <a:pt x="759" y="1214"/>
                  <a:pt x="768" y="1208"/>
                </a:cubicBezTo>
                <a:cubicBezTo>
                  <a:pt x="781" y="1198"/>
                  <a:pt x="786" y="1185"/>
                  <a:pt x="800" y="1176"/>
                </a:cubicBezTo>
                <a:cubicBezTo>
                  <a:pt x="831" y="1129"/>
                  <a:pt x="875" y="1135"/>
                  <a:pt x="928" y="1132"/>
                </a:cubicBezTo>
                <a:cubicBezTo>
                  <a:pt x="951" y="1124"/>
                  <a:pt x="980" y="1105"/>
                  <a:pt x="1000" y="1092"/>
                </a:cubicBezTo>
                <a:cubicBezTo>
                  <a:pt x="1008" y="1087"/>
                  <a:pt x="1024" y="1076"/>
                  <a:pt x="1024" y="1076"/>
                </a:cubicBezTo>
                <a:cubicBezTo>
                  <a:pt x="1044" y="1046"/>
                  <a:pt x="1081" y="1020"/>
                  <a:pt x="1116" y="1008"/>
                </a:cubicBezTo>
                <a:cubicBezTo>
                  <a:pt x="1153" y="952"/>
                  <a:pt x="1111" y="914"/>
                  <a:pt x="1096" y="868"/>
                </a:cubicBezTo>
                <a:cubicBezTo>
                  <a:pt x="1092" y="835"/>
                  <a:pt x="1089" y="799"/>
                  <a:pt x="1060" y="780"/>
                </a:cubicBezTo>
                <a:cubicBezTo>
                  <a:pt x="1059" y="776"/>
                  <a:pt x="1059" y="771"/>
                  <a:pt x="1056" y="768"/>
                </a:cubicBezTo>
                <a:cubicBezTo>
                  <a:pt x="1053" y="764"/>
                  <a:pt x="1047" y="764"/>
                  <a:pt x="1044" y="760"/>
                </a:cubicBezTo>
                <a:cubicBezTo>
                  <a:pt x="1040" y="753"/>
                  <a:pt x="1039" y="744"/>
                  <a:pt x="1036" y="736"/>
                </a:cubicBezTo>
                <a:cubicBezTo>
                  <a:pt x="1035" y="732"/>
                  <a:pt x="1032" y="724"/>
                  <a:pt x="1032" y="724"/>
                </a:cubicBezTo>
                <a:cubicBezTo>
                  <a:pt x="1034" y="685"/>
                  <a:pt x="1016" y="632"/>
                  <a:pt x="1052" y="608"/>
                </a:cubicBezTo>
                <a:cubicBezTo>
                  <a:pt x="1058" y="591"/>
                  <a:pt x="1064" y="573"/>
                  <a:pt x="1080" y="568"/>
                </a:cubicBezTo>
                <a:cubicBezTo>
                  <a:pt x="1091" y="552"/>
                  <a:pt x="1097" y="550"/>
                  <a:pt x="1116" y="544"/>
                </a:cubicBezTo>
                <a:cubicBezTo>
                  <a:pt x="1124" y="542"/>
                  <a:pt x="1140" y="536"/>
                  <a:pt x="1140" y="536"/>
                </a:cubicBezTo>
                <a:cubicBezTo>
                  <a:pt x="1144" y="524"/>
                  <a:pt x="1148" y="512"/>
                  <a:pt x="1152" y="500"/>
                </a:cubicBezTo>
                <a:cubicBezTo>
                  <a:pt x="1153" y="496"/>
                  <a:pt x="1152" y="489"/>
                  <a:pt x="1156" y="488"/>
                </a:cubicBezTo>
                <a:cubicBezTo>
                  <a:pt x="1168" y="484"/>
                  <a:pt x="1181" y="483"/>
                  <a:pt x="1192" y="476"/>
                </a:cubicBezTo>
                <a:cubicBezTo>
                  <a:pt x="1209" y="465"/>
                  <a:pt x="1233" y="442"/>
                  <a:pt x="1252" y="436"/>
                </a:cubicBezTo>
                <a:cubicBezTo>
                  <a:pt x="1266" y="422"/>
                  <a:pt x="1284" y="413"/>
                  <a:pt x="1304" y="408"/>
                </a:cubicBezTo>
                <a:cubicBezTo>
                  <a:pt x="1316" y="400"/>
                  <a:pt x="1328" y="392"/>
                  <a:pt x="1340" y="384"/>
                </a:cubicBezTo>
                <a:cubicBezTo>
                  <a:pt x="1344" y="381"/>
                  <a:pt x="1352" y="376"/>
                  <a:pt x="1352" y="376"/>
                </a:cubicBezTo>
                <a:cubicBezTo>
                  <a:pt x="1355" y="372"/>
                  <a:pt x="1356" y="367"/>
                  <a:pt x="1360" y="364"/>
                </a:cubicBezTo>
                <a:cubicBezTo>
                  <a:pt x="1371" y="357"/>
                  <a:pt x="1385" y="359"/>
                  <a:pt x="1396" y="352"/>
                </a:cubicBezTo>
                <a:cubicBezTo>
                  <a:pt x="1414" y="340"/>
                  <a:pt x="1435" y="335"/>
                  <a:pt x="1456" y="328"/>
                </a:cubicBezTo>
                <a:cubicBezTo>
                  <a:pt x="1496" y="315"/>
                  <a:pt x="1434" y="335"/>
                  <a:pt x="1484" y="320"/>
                </a:cubicBezTo>
                <a:cubicBezTo>
                  <a:pt x="1492" y="318"/>
                  <a:pt x="1508" y="312"/>
                  <a:pt x="1508" y="312"/>
                </a:cubicBezTo>
                <a:cubicBezTo>
                  <a:pt x="1517" y="298"/>
                  <a:pt x="1526" y="289"/>
                  <a:pt x="1540" y="280"/>
                </a:cubicBezTo>
                <a:cubicBezTo>
                  <a:pt x="1555" y="258"/>
                  <a:pt x="1540" y="275"/>
                  <a:pt x="1560" y="264"/>
                </a:cubicBezTo>
                <a:cubicBezTo>
                  <a:pt x="1568" y="259"/>
                  <a:pt x="1584" y="248"/>
                  <a:pt x="1584" y="248"/>
                </a:cubicBezTo>
                <a:cubicBezTo>
                  <a:pt x="1594" y="233"/>
                  <a:pt x="1609" y="218"/>
                  <a:pt x="1624" y="208"/>
                </a:cubicBezTo>
                <a:cubicBezTo>
                  <a:pt x="1631" y="197"/>
                  <a:pt x="1640" y="172"/>
                  <a:pt x="1640" y="172"/>
                </a:cubicBezTo>
                <a:cubicBezTo>
                  <a:pt x="1639" y="164"/>
                  <a:pt x="1640" y="155"/>
                  <a:pt x="1636" y="148"/>
                </a:cubicBezTo>
                <a:cubicBezTo>
                  <a:pt x="1632" y="140"/>
                  <a:pt x="1619" y="140"/>
                  <a:pt x="1612" y="136"/>
                </a:cubicBezTo>
                <a:cubicBezTo>
                  <a:pt x="1565" y="110"/>
                  <a:pt x="1611" y="128"/>
                  <a:pt x="1564" y="112"/>
                </a:cubicBezTo>
                <a:cubicBezTo>
                  <a:pt x="1551" y="108"/>
                  <a:pt x="1528" y="92"/>
                  <a:pt x="1528" y="92"/>
                </a:cubicBezTo>
                <a:cubicBezTo>
                  <a:pt x="1517" y="75"/>
                  <a:pt x="1520" y="71"/>
                  <a:pt x="1536" y="60"/>
                </a:cubicBezTo>
                <a:cubicBezTo>
                  <a:pt x="1539" y="52"/>
                  <a:pt x="1547" y="15"/>
                  <a:pt x="1552" y="12"/>
                </a:cubicBezTo>
                <a:cubicBezTo>
                  <a:pt x="1565" y="3"/>
                  <a:pt x="1564" y="9"/>
                  <a:pt x="1564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5"/>
          <p:cNvSpPr/>
          <p:nvPr/>
        </p:nvSpPr>
        <p:spPr>
          <a:xfrm>
            <a:off x="4102200" y="3871800"/>
            <a:ext cx="1015920" cy="141480"/>
          </a:xfrm>
          <a:custGeom>
            <a:avLst/>
            <a:gdLst/>
            <a:ahLst/>
            <a:rect l="l" t="t" r="r" b="b"/>
            <a:pathLst>
              <a:path w="640" h="89">
                <a:moveTo>
                  <a:pt x="0" y="89"/>
                </a:moveTo>
                <a:cubicBezTo>
                  <a:pt x="5" y="73"/>
                  <a:pt x="10" y="66"/>
                  <a:pt x="24" y="57"/>
                </a:cubicBezTo>
                <a:cubicBezTo>
                  <a:pt x="62" y="0"/>
                  <a:pt x="135" y="35"/>
                  <a:pt x="204" y="33"/>
                </a:cubicBezTo>
                <a:cubicBezTo>
                  <a:pt x="252" y="26"/>
                  <a:pt x="303" y="34"/>
                  <a:pt x="352" y="37"/>
                </a:cubicBezTo>
                <a:cubicBezTo>
                  <a:pt x="387" y="49"/>
                  <a:pt x="409" y="47"/>
                  <a:pt x="452" y="49"/>
                </a:cubicBezTo>
                <a:cubicBezTo>
                  <a:pt x="485" y="60"/>
                  <a:pt x="522" y="49"/>
                  <a:pt x="556" y="45"/>
                </a:cubicBezTo>
                <a:cubicBezTo>
                  <a:pt x="574" y="33"/>
                  <a:pt x="566" y="26"/>
                  <a:pt x="588" y="21"/>
                </a:cubicBezTo>
                <a:cubicBezTo>
                  <a:pt x="605" y="27"/>
                  <a:pt x="610" y="22"/>
                  <a:pt x="616" y="5"/>
                </a:cubicBezTo>
                <a:cubicBezTo>
                  <a:pt x="632" y="10"/>
                  <a:pt x="624" y="9"/>
                  <a:pt x="640" y="9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7"/>
          <p:cNvSpPr/>
          <p:nvPr/>
        </p:nvSpPr>
        <p:spPr>
          <a:xfrm>
            <a:off x="3537000" y="4280040"/>
            <a:ext cx="368280" cy="253800"/>
          </a:xfrm>
          <a:custGeom>
            <a:avLst/>
            <a:gdLst/>
            <a:ahLst/>
            <a:rect l="l" t="t" r="r" b="b"/>
            <a:pathLst>
              <a:path w="232" h="160">
                <a:moveTo>
                  <a:pt x="232" y="160"/>
                </a:moveTo>
                <a:cubicBezTo>
                  <a:pt x="207" y="122"/>
                  <a:pt x="153" y="119"/>
                  <a:pt x="112" y="116"/>
                </a:cubicBezTo>
                <a:cubicBezTo>
                  <a:pt x="93" y="110"/>
                  <a:pt x="69" y="96"/>
                  <a:pt x="52" y="84"/>
                </a:cubicBezTo>
                <a:cubicBezTo>
                  <a:pt x="57" y="68"/>
                  <a:pt x="62" y="61"/>
                  <a:pt x="76" y="52"/>
                </a:cubicBezTo>
                <a:cubicBezTo>
                  <a:pt x="79" y="48"/>
                  <a:pt x="88" y="43"/>
                  <a:pt x="84" y="40"/>
                </a:cubicBezTo>
                <a:cubicBezTo>
                  <a:pt x="70" y="29"/>
                  <a:pt x="39" y="42"/>
                  <a:pt x="68" y="32"/>
                </a:cubicBezTo>
                <a:cubicBezTo>
                  <a:pt x="47" y="18"/>
                  <a:pt x="18" y="18"/>
                  <a:pt x="0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6"/>
          <p:cNvSpPr/>
          <p:nvPr/>
        </p:nvSpPr>
        <p:spPr>
          <a:xfrm>
            <a:off x="3132000" y="496728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cc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9"/>
          <p:cNvSpPr/>
          <p:nvPr/>
        </p:nvSpPr>
        <p:spPr>
          <a:xfrm rot="21363000">
            <a:off x="3133440" y="50338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48"/>
          <p:cNvSpPr/>
          <p:nvPr/>
        </p:nvSpPr>
        <p:spPr>
          <a:xfrm>
            <a:off x="3448080" y="3111480"/>
            <a:ext cx="3130560" cy="2944800"/>
          </a:xfrm>
          <a:custGeom>
            <a:avLst/>
            <a:gdLst/>
            <a:ahLst/>
            <a:rect l="l" t="t" r="r" b="b"/>
            <a:pathLst>
              <a:path w="1972" h="1855">
                <a:moveTo>
                  <a:pt x="0" y="1756"/>
                </a:moveTo>
                <a:cubicBezTo>
                  <a:pt x="5" y="1761"/>
                  <a:pt x="18" y="1772"/>
                  <a:pt x="20" y="1780"/>
                </a:cubicBezTo>
                <a:cubicBezTo>
                  <a:pt x="25" y="1796"/>
                  <a:pt x="20" y="1814"/>
                  <a:pt x="28" y="1828"/>
                </a:cubicBezTo>
                <a:cubicBezTo>
                  <a:pt x="32" y="1836"/>
                  <a:pt x="61" y="1843"/>
                  <a:pt x="64" y="1844"/>
                </a:cubicBezTo>
                <a:cubicBezTo>
                  <a:pt x="72" y="1847"/>
                  <a:pt x="88" y="1852"/>
                  <a:pt x="88" y="1852"/>
                </a:cubicBezTo>
                <a:cubicBezTo>
                  <a:pt x="185" y="1848"/>
                  <a:pt x="169" y="1855"/>
                  <a:pt x="228" y="1816"/>
                </a:cubicBezTo>
                <a:cubicBezTo>
                  <a:pt x="248" y="1755"/>
                  <a:pt x="264" y="1697"/>
                  <a:pt x="320" y="1660"/>
                </a:cubicBezTo>
                <a:cubicBezTo>
                  <a:pt x="328" y="1648"/>
                  <a:pt x="352" y="1632"/>
                  <a:pt x="352" y="1632"/>
                </a:cubicBezTo>
                <a:cubicBezTo>
                  <a:pt x="384" y="1633"/>
                  <a:pt x="416" y="1633"/>
                  <a:pt x="448" y="1636"/>
                </a:cubicBezTo>
                <a:cubicBezTo>
                  <a:pt x="456" y="1637"/>
                  <a:pt x="464" y="1642"/>
                  <a:pt x="472" y="1644"/>
                </a:cubicBezTo>
                <a:cubicBezTo>
                  <a:pt x="496" y="1650"/>
                  <a:pt x="483" y="1646"/>
                  <a:pt x="512" y="1656"/>
                </a:cubicBezTo>
                <a:cubicBezTo>
                  <a:pt x="520" y="1659"/>
                  <a:pt x="536" y="1664"/>
                  <a:pt x="536" y="1664"/>
                </a:cubicBezTo>
                <a:cubicBezTo>
                  <a:pt x="547" y="1663"/>
                  <a:pt x="557" y="1662"/>
                  <a:pt x="568" y="1660"/>
                </a:cubicBezTo>
                <a:cubicBezTo>
                  <a:pt x="576" y="1658"/>
                  <a:pt x="592" y="1652"/>
                  <a:pt x="592" y="1652"/>
                </a:cubicBezTo>
                <a:cubicBezTo>
                  <a:pt x="602" y="1637"/>
                  <a:pt x="611" y="1632"/>
                  <a:pt x="628" y="1624"/>
                </a:cubicBezTo>
                <a:cubicBezTo>
                  <a:pt x="642" y="1603"/>
                  <a:pt x="640" y="1576"/>
                  <a:pt x="648" y="1552"/>
                </a:cubicBezTo>
                <a:cubicBezTo>
                  <a:pt x="651" y="1544"/>
                  <a:pt x="656" y="1528"/>
                  <a:pt x="656" y="1528"/>
                </a:cubicBezTo>
                <a:cubicBezTo>
                  <a:pt x="659" y="1500"/>
                  <a:pt x="648" y="1441"/>
                  <a:pt x="676" y="1432"/>
                </a:cubicBezTo>
                <a:cubicBezTo>
                  <a:pt x="695" y="1437"/>
                  <a:pt x="700" y="1443"/>
                  <a:pt x="716" y="1432"/>
                </a:cubicBezTo>
                <a:cubicBezTo>
                  <a:pt x="734" y="1404"/>
                  <a:pt x="729" y="1417"/>
                  <a:pt x="736" y="1396"/>
                </a:cubicBezTo>
                <a:cubicBezTo>
                  <a:pt x="737" y="1387"/>
                  <a:pt x="734" y="1375"/>
                  <a:pt x="740" y="1368"/>
                </a:cubicBezTo>
                <a:cubicBezTo>
                  <a:pt x="745" y="1362"/>
                  <a:pt x="752" y="1380"/>
                  <a:pt x="764" y="1388"/>
                </a:cubicBezTo>
                <a:cubicBezTo>
                  <a:pt x="774" y="1394"/>
                  <a:pt x="789" y="1400"/>
                  <a:pt x="800" y="1404"/>
                </a:cubicBezTo>
                <a:cubicBezTo>
                  <a:pt x="812" y="1392"/>
                  <a:pt x="829" y="1382"/>
                  <a:pt x="840" y="1368"/>
                </a:cubicBezTo>
                <a:cubicBezTo>
                  <a:pt x="846" y="1360"/>
                  <a:pt x="856" y="1344"/>
                  <a:pt x="856" y="1344"/>
                </a:cubicBezTo>
                <a:cubicBezTo>
                  <a:pt x="866" y="1358"/>
                  <a:pt x="874" y="1358"/>
                  <a:pt x="884" y="1372"/>
                </a:cubicBezTo>
                <a:cubicBezTo>
                  <a:pt x="908" y="1367"/>
                  <a:pt x="912" y="1359"/>
                  <a:pt x="936" y="1364"/>
                </a:cubicBezTo>
                <a:cubicBezTo>
                  <a:pt x="1010" y="1363"/>
                  <a:pt x="1196" y="1392"/>
                  <a:pt x="1272" y="1316"/>
                </a:cubicBezTo>
                <a:cubicBezTo>
                  <a:pt x="1282" y="1286"/>
                  <a:pt x="1313" y="1281"/>
                  <a:pt x="1340" y="1272"/>
                </a:cubicBezTo>
                <a:cubicBezTo>
                  <a:pt x="1351" y="1256"/>
                  <a:pt x="1364" y="1239"/>
                  <a:pt x="1380" y="1228"/>
                </a:cubicBezTo>
                <a:cubicBezTo>
                  <a:pt x="1390" y="1214"/>
                  <a:pt x="1398" y="1213"/>
                  <a:pt x="1412" y="1204"/>
                </a:cubicBezTo>
                <a:cubicBezTo>
                  <a:pt x="1428" y="1180"/>
                  <a:pt x="1449" y="1176"/>
                  <a:pt x="1472" y="1160"/>
                </a:cubicBezTo>
                <a:cubicBezTo>
                  <a:pt x="1476" y="1147"/>
                  <a:pt x="1484" y="1137"/>
                  <a:pt x="1488" y="1124"/>
                </a:cubicBezTo>
                <a:cubicBezTo>
                  <a:pt x="1489" y="1103"/>
                  <a:pt x="1489" y="1081"/>
                  <a:pt x="1492" y="1060"/>
                </a:cubicBezTo>
                <a:cubicBezTo>
                  <a:pt x="1494" y="1047"/>
                  <a:pt x="1508" y="1024"/>
                  <a:pt x="1508" y="1024"/>
                </a:cubicBezTo>
                <a:cubicBezTo>
                  <a:pt x="1505" y="984"/>
                  <a:pt x="1511" y="944"/>
                  <a:pt x="1476" y="920"/>
                </a:cubicBezTo>
                <a:cubicBezTo>
                  <a:pt x="1477" y="900"/>
                  <a:pt x="1477" y="880"/>
                  <a:pt x="1480" y="860"/>
                </a:cubicBezTo>
                <a:cubicBezTo>
                  <a:pt x="1486" y="825"/>
                  <a:pt x="1545" y="829"/>
                  <a:pt x="1564" y="828"/>
                </a:cubicBezTo>
                <a:cubicBezTo>
                  <a:pt x="1623" y="808"/>
                  <a:pt x="1669" y="771"/>
                  <a:pt x="1732" y="764"/>
                </a:cubicBezTo>
                <a:cubicBezTo>
                  <a:pt x="1745" y="744"/>
                  <a:pt x="1757" y="724"/>
                  <a:pt x="1768" y="704"/>
                </a:cubicBezTo>
                <a:cubicBezTo>
                  <a:pt x="1773" y="696"/>
                  <a:pt x="1784" y="680"/>
                  <a:pt x="1784" y="680"/>
                </a:cubicBezTo>
                <a:cubicBezTo>
                  <a:pt x="1794" y="640"/>
                  <a:pt x="1776" y="690"/>
                  <a:pt x="1828" y="660"/>
                </a:cubicBezTo>
                <a:cubicBezTo>
                  <a:pt x="1835" y="656"/>
                  <a:pt x="1833" y="644"/>
                  <a:pt x="1836" y="636"/>
                </a:cubicBezTo>
                <a:cubicBezTo>
                  <a:pt x="1843" y="614"/>
                  <a:pt x="1851" y="591"/>
                  <a:pt x="1856" y="568"/>
                </a:cubicBezTo>
                <a:cubicBezTo>
                  <a:pt x="1858" y="560"/>
                  <a:pt x="1853" y="547"/>
                  <a:pt x="1860" y="544"/>
                </a:cubicBezTo>
                <a:cubicBezTo>
                  <a:pt x="1877" y="536"/>
                  <a:pt x="1897" y="541"/>
                  <a:pt x="1916" y="540"/>
                </a:cubicBezTo>
                <a:cubicBezTo>
                  <a:pt x="1923" y="471"/>
                  <a:pt x="1912" y="517"/>
                  <a:pt x="1956" y="488"/>
                </a:cubicBezTo>
                <a:cubicBezTo>
                  <a:pt x="1960" y="476"/>
                  <a:pt x="1964" y="464"/>
                  <a:pt x="1968" y="452"/>
                </a:cubicBezTo>
                <a:cubicBezTo>
                  <a:pt x="1969" y="448"/>
                  <a:pt x="1972" y="440"/>
                  <a:pt x="1972" y="440"/>
                </a:cubicBezTo>
                <a:cubicBezTo>
                  <a:pt x="1969" y="397"/>
                  <a:pt x="1964" y="347"/>
                  <a:pt x="1924" y="320"/>
                </a:cubicBezTo>
                <a:cubicBezTo>
                  <a:pt x="1921" y="316"/>
                  <a:pt x="1919" y="311"/>
                  <a:pt x="1916" y="308"/>
                </a:cubicBezTo>
                <a:cubicBezTo>
                  <a:pt x="1913" y="305"/>
                  <a:pt x="1907" y="304"/>
                  <a:pt x="1904" y="300"/>
                </a:cubicBezTo>
                <a:cubicBezTo>
                  <a:pt x="1894" y="287"/>
                  <a:pt x="1896" y="278"/>
                  <a:pt x="1880" y="268"/>
                </a:cubicBezTo>
                <a:cubicBezTo>
                  <a:pt x="1874" y="250"/>
                  <a:pt x="1871" y="248"/>
                  <a:pt x="1856" y="240"/>
                </a:cubicBezTo>
                <a:cubicBezTo>
                  <a:pt x="1848" y="235"/>
                  <a:pt x="1832" y="224"/>
                  <a:pt x="1832" y="224"/>
                </a:cubicBezTo>
                <a:cubicBezTo>
                  <a:pt x="1827" y="216"/>
                  <a:pt x="1817" y="212"/>
                  <a:pt x="1812" y="204"/>
                </a:cubicBezTo>
                <a:cubicBezTo>
                  <a:pt x="1797" y="180"/>
                  <a:pt x="1796" y="153"/>
                  <a:pt x="1760" y="148"/>
                </a:cubicBezTo>
                <a:cubicBezTo>
                  <a:pt x="1743" y="146"/>
                  <a:pt x="1725" y="145"/>
                  <a:pt x="1708" y="144"/>
                </a:cubicBezTo>
                <a:cubicBezTo>
                  <a:pt x="1694" y="122"/>
                  <a:pt x="1673" y="116"/>
                  <a:pt x="1652" y="104"/>
                </a:cubicBezTo>
                <a:cubicBezTo>
                  <a:pt x="1634" y="94"/>
                  <a:pt x="1622" y="81"/>
                  <a:pt x="1604" y="72"/>
                </a:cubicBezTo>
                <a:cubicBezTo>
                  <a:pt x="1596" y="68"/>
                  <a:pt x="1588" y="64"/>
                  <a:pt x="1580" y="60"/>
                </a:cubicBezTo>
                <a:cubicBezTo>
                  <a:pt x="1572" y="55"/>
                  <a:pt x="1556" y="44"/>
                  <a:pt x="1556" y="44"/>
                </a:cubicBezTo>
                <a:cubicBezTo>
                  <a:pt x="1541" y="21"/>
                  <a:pt x="1501" y="0"/>
                  <a:pt x="1472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55600" y="27936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Four Parts of the 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789120" y="1108080"/>
            <a:ext cx="7192800" cy="4826160"/>
            <a:chOff x="789120" y="1108080"/>
            <a:chExt cx="7192800" cy="4826160"/>
          </a:xfrm>
        </p:grpSpPr>
        <p:sp>
          <p:nvSpPr>
            <p:cNvPr id="904" name="Rounded Rectangle 9"/>
            <p:cNvSpPr/>
            <p:nvPr/>
          </p:nvSpPr>
          <p:spPr>
            <a:xfrm>
              <a:off x="789120" y="1108080"/>
              <a:ext cx="7100640" cy="67320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nt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ounded Rectangle 9"/>
            <p:cNvSpPr/>
            <p:nvPr/>
          </p:nvSpPr>
          <p:spPr>
            <a:xfrm>
              <a:off x="798480" y="2004840"/>
              <a:ext cx="7101000" cy="81756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Fram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ounded Rectangle 9"/>
            <p:cNvSpPr/>
            <p:nvPr/>
          </p:nvSpPr>
          <p:spPr>
            <a:xfrm>
              <a:off x="824040" y="2967120"/>
              <a:ext cx="7119720" cy="155232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thways for Mitigating Climate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ounded Rectangle 9"/>
            <p:cNvSpPr/>
            <p:nvPr/>
          </p:nvSpPr>
          <p:spPr>
            <a:xfrm>
              <a:off x="861840" y="4667400"/>
              <a:ext cx="7120080" cy="126684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Assessment of Policies, Institutions and Fi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C27CAC-D390-4819-9F3F-57306CBAEFF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255600" y="114480"/>
            <a:ext cx="8564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orking Group III Assessment as a Cartography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9"/>
          <p:cNvSpPr/>
          <p:nvPr/>
        </p:nvSpPr>
        <p:spPr>
          <a:xfrm>
            <a:off x="789120" y="1108080"/>
            <a:ext cx="7100640" cy="67320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ounded Rectangle 9"/>
          <p:cNvSpPr/>
          <p:nvPr/>
        </p:nvSpPr>
        <p:spPr>
          <a:xfrm>
            <a:off x="798480" y="1916280"/>
            <a:ext cx="7101000" cy="9061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m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9"/>
          <p:cNvSpPr/>
          <p:nvPr/>
        </p:nvSpPr>
        <p:spPr>
          <a:xfrm>
            <a:off x="824040" y="2967120"/>
            <a:ext cx="7119720" cy="1552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hways for Mitig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ounded Rectangle 9"/>
          <p:cNvSpPr/>
          <p:nvPr/>
        </p:nvSpPr>
        <p:spPr>
          <a:xfrm>
            <a:off x="861840" y="4667400"/>
            <a:ext cx="7120080" cy="1498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sessment of Polic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and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E17863-9ED6-490B-9300-782585F5A5C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1" descr=""/>
          <p:cNvPicPr/>
          <p:nvPr/>
        </p:nvPicPr>
        <p:blipFill>
          <a:blip r:embed="rId1"/>
          <a:stretch/>
        </p:blipFill>
        <p:spPr>
          <a:xfrm>
            <a:off x="3852720" y="2008080"/>
            <a:ext cx="712800" cy="7002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2" descr=""/>
          <p:cNvPicPr/>
          <p:nvPr/>
        </p:nvPicPr>
        <p:blipFill>
          <a:blip r:embed="rId2"/>
          <a:stretch/>
        </p:blipFill>
        <p:spPr>
          <a:xfrm>
            <a:off x="3851280" y="3017880"/>
            <a:ext cx="1974960" cy="1441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3" descr=""/>
          <p:cNvPicPr/>
          <p:nvPr/>
        </p:nvPicPr>
        <p:blipFill>
          <a:blip r:embed="rId3"/>
          <a:stretch/>
        </p:blipFill>
        <p:spPr>
          <a:xfrm>
            <a:off x="3846600" y="4826160"/>
            <a:ext cx="1301760" cy="1158840"/>
          </a:xfrm>
          <a:prstGeom prst="rect">
            <a:avLst/>
          </a:prstGeom>
          <a:ln w="0">
            <a:noFill/>
          </a:ln>
        </p:spPr>
      </p:pic>
      <p:sp>
        <p:nvSpPr>
          <p:cNvPr id="919" name="Textfeld 4"/>
          <p:cNvSpPr/>
          <p:nvPr/>
        </p:nvSpPr>
        <p:spPr>
          <a:xfrm>
            <a:off x="4572000" y="1909800"/>
            <a:ext cx="33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egend to 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concepts and methods o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feld 14"/>
          <p:cNvSpPr/>
          <p:nvPr/>
        </p:nvSpPr>
        <p:spPr>
          <a:xfrm>
            <a:off x="5862600" y="3068640"/>
            <a:ext cx="21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 out feasible mitigation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feld 15"/>
          <p:cNvSpPr/>
          <p:nvPr/>
        </p:nvSpPr>
        <p:spPr>
          <a:xfrm>
            <a:off x="5148360" y="4694400"/>
            <a:ext cx="279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on too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policy instruments, institutional arrangements and financ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17969A-F871-4394-BB0D-23CA23FB4B6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bgerundetes Rechteck 4"/>
          <p:cNvSpPr/>
          <p:nvPr/>
        </p:nvSpPr>
        <p:spPr>
          <a:xfrm>
            <a:off x="306360" y="2589120"/>
            <a:ext cx="8642520" cy="2135160"/>
          </a:xfrm>
          <a:prstGeom prst="roundRect">
            <a:avLst>
              <a:gd name="adj" fmla="val 16667"/>
            </a:avLst>
          </a:prstGeom>
          <a:solidFill>
            <a:srgbClr val="4073ac"/>
          </a:solidFill>
          <a:ln w="25560">
            <a:solidFill>
              <a:srgbClr val="2c5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dedicated chapter or Section on metrics in the Plenary approved Working Group III outline of the AR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here will metrics be cov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AE3BF2-9609-49A6-A29C-810A5EDF4DC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3166920" y="2589120"/>
            <a:ext cx="615816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llipse 4"/>
          <p:cNvSpPr/>
          <p:nvPr/>
        </p:nvSpPr>
        <p:spPr>
          <a:xfrm>
            <a:off x="2851200" y="1741320"/>
            <a:ext cx="611352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Gewinkelte Verbindung 6"/>
          <p:cNvCxnSpPr>
            <a:stCxn id="944" idx="3"/>
          </p:cNvCxnSpPr>
          <p:nvPr/>
        </p:nvCxnSpPr>
        <p:spPr>
          <a:xfrm rot="10800000">
            <a:off x="8243280" y="1483560"/>
            <a:ext cx="732600" cy="413640"/>
          </a:xfrm>
          <a:prstGeom prst="bentConnector3">
            <a:avLst>
              <a:gd name="adj1" fmla="val 231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5" name="Gewinkelte Verbindung 12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107532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6" name="Geschweifte Klammer rechts 15"/>
          <p:cNvSpPr/>
          <p:nvPr/>
        </p:nvSpPr>
        <p:spPr>
          <a:xfrm>
            <a:off x="8342280" y="3284640"/>
            <a:ext cx="316080" cy="2025720"/>
          </a:xfrm>
          <a:custGeom>
            <a:avLst/>
            <a:gdLst>
              <a:gd name="textAreaLeft" fmla="*/ 0 w 316080"/>
              <a:gd name="textAreaRight" fmla="*/ 114120 w 316080"/>
              <a:gd name="textAreaTop" fmla="*/ 65520 h 2025720"/>
              <a:gd name="textAreaBottom" fmla="*/ 1960200 h 20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17"/>
                  <a:pt x="10800" y="2233"/>
                </a:cubicBezTo>
                <a:lnTo>
                  <a:pt x="10800" y="8713"/>
                </a:lnTo>
                <a:cubicBezTo>
                  <a:pt x="10800" y="9830"/>
                  <a:pt x="16200" y="10946"/>
                  <a:pt x="21600" y="10946"/>
                </a:cubicBezTo>
                <a:cubicBezTo>
                  <a:pt x="16200" y="10946"/>
                  <a:pt x="10800" y="12063"/>
                  <a:pt x="10800" y="13179"/>
                </a:cubicBezTo>
                <a:lnTo>
                  <a:pt x="10800" y="19367"/>
                </a:lnTo>
                <a:cubicBezTo>
                  <a:pt x="10800" y="204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Gewinkelte Verbindung 17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78804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8" name="Gewinkelte Verbindung 27"/>
          <p:cNvCxnSpPr/>
          <p:nvPr/>
        </p:nvCxnSpPr>
        <p:spPr>
          <a:xfrm rot="5400000">
            <a:off x="6706800" y="3805200"/>
            <a:ext cx="4260240" cy="255960"/>
          </a:xfrm>
          <a:prstGeom prst="bentConnector3">
            <a:avLst>
              <a:gd name="adj1" fmla="val 9998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9" name="Gewinkelte Verbindung 34836"/>
          <p:cNvCxnSpPr>
            <a:stCxn id="953" idx="6"/>
          </p:cNvCxnSpPr>
          <p:nvPr/>
        </p:nvCxnSpPr>
        <p:spPr>
          <a:xfrm flipV="1" rot="10800000">
            <a:off x="8711640" y="1993680"/>
            <a:ext cx="253080" cy="2304000"/>
          </a:xfrm>
          <a:prstGeom prst="bentConnector4">
            <a:avLst>
              <a:gd name="adj1" fmla="val 1282"/>
              <a:gd name="adj2" fmla="val 99906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0" name="Geschweifte Klammer rechts 23"/>
          <p:cNvSpPr/>
          <p:nvPr/>
        </p:nvSpPr>
        <p:spPr>
          <a:xfrm>
            <a:off x="8435880" y="5442120"/>
            <a:ext cx="168480" cy="1234800"/>
          </a:xfrm>
          <a:custGeom>
            <a:avLst/>
            <a:gdLst>
              <a:gd name="textAreaLeft" fmla="*/ 0 w 168480"/>
              <a:gd name="textAreaRight" fmla="*/ 60840 w 168480"/>
              <a:gd name="textAreaTop" fmla="*/ 34560 h 1234800"/>
              <a:gd name="textAreaBottom" fmla="*/ 1200240 h 12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6"/>
                  <a:pt x="10800" y="1951"/>
                </a:cubicBezTo>
                <a:lnTo>
                  <a:pt x="10800" y="8995"/>
                </a:lnTo>
                <a:cubicBezTo>
                  <a:pt x="10800" y="9971"/>
                  <a:pt x="16200" y="10946"/>
                  <a:pt x="21600" y="10946"/>
                </a:cubicBezTo>
                <a:cubicBezTo>
                  <a:pt x="16200" y="10946"/>
                  <a:pt x="10800" y="11922"/>
                  <a:pt x="10800" y="12897"/>
                </a:cubicBezTo>
                <a:lnTo>
                  <a:pt x="10800" y="19649"/>
                </a:lnTo>
                <a:cubicBezTo>
                  <a:pt x="10800" y="2062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nn</cp:lastModifiedBy>
  <dcterms:modified xsi:type="dcterms:W3CDTF">2012-04-03T06:14:12Z</dcterms:modified>
  <cp:revision>179</cp:revision>
  <dc:subject/>
  <dc:title>Slide 1</dc:title>
</cp:coreProperties>
</file>