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52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53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54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4CD3-C0B5-49E9-A6FD-056801CE3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359D-1079-4DF7-A391-1973F6C9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EC63-88A1-4D92-B0AF-D6475F8C4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35D4-7785-4725-A948-D2C256066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8336-AEF8-4C4A-B100-0C73265B1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7666-FF29-4082-A8C9-79D9351F9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001F-EABC-4C54-A794-29BF26F9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CBBE-9499-4D1A-88AB-22D47FD0A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0603-8B1E-4B75-AD07-C82144931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815-A2B4-4AE7-AFEF-37B5C3B3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CBC-149D-4E90-9A4F-0C1321AF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B6291-43B5-4A4C-858B-8A637776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F8104-DB44-4D0D-98F1-73694BF0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A54FA-4257-4999-B455-3C2314D3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2A19E-6596-4CBE-8F7D-BD633E57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B60A7-062E-42CD-A6D3-4E935060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6F28-12BF-442C-8B57-6AEA6A3A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6043F-C4B0-4520-8FAD-A39F18C8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A0833-EC89-419D-8A77-D22B4A07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957CB-2AEB-40C8-AF29-2698228C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96F02-C2AF-479D-91EB-CB7140D0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025-2ED4-4CB3-9DFF-F32ECAD4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3A5B9-92DF-4E70-A169-F7581DFF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2B87-2341-404B-85C7-CCC0B358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360B5-196A-45F5-A887-70C3AD27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5C31B-9E0F-4AC0-BCF3-33A2F1F5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A06CE-AB8C-456F-8C19-4A919756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BFCA7-E0B8-45A9-8EC5-C88FFD40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E8603-79E2-4114-B10A-0D4C0D67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0D157-1435-4A79-8740-3F6536AF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AD567-1F4C-494F-A7F4-F354CE75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3B289-E623-4A7F-A856-94731F73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8C0-6E5D-4AC7-941F-6C0A8398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97D7C-3A83-4BA2-BA21-16FE14B3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7B36D-2D24-4D5A-8FAE-CB51D8D7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41A1D-935B-40E0-99E1-282B524C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0361D-E27F-41C4-9801-E365EAF6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4B8D9-7025-4CCD-89B4-9264AE92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597E2-FF08-48A9-B6F9-C1ED3C31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7B6FA-295C-4AA0-897C-5B8B8970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1DD30-0F89-4EC7-81B1-79084323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DFBEB-5D2E-48E7-AEBD-0F61AE75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107CF-B638-463E-A056-C8F6D027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B3596-FFDD-4D6E-B4FC-666F1D6B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70261-E917-49D6-8FA2-3E7B913A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E1A61-EA1F-4DD4-9DD2-985E3C63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0B5BD-C75F-436B-8776-B9E60E74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68C0C-E149-49FC-8774-A0E88C17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10DE3-BC43-4A7F-8E22-8FA14ABD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3A1F3-8F4B-4F25-ACD7-3392B8E9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5924E-341D-4428-BDDE-419440D8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43AEC-6BDF-43B7-BD71-5409BF33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D58E1-32F1-4B58-A94A-D018BC24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8CF45-64B3-4587-BAF6-063E00FE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2BE3A-6C41-4045-9ACA-AA2717AA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7695B-5576-48DF-BFC6-3CB9DCEE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42384-A202-41F1-AF7A-6E60DB5A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BD50C-925D-4C57-82A4-17482C41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7E9F9-5A92-4487-B8AC-142962C1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CEEC0-8435-455C-A3E8-FBB8520E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320DA-9048-43FC-8729-BE4480EB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D3D77-B35C-46C4-9BBC-F655F525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1F1D8-19AE-44B3-9BC6-4A3E2171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FF606-009C-40F2-A6EE-8FE486C2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65711-C1E5-4599-9CD6-7ADD7398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413E1-90DD-4154-B057-1E90558B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03786-00FD-40B7-AEC6-BF2CEC1E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E45C0-B803-45C9-9CE3-F9FB543B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6B1A4-34BC-400A-8E69-9A498EF5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8A63B-16DC-4993-9DBD-6591EC32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E799C-7ECD-4AC3-8491-49A9A409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6C82A-2358-4124-8E92-C161CBAE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9D32E-92AD-4A9C-9A48-A42679B0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32B0F-696F-4AC6-946D-32EF08AF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D677F-980A-4C09-B5C9-B6ADD0BB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5E870-6379-421F-89DA-F42BDAD3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7CBBB-5C9C-4BF6-A87F-4EB492BF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4A739-76FC-4FF0-8FB6-52120FC6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99B50-B3F4-4CBF-BCE9-735A5EF3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259A7-B6CB-4392-9CF6-09517A66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F751C-71CB-4D09-A5BD-F74F6713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1DB59-1BA1-41E2-9D4D-F68F81EA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E8336-15F1-42FA-8404-A864DE3B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73D04-AAEC-4668-9A4B-2D5A9D54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F358F-0D99-43DE-A515-C07FCE6E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337A0-9087-47AE-B054-11107F84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B2050-8135-43E6-959C-527F3AB4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BC215-62B2-4FC5-A35F-107E032E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08667-68FB-44CA-BDF1-C50C9496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E2DA4-3D0E-4BFC-B3B5-1FE20406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C0041-6CAF-4253-96B8-80ACB703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6BD76-E76B-40F1-8F6C-70621EF5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90859-AF24-4E99-8145-F1A0C922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CFDB9-7BC5-451B-8DB5-0E9A18BC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74C3C-33B8-4C31-ABE1-7F4DAA5E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7B4B6-C365-45D3-9D5B-63EE048B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42739-FE78-44D1-8650-D89F58A1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240BD-A485-4BFE-8857-F886BDC7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0A45D-5325-4B0B-B0EB-07B66C02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39336-B5E2-49A7-9A8A-925C57FD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5AE94-DB2A-4EDC-BFC6-94B6C8E4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8018B-D460-413D-AE31-B1BED9EF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1C2E0-65C5-4709-A04C-308F2FCE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3B343-B2F8-4FAE-9BDD-40CAC095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E9674-1805-42DF-A22B-83CF5904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0C3F7-8A5C-4362-A431-2D561B0E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8B189-82F0-484A-A1F4-B5909EAE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0E30C-C239-4409-8949-07E955D2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6394D-4142-42C7-8FC7-331FF48F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7BB1B-ECB9-4D78-B77C-067620A1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65710-4940-4777-AA37-F748BF79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926B2-191D-4774-B2BC-E36958BB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27C5D-D99C-4757-A7AD-296486E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834-178E-4DBA-B902-9670F2A8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C0F0F-CD7E-4328-BE4A-9B312EE0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542A2D-3DAF-4527-BEFD-A9F1676B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8861E-C2D5-47E9-BC0D-2A429D75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6D3B9-01D4-47B6-AFCB-03CC0C0A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C5EB4-0AC9-44B9-AE25-3B961404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ADEE8-7C60-42D2-A144-123DF521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BED6A-6BCC-4FF7-AD70-D7867C78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1E210-6602-45CB-B577-ED044518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F34B8-ABE9-4ABA-9070-59D44B06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E363D-2E47-4DE7-A1FF-6575F66A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58B79-7D38-4EC2-8DFA-9B31FF7B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AC118-EB25-415C-80C0-671401B5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ADE7A-5609-4693-A066-AAFEDAD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D3206-5E3D-4BA5-9306-ED180D1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D91D3-630B-4014-B5EA-905D3182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BC032-3CA1-4AD9-8399-FAB8E73D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1C9D9-C740-4ECF-91F0-89F3D799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629AD-A9B5-4493-A303-768DC246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6075B-1D62-46D4-B298-4B919AE8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49F14-6A18-4CC2-8D8F-F96B3375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D7FE1-D34B-4922-B926-ACCEC239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7E32F-B387-44D7-8ABA-E3B27111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7A88A-71D2-48AD-9C67-4CDA517A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1D21A-B701-4089-9E8A-A300A17B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A3708-B9C4-4C80-B3E7-C273EA51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80931-62C9-4CF7-B111-5D1618F5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FE86A-18F9-46D6-B2DD-110B9E0B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3BFA7-555B-4F62-9005-E94B1386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82B3A-8B55-442C-B9A1-6BB9F7E8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BFAD0-93B7-4402-B75A-5842BB1A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83BF8-5A8B-4297-A960-461252F3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FFA86-6454-429F-8C19-A3D7D944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FC321-0D93-4019-BBE7-7C5D7793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D18AAA-6377-43B3-9F44-7E46677E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B4030-8080-4B2C-AB39-FB2A9825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133D0-CBB4-4187-A80F-DF953500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F5234-1A0B-479B-A6CB-3339C361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82678-67DF-41C0-99DB-2E1907A8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4ED35-3FCE-4C26-9A9A-2C8AC71B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B85EF-7088-4B49-B050-C71C294C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F43AB-AF0F-4601-A4EC-5F73A830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9C5-28FA-4CDA-975E-5D92E6A7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4B37-FEF0-434C-A118-D1184CDD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D3C6-C8E9-4FE6-978B-7F0F55EC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C81D-FB66-436E-8B06-C1E4E5B8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429-5810-4828-8D14-C84F6B9F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7B60-C039-46E9-B22F-FB7E358D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2074-C354-4665-9F72-4545D88E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6DDE-DEF3-450D-B192-74A345C2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45BE-6EB4-422F-983E-4D11416F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C36A-B15E-4EF5-842D-BBD84A1F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0C8F-4D27-4DCD-A6FF-1919C6F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FC1A-F527-4E43-90D0-3FE310D8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3D9A-BCD3-43BE-8E56-FE2E8A7F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EDF-49E8-4E7A-9068-E6CC5E36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24E-281C-44B2-9069-681CC4BC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3A6-8033-4FD4-9DAB-F4C6200E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AAFC-F012-4571-AD54-86B3D4CA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9829-AABF-40C1-B7C7-9C41609D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9815-4FA8-490F-B4CE-78F31C2E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AED7-6404-40B3-BD14-4EF4D02D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B2C89-C81E-4B2C-AD6E-86DDC196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25FB-E596-45FF-B0ED-BC8D50DE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5AD2-E99A-4353-8C74-32A5F38B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8E3F-1701-40D0-8632-A1A9CD61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C87E-A929-4D7B-9911-E8824366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39C-0B64-45DB-8397-4D2E0ECB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8D4F-9C36-447F-BF81-2C9F6B63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FC20-B708-463B-8FDA-776EEC43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3B30-4C26-4EB5-99AD-694B43C9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655D-0853-466D-8542-1BAFAD2B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DA3D8-73EF-45E5-8F53-A7EE79DE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D9C2-40B0-4506-B99F-CDAD134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3C255-7869-4937-BF80-0F2B4CC0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7461-E5A5-4CCE-A850-215026D6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3C2B7-2686-48BF-9E87-908C73B9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016A-6033-4EF9-9AD7-5D50835A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42E-6AED-44B4-B9EF-3E1BF513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5A58B-A219-4323-8E0F-47EDA51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13AC-EF8F-40F2-B4E2-489DEC2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3A26-D477-4571-BDF8-78A72F10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36A2-651D-465E-A7E5-69DBF2FE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0729-8D16-46D4-A6D3-85DD00FB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94073-5D04-47F6-AAD4-E934814F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7DF8E-BA17-4C14-B412-23261D79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F3A4B-E233-43DC-B3A7-C4E6B925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82056-4665-4599-A1BA-8C18991F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A0A04-403F-4F17-A92A-130F755D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5A0-8650-4586-B18D-EB0FFCC9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51FF2-61BC-4929-A694-9291722E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EC344-DA3E-42BB-88BB-AA914F27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4439C-E8AC-4E1B-B2C9-D4316F89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A5B29-D4B4-4634-B28B-5C762BCB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D0CC5-8961-46EC-8E63-7874B4D1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7827-E66F-4459-98EB-0C296E6C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96D95-C709-4607-9B74-6E75D9F2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C26E9-21DB-459E-90F4-E42CF696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7229-F26F-413C-A7D2-D9B6A16C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13261-17FD-47D7-A123-F6002684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CB04-560F-4D41-9DDB-B8408CFF2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FFC02-7352-4745-9A63-7DBC9FCAF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6D215-E875-47AC-8693-266C20A5E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CFAF6-665D-4474-B9F8-2FB58BF5B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1F144-F534-433C-83C7-20EEDE7F7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2BBDB-1294-4D0F-94A5-0FDAEEFC2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D4E2D-31B6-41F4-9CA8-A16F6A2B0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7B724-845A-4F16-9CB3-CC538E074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7872A-5AE3-455F-855A-8CA5CF5F9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078F4-5AF5-4814-982A-0756E9C87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2BC3E-B45A-4CD3-A29B-C4FBEB381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77C03-1A78-4842-BB33-F39CB3E7C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cenery_003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C72D-9D32-4742-AF98-93F272411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IPCClogoWMOUNEP_BL.ai"/>
          <p:cNvPicPr/>
          <p:nvPr/>
        </p:nvPicPr>
        <p:blipFill>
          <a:blip r:embed="rId2"/>
          <a:stretch/>
        </p:blipFill>
        <p:spPr>
          <a:xfrm>
            <a:off x="4325760" y="5791320"/>
            <a:ext cx="4741920" cy="1015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F2C6-4DBB-4C8E-911C-B04F8B319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E482-DCDF-4538-9110-855A8048C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362A5-D44A-4C63-86F4-E782C72E9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0C27E-67F5-463A-854E-E75CA88DA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HG metrics in the WGIII contribution to the AR5</a:t>
            </a:r>
            <a:br>
              <a:rPr sz="15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nn, 03 April 2012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an Minx, Steffen Brunner &amp; Ottmar Edenhof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4" descr="cc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5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44460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explicit about how metrics ar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putal clarification of alternative emission metrics and their relationships – including both physical and more comprehensive economic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e underlying uncertainties and value jud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relationship alternative emission metrics to purpose of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iative comparisons and/or assessment of numerical values for alternative metrics as appropr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Assessment of metrics in context of WGIII contribution to A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AB87FD-D5AD-4155-8E9B-23643710B5A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feld 2"/>
          <p:cNvSpPr/>
          <p:nvPr/>
        </p:nvSpPr>
        <p:spPr>
          <a:xfrm>
            <a:off x="1567440" y="3213000"/>
            <a:ext cx="59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44928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CC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rehensive and scientifically sound review of the relevant literatu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of disparate views for which there is significant scientific or technical support;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icy-neutral presentation of the scientific content in a manner relevant to policyma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18583C-0147-4645-82CD-A0FC55EB9E0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449280" y="1341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Challenges for WGIII assessment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scientific resolution of value dis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ossible to distinguish facts and values nea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gh potentially fundamental uncertainties associated with long-term policy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mplications for WGIII assessm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munication of uncertainties both in quantitative and qualitative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parency of contested value-laden assumptions and implicit value jud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3"/>
          <p:cNvSpPr/>
          <p:nvPr/>
        </p:nvSpPr>
        <p:spPr>
          <a:xfrm>
            <a:off x="0" y="561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292BDA-5B33-4DCB-9120-CCF2327E7D5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bgerundetes Rechteck 2"/>
          <p:cNvSpPr/>
          <p:nvPr/>
        </p:nvSpPr>
        <p:spPr>
          <a:xfrm>
            <a:off x="1619280" y="1989000"/>
            <a:ext cx="6265800" cy="3230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CC and other scientific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Division of labour at the science-polic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F7C41A-446D-4111-AA46-422C6014E92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Bild1"/>
          <p:cNvPicPr/>
          <p:nvPr/>
        </p:nvPicPr>
        <p:blipFill>
          <a:blip r:embed="rId1"/>
          <a:stretch/>
        </p:blipFill>
        <p:spPr>
          <a:xfrm>
            <a:off x="1116000" y="1557360"/>
            <a:ext cx="6594480" cy="2913120"/>
          </a:xfrm>
          <a:prstGeom prst="rect">
            <a:avLst/>
          </a:prstGeom>
          <a:ln w="0">
            <a:noFill/>
          </a:ln>
        </p:spPr>
      </p:pic>
      <p:sp>
        <p:nvSpPr>
          <p:cNvPr id="871" name="Textfeld 1"/>
          <p:cNvSpPr/>
          <p:nvPr/>
        </p:nvSpPr>
        <p:spPr>
          <a:xfrm>
            <a:off x="2137320" y="5003640"/>
            <a:ext cx="435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d from: Edenhofer and Kowarsch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GIII Assessment: Exploring the Solution Space – a mapp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35D4B7-5744-4342-B0DE-069DA6D3AF4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5" descr=""/>
          <p:cNvPicPr/>
          <p:nvPr/>
        </p:nvPicPr>
        <p:blipFill>
          <a:blip r:embed="rId1"/>
          <a:stretch/>
        </p:blipFill>
        <p:spPr>
          <a:xfrm>
            <a:off x="971640" y="1295280"/>
            <a:ext cx="7200720" cy="5407200"/>
          </a:xfrm>
          <a:prstGeom prst="rect">
            <a:avLst/>
          </a:prstGeom>
          <a:ln w="0">
            <a:noFill/>
          </a:ln>
        </p:spPr>
      </p:pic>
      <p:sp>
        <p:nvSpPr>
          <p:cNvPr id="875" name="Freeform 10"/>
          <p:cNvSpPr/>
          <p:nvPr/>
        </p:nvSpPr>
        <p:spPr>
          <a:xfrm>
            <a:off x="2610000" y="3024360"/>
            <a:ext cx="866520" cy="2892240"/>
          </a:xfrm>
          <a:custGeom>
            <a:avLst/>
            <a:gdLst/>
            <a:ahLst/>
            <a:rect l="l" t="t" r="r" b="b"/>
            <a:pathLst>
              <a:path w="546" h="1822">
                <a:moveTo>
                  <a:pt x="392" y="1822"/>
                </a:moveTo>
                <a:cubicBezTo>
                  <a:pt x="417" y="1750"/>
                  <a:pt x="403" y="1666"/>
                  <a:pt x="365" y="1601"/>
                </a:cubicBezTo>
                <a:cubicBezTo>
                  <a:pt x="347" y="1571"/>
                  <a:pt x="318" y="1549"/>
                  <a:pt x="298" y="1520"/>
                </a:cubicBezTo>
                <a:cubicBezTo>
                  <a:pt x="289" y="1490"/>
                  <a:pt x="268" y="1469"/>
                  <a:pt x="258" y="1440"/>
                </a:cubicBezTo>
                <a:cubicBezTo>
                  <a:pt x="263" y="1304"/>
                  <a:pt x="252" y="1274"/>
                  <a:pt x="285" y="1179"/>
                </a:cubicBezTo>
                <a:cubicBezTo>
                  <a:pt x="283" y="1157"/>
                  <a:pt x="283" y="1134"/>
                  <a:pt x="278" y="1112"/>
                </a:cubicBezTo>
                <a:cubicBezTo>
                  <a:pt x="272" y="1088"/>
                  <a:pt x="218" y="1038"/>
                  <a:pt x="198" y="1025"/>
                </a:cubicBezTo>
                <a:cubicBezTo>
                  <a:pt x="188" y="998"/>
                  <a:pt x="180" y="995"/>
                  <a:pt x="158" y="978"/>
                </a:cubicBezTo>
                <a:cubicBezTo>
                  <a:pt x="141" y="965"/>
                  <a:pt x="133" y="946"/>
                  <a:pt x="117" y="931"/>
                </a:cubicBezTo>
                <a:cubicBezTo>
                  <a:pt x="77" y="849"/>
                  <a:pt x="131" y="948"/>
                  <a:pt x="84" y="891"/>
                </a:cubicBezTo>
                <a:cubicBezTo>
                  <a:pt x="73" y="877"/>
                  <a:pt x="67" y="859"/>
                  <a:pt x="57" y="844"/>
                </a:cubicBezTo>
                <a:cubicBezTo>
                  <a:pt x="50" y="820"/>
                  <a:pt x="34" y="813"/>
                  <a:pt x="24" y="790"/>
                </a:cubicBezTo>
                <a:cubicBezTo>
                  <a:pt x="18" y="777"/>
                  <a:pt x="10" y="750"/>
                  <a:pt x="10" y="750"/>
                </a:cubicBezTo>
                <a:cubicBezTo>
                  <a:pt x="12" y="723"/>
                  <a:pt x="0" y="609"/>
                  <a:pt x="51" y="583"/>
                </a:cubicBezTo>
                <a:cubicBezTo>
                  <a:pt x="63" y="577"/>
                  <a:pt x="95" y="568"/>
                  <a:pt x="111" y="563"/>
                </a:cubicBezTo>
                <a:cubicBezTo>
                  <a:pt x="177" y="517"/>
                  <a:pt x="229" y="509"/>
                  <a:pt x="305" y="489"/>
                </a:cubicBezTo>
                <a:cubicBezTo>
                  <a:pt x="337" y="468"/>
                  <a:pt x="317" y="479"/>
                  <a:pt x="365" y="462"/>
                </a:cubicBezTo>
                <a:cubicBezTo>
                  <a:pt x="391" y="453"/>
                  <a:pt x="393" y="430"/>
                  <a:pt x="412" y="415"/>
                </a:cubicBezTo>
                <a:cubicBezTo>
                  <a:pt x="429" y="401"/>
                  <a:pt x="483" y="397"/>
                  <a:pt x="499" y="395"/>
                </a:cubicBezTo>
                <a:cubicBezTo>
                  <a:pt x="525" y="386"/>
                  <a:pt x="531" y="378"/>
                  <a:pt x="546" y="355"/>
                </a:cubicBezTo>
                <a:cubicBezTo>
                  <a:pt x="541" y="314"/>
                  <a:pt x="546" y="288"/>
                  <a:pt x="519" y="261"/>
                </a:cubicBezTo>
                <a:cubicBezTo>
                  <a:pt x="512" y="238"/>
                  <a:pt x="502" y="231"/>
                  <a:pt x="486" y="214"/>
                </a:cubicBezTo>
                <a:cubicBezTo>
                  <a:pt x="483" y="169"/>
                  <a:pt x="497" y="117"/>
                  <a:pt x="472" y="80"/>
                </a:cubicBezTo>
                <a:cubicBezTo>
                  <a:pt x="463" y="66"/>
                  <a:pt x="412" y="16"/>
                  <a:pt x="412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2"/>
          <p:cNvSpPr/>
          <p:nvPr/>
        </p:nvSpPr>
        <p:spPr>
          <a:xfrm>
            <a:off x="1660680" y="3024360"/>
            <a:ext cx="1625400" cy="2892240"/>
          </a:xfrm>
          <a:custGeom>
            <a:avLst/>
            <a:gdLst/>
            <a:ahLst/>
            <a:rect l="l" t="t" r="r" b="b"/>
            <a:pathLst>
              <a:path w="1024" h="1822">
                <a:moveTo>
                  <a:pt x="977" y="1822"/>
                </a:moveTo>
                <a:cubicBezTo>
                  <a:pt x="970" y="1773"/>
                  <a:pt x="970" y="1754"/>
                  <a:pt x="930" y="1728"/>
                </a:cubicBezTo>
                <a:cubicBezTo>
                  <a:pt x="919" y="1697"/>
                  <a:pt x="908" y="1689"/>
                  <a:pt x="876" y="1681"/>
                </a:cubicBezTo>
                <a:cubicBezTo>
                  <a:pt x="861" y="1658"/>
                  <a:pt x="848" y="1659"/>
                  <a:pt x="829" y="1641"/>
                </a:cubicBezTo>
                <a:cubicBezTo>
                  <a:pt x="819" y="1608"/>
                  <a:pt x="830" y="1631"/>
                  <a:pt x="803" y="1607"/>
                </a:cubicBezTo>
                <a:cubicBezTo>
                  <a:pt x="791" y="1597"/>
                  <a:pt x="769" y="1574"/>
                  <a:pt x="769" y="1574"/>
                </a:cubicBezTo>
                <a:cubicBezTo>
                  <a:pt x="752" y="1527"/>
                  <a:pt x="716" y="1489"/>
                  <a:pt x="689" y="1447"/>
                </a:cubicBezTo>
                <a:cubicBezTo>
                  <a:pt x="681" y="1435"/>
                  <a:pt x="685" y="1417"/>
                  <a:pt x="675" y="1407"/>
                </a:cubicBezTo>
                <a:cubicBezTo>
                  <a:pt x="671" y="1402"/>
                  <a:pt x="666" y="1398"/>
                  <a:pt x="662" y="1393"/>
                </a:cubicBezTo>
                <a:cubicBezTo>
                  <a:pt x="641" y="1332"/>
                  <a:pt x="577" y="1286"/>
                  <a:pt x="528" y="1246"/>
                </a:cubicBezTo>
                <a:cubicBezTo>
                  <a:pt x="504" y="1226"/>
                  <a:pt x="483" y="1201"/>
                  <a:pt x="461" y="1179"/>
                </a:cubicBezTo>
                <a:cubicBezTo>
                  <a:pt x="447" y="1165"/>
                  <a:pt x="406" y="1138"/>
                  <a:pt x="387" y="1125"/>
                </a:cubicBezTo>
                <a:cubicBezTo>
                  <a:pt x="361" y="1085"/>
                  <a:pt x="321" y="1059"/>
                  <a:pt x="280" y="1038"/>
                </a:cubicBezTo>
                <a:cubicBezTo>
                  <a:pt x="273" y="1034"/>
                  <a:pt x="266" y="1030"/>
                  <a:pt x="260" y="1025"/>
                </a:cubicBezTo>
                <a:cubicBezTo>
                  <a:pt x="255" y="1021"/>
                  <a:pt x="252" y="1014"/>
                  <a:pt x="247" y="1011"/>
                </a:cubicBezTo>
                <a:cubicBezTo>
                  <a:pt x="235" y="1004"/>
                  <a:pt x="219" y="1004"/>
                  <a:pt x="206" y="998"/>
                </a:cubicBezTo>
                <a:cubicBezTo>
                  <a:pt x="140" y="966"/>
                  <a:pt x="224" y="1003"/>
                  <a:pt x="173" y="971"/>
                </a:cubicBezTo>
                <a:cubicBezTo>
                  <a:pt x="169" y="968"/>
                  <a:pt x="137" y="959"/>
                  <a:pt x="133" y="958"/>
                </a:cubicBezTo>
                <a:cubicBezTo>
                  <a:pt x="131" y="927"/>
                  <a:pt x="139" y="892"/>
                  <a:pt x="126" y="864"/>
                </a:cubicBezTo>
                <a:cubicBezTo>
                  <a:pt x="120" y="852"/>
                  <a:pt x="96" y="867"/>
                  <a:pt x="86" y="857"/>
                </a:cubicBezTo>
                <a:cubicBezTo>
                  <a:pt x="81" y="852"/>
                  <a:pt x="107" y="843"/>
                  <a:pt x="126" y="837"/>
                </a:cubicBezTo>
                <a:cubicBezTo>
                  <a:pt x="117" y="833"/>
                  <a:pt x="109" y="826"/>
                  <a:pt x="99" y="824"/>
                </a:cubicBezTo>
                <a:cubicBezTo>
                  <a:pt x="82" y="820"/>
                  <a:pt x="61" y="827"/>
                  <a:pt x="46" y="817"/>
                </a:cubicBezTo>
                <a:cubicBezTo>
                  <a:pt x="41" y="814"/>
                  <a:pt x="83" y="773"/>
                  <a:pt x="86" y="770"/>
                </a:cubicBezTo>
                <a:cubicBezTo>
                  <a:pt x="79" y="766"/>
                  <a:pt x="74" y="759"/>
                  <a:pt x="66" y="757"/>
                </a:cubicBezTo>
                <a:cubicBezTo>
                  <a:pt x="46" y="752"/>
                  <a:pt x="24" y="759"/>
                  <a:pt x="6" y="750"/>
                </a:cubicBezTo>
                <a:cubicBezTo>
                  <a:pt x="0" y="747"/>
                  <a:pt x="10" y="737"/>
                  <a:pt x="12" y="730"/>
                </a:cubicBezTo>
                <a:cubicBezTo>
                  <a:pt x="14" y="723"/>
                  <a:pt x="16" y="716"/>
                  <a:pt x="19" y="710"/>
                </a:cubicBezTo>
                <a:cubicBezTo>
                  <a:pt x="39" y="670"/>
                  <a:pt x="60" y="657"/>
                  <a:pt x="99" y="643"/>
                </a:cubicBezTo>
                <a:cubicBezTo>
                  <a:pt x="126" y="618"/>
                  <a:pt x="143" y="590"/>
                  <a:pt x="173" y="569"/>
                </a:cubicBezTo>
                <a:cubicBezTo>
                  <a:pt x="219" y="498"/>
                  <a:pt x="311" y="489"/>
                  <a:pt x="387" y="482"/>
                </a:cubicBezTo>
                <a:cubicBezTo>
                  <a:pt x="400" y="446"/>
                  <a:pt x="417" y="430"/>
                  <a:pt x="374" y="415"/>
                </a:cubicBezTo>
                <a:cubicBezTo>
                  <a:pt x="364" y="386"/>
                  <a:pt x="348" y="370"/>
                  <a:pt x="327" y="348"/>
                </a:cubicBezTo>
                <a:cubicBezTo>
                  <a:pt x="325" y="341"/>
                  <a:pt x="324" y="333"/>
                  <a:pt x="320" y="328"/>
                </a:cubicBezTo>
                <a:cubicBezTo>
                  <a:pt x="315" y="322"/>
                  <a:pt x="302" y="323"/>
                  <a:pt x="300" y="315"/>
                </a:cubicBezTo>
                <a:cubicBezTo>
                  <a:pt x="297" y="300"/>
                  <a:pt x="326" y="299"/>
                  <a:pt x="347" y="295"/>
                </a:cubicBezTo>
                <a:cubicBezTo>
                  <a:pt x="419" y="223"/>
                  <a:pt x="480" y="233"/>
                  <a:pt x="582" y="228"/>
                </a:cubicBezTo>
                <a:cubicBezTo>
                  <a:pt x="626" y="212"/>
                  <a:pt x="652" y="206"/>
                  <a:pt x="702" y="201"/>
                </a:cubicBezTo>
                <a:cubicBezTo>
                  <a:pt x="734" y="180"/>
                  <a:pt x="766" y="165"/>
                  <a:pt x="796" y="141"/>
                </a:cubicBezTo>
                <a:cubicBezTo>
                  <a:pt x="809" y="131"/>
                  <a:pt x="828" y="105"/>
                  <a:pt x="843" y="100"/>
                </a:cubicBezTo>
                <a:cubicBezTo>
                  <a:pt x="858" y="95"/>
                  <a:pt x="874" y="96"/>
                  <a:pt x="890" y="94"/>
                </a:cubicBezTo>
                <a:cubicBezTo>
                  <a:pt x="920" y="84"/>
                  <a:pt x="924" y="56"/>
                  <a:pt x="950" y="40"/>
                </a:cubicBezTo>
                <a:cubicBezTo>
                  <a:pt x="968" y="29"/>
                  <a:pt x="997" y="27"/>
                  <a:pt x="1017" y="20"/>
                </a:cubicBezTo>
                <a:cubicBezTo>
                  <a:pt x="1019" y="13"/>
                  <a:pt x="1024" y="0"/>
                  <a:pt x="1024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6"/>
          <p:cNvSpPr/>
          <p:nvPr/>
        </p:nvSpPr>
        <p:spPr>
          <a:xfrm>
            <a:off x="3132000" y="3067200"/>
            <a:ext cx="430200" cy="2817720"/>
          </a:xfrm>
          <a:custGeom>
            <a:avLst/>
            <a:gdLst/>
            <a:ahLst/>
            <a:rect l="l" t="t" r="r" b="b"/>
            <a:pathLst>
              <a:path w="271" h="1775">
                <a:moveTo>
                  <a:pt x="63" y="1775"/>
                </a:moveTo>
                <a:cubicBezTo>
                  <a:pt x="78" y="1759"/>
                  <a:pt x="91" y="1747"/>
                  <a:pt x="110" y="1735"/>
                </a:cubicBezTo>
                <a:cubicBezTo>
                  <a:pt x="118" y="1710"/>
                  <a:pt x="125" y="1687"/>
                  <a:pt x="130" y="1661"/>
                </a:cubicBezTo>
                <a:cubicBezTo>
                  <a:pt x="128" y="1621"/>
                  <a:pt x="155" y="1495"/>
                  <a:pt x="103" y="1447"/>
                </a:cubicBezTo>
                <a:cubicBezTo>
                  <a:pt x="88" y="1394"/>
                  <a:pt x="109" y="1454"/>
                  <a:pt x="83" y="1413"/>
                </a:cubicBezTo>
                <a:cubicBezTo>
                  <a:pt x="67" y="1388"/>
                  <a:pt x="71" y="1362"/>
                  <a:pt x="50" y="1339"/>
                </a:cubicBezTo>
                <a:cubicBezTo>
                  <a:pt x="34" y="1292"/>
                  <a:pt x="40" y="1313"/>
                  <a:pt x="30" y="1279"/>
                </a:cubicBezTo>
                <a:cubicBezTo>
                  <a:pt x="32" y="1221"/>
                  <a:pt x="0" y="1063"/>
                  <a:pt x="90" y="1031"/>
                </a:cubicBezTo>
                <a:cubicBezTo>
                  <a:pt x="100" y="1003"/>
                  <a:pt x="116" y="994"/>
                  <a:pt x="123" y="964"/>
                </a:cubicBezTo>
                <a:cubicBezTo>
                  <a:pt x="126" y="932"/>
                  <a:pt x="129" y="870"/>
                  <a:pt x="143" y="837"/>
                </a:cubicBezTo>
                <a:cubicBezTo>
                  <a:pt x="149" y="822"/>
                  <a:pt x="165" y="823"/>
                  <a:pt x="177" y="817"/>
                </a:cubicBezTo>
                <a:cubicBezTo>
                  <a:pt x="206" y="802"/>
                  <a:pt x="227" y="772"/>
                  <a:pt x="251" y="750"/>
                </a:cubicBezTo>
                <a:cubicBezTo>
                  <a:pt x="254" y="594"/>
                  <a:pt x="271" y="352"/>
                  <a:pt x="257" y="187"/>
                </a:cubicBezTo>
                <a:cubicBezTo>
                  <a:pt x="256" y="171"/>
                  <a:pt x="235" y="161"/>
                  <a:pt x="224" y="154"/>
                </a:cubicBezTo>
                <a:cubicBezTo>
                  <a:pt x="195" y="113"/>
                  <a:pt x="173" y="69"/>
                  <a:pt x="137" y="33"/>
                </a:cubicBezTo>
                <a:cubicBezTo>
                  <a:pt x="127" y="23"/>
                  <a:pt x="103" y="14"/>
                  <a:pt x="103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7"/>
          <p:cNvSpPr/>
          <p:nvPr/>
        </p:nvSpPr>
        <p:spPr>
          <a:xfrm rot="16200000">
            <a:off x="-2123280" y="3793680"/>
            <a:ext cx="58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  <a:ea typeface="Lucida Sans Unicode"/>
              </a:rPr>
              <a:t>http://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  <a:ea typeface="Lucida Sans Unicode"/>
              </a:rPr>
              <a:t>www.trail.ch/gallery/albums/trail/graubunden/fuorcla-surlej/corvatsch-fuorcla-surlej-val-roseg-09_09_2006-img_2598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2"/>
          <p:cNvSpPr/>
          <p:nvPr/>
        </p:nvSpPr>
        <p:spPr>
          <a:xfrm>
            <a:off x="3132000" y="201600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9"/>
          <p:cNvSpPr/>
          <p:nvPr/>
        </p:nvSpPr>
        <p:spPr>
          <a:xfrm flipH="1" flipV="1">
            <a:off x="3132000" y="2015640"/>
            <a:ext cx="14472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3"/>
          <p:cNvSpPr/>
          <p:nvPr/>
        </p:nvSpPr>
        <p:spPr>
          <a:xfrm>
            <a:off x="3059280" y="1944720"/>
            <a:ext cx="14436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7"/>
          <p:cNvSpPr/>
          <p:nvPr/>
        </p:nvSpPr>
        <p:spPr>
          <a:xfrm flipH="1" flipV="1">
            <a:off x="3132000" y="489600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8"/>
          <p:cNvSpPr/>
          <p:nvPr/>
        </p:nvSpPr>
        <p:spPr>
          <a:xfrm>
            <a:off x="3059280" y="4824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1"/>
          <p:cNvSpPr/>
          <p:nvPr/>
        </p:nvSpPr>
        <p:spPr>
          <a:xfrm rot="21363000">
            <a:off x="3156120" y="2077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9"/>
          <p:cNvSpPr/>
          <p:nvPr/>
        </p:nvSpPr>
        <p:spPr>
          <a:xfrm flipH="1" flipV="1">
            <a:off x="5630760" y="209232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5557680" y="2021040"/>
            <a:ext cx="14472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2"/>
          <p:cNvSpPr/>
          <p:nvPr/>
        </p:nvSpPr>
        <p:spPr>
          <a:xfrm>
            <a:off x="5651640" y="215892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1"/>
          <p:cNvSpPr/>
          <p:nvPr/>
        </p:nvSpPr>
        <p:spPr>
          <a:xfrm rot="21363000">
            <a:off x="5664600" y="2228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2"/>
          <p:cNvSpPr/>
          <p:nvPr/>
        </p:nvSpPr>
        <p:spPr>
          <a:xfrm>
            <a:off x="3995640" y="244800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3"/>
          <p:cNvSpPr/>
          <p:nvPr/>
        </p:nvSpPr>
        <p:spPr>
          <a:xfrm>
            <a:off x="3924360" y="2376360"/>
            <a:ext cx="144360" cy="7164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1"/>
          <p:cNvSpPr/>
          <p:nvPr/>
        </p:nvSpPr>
        <p:spPr>
          <a:xfrm rot="21363000">
            <a:off x="4019760" y="2509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9"/>
          <p:cNvSpPr/>
          <p:nvPr/>
        </p:nvSpPr>
        <p:spPr>
          <a:xfrm flipH="1" flipV="1">
            <a:off x="3995640" y="2448000"/>
            <a:ext cx="12240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39"/>
          <p:cNvSpPr/>
          <p:nvPr/>
        </p:nvSpPr>
        <p:spPr>
          <a:xfrm>
            <a:off x="3537000" y="3168720"/>
            <a:ext cx="565200" cy="1112760"/>
          </a:xfrm>
          <a:custGeom>
            <a:avLst/>
            <a:gdLst/>
            <a:ahLst/>
            <a:rect l="l" t="t" r="r" b="b"/>
            <a:pathLst>
              <a:path w="356" h="701">
                <a:moveTo>
                  <a:pt x="0" y="692"/>
                </a:moveTo>
                <a:cubicBezTo>
                  <a:pt x="56" y="690"/>
                  <a:pt x="82" y="701"/>
                  <a:pt x="120" y="676"/>
                </a:cubicBezTo>
                <a:cubicBezTo>
                  <a:pt x="147" y="636"/>
                  <a:pt x="132" y="609"/>
                  <a:pt x="136" y="548"/>
                </a:cubicBezTo>
                <a:cubicBezTo>
                  <a:pt x="139" y="498"/>
                  <a:pt x="180" y="450"/>
                  <a:pt x="220" y="424"/>
                </a:cubicBezTo>
                <a:cubicBezTo>
                  <a:pt x="233" y="405"/>
                  <a:pt x="238" y="392"/>
                  <a:pt x="256" y="380"/>
                </a:cubicBezTo>
                <a:cubicBezTo>
                  <a:pt x="263" y="360"/>
                  <a:pt x="269" y="340"/>
                  <a:pt x="276" y="320"/>
                </a:cubicBezTo>
                <a:cubicBezTo>
                  <a:pt x="279" y="312"/>
                  <a:pt x="281" y="304"/>
                  <a:pt x="284" y="296"/>
                </a:cubicBezTo>
                <a:cubicBezTo>
                  <a:pt x="285" y="292"/>
                  <a:pt x="288" y="284"/>
                  <a:pt x="288" y="284"/>
                </a:cubicBezTo>
                <a:cubicBezTo>
                  <a:pt x="287" y="253"/>
                  <a:pt x="256" y="79"/>
                  <a:pt x="308" y="44"/>
                </a:cubicBezTo>
                <a:cubicBezTo>
                  <a:pt x="315" y="34"/>
                  <a:pt x="327" y="19"/>
                  <a:pt x="336" y="12"/>
                </a:cubicBezTo>
                <a:cubicBezTo>
                  <a:pt x="339" y="9"/>
                  <a:pt x="344" y="10"/>
                  <a:pt x="348" y="8"/>
                </a:cubicBezTo>
                <a:cubicBezTo>
                  <a:pt x="351" y="6"/>
                  <a:pt x="353" y="3"/>
                  <a:pt x="356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1"/>
          <p:cNvSpPr/>
          <p:nvPr/>
        </p:nvSpPr>
        <p:spPr>
          <a:xfrm>
            <a:off x="3282840" y="3160800"/>
            <a:ext cx="1114560" cy="2725560"/>
          </a:xfrm>
          <a:custGeom>
            <a:avLst/>
            <a:gdLst/>
            <a:ahLst/>
            <a:rect l="l" t="t" r="r" b="b"/>
            <a:pathLst>
              <a:path w="702" h="1717">
                <a:moveTo>
                  <a:pt x="0" y="1717"/>
                </a:moveTo>
                <a:cubicBezTo>
                  <a:pt x="19" y="1704"/>
                  <a:pt x="38" y="1688"/>
                  <a:pt x="52" y="1669"/>
                </a:cubicBezTo>
                <a:cubicBezTo>
                  <a:pt x="62" y="1639"/>
                  <a:pt x="47" y="1675"/>
                  <a:pt x="68" y="1649"/>
                </a:cubicBezTo>
                <a:cubicBezTo>
                  <a:pt x="74" y="1642"/>
                  <a:pt x="75" y="1632"/>
                  <a:pt x="80" y="1625"/>
                </a:cubicBezTo>
                <a:cubicBezTo>
                  <a:pt x="81" y="1597"/>
                  <a:pt x="63" y="1439"/>
                  <a:pt x="120" y="1401"/>
                </a:cubicBezTo>
                <a:cubicBezTo>
                  <a:pt x="124" y="1380"/>
                  <a:pt x="126" y="1373"/>
                  <a:pt x="144" y="1361"/>
                </a:cubicBezTo>
                <a:cubicBezTo>
                  <a:pt x="151" y="1341"/>
                  <a:pt x="162" y="1325"/>
                  <a:pt x="180" y="1313"/>
                </a:cubicBezTo>
                <a:cubicBezTo>
                  <a:pt x="191" y="1296"/>
                  <a:pt x="204" y="1287"/>
                  <a:pt x="216" y="1269"/>
                </a:cubicBezTo>
                <a:cubicBezTo>
                  <a:pt x="237" y="1237"/>
                  <a:pt x="227" y="1230"/>
                  <a:pt x="264" y="1205"/>
                </a:cubicBezTo>
                <a:cubicBezTo>
                  <a:pt x="280" y="1194"/>
                  <a:pt x="295" y="1188"/>
                  <a:pt x="312" y="1177"/>
                </a:cubicBezTo>
                <a:cubicBezTo>
                  <a:pt x="319" y="1172"/>
                  <a:pt x="336" y="1169"/>
                  <a:pt x="336" y="1169"/>
                </a:cubicBezTo>
                <a:cubicBezTo>
                  <a:pt x="353" y="1152"/>
                  <a:pt x="359" y="1143"/>
                  <a:pt x="380" y="1129"/>
                </a:cubicBezTo>
                <a:cubicBezTo>
                  <a:pt x="384" y="1126"/>
                  <a:pt x="392" y="1121"/>
                  <a:pt x="392" y="1121"/>
                </a:cubicBezTo>
                <a:cubicBezTo>
                  <a:pt x="401" y="1107"/>
                  <a:pt x="410" y="1098"/>
                  <a:pt x="424" y="1089"/>
                </a:cubicBezTo>
                <a:cubicBezTo>
                  <a:pt x="432" y="1066"/>
                  <a:pt x="423" y="1087"/>
                  <a:pt x="440" y="1065"/>
                </a:cubicBezTo>
                <a:cubicBezTo>
                  <a:pt x="446" y="1057"/>
                  <a:pt x="456" y="1041"/>
                  <a:pt x="456" y="1041"/>
                </a:cubicBezTo>
                <a:cubicBezTo>
                  <a:pt x="453" y="972"/>
                  <a:pt x="453" y="926"/>
                  <a:pt x="404" y="877"/>
                </a:cubicBezTo>
                <a:cubicBezTo>
                  <a:pt x="392" y="840"/>
                  <a:pt x="391" y="804"/>
                  <a:pt x="404" y="765"/>
                </a:cubicBezTo>
                <a:cubicBezTo>
                  <a:pt x="406" y="723"/>
                  <a:pt x="397" y="664"/>
                  <a:pt x="432" y="629"/>
                </a:cubicBezTo>
                <a:cubicBezTo>
                  <a:pt x="445" y="616"/>
                  <a:pt x="453" y="604"/>
                  <a:pt x="468" y="593"/>
                </a:cubicBezTo>
                <a:cubicBezTo>
                  <a:pt x="476" y="587"/>
                  <a:pt x="492" y="577"/>
                  <a:pt x="492" y="577"/>
                </a:cubicBezTo>
                <a:cubicBezTo>
                  <a:pt x="526" y="526"/>
                  <a:pt x="504" y="494"/>
                  <a:pt x="488" y="445"/>
                </a:cubicBezTo>
                <a:cubicBezTo>
                  <a:pt x="502" y="404"/>
                  <a:pt x="509" y="375"/>
                  <a:pt x="548" y="349"/>
                </a:cubicBezTo>
                <a:cubicBezTo>
                  <a:pt x="563" y="327"/>
                  <a:pt x="551" y="347"/>
                  <a:pt x="560" y="313"/>
                </a:cubicBezTo>
                <a:cubicBezTo>
                  <a:pt x="576" y="248"/>
                  <a:pt x="596" y="272"/>
                  <a:pt x="680" y="269"/>
                </a:cubicBezTo>
                <a:cubicBezTo>
                  <a:pt x="702" y="255"/>
                  <a:pt x="693" y="228"/>
                  <a:pt x="672" y="221"/>
                </a:cubicBezTo>
                <a:cubicBezTo>
                  <a:pt x="671" y="184"/>
                  <a:pt x="673" y="146"/>
                  <a:pt x="668" y="109"/>
                </a:cubicBezTo>
                <a:cubicBezTo>
                  <a:pt x="667" y="104"/>
                  <a:pt x="623" y="77"/>
                  <a:pt x="616" y="73"/>
                </a:cubicBezTo>
                <a:cubicBezTo>
                  <a:pt x="608" y="68"/>
                  <a:pt x="592" y="57"/>
                  <a:pt x="592" y="57"/>
                </a:cubicBezTo>
                <a:cubicBezTo>
                  <a:pt x="585" y="46"/>
                  <a:pt x="564" y="29"/>
                  <a:pt x="552" y="25"/>
                </a:cubicBezTo>
                <a:cubicBezTo>
                  <a:pt x="535" y="0"/>
                  <a:pt x="546" y="1"/>
                  <a:pt x="532" y="1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42"/>
          <p:cNvSpPr/>
          <p:nvPr/>
        </p:nvSpPr>
        <p:spPr>
          <a:xfrm>
            <a:off x="3295800" y="3124080"/>
            <a:ext cx="2603520" cy="2770200"/>
          </a:xfrm>
          <a:custGeom>
            <a:avLst/>
            <a:gdLst/>
            <a:ahLst/>
            <a:rect l="l" t="t" r="r" b="b"/>
            <a:pathLst>
              <a:path w="1640" h="1745">
                <a:moveTo>
                  <a:pt x="0" y="1744"/>
                </a:moveTo>
                <a:cubicBezTo>
                  <a:pt x="28" y="1743"/>
                  <a:pt x="56" y="1745"/>
                  <a:pt x="84" y="1740"/>
                </a:cubicBezTo>
                <a:cubicBezTo>
                  <a:pt x="102" y="1737"/>
                  <a:pt x="132" y="1704"/>
                  <a:pt x="144" y="1692"/>
                </a:cubicBezTo>
                <a:cubicBezTo>
                  <a:pt x="176" y="1660"/>
                  <a:pt x="198" y="1613"/>
                  <a:pt x="236" y="1588"/>
                </a:cubicBezTo>
                <a:cubicBezTo>
                  <a:pt x="250" y="1567"/>
                  <a:pt x="292" y="1525"/>
                  <a:pt x="312" y="1512"/>
                </a:cubicBezTo>
                <a:cubicBezTo>
                  <a:pt x="355" y="1483"/>
                  <a:pt x="290" y="1528"/>
                  <a:pt x="336" y="1492"/>
                </a:cubicBezTo>
                <a:cubicBezTo>
                  <a:pt x="344" y="1486"/>
                  <a:pt x="360" y="1476"/>
                  <a:pt x="360" y="1476"/>
                </a:cubicBezTo>
                <a:cubicBezTo>
                  <a:pt x="377" y="1450"/>
                  <a:pt x="394" y="1442"/>
                  <a:pt x="420" y="1424"/>
                </a:cubicBezTo>
                <a:cubicBezTo>
                  <a:pt x="475" y="1341"/>
                  <a:pt x="508" y="1363"/>
                  <a:pt x="620" y="1360"/>
                </a:cubicBezTo>
                <a:cubicBezTo>
                  <a:pt x="628" y="1357"/>
                  <a:pt x="636" y="1355"/>
                  <a:pt x="644" y="1352"/>
                </a:cubicBezTo>
                <a:cubicBezTo>
                  <a:pt x="648" y="1351"/>
                  <a:pt x="656" y="1348"/>
                  <a:pt x="656" y="1348"/>
                </a:cubicBezTo>
                <a:cubicBezTo>
                  <a:pt x="668" y="1336"/>
                  <a:pt x="674" y="1325"/>
                  <a:pt x="688" y="1316"/>
                </a:cubicBezTo>
                <a:cubicBezTo>
                  <a:pt x="693" y="1300"/>
                  <a:pt x="694" y="1283"/>
                  <a:pt x="700" y="1268"/>
                </a:cubicBezTo>
                <a:cubicBezTo>
                  <a:pt x="704" y="1258"/>
                  <a:pt x="731" y="1223"/>
                  <a:pt x="740" y="1220"/>
                </a:cubicBezTo>
                <a:cubicBezTo>
                  <a:pt x="750" y="1217"/>
                  <a:pt x="759" y="1214"/>
                  <a:pt x="768" y="1208"/>
                </a:cubicBezTo>
                <a:cubicBezTo>
                  <a:pt x="781" y="1198"/>
                  <a:pt x="786" y="1185"/>
                  <a:pt x="800" y="1176"/>
                </a:cubicBezTo>
                <a:cubicBezTo>
                  <a:pt x="831" y="1129"/>
                  <a:pt x="875" y="1135"/>
                  <a:pt x="928" y="1132"/>
                </a:cubicBezTo>
                <a:cubicBezTo>
                  <a:pt x="951" y="1124"/>
                  <a:pt x="980" y="1105"/>
                  <a:pt x="1000" y="1092"/>
                </a:cubicBezTo>
                <a:cubicBezTo>
                  <a:pt x="1008" y="1087"/>
                  <a:pt x="1024" y="1076"/>
                  <a:pt x="1024" y="1076"/>
                </a:cubicBezTo>
                <a:cubicBezTo>
                  <a:pt x="1044" y="1046"/>
                  <a:pt x="1081" y="1020"/>
                  <a:pt x="1116" y="1008"/>
                </a:cubicBezTo>
                <a:cubicBezTo>
                  <a:pt x="1153" y="952"/>
                  <a:pt x="1111" y="914"/>
                  <a:pt x="1096" y="868"/>
                </a:cubicBezTo>
                <a:cubicBezTo>
                  <a:pt x="1092" y="835"/>
                  <a:pt x="1089" y="799"/>
                  <a:pt x="1060" y="780"/>
                </a:cubicBezTo>
                <a:cubicBezTo>
                  <a:pt x="1059" y="776"/>
                  <a:pt x="1059" y="771"/>
                  <a:pt x="1056" y="768"/>
                </a:cubicBezTo>
                <a:cubicBezTo>
                  <a:pt x="1053" y="764"/>
                  <a:pt x="1047" y="764"/>
                  <a:pt x="1044" y="760"/>
                </a:cubicBezTo>
                <a:cubicBezTo>
                  <a:pt x="1040" y="753"/>
                  <a:pt x="1039" y="744"/>
                  <a:pt x="1036" y="736"/>
                </a:cubicBezTo>
                <a:cubicBezTo>
                  <a:pt x="1035" y="732"/>
                  <a:pt x="1032" y="724"/>
                  <a:pt x="1032" y="724"/>
                </a:cubicBezTo>
                <a:cubicBezTo>
                  <a:pt x="1034" y="685"/>
                  <a:pt x="1016" y="632"/>
                  <a:pt x="1052" y="608"/>
                </a:cubicBezTo>
                <a:cubicBezTo>
                  <a:pt x="1058" y="591"/>
                  <a:pt x="1064" y="573"/>
                  <a:pt x="1080" y="568"/>
                </a:cubicBezTo>
                <a:cubicBezTo>
                  <a:pt x="1091" y="552"/>
                  <a:pt x="1097" y="550"/>
                  <a:pt x="1116" y="544"/>
                </a:cubicBezTo>
                <a:cubicBezTo>
                  <a:pt x="1124" y="542"/>
                  <a:pt x="1140" y="536"/>
                  <a:pt x="1140" y="536"/>
                </a:cubicBezTo>
                <a:cubicBezTo>
                  <a:pt x="1144" y="524"/>
                  <a:pt x="1148" y="512"/>
                  <a:pt x="1152" y="500"/>
                </a:cubicBezTo>
                <a:cubicBezTo>
                  <a:pt x="1153" y="496"/>
                  <a:pt x="1152" y="489"/>
                  <a:pt x="1156" y="488"/>
                </a:cubicBezTo>
                <a:cubicBezTo>
                  <a:pt x="1168" y="484"/>
                  <a:pt x="1181" y="483"/>
                  <a:pt x="1192" y="476"/>
                </a:cubicBezTo>
                <a:cubicBezTo>
                  <a:pt x="1209" y="465"/>
                  <a:pt x="1233" y="442"/>
                  <a:pt x="1252" y="436"/>
                </a:cubicBezTo>
                <a:cubicBezTo>
                  <a:pt x="1266" y="422"/>
                  <a:pt x="1284" y="413"/>
                  <a:pt x="1304" y="408"/>
                </a:cubicBezTo>
                <a:cubicBezTo>
                  <a:pt x="1316" y="400"/>
                  <a:pt x="1328" y="392"/>
                  <a:pt x="1340" y="384"/>
                </a:cubicBezTo>
                <a:cubicBezTo>
                  <a:pt x="1344" y="381"/>
                  <a:pt x="1352" y="376"/>
                  <a:pt x="1352" y="376"/>
                </a:cubicBezTo>
                <a:cubicBezTo>
                  <a:pt x="1355" y="372"/>
                  <a:pt x="1356" y="367"/>
                  <a:pt x="1360" y="364"/>
                </a:cubicBezTo>
                <a:cubicBezTo>
                  <a:pt x="1371" y="357"/>
                  <a:pt x="1385" y="359"/>
                  <a:pt x="1396" y="352"/>
                </a:cubicBezTo>
                <a:cubicBezTo>
                  <a:pt x="1414" y="340"/>
                  <a:pt x="1435" y="335"/>
                  <a:pt x="1456" y="328"/>
                </a:cubicBezTo>
                <a:cubicBezTo>
                  <a:pt x="1496" y="315"/>
                  <a:pt x="1434" y="335"/>
                  <a:pt x="1484" y="320"/>
                </a:cubicBezTo>
                <a:cubicBezTo>
                  <a:pt x="1492" y="318"/>
                  <a:pt x="1508" y="312"/>
                  <a:pt x="1508" y="312"/>
                </a:cubicBezTo>
                <a:cubicBezTo>
                  <a:pt x="1517" y="298"/>
                  <a:pt x="1526" y="289"/>
                  <a:pt x="1540" y="280"/>
                </a:cubicBezTo>
                <a:cubicBezTo>
                  <a:pt x="1555" y="258"/>
                  <a:pt x="1540" y="275"/>
                  <a:pt x="1560" y="264"/>
                </a:cubicBezTo>
                <a:cubicBezTo>
                  <a:pt x="1568" y="259"/>
                  <a:pt x="1584" y="248"/>
                  <a:pt x="1584" y="248"/>
                </a:cubicBezTo>
                <a:cubicBezTo>
                  <a:pt x="1594" y="233"/>
                  <a:pt x="1609" y="218"/>
                  <a:pt x="1624" y="208"/>
                </a:cubicBezTo>
                <a:cubicBezTo>
                  <a:pt x="1631" y="197"/>
                  <a:pt x="1640" y="172"/>
                  <a:pt x="1640" y="172"/>
                </a:cubicBezTo>
                <a:cubicBezTo>
                  <a:pt x="1639" y="164"/>
                  <a:pt x="1640" y="155"/>
                  <a:pt x="1636" y="148"/>
                </a:cubicBezTo>
                <a:cubicBezTo>
                  <a:pt x="1632" y="140"/>
                  <a:pt x="1619" y="140"/>
                  <a:pt x="1612" y="136"/>
                </a:cubicBezTo>
                <a:cubicBezTo>
                  <a:pt x="1565" y="110"/>
                  <a:pt x="1611" y="128"/>
                  <a:pt x="1564" y="112"/>
                </a:cubicBezTo>
                <a:cubicBezTo>
                  <a:pt x="1551" y="108"/>
                  <a:pt x="1528" y="92"/>
                  <a:pt x="1528" y="92"/>
                </a:cubicBezTo>
                <a:cubicBezTo>
                  <a:pt x="1517" y="75"/>
                  <a:pt x="1520" y="71"/>
                  <a:pt x="1536" y="60"/>
                </a:cubicBezTo>
                <a:cubicBezTo>
                  <a:pt x="1539" y="52"/>
                  <a:pt x="1547" y="15"/>
                  <a:pt x="1552" y="12"/>
                </a:cubicBezTo>
                <a:cubicBezTo>
                  <a:pt x="1565" y="3"/>
                  <a:pt x="1564" y="9"/>
                  <a:pt x="1564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5"/>
          <p:cNvSpPr/>
          <p:nvPr/>
        </p:nvSpPr>
        <p:spPr>
          <a:xfrm>
            <a:off x="4102200" y="3871800"/>
            <a:ext cx="1015920" cy="141480"/>
          </a:xfrm>
          <a:custGeom>
            <a:avLst/>
            <a:gdLst/>
            <a:ahLst/>
            <a:rect l="l" t="t" r="r" b="b"/>
            <a:pathLst>
              <a:path w="640" h="89">
                <a:moveTo>
                  <a:pt x="0" y="89"/>
                </a:moveTo>
                <a:cubicBezTo>
                  <a:pt x="5" y="73"/>
                  <a:pt x="10" y="66"/>
                  <a:pt x="24" y="57"/>
                </a:cubicBezTo>
                <a:cubicBezTo>
                  <a:pt x="62" y="0"/>
                  <a:pt x="135" y="35"/>
                  <a:pt x="204" y="33"/>
                </a:cubicBezTo>
                <a:cubicBezTo>
                  <a:pt x="252" y="26"/>
                  <a:pt x="303" y="34"/>
                  <a:pt x="352" y="37"/>
                </a:cubicBezTo>
                <a:cubicBezTo>
                  <a:pt x="387" y="49"/>
                  <a:pt x="409" y="47"/>
                  <a:pt x="452" y="49"/>
                </a:cubicBezTo>
                <a:cubicBezTo>
                  <a:pt x="485" y="60"/>
                  <a:pt x="522" y="49"/>
                  <a:pt x="556" y="45"/>
                </a:cubicBezTo>
                <a:cubicBezTo>
                  <a:pt x="574" y="33"/>
                  <a:pt x="566" y="26"/>
                  <a:pt x="588" y="21"/>
                </a:cubicBezTo>
                <a:cubicBezTo>
                  <a:pt x="605" y="27"/>
                  <a:pt x="610" y="22"/>
                  <a:pt x="616" y="5"/>
                </a:cubicBezTo>
                <a:cubicBezTo>
                  <a:pt x="632" y="10"/>
                  <a:pt x="624" y="9"/>
                  <a:pt x="640" y="9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7"/>
          <p:cNvSpPr/>
          <p:nvPr/>
        </p:nvSpPr>
        <p:spPr>
          <a:xfrm>
            <a:off x="3537000" y="4280040"/>
            <a:ext cx="368280" cy="253800"/>
          </a:xfrm>
          <a:custGeom>
            <a:avLst/>
            <a:gdLst/>
            <a:ahLst/>
            <a:rect l="l" t="t" r="r" b="b"/>
            <a:pathLst>
              <a:path w="232" h="160">
                <a:moveTo>
                  <a:pt x="232" y="160"/>
                </a:moveTo>
                <a:cubicBezTo>
                  <a:pt x="207" y="122"/>
                  <a:pt x="153" y="119"/>
                  <a:pt x="112" y="116"/>
                </a:cubicBezTo>
                <a:cubicBezTo>
                  <a:pt x="93" y="110"/>
                  <a:pt x="69" y="96"/>
                  <a:pt x="52" y="84"/>
                </a:cubicBezTo>
                <a:cubicBezTo>
                  <a:pt x="57" y="68"/>
                  <a:pt x="62" y="61"/>
                  <a:pt x="76" y="52"/>
                </a:cubicBezTo>
                <a:cubicBezTo>
                  <a:pt x="79" y="48"/>
                  <a:pt x="88" y="43"/>
                  <a:pt x="84" y="40"/>
                </a:cubicBezTo>
                <a:cubicBezTo>
                  <a:pt x="70" y="29"/>
                  <a:pt x="39" y="42"/>
                  <a:pt x="68" y="32"/>
                </a:cubicBezTo>
                <a:cubicBezTo>
                  <a:pt x="47" y="18"/>
                  <a:pt x="18" y="18"/>
                  <a:pt x="0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6"/>
          <p:cNvSpPr/>
          <p:nvPr/>
        </p:nvSpPr>
        <p:spPr>
          <a:xfrm>
            <a:off x="3132000" y="496728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cc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9"/>
          <p:cNvSpPr/>
          <p:nvPr/>
        </p:nvSpPr>
        <p:spPr>
          <a:xfrm rot="21363000">
            <a:off x="3133440" y="50338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48"/>
          <p:cNvSpPr/>
          <p:nvPr/>
        </p:nvSpPr>
        <p:spPr>
          <a:xfrm>
            <a:off x="3448080" y="3111480"/>
            <a:ext cx="3130560" cy="2944800"/>
          </a:xfrm>
          <a:custGeom>
            <a:avLst/>
            <a:gdLst/>
            <a:ahLst/>
            <a:rect l="l" t="t" r="r" b="b"/>
            <a:pathLst>
              <a:path w="1972" h="1855">
                <a:moveTo>
                  <a:pt x="0" y="1756"/>
                </a:moveTo>
                <a:cubicBezTo>
                  <a:pt x="5" y="1761"/>
                  <a:pt x="18" y="1772"/>
                  <a:pt x="20" y="1780"/>
                </a:cubicBezTo>
                <a:cubicBezTo>
                  <a:pt x="25" y="1796"/>
                  <a:pt x="20" y="1814"/>
                  <a:pt x="28" y="1828"/>
                </a:cubicBezTo>
                <a:cubicBezTo>
                  <a:pt x="32" y="1836"/>
                  <a:pt x="61" y="1843"/>
                  <a:pt x="64" y="1844"/>
                </a:cubicBezTo>
                <a:cubicBezTo>
                  <a:pt x="72" y="1847"/>
                  <a:pt x="88" y="1852"/>
                  <a:pt x="88" y="1852"/>
                </a:cubicBezTo>
                <a:cubicBezTo>
                  <a:pt x="185" y="1848"/>
                  <a:pt x="169" y="1855"/>
                  <a:pt x="228" y="1816"/>
                </a:cubicBezTo>
                <a:cubicBezTo>
                  <a:pt x="248" y="1755"/>
                  <a:pt x="264" y="1697"/>
                  <a:pt x="320" y="1660"/>
                </a:cubicBezTo>
                <a:cubicBezTo>
                  <a:pt x="328" y="1648"/>
                  <a:pt x="352" y="1632"/>
                  <a:pt x="352" y="1632"/>
                </a:cubicBezTo>
                <a:cubicBezTo>
                  <a:pt x="384" y="1633"/>
                  <a:pt x="416" y="1633"/>
                  <a:pt x="448" y="1636"/>
                </a:cubicBezTo>
                <a:cubicBezTo>
                  <a:pt x="456" y="1637"/>
                  <a:pt x="464" y="1642"/>
                  <a:pt x="472" y="1644"/>
                </a:cubicBezTo>
                <a:cubicBezTo>
                  <a:pt x="496" y="1650"/>
                  <a:pt x="483" y="1646"/>
                  <a:pt x="512" y="1656"/>
                </a:cubicBezTo>
                <a:cubicBezTo>
                  <a:pt x="520" y="1659"/>
                  <a:pt x="536" y="1664"/>
                  <a:pt x="536" y="1664"/>
                </a:cubicBezTo>
                <a:cubicBezTo>
                  <a:pt x="547" y="1663"/>
                  <a:pt x="557" y="1662"/>
                  <a:pt x="568" y="1660"/>
                </a:cubicBezTo>
                <a:cubicBezTo>
                  <a:pt x="576" y="1658"/>
                  <a:pt x="592" y="1652"/>
                  <a:pt x="592" y="1652"/>
                </a:cubicBezTo>
                <a:cubicBezTo>
                  <a:pt x="602" y="1637"/>
                  <a:pt x="611" y="1632"/>
                  <a:pt x="628" y="1624"/>
                </a:cubicBezTo>
                <a:cubicBezTo>
                  <a:pt x="642" y="1603"/>
                  <a:pt x="640" y="1576"/>
                  <a:pt x="648" y="1552"/>
                </a:cubicBezTo>
                <a:cubicBezTo>
                  <a:pt x="651" y="1544"/>
                  <a:pt x="656" y="1528"/>
                  <a:pt x="656" y="1528"/>
                </a:cubicBezTo>
                <a:cubicBezTo>
                  <a:pt x="659" y="1500"/>
                  <a:pt x="648" y="1441"/>
                  <a:pt x="676" y="1432"/>
                </a:cubicBezTo>
                <a:cubicBezTo>
                  <a:pt x="695" y="1437"/>
                  <a:pt x="700" y="1443"/>
                  <a:pt x="716" y="1432"/>
                </a:cubicBezTo>
                <a:cubicBezTo>
                  <a:pt x="734" y="1404"/>
                  <a:pt x="729" y="1417"/>
                  <a:pt x="736" y="1396"/>
                </a:cubicBezTo>
                <a:cubicBezTo>
                  <a:pt x="737" y="1387"/>
                  <a:pt x="734" y="1375"/>
                  <a:pt x="740" y="1368"/>
                </a:cubicBezTo>
                <a:cubicBezTo>
                  <a:pt x="745" y="1362"/>
                  <a:pt x="752" y="1380"/>
                  <a:pt x="764" y="1388"/>
                </a:cubicBezTo>
                <a:cubicBezTo>
                  <a:pt x="774" y="1394"/>
                  <a:pt x="789" y="1400"/>
                  <a:pt x="800" y="1404"/>
                </a:cubicBezTo>
                <a:cubicBezTo>
                  <a:pt x="812" y="1392"/>
                  <a:pt x="829" y="1382"/>
                  <a:pt x="840" y="1368"/>
                </a:cubicBezTo>
                <a:cubicBezTo>
                  <a:pt x="846" y="1360"/>
                  <a:pt x="856" y="1344"/>
                  <a:pt x="856" y="1344"/>
                </a:cubicBezTo>
                <a:cubicBezTo>
                  <a:pt x="866" y="1358"/>
                  <a:pt x="874" y="1358"/>
                  <a:pt x="884" y="1372"/>
                </a:cubicBezTo>
                <a:cubicBezTo>
                  <a:pt x="908" y="1367"/>
                  <a:pt x="912" y="1359"/>
                  <a:pt x="936" y="1364"/>
                </a:cubicBezTo>
                <a:cubicBezTo>
                  <a:pt x="1010" y="1363"/>
                  <a:pt x="1196" y="1392"/>
                  <a:pt x="1272" y="1316"/>
                </a:cubicBezTo>
                <a:cubicBezTo>
                  <a:pt x="1282" y="1286"/>
                  <a:pt x="1313" y="1281"/>
                  <a:pt x="1340" y="1272"/>
                </a:cubicBezTo>
                <a:cubicBezTo>
                  <a:pt x="1351" y="1256"/>
                  <a:pt x="1364" y="1239"/>
                  <a:pt x="1380" y="1228"/>
                </a:cubicBezTo>
                <a:cubicBezTo>
                  <a:pt x="1390" y="1214"/>
                  <a:pt x="1398" y="1213"/>
                  <a:pt x="1412" y="1204"/>
                </a:cubicBezTo>
                <a:cubicBezTo>
                  <a:pt x="1428" y="1180"/>
                  <a:pt x="1449" y="1176"/>
                  <a:pt x="1472" y="1160"/>
                </a:cubicBezTo>
                <a:cubicBezTo>
                  <a:pt x="1476" y="1147"/>
                  <a:pt x="1484" y="1137"/>
                  <a:pt x="1488" y="1124"/>
                </a:cubicBezTo>
                <a:cubicBezTo>
                  <a:pt x="1489" y="1103"/>
                  <a:pt x="1489" y="1081"/>
                  <a:pt x="1492" y="1060"/>
                </a:cubicBezTo>
                <a:cubicBezTo>
                  <a:pt x="1494" y="1047"/>
                  <a:pt x="1508" y="1024"/>
                  <a:pt x="1508" y="1024"/>
                </a:cubicBezTo>
                <a:cubicBezTo>
                  <a:pt x="1505" y="984"/>
                  <a:pt x="1511" y="944"/>
                  <a:pt x="1476" y="920"/>
                </a:cubicBezTo>
                <a:cubicBezTo>
                  <a:pt x="1477" y="900"/>
                  <a:pt x="1477" y="880"/>
                  <a:pt x="1480" y="860"/>
                </a:cubicBezTo>
                <a:cubicBezTo>
                  <a:pt x="1486" y="825"/>
                  <a:pt x="1545" y="829"/>
                  <a:pt x="1564" y="828"/>
                </a:cubicBezTo>
                <a:cubicBezTo>
                  <a:pt x="1623" y="808"/>
                  <a:pt x="1669" y="771"/>
                  <a:pt x="1732" y="764"/>
                </a:cubicBezTo>
                <a:cubicBezTo>
                  <a:pt x="1745" y="744"/>
                  <a:pt x="1757" y="724"/>
                  <a:pt x="1768" y="704"/>
                </a:cubicBezTo>
                <a:cubicBezTo>
                  <a:pt x="1773" y="696"/>
                  <a:pt x="1784" y="680"/>
                  <a:pt x="1784" y="680"/>
                </a:cubicBezTo>
                <a:cubicBezTo>
                  <a:pt x="1794" y="640"/>
                  <a:pt x="1776" y="690"/>
                  <a:pt x="1828" y="660"/>
                </a:cubicBezTo>
                <a:cubicBezTo>
                  <a:pt x="1835" y="656"/>
                  <a:pt x="1833" y="644"/>
                  <a:pt x="1836" y="636"/>
                </a:cubicBezTo>
                <a:cubicBezTo>
                  <a:pt x="1843" y="614"/>
                  <a:pt x="1851" y="591"/>
                  <a:pt x="1856" y="568"/>
                </a:cubicBezTo>
                <a:cubicBezTo>
                  <a:pt x="1858" y="560"/>
                  <a:pt x="1853" y="547"/>
                  <a:pt x="1860" y="544"/>
                </a:cubicBezTo>
                <a:cubicBezTo>
                  <a:pt x="1877" y="536"/>
                  <a:pt x="1897" y="541"/>
                  <a:pt x="1916" y="540"/>
                </a:cubicBezTo>
                <a:cubicBezTo>
                  <a:pt x="1923" y="471"/>
                  <a:pt x="1912" y="517"/>
                  <a:pt x="1956" y="488"/>
                </a:cubicBezTo>
                <a:cubicBezTo>
                  <a:pt x="1960" y="476"/>
                  <a:pt x="1964" y="464"/>
                  <a:pt x="1968" y="452"/>
                </a:cubicBezTo>
                <a:cubicBezTo>
                  <a:pt x="1969" y="448"/>
                  <a:pt x="1972" y="440"/>
                  <a:pt x="1972" y="440"/>
                </a:cubicBezTo>
                <a:cubicBezTo>
                  <a:pt x="1969" y="397"/>
                  <a:pt x="1964" y="347"/>
                  <a:pt x="1924" y="320"/>
                </a:cubicBezTo>
                <a:cubicBezTo>
                  <a:pt x="1921" y="316"/>
                  <a:pt x="1919" y="311"/>
                  <a:pt x="1916" y="308"/>
                </a:cubicBezTo>
                <a:cubicBezTo>
                  <a:pt x="1913" y="305"/>
                  <a:pt x="1907" y="304"/>
                  <a:pt x="1904" y="300"/>
                </a:cubicBezTo>
                <a:cubicBezTo>
                  <a:pt x="1894" y="287"/>
                  <a:pt x="1896" y="278"/>
                  <a:pt x="1880" y="268"/>
                </a:cubicBezTo>
                <a:cubicBezTo>
                  <a:pt x="1874" y="250"/>
                  <a:pt x="1871" y="248"/>
                  <a:pt x="1856" y="240"/>
                </a:cubicBezTo>
                <a:cubicBezTo>
                  <a:pt x="1848" y="235"/>
                  <a:pt x="1832" y="224"/>
                  <a:pt x="1832" y="224"/>
                </a:cubicBezTo>
                <a:cubicBezTo>
                  <a:pt x="1827" y="216"/>
                  <a:pt x="1817" y="212"/>
                  <a:pt x="1812" y="204"/>
                </a:cubicBezTo>
                <a:cubicBezTo>
                  <a:pt x="1797" y="180"/>
                  <a:pt x="1796" y="153"/>
                  <a:pt x="1760" y="148"/>
                </a:cubicBezTo>
                <a:cubicBezTo>
                  <a:pt x="1743" y="146"/>
                  <a:pt x="1725" y="145"/>
                  <a:pt x="1708" y="144"/>
                </a:cubicBezTo>
                <a:cubicBezTo>
                  <a:pt x="1694" y="122"/>
                  <a:pt x="1673" y="116"/>
                  <a:pt x="1652" y="104"/>
                </a:cubicBezTo>
                <a:cubicBezTo>
                  <a:pt x="1634" y="94"/>
                  <a:pt x="1622" y="81"/>
                  <a:pt x="1604" y="72"/>
                </a:cubicBezTo>
                <a:cubicBezTo>
                  <a:pt x="1596" y="68"/>
                  <a:pt x="1588" y="64"/>
                  <a:pt x="1580" y="60"/>
                </a:cubicBezTo>
                <a:cubicBezTo>
                  <a:pt x="1572" y="55"/>
                  <a:pt x="1556" y="44"/>
                  <a:pt x="1556" y="44"/>
                </a:cubicBezTo>
                <a:cubicBezTo>
                  <a:pt x="1541" y="21"/>
                  <a:pt x="1501" y="0"/>
                  <a:pt x="1472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55600" y="27936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Four Parts of the 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789120" y="1108080"/>
            <a:ext cx="7192800" cy="4826160"/>
            <a:chOff x="789120" y="1108080"/>
            <a:chExt cx="7192800" cy="4826160"/>
          </a:xfrm>
        </p:grpSpPr>
        <p:sp>
          <p:nvSpPr>
            <p:cNvPr id="904" name="Rounded Rectangle 9"/>
            <p:cNvSpPr/>
            <p:nvPr/>
          </p:nvSpPr>
          <p:spPr>
            <a:xfrm>
              <a:off x="789120" y="1108080"/>
              <a:ext cx="7100640" cy="67320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nt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ounded Rectangle 9"/>
            <p:cNvSpPr/>
            <p:nvPr/>
          </p:nvSpPr>
          <p:spPr>
            <a:xfrm>
              <a:off x="798480" y="2004840"/>
              <a:ext cx="7101000" cy="81756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Framing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ounded Rectangle 9"/>
            <p:cNvSpPr/>
            <p:nvPr/>
          </p:nvSpPr>
          <p:spPr>
            <a:xfrm>
              <a:off x="824040" y="2967120"/>
              <a:ext cx="7119720" cy="155232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thways for Mitigating Climate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ounded Rectangle 9"/>
            <p:cNvSpPr/>
            <p:nvPr/>
          </p:nvSpPr>
          <p:spPr>
            <a:xfrm>
              <a:off x="861840" y="4667400"/>
              <a:ext cx="7120080" cy="126684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Assessment of Policies, Institutions and Fi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45387A-EB55-47CF-BBAC-C960C24EE03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255600" y="114480"/>
            <a:ext cx="8564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orking Group III Assessment as a Cartography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ounded Rectangle 9"/>
          <p:cNvSpPr/>
          <p:nvPr/>
        </p:nvSpPr>
        <p:spPr>
          <a:xfrm>
            <a:off x="789120" y="1108080"/>
            <a:ext cx="7100640" cy="67320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ounded Rectangle 9"/>
          <p:cNvSpPr/>
          <p:nvPr/>
        </p:nvSpPr>
        <p:spPr>
          <a:xfrm>
            <a:off x="798480" y="1916280"/>
            <a:ext cx="7101000" cy="9061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m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ounded Rectangle 9"/>
          <p:cNvSpPr/>
          <p:nvPr/>
        </p:nvSpPr>
        <p:spPr>
          <a:xfrm>
            <a:off x="824040" y="2967120"/>
            <a:ext cx="7119720" cy="1552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hways for Mitig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ounded Rectangle 9"/>
          <p:cNvSpPr/>
          <p:nvPr/>
        </p:nvSpPr>
        <p:spPr>
          <a:xfrm>
            <a:off x="861840" y="4667400"/>
            <a:ext cx="7120080" cy="1498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sessment of Polic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itutions and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084A3A-29A5-4672-AE62-45B203D554A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1" descr=""/>
          <p:cNvPicPr/>
          <p:nvPr/>
        </p:nvPicPr>
        <p:blipFill>
          <a:blip r:embed="rId1"/>
          <a:stretch/>
        </p:blipFill>
        <p:spPr>
          <a:xfrm>
            <a:off x="3852720" y="2008080"/>
            <a:ext cx="712800" cy="7002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2" descr=""/>
          <p:cNvPicPr/>
          <p:nvPr/>
        </p:nvPicPr>
        <p:blipFill>
          <a:blip r:embed="rId2"/>
          <a:stretch/>
        </p:blipFill>
        <p:spPr>
          <a:xfrm>
            <a:off x="3851280" y="3017880"/>
            <a:ext cx="1974960" cy="1441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3" descr=""/>
          <p:cNvPicPr/>
          <p:nvPr/>
        </p:nvPicPr>
        <p:blipFill>
          <a:blip r:embed="rId3"/>
          <a:stretch/>
        </p:blipFill>
        <p:spPr>
          <a:xfrm>
            <a:off x="3846600" y="4826160"/>
            <a:ext cx="1301760" cy="1158840"/>
          </a:xfrm>
          <a:prstGeom prst="rect">
            <a:avLst/>
          </a:prstGeom>
          <a:ln w="0">
            <a:noFill/>
          </a:ln>
        </p:spPr>
      </p:pic>
      <p:sp>
        <p:nvSpPr>
          <p:cNvPr id="919" name="Textfeld 4"/>
          <p:cNvSpPr/>
          <p:nvPr/>
        </p:nvSpPr>
        <p:spPr>
          <a:xfrm>
            <a:off x="4572000" y="1909800"/>
            <a:ext cx="33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egend to 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concepts and methods o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feld 14"/>
          <p:cNvSpPr/>
          <p:nvPr/>
        </p:nvSpPr>
        <p:spPr>
          <a:xfrm>
            <a:off x="5862600" y="3068640"/>
            <a:ext cx="21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 out feasible mitigation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feld 15"/>
          <p:cNvSpPr/>
          <p:nvPr/>
        </p:nvSpPr>
        <p:spPr>
          <a:xfrm>
            <a:off x="5148360" y="4694400"/>
            <a:ext cx="279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igation too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policy instruments, institutional arrangements and financ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F47F83-FE00-4135-86FB-0BD0F55560A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bgerundetes Rechteck 4"/>
          <p:cNvSpPr/>
          <p:nvPr/>
        </p:nvSpPr>
        <p:spPr>
          <a:xfrm>
            <a:off x="306360" y="2589120"/>
            <a:ext cx="8642520" cy="2135160"/>
          </a:xfrm>
          <a:prstGeom prst="roundRect">
            <a:avLst>
              <a:gd name="adj" fmla="val 16667"/>
            </a:avLst>
          </a:prstGeom>
          <a:solidFill>
            <a:srgbClr val="4073ac"/>
          </a:solidFill>
          <a:ln w="25560">
            <a:solidFill>
              <a:srgbClr val="2c5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dedicated chapter or Section on metrics in the Plenary approved Working Group III outline of the AR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here will metrics be cove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7A754B-A112-43BE-BAEE-434767A186E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3166920" y="2589120"/>
            <a:ext cx="615816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Ellipse 4"/>
          <p:cNvSpPr/>
          <p:nvPr/>
        </p:nvSpPr>
        <p:spPr>
          <a:xfrm>
            <a:off x="2851200" y="1741320"/>
            <a:ext cx="611352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Gewinkelte Verbindung 6"/>
          <p:cNvCxnSpPr>
            <a:stCxn id="944" idx="3"/>
          </p:cNvCxnSpPr>
          <p:nvPr/>
        </p:nvCxnSpPr>
        <p:spPr>
          <a:xfrm rot="10800000">
            <a:off x="8243280" y="1483560"/>
            <a:ext cx="732600" cy="413640"/>
          </a:xfrm>
          <a:prstGeom prst="bentConnector3">
            <a:avLst>
              <a:gd name="adj1" fmla="val 231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5" name="Gewinkelte Verbindung 12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107532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6" name="Geschweifte Klammer rechts 15"/>
          <p:cNvSpPr/>
          <p:nvPr/>
        </p:nvSpPr>
        <p:spPr>
          <a:xfrm>
            <a:off x="8342280" y="3284640"/>
            <a:ext cx="316080" cy="2025720"/>
          </a:xfrm>
          <a:custGeom>
            <a:avLst/>
            <a:gdLst>
              <a:gd name="textAreaLeft" fmla="*/ 0 w 316080"/>
              <a:gd name="textAreaRight" fmla="*/ 114120 w 316080"/>
              <a:gd name="textAreaTop" fmla="*/ 65520 h 2025720"/>
              <a:gd name="textAreaBottom" fmla="*/ 1960200 h 20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17"/>
                  <a:pt x="10800" y="2233"/>
                </a:cubicBezTo>
                <a:lnTo>
                  <a:pt x="10800" y="8713"/>
                </a:lnTo>
                <a:cubicBezTo>
                  <a:pt x="10800" y="9830"/>
                  <a:pt x="16200" y="10946"/>
                  <a:pt x="21600" y="10946"/>
                </a:cubicBezTo>
                <a:cubicBezTo>
                  <a:pt x="16200" y="10946"/>
                  <a:pt x="10800" y="12063"/>
                  <a:pt x="10800" y="13179"/>
                </a:cubicBezTo>
                <a:lnTo>
                  <a:pt x="10800" y="19367"/>
                </a:lnTo>
                <a:cubicBezTo>
                  <a:pt x="10800" y="204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Gewinkelte Verbindung 17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78804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8" name="Gewinkelte Verbindung 27"/>
          <p:cNvCxnSpPr/>
          <p:nvPr/>
        </p:nvCxnSpPr>
        <p:spPr>
          <a:xfrm rot="5400000">
            <a:off x="6706800" y="3805200"/>
            <a:ext cx="4260240" cy="255960"/>
          </a:xfrm>
          <a:prstGeom prst="bentConnector3">
            <a:avLst>
              <a:gd name="adj1" fmla="val 99983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9" name="Gewinkelte Verbindung 34836"/>
          <p:cNvCxnSpPr>
            <a:stCxn id="953" idx="6"/>
          </p:cNvCxnSpPr>
          <p:nvPr/>
        </p:nvCxnSpPr>
        <p:spPr>
          <a:xfrm flipV="1" rot="10800000">
            <a:off x="8711640" y="1993680"/>
            <a:ext cx="253080" cy="2304000"/>
          </a:xfrm>
          <a:prstGeom prst="bentConnector4">
            <a:avLst>
              <a:gd name="adj1" fmla="val 1282"/>
              <a:gd name="adj2" fmla="val 99906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0" name="Geschweifte Klammer rechts 23"/>
          <p:cNvSpPr/>
          <p:nvPr/>
        </p:nvSpPr>
        <p:spPr>
          <a:xfrm>
            <a:off x="8435880" y="5442120"/>
            <a:ext cx="168480" cy="1234800"/>
          </a:xfrm>
          <a:custGeom>
            <a:avLst/>
            <a:gdLst>
              <a:gd name="textAreaLeft" fmla="*/ 0 w 168480"/>
              <a:gd name="textAreaRight" fmla="*/ 60840 w 168480"/>
              <a:gd name="textAreaTop" fmla="*/ 34560 h 1234800"/>
              <a:gd name="textAreaBottom" fmla="*/ 1200240 h 12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6"/>
                  <a:pt x="10800" y="1951"/>
                </a:cubicBezTo>
                <a:lnTo>
                  <a:pt x="10800" y="8995"/>
                </a:lnTo>
                <a:cubicBezTo>
                  <a:pt x="10800" y="9971"/>
                  <a:pt x="16200" y="10946"/>
                  <a:pt x="21600" y="10946"/>
                </a:cubicBezTo>
                <a:cubicBezTo>
                  <a:pt x="16200" y="10946"/>
                  <a:pt x="10800" y="11922"/>
                  <a:pt x="10800" y="12897"/>
                </a:cubicBezTo>
                <a:lnTo>
                  <a:pt x="10800" y="19649"/>
                </a:lnTo>
                <a:cubicBezTo>
                  <a:pt x="10800" y="2062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nn</cp:lastModifiedBy>
  <dcterms:modified xsi:type="dcterms:W3CDTF">2012-04-03T06:14:12Z</dcterms:modified>
  <cp:revision>179</cp:revision>
  <dc:subject/>
  <dc:title>Slide 1</dc:title>
</cp:coreProperties>
</file>