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dt" idx="52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ftr" idx="53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 type="sldNum" idx="54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DB04-A453-4D56-B2D2-CA73B0D67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1C24-38D0-4671-B7C2-8EC236998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71400" y="4689360"/>
            <a:ext cx="53755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8F57-7F34-434D-9C79-11FA6168B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EE89-3AB9-4341-B0D0-5A33B9716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E570-C4D8-45BF-B365-918E6CD22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0D91-F400-40F3-9D3C-B86727326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607A-BCC7-43D4-A58F-CE5B3477C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4CD0-2C05-4CD8-8686-D4F411DAC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71400" y="4689360"/>
            <a:ext cx="53755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A7DD-B52F-48F6-A3E6-8CF88F7FA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71400" y="4689360"/>
            <a:ext cx="53755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C771-2E57-4687-9B89-68D184FA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AF8F-6130-413D-91AA-67B2BADD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43901-F100-4F01-8C01-F229356E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92C46-FA3B-4F44-8595-72B1EA60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20CB0-2604-4376-A5BE-A505D572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48154-C0E9-47DE-90A0-004317EC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B5803-754D-4C66-B91F-63BC3B1A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78781-AE5C-455A-BE5F-D0FF975A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C74F5-D1C6-4831-94C3-6CDBF1F6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F9A36-3DEF-4D8C-A216-885044F7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A4B64-2283-4C02-AA57-0FBD617A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8C806-089C-4EC3-AA98-015F51EB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0C8F-E998-4C3A-925B-982247BF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5F789-4FB6-457E-8233-F42BD807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24970-585E-40DD-9913-9A69419C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34F01-3A8E-4FF4-A1BB-B7F0E803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DDCA8-D29A-48C9-AC28-AB846759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B6F8D-8244-43F8-8232-DF8518DD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00098-43A5-4194-BBAC-BBA3CC6E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B33DE-5371-4AAC-84C4-CA4A8B96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7DAB2-2390-4F95-9AD2-A35719E6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B9E10-F85F-48B8-99B3-29176C4F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4DDDB-1ADD-4621-B689-CD030615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E08B-B599-4688-A156-A2C2DD55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50D07-094C-4EFF-AAE3-AF8E4951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02B1C-8556-40A5-948D-5E910B3C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F0163-E56E-4500-AF61-144BDC5A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E3633-0893-4149-ADEB-7A844182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E523E-D05A-4A77-B39D-E2AF261A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95DBA-1D43-4D2D-9CEA-1D5A2499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47E1D-D333-4568-9342-B8229BBA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E5F3C-C919-4200-8C34-9A2E167A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D0C5F-5DAA-4B46-8417-62B85E39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22B8A-035E-4B22-8C70-9C7464D4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DC25C-6275-47AF-BC9A-E6319285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1E572-4B07-4E01-B996-DAA63DAB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21598-9ABB-4E48-A192-1E722FFB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51DDA-D13F-4815-977B-877D3178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15A56-E5E5-47FD-A221-DEAEFFC3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98E7A-6802-4198-BF22-E3216E95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A1AA8-8B6F-412B-8B10-E0970C20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23D29-01EB-42C0-A643-79F24C7E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8A30E-4536-400A-B562-1C117FF4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26E10-5F34-48E4-B84B-15089801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0A83F-B302-4223-AC41-46C60866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6CE8A-36B5-4088-BBB3-8692A3B6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6A9A7-BFF1-4632-A664-BFE7A94A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A73E5-BCE5-40A7-A90B-3BF7096C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0C582-0462-43DD-8FFC-9A4AAFF6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BAD04-EF3D-4ADB-AB76-8BC3C2A4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F3A15-455F-4E4D-BCF8-0B0C1DE2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CDF45-38F0-42D8-8B96-FC782F29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63202-C32E-4BE8-9B72-76385F20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1E009-A0E8-4E2E-A2F1-EAD18BD5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4EEE5-63E0-482C-BF6B-08F06C27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B9C20-A5ED-4698-9B01-09C53404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C8611-99DD-4F3D-8F39-EEA501A4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5E135-E33C-45E4-8E3D-E35A94AB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2B6DF-15BB-4A5F-845B-F1A81B2A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D1211-B580-4F5C-922C-08EAE33C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BEE46-B5BA-4611-8F7C-652801DE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0BA71-DE60-4AA9-985E-5FFE8616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FEBB8-EED7-4D77-9714-9C3A1B09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32710-C1A6-4374-9EE2-5815D77A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BC4F9-D65D-4085-A1B8-AD540BD9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44CBD-E95F-4D3B-BD3F-7E93B344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B5DF2-7719-4B84-BC0A-27C27858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8ABA8-F8DF-4D15-B449-541A2AD7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91305-6597-4972-AC03-6F44DE84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121B6-E027-44BD-8BD2-F0EDED24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7CCC4-1E57-455A-B584-4134CB04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53EDF-64B1-4689-8842-A5800868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63455-DC1B-4C3C-B540-BF184E95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E8F35-4B64-4478-B36B-FE11155A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2B386-A6BC-4709-AA7A-EE7BF10F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42961-50D0-46CE-A083-32FBA95C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2ECE8-7415-43F0-8B3C-FB4EA410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C2410-06CB-41AE-9A22-10827612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46DCC-34F2-4BE9-BDC9-A392640A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C5D32-0B7F-4C5A-B89F-0FAA0A51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9801D-74AA-454B-B75E-7FB4AF5F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12E5D-7126-4D7C-A567-DCE3622C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F7A3A-62A0-478B-BD7C-4A578F80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9DC64-DB09-4725-860A-40C91CAC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83D42-1155-47C9-A979-DE52AA9C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049DD-5016-4B7A-B473-B40A8F7E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6B7DB-B4B6-48F7-BC80-4DAF1ED9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F4F5F9-0B90-4B7C-82C5-CFD3062E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71E844-4F74-4B08-94F8-F9D1FA3E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BB824-BBD8-4BE9-BC7C-9B006159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218B33-B6DC-43CA-B504-BAF66762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C8F15-FFAC-46E5-820C-EF87E0F1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052002-B9D6-472A-BBFF-B38EC3FC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DFA06-8209-4CB7-8B93-B29468A9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EF7B8-C721-4B02-9B57-0670A0E4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C4165-3539-4C1F-B394-EE29177D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11E67-A06F-45BB-A079-D126C310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20C6C3-F0D8-4EE4-9EE4-09CECA6B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1ECADA-7D1E-4AB8-956C-876BF449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D45D74-70A4-469D-9D0D-B77CA098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379A0E-241C-4DF8-95B2-DA20E9F5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9BF022-F2C1-4139-A0E1-BB63E2D3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9F8745-FD7C-4406-97A4-0D3460CF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610BDA-2184-43DC-A53A-532196AE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E32-871A-4A1D-8A58-BA1390D3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CEB9E9-5F18-49A2-8601-1A736E63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AD8D0B-A612-43A2-AD33-DD57039F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E8B4A4-66D7-4CC0-B5A8-B0A77294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FF1637-5B62-4D33-8A88-C8007BCB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CCCAEE-CDEA-4654-B341-34019169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5D0FD1-B14D-4D91-8161-4B23228E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0A16EC-01C2-4505-8031-DDE9CBD8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F3167F-D568-4AE1-A257-CD83EE51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74B26-E38B-4C39-A5E1-F63678BA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696B25-F7F7-46B2-8308-0B1B14CD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2C16EE-B9E5-48CF-8D48-AC61856B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C3D5E6-CAB4-4FF8-B51A-6A6BD9C0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2F9B15-F0F8-4D16-99EA-5D55EADE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1F1808-4F7E-4060-9A9D-A10AF88E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47A4C2-04D1-4752-91CF-988600B6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9E18EB-4EF4-4C15-8F1D-D40A7756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CE9FEE-08F9-455D-8800-DEE3C6D3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982F5A-F19D-4FEA-B0D7-CB0E0BEC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06E1CE-9E9D-4842-9BBC-39806669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FBE4E7-E00B-4264-ADAB-738906FA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F84411-FE51-4737-A1A0-F99FA91D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46548D-F422-4B81-A43F-4E013614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580D37-5927-4959-8D61-D2CC107B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E9361A-50EF-423A-A4A5-EAF59F13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AFEC02-12A6-4D80-9177-00809FF2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B44814-D8A7-454D-9832-A343AED8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6A2CCA-E09F-4DFD-BAA5-69813568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9CCB95-57C9-442B-8EF6-C5338394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D3967C-C823-45FF-BA34-BB5B1E68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77A4F7-44A5-4171-A1E3-E2651165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37C79E-1771-4496-8F62-7D67678F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F6B50A-9245-4440-9ABC-8834AF04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0B1A40-A672-4F0C-B958-647F819A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113DF1-B39B-4CD5-B275-2CDCC024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B9F773-B90C-438A-9E3A-397F5B69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E36998-957A-428A-9A78-E786E0BA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D74B03-D9A7-4B97-B6F0-A3EAA1FE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E8A4F1-69A3-4A00-B08D-D071F7BE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40254A-4774-4830-8129-803619B4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82CA55-7D00-43F5-9160-D5F6BE80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D198FD-287A-402F-BBDD-D7FD29D2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6314-DCD9-48A3-B42B-CD3A74A4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6979-829A-429E-B5D8-409F4691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2D83-2DEA-442C-A4A6-53247E5F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94CA-2A8D-437C-B78F-6155287A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680-0B63-4403-8323-A0E54043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73B1-0854-4484-8A1E-4A5DB072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7C8E-82D3-4ABA-913E-4A6259E3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76CE-DF0D-4B2C-B973-0D90AA11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AFEF-ECAE-4A65-8F30-2EF32448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47B4-52FD-4399-988A-BD75479A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C96A-B6B5-4E14-A985-5A1EFD85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02AA-FC3B-4D56-B460-7012BE63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72F7-4B9D-4CB6-A038-2247FF4A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2EFC-4FB8-4CB7-AB58-2A357C8F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AC5C-3E8E-45E1-BFC1-3340145F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7CF3-E5A3-4BEE-9062-F777425E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4034E-691E-4849-893B-EAB227B6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99A80-61B0-4AAD-9894-2E7FA051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45F72-AA0D-4F6A-9F99-990D721F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B06C4-4A2C-4CCB-BC74-4290243E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81B44-4A39-4A0B-9DFB-FA412AD8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BD7E2-E85C-4067-B293-FB933894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CC36D-2B59-48C8-A27F-B23B0BE0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92A6C-E8DD-4B4A-A571-F3BCE17C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3A005-78BD-41AF-9F2C-8A155E07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2D40-E873-479A-B844-27105BDC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DD967-7CBC-4E85-8AB5-FF977874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DB067-3E1F-4E34-B625-E5A8DCCB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BC37A-6F43-4FB6-9E4A-6DAF3907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625B7-1F29-4A45-9799-50405232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CA965-8F04-4AC2-AA55-AEB155C7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2CD95-34F0-4BB6-BFF6-C2E01ADE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26136-70B9-47EC-B642-7E2B3E7C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6C523-30BC-40C4-8DAF-989F549E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1ABAE-4BE9-4CA5-98D0-34CBC356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D444F-5B6A-43C8-88C9-8F07EDF5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1BE-626B-49D3-88DB-17907439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CCE38-4196-46CC-9BFE-40529AB7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E0062-B0A2-41BE-A907-B1A98164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FB201-11E7-482F-B2A0-8E14A90E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69854-07AB-40BF-944E-C5F46B3D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54DAB-8BF1-4867-8CCE-35E05F9D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13AE2-915A-428D-9A18-FE25E45E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D0FAA-992F-45AE-8E8A-3B6F036C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486E7-BA8D-4E7F-A316-3CF9DECB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BAB18-41AD-4AF6-B003-64A7D36C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0D3F5-D123-47F1-9574-58C0D8B6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90D-C1F7-43E0-8372-3A49365E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3A7D7-46C0-4D2E-BF17-6DE8C2BA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6B49F-8826-42A2-A9A6-46AEA6F2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5DEB7-B207-4CA5-BCA4-BB4F5483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1D3F8-4178-4D83-A678-95D6EA4B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A4851-5B67-49CB-A593-360CBBCE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6821B-46BE-485D-B0CB-C6800C8D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DE2A1-F3A9-4A7B-96CB-9202238C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37F3E-835E-4FFA-81EB-6B6B09E2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8EC83-CBF0-4867-B807-778DCEA4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5D841-A719-48F7-A266-0BA603FC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600B-2BF4-4A02-BDE3-75C553233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9E131-4273-4E5A-AADD-9EB5727E85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1FBD8-6D31-43C7-96C9-9F4E00889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AC1BA-0DF4-49A5-B2A2-0F2B42BE99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336EA-2A3F-4BD1-8504-506EDFCDDA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67FF7-EB56-47A6-A882-CEB3776E0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2920E-F82A-49E7-8A83-D39172DCC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B3DF5-1641-47A4-B45F-AA5DDB629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80285-11CD-41A1-837B-55F9D5AC50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C44A0-22DF-4AA2-BDE0-91A5B75ADB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D2754-58C8-48A1-A1F6-AECAD3DD60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IPCClogoWMOUNEP_WH.ai"/>
          <p:cNvPicPr/>
          <p:nvPr/>
        </p:nvPicPr>
        <p:blipFill>
          <a:blip r:embed="rId2"/>
          <a:stretch/>
        </p:blipFill>
        <p:spPr>
          <a:xfrm>
            <a:off x="4267080" y="5791320"/>
            <a:ext cx="4818240" cy="103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-22860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9120" indent="-228600">
              <a:spcBef>
                <a:spcPts val="799"/>
              </a:spcBef>
              <a:buClr>
                <a:srgbClr val="4073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IPCClogoWMOUNEP_WH.ai"/>
          <p:cNvPicPr/>
          <p:nvPr/>
        </p:nvPicPr>
        <p:blipFill>
          <a:blip r:embed="rId3"/>
          <a:stretch/>
        </p:blipFill>
        <p:spPr>
          <a:xfrm>
            <a:off x="4356000" y="5853240"/>
            <a:ext cx="481824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614EE-1981-4E75-9C6D-298BAB1517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scenery_003"/>
          <p:cNvPicPr/>
          <p:nvPr/>
        </p:nvPicPr>
        <p:blipFill>
          <a:blip r:embed="rId2"/>
          <a:stretch/>
        </p:blipFill>
        <p:spPr>
          <a:xfrm>
            <a:off x="-757080" y="-531720"/>
            <a:ext cx="11090160" cy="43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OUNEP_CL.ai"/>
          <p:cNvPicPr/>
          <p:nvPr/>
        </p:nvPicPr>
        <p:blipFill>
          <a:blip r:embed="rId3"/>
          <a:stretch/>
        </p:blipFill>
        <p:spPr>
          <a:xfrm>
            <a:off x="7432560" y="5894280"/>
            <a:ext cx="1851120" cy="9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PCCLogoWhite_CMYK_Vector.ai"/>
          <p:cNvPicPr/>
          <p:nvPr/>
        </p:nvPicPr>
        <p:blipFill>
          <a:blip r:embed="rId4"/>
          <a:stretch/>
        </p:blipFill>
        <p:spPr>
          <a:xfrm>
            <a:off x="4441680" y="210960"/>
            <a:ext cx="4378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F106-B2C6-4D43-9DB1-6468EEFDD1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IPCClogoWMOUNEP_BL.ai"/>
          <p:cNvPicPr/>
          <p:nvPr/>
        </p:nvPicPr>
        <p:blipFill>
          <a:blip r:embed="rId2"/>
          <a:stretch/>
        </p:blipFill>
        <p:spPr>
          <a:xfrm>
            <a:off x="4325760" y="5791320"/>
            <a:ext cx="4741920" cy="1015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3D9E-0C01-469F-87CB-535B284F9B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B2F9-BBC9-47F5-A9FE-451746BA8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BC963-F2BE-4C5D-94C7-511A40729E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06381-BEC3-4B62-975E-EC983BB18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0920" y="3860280"/>
            <a:ext cx="8604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HG metrics in the WGIII contribution to the AR5</a:t>
            </a:r>
            <a:br>
              <a:rPr sz="15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onn, 03 April 2012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an Minx, Steffen Brunner &amp; Ottmar Edenhof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4" descr="cc"/>
          <p:cNvPicPr/>
          <p:nvPr/>
        </p:nvPicPr>
        <p:blipFill>
          <a:blip r:embed="rId1"/>
          <a:stretch/>
        </p:blipFill>
        <p:spPr>
          <a:xfrm>
            <a:off x="34920" y="3538440"/>
            <a:ext cx="504720" cy="177840"/>
          </a:xfrm>
          <a:prstGeom prst="rect">
            <a:avLst/>
          </a:prstGeom>
          <a:ln w="0">
            <a:noFill/>
          </a:ln>
        </p:spPr>
      </p:pic>
      <p:sp>
        <p:nvSpPr>
          <p:cNvPr id="860" name="Text Box 5"/>
          <p:cNvSpPr/>
          <p:nvPr/>
        </p:nvSpPr>
        <p:spPr>
          <a:xfrm>
            <a:off x="-65880" y="365904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johnthesc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2"/>
          <p:cNvSpPr/>
          <p:nvPr/>
        </p:nvSpPr>
        <p:spPr>
          <a:xfrm>
            <a:off x="444600" y="142236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 explicit about how metrics ar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putal clarification of alternative emission metrics and their relationships – including both physical and more comprehensive economic metr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cate underlying uncertainties and value judg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ish relationship alternative emission metrics to purpose of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iative comparisons and/or assessment of numerical values for alternative metrics as appropr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0" y="41760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Assessment of metrics in context of WGIII contribution to AR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23EA1B4-C23C-457A-A993-98C07171D24B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Textfeld 2"/>
          <p:cNvSpPr/>
          <p:nvPr/>
        </p:nvSpPr>
        <p:spPr>
          <a:xfrm>
            <a:off x="1567440" y="3213000"/>
            <a:ext cx="599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2"/>
          <p:cNvSpPr/>
          <p:nvPr/>
        </p:nvSpPr>
        <p:spPr>
          <a:xfrm>
            <a:off x="449280" y="142236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CC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rehensive and scientifically sound review of the relevant literatur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ntification of disparate views for which there is significant scientific or technical support;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licy-neutral presentation of the scientific content in a manner relevant to policyma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0" y="41760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7DA424C-FA91-44E3-A658-C12034BADD65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2"/>
          <p:cNvSpPr/>
          <p:nvPr/>
        </p:nvSpPr>
        <p:spPr>
          <a:xfrm>
            <a:off x="449280" y="134136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Challenges for WGIII assessment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scientific resolution of value dis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ossible to distinguish facts and values nea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gh potentially fundamental uncertainties associated with long-term policy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mplications for WGIII assessm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munication of uncertainties both in quantitative and qualitative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nsparency of contested value-laden assumptions and implicit value jud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3"/>
          <p:cNvSpPr/>
          <p:nvPr/>
        </p:nvSpPr>
        <p:spPr>
          <a:xfrm>
            <a:off x="0" y="56196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75168F3-A287-4F82-A19A-09C87AB29D1E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Abgerundetes Rechteck 2"/>
          <p:cNvSpPr/>
          <p:nvPr/>
        </p:nvSpPr>
        <p:spPr>
          <a:xfrm>
            <a:off x="1619280" y="1989000"/>
            <a:ext cx="6265800" cy="3230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CC and other scientific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0" y="34596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Division of labour at the science-policy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A39F6A4-BBDD-4A7B-B1CB-800AB015C0DE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Bild1"/>
          <p:cNvPicPr/>
          <p:nvPr/>
        </p:nvPicPr>
        <p:blipFill>
          <a:blip r:embed="rId1"/>
          <a:stretch/>
        </p:blipFill>
        <p:spPr>
          <a:xfrm>
            <a:off x="1116000" y="1557360"/>
            <a:ext cx="6594480" cy="2913120"/>
          </a:xfrm>
          <a:prstGeom prst="rect">
            <a:avLst/>
          </a:prstGeom>
          <a:ln w="0">
            <a:noFill/>
          </a:ln>
        </p:spPr>
      </p:pic>
      <p:sp>
        <p:nvSpPr>
          <p:cNvPr id="871" name="Textfeld 1"/>
          <p:cNvSpPr/>
          <p:nvPr/>
        </p:nvSpPr>
        <p:spPr>
          <a:xfrm>
            <a:off x="2137320" y="5003640"/>
            <a:ext cx="435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ed from: Edenhofer and Kowarsch,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3"/>
          <p:cNvSpPr/>
          <p:nvPr/>
        </p:nvSpPr>
        <p:spPr>
          <a:xfrm>
            <a:off x="0" y="34596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The WGIII Assessment: Exploring the Solution Space – a mapping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7F6ECAD-8A1A-4B8E-9733-9829C92B3B36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5" descr=""/>
          <p:cNvPicPr/>
          <p:nvPr/>
        </p:nvPicPr>
        <p:blipFill>
          <a:blip r:embed="rId1"/>
          <a:stretch/>
        </p:blipFill>
        <p:spPr>
          <a:xfrm>
            <a:off x="971640" y="1295280"/>
            <a:ext cx="7200720" cy="5407200"/>
          </a:xfrm>
          <a:prstGeom prst="rect">
            <a:avLst/>
          </a:prstGeom>
          <a:ln w="0">
            <a:noFill/>
          </a:ln>
        </p:spPr>
      </p:pic>
      <p:sp>
        <p:nvSpPr>
          <p:cNvPr id="875" name="Freeform 10"/>
          <p:cNvSpPr/>
          <p:nvPr/>
        </p:nvSpPr>
        <p:spPr>
          <a:xfrm>
            <a:off x="2610000" y="3024360"/>
            <a:ext cx="866520" cy="2892240"/>
          </a:xfrm>
          <a:custGeom>
            <a:avLst/>
            <a:gdLst/>
            <a:ahLst/>
            <a:rect l="l" t="t" r="r" b="b"/>
            <a:pathLst>
              <a:path w="546" h="1822">
                <a:moveTo>
                  <a:pt x="392" y="1822"/>
                </a:moveTo>
                <a:cubicBezTo>
                  <a:pt x="417" y="1750"/>
                  <a:pt x="403" y="1666"/>
                  <a:pt x="365" y="1601"/>
                </a:cubicBezTo>
                <a:cubicBezTo>
                  <a:pt x="347" y="1571"/>
                  <a:pt x="318" y="1549"/>
                  <a:pt x="298" y="1520"/>
                </a:cubicBezTo>
                <a:cubicBezTo>
                  <a:pt x="289" y="1490"/>
                  <a:pt x="268" y="1469"/>
                  <a:pt x="258" y="1440"/>
                </a:cubicBezTo>
                <a:cubicBezTo>
                  <a:pt x="263" y="1304"/>
                  <a:pt x="252" y="1274"/>
                  <a:pt x="285" y="1179"/>
                </a:cubicBezTo>
                <a:cubicBezTo>
                  <a:pt x="283" y="1157"/>
                  <a:pt x="283" y="1134"/>
                  <a:pt x="278" y="1112"/>
                </a:cubicBezTo>
                <a:cubicBezTo>
                  <a:pt x="272" y="1088"/>
                  <a:pt x="218" y="1038"/>
                  <a:pt x="198" y="1025"/>
                </a:cubicBezTo>
                <a:cubicBezTo>
                  <a:pt x="188" y="998"/>
                  <a:pt x="180" y="995"/>
                  <a:pt x="158" y="978"/>
                </a:cubicBezTo>
                <a:cubicBezTo>
                  <a:pt x="141" y="965"/>
                  <a:pt x="133" y="946"/>
                  <a:pt x="117" y="931"/>
                </a:cubicBezTo>
                <a:cubicBezTo>
                  <a:pt x="77" y="849"/>
                  <a:pt x="131" y="948"/>
                  <a:pt x="84" y="891"/>
                </a:cubicBezTo>
                <a:cubicBezTo>
                  <a:pt x="73" y="877"/>
                  <a:pt x="67" y="859"/>
                  <a:pt x="57" y="844"/>
                </a:cubicBezTo>
                <a:cubicBezTo>
                  <a:pt x="50" y="820"/>
                  <a:pt x="34" y="813"/>
                  <a:pt x="24" y="790"/>
                </a:cubicBezTo>
                <a:cubicBezTo>
                  <a:pt x="18" y="777"/>
                  <a:pt x="10" y="750"/>
                  <a:pt x="10" y="750"/>
                </a:cubicBezTo>
                <a:cubicBezTo>
                  <a:pt x="12" y="723"/>
                  <a:pt x="0" y="609"/>
                  <a:pt x="51" y="583"/>
                </a:cubicBezTo>
                <a:cubicBezTo>
                  <a:pt x="63" y="577"/>
                  <a:pt x="95" y="568"/>
                  <a:pt x="111" y="563"/>
                </a:cubicBezTo>
                <a:cubicBezTo>
                  <a:pt x="177" y="517"/>
                  <a:pt x="229" y="509"/>
                  <a:pt x="305" y="489"/>
                </a:cubicBezTo>
                <a:cubicBezTo>
                  <a:pt x="337" y="468"/>
                  <a:pt x="317" y="479"/>
                  <a:pt x="365" y="462"/>
                </a:cubicBezTo>
                <a:cubicBezTo>
                  <a:pt x="391" y="453"/>
                  <a:pt x="393" y="430"/>
                  <a:pt x="412" y="415"/>
                </a:cubicBezTo>
                <a:cubicBezTo>
                  <a:pt x="429" y="401"/>
                  <a:pt x="483" y="397"/>
                  <a:pt x="499" y="395"/>
                </a:cubicBezTo>
                <a:cubicBezTo>
                  <a:pt x="525" y="386"/>
                  <a:pt x="531" y="378"/>
                  <a:pt x="546" y="355"/>
                </a:cubicBezTo>
                <a:cubicBezTo>
                  <a:pt x="541" y="314"/>
                  <a:pt x="546" y="288"/>
                  <a:pt x="519" y="261"/>
                </a:cubicBezTo>
                <a:cubicBezTo>
                  <a:pt x="512" y="238"/>
                  <a:pt x="502" y="231"/>
                  <a:pt x="486" y="214"/>
                </a:cubicBezTo>
                <a:cubicBezTo>
                  <a:pt x="483" y="169"/>
                  <a:pt x="497" y="117"/>
                  <a:pt x="472" y="80"/>
                </a:cubicBezTo>
                <a:cubicBezTo>
                  <a:pt x="463" y="66"/>
                  <a:pt x="412" y="16"/>
                  <a:pt x="412" y="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2"/>
          <p:cNvSpPr/>
          <p:nvPr/>
        </p:nvSpPr>
        <p:spPr>
          <a:xfrm>
            <a:off x="1660680" y="3024360"/>
            <a:ext cx="1625400" cy="2892240"/>
          </a:xfrm>
          <a:custGeom>
            <a:avLst/>
            <a:gdLst/>
            <a:ahLst/>
            <a:rect l="l" t="t" r="r" b="b"/>
            <a:pathLst>
              <a:path w="1024" h="1822">
                <a:moveTo>
                  <a:pt x="977" y="1822"/>
                </a:moveTo>
                <a:cubicBezTo>
                  <a:pt x="970" y="1773"/>
                  <a:pt x="970" y="1754"/>
                  <a:pt x="930" y="1728"/>
                </a:cubicBezTo>
                <a:cubicBezTo>
                  <a:pt x="919" y="1697"/>
                  <a:pt x="908" y="1689"/>
                  <a:pt x="876" y="1681"/>
                </a:cubicBezTo>
                <a:cubicBezTo>
                  <a:pt x="861" y="1658"/>
                  <a:pt x="848" y="1659"/>
                  <a:pt x="829" y="1641"/>
                </a:cubicBezTo>
                <a:cubicBezTo>
                  <a:pt x="819" y="1608"/>
                  <a:pt x="830" y="1631"/>
                  <a:pt x="803" y="1607"/>
                </a:cubicBezTo>
                <a:cubicBezTo>
                  <a:pt x="791" y="1597"/>
                  <a:pt x="769" y="1574"/>
                  <a:pt x="769" y="1574"/>
                </a:cubicBezTo>
                <a:cubicBezTo>
                  <a:pt x="752" y="1527"/>
                  <a:pt x="716" y="1489"/>
                  <a:pt x="689" y="1447"/>
                </a:cubicBezTo>
                <a:cubicBezTo>
                  <a:pt x="681" y="1435"/>
                  <a:pt x="685" y="1417"/>
                  <a:pt x="675" y="1407"/>
                </a:cubicBezTo>
                <a:cubicBezTo>
                  <a:pt x="671" y="1402"/>
                  <a:pt x="666" y="1398"/>
                  <a:pt x="662" y="1393"/>
                </a:cubicBezTo>
                <a:cubicBezTo>
                  <a:pt x="641" y="1332"/>
                  <a:pt x="577" y="1286"/>
                  <a:pt x="528" y="1246"/>
                </a:cubicBezTo>
                <a:cubicBezTo>
                  <a:pt x="504" y="1226"/>
                  <a:pt x="483" y="1201"/>
                  <a:pt x="461" y="1179"/>
                </a:cubicBezTo>
                <a:cubicBezTo>
                  <a:pt x="447" y="1165"/>
                  <a:pt x="406" y="1138"/>
                  <a:pt x="387" y="1125"/>
                </a:cubicBezTo>
                <a:cubicBezTo>
                  <a:pt x="361" y="1085"/>
                  <a:pt x="321" y="1059"/>
                  <a:pt x="280" y="1038"/>
                </a:cubicBezTo>
                <a:cubicBezTo>
                  <a:pt x="273" y="1034"/>
                  <a:pt x="266" y="1030"/>
                  <a:pt x="260" y="1025"/>
                </a:cubicBezTo>
                <a:cubicBezTo>
                  <a:pt x="255" y="1021"/>
                  <a:pt x="252" y="1014"/>
                  <a:pt x="247" y="1011"/>
                </a:cubicBezTo>
                <a:cubicBezTo>
                  <a:pt x="235" y="1004"/>
                  <a:pt x="219" y="1004"/>
                  <a:pt x="206" y="998"/>
                </a:cubicBezTo>
                <a:cubicBezTo>
                  <a:pt x="140" y="966"/>
                  <a:pt x="224" y="1003"/>
                  <a:pt x="173" y="971"/>
                </a:cubicBezTo>
                <a:cubicBezTo>
                  <a:pt x="169" y="968"/>
                  <a:pt x="137" y="959"/>
                  <a:pt x="133" y="958"/>
                </a:cubicBezTo>
                <a:cubicBezTo>
                  <a:pt x="131" y="927"/>
                  <a:pt x="139" y="892"/>
                  <a:pt x="126" y="864"/>
                </a:cubicBezTo>
                <a:cubicBezTo>
                  <a:pt x="120" y="852"/>
                  <a:pt x="96" y="867"/>
                  <a:pt x="86" y="857"/>
                </a:cubicBezTo>
                <a:cubicBezTo>
                  <a:pt x="81" y="852"/>
                  <a:pt x="107" y="843"/>
                  <a:pt x="126" y="837"/>
                </a:cubicBezTo>
                <a:cubicBezTo>
                  <a:pt x="117" y="833"/>
                  <a:pt x="109" y="826"/>
                  <a:pt x="99" y="824"/>
                </a:cubicBezTo>
                <a:cubicBezTo>
                  <a:pt x="82" y="820"/>
                  <a:pt x="61" y="827"/>
                  <a:pt x="46" y="817"/>
                </a:cubicBezTo>
                <a:cubicBezTo>
                  <a:pt x="41" y="814"/>
                  <a:pt x="83" y="773"/>
                  <a:pt x="86" y="770"/>
                </a:cubicBezTo>
                <a:cubicBezTo>
                  <a:pt x="79" y="766"/>
                  <a:pt x="74" y="759"/>
                  <a:pt x="66" y="757"/>
                </a:cubicBezTo>
                <a:cubicBezTo>
                  <a:pt x="46" y="752"/>
                  <a:pt x="24" y="759"/>
                  <a:pt x="6" y="750"/>
                </a:cubicBezTo>
                <a:cubicBezTo>
                  <a:pt x="0" y="747"/>
                  <a:pt x="10" y="737"/>
                  <a:pt x="12" y="730"/>
                </a:cubicBezTo>
                <a:cubicBezTo>
                  <a:pt x="14" y="723"/>
                  <a:pt x="16" y="716"/>
                  <a:pt x="19" y="710"/>
                </a:cubicBezTo>
                <a:cubicBezTo>
                  <a:pt x="39" y="670"/>
                  <a:pt x="60" y="657"/>
                  <a:pt x="99" y="643"/>
                </a:cubicBezTo>
                <a:cubicBezTo>
                  <a:pt x="126" y="618"/>
                  <a:pt x="143" y="590"/>
                  <a:pt x="173" y="569"/>
                </a:cubicBezTo>
                <a:cubicBezTo>
                  <a:pt x="219" y="498"/>
                  <a:pt x="311" y="489"/>
                  <a:pt x="387" y="482"/>
                </a:cubicBezTo>
                <a:cubicBezTo>
                  <a:pt x="400" y="446"/>
                  <a:pt x="417" y="430"/>
                  <a:pt x="374" y="415"/>
                </a:cubicBezTo>
                <a:cubicBezTo>
                  <a:pt x="364" y="386"/>
                  <a:pt x="348" y="370"/>
                  <a:pt x="327" y="348"/>
                </a:cubicBezTo>
                <a:cubicBezTo>
                  <a:pt x="325" y="341"/>
                  <a:pt x="324" y="333"/>
                  <a:pt x="320" y="328"/>
                </a:cubicBezTo>
                <a:cubicBezTo>
                  <a:pt x="315" y="322"/>
                  <a:pt x="302" y="323"/>
                  <a:pt x="300" y="315"/>
                </a:cubicBezTo>
                <a:cubicBezTo>
                  <a:pt x="297" y="300"/>
                  <a:pt x="326" y="299"/>
                  <a:pt x="347" y="295"/>
                </a:cubicBezTo>
                <a:cubicBezTo>
                  <a:pt x="419" y="223"/>
                  <a:pt x="480" y="233"/>
                  <a:pt x="582" y="228"/>
                </a:cubicBezTo>
                <a:cubicBezTo>
                  <a:pt x="626" y="212"/>
                  <a:pt x="652" y="206"/>
                  <a:pt x="702" y="201"/>
                </a:cubicBezTo>
                <a:cubicBezTo>
                  <a:pt x="734" y="180"/>
                  <a:pt x="766" y="165"/>
                  <a:pt x="796" y="141"/>
                </a:cubicBezTo>
                <a:cubicBezTo>
                  <a:pt x="809" y="131"/>
                  <a:pt x="828" y="105"/>
                  <a:pt x="843" y="100"/>
                </a:cubicBezTo>
                <a:cubicBezTo>
                  <a:pt x="858" y="95"/>
                  <a:pt x="874" y="96"/>
                  <a:pt x="890" y="94"/>
                </a:cubicBezTo>
                <a:cubicBezTo>
                  <a:pt x="920" y="84"/>
                  <a:pt x="924" y="56"/>
                  <a:pt x="950" y="40"/>
                </a:cubicBezTo>
                <a:cubicBezTo>
                  <a:pt x="968" y="29"/>
                  <a:pt x="997" y="27"/>
                  <a:pt x="1017" y="20"/>
                </a:cubicBezTo>
                <a:cubicBezTo>
                  <a:pt x="1019" y="13"/>
                  <a:pt x="1024" y="0"/>
                  <a:pt x="1024" y="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6"/>
          <p:cNvSpPr/>
          <p:nvPr/>
        </p:nvSpPr>
        <p:spPr>
          <a:xfrm>
            <a:off x="3132000" y="3067200"/>
            <a:ext cx="430200" cy="2817720"/>
          </a:xfrm>
          <a:custGeom>
            <a:avLst/>
            <a:gdLst/>
            <a:ahLst/>
            <a:rect l="l" t="t" r="r" b="b"/>
            <a:pathLst>
              <a:path w="271" h="1775">
                <a:moveTo>
                  <a:pt x="63" y="1775"/>
                </a:moveTo>
                <a:cubicBezTo>
                  <a:pt x="78" y="1759"/>
                  <a:pt x="91" y="1747"/>
                  <a:pt x="110" y="1735"/>
                </a:cubicBezTo>
                <a:cubicBezTo>
                  <a:pt x="118" y="1710"/>
                  <a:pt x="125" y="1687"/>
                  <a:pt x="130" y="1661"/>
                </a:cubicBezTo>
                <a:cubicBezTo>
                  <a:pt x="128" y="1621"/>
                  <a:pt x="155" y="1495"/>
                  <a:pt x="103" y="1447"/>
                </a:cubicBezTo>
                <a:cubicBezTo>
                  <a:pt x="88" y="1394"/>
                  <a:pt x="109" y="1454"/>
                  <a:pt x="83" y="1413"/>
                </a:cubicBezTo>
                <a:cubicBezTo>
                  <a:pt x="67" y="1388"/>
                  <a:pt x="71" y="1362"/>
                  <a:pt x="50" y="1339"/>
                </a:cubicBezTo>
                <a:cubicBezTo>
                  <a:pt x="34" y="1292"/>
                  <a:pt x="40" y="1313"/>
                  <a:pt x="30" y="1279"/>
                </a:cubicBezTo>
                <a:cubicBezTo>
                  <a:pt x="32" y="1221"/>
                  <a:pt x="0" y="1063"/>
                  <a:pt x="90" y="1031"/>
                </a:cubicBezTo>
                <a:cubicBezTo>
                  <a:pt x="100" y="1003"/>
                  <a:pt x="116" y="994"/>
                  <a:pt x="123" y="964"/>
                </a:cubicBezTo>
                <a:cubicBezTo>
                  <a:pt x="126" y="932"/>
                  <a:pt x="129" y="870"/>
                  <a:pt x="143" y="837"/>
                </a:cubicBezTo>
                <a:cubicBezTo>
                  <a:pt x="149" y="822"/>
                  <a:pt x="165" y="823"/>
                  <a:pt x="177" y="817"/>
                </a:cubicBezTo>
                <a:cubicBezTo>
                  <a:pt x="206" y="802"/>
                  <a:pt x="227" y="772"/>
                  <a:pt x="251" y="750"/>
                </a:cubicBezTo>
                <a:cubicBezTo>
                  <a:pt x="254" y="594"/>
                  <a:pt x="271" y="352"/>
                  <a:pt x="257" y="187"/>
                </a:cubicBezTo>
                <a:cubicBezTo>
                  <a:pt x="256" y="171"/>
                  <a:pt x="235" y="161"/>
                  <a:pt x="224" y="154"/>
                </a:cubicBezTo>
                <a:cubicBezTo>
                  <a:pt x="195" y="113"/>
                  <a:pt x="173" y="69"/>
                  <a:pt x="137" y="33"/>
                </a:cubicBezTo>
                <a:cubicBezTo>
                  <a:pt x="127" y="23"/>
                  <a:pt x="103" y="14"/>
                  <a:pt x="103" y="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7"/>
          <p:cNvSpPr/>
          <p:nvPr/>
        </p:nvSpPr>
        <p:spPr>
          <a:xfrm rot="16200000">
            <a:off x="-2123280" y="3793680"/>
            <a:ext cx="583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  <a:ea typeface="Lucida Sans Unicode"/>
              </a:rPr>
              <a:t>http://</a:t>
            </a:r>
            <a:r>
              <a:rPr b="0" lang="en-US" sz="800" spc="-1" strike="noStrike">
                <a:solidFill>
                  <a:srgbClr val="7f7f7f"/>
                </a:solidFill>
                <a:latin typeface="Arial"/>
                <a:ea typeface="Lucida Sans Unicode"/>
              </a:rPr>
              <a:t>www.trail.ch/gallery/albums/trail/graubunden/fuorcla-surlej/corvatsch-fuorcla-surlej-val-roseg-09_09_2006-img_2598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22"/>
          <p:cNvSpPr/>
          <p:nvPr/>
        </p:nvSpPr>
        <p:spPr>
          <a:xfrm>
            <a:off x="3132000" y="2016000"/>
            <a:ext cx="1224000" cy="50508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9"/>
          <p:cNvSpPr/>
          <p:nvPr/>
        </p:nvSpPr>
        <p:spPr>
          <a:xfrm flipH="1" flipV="1">
            <a:off x="3132000" y="2015640"/>
            <a:ext cx="144720" cy="10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23"/>
          <p:cNvSpPr/>
          <p:nvPr/>
        </p:nvSpPr>
        <p:spPr>
          <a:xfrm>
            <a:off x="3059280" y="1944720"/>
            <a:ext cx="144360" cy="71280"/>
          </a:xfrm>
          <a:prstGeom prst="ellipse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27"/>
          <p:cNvSpPr/>
          <p:nvPr/>
        </p:nvSpPr>
        <p:spPr>
          <a:xfrm flipH="1" flipV="1">
            <a:off x="3132000" y="4896000"/>
            <a:ext cx="14472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28"/>
          <p:cNvSpPr/>
          <p:nvPr/>
        </p:nvSpPr>
        <p:spPr>
          <a:xfrm>
            <a:off x="3059280" y="4824360"/>
            <a:ext cx="1443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31"/>
          <p:cNvSpPr/>
          <p:nvPr/>
        </p:nvSpPr>
        <p:spPr>
          <a:xfrm rot="21363000">
            <a:off x="3156120" y="20779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Goa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9"/>
          <p:cNvSpPr/>
          <p:nvPr/>
        </p:nvSpPr>
        <p:spPr>
          <a:xfrm flipH="1" flipV="1">
            <a:off x="5630760" y="2092320"/>
            <a:ext cx="14472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23"/>
          <p:cNvSpPr/>
          <p:nvPr/>
        </p:nvSpPr>
        <p:spPr>
          <a:xfrm>
            <a:off x="5557680" y="2021040"/>
            <a:ext cx="144720" cy="71280"/>
          </a:xfrm>
          <a:prstGeom prst="ellipse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22"/>
          <p:cNvSpPr/>
          <p:nvPr/>
        </p:nvSpPr>
        <p:spPr>
          <a:xfrm>
            <a:off x="5651640" y="2158920"/>
            <a:ext cx="1224000" cy="50508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ffcc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1"/>
          <p:cNvSpPr/>
          <p:nvPr/>
        </p:nvSpPr>
        <p:spPr>
          <a:xfrm rot="21363000">
            <a:off x="5664600" y="22287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Goa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22"/>
          <p:cNvSpPr/>
          <p:nvPr/>
        </p:nvSpPr>
        <p:spPr>
          <a:xfrm>
            <a:off x="3995640" y="2448000"/>
            <a:ext cx="1224000" cy="50472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23"/>
          <p:cNvSpPr/>
          <p:nvPr/>
        </p:nvSpPr>
        <p:spPr>
          <a:xfrm>
            <a:off x="3924360" y="2376360"/>
            <a:ext cx="144360" cy="71640"/>
          </a:xfrm>
          <a:prstGeom prst="ellipse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1"/>
          <p:cNvSpPr/>
          <p:nvPr/>
        </p:nvSpPr>
        <p:spPr>
          <a:xfrm rot="21363000">
            <a:off x="4019760" y="25099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Goa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19"/>
          <p:cNvSpPr/>
          <p:nvPr/>
        </p:nvSpPr>
        <p:spPr>
          <a:xfrm flipH="1" flipV="1">
            <a:off x="3995640" y="2448000"/>
            <a:ext cx="12240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39"/>
          <p:cNvSpPr/>
          <p:nvPr/>
        </p:nvSpPr>
        <p:spPr>
          <a:xfrm>
            <a:off x="3537000" y="3168720"/>
            <a:ext cx="565200" cy="1112760"/>
          </a:xfrm>
          <a:custGeom>
            <a:avLst/>
            <a:gdLst/>
            <a:ahLst/>
            <a:rect l="l" t="t" r="r" b="b"/>
            <a:pathLst>
              <a:path w="356" h="701">
                <a:moveTo>
                  <a:pt x="0" y="692"/>
                </a:moveTo>
                <a:cubicBezTo>
                  <a:pt x="56" y="690"/>
                  <a:pt x="82" y="701"/>
                  <a:pt x="120" y="676"/>
                </a:cubicBezTo>
                <a:cubicBezTo>
                  <a:pt x="147" y="636"/>
                  <a:pt x="132" y="609"/>
                  <a:pt x="136" y="548"/>
                </a:cubicBezTo>
                <a:cubicBezTo>
                  <a:pt x="139" y="498"/>
                  <a:pt x="180" y="450"/>
                  <a:pt x="220" y="424"/>
                </a:cubicBezTo>
                <a:cubicBezTo>
                  <a:pt x="233" y="405"/>
                  <a:pt x="238" y="392"/>
                  <a:pt x="256" y="380"/>
                </a:cubicBezTo>
                <a:cubicBezTo>
                  <a:pt x="263" y="360"/>
                  <a:pt x="269" y="340"/>
                  <a:pt x="276" y="320"/>
                </a:cubicBezTo>
                <a:cubicBezTo>
                  <a:pt x="279" y="312"/>
                  <a:pt x="281" y="304"/>
                  <a:pt x="284" y="296"/>
                </a:cubicBezTo>
                <a:cubicBezTo>
                  <a:pt x="285" y="292"/>
                  <a:pt x="288" y="284"/>
                  <a:pt x="288" y="284"/>
                </a:cubicBezTo>
                <a:cubicBezTo>
                  <a:pt x="287" y="253"/>
                  <a:pt x="256" y="79"/>
                  <a:pt x="308" y="44"/>
                </a:cubicBezTo>
                <a:cubicBezTo>
                  <a:pt x="315" y="34"/>
                  <a:pt x="327" y="19"/>
                  <a:pt x="336" y="12"/>
                </a:cubicBezTo>
                <a:cubicBezTo>
                  <a:pt x="339" y="9"/>
                  <a:pt x="344" y="10"/>
                  <a:pt x="348" y="8"/>
                </a:cubicBezTo>
                <a:cubicBezTo>
                  <a:pt x="351" y="6"/>
                  <a:pt x="353" y="3"/>
                  <a:pt x="356" y="0"/>
                </a:cubicBez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41"/>
          <p:cNvSpPr/>
          <p:nvPr/>
        </p:nvSpPr>
        <p:spPr>
          <a:xfrm>
            <a:off x="3282840" y="3160800"/>
            <a:ext cx="1114560" cy="2725560"/>
          </a:xfrm>
          <a:custGeom>
            <a:avLst/>
            <a:gdLst/>
            <a:ahLst/>
            <a:rect l="l" t="t" r="r" b="b"/>
            <a:pathLst>
              <a:path w="702" h="1717">
                <a:moveTo>
                  <a:pt x="0" y="1717"/>
                </a:moveTo>
                <a:cubicBezTo>
                  <a:pt x="19" y="1704"/>
                  <a:pt x="38" y="1688"/>
                  <a:pt x="52" y="1669"/>
                </a:cubicBezTo>
                <a:cubicBezTo>
                  <a:pt x="62" y="1639"/>
                  <a:pt x="47" y="1675"/>
                  <a:pt x="68" y="1649"/>
                </a:cubicBezTo>
                <a:cubicBezTo>
                  <a:pt x="74" y="1642"/>
                  <a:pt x="75" y="1632"/>
                  <a:pt x="80" y="1625"/>
                </a:cubicBezTo>
                <a:cubicBezTo>
                  <a:pt x="81" y="1597"/>
                  <a:pt x="63" y="1439"/>
                  <a:pt x="120" y="1401"/>
                </a:cubicBezTo>
                <a:cubicBezTo>
                  <a:pt x="124" y="1380"/>
                  <a:pt x="126" y="1373"/>
                  <a:pt x="144" y="1361"/>
                </a:cubicBezTo>
                <a:cubicBezTo>
                  <a:pt x="151" y="1341"/>
                  <a:pt x="162" y="1325"/>
                  <a:pt x="180" y="1313"/>
                </a:cubicBezTo>
                <a:cubicBezTo>
                  <a:pt x="191" y="1296"/>
                  <a:pt x="204" y="1287"/>
                  <a:pt x="216" y="1269"/>
                </a:cubicBezTo>
                <a:cubicBezTo>
                  <a:pt x="237" y="1237"/>
                  <a:pt x="227" y="1230"/>
                  <a:pt x="264" y="1205"/>
                </a:cubicBezTo>
                <a:cubicBezTo>
                  <a:pt x="280" y="1194"/>
                  <a:pt x="295" y="1188"/>
                  <a:pt x="312" y="1177"/>
                </a:cubicBezTo>
                <a:cubicBezTo>
                  <a:pt x="319" y="1172"/>
                  <a:pt x="336" y="1169"/>
                  <a:pt x="336" y="1169"/>
                </a:cubicBezTo>
                <a:cubicBezTo>
                  <a:pt x="353" y="1152"/>
                  <a:pt x="359" y="1143"/>
                  <a:pt x="380" y="1129"/>
                </a:cubicBezTo>
                <a:cubicBezTo>
                  <a:pt x="384" y="1126"/>
                  <a:pt x="392" y="1121"/>
                  <a:pt x="392" y="1121"/>
                </a:cubicBezTo>
                <a:cubicBezTo>
                  <a:pt x="401" y="1107"/>
                  <a:pt x="410" y="1098"/>
                  <a:pt x="424" y="1089"/>
                </a:cubicBezTo>
                <a:cubicBezTo>
                  <a:pt x="432" y="1066"/>
                  <a:pt x="423" y="1087"/>
                  <a:pt x="440" y="1065"/>
                </a:cubicBezTo>
                <a:cubicBezTo>
                  <a:pt x="446" y="1057"/>
                  <a:pt x="456" y="1041"/>
                  <a:pt x="456" y="1041"/>
                </a:cubicBezTo>
                <a:cubicBezTo>
                  <a:pt x="453" y="972"/>
                  <a:pt x="453" y="926"/>
                  <a:pt x="404" y="877"/>
                </a:cubicBezTo>
                <a:cubicBezTo>
                  <a:pt x="392" y="840"/>
                  <a:pt x="391" y="804"/>
                  <a:pt x="404" y="765"/>
                </a:cubicBezTo>
                <a:cubicBezTo>
                  <a:pt x="406" y="723"/>
                  <a:pt x="397" y="664"/>
                  <a:pt x="432" y="629"/>
                </a:cubicBezTo>
                <a:cubicBezTo>
                  <a:pt x="445" y="616"/>
                  <a:pt x="453" y="604"/>
                  <a:pt x="468" y="593"/>
                </a:cubicBezTo>
                <a:cubicBezTo>
                  <a:pt x="476" y="587"/>
                  <a:pt x="492" y="577"/>
                  <a:pt x="492" y="577"/>
                </a:cubicBezTo>
                <a:cubicBezTo>
                  <a:pt x="526" y="526"/>
                  <a:pt x="504" y="494"/>
                  <a:pt x="488" y="445"/>
                </a:cubicBezTo>
                <a:cubicBezTo>
                  <a:pt x="502" y="404"/>
                  <a:pt x="509" y="375"/>
                  <a:pt x="548" y="349"/>
                </a:cubicBezTo>
                <a:cubicBezTo>
                  <a:pt x="563" y="327"/>
                  <a:pt x="551" y="347"/>
                  <a:pt x="560" y="313"/>
                </a:cubicBezTo>
                <a:cubicBezTo>
                  <a:pt x="576" y="248"/>
                  <a:pt x="596" y="272"/>
                  <a:pt x="680" y="269"/>
                </a:cubicBezTo>
                <a:cubicBezTo>
                  <a:pt x="702" y="255"/>
                  <a:pt x="693" y="228"/>
                  <a:pt x="672" y="221"/>
                </a:cubicBezTo>
                <a:cubicBezTo>
                  <a:pt x="671" y="184"/>
                  <a:pt x="673" y="146"/>
                  <a:pt x="668" y="109"/>
                </a:cubicBezTo>
                <a:cubicBezTo>
                  <a:pt x="667" y="104"/>
                  <a:pt x="623" y="77"/>
                  <a:pt x="616" y="73"/>
                </a:cubicBezTo>
                <a:cubicBezTo>
                  <a:pt x="608" y="68"/>
                  <a:pt x="592" y="57"/>
                  <a:pt x="592" y="57"/>
                </a:cubicBezTo>
                <a:cubicBezTo>
                  <a:pt x="585" y="46"/>
                  <a:pt x="564" y="29"/>
                  <a:pt x="552" y="25"/>
                </a:cubicBezTo>
                <a:cubicBezTo>
                  <a:pt x="535" y="0"/>
                  <a:pt x="546" y="1"/>
                  <a:pt x="532" y="1"/>
                </a:cubicBez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42"/>
          <p:cNvSpPr/>
          <p:nvPr/>
        </p:nvSpPr>
        <p:spPr>
          <a:xfrm>
            <a:off x="3295800" y="3124080"/>
            <a:ext cx="2603520" cy="2770200"/>
          </a:xfrm>
          <a:custGeom>
            <a:avLst/>
            <a:gdLst/>
            <a:ahLst/>
            <a:rect l="l" t="t" r="r" b="b"/>
            <a:pathLst>
              <a:path w="1640" h="1745">
                <a:moveTo>
                  <a:pt x="0" y="1744"/>
                </a:moveTo>
                <a:cubicBezTo>
                  <a:pt x="28" y="1743"/>
                  <a:pt x="56" y="1745"/>
                  <a:pt x="84" y="1740"/>
                </a:cubicBezTo>
                <a:cubicBezTo>
                  <a:pt x="102" y="1737"/>
                  <a:pt x="132" y="1704"/>
                  <a:pt x="144" y="1692"/>
                </a:cubicBezTo>
                <a:cubicBezTo>
                  <a:pt x="176" y="1660"/>
                  <a:pt x="198" y="1613"/>
                  <a:pt x="236" y="1588"/>
                </a:cubicBezTo>
                <a:cubicBezTo>
                  <a:pt x="250" y="1567"/>
                  <a:pt x="292" y="1525"/>
                  <a:pt x="312" y="1512"/>
                </a:cubicBezTo>
                <a:cubicBezTo>
                  <a:pt x="355" y="1483"/>
                  <a:pt x="290" y="1528"/>
                  <a:pt x="336" y="1492"/>
                </a:cubicBezTo>
                <a:cubicBezTo>
                  <a:pt x="344" y="1486"/>
                  <a:pt x="360" y="1476"/>
                  <a:pt x="360" y="1476"/>
                </a:cubicBezTo>
                <a:cubicBezTo>
                  <a:pt x="377" y="1450"/>
                  <a:pt x="394" y="1442"/>
                  <a:pt x="420" y="1424"/>
                </a:cubicBezTo>
                <a:cubicBezTo>
                  <a:pt x="475" y="1341"/>
                  <a:pt x="508" y="1363"/>
                  <a:pt x="620" y="1360"/>
                </a:cubicBezTo>
                <a:cubicBezTo>
                  <a:pt x="628" y="1357"/>
                  <a:pt x="636" y="1355"/>
                  <a:pt x="644" y="1352"/>
                </a:cubicBezTo>
                <a:cubicBezTo>
                  <a:pt x="648" y="1351"/>
                  <a:pt x="656" y="1348"/>
                  <a:pt x="656" y="1348"/>
                </a:cubicBezTo>
                <a:cubicBezTo>
                  <a:pt x="668" y="1336"/>
                  <a:pt x="674" y="1325"/>
                  <a:pt x="688" y="1316"/>
                </a:cubicBezTo>
                <a:cubicBezTo>
                  <a:pt x="693" y="1300"/>
                  <a:pt x="694" y="1283"/>
                  <a:pt x="700" y="1268"/>
                </a:cubicBezTo>
                <a:cubicBezTo>
                  <a:pt x="704" y="1258"/>
                  <a:pt x="731" y="1223"/>
                  <a:pt x="740" y="1220"/>
                </a:cubicBezTo>
                <a:cubicBezTo>
                  <a:pt x="750" y="1217"/>
                  <a:pt x="759" y="1214"/>
                  <a:pt x="768" y="1208"/>
                </a:cubicBezTo>
                <a:cubicBezTo>
                  <a:pt x="781" y="1198"/>
                  <a:pt x="786" y="1185"/>
                  <a:pt x="800" y="1176"/>
                </a:cubicBezTo>
                <a:cubicBezTo>
                  <a:pt x="831" y="1129"/>
                  <a:pt x="875" y="1135"/>
                  <a:pt x="928" y="1132"/>
                </a:cubicBezTo>
                <a:cubicBezTo>
                  <a:pt x="951" y="1124"/>
                  <a:pt x="980" y="1105"/>
                  <a:pt x="1000" y="1092"/>
                </a:cubicBezTo>
                <a:cubicBezTo>
                  <a:pt x="1008" y="1087"/>
                  <a:pt x="1024" y="1076"/>
                  <a:pt x="1024" y="1076"/>
                </a:cubicBezTo>
                <a:cubicBezTo>
                  <a:pt x="1044" y="1046"/>
                  <a:pt x="1081" y="1020"/>
                  <a:pt x="1116" y="1008"/>
                </a:cubicBezTo>
                <a:cubicBezTo>
                  <a:pt x="1153" y="952"/>
                  <a:pt x="1111" y="914"/>
                  <a:pt x="1096" y="868"/>
                </a:cubicBezTo>
                <a:cubicBezTo>
                  <a:pt x="1092" y="835"/>
                  <a:pt x="1089" y="799"/>
                  <a:pt x="1060" y="780"/>
                </a:cubicBezTo>
                <a:cubicBezTo>
                  <a:pt x="1059" y="776"/>
                  <a:pt x="1059" y="771"/>
                  <a:pt x="1056" y="768"/>
                </a:cubicBezTo>
                <a:cubicBezTo>
                  <a:pt x="1053" y="764"/>
                  <a:pt x="1047" y="764"/>
                  <a:pt x="1044" y="760"/>
                </a:cubicBezTo>
                <a:cubicBezTo>
                  <a:pt x="1040" y="753"/>
                  <a:pt x="1039" y="744"/>
                  <a:pt x="1036" y="736"/>
                </a:cubicBezTo>
                <a:cubicBezTo>
                  <a:pt x="1035" y="732"/>
                  <a:pt x="1032" y="724"/>
                  <a:pt x="1032" y="724"/>
                </a:cubicBezTo>
                <a:cubicBezTo>
                  <a:pt x="1034" y="685"/>
                  <a:pt x="1016" y="632"/>
                  <a:pt x="1052" y="608"/>
                </a:cubicBezTo>
                <a:cubicBezTo>
                  <a:pt x="1058" y="591"/>
                  <a:pt x="1064" y="573"/>
                  <a:pt x="1080" y="568"/>
                </a:cubicBezTo>
                <a:cubicBezTo>
                  <a:pt x="1091" y="552"/>
                  <a:pt x="1097" y="550"/>
                  <a:pt x="1116" y="544"/>
                </a:cubicBezTo>
                <a:cubicBezTo>
                  <a:pt x="1124" y="542"/>
                  <a:pt x="1140" y="536"/>
                  <a:pt x="1140" y="536"/>
                </a:cubicBezTo>
                <a:cubicBezTo>
                  <a:pt x="1144" y="524"/>
                  <a:pt x="1148" y="512"/>
                  <a:pt x="1152" y="500"/>
                </a:cubicBezTo>
                <a:cubicBezTo>
                  <a:pt x="1153" y="496"/>
                  <a:pt x="1152" y="489"/>
                  <a:pt x="1156" y="488"/>
                </a:cubicBezTo>
                <a:cubicBezTo>
                  <a:pt x="1168" y="484"/>
                  <a:pt x="1181" y="483"/>
                  <a:pt x="1192" y="476"/>
                </a:cubicBezTo>
                <a:cubicBezTo>
                  <a:pt x="1209" y="465"/>
                  <a:pt x="1233" y="442"/>
                  <a:pt x="1252" y="436"/>
                </a:cubicBezTo>
                <a:cubicBezTo>
                  <a:pt x="1266" y="422"/>
                  <a:pt x="1284" y="413"/>
                  <a:pt x="1304" y="408"/>
                </a:cubicBezTo>
                <a:cubicBezTo>
                  <a:pt x="1316" y="400"/>
                  <a:pt x="1328" y="392"/>
                  <a:pt x="1340" y="384"/>
                </a:cubicBezTo>
                <a:cubicBezTo>
                  <a:pt x="1344" y="381"/>
                  <a:pt x="1352" y="376"/>
                  <a:pt x="1352" y="376"/>
                </a:cubicBezTo>
                <a:cubicBezTo>
                  <a:pt x="1355" y="372"/>
                  <a:pt x="1356" y="367"/>
                  <a:pt x="1360" y="364"/>
                </a:cubicBezTo>
                <a:cubicBezTo>
                  <a:pt x="1371" y="357"/>
                  <a:pt x="1385" y="359"/>
                  <a:pt x="1396" y="352"/>
                </a:cubicBezTo>
                <a:cubicBezTo>
                  <a:pt x="1414" y="340"/>
                  <a:pt x="1435" y="335"/>
                  <a:pt x="1456" y="328"/>
                </a:cubicBezTo>
                <a:cubicBezTo>
                  <a:pt x="1496" y="315"/>
                  <a:pt x="1434" y="335"/>
                  <a:pt x="1484" y="320"/>
                </a:cubicBezTo>
                <a:cubicBezTo>
                  <a:pt x="1492" y="318"/>
                  <a:pt x="1508" y="312"/>
                  <a:pt x="1508" y="312"/>
                </a:cubicBezTo>
                <a:cubicBezTo>
                  <a:pt x="1517" y="298"/>
                  <a:pt x="1526" y="289"/>
                  <a:pt x="1540" y="280"/>
                </a:cubicBezTo>
                <a:cubicBezTo>
                  <a:pt x="1555" y="258"/>
                  <a:pt x="1540" y="275"/>
                  <a:pt x="1560" y="264"/>
                </a:cubicBezTo>
                <a:cubicBezTo>
                  <a:pt x="1568" y="259"/>
                  <a:pt x="1584" y="248"/>
                  <a:pt x="1584" y="248"/>
                </a:cubicBezTo>
                <a:cubicBezTo>
                  <a:pt x="1594" y="233"/>
                  <a:pt x="1609" y="218"/>
                  <a:pt x="1624" y="208"/>
                </a:cubicBezTo>
                <a:cubicBezTo>
                  <a:pt x="1631" y="197"/>
                  <a:pt x="1640" y="172"/>
                  <a:pt x="1640" y="172"/>
                </a:cubicBezTo>
                <a:cubicBezTo>
                  <a:pt x="1639" y="164"/>
                  <a:pt x="1640" y="155"/>
                  <a:pt x="1636" y="148"/>
                </a:cubicBezTo>
                <a:cubicBezTo>
                  <a:pt x="1632" y="140"/>
                  <a:pt x="1619" y="140"/>
                  <a:pt x="1612" y="136"/>
                </a:cubicBezTo>
                <a:cubicBezTo>
                  <a:pt x="1565" y="110"/>
                  <a:pt x="1611" y="128"/>
                  <a:pt x="1564" y="112"/>
                </a:cubicBezTo>
                <a:cubicBezTo>
                  <a:pt x="1551" y="108"/>
                  <a:pt x="1528" y="92"/>
                  <a:pt x="1528" y="92"/>
                </a:cubicBezTo>
                <a:cubicBezTo>
                  <a:pt x="1517" y="75"/>
                  <a:pt x="1520" y="71"/>
                  <a:pt x="1536" y="60"/>
                </a:cubicBezTo>
                <a:cubicBezTo>
                  <a:pt x="1539" y="52"/>
                  <a:pt x="1547" y="15"/>
                  <a:pt x="1552" y="12"/>
                </a:cubicBezTo>
                <a:cubicBezTo>
                  <a:pt x="1565" y="3"/>
                  <a:pt x="1564" y="9"/>
                  <a:pt x="1564" y="0"/>
                </a:cubicBezTo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45"/>
          <p:cNvSpPr/>
          <p:nvPr/>
        </p:nvSpPr>
        <p:spPr>
          <a:xfrm>
            <a:off x="4102200" y="3871800"/>
            <a:ext cx="1015920" cy="141480"/>
          </a:xfrm>
          <a:custGeom>
            <a:avLst/>
            <a:gdLst/>
            <a:ahLst/>
            <a:rect l="l" t="t" r="r" b="b"/>
            <a:pathLst>
              <a:path w="640" h="89">
                <a:moveTo>
                  <a:pt x="0" y="89"/>
                </a:moveTo>
                <a:cubicBezTo>
                  <a:pt x="5" y="73"/>
                  <a:pt x="10" y="66"/>
                  <a:pt x="24" y="57"/>
                </a:cubicBezTo>
                <a:cubicBezTo>
                  <a:pt x="62" y="0"/>
                  <a:pt x="135" y="35"/>
                  <a:pt x="204" y="33"/>
                </a:cubicBezTo>
                <a:cubicBezTo>
                  <a:pt x="252" y="26"/>
                  <a:pt x="303" y="34"/>
                  <a:pt x="352" y="37"/>
                </a:cubicBezTo>
                <a:cubicBezTo>
                  <a:pt x="387" y="49"/>
                  <a:pt x="409" y="47"/>
                  <a:pt x="452" y="49"/>
                </a:cubicBezTo>
                <a:cubicBezTo>
                  <a:pt x="485" y="60"/>
                  <a:pt x="522" y="49"/>
                  <a:pt x="556" y="45"/>
                </a:cubicBezTo>
                <a:cubicBezTo>
                  <a:pt x="574" y="33"/>
                  <a:pt x="566" y="26"/>
                  <a:pt x="588" y="21"/>
                </a:cubicBezTo>
                <a:cubicBezTo>
                  <a:pt x="605" y="27"/>
                  <a:pt x="610" y="22"/>
                  <a:pt x="616" y="5"/>
                </a:cubicBezTo>
                <a:cubicBezTo>
                  <a:pt x="632" y="10"/>
                  <a:pt x="624" y="9"/>
                  <a:pt x="640" y="9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47"/>
          <p:cNvSpPr/>
          <p:nvPr/>
        </p:nvSpPr>
        <p:spPr>
          <a:xfrm>
            <a:off x="3537000" y="4280040"/>
            <a:ext cx="368280" cy="253800"/>
          </a:xfrm>
          <a:custGeom>
            <a:avLst/>
            <a:gdLst/>
            <a:ahLst/>
            <a:rect l="l" t="t" r="r" b="b"/>
            <a:pathLst>
              <a:path w="232" h="160">
                <a:moveTo>
                  <a:pt x="232" y="160"/>
                </a:moveTo>
                <a:cubicBezTo>
                  <a:pt x="207" y="122"/>
                  <a:pt x="153" y="119"/>
                  <a:pt x="112" y="116"/>
                </a:cubicBezTo>
                <a:cubicBezTo>
                  <a:pt x="93" y="110"/>
                  <a:pt x="69" y="96"/>
                  <a:pt x="52" y="84"/>
                </a:cubicBezTo>
                <a:cubicBezTo>
                  <a:pt x="57" y="68"/>
                  <a:pt x="62" y="61"/>
                  <a:pt x="76" y="52"/>
                </a:cubicBezTo>
                <a:cubicBezTo>
                  <a:pt x="79" y="48"/>
                  <a:pt x="88" y="43"/>
                  <a:pt x="84" y="40"/>
                </a:cubicBezTo>
                <a:cubicBezTo>
                  <a:pt x="70" y="29"/>
                  <a:pt x="39" y="42"/>
                  <a:pt x="68" y="32"/>
                </a:cubicBezTo>
                <a:cubicBezTo>
                  <a:pt x="47" y="18"/>
                  <a:pt x="18" y="18"/>
                  <a:pt x="0" y="0"/>
                </a:cubicBez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26"/>
          <p:cNvSpPr/>
          <p:nvPr/>
        </p:nvSpPr>
        <p:spPr>
          <a:xfrm>
            <a:off x="3132000" y="4967280"/>
            <a:ext cx="1224000" cy="50472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cc33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29"/>
          <p:cNvSpPr/>
          <p:nvPr/>
        </p:nvSpPr>
        <p:spPr>
          <a:xfrm rot="21363000">
            <a:off x="3133440" y="50338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48"/>
          <p:cNvSpPr/>
          <p:nvPr/>
        </p:nvSpPr>
        <p:spPr>
          <a:xfrm>
            <a:off x="3448080" y="3111480"/>
            <a:ext cx="3130560" cy="2944800"/>
          </a:xfrm>
          <a:custGeom>
            <a:avLst/>
            <a:gdLst/>
            <a:ahLst/>
            <a:rect l="l" t="t" r="r" b="b"/>
            <a:pathLst>
              <a:path w="1972" h="1855">
                <a:moveTo>
                  <a:pt x="0" y="1756"/>
                </a:moveTo>
                <a:cubicBezTo>
                  <a:pt x="5" y="1761"/>
                  <a:pt x="18" y="1772"/>
                  <a:pt x="20" y="1780"/>
                </a:cubicBezTo>
                <a:cubicBezTo>
                  <a:pt x="25" y="1796"/>
                  <a:pt x="20" y="1814"/>
                  <a:pt x="28" y="1828"/>
                </a:cubicBezTo>
                <a:cubicBezTo>
                  <a:pt x="32" y="1836"/>
                  <a:pt x="61" y="1843"/>
                  <a:pt x="64" y="1844"/>
                </a:cubicBezTo>
                <a:cubicBezTo>
                  <a:pt x="72" y="1847"/>
                  <a:pt x="88" y="1852"/>
                  <a:pt x="88" y="1852"/>
                </a:cubicBezTo>
                <a:cubicBezTo>
                  <a:pt x="185" y="1848"/>
                  <a:pt x="169" y="1855"/>
                  <a:pt x="228" y="1816"/>
                </a:cubicBezTo>
                <a:cubicBezTo>
                  <a:pt x="248" y="1755"/>
                  <a:pt x="264" y="1697"/>
                  <a:pt x="320" y="1660"/>
                </a:cubicBezTo>
                <a:cubicBezTo>
                  <a:pt x="328" y="1648"/>
                  <a:pt x="352" y="1632"/>
                  <a:pt x="352" y="1632"/>
                </a:cubicBezTo>
                <a:cubicBezTo>
                  <a:pt x="384" y="1633"/>
                  <a:pt x="416" y="1633"/>
                  <a:pt x="448" y="1636"/>
                </a:cubicBezTo>
                <a:cubicBezTo>
                  <a:pt x="456" y="1637"/>
                  <a:pt x="464" y="1642"/>
                  <a:pt x="472" y="1644"/>
                </a:cubicBezTo>
                <a:cubicBezTo>
                  <a:pt x="496" y="1650"/>
                  <a:pt x="483" y="1646"/>
                  <a:pt x="512" y="1656"/>
                </a:cubicBezTo>
                <a:cubicBezTo>
                  <a:pt x="520" y="1659"/>
                  <a:pt x="536" y="1664"/>
                  <a:pt x="536" y="1664"/>
                </a:cubicBezTo>
                <a:cubicBezTo>
                  <a:pt x="547" y="1663"/>
                  <a:pt x="557" y="1662"/>
                  <a:pt x="568" y="1660"/>
                </a:cubicBezTo>
                <a:cubicBezTo>
                  <a:pt x="576" y="1658"/>
                  <a:pt x="592" y="1652"/>
                  <a:pt x="592" y="1652"/>
                </a:cubicBezTo>
                <a:cubicBezTo>
                  <a:pt x="602" y="1637"/>
                  <a:pt x="611" y="1632"/>
                  <a:pt x="628" y="1624"/>
                </a:cubicBezTo>
                <a:cubicBezTo>
                  <a:pt x="642" y="1603"/>
                  <a:pt x="640" y="1576"/>
                  <a:pt x="648" y="1552"/>
                </a:cubicBezTo>
                <a:cubicBezTo>
                  <a:pt x="651" y="1544"/>
                  <a:pt x="656" y="1528"/>
                  <a:pt x="656" y="1528"/>
                </a:cubicBezTo>
                <a:cubicBezTo>
                  <a:pt x="659" y="1500"/>
                  <a:pt x="648" y="1441"/>
                  <a:pt x="676" y="1432"/>
                </a:cubicBezTo>
                <a:cubicBezTo>
                  <a:pt x="695" y="1437"/>
                  <a:pt x="700" y="1443"/>
                  <a:pt x="716" y="1432"/>
                </a:cubicBezTo>
                <a:cubicBezTo>
                  <a:pt x="734" y="1404"/>
                  <a:pt x="729" y="1417"/>
                  <a:pt x="736" y="1396"/>
                </a:cubicBezTo>
                <a:cubicBezTo>
                  <a:pt x="737" y="1387"/>
                  <a:pt x="734" y="1375"/>
                  <a:pt x="740" y="1368"/>
                </a:cubicBezTo>
                <a:cubicBezTo>
                  <a:pt x="745" y="1362"/>
                  <a:pt x="752" y="1380"/>
                  <a:pt x="764" y="1388"/>
                </a:cubicBezTo>
                <a:cubicBezTo>
                  <a:pt x="774" y="1394"/>
                  <a:pt x="789" y="1400"/>
                  <a:pt x="800" y="1404"/>
                </a:cubicBezTo>
                <a:cubicBezTo>
                  <a:pt x="812" y="1392"/>
                  <a:pt x="829" y="1382"/>
                  <a:pt x="840" y="1368"/>
                </a:cubicBezTo>
                <a:cubicBezTo>
                  <a:pt x="846" y="1360"/>
                  <a:pt x="856" y="1344"/>
                  <a:pt x="856" y="1344"/>
                </a:cubicBezTo>
                <a:cubicBezTo>
                  <a:pt x="866" y="1358"/>
                  <a:pt x="874" y="1358"/>
                  <a:pt x="884" y="1372"/>
                </a:cubicBezTo>
                <a:cubicBezTo>
                  <a:pt x="908" y="1367"/>
                  <a:pt x="912" y="1359"/>
                  <a:pt x="936" y="1364"/>
                </a:cubicBezTo>
                <a:cubicBezTo>
                  <a:pt x="1010" y="1363"/>
                  <a:pt x="1196" y="1392"/>
                  <a:pt x="1272" y="1316"/>
                </a:cubicBezTo>
                <a:cubicBezTo>
                  <a:pt x="1282" y="1286"/>
                  <a:pt x="1313" y="1281"/>
                  <a:pt x="1340" y="1272"/>
                </a:cubicBezTo>
                <a:cubicBezTo>
                  <a:pt x="1351" y="1256"/>
                  <a:pt x="1364" y="1239"/>
                  <a:pt x="1380" y="1228"/>
                </a:cubicBezTo>
                <a:cubicBezTo>
                  <a:pt x="1390" y="1214"/>
                  <a:pt x="1398" y="1213"/>
                  <a:pt x="1412" y="1204"/>
                </a:cubicBezTo>
                <a:cubicBezTo>
                  <a:pt x="1428" y="1180"/>
                  <a:pt x="1449" y="1176"/>
                  <a:pt x="1472" y="1160"/>
                </a:cubicBezTo>
                <a:cubicBezTo>
                  <a:pt x="1476" y="1147"/>
                  <a:pt x="1484" y="1137"/>
                  <a:pt x="1488" y="1124"/>
                </a:cubicBezTo>
                <a:cubicBezTo>
                  <a:pt x="1489" y="1103"/>
                  <a:pt x="1489" y="1081"/>
                  <a:pt x="1492" y="1060"/>
                </a:cubicBezTo>
                <a:cubicBezTo>
                  <a:pt x="1494" y="1047"/>
                  <a:pt x="1508" y="1024"/>
                  <a:pt x="1508" y="1024"/>
                </a:cubicBezTo>
                <a:cubicBezTo>
                  <a:pt x="1505" y="984"/>
                  <a:pt x="1511" y="944"/>
                  <a:pt x="1476" y="920"/>
                </a:cubicBezTo>
                <a:cubicBezTo>
                  <a:pt x="1477" y="900"/>
                  <a:pt x="1477" y="880"/>
                  <a:pt x="1480" y="860"/>
                </a:cubicBezTo>
                <a:cubicBezTo>
                  <a:pt x="1486" y="825"/>
                  <a:pt x="1545" y="829"/>
                  <a:pt x="1564" y="828"/>
                </a:cubicBezTo>
                <a:cubicBezTo>
                  <a:pt x="1623" y="808"/>
                  <a:pt x="1669" y="771"/>
                  <a:pt x="1732" y="764"/>
                </a:cubicBezTo>
                <a:cubicBezTo>
                  <a:pt x="1745" y="744"/>
                  <a:pt x="1757" y="724"/>
                  <a:pt x="1768" y="704"/>
                </a:cubicBezTo>
                <a:cubicBezTo>
                  <a:pt x="1773" y="696"/>
                  <a:pt x="1784" y="680"/>
                  <a:pt x="1784" y="680"/>
                </a:cubicBezTo>
                <a:cubicBezTo>
                  <a:pt x="1794" y="640"/>
                  <a:pt x="1776" y="690"/>
                  <a:pt x="1828" y="660"/>
                </a:cubicBezTo>
                <a:cubicBezTo>
                  <a:pt x="1835" y="656"/>
                  <a:pt x="1833" y="644"/>
                  <a:pt x="1836" y="636"/>
                </a:cubicBezTo>
                <a:cubicBezTo>
                  <a:pt x="1843" y="614"/>
                  <a:pt x="1851" y="591"/>
                  <a:pt x="1856" y="568"/>
                </a:cubicBezTo>
                <a:cubicBezTo>
                  <a:pt x="1858" y="560"/>
                  <a:pt x="1853" y="547"/>
                  <a:pt x="1860" y="544"/>
                </a:cubicBezTo>
                <a:cubicBezTo>
                  <a:pt x="1877" y="536"/>
                  <a:pt x="1897" y="541"/>
                  <a:pt x="1916" y="540"/>
                </a:cubicBezTo>
                <a:cubicBezTo>
                  <a:pt x="1923" y="471"/>
                  <a:pt x="1912" y="517"/>
                  <a:pt x="1956" y="488"/>
                </a:cubicBezTo>
                <a:cubicBezTo>
                  <a:pt x="1960" y="476"/>
                  <a:pt x="1964" y="464"/>
                  <a:pt x="1968" y="452"/>
                </a:cubicBezTo>
                <a:cubicBezTo>
                  <a:pt x="1969" y="448"/>
                  <a:pt x="1972" y="440"/>
                  <a:pt x="1972" y="440"/>
                </a:cubicBezTo>
                <a:cubicBezTo>
                  <a:pt x="1969" y="397"/>
                  <a:pt x="1964" y="347"/>
                  <a:pt x="1924" y="320"/>
                </a:cubicBezTo>
                <a:cubicBezTo>
                  <a:pt x="1921" y="316"/>
                  <a:pt x="1919" y="311"/>
                  <a:pt x="1916" y="308"/>
                </a:cubicBezTo>
                <a:cubicBezTo>
                  <a:pt x="1913" y="305"/>
                  <a:pt x="1907" y="304"/>
                  <a:pt x="1904" y="300"/>
                </a:cubicBezTo>
                <a:cubicBezTo>
                  <a:pt x="1894" y="287"/>
                  <a:pt x="1896" y="278"/>
                  <a:pt x="1880" y="268"/>
                </a:cubicBezTo>
                <a:cubicBezTo>
                  <a:pt x="1874" y="250"/>
                  <a:pt x="1871" y="248"/>
                  <a:pt x="1856" y="240"/>
                </a:cubicBezTo>
                <a:cubicBezTo>
                  <a:pt x="1848" y="235"/>
                  <a:pt x="1832" y="224"/>
                  <a:pt x="1832" y="224"/>
                </a:cubicBezTo>
                <a:cubicBezTo>
                  <a:pt x="1827" y="216"/>
                  <a:pt x="1817" y="212"/>
                  <a:pt x="1812" y="204"/>
                </a:cubicBezTo>
                <a:cubicBezTo>
                  <a:pt x="1797" y="180"/>
                  <a:pt x="1796" y="153"/>
                  <a:pt x="1760" y="148"/>
                </a:cubicBezTo>
                <a:cubicBezTo>
                  <a:pt x="1743" y="146"/>
                  <a:pt x="1725" y="145"/>
                  <a:pt x="1708" y="144"/>
                </a:cubicBezTo>
                <a:cubicBezTo>
                  <a:pt x="1694" y="122"/>
                  <a:pt x="1673" y="116"/>
                  <a:pt x="1652" y="104"/>
                </a:cubicBezTo>
                <a:cubicBezTo>
                  <a:pt x="1634" y="94"/>
                  <a:pt x="1622" y="81"/>
                  <a:pt x="1604" y="72"/>
                </a:cubicBezTo>
                <a:cubicBezTo>
                  <a:pt x="1596" y="68"/>
                  <a:pt x="1588" y="64"/>
                  <a:pt x="1580" y="60"/>
                </a:cubicBezTo>
                <a:cubicBezTo>
                  <a:pt x="1572" y="55"/>
                  <a:pt x="1556" y="44"/>
                  <a:pt x="1556" y="44"/>
                </a:cubicBezTo>
                <a:cubicBezTo>
                  <a:pt x="1541" y="21"/>
                  <a:pt x="1501" y="0"/>
                  <a:pt x="1472" y="0"/>
                </a:cubicBezTo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255600" y="279360"/>
            <a:ext cx="8564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The Four Parts of the 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4"/>
          <p:cNvGrpSpPr/>
          <p:nvPr/>
        </p:nvGrpSpPr>
        <p:grpSpPr>
          <a:xfrm>
            <a:off x="789120" y="1108080"/>
            <a:ext cx="7192800" cy="4826160"/>
            <a:chOff x="789120" y="1108080"/>
            <a:chExt cx="7192800" cy="4826160"/>
          </a:xfrm>
        </p:grpSpPr>
        <p:sp>
          <p:nvSpPr>
            <p:cNvPr id="904" name="Rounded Rectangle 9"/>
            <p:cNvSpPr/>
            <p:nvPr/>
          </p:nvSpPr>
          <p:spPr>
            <a:xfrm>
              <a:off x="789120" y="1108080"/>
              <a:ext cx="7100640" cy="67320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ntrod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ounded Rectangle 9"/>
            <p:cNvSpPr/>
            <p:nvPr/>
          </p:nvSpPr>
          <p:spPr>
            <a:xfrm>
              <a:off x="798480" y="2004840"/>
              <a:ext cx="7101000" cy="81756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Framing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ounded Rectangle 9"/>
            <p:cNvSpPr/>
            <p:nvPr/>
          </p:nvSpPr>
          <p:spPr>
            <a:xfrm>
              <a:off x="824040" y="2967120"/>
              <a:ext cx="7119720" cy="155232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thways for Mitigating Climate Cha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ounded Rectangle 9"/>
            <p:cNvSpPr/>
            <p:nvPr/>
          </p:nvSpPr>
          <p:spPr>
            <a:xfrm>
              <a:off x="861840" y="4667400"/>
              <a:ext cx="7120080" cy="126684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Assessment of Policies, Institutions and Fin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Rectangle 9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563472-34A1-46B5-9FD3-6B1BCD84BDFF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3"/>
          <p:cNvSpPr/>
          <p:nvPr/>
        </p:nvSpPr>
        <p:spPr>
          <a:xfrm>
            <a:off x="255600" y="114480"/>
            <a:ext cx="8564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The Working Group III Assessment as a Cartography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ounded Rectangle 9"/>
          <p:cNvSpPr/>
          <p:nvPr/>
        </p:nvSpPr>
        <p:spPr>
          <a:xfrm>
            <a:off x="789120" y="1108080"/>
            <a:ext cx="7100640" cy="67320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ounded Rectangle 9"/>
          <p:cNvSpPr/>
          <p:nvPr/>
        </p:nvSpPr>
        <p:spPr>
          <a:xfrm>
            <a:off x="798480" y="1916280"/>
            <a:ext cx="7101000" cy="9061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raming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ounded Rectangle 9"/>
          <p:cNvSpPr/>
          <p:nvPr/>
        </p:nvSpPr>
        <p:spPr>
          <a:xfrm>
            <a:off x="824040" y="2967120"/>
            <a:ext cx="7119720" cy="15523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thways for Mitig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ounded Rectangle 9"/>
          <p:cNvSpPr/>
          <p:nvPr/>
        </p:nvSpPr>
        <p:spPr>
          <a:xfrm>
            <a:off x="861840" y="4667400"/>
            <a:ext cx="7120080" cy="14983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sessment of Polic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stitutions and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9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5748E3A-EB8D-4104-B460-B6FC84E0C979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11" descr=""/>
          <p:cNvPicPr/>
          <p:nvPr/>
        </p:nvPicPr>
        <p:blipFill>
          <a:blip r:embed="rId1"/>
          <a:stretch/>
        </p:blipFill>
        <p:spPr>
          <a:xfrm>
            <a:off x="3852720" y="2008080"/>
            <a:ext cx="712800" cy="7002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12" descr=""/>
          <p:cNvPicPr/>
          <p:nvPr/>
        </p:nvPicPr>
        <p:blipFill>
          <a:blip r:embed="rId2"/>
          <a:stretch/>
        </p:blipFill>
        <p:spPr>
          <a:xfrm>
            <a:off x="3851280" y="3017880"/>
            <a:ext cx="1974960" cy="144144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13" descr=""/>
          <p:cNvPicPr/>
          <p:nvPr/>
        </p:nvPicPr>
        <p:blipFill>
          <a:blip r:embed="rId3"/>
          <a:stretch/>
        </p:blipFill>
        <p:spPr>
          <a:xfrm>
            <a:off x="3846600" y="4826160"/>
            <a:ext cx="1301760" cy="1158840"/>
          </a:xfrm>
          <a:prstGeom prst="rect">
            <a:avLst/>
          </a:prstGeom>
          <a:ln w="0">
            <a:noFill/>
          </a:ln>
        </p:spPr>
      </p:pic>
      <p:sp>
        <p:nvSpPr>
          <p:cNvPr id="919" name="Textfeld 4"/>
          <p:cNvSpPr/>
          <p:nvPr/>
        </p:nvSpPr>
        <p:spPr>
          <a:xfrm>
            <a:off x="4572000" y="1909800"/>
            <a:ext cx="331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legend to the ma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concepts and methods of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feld 14"/>
          <p:cNvSpPr/>
          <p:nvPr/>
        </p:nvSpPr>
        <p:spPr>
          <a:xfrm>
            <a:off x="5862600" y="3068640"/>
            <a:ext cx="21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a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p out feasible mitigation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 trade-o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feld 15"/>
          <p:cNvSpPr/>
          <p:nvPr/>
        </p:nvSpPr>
        <p:spPr>
          <a:xfrm>
            <a:off x="5148360" y="4694400"/>
            <a:ext cx="279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vigation tool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 policy instruments, institutional arrangements and financ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255600" y="263520"/>
            <a:ext cx="8564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6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7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9E1474-E7C3-4F5B-A3F0-1305CF23E7A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1"/>
          <p:cNvSpPr/>
          <p:nvPr/>
        </p:nvSpPr>
        <p:spPr>
          <a:xfrm>
            <a:off x="3164040" y="2589120"/>
            <a:ext cx="61578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3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4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5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6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bgerundetes Rechteck 4"/>
          <p:cNvSpPr/>
          <p:nvPr/>
        </p:nvSpPr>
        <p:spPr>
          <a:xfrm>
            <a:off x="306360" y="2589120"/>
            <a:ext cx="8642520" cy="2135160"/>
          </a:xfrm>
          <a:prstGeom prst="roundRect">
            <a:avLst>
              <a:gd name="adj" fmla="val 16667"/>
            </a:avLst>
          </a:prstGeom>
          <a:solidFill>
            <a:srgbClr val="4073ac"/>
          </a:solidFill>
          <a:ln w="25560">
            <a:solidFill>
              <a:srgbClr val="2c53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 dedicated chapter or Section on metrics in the Plenary approved Working Group III outline of the AR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3"/>
          <p:cNvSpPr/>
          <p:nvPr/>
        </p:nvSpPr>
        <p:spPr>
          <a:xfrm>
            <a:off x="255600" y="263520"/>
            <a:ext cx="8564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Where will metrics be cove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6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7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33355DE-7668-4263-954C-AA967B8B1C2E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9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1"/>
          <p:cNvSpPr/>
          <p:nvPr/>
        </p:nvSpPr>
        <p:spPr>
          <a:xfrm>
            <a:off x="3166920" y="2589120"/>
            <a:ext cx="615816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2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13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4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5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6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Ellipse 4"/>
          <p:cNvSpPr/>
          <p:nvPr/>
        </p:nvSpPr>
        <p:spPr>
          <a:xfrm>
            <a:off x="2851200" y="1741320"/>
            <a:ext cx="611352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4" name="Gewinkelte Verbindung 6"/>
          <p:cNvCxnSpPr>
            <a:stCxn id="944" idx="3"/>
          </p:cNvCxnSpPr>
          <p:nvPr/>
        </p:nvCxnSpPr>
        <p:spPr>
          <a:xfrm rot="10800000">
            <a:off x="8243280" y="1483560"/>
            <a:ext cx="732600" cy="413640"/>
          </a:xfrm>
          <a:prstGeom prst="bentConnector3">
            <a:avLst>
              <a:gd name="adj1" fmla="val 231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5" name="Gewinkelte Verbindung 12"/>
          <p:cNvCxnSpPr>
            <a:stCxn id="953" idx="6"/>
          </p:cNvCxnSpPr>
          <p:nvPr/>
        </p:nvCxnSpPr>
        <p:spPr>
          <a:xfrm flipV="1" rot="10800000">
            <a:off x="7524720" y="1993680"/>
            <a:ext cx="1440360" cy="1075320"/>
          </a:xfrm>
          <a:prstGeom prst="bentConnector3">
            <a:avLst>
              <a:gd name="adj1" fmla="val 225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6" name="Geschweifte Klammer rechts 15"/>
          <p:cNvSpPr/>
          <p:nvPr/>
        </p:nvSpPr>
        <p:spPr>
          <a:xfrm>
            <a:off x="8342280" y="3284640"/>
            <a:ext cx="316080" cy="2025720"/>
          </a:xfrm>
          <a:custGeom>
            <a:avLst/>
            <a:gdLst>
              <a:gd name="textAreaLeft" fmla="*/ 0 w 316080"/>
              <a:gd name="textAreaRight" fmla="*/ 114120 w 316080"/>
              <a:gd name="textAreaTop" fmla="*/ 65520 h 2025720"/>
              <a:gd name="textAreaBottom" fmla="*/ 1960200 h 202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17"/>
                  <a:pt x="10800" y="2233"/>
                </a:cubicBezTo>
                <a:lnTo>
                  <a:pt x="10800" y="8713"/>
                </a:lnTo>
                <a:cubicBezTo>
                  <a:pt x="10800" y="9830"/>
                  <a:pt x="16200" y="10946"/>
                  <a:pt x="21600" y="10946"/>
                </a:cubicBezTo>
                <a:cubicBezTo>
                  <a:pt x="16200" y="10946"/>
                  <a:pt x="10800" y="12063"/>
                  <a:pt x="10800" y="13179"/>
                </a:cubicBezTo>
                <a:lnTo>
                  <a:pt x="10800" y="19367"/>
                </a:lnTo>
                <a:cubicBezTo>
                  <a:pt x="10800" y="2048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7" name="Gewinkelte Verbindung 17"/>
          <p:cNvCxnSpPr>
            <a:stCxn id="953" idx="6"/>
          </p:cNvCxnSpPr>
          <p:nvPr/>
        </p:nvCxnSpPr>
        <p:spPr>
          <a:xfrm flipV="1" rot="10800000">
            <a:off x="7524720" y="1993680"/>
            <a:ext cx="1440360" cy="788040"/>
          </a:xfrm>
          <a:prstGeom prst="bentConnector3">
            <a:avLst>
              <a:gd name="adj1" fmla="val 225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8" name="Gewinkelte Verbindung 27"/>
          <p:cNvCxnSpPr/>
          <p:nvPr/>
        </p:nvCxnSpPr>
        <p:spPr>
          <a:xfrm rot="5400000">
            <a:off x="6706800" y="3805200"/>
            <a:ext cx="4260240" cy="255960"/>
          </a:xfrm>
          <a:prstGeom prst="bentConnector3">
            <a:avLst>
              <a:gd name="adj1" fmla="val 99983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9" name="Gewinkelte Verbindung 34836"/>
          <p:cNvCxnSpPr>
            <a:stCxn id="953" idx="6"/>
          </p:cNvCxnSpPr>
          <p:nvPr/>
        </p:nvCxnSpPr>
        <p:spPr>
          <a:xfrm flipV="1" rot="10800000">
            <a:off x="8711640" y="1993680"/>
            <a:ext cx="253080" cy="2304000"/>
          </a:xfrm>
          <a:prstGeom prst="bentConnector4">
            <a:avLst>
              <a:gd name="adj1" fmla="val 1282"/>
              <a:gd name="adj2" fmla="val 99906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0" name="Geschweifte Klammer rechts 23"/>
          <p:cNvSpPr/>
          <p:nvPr/>
        </p:nvSpPr>
        <p:spPr>
          <a:xfrm>
            <a:off x="8435880" y="5442120"/>
            <a:ext cx="168480" cy="1234800"/>
          </a:xfrm>
          <a:custGeom>
            <a:avLst/>
            <a:gdLst>
              <a:gd name="textAreaLeft" fmla="*/ 0 w 168480"/>
              <a:gd name="textAreaRight" fmla="*/ 60840 w 168480"/>
              <a:gd name="textAreaTop" fmla="*/ 34560 h 1234800"/>
              <a:gd name="textAreaBottom" fmla="*/ 1200240 h 12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76"/>
                  <a:pt x="10800" y="1951"/>
                </a:cubicBezTo>
                <a:lnTo>
                  <a:pt x="10800" y="8995"/>
                </a:lnTo>
                <a:cubicBezTo>
                  <a:pt x="10800" y="9971"/>
                  <a:pt x="16200" y="10946"/>
                  <a:pt x="21600" y="10946"/>
                </a:cubicBezTo>
                <a:cubicBezTo>
                  <a:pt x="16200" y="10946"/>
                  <a:pt x="10800" y="11922"/>
                  <a:pt x="10800" y="12897"/>
                </a:cubicBezTo>
                <a:lnTo>
                  <a:pt x="10800" y="19649"/>
                </a:lnTo>
                <a:cubicBezTo>
                  <a:pt x="10800" y="2062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5:29Z</dcterms:created>
  <dc:creator>Steffen Schlömer</dc:creator>
  <dc:description/>
  <dc:language>en-US</dc:language>
  <cp:lastModifiedBy>nn</cp:lastModifiedBy>
  <dcterms:modified xsi:type="dcterms:W3CDTF">2012-04-03T06:14:12Z</dcterms:modified>
  <cp:revision>179</cp:revision>
  <dc:subject/>
  <dc:title>Slide 1</dc:title>
</cp:coreProperties>
</file>