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52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53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54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2C86-79ED-4BCE-88A9-154F74F40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335F-BB4A-4FDE-AD6D-85DBEACC2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429B-AC81-45B8-A4A4-CDDBE8C3B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07A-00F4-4040-BD38-CD881F28B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54AF-783B-4E77-8095-7316663A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1020-10BD-435E-B651-7DB213924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F720-A08B-466D-9511-94D568819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C261-C7FC-4BD2-9F84-7417BCFF9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31EE-0E04-4560-8EA4-13FD0D115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823-A596-4882-90FC-68482AF4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811-E680-4300-AD33-BA445749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81C3C-3D8D-4A6A-8C49-D89E98FF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58ED7-D914-48FC-8020-CF30B31F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A8C6C-827E-47C6-962F-5595A9D0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E9D99-14D4-4447-8A6E-66DA64A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6BFB-3478-4380-9D5F-2C4EBB80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0BC36-8B38-4C03-B700-CEF50D3B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361DF-06B6-426A-8D55-6B5B4282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C02CC-A222-46B5-9FCD-411CDAFC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6C4A9-0B05-446B-B87F-00186589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33842-2D9F-493E-BACD-19DAEC6F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C17-4AD8-4B97-AA8E-76010F9B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0B05C-8873-4A28-BFDE-A04A422F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FECAE-6E09-442C-850F-7439B9ED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020EA-5670-4F4E-97DA-7231B77D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5A588-B02C-414E-9D80-E3C0E25F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46D46-2C04-45F9-A882-DE845172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6C68D-C673-4460-9494-4F688B12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7BBF7-315A-43E4-A227-9B837C76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55E61-A79E-4FEA-9AA6-1F727947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E4CFF-7956-4982-9309-72709987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73AF7-992D-4A9F-82CA-87ECF311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360-041D-40A7-8D82-6A1C81C4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BA293-0B77-43F8-AE0F-576931EC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AAF99-501C-4E7B-B5E9-3227FC16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ABA7-BAA5-41E1-BE30-AD0AB8B1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24519-A730-421F-AFCB-ADCC91B9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AE0B0-8F3A-45C5-AEB3-10D88488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8431A-AC9E-448D-AFA4-B21647F2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E0E75-66F3-4F19-BA37-0C726B01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A28BA-6F2F-4478-B395-56F4A4D8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F0151-851D-41B4-B675-D6B2B149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D69E0-A137-4803-A257-D22E84AB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F2075-72FA-40FE-B154-14F519CC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AC345-5456-47E6-B449-3E63DEDB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63975-D59E-48D4-BA5C-960662C6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B6AB3-5DC8-4D96-AAA6-129C9E4A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3B4A3-E81A-4520-9C4A-E20FFC89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A03C3-1B4D-45A7-9361-26AA26F9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6DC4D-9BB6-426B-BD90-1FD7521C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4717D-2F82-4957-8040-F8C10E24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B7012-C92A-4BA0-9330-99E43696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2C5D0-DBF5-4FC7-AA7C-0953365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046BB-4009-4CDD-96CD-FEF04156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907A4-8494-43BD-9624-E862FA56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0AE4C-B1A1-40CE-B0C3-4C4722F9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15EA5-B74A-49B2-A560-C0C2C90A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E12C2-141C-4042-8895-0B81368A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E3A50-9FAC-42A2-9DC2-23CEC012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75797-4FB5-48DA-A509-BDA44452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DD019-621A-49E3-B484-5C6A95BD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B332F-6D20-47D2-BB6D-72EC4FB1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7EEE6-AFE3-4D91-BA83-5AB052A2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EACC3-A9D1-492E-9650-219F791A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8A677-B111-4568-9251-24CA21EF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65195-CC00-44CC-86BD-5E5556AB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BEC48-5CC3-4352-AA94-A6483813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9ABEF-FC5D-4BB6-A419-5D016435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177C1-9A88-4397-807E-EF6E7E9D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BAC51-1FBD-4B5C-8C1B-92DC02A4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F4960-3D9E-4B4D-B504-40A75F08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0754B-A9B5-4156-84C0-6B77B35D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DD064-B18D-47EB-90FB-967024CB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5602F-EFAF-4E40-B938-1091EF55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109A0-B139-4A67-957B-250DF10B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22F53-9565-4C76-8EDB-7FFFCBCF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27492-A395-4EDE-BA59-617674DA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33E8C-CF39-47E3-BE4A-015EF856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2840D-21AA-46CB-B567-FFBC4221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C644B-78E5-49C2-B7DF-5EA6DF23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0934A-2FF9-4540-83EC-A4F2E7EA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6FFC5-44DD-455A-A09E-CA5ADCED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6FD73-A5F1-43D4-9DF1-E664F8CF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8E862-AB1A-483E-9711-2F4DED7B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74F6C-013D-4A23-998E-7BD692A6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E9BAB-6566-4C8F-9CAD-734EDD9B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7D650-3446-4278-B8A9-B6FEDB1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AEBC7-3B2D-44C3-AF98-0243C180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3CA59-A038-4EB6-8126-D572E55E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AE502-4E33-49A3-8C7F-8025A9DD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00C80-5B2F-40D8-B542-83615A0F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99B6E-5968-4F74-8B72-5B229F25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0140A-033C-482F-B275-24D7A206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FD5FF-8C28-4F52-B21F-A724B8CE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080F9-647C-4C33-9444-2D4EAA3C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96302-58B4-418D-811B-ADF9CFE6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4A4E7-4FFE-4D34-83E2-C15D7FC6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10502-59E3-4979-AD8F-07DBC211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4DFEE-6623-4B2C-953A-6831E7D8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FF811-91FD-4EDA-BE24-6DAA3BA0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8ED5C-5877-4A03-BC8F-C601D6B2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9C0BE-13D1-43F7-924D-D25EFF6B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D8D92-357C-428F-BD0E-DB1A7FD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FB48D-095C-4F9C-9780-402672B5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A588E-DCD8-4D0B-83F9-F5567DB7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F0B40-F4D7-4DE5-AF05-8822C8C1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5A330-437B-4E8C-A9DF-A912AFF1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185F9-87CF-44DE-B2A3-9FA26F6A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99B10-418D-430A-9532-A54F51C8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F211D-B416-49B4-BC1C-AF93A91A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A4CD8-2D37-474B-9054-1FA7D93C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8C887-0FB3-49F7-830C-4BA5A812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8A1C5-FB43-4EB8-BD4C-1437A3B5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496-5C2C-4FC6-A4F8-94D98754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F7E20-857F-4924-9A0B-88C383E9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E5BF9-0E05-4571-9CF1-037261BF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F1988-CF8B-4096-AB3F-8DE2FCA2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46F4E-915D-4814-8835-382EA963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5FC48-3CA1-4F56-AE0C-0F0ADF0D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27CAB-A13B-4A7C-A8C4-94D1BEFE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2110D-A467-4A3E-898C-2FB1FACC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439D5-CA48-485F-A213-1C1CA944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ED426-AF81-4150-AF9C-AC64508E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6DCC0-B27E-4300-924D-5514C125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96BB6-1573-40AA-A418-C861C8EE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60B4B-9EC5-425A-8D82-7B7DDE21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E8D01-AA48-497E-99ED-F105AD47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D1878-A9A0-4214-92A5-9CC47E80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3F9A7A-F5E7-4F01-8AE8-424711DE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6BAF9-AE01-4001-9918-9D366F46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12F03-E126-4B8F-8FA1-B624CBD4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CE940-CA10-4383-B5AF-DF3AD141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70BF6E-69A3-4810-808D-135946FC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6A72A-AFA3-4D9D-8AF5-A5FA4F2F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AC38A-C7FF-4D93-A390-0D26BAEC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01481-26F7-4E1D-AAE7-19AD1B57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2E671-3024-46CD-8E77-83648433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F1DA0-A7ED-4A06-AC54-074F5519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B4F1D-5B60-4DFB-8C83-3905187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4D5C15-61D6-41FA-B9A1-7324FD49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EEE18-36BB-4169-A420-88010491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F9EBDD-8688-476E-B68D-7D2C511C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22185-ED9D-4D4C-B17D-879AA72E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75303-6B21-4040-B847-CB10976A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0BA6C-E61A-457B-A9F3-598A754A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F603F-484C-4721-93F1-83F6183C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944E8-E348-48A4-B04F-5B6A1E74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D0DFC-03F0-423B-A453-B3907E04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25CEC-1424-4FCC-85EC-E8A82761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A5688-781D-4163-B30E-97E0B30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A01E3-3EB3-48CF-9DA1-62E6EAA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8F42B-3D3A-4CA1-B10F-267EE5EF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8BA91F-3714-4692-A2C6-C13652F6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D4C65C-4606-4978-8C66-84514CDA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7F5CE-1C2C-4EB2-950A-718513C2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213-6A21-4312-ABD1-4BC47F0A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8C0F-F4F5-4F43-8C47-8F28696F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286F-E83C-454C-BDFD-8204A7E8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AF03-76EF-4C0B-A47E-BF6DE2C3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571-9606-4ABA-B466-17EA0872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0884-440A-425F-A981-7EEF65CD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5EBE-B060-4B86-BA60-353EF257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4273-7C7F-4F35-ACDE-64FBF943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51A4-F82F-465B-A062-F3A8AFE2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4F2B-D467-408A-846B-E0AF2A1C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6810-89BA-4931-9C10-E75BCB96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B8C7-EC49-41FD-B45E-CB62FF2F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4E9F-2B72-44D8-8BF3-32013075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C692-E4CE-4032-91C6-232E80F3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D95-AF22-4721-AF24-27BA094C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4C5-FCB6-4522-933D-FE349BDB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7C1B-9BB7-4233-AD98-38197199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6CD3B-5061-44E1-B175-18E9C792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A0F06-A357-4CB0-BF24-1CE2ADE9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AF2D-8C24-403C-9CDC-D6120588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837FB-2791-4F76-A1C3-2ED995D1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CCA5-FA0E-4A24-8BC1-A15ECFD9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34BE-63C0-4F05-A382-610E8CAB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370FA-0F07-4C49-B591-77FD51D2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B41DD-1F28-4BBE-9729-69B764E7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9E8-C34A-4395-A94B-D37DA1F9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F4575-2B06-4CFA-A266-15A0826C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5D90-33E0-444C-A21E-87952B2B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0266-18A0-4234-AF98-7DF30DF4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184C-A799-445C-A6DC-75CF6C32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1BEAA-BD50-4FDA-8429-2291C33B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D282C-1D59-42DC-9BE4-BBABC8A1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4492-0E26-45FE-A383-CC6AD206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8605-D5EA-4299-BC03-EC9E30E8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DFA4-0ED3-4F34-94F2-BD89B182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DC0D0-B85A-46F7-9389-2A18E07B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298-F3E1-42D2-98AC-67E728E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AB937-1184-4D76-AC9B-C0D6B716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A083-5F49-4C1C-A290-A1B5A1E8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48D5C-45BF-4D79-A35A-A8B00C3A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DD3E-44D7-4BA0-BA05-CDB49FF1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31EA5-540E-44E7-82B7-5A7CBF01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169FB-7FA4-465E-8C0F-73F9FA21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AD7BC-4F18-4E87-9BF7-98DC7277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B06DA-183D-4E13-8C32-3D01B1A3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AA79-1D5F-4313-841C-C12B83A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BAEC6-453C-4581-9A8E-D2FF0C6F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9A0-72FE-4B09-B7C0-2312F308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D0042-D1BD-49B7-832F-6A5040AF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1B668-944E-4F43-9228-FFA3B308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CDA4B-8E1A-4193-B581-660952F8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D3179-8C9A-4858-BEC7-E62038B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B4C2-7CAE-440A-9FA0-A409662F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2B26-8B61-4E39-8EE3-4FC0CDE5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711DA-727E-4851-92CC-F13E8998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F0B1-45B9-4787-B20B-59E146EA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CD840-529B-42BA-B209-61B4AD2F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2C65E-E945-483E-B393-5E6512B6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E2AB-7D7C-4F90-B9FE-5723AAB7E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15FDC-4CF4-45DC-A4B1-06E66BFF1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40AD8-2E3C-4676-9542-AFE61AA41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DD10B-004C-4225-A5FD-F1040199D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96A51-1171-41A2-879A-D92ED6AA1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F386B-4D75-4C40-A040-3E974EB52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0A117-E5DD-4551-89ED-253FC4430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29C81-466A-4D85-ABD1-03CC33E8F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79FFE-644D-4345-9C33-3AE065F29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5D852-FC2E-4F49-BBED-90F2DBFFE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F070E-4EC9-457F-AE02-993DAA92A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CE4BA-2CF4-490F-87F0-A5BCCC816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cenery_003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8BE3-B8EF-44E6-9B3F-A712D597F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IPCClogoWMOUNEP_BL.ai"/>
          <p:cNvPicPr/>
          <p:nvPr/>
        </p:nvPicPr>
        <p:blipFill>
          <a:blip r:embed="rId2"/>
          <a:stretch/>
        </p:blipFill>
        <p:spPr>
          <a:xfrm>
            <a:off x="4325760" y="5791320"/>
            <a:ext cx="4741920" cy="1015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351E-5B26-42A7-900D-6B23F0AD8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0F03-63FA-404C-905D-CC70600DB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BB768-E48B-497C-8013-A335BE131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B76E5-ADC8-4BC6-9096-B8EC873BA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HG metrics in the WGIII contribution to the AR5</a:t>
            </a:r>
            <a:br>
              <a:rPr sz="15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nn, 03 April 2012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an Minx, Steffen Brunner &amp; Ottmar Edenhof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4" descr="cc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5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44460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explicit about how metrics ar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putal clarification of alternative emission metrics and their relationships – including both physical and more comprehensive economic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e underlying uncertainties and value jud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relationship alternative emission metrics to purpose of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iative comparisons and/or assessment of numerical values for alternative metrics as appropr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Assessment of metrics in context of WGIII contribution to A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222AF2-0B39-411F-8617-E1037CAB23B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feld 2"/>
          <p:cNvSpPr/>
          <p:nvPr/>
        </p:nvSpPr>
        <p:spPr>
          <a:xfrm>
            <a:off x="1567440" y="3213000"/>
            <a:ext cx="59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44928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CC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rehensive and scientifically sound review of the relevant literatu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of disparate views for which there is significant scientific or technical support;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icy-neutral presentation of the scientific content in a manner relevant to policyma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705F83-02A4-4F60-AAB7-47EC7C9FCB5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449280" y="1341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Challenges for WGIII assessment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scientific resolution of value dis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ossible to distinguish facts and values nea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gh potentially fundamental uncertainties associated with long-term policy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mplications for WGIII assessm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munication of uncertainties both in quantitative and qualitative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parency of contested value-laden assumptions and implicit value jud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3"/>
          <p:cNvSpPr/>
          <p:nvPr/>
        </p:nvSpPr>
        <p:spPr>
          <a:xfrm>
            <a:off x="0" y="561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41956A-F953-47E1-843E-377BDA5EC6D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bgerundetes Rechteck 2"/>
          <p:cNvSpPr/>
          <p:nvPr/>
        </p:nvSpPr>
        <p:spPr>
          <a:xfrm>
            <a:off x="1619280" y="1989000"/>
            <a:ext cx="6265800" cy="3230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CC and other scientific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Division of labour at the science-polic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C0C43A-0B3A-4350-8287-E8F0A790FCD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Bild1"/>
          <p:cNvPicPr/>
          <p:nvPr/>
        </p:nvPicPr>
        <p:blipFill>
          <a:blip r:embed="rId1"/>
          <a:stretch/>
        </p:blipFill>
        <p:spPr>
          <a:xfrm>
            <a:off x="1116000" y="1557360"/>
            <a:ext cx="6594480" cy="2913120"/>
          </a:xfrm>
          <a:prstGeom prst="rect">
            <a:avLst/>
          </a:prstGeom>
          <a:ln w="0">
            <a:noFill/>
          </a:ln>
        </p:spPr>
      </p:pic>
      <p:sp>
        <p:nvSpPr>
          <p:cNvPr id="871" name="Textfeld 1"/>
          <p:cNvSpPr/>
          <p:nvPr/>
        </p:nvSpPr>
        <p:spPr>
          <a:xfrm>
            <a:off x="2137320" y="5003640"/>
            <a:ext cx="435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d from: Edenhofer and Kowarsch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GIII Assessment: Exploring the Solution Space – a mapp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DFF1FD-119F-45CE-88CF-33F707165DA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5" descr=""/>
          <p:cNvPicPr/>
          <p:nvPr/>
        </p:nvPicPr>
        <p:blipFill>
          <a:blip r:embed="rId1"/>
          <a:stretch/>
        </p:blipFill>
        <p:spPr>
          <a:xfrm>
            <a:off x="971640" y="1295280"/>
            <a:ext cx="7200720" cy="5407200"/>
          </a:xfrm>
          <a:prstGeom prst="rect">
            <a:avLst/>
          </a:prstGeom>
          <a:ln w="0">
            <a:noFill/>
          </a:ln>
        </p:spPr>
      </p:pic>
      <p:sp>
        <p:nvSpPr>
          <p:cNvPr id="875" name="Freeform 10"/>
          <p:cNvSpPr/>
          <p:nvPr/>
        </p:nvSpPr>
        <p:spPr>
          <a:xfrm>
            <a:off x="2610000" y="3024360"/>
            <a:ext cx="866520" cy="2892240"/>
          </a:xfrm>
          <a:custGeom>
            <a:avLst/>
            <a:gdLst/>
            <a:ahLst/>
            <a:rect l="l" t="t" r="r" b="b"/>
            <a:pathLst>
              <a:path w="546" h="1822">
                <a:moveTo>
                  <a:pt x="392" y="1822"/>
                </a:moveTo>
                <a:cubicBezTo>
                  <a:pt x="417" y="1750"/>
                  <a:pt x="403" y="1666"/>
                  <a:pt x="365" y="1601"/>
                </a:cubicBezTo>
                <a:cubicBezTo>
                  <a:pt x="347" y="1571"/>
                  <a:pt x="318" y="1549"/>
                  <a:pt x="298" y="1520"/>
                </a:cubicBezTo>
                <a:cubicBezTo>
                  <a:pt x="289" y="1490"/>
                  <a:pt x="268" y="1469"/>
                  <a:pt x="258" y="1440"/>
                </a:cubicBezTo>
                <a:cubicBezTo>
                  <a:pt x="263" y="1304"/>
                  <a:pt x="252" y="1274"/>
                  <a:pt x="285" y="1179"/>
                </a:cubicBezTo>
                <a:cubicBezTo>
                  <a:pt x="283" y="1157"/>
                  <a:pt x="283" y="1134"/>
                  <a:pt x="278" y="1112"/>
                </a:cubicBezTo>
                <a:cubicBezTo>
                  <a:pt x="272" y="1088"/>
                  <a:pt x="218" y="1038"/>
                  <a:pt x="198" y="1025"/>
                </a:cubicBezTo>
                <a:cubicBezTo>
                  <a:pt x="188" y="998"/>
                  <a:pt x="180" y="995"/>
                  <a:pt x="158" y="978"/>
                </a:cubicBezTo>
                <a:cubicBezTo>
                  <a:pt x="141" y="965"/>
                  <a:pt x="133" y="946"/>
                  <a:pt x="117" y="931"/>
                </a:cubicBezTo>
                <a:cubicBezTo>
                  <a:pt x="77" y="849"/>
                  <a:pt x="131" y="948"/>
                  <a:pt x="84" y="891"/>
                </a:cubicBezTo>
                <a:cubicBezTo>
                  <a:pt x="73" y="877"/>
                  <a:pt x="67" y="859"/>
                  <a:pt x="57" y="844"/>
                </a:cubicBezTo>
                <a:cubicBezTo>
                  <a:pt x="50" y="820"/>
                  <a:pt x="34" y="813"/>
                  <a:pt x="24" y="790"/>
                </a:cubicBezTo>
                <a:cubicBezTo>
                  <a:pt x="18" y="777"/>
                  <a:pt x="10" y="750"/>
                  <a:pt x="10" y="750"/>
                </a:cubicBezTo>
                <a:cubicBezTo>
                  <a:pt x="12" y="723"/>
                  <a:pt x="0" y="609"/>
                  <a:pt x="51" y="583"/>
                </a:cubicBezTo>
                <a:cubicBezTo>
                  <a:pt x="63" y="577"/>
                  <a:pt x="95" y="568"/>
                  <a:pt x="111" y="563"/>
                </a:cubicBezTo>
                <a:cubicBezTo>
                  <a:pt x="177" y="517"/>
                  <a:pt x="229" y="509"/>
                  <a:pt x="305" y="489"/>
                </a:cubicBezTo>
                <a:cubicBezTo>
                  <a:pt x="337" y="468"/>
                  <a:pt x="317" y="479"/>
                  <a:pt x="365" y="462"/>
                </a:cubicBezTo>
                <a:cubicBezTo>
                  <a:pt x="391" y="453"/>
                  <a:pt x="393" y="430"/>
                  <a:pt x="412" y="415"/>
                </a:cubicBezTo>
                <a:cubicBezTo>
                  <a:pt x="429" y="401"/>
                  <a:pt x="483" y="397"/>
                  <a:pt x="499" y="395"/>
                </a:cubicBezTo>
                <a:cubicBezTo>
                  <a:pt x="525" y="386"/>
                  <a:pt x="531" y="378"/>
                  <a:pt x="546" y="355"/>
                </a:cubicBezTo>
                <a:cubicBezTo>
                  <a:pt x="541" y="314"/>
                  <a:pt x="546" y="288"/>
                  <a:pt x="519" y="261"/>
                </a:cubicBezTo>
                <a:cubicBezTo>
                  <a:pt x="512" y="238"/>
                  <a:pt x="502" y="231"/>
                  <a:pt x="486" y="214"/>
                </a:cubicBezTo>
                <a:cubicBezTo>
                  <a:pt x="483" y="169"/>
                  <a:pt x="497" y="117"/>
                  <a:pt x="472" y="80"/>
                </a:cubicBezTo>
                <a:cubicBezTo>
                  <a:pt x="463" y="66"/>
                  <a:pt x="412" y="16"/>
                  <a:pt x="412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2"/>
          <p:cNvSpPr/>
          <p:nvPr/>
        </p:nvSpPr>
        <p:spPr>
          <a:xfrm>
            <a:off x="1660680" y="3024360"/>
            <a:ext cx="1625400" cy="2892240"/>
          </a:xfrm>
          <a:custGeom>
            <a:avLst/>
            <a:gdLst/>
            <a:ahLst/>
            <a:rect l="l" t="t" r="r" b="b"/>
            <a:pathLst>
              <a:path w="1024" h="1822">
                <a:moveTo>
                  <a:pt x="977" y="1822"/>
                </a:moveTo>
                <a:cubicBezTo>
                  <a:pt x="970" y="1773"/>
                  <a:pt x="970" y="1754"/>
                  <a:pt x="930" y="1728"/>
                </a:cubicBezTo>
                <a:cubicBezTo>
                  <a:pt x="919" y="1697"/>
                  <a:pt x="908" y="1689"/>
                  <a:pt x="876" y="1681"/>
                </a:cubicBezTo>
                <a:cubicBezTo>
                  <a:pt x="861" y="1658"/>
                  <a:pt x="848" y="1659"/>
                  <a:pt x="829" y="1641"/>
                </a:cubicBezTo>
                <a:cubicBezTo>
                  <a:pt x="819" y="1608"/>
                  <a:pt x="830" y="1631"/>
                  <a:pt x="803" y="1607"/>
                </a:cubicBezTo>
                <a:cubicBezTo>
                  <a:pt x="791" y="1597"/>
                  <a:pt x="769" y="1574"/>
                  <a:pt x="769" y="1574"/>
                </a:cubicBezTo>
                <a:cubicBezTo>
                  <a:pt x="752" y="1527"/>
                  <a:pt x="716" y="1489"/>
                  <a:pt x="689" y="1447"/>
                </a:cubicBezTo>
                <a:cubicBezTo>
                  <a:pt x="681" y="1435"/>
                  <a:pt x="685" y="1417"/>
                  <a:pt x="675" y="1407"/>
                </a:cubicBezTo>
                <a:cubicBezTo>
                  <a:pt x="671" y="1402"/>
                  <a:pt x="666" y="1398"/>
                  <a:pt x="662" y="1393"/>
                </a:cubicBezTo>
                <a:cubicBezTo>
                  <a:pt x="641" y="1332"/>
                  <a:pt x="577" y="1286"/>
                  <a:pt x="528" y="1246"/>
                </a:cubicBezTo>
                <a:cubicBezTo>
                  <a:pt x="504" y="1226"/>
                  <a:pt x="483" y="1201"/>
                  <a:pt x="461" y="1179"/>
                </a:cubicBezTo>
                <a:cubicBezTo>
                  <a:pt x="447" y="1165"/>
                  <a:pt x="406" y="1138"/>
                  <a:pt x="387" y="1125"/>
                </a:cubicBezTo>
                <a:cubicBezTo>
                  <a:pt x="361" y="1085"/>
                  <a:pt x="321" y="1059"/>
                  <a:pt x="280" y="1038"/>
                </a:cubicBezTo>
                <a:cubicBezTo>
                  <a:pt x="273" y="1034"/>
                  <a:pt x="266" y="1030"/>
                  <a:pt x="260" y="1025"/>
                </a:cubicBezTo>
                <a:cubicBezTo>
                  <a:pt x="255" y="1021"/>
                  <a:pt x="252" y="1014"/>
                  <a:pt x="247" y="1011"/>
                </a:cubicBezTo>
                <a:cubicBezTo>
                  <a:pt x="235" y="1004"/>
                  <a:pt x="219" y="1004"/>
                  <a:pt x="206" y="998"/>
                </a:cubicBezTo>
                <a:cubicBezTo>
                  <a:pt x="140" y="966"/>
                  <a:pt x="224" y="1003"/>
                  <a:pt x="173" y="971"/>
                </a:cubicBezTo>
                <a:cubicBezTo>
                  <a:pt x="169" y="968"/>
                  <a:pt x="137" y="959"/>
                  <a:pt x="133" y="958"/>
                </a:cubicBezTo>
                <a:cubicBezTo>
                  <a:pt x="131" y="927"/>
                  <a:pt x="139" y="892"/>
                  <a:pt x="126" y="864"/>
                </a:cubicBezTo>
                <a:cubicBezTo>
                  <a:pt x="120" y="852"/>
                  <a:pt x="96" y="867"/>
                  <a:pt x="86" y="857"/>
                </a:cubicBezTo>
                <a:cubicBezTo>
                  <a:pt x="81" y="852"/>
                  <a:pt x="107" y="843"/>
                  <a:pt x="126" y="837"/>
                </a:cubicBezTo>
                <a:cubicBezTo>
                  <a:pt x="117" y="833"/>
                  <a:pt x="109" y="826"/>
                  <a:pt x="99" y="824"/>
                </a:cubicBezTo>
                <a:cubicBezTo>
                  <a:pt x="82" y="820"/>
                  <a:pt x="61" y="827"/>
                  <a:pt x="46" y="817"/>
                </a:cubicBezTo>
                <a:cubicBezTo>
                  <a:pt x="41" y="814"/>
                  <a:pt x="83" y="773"/>
                  <a:pt x="86" y="770"/>
                </a:cubicBezTo>
                <a:cubicBezTo>
                  <a:pt x="79" y="766"/>
                  <a:pt x="74" y="759"/>
                  <a:pt x="66" y="757"/>
                </a:cubicBezTo>
                <a:cubicBezTo>
                  <a:pt x="46" y="752"/>
                  <a:pt x="24" y="759"/>
                  <a:pt x="6" y="750"/>
                </a:cubicBezTo>
                <a:cubicBezTo>
                  <a:pt x="0" y="747"/>
                  <a:pt x="10" y="737"/>
                  <a:pt x="12" y="730"/>
                </a:cubicBezTo>
                <a:cubicBezTo>
                  <a:pt x="14" y="723"/>
                  <a:pt x="16" y="716"/>
                  <a:pt x="19" y="710"/>
                </a:cubicBezTo>
                <a:cubicBezTo>
                  <a:pt x="39" y="670"/>
                  <a:pt x="60" y="657"/>
                  <a:pt x="99" y="643"/>
                </a:cubicBezTo>
                <a:cubicBezTo>
                  <a:pt x="126" y="618"/>
                  <a:pt x="143" y="590"/>
                  <a:pt x="173" y="569"/>
                </a:cubicBezTo>
                <a:cubicBezTo>
                  <a:pt x="219" y="498"/>
                  <a:pt x="311" y="489"/>
                  <a:pt x="387" y="482"/>
                </a:cubicBezTo>
                <a:cubicBezTo>
                  <a:pt x="400" y="446"/>
                  <a:pt x="417" y="430"/>
                  <a:pt x="374" y="415"/>
                </a:cubicBezTo>
                <a:cubicBezTo>
                  <a:pt x="364" y="386"/>
                  <a:pt x="348" y="370"/>
                  <a:pt x="327" y="348"/>
                </a:cubicBezTo>
                <a:cubicBezTo>
                  <a:pt x="325" y="341"/>
                  <a:pt x="324" y="333"/>
                  <a:pt x="320" y="328"/>
                </a:cubicBezTo>
                <a:cubicBezTo>
                  <a:pt x="315" y="322"/>
                  <a:pt x="302" y="323"/>
                  <a:pt x="300" y="315"/>
                </a:cubicBezTo>
                <a:cubicBezTo>
                  <a:pt x="297" y="300"/>
                  <a:pt x="326" y="299"/>
                  <a:pt x="347" y="295"/>
                </a:cubicBezTo>
                <a:cubicBezTo>
                  <a:pt x="419" y="223"/>
                  <a:pt x="480" y="233"/>
                  <a:pt x="582" y="228"/>
                </a:cubicBezTo>
                <a:cubicBezTo>
                  <a:pt x="626" y="212"/>
                  <a:pt x="652" y="206"/>
                  <a:pt x="702" y="201"/>
                </a:cubicBezTo>
                <a:cubicBezTo>
                  <a:pt x="734" y="180"/>
                  <a:pt x="766" y="165"/>
                  <a:pt x="796" y="141"/>
                </a:cubicBezTo>
                <a:cubicBezTo>
                  <a:pt x="809" y="131"/>
                  <a:pt x="828" y="105"/>
                  <a:pt x="843" y="100"/>
                </a:cubicBezTo>
                <a:cubicBezTo>
                  <a:pt x="858" y="95"/>
                  <a:pt x="874" y="96"/>
                  <a:pt x="890" y="94"/>
                </a:cubicBezTo>
                <a:cubicBezTo>
                  <a:pt x="920" y="84"/>
                  <a:pt x="924" y="56"/>
                  <a:pt x="950" y="40"/>
                </a:cubicBezTo>
                <a:cubicBezTo>
                  <a:pt x="968" y="29"/>
                  <a:pt x="997" y="27"/>
                  <a:pt x="1017" y="20"/>
                </a:cubicBezTo>
                <a:cubicBezTo>
                  <a:pt x="1019" y="13"/>
                  <a:pt x="1024" y="0"/>
                  <a:pt x="1024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6"/>
          <p:cNvSpPr/>
          <p:nvPr/>
        </p:nvSpPr>
        <p:spPr>
          <a:xfrm>
            <a:off x="3132000" y="3067200"/>
            <a:ext cx="430200" cy="2817720"/>
          </a:xfrm>
          <a:custGeom>
            <a:avLst/>
            <a:gdLst/>
            <a:ahLst/>
            <a:rect l="l" t="t" r="r" b="b"/>
            <a:pathLst>
              <a:path w="271" h="1775">
                <a:moveTo>
                  <a:pt x="63" y="1775"/>
                </a:moveTo>
                <a:cubicBezTo>
                  <a:pt x="78" y="1759"/>
                  <a:pt x="91" y="1747"/>
                  <a:pt x="110" y="1735"/>
                </a:cubicBezTo>
                <a:cubicBezTo>
                  <a:pt x="118" y="1710"/>
                  <a:pt x="125" y="1687"/>
                  <a:pt x="130" y="1661"/>
                </a:cubicBezTo>
                <a:cubicBezTo>
                  <a:pt x="128" y="1621"/>
                  <a:pt x="155" y="1495"/>
                  <a:pt x="103" y="1447"/>
                </a:cubicBezTo>
                <a:cubicBezTo>
                  <a:pt x="88" y="1394"/>
                  <a:pt x="109" y="1454"/>
                  <a:pt x="83" y="1413"/>
                </a:cubicBezTo>
                <a:cubicBezTo>
                  <a:pt x="67" y="1388"/>
                  <a:pt x="71" y="1362"/>
                  <a:pt x="50" y="1339"/>
                </a:cubicBezTo>
                <a:cubicBezTo>
                  <a:pt x="34" y="1292"/>
                  <a:pt x="40" y="1313"/>
                  <a:pt x="30" y="1279"/>
                </a:cubicBezTo>
                <a:cubicBezTo>
                  <a:pt x="32" y="1221"/>
                  <a:pt x="0" y="1063"/>
                  <a:pt x="90" y="1031"/>
                </a:cubicBezTo>
                <a:cubicBezTo>
                  <a:pt x="100" y="1003"/>
                  <a:pt x="116" y="994"/>
                  <a:pt x="123" y="964"/>
                </a:cubicBezTo>
                <a:cubicBezTo>
                  <a:pt x="126" y="932"/>
                  <a:pt x="129" y="870"/>
                  <a:pt x="143" y="837"/>
                </a:cubicBezTo>
                <a:cubicBezTo>
                  <a:pt x="149" y="822"/>
                  <a:pt x="165" y="823"/>
                  <a:pt x="177" y="817"/>
                </a:cubicBezTo>
                <a:cubicBezTo>
                  <a:pt x="206" y="802"/>
                  <a:pt x="227" y="772"/>
                  <a:pt x="251" y="750"/>
                </a:cubicBezTo>
                <a:cubicBezTo>
                  <a:pt x="254" y="594"/>
                  <a:pt x="271" y="352"/>
                  <a:pt x="257" y="187"/>
                </a:cubicBezTo>
                <a:cubicBezTo>
                  <a:pt x="256" y="171"/>
                  <a:pt x="235" y="161"/>
                  <a:pt x="224" y="154"/>
                </a:cubicBezTo>
                <a:cubicBezTo>
                  <a:pt x="195" y="113"/>
                  <a:pt x="173" y="69"/>
                  <a:pt x="137" y="33"/>
                </a:cubicBezTo>
                <a:cubicBezTo>
                  <a:pt x="127" y="23"/>
                  <a:pt x="103" y="14"/>
                  <a:pt x="103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7"/>
          <p:cNvSpPr/>
          <p:nvPr/>
        </p:nvSpPr>
        <p:spPr>
          <a:xfrm rot="16200000">
            <a:off x="-2123280" y="3793680"/>
            <a:ext cx="58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  <a:ea typeface="Lucida Sans Unicode"/>
              </a:rPr>
              <a:t>http://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  <a:ea typeface="Lucida Sans Unicode"/>
              </a:rPr>
              <a:t>www.trail.ch/gallery/albums/trail/graubunden/fuorcla-surlej/corvatsch-fuorcla-surlej-val-roseg-09_09_2006-img_2598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2"/>
          <p:cNvSpPr/>
          <p:nvPr/>
        </p:nvSpPr>
        <p:spPr>
          <a:xfrm>
            <a:off x="3132000" y="201600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9"/>
          <p:cNvSpPr/>
          <p:nvPr/>
        </p:nvSpPr>
        <p:spPr>
          <a:xfrm flipH="1" flipV="1">
            <a:off x="3132000" y="2015640"/>
            <a:ext cx="14472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3"/>
          <p:cNvSpPr/>
          <p:nvPr/>
        </p:nvSpPr>
        <p:spPr>
          <a:xfrm>
            <a:off x="3059280" y="1944720"/>
            <a:ext cx="14436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7"/>
          <p:cNvSpPr/>
          <p:nvPr/>
        </p:nvSpPr>
        <p:spPr>
          <a:xfrm flipH="1" flipV="1">
            <a:off x="3132000" y="489600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8"/>
          <p:cNvSpPr/>
          <p:nvPr/>
        </p:nvSpPr>
        <p:spPr>
          <a:xfrm>
            <a:off x="3059280" y="4824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1"/>
          <p:cNvSpPr/>
          <p:nvPr/>
        </p:nvSpPr>
        <p:spPr>
          <a:xfrm rot="21363000">
            <a:off x="3156120" y="2077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9"/>
          <p:cNvSpPr/>
          <p:nvPr/>
        </p:nvSpPr>
        <p:spPr>
          <a:xfrm flipH="1" flipV="1">
            <a:off x="5630760" y="209232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5557680" y="2021040"/>
            <a:ext cx="14472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2"/>
          <p:cNvSpPr/>
          <p:nvPr/>
        </p:nvSpPr>
        <p:spPr>
          <a:xfrm>
            <a:off x="5651640" y="215892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1"/>
          <p:cNvSpPr/>
          <p:nvPr/>
        </p:nvSpPr>
        <p:spPr>
          <a:xfrm rot="21363000">
            <a:off x="5664600" y="2228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2"/>
          <p:cNvSpPr/>
          <p:nvPr/>
        </p:nvSpPr>
        <p:spPr>
          <a:xfrm>
            <a:off x="3995640" y="244800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3"/>
          <p:cNvSpPr/>
          <p:nvPr/>
        </p:nvSpPr>
        <p:spPr>
          <a:xfrm>
            <a:off x="3924360" y="2376360"/>
            <a:ext cx="144360" cy="7164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1"/>
          <p:cNvSpPr/>
          <p:nvPr/>
        </p:nvSpPr>
        <p:spPr>
          <a:xfrm rot="21363000">
            <a:off x="4019760" y="2509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9"/>
          <p:cNvSpPr/>
          <p:nvPr/>
        </p:nvSpPr>
        <p:spPr>
          <a:xfrm flipH="1" flipV="1">
            <a:off x="3995640" y="2448000"/>
            <a:ext cx="12240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39"/>
          <p:cNvSpPr/>
          <p:nvPr/>
        </p:nvSpPr>
        <p:spPr>
          <a:xfrm>
            <a:off x="3537000" y="3168720"/>
            <a:ext cx="565200" cy="1112760"/>
          </a:xfrm>
          <a:custGeom>
            <a:avLst/>
            <a:gdLst/>
            <a:ahLst/>
            <a:rect l="l" t="t" r="r" b="b"/>
            <a:pathLst>
              <a:path w="356" h="701">
                <a:moveTo>
                  <a:pt x="0" y="692"/>
                </a:moveTo>
                <a:cubicBezTo>
                  <a:pt x="56" y="690"/>
                  <a:pt x="82" y="701"/>
                  <a:pt x="120" y="676"/>
                </a:cubicBezTo>
                <a:cubicBezTo>
                  <a:pt x="147" y="636"/>
                  <a:pt x="132" y="609"/>
                  <a:pt x="136" y="548"/>
                </a:cubicBezTo>
                <a:cubicBezTo>
                  <a:pt x="139" y="498"/>
                  <a:pt x="180" y="450"/>
                  <a:pt x="220" y="424"/>
                </a:cubicBezTo>
                <a:cubicBezTo>
                  <a:pt x="233" y="405"/>
                  <a:pt x="238" y="392"/>
                  <a:pt x="256" y="380"/>
                </a:cubicBezTo>
                <a:cubicBezTo>
                  <a:pt x="263" y="360"/>
                  <a:pt x="269" y="340"/>
                  <a:pt x="276" y="320"/>
                </a:cubicBezTo>
                <a:cubicBezTo>
                  <a:pt x="279" y="312"/>
                  <a:pt x="281" y="304"/>
                  <a:pt x="284" y="296"/>
                </a:cubicBezTo>
                <a:cubicBezTo>
                  <a:pt x="285" y="292"/>
                  <a:pt x="288" y="284"/>
                  <a:pt x="288" y="284"/>
                </a:cubicBezTo>
                <a:cubicBezTo>
                  <a:pt x="287" y="253"/>
                  <a:pt x="256" y="79"/>
                  <a:pt x="308" y="44"/>
                </a:cubicBezTo>
                <a:cubicBezTo>
                  <a:pt x="315" y="34"/>
                  <a:pt x="327" y="19"/>
                  <a:pt x="336" y="12"/>
                </a:cubicBezTo>
                <a:cubicBezTo>
                  <a:pt x="339" y="9"/>
                  <a:pt x="344" y="10"/>
                  <a:pt x="348" y="8"/>
                </a:cubicBezTo>
                <a:cubicBezTo>
                  <a:pt x="351" y="6"/>
                  <a:pt x="353" y="3"/>
                  <a:pt x="356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1"/>
          <p:cNvSpPr/>
          <p:nvPr/>
        </p:nvSpPr>
        <p:spPr>
          <a:xfrm>
            <a:off x="3282840" y="3160800"/>
            <a:ext cx="1114560" cy="2725560"/>
          </a:xfrm>
          <a:custGeom>
            <a:avLst/>
            <a:gdLst/>
            <a:ahLst/>
            <a:rect l="l" t="t" r="r" b="b"/>
            <a:pathLst>
              <a:path w="702" h="1717">
                <a:moveTo>
                  <a:pt x="0" y="1717"/>
                </a:moveTo>
                <a:cubicBezTo>
                  <a:pt x="19" y="1704"/>
                  <a:pt x="38" y="1688"/>
                  <a:pt x="52" y="1669"/>
                </a:cubicBezTo>
                <a:cubicBezTo>
                  <a:pt x="62" y="1639"/>
                  <a:pt x="47" y="1675"/>
                  <a:pt x="68" y="1649"/>
                </a:cubicBezTo>
                <a:cubicBezTo>
                  <a:pt x="74" y="1642"/>
                  <a:pt x="75" y="1632"/>
                  <a:pt x="80" y="1625"/>
                </a:cubicBezTo>
                <a:cubicBezTo>
                  <a:pt x="81" y="1597"/>
                  <a:pt x="63" y="1439"/>
                  <a:pt x="120" y="1401"/>
                </a:cubicBezTo>
                <a:cubicBezTo>
                  <a:pt x="124" y="1380"/>
                  <a:pt x="126" y="1373"/>
                  <a:pt x="144" y="1361"/>
                </a:cubicBezTo>
                <a:cubicBezTo>
                  <a:pt x="151" y="1341"/>
                  <a:pt x="162" y="1325"/>
                  <a:pt x="180" y="1313"/>
                </a:cubicBezTo>
                <a:cubicBezTo>
                  <a:pt x="191" y="1296"/>
                  <a:pt x="204" y="1287"/>
                  <a:pt x="216" y="1269"/>
                </a:cubicBezTo>
                <a:cubicBezTo>
                  <a:pt x="237" y="1237"/>
                  <a:pt x="227" y="1230"/>
                  <a:pt x="264" y="1205"/>
                </a:cubicBezTo>
                <a:cubicBezTo>
                  <a:pt x="280" y="1194"/>
                  <a:pt x="295" y="1188"/>
                  <a:pt x="312" y="1177"/>
                </a:cubicBezTo>
                <a:cubicBezTo>
                  <a:pt x="319" y="1172"/>
                  <a:pt x="336" y="1169"/>
                  <a:pt x="336" y="1169"/>
                </a:cubicBezTo>
                <a:cubicBezTo>
                  <a:pt x="353" y="1152"/>
                  <a:pt x="359" y="1143"/>
                  <a:pt x="380" y="1129"/>
                </a:cubicBezTo>
                <a:cubicBezTo>
                  <a:pt x="384" y="1126"/>
                  <a:pt x="392" y="1121"/>
                  <a:pt x="392" y="1121"/>
                </a:cubicBezTo>
                <a:cubicBezTo>
                  <a:pt x="401" y="1107"/>
                  <a:pt x="410" y="1098"/>
                  <a:pt x="424" y="1089"/>
                </a:cubicBezTo>
                <a:cubicBezTo>
                  <a:pt x="432" y="1066"/>
                  <a:pt x="423" y="1087"/>
                  <a:pt x="440" y="1065"/>
                </a:cubicBezTo>
                <a:cubicBezTo>
                  <a:pt x="446" y="1057"/>
                  <a:pt x="456" y="1041"/>
                  <a:pt x="456" y="1041"/>
                </a:cubicBezTo>
                <a:cubicBezTo>
                  <a:pt x="453" y="972"/>
                  <a:pt x="453" y="926"/>
                  <a:pt x="404" y="877"/>
                </a:cubicBezTo>
                <a:cubicBezTo>
                  <a:pt x="392" y="840"/>
                  <a:pt x="391" y="804"/>
                  <a:pt x="404" y="765"/>
                </a:cubicBezTo>
                <a:cubicBezTo>
                  <a:pt x="406" y="723"/>
                  <a:pt x="397" y="664"/>
                  <a:pt x="432" y="629"/>
                </a:cubicBezTo>
                <a:cubicBezTo>
                  <a:pt x="445" y="616"/>
                  <a:pt x="453" y="604"/>
                  <a:pt x="468" y="593"/>
                </a:cubicBezTo>
                <a:cubicBezTo>
                  <a:pt x="476" y="587"/>
                  <a:pt x="492" y="577"/>
                  <a:pt x="492" y="577"/>
                </a:cubicBezTo>
                <a:cubicBezTo>
                  <a:pt x="526" y="526"/>
                  <a:pt x="504" y="494"/>
                  <a:pt x="488" y="445"/>
                </a:cubicBezTo>
                <a:cubicBezTo>
                  <a:pt x="502" y="404"/>
                  <a:pt x="509" y="375"/>
                  <a:pt x="548" y="349"/>
                </a:cubicBezTo>
                <a:cubicBezTo>
                  <a:pt x="563" y="327"/>
                  <a:pt x="551" y="347"/>
                  <a:pt x="560" y="313"/>
                </a:cubicBezTo>
                <a:cubicBezTo>
                  <a:pt x="576" y="248"/>
                  <a:pt x="596" y="272"/>
                  <a:pt x="680" y="269"/>
                </a:cubicBezTo>
                <a:cubicBezTo>
                  <a:pt x="702" y="255"/>
                  <a:pt x="693" y="228"/>
                  <a:pt x="672" y="221"/>
                </a:cubicBezTo>
                <a:cubicBezTo>
                  <a:pt x="671" y="184"/>
                  <a:pt x="673" y="146"/>
                  <a:pt x="668" y="109"/>
                </a:cubicBezTo>
                <a:cubicBezTo>
                  <a:pt x="667" y="104"/>
                  <a:pt x="623" y="77"/>
                  <a:pt x="616" y="73"/>
                </a:cubicBezTo>
                <a:cubicBezTo>
                  <a:pt x="608" y="68"/>
                  <a:pt x="592" y="57"/>
                  <a:pt x="592" y="57"/>
                </a:cubicBezTo>
                <a:cubicBezTo>
                  <a:pt x="585" y="46"/>
                  <a:pt x="564" y="29"/>
                  <a:pt x="552" y="25"/>
                </a:cubicBezTo>
                <a:cubicBezTo>
                  <a:pt x="535" y="0"/>
                  <a:pt x="546" y="1"/>
                  <a:pt x="532" y="1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42"/>
          <p:cNvSpPr/>
          <p:nvPr/>
        </p:nvSpPr>
        <p:spPr>
          <a:xfrm>
            <a:off x="3295800" y="3124080"/>
            <a:ext cx="2603520" cy="2770200"/>
          </a:xfrm>
          <a:custGeom>
            <a:avLst/>
            <a:gdLst/>
            <a:ahLst/>
            <a:rect l="l" t="t" r="r" b="b"/>
            <a:pathLst>
              <a:path w="1640" h="1745">
                <a:moveTo>
                  <a:pt x="0" y="1744"/>
                </a:moveTo>
                <a:cubicBezTo>
                  <a:pt x="28" y="1743"/>
                  <a:pt x="56" y="1745"/>
                  <a:pt x="84" y="1740"/>
                </a:cubicBezTo>
                <a:cubicBezTo>
                  <a:pt x="102" y="1737"/>
                  <a:pt x="132" y="1704"/>
                  <a:pt x="144" y="1692"/>
                </a:cubicBezTo>
                <a:cubicBezTo>
                  <a:pt x="176" y="1660"/>
                  <a:pt x="198" y="1613"/>
                  <a:pt x="236" y="1588"/>
                </a:cubicBezTo>
                <a:cubicBezTo>
                  <a:pt x="250" y="1567"/>
                  <a:pt x="292" y="1525"/>
                  <a:pt x="312" y="1512"/>
                </a:cubicBezTo>
                <a:cubicBezTo>
                  <a:pt x="355" y="1483"/>
                  <a:pt x="290" y="1528"/>
                  <a:pt x="336" y="1492"/>
                </a:cubicBezTo>
                <a:cubicBezTo>
                  <a:pt x="344" y="1486"/>
                  <a:pt x="360" y="1476"/>
                  <a:pt x="360" y="1476"/>
                </a:cubicBezTo>
                <a:cubicBezTo>
                  <a:pt x="377" y="1450"/>
                  <a:pt x="394" y="1442"/>
                  <a:pt x="420" y="1424"/>
                </a:cubicBezTo>
                <a:cubicBezTo>
                  <a:pt x="475" y="1341"/>
                  <a:pt x="508" y="1363"/>
                  <a:pt x="620" y="1360"/>
                </a:cubicBezTo>
                <a:cubicBezTo>
                  <a:pt x="628" y="1357"/>
                  <a:pt x="636" y="1355"/>
                  <a:pt x="644" y="1352"/>
                </a:cubicBezTo>
                <a:cubicBezTo>
                  <a:pt x="648" y="1351"/>
                  <a:pt x="656" y="1348"/>
                  <a:pt x="656" y="1348"/>
                </a:cubicBezTo>
                <a:cubicBezTo>
                  <a:pt x="668" y="1336"/>
                  <a:pt x="674" y="1325"/>
                  <a:pt x="688" y="1316"/>
                </a:cubicBezTo>
                <a:cubicBezTo>
                  <a:pt x="693" y="1300"/>
                  <a:pt x="694" y="1283"/>
                  <a:pt x="700" y="1268"/>
                </a:cubicBezTo>
                <a:cubicBezTo>
                  <a:pt x="704" y="1258"/>
                  <a:pt x="731" y="1223"/>
                  <a:pt x="740" y="1220"/>
                </a:cubicBezTo>
                <a:cubicBezTo>
                  <a:pt x="750" y="1217"/>
                  <a:pt x="759" y="1214"/>
                  <a:pt x="768" y="1208"/>
                </a:cubicBezTo>
                <a:cubicBezTo>
                  <a:pt x="781" y="1198"/>
                  <a:pt x="786" y="1185"/>
                  <a:pt x="800" y="1176"/>
                </a:cubicBezTo>
                <a:cubicBezTo>
                  <a:pt x="831" y="1129"/>
                  <a:pt x="875" y="1135"/>
                  <a:pt x="928" y="1132"/>
                </a:cubicBezTo>
                <a:cubicBezTo>
                  <a:pt x="951" y="1124"/>
                  <a:pt x="980" y="1105"/>
                  <a:pt x="1000" y="1092"/>
                </a:cubicBezTo>
                <a:cubicBezTo>
                  <a:pt x="1008" y="1087"/>
                  <a:pt x="1024" y="1076"/>
                  <a:pt x="1024" y="1076"/>
                </a:cubicBezTo>
                <a:cubicBezTo>
                  <a:pt x="1044" y="1046"/>
                  <a:pt x="1081" y="1020"/>
                  <a:pt x="1116" y="1008"/>
                </a:cubicBezTo>
                <a:cubicBezTo>
                  <a:pt x="1153" y="952"/>
                  <a:pt x="1111" y="914"/>
                  <a:pt x="1096" y="868"/>
                </a:cubicBezTo>
                <a:cubicBezTo>
                  <a:pt x="1092" y="835"/>
                  <a:pt x="1089" y="799"/>
                  <a:pt x="1060" y="780"/>
                </a:cubicBezTo>
                <a:cubicBezTo>
                  <a:pt x="1059" y="776"/>
                  <a:pt x="1059" y="771"/>
                  <a:pt x="1056" y="768"/>
                </a:cubicBezTo>
                <a:cubicBezTo>
                  <a:pt x="1053" y="764"/>
                  <a:pt x="1047" y="764"/>
                  <a:pt x="1044" y="760"/>
                </a:cubicBezTo>
                <a:cubicBezTo>
                  <a:pt x="1040" y="753"/>
                  <a:pt x="1039" y="744"/>
                  <a:pt x="1036" y="736"/>
                </a:cubicBezTo>
                <a:cubicBezTo>
                  <a:pt x="1035" y="732"/>
                  <a:pt x="1032" y="724"/>
                  <a:pt x="1032" y="724"/>
                </a:cubicBezTo>
                <a:cubicBezTo>
                  <a:pt x="1034" y="685"/>
                  <a:pt x="1016" y="632"/>
                  <a:pt x="1052" y="608"/>
                </a:cubicBezTo>
                <a:cubicBezTo>
                  <a:pt x="1058" y="591"/>
                  <a:pt x="1064" y="573"/>
                  <a:pt x="1080" y="568"/>
                </a:cubicBezTo>
                <a:cubicBezTo>
                  <a:pt x="1091" y="552"/>
                  <a:pt x="1097" y="550"/>
                  <a:pt x="1116" y="544"/>
                </a:cubicBezTo>
                <a:cubicBezTo>
                  <a:pt x="1124" y="542"/>
                  <a:pt x="1140" y="536"/>
                  <a:pt x="1140" y="536"/>
                </a:cubicBezTo>
                <a:cubicBezTo>
                  <a:pt x="1144" y="524"/>
                  <a:pt x="1148" y="512"/>
                  <a:pt x="1152" y="500"/>
                </a:cubicBezTo>
                <a:cubicBezTo>
                  <a:pt x="1153" y="496"/>
                  <a:pt x="1152" y="489"/>
                  <a:pt x="1156" y="488"/>
                </a:cubicBezTo>
                <a:cubicBezTo>
                  <a:pt x="1168" y="484"/>
                  <a:pt x="1181" y="483"/>
                  <a:pt x="1192" y="476"/>
                </a:cubicBezTo>
                <a:cubicBezTo>
                  <a:pt x="1209" y="465"/>
                  <a:pt x="1233" y="442"/>
                  <a:pt x="1252" y="436"/>
                </a:cubicBezTo>
                <a:cubicBezTo>
                  <a:pt x="1266" y="422"/>
                  <a:pt x="1284" y="413"/>
                  <a:pt x="1304" y="408"/>
                </a:cubicBezTo>
                <a:cubicBezTo>
                  <a:pt x="1316" y="400"/>
                  <a:pt x="1328" y="392"/>
                  <a:pt x="1340" y="384"/>
                </a:cubicBezTo>
                <a:cubicBezTo>
                  <a:pt x="1344" y="381"/>
                  <a:pt x="1352" y="376"/>
                  <a:pt x="1352" y="376"/>
                </a:cubicBezTo>
                <a:cubicBezTo>
                  <a:pt x="1355" y="372"/>
                  <a:pt x="1356" y="367"/>
                  <a:pt x="1360" y="364"/>
                </a:cubicBezTo>
                <a:cubicBezTo>
                  <a:pt x="1371" y="357"/>
                  <a:pt x="1385" y="359"/>
                  <a:pt x="1396" y="352"/>
                </a:cubicBezTo>
                <a:cubicBezTo>
                  <a:pt x="1414" y="340"/>
                  <a:pt x="1435" y="335"/>
                  <a:pt x="1456" y="328"/>
                </a:cubicBezTo>
                <a:cubicBezTo>
                  <a:pt x="1496" y="315"/>
                  <a:pt x="1434" y="335"/>
                  <a:pt x="1484" y="320"/>
                </a:cubicBezTo>
                <a:cubicBezTo>
                  <a:pt x="1492" y="318"/>
                  <a:pt x="1508" y="312"/>
                  <a:pt x="1508" y="312"/>
                </a:cubicBezTo>
                <a:cubicBezTo>
                  <a:pt x="1517" y="298"/>
                  <a:pt x="1526" y="289"/>
                  <a:pt x="1540" y="280"/>
                </a:cubicBezTo>
                <a:cubicBezTo>
                  <a:pt x="1555" y="258"/>
                  <a:pt x="1540" y="275"/>
                  <a:pt x="1560" y="264"/>
                </a:cubicBezTo>
                <a:cubicBezTo>
                  <a:pt x="1568" y="259"/>
                  <a:pt x="1584" y="248"/>
                  <a:pt x="1584" y="248"/>
                </a:cubicBezTo>
                <a:cubicBezTo>
                  <a:pt x="1594" y="233"/>
                  <a:pt x="1609" y="218"/>
                  <a:pt x="1624" y="208"/>
                </a:cubicBezTo>
                <a:cubicBezTo>
                  <a:pt x="1631" y="197"/>
                  <a:pt x="1640" y="172"/>
                  <a:pt x="1640" y="172"/>
                </a:cubicBezTo>
                <a:cubicBezTo>
                  <a:pt x="1639" y="164"/>
                  <a:pt x="1640" y="155"/>
                  <a:pt x="1636" y="148"/>
                </a:cubicBezTo>
                <a:cubicBezTo>
                  <a:pt x="1632" y="140"/>
                  <a:pt x="1619" y="140"/>
                  <a:pt x="1612" y="136"/>
                </a:cubicBezTo>
                <a:cubicBezTo>
                  <a:pt x="1565" y="110"/>
                  <a:pt x="1611" y="128"/>
                  <a:pt x="1564" y="112"/>
                </a:cubicBezTo>
                <a:cubicBezTo>
                  <a:pt x="1551" y="108"/>
                  <a:pt x="1528" y="92"/>
                  <a:pt x="1528" y="92"/>
                </a:cubicBezTo>
                <a:cubicBezTo>
                  <a:pt x="1517" y="75"/>
                  <a:pt x="1520" y="71"/>
                  <a:pt x="1536" y="60"/>
                </a:cubicBezTo>
                <a:cubicBezTo>
                  <a:pt x="1539" y="52"/>
                  <a:pt x="1547" y="15"/>
                  <a:pt x="1552" y="12"/>
                </a:cubicBezTo>
                <a:cubicBezTo>
                  <a:pt x="1565" y="3"/>
                  <a:pt x="1564" y="9"/>
                  <a:pt x="1564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5"/>
          <p:cNvSpPr/>
          <p:nvPr/>
        </p:nvSpPr>
        <p:spPr>
          <a:xfrm>
            <a:off x="4102200" y="3871800"/>
            <a:ext cx="1015920" cy="141480"/>
          </a:xfrm>
          <a:custGeom>
            <a:avLst/>
            <a:gdLst/>
            <a:ahLst/>
            <a:rect l="l" t="t" r="r" b="b"/>
            <a:pathLst>
              <a:path w="640" h="89">
                <a:moveTo>
                  <a:pt x="0" y="89"/>
                </a:moveTo>
                <a:cubicBezTo>
                  <a:pt x="5" y="73"/>
                  <a:pt x="10" y="66"/>
                  <a:pt x="24" y="57"/>
                </a:cubicBezTo>
                <a:cubicBezTo>
                  <a:pt x="62" y="0"/>
                  <a:pt x="135" y="35"/>
                  <a:pt x="204" y="33"/>
                </a:cubicBezTo>
                <a:cubicBezTo>
                  <a:pt x="252" y="26"/>
                  <a:pt x="303" y="34"/>
                  <a:pt x="352" y="37"/>
                </a:cubicBezTo>
                <a:cubicBezTo>
                  <a:pt x="387" y="49"/>
                  <a:pt x="409" y="47"/>
                  <a:pt x="452" y="49"/>
                </a:cubicBezTo>
                <a:cubicBezTo>
                  <a:pt x="485" y="60"/>
                  <a:pt x="522" y="49"/>
                  <a:pt x="556" y="45"/>
                </a:cubicBezTo>
                <a:cubicBezTo>
                  <a:pt x="574" y="33"/>
                  <a:pt x="566" y="26"/>
                  <a:pt x="588" y="21"/>
                </a:cubicBezTo>
                <a:cubicBezTo>
                  <a:pt x="605" y="27"/>
                  <a:pt x="610" y="22"/>
                  <a:pt x="616" y="5"/>
                </a:cubicBezTo>
                <a:cubicBezTo>
                  <a:pt x="632" y="10"/>
                  <a:pt x="624" y="9"/>
                  <a:pt x="640" y="9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7"/>
          <p:cNvSpPr/>
          <p:nvPr/>
        </p:nvSpPr>
        <p:spPr>
          <a:xfrm>
            <a:off x="3537000" y="4280040"/>
            <a:ext cx="368280" cy="253800"/>
          </a:xfrm>
          <a:custGeom>
            <a:avLst/>
            <a:gdLst/>
            <a:ahLst/>
            <a:rect l="l" t="t" r="r" b="b"/>
            <a:pathLst>
              <a:path w="232" h="160">
                <a:moveTo>
                  <a:pt x="232" y="160"/>
                </a:moveTo>
                <a:cubicBezTo>
                  <a:pt x="207" y="122"/>
                  <a:pt x="153" y="119"/>
                  <a:pt x="112" y="116"/>
                </a:cubicBezTo>
                <a:cubicBezTo>
                  <a:pt x="93" y="110"/>
                  <a:pt x="69" y="96"/>
                  <a:pt x="52" y="84"/>
                </a:cubicBezTo>
                <a:cubicBezTo>
                  <a:pt x="57" y="68"/>
                  <a:pt x="62" y="61"/>
                  <a:pt x="76" y="52"/>
                </a:cubicBezTo>
                <a:cubicBezTo>
                  <a:pt x="79" y="48"/>
                  <a:pt x="88" y="43"/>
                  <a:pt x="84" y="40"/>
                </a:cubicBezTo>
                <a:cubicBezTo>
                  <a:pt x="70" y="29"/>
                  <a:pt x="39" y="42"/>
                  <a:pt x="68" y="32"/>
                </a:cubicBezTo>
                <a:cubicBezTo>
                  <a:pt x="47" y="18"/>
                  <a:pt x="18" y="18"/>
                  <a:pt x="0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6"/>
          <p:cNvSpPr/>
          <p:nvPr/>
        </p:nvSpPr>
        <p:spPr>
          <a:xfrm>
            <a:off x="3132000" y="496728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cc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9"/>
          <p:cNvSpPr/>
          <p:nvPr/>
        </p:nvSpPr>
        <p:spPr>
          <a:xfrm rot="21363000">
            <a:off x="3133440" y="50338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48"/>
          <p:cNvSpPr/>
          <p:nvPr/>
        </p:nvSpPr>
        <p:spPr>
          <a:xfrm>
            <a:off x="3448080" y="3111480"/>
            <a:ext cx="3130560" cy="2944800"/>
          </a:xfrm>
          <a:custGeom>
            <a:avLst/>
            <a:gdLst/>
            <a:ahLst/>
            <a:rect l="l" t="t" r="r" b="b"/>
            <a:pathLst>
              <a:path w="1972" h="1855">
                <a:moveTo>
                  <a:pt x="0" y="1756"/>
                </a:moveTo>
                <a:cubicBezTo>
                  <a:pt x="5" y="1761"/>
                  <a:pt x="18" y="1772"/>
                  <a:pt x="20" y="1780"/>
                </a:cubicBezTo>
                <a:cubicBezTo>
                  <a:pt x="25" y="1796"/>
                  <a:pt x="20" y="1814"/>
                  <a:pt x="28" y="1828"/>
                </a:cubicBezTo>
                <a:cubicBezTo>
                  <a:pt x="32" y="1836"/>
                  <a:pt x="61" y="1843"/>
                  <a:pt x="64" y="1844"/>
                </a:cubicBezTo>
                <a:cubicBezTo>
                  <a:pt x="72" y="1847"/>
                  <a:pt x="88" y="1852"/>
                  <a:pt x="88" y="1852"/>
                </a:cubicBezTo>
                <a:cubicBezTo>
                  <a:pt x="185" y="1848"/>
                  <a:pt x="169" y="1855"/>
                  <a:pt x="228" y="1816"/>
                </a:cubicBezTo>
                <a:cubicBezTo>
                  <a:pt x="248" y="1755"/>
                  <a:pt x="264" y="1697"/>
                  <a:pt x="320" y="1660"/>
                </a:cubicBezTo>
                <a:cubicBezTo>
                  <a:pt x="328" y="1648"/>
                  <a:pt x="352" y="1632"/>
                  <a:pt x="352" y="1632"/>
                </a:cubicBezTo>
                <a:cubicBezTo>
                  <a:pt x="384" y="1633"/>
                  <a:pt x="416" y="1633"/>
                  <a:pt x="448" y="1636"/>
                </a:cubicBezTo>
                <a:cubicBezTo>
                  <a:pt x="456" y="1637"/>
                  <a:pt x="464" y="1642"/>
                  <a:pt x="472" y="1644"/>
                </a:cubicBezTo>
                <a:cubicBezTo>
                  <a:pt x="496" y="1650"/>
                  <a:pt x="483" y="1646"/>
                  <a:pt x="512" y="1656"/>
                </a:cubicBezTo>
                <a:cubicBezTo>
                  <a:pt x="520" y="1659"/>
                  <a:pt x="536" y="1664"/>
                  <a:pt x="536" y="1664"/>
                </a:cubicBezTo>
                <a:cubicBezTo>
                  <a:pt x="547" y="1663"/>
                  <a:pt x="557" y="1662"/>
                  <a:pt x="568" y="1660"/>
                </a:cubicBezTo>
                <a:cubicBezTo>
                  <a:pt x="576" y="1658"/>
                  <a:pt x="592" y="1652"/>
                  <a:pt x="592" y="1652"/>
                </a:cubicBezTo>
                <a:cubicBezTo>
                  <a:pt x="602" y="1637"/>
                  <a:pt x="611" y="1632"/>
                  <a:pt x="628" y="1624"/>
                </a:cubicBezTo>
                <a:cubicBezTo>
                  <a:pt x="642" y="1603"/>
                  <a:pt x="640" y="1576"/>
                  <a:pt x="648" y="1552"/>
                </a:cubicBezTo>
                <a:cubicBezTo>
                  <a:pt x="651" y="1544"/>
                  <a:pt x="656" y="1528"/>
                  <a:pt x="656" y="1528"/>
                </a:cubicBezTo>
                <a:cubicBezTo>
                  <a:pt x="659" y="1500"/>
                  <a:pt x="648" y="1441"/>
                  <a:pt x="676" y="1432"/>
                </a:cubicBezTo>
                <a:cubicBezTo>
                  <a:pt x="695" y="1437"/>
                  <a:pt x="700" y="1443"/>
                  <a:pt x="716" y="1432"/>
                </a:cubicBezTo>
                <a:cubicBezTo>
                  <a:pt x="734" y="1404"/>
                  <a:pt x="729" y="1417"/>
                  <a:pt x="736" y="1396"/>
                </a:cubicBezTo>
                <a:cubicBezTo>
                  <a:pt x="737" y="1387"/>
                  <a:pt x="734" y="1375"/>
                  <a:pt x="740" y="1368"/>
                </a:cubicBezTo>
                <a:cubicBezTo>
                  <a:pt x="745" y="1362"/>
                  <a:pt x="752" y="1380"/>
                  <a:pt x="764" y="1388"/>
                </a:cubicBezTo>
                <a:cubicBezTo>
                  <a:pt x="774" y="1394"/>
                  <a:pt x="789" y="1400"/>
                  <a:pt x="800" y="1404"/>
                </a:cubicBezTo>
                <a:cubicBezTo>
                  <a:pt x="812" y="1392"/>
                  <a:pt x="829" y="1382"/>
                  <a:pt x="840" y="1368"/>
                </a:cubicBezTo>
                <a:cubicBezTo>
                  <a:pt x="846" y="1360"/>
                  <a:pt x="856" y="1344"/>
                  <a:pt x="856" y="1344"/>
                </a:cubicBezTo>
                <a:cubicBezTo>
                  <a:pt x="866" y="1358"/>
                  <a:pt x="874" y="1358"/>
                  <a:pt x="884" y="1372"/>
                </a:cubicBezTo>
                <a:cubicBezTo>
                  <a:pt x="908" y="1367"/>
                  <a:pt x="912" y="1359"/>
                  <a:pt x="936" y="1364"/>
                </a:cubicBezTo>
                <a:cubicBezTo>
                  <a:pt x="1010" y="1363"/>
                  <a:pt x="1196" y="1392"/>
                  <a:pt x="1272" y="1316"/>
                </a:cubicBezTo>
                <a:cubicBezTo>
                  <a:pt x="1282" y="1286"/>
                  <a:pt x="1313" y="1281"/>
                  <a:pt x="1340" y="1272"/>
                </a:cubicBezTo>
                <a:cubicBezTo>
                  <a:pt x="1351" y="1256"/>
                  <a:pt x="1364" y="1239"/>
                  <a:pt x="1380" y="1228"/>
                </a:cubicBezTo>
                <a:cubicBezTo>
                  <a:pt x="1390" y="1214"/>
                  <a:pt x="1398" y="1213"/>
                  <a:pt x="1412" y="1204"/>
                </a:cubicBezTo>
                <a:cubicBezTo>
                  <a:pt x="1428" y="1180"/>
                  <a:pt x="1449" y="1176"/>
                  <a:pt x="1472" y="1160"/>
                </a:cubicBezTo>
                <a:cubicBezTo>
                  <a:pt x="1476" y="1147"/>
                  <a:pt x="1484" y="1137"/>
                  <a:pt x="1488" y="1124"/>
                </a:cubicBezTo>
                <a:cubicBezTo>
                  <a:pt x="1489" y="1103"/>
                  <a:pt x="1489" y="1081"/>
                  <a:pt x="1492" y="1060"/>
                </a:cubicBezTo>
                <a:cubicBezTo>
                  <a:pt x="1494" y="1047"/>
                  <a:pt x="1508" y="1024"/>
                  <a:pt x="1508" y="1024"/>
                </a:cubicBezTo>
                <a:cubicBezTo>
                  <a:pt x="1505" y="984"/>
                  <a:pt x="1511" y="944"/>
                  <a:pt x="1476" y="920"/>
                </a:cubicBezTo>
                <a:cubicBezTo>
                  <a:pt x="1477" y="900"/>
                  <a:pt x="1477" y="880"/>
                  <a:pt x="1480" y="860"/>
                </a:cubicBezTo>
                <a:cubicBezTo>
                  <a:pt x="1486" y="825"/>
                  <a:pt x="1545" y="829"/>
                  <a:pt x="1564" y="828"/>
                </a:cubicBezTo>
                <a:cubicBezTo>
                  <a:pt x="1623" y="808"/>
                  <a:pt x="1669" y="771"/>
                  <a:pt x="1732" y="764"/>
                </a:cubicBezTo>
                <a:cubicBezTo>
                  <a:pt x="1745" y="744"/>
                  <a:pt x="1757" y="724"/>
                  <a:pt x="1768" y="704"/>
                </a:cubicBezTo>
                <a:cubicBezTo>
                  <a:pt x="1773" y="696"/>
                  <a:pt x="1784" y="680"/>
                  <a:pt x="1784" y="680"/>
                </a:cubicBezTo>
                <a:cubicBezTo>
                  <a:pt x="1794" y="640"/>
                  <a:pt x="1776" y="690"/>
                  <a:pt x="1828" y="660"/>
                </a:cubicBezTo>
                <a:cubicBezTo>
                  <a:pt x="1835" y="656"/>
                  <a:pt x="1833" y="644"/>
                  <a:pt x="1836" y="636"/>
                </a:cubicBezTo>
                <a:cubicBezTo>
                  <a:pt x="1843" y="614"/>
                  <a:pt x="1851" y="591"/>
                  <a:pt x="1856" y="568"/>
                </a:cubicBezTo>
                <a:cubicBezTo>
                  <a:pt x="1858" y="560"/>
                  <a:pt x="1853" y="547"/>
                  <a:pt x="1860" y="544"/>
                </a:cubicBezTo>
                <a:cubicBezTo>
                  <a:pt x="1877" y="536"/>
                  <a:pt x="1897" y="541"/>
                  <a:pt x="1916" y="540"/>
                </a:cubicBezTo>
                <a:cubicBezTo>
                  <a:pt x="1923" y="471"/>
                  <a:pt x="1912" y="517"/>
                  <a:pt x="1956" y="488"/>
                </a:cubicBezTo>
                <a:cubicBezTo>
                  <a:pt x="1960" y="476"/>
                  <a:pt x="1964" y="464"/>
                  <a:pt x="1968" y="452"/>
                </a:cubicBezTo>
                <a:cubicBezTo>
                  <a:pt x="1969" y="448"/>
                  <a:pt x="1972" y="440"/>
                  <a:pt x="1972" y="440"/>
                </a:cubicBezTo>
                <a:cubicBezTo>
                  <a:pt x="1969" y="397"/>
                  <a:pt x="1964" y="347"/>
                  <a:pt x="1924" y="320"/>
                </a:cubicBezTo>
                <a:cubicBezTo>
                  <a:pt x="1921" y="316"/>
                  <a:pt x="1919" y="311"/>
                  <a:pt x="1916" y="308"/>
                </a:cubicBezTo>
                <a:cubicBezTo>
                  <a:pt x="1913" y="305"/>
                  <a:pt x="1907" y="304"/>
                  <a:pt x="1904" y="300"/>
                </a:cubicBezTo>
                <a:cubicBezTo>
                  <a:pt x="1894" y="287"/>
                  <a:pt x="1896" y="278"/>
                  <a:pt x="1880" y="268"/>
                </a:cubicBezTo>
                <a:cubicBezTo>
                  <a:pt x="1874" y="250"/>
                  <a:pt x="1871" y="248"/>
                  <a:pt x="1856" y="240"/>
                </a:cubicBezTo>
                <a:cubicBezTo>
                  <a:pt x="1848" y="235"/>
                  <a:pt x="1832" y="224"/>
                  <a:pt x="1832" y="224"/>
                </a:cubicBezTo>
                <a:cubicBezTo>
                  <a:pt x="1827" y="216"/>
                  <a:pt x="1817" y="212"/>
                  <a:pt x="1812" y="204"/>
                </a:cubicBezTo>
                <a:cubicBezTo>
                  <a:pt x="1797" y="180"/>
                  <a:pt x="1796" y="153"/>
                  <a:pt x="1760" y="148"/>
                </a:cubicBezTo>
                <a:cubicBezTo>
                  <a:pt x="1743" y="146"/>
                  <a:pt x="1725" y="145"/>
                  <a:pt x="1708" y="144"/>
                </a:cubicBezTo>
                <a:cubicBezTo>
                  <a:pt x="1694" y="122"/>
                  <a:pt x="1673" y="116"/>
                  <a:pt x="1652" y="104"/>
                </a:cubicBezTo>
                <a:cubicBezTo>
                  <a:pt x="1634" y="94"/>
                  <a:pt x="1622" y="81"/>
                  <a:pt x="1604" y="72"/>
                </a:cubicBezTo>
                <a:cubicBezTo>
                  <a:pt x="1596" y="68"/>
                  <a:pt x="1588" y="64"/>
                  <a:pt x="1580" y="60"/>
                </a:cubicBezTo>
                <a:cubicBezTo>
                  <a:pt x="1572" y="55"/>
                  <a:pt x="1556" y="44"/>
                  <a:pt x="1556" y="44"/>
                </a:cubicBezTo>
                <a:cubicBezTo>
                  <a:pt x="1541" y="21"/>
                  <a:pt x="1501" y="0"/>
                  <a:pt x="1472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55600" y="27936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Four Parts of the 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789120" y="1108080"/>
            <a:ext cx="7192800" cy="4826160"/>
            <a:chOff x="789120" y="1108080"/>
            <a:chExt cx="7192800" cy="4826160"/>
          </a:xfrm>
        </p:grpSpPr>
        <p:sp>
          <p:nvSpPr>
            <p:cNvPr id="904" name="Rounded Rectangle 9"/>
            <p:cNvSpPr/>
            <p:nvPr/>
          </p:nvSpPr>
          <p:spPr>
            <a:xfrm>
              <a:off x="789120" y="1108080"/>
              <a:ext cx="7100640" cy="67320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nt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ounded Rectangle 9"/>
            <p:cNvSpPr/>
            <p:nvPr/>
          </p:nvSpPr>
          <p:spPr>
            <a:xfrm>
              <a:off x="798480" y="2004840"/>
              <a:ext cx="7101000" cy="81756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Framing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ounded Rectangle 9"/>
            <p:cNvSpPr/>
            <p:nvPr/>
          </p:nvSpPr>
          <p:spPr>
            <a:xfrm>
              <a:off x="824040" y="2967120"/>
              <a:ext cx="7119720" cy="155232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thways for Mitigating Climate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ounded Rectangle 9"/>
            <p:cNvSpPr/>
            <p:nvPr/>
          </p:nvSpPr>
          <p:spPr>
            <a:xfrm>
              <a:off x="861840" y="4667400"/>
              <a:ext cx="7120080" cy="126684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Assessment of Policies, Institutions and Fi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F13283-0D35-44FC-9A85-6FC2B576EAF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255600" y="114480"/>
            <a:ext cx="8564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orking Group III Assessment as a Cartography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ounded Rectangle 9"/>
          <p:cNvSpPr/>
          <p:nvPr/>
        </p:nvSpPr>
        <p:spPr>
          <a:xfrm>
            <a:off x="789120" y="1108080"/>
            <a:ext cx="7100640" cy="67320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ounded Rectangle 9"/>
          <p:cNvSpPr/>
          <p:nvPr/>
        </p:nvSpPr>
        <p:spPr>
          <a:xfrm>
            <a:off x="798480" y="1916280"/>
            <a:ext cx="7101000" cy="9061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m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ounded Rectangle 9"/>
          <p:cNvSpPr/>
          <p:nvPr/>
        </p:nvSpPr>
        <p:spPr>
          <a:xfrm>
            <a:off x="824040" y="2967120"/>
            <a:ext cx="7119720" cy="1552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hways for Mitig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ounded Rectangle 9"/>
          <p:cNvSpPr/>
          <p:nvPr/>
        </p:nvSpPr>
        <p:spPr>
          <a:xfrm>
            <a:off x="861840" y="4667400"/>
            <a:ext cx="7120080" cy="1498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sessment of Polic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itutions and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AF8A52-BD4D-49F9-951B-68CCC26C790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1" descr=""/>
          <p:cNvPicPr/>
          <p:nvPr/>
        </p:nvPicPr>
        <p:blipFill>
          <a:blip r:embed="rId1"/>
          <a:stretch/>
        </p:blipFill>
        <p:spPr>
          <a:xfrm>
            <a:off x="3852720" y="2008080"/>
            <a:ext cx="712800" cy="7002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2" descr=""/>
          <p:cNvPicPr/>
          <p:nvPr/>
        </p:nvPicPr>
        <p:blipFill>
          <a:blip r:embed="rId2"/>
          <a:stretch/>
        </p:blipFill>
        <p:spPr>
          <a:xfrm>
            <a:off x="3851280" y="3017880"/>
            <a:ext cx="1974960" cy="1441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3" descr=""/>
          <p:cNvPicPr/>
          <p:nvPr/>
        </p:nvPicPr>
        <p:blipFill>
          <a:blip r:embed="rId3"/>
          <a:stretch/>
        </p:blipFill>
        <p:spPr>
          <a:xfrm>
            <a:off x="3846600" y="4826160"/>
            <a:ext cx="1301760" cy="1158840"/>
          </a:xfrm>
          <a:prstGeom prst="rect">
            <a:avLst/>
          </a:prstGeom>
          <a:ln w="0">
            <a:noFill/>
          </a:ln>
        </p:spPr>
      </p:pic>
      <p:sp>
        <p:nvSpPr>
          <p:cNvPr id="919" name="Textfeld 4"/>
          <p:cNvSpPr/>
          <p:nvPr/>
        </p:nvSpPr>
        <p:spPr>
          <a:xfrm>
            <a:off x="4572000" y="1909800"/>
            <a:ext cx="33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egend to 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concepts and methods o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feld 14"/>
          <p:cNvSpPr/>
          <p:nvPr/>
        </p:nvSpPr>
        <p:spPr>
          <a:xfrm>
            <a:off x="5862600" y="3068640"/>
            <a:ext cx="21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 out feasible mitigation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feld 15"/>
          <p:cNvSpPr/>
          <p:nvPr/>
        </p:nvSpPr>
        <p:spPr>
          <a:xfrm>
            <a:off x="5148360" y="4694400"/>
            <a:ext cx="279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igation too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policy instruments, institutional arrangements and financ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93D1F5-EFA3-4AF6-8D38-230947B93E1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bgerundetes Rechteck 4"/>
          <p:cNvSpPr/>
          <p:nvPr/>
        </p:nvSpPr>
        <p:spPr>
          <a:xfrm>
            <a:off x="306360" y="2589120"/>
            <a:ext cx="8642520" cy="2135160"/>
          </a:xfrm>
          <a:prstGeom prst="roundRect">
            <a:avLst>
              <a:gd name="adj" fmla="val 16667"/>
            </a:avLst>
          </a:prstGeom>
          <a:solidFill>
            <a:srgbClr val="4073ac"/>
          </a:solidFill>
          <a:ln w="25560">
            <a:solidFill>
              <a:srgbClr val="2c5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dedicated chapter or Section on metrics in the Plenary approved Working Group III outline of the AR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here will metrics be cove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B8C513-E9E2-46F0-BAF3-EE6F936D97B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3166920" y="2589120"/>
            <a:ext cx="615816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Ellipse 4"/>
          <p:cNvSpPr/>
          <p:nvPr/>
        </p:nvSpPr>
        <p:spPr>
          <a:xfrm>
            <a:off x="2851200" y="1741320"/>
            <a:ext cx="611352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Gewinkelte Verbindung 6"/>
          <p:cNvCxnSpPr>
            <a:stCxn id="944" idx="3"/>
          </p:cNvCxnSpPr>
          <p:nvPr/>
        </p:nvCxnSpPr>
        <p:spPr>
          <a:xfrm rot="10800000">
            <a:off x="8243280" y="1483560"/>
            <a:ext cx="732600" cy="413640"/>
          </a:xfrm>
          <a:prstGeom prst="bentConnector3">
            <a:avLst>
              <a:gd name="adj1" fmla="val 231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5" name="Gewinkelte Verbindung 12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107532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6" name="Geschweifte Klammer rechts 15"/>
          <p:cNvSpPr/>
          <p:nvPr/>
        </p:nvSpPr>
        <p:spPr>
          <a:xfrm>
            <a:off x="8342280" y="3284640"/>
            <a:ext cx="316080" cy="2025720"/>
          </a:xfrm>
          <a:custGeom>
            <a:avLst/>
            <a:gdLst>
              <a:gd name="textAreaLeft" fmla="*/ 0 w 316080"/>
              <a:gd name="textAreaRight" fmla="*/ 114120 w 316080"/>
              <a:gd name="textAreaTop" fmla="*/ 65520 h 2025720"/>
              <a:gd name="textAreaBottom" fmla="*/ 1960200 h 20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17"/>
                  <a:pt x="10800" y="2233"/>
                </a:cubicBezTo>
                <a:lnTo>
                  <a:pt x="10800" y="8713"/>
                </a:lnTo>
                <a:cubicBezTo>
                  <a:pt x="10800" y="9830"/>
                  <a:pt x="16200" y="10946"/>
                  <a:pt x="21600" y="10946"/>
                </a:cubicBezTo>
                <a:cubicBezTo>
                  <a:pt x="16200" y="10946"/>
                  <a:pt x="10800" y="12063"/>
                  <a:pt x="10800" y="13179"/>
                </a:cubicBezTo>
                <a:lnTo>
                  <a:pt x="10800" y="19367"/>
                </a:lnTo>
                <a:cubicBezTo>
                  <a:pt x="10800" y="204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Gewinkelte Verbindung 17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78804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8" name="Gewinkelte Verbindung 27"/>
          <p:cNvCxnSpPr/>
          <p:nvPr/>
        </p:nvCxnSpPr>
        <p:spPr>
          <a:xfrm rot="5400000">
            <a:off x="6706800" y="3805200"/>
            <a:ext cx="4260240" cy="255960"/>
          </a:xfrm>
          <a:prstGeom prst="bentConnector3">
            <a:avLst>
              <a:gd name="adj1" fmla="val 99983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9" name="Gewinkelte Verbindung 34836"/>
          <p:cNvCxnSpPr>
            <a:stCxn id="953" idx="6"/>
          </p:cNvCxnSpPr>
          <p:nvPr/>
        </p:nvCxnSpPr>
        <p:spPr>
          <a:xfrm flipV="1" rot="10800000">
            <a:off x="8711640" y="1993680"/>
            <a:ext cx="253080" cy="2304000"/>
          </a:xfrm>
          <a:prstGeom prst="bentConnector4">
            <a:avLst>
              <a:gd name="adj1" fmla="val 1282"/>
              <a:gd name="adj2" fmla="val 99906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0" name="Geschweifte Klammer rechts 23"/>
          <p:cNvSpPr/>
          <p:nvPr/>
        </p:nvSpPr>
        <p:spPr>
          <a:xfrm>
            <a:off x="8435880" y="5442120"/>
            <a:ext cx="168480" cy="1234800"/>
          </a:xfrm>
          <a:custGeom>
            <a:avLst/>
            <a:gdLst>
              <a:gd name="textAreaLeft" fmla="*/ 0 w 168480"/>
              <a:gd name="textAreaRight" fmla="*/ 60840 w 168480"/>
              <a:gd name="textAreaTop" fmla="*/ 34560 h 1234800"/>
              <a:gd name="textAreaBottom" fmla="*/ 1200240 h 12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6"/>
                  <a:pt x="10800" y="1951"/>
                </a:cubicBezTo>
                <a:lnTo>
                  <a:pt x="10800" y="8995"/>
                </a:lnTo>
                <a:cubicBezTo>
                  <a:pt x="10800" y="9971"/>
                  <a:pt x="16200" y="10946"/>
                  <a:pt x="21600" y="10946"/>
                </a:cubicBezTo>
                <a:cubicBezTo>
                  <a:pt x="16200" y="10946"/>
                  <a:pt x="10800" y="11922"/>
                  <a:pt x="10800" y="12897"/>
                </a:cubicBezTo>
                <a:lnTo>
                  <a:pt x="10800" y="19649"/>
                </a:lnTo>
                <a:cubicBezTo>
                  <a:pt x="10800" y="2062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nn</cp:lastModifiedBy>
  <dcterms:modified xsi:type="dcterms:W3CDTF">2012-04-03T06:14:12Z</dcterms:modified>
  <cp:revision>179</cp:revision>
  <dc:subject/>
  <dc:title>Slide 1</dc:title>
</cp:coreProperties>
</file>