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2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11.png" ContentType="image/png"/>
  <Override PartName="/ppt/media/image21.wmf" ContentType="image/x-wmf"/>
  <Override PartName="/ppt/media/image19.png" ContentType="image/png"/>
  <Override PartName="/ppt/media/image1.png" ContentType="image/png"/>
  <Override PartName="/ppt/media/image17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4.jpeg" ContentType="image/jpeg"/>
  <Override PartName="/ppt/media/image2.png" ContentType="image/png"/>
  <Override PartName="/ppt/media/image3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D2B2A-2C5F-4377-99C9-5E05ACE64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AA16F-0E5A-41F5-BE2B-5679DCF86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EAD25-F71C-48A0-BE35-40BD9A34E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C7632-BE1E-4DA8-8316-41C743F6E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F995C-35C0-4B20-A4C9-5C23E5735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C6C20-8FFA-4BE2-8A36-00B45040D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33CC8-9B6D-47E3-AC99-8C1FC64EC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EA458-F4C5-43B9-A393-0C8889814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53868-4214-4A36-B64D-8B0EBC5DB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37BB1-AC8D-4398-AC5E-6EC303490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02DD4-8B23-4E13-AF29-F02231A6F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047ED-D05F-4E47-90CB-67CA964BF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D1938-E3CD-463C-97CE-B94BD22830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380880" y="4343400"/>
            <a:ext cx="2819160" cy="28195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167652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Variations on the methane C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-equivale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533160" y="3047760"/>
            <a:ext cx="830556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livier Bouc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boratoire de 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étéorologie Dynamique, CNRS / UPMC, Paris, Fr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FCCC Workshop on common metrics to calculate the CO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equivalence of anthropogenic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eenhouse gas emissions by sources and removals by sinks in Bonn, Germany (3-4 April 201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5943600" y="5065560"/>
            <a:ext cx="3276720" cy="16401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2009880" y="5111640"/>
            <a:ext cx="2485800" cy="15177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4724280" y="5105520"/>
            <a:ext cx="1467000" cy="14666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3276720" y="152280"/>
            <a:ext cx="1523880" cy="13701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6"/>
          <a:stretch/>
        </p:blipFill>
        <p:spPr>
          <a:xfrm>
            <a:off x="228600" y="228600"/>
            <a:ext cx="2895480" cy="13143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7"/>
          <a:stretch/>
        </p:blipFill>
        <p:spPr>
          <a:xfrm>
            <a:off x="7010280" y="152280"/>
            <a:ext cx="1828800" cy="13716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8"/>
          <a:stretch/>
        </p:blipFill>
        <p:spPr>
          <a:xfrm>
            <a:off x="5105520" y="228600"/>
            <a:ext cx="152064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8534520" cy="6594480"/>
          </a:xfrm>
          <a:prstGeom prst="rect">
            <a:avLst/>
          </a:prstGeom>
          <a:ln w="0">
            <a:noFill/>
          </a:ln>
        </p:spPr>
      </p:pic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Histogram of GWP and GD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76320" y="1936800"/>
            <a:ext cx="1828800" cy="8380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WP 100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5 / 2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438280" y="1873080"/>
            <a:ext cx="1752840" cy="946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DP 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0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8 / 3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876920" y="1936800"/>
            <a:ext cx="182880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DP 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0 years – 2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2 / 4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238880" y="3689280"/>
            <a:ext cx="1828800" cy="8384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DP quadrat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inity – 2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4 / 2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238880" y="5257800"/>
            <a:ext cx="1828800" cy="946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DP cub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inity – 2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4 / 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876920" y="3689280"/>
            <a:ext cx="1828800" cy="838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DP 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inity – 2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7 / 3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238880" y="1936800"/>
            <a:ext cx="182880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DP quadrat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0 years – 2 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1 / 3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4" name=""/>
          <p:cNvCxnSpPr>
            <a:stCxn id="157" idx="3"/>
            <a:endCxn id="158" idx="1"/>
          </p:cNvCxnSpPr>
          <p:nvPr/>
        </p:nvCxnSpPr>
        <p:spPr>
          <a:xfrm flipV="1">
            <a:off x="1904760" y="2346120"/>
            <a:ext cx="533880" cy="10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5" name=""/>
          <p:cNvCxnSpPr>
            <a:stCxn id="159" idx="2"/>
            <a:endCxn id="162" idx="0"/>
          </p:cNvCxnSpPr>
          <p:nvPr/>
        </p:nvCxnSpPr>
        <p:spPr>
          <a:xfrm>
            <a:off x="5790960" y="2774880"/>
            <a:ext cx="1080" cy="915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6" name=""/>
          <p:cNvCxnSpPr>
            <a:stCxn id="163" idx="2"/>
            <a:endCxn id="160" idx="0"/>
          </p:cNvCxnSpPr>
          <p:nvPr/>
        </p:nvCxnSpPr>
        <p:spPr>
          <a:xfrm>
            <a:off x="8152920" y="2774880"/>
            <a:ext cx="1080" cy="915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7" name=""/>
          <p:cNvCxnSpPr>
            <a:stCxn id="162" idx="3"/>
            <a:endCxn id="160" idx="1"/>
          </p:cNvCxnSpPr>
          <p:nvPr/>
        </p:nvCxnSpPr>
        <p:spPr>
          <a:xfrm>
            <a:off x="6705360" y="410796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8" name=""/>
          <p:cNvCxnSpPr>
            <a:stCxn id="159" idx="3"/>
            <a:endCxn id="163" idx="1"/>
          </p:cNvCxnSpPr>
          <p:nvPr/>
        </p:nvCxnSpPr>
        <p:spPr>
          <a:xfrm>
            <a:off x="6705360" y="235548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9" name=""/>
          <p:cNvCxnSpPr>
            <a:stCxn id="158" idx="3"/>
            <a:endCxn id="159" idx="1"/>
          </p:cNvCxnSpPr>
          <p:nvPr/>
        </p:nvCxnSpPr>
        <p:spPr>
          <a:xfrm>
            <a:off x="4190760" y="2346480"/>
            <a:ext cx="686520" cy="10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0" name=""/>
          <p:cNvCxnSpPr>
            <a:stCxn id="162" idx="2"/>
            <a:endCxn id="161" idx="1"/>
          </p:cNvCxnSpPr>
          <p:nvPr/>
        </p:nvCxnSpPr>
        <p:spPr>
          <a:xfrm>
            <a:off x="5790960" y="4527720"/>
            <a:ext cx="1448280" cy="1203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1" name=""/>
          <p:cNvSpPr/>
          <p:nvPr/>
        </p:nvSpPr>
        <p:spPr>
          <a:xfrm>
            <a:off x="1600200" y="1447920"/>
            <a:ext cx="11430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F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886200" y="1447920"/>
            <a:ext cx="14479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coun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095880" y="1447920"/>
            <a:ext cx="20574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ear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adra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019920" y="3308400"/>
            <a:ext cx="20574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ear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adra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486400" y="4876920"/>
            <a:ext cx="19051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ear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b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800600" y="2971800"/>
            <a:ext cx="17524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gration to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162920" y="2971800"/>
            <a:ext cx="18288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gration to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60" idx="2"/>
            <a:endCxn id="161" idx="0"/>
          </p:cNvCxnSpPr>
          <p:nvPr/>
        </p:nvCxnSpPr>
        <p:spPr>
          <a:xfrm>
            <a:off x="8152920" y="4527720"/>
            <a:ext cx="1080" cy="73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9" name=""/>
          <p:cNvSpPr/>
          <p:nvPr/>
        </p:nvSpPr>
        <p:spPr>
          <a:xfrm>
            <a:off x="7162920" y="4724280"/>
            <a:ext cx="19810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adratic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b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52280" y="5303880"/>
            <a:ext cx="5791320" cy="11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Climate metric: 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cumulative vs end-poi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0" y="76320"/>
            <a:ext cx="201924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TP end-po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0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 / 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2" name=""/>
          <p:cNvCxnSpPr>
            <a:stCxn id="181" idx="2"/>
          </p:cNvCxnSpPr>
          <p:nvPr/>
        </p:nvCxnSpPr>
        <p:spPr>
          <a:xfrm>
            <a:off x="3295440" y="914040"/>
            <a:ext cx="1080" cy="959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3" name=""/>
          <p:cNvSpPr/>
          <p:nvPr/>
        </p:nvSpPr>
        <p:spPr>
          <a:xfrm>
            <a:off x="1981080" y="1081080"/>
            <a:ext cx="29340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d-point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umula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905120" y="-380880"/>
            <a:ext cx="2743200" cy="3581280"/>
          </a:xfrm>
          <a:prstGeom prst="ellipse">
            <a:avLst/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228600" y="587520"/>
            <a:ext cx="8115480" cy="627048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457200" y="198360"/>
            <a:ext cx="822960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Time-evolving CO</a:t>
            </a:r>
            <a:r>
              <a:rPr b="0" lang="fr-FR" sz="4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-equival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400800" y="1857240"/>
            <a:ext cx="259092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fr-FR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-equivalence f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hort-lived species tend to increase as climate change increas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457200" y="152280"/>
            <a:ext cx="82296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 u="sng">
                <a:solidFill>
                  <a:srgbClr val="000000"/>
                </a:solidFill>
                <a:uFillTx/>
                <a:latin typeface="Arial"/>
              </a:rPr>
              <a:t>Issue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: CO</a:t>
            </a:r>
            <a:r>
              <a:rPr b="0" lang="fr-FR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-equivalent emissions may go up even if individual gas emissions go d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828800" y="3809880"/>
            <a:ext cx="1066680" cy="2514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2438280"/>
            <a:ext cx="1066680" cy="137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2971800"/>
            <a:ext cx="1066680" cy="533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248520" y="4038480"/>
            <a:ext cx="1066680" cy="2286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248520" y="2209680"/>
            <a:ext cx="1066680" cy="18288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648320" y="3124080"/>
            <a:ext cx="1066680" cy="3812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295280" y="3505320"/>
            <a:ext cx="53352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1295280" y="2438280"/>
            <a:ext cx="533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5715000" y="2209680"/>
            <a:ext cx="53352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715000" y="3505320"/>
            <a:ext cx="53352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914400" y="6324480"/>
            <a:ext cx="7391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895480" y="3809880"/>
            <a:ext cx="3353040" cy="228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2895480" y="2209320"/>
            <a:ext cx="3353040" cy="228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882440" y="640080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327360" y="640080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219320" y="3505320"/>
            <a:ext cx="35049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2971800"/>
            <a:ext cx="3353040" cy="152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457200" y="152280"/>
            <a:ext cx="82296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 u="sng">
                <a:solidFill>
                  <a:srgbClr val="000000"/>
                </a:solidFill>
                <a:uFillTx/>
                <a:latin typeface="Arial"/>
              </a:rPr>
              <a:t>Solution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: recalculate past emissions with new CO</a:t>
            </a:r>
            <a:r>
              <a:rPr b="0" lang="fr-FR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-equival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28800" y="3809880"/>
            <a:ext cx="1066680" cy="2514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828800" y="1600200"/>
            <a:ext cx="1066680" cy="2209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28600" y="2971800"/>
            <a:ext cx="1066680" cy="533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248520" y="4038480"/>
            <a:ext cx="1066680" cy="2286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248520" y="2209680"/>
            <a:ext cx="1066680" cy="18288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648320" y="3124080"/>
            <a:ext cx="1066680" cy="3812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295280" y="3505320"/>
            <a:ext cx="53352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1295280" y="1600200"/>
            <a:ext cx="53352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5715000" y="2209680"/>
            <a:ext cx="53352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715000" y="3505320"/>
            <a:ext cx="53352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914400" y="6324480"/>
            <a:ext cx="7391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895480" y="3809880"/>
            <a:ext cx="3353040" cy="228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895480" y="1600200"/>
            <a:ext cx="3353040" cy="609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882440" y="640080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327360" y="640080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219320" y="3505320"/>
            <a:ext cx="35049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295280" y="2971800"/>
            <a:ext cx="3353040" cy="152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146160" y="1089000"/>
            <a:ext cx="8845560" cy="453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imate the total (i.e. 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equivalent) GHG emissions for countries and estimate time vari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ulate emission targets at the international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eak down emission targets between gases within individual 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de emissions in emission trading scheme (ETS) or offset emissions through the Clean Development Mechanism (CD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uide investment decisions across different g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46160" y="5835600"/>
            <a:ext cx="8845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33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Should we use the same climate metr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for these different applicatio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0" y="198360"/>
            <a:ext cx="914400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Multiple applications to climate metric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295560" y="6284880"/>
            <a:ext cx="18313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EME, Fr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082960" y="5715000"/>
            <a:ext cx="5079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Methane CO</a:t>
            </a:r>
            <a:r>
              <a:rPr b="1" lang="fr-FR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-equivalence 100-year GWP=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0" y="533520"/>
            <a:ext cx="4602240" cy="498636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4952880" y="1523880"/>
            <a:ext cx="3867120" cy="358632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6964560" y="6284880"/>
            <a:ext cx="20185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ource: Wikipe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2" name=""/>
          <p:cNvCxnSpPr/>
          <p:nvPr/>
        </p:nvCxnSpPr>
        <p:spPr>
          <a:xfrm flipV="1" rot="16200000">
            <a:off x="5146560" y="3241800"/>
            <a:ext cx="1793160" cy="1934280"/>
          </a:xfrm>
          <a:prstGeom prst="curvedConnector5">
            <a:avLst>
              <a:gd name="adj1" fmla="val -12650"/>
              <a:gd name="adj2" fmla="val 55900"/>
              <a:gd name="adj3" fmla="val -12650"/>
            </a:avLst>
          </a:prstGeom>
          <a:ln w="76320">
            <a:solidFill>
              <a:srgbClr val="ff3300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76320" y="380880"/>
            <a:ext cx="2133360" cy="609840"/>
          </a:xfrm>
          <a:prstGeom prst="ellipse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Methane and the CD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0" y="762120"/>
            <a:ext cx="9144000" cy="437976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152280" y="1371600"/>
            <a:ext cx="1524240" cy="53352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28600" y="3048120"/>
            <a:ext cx="1981080" cy="53316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791320" y="4203720"/>
            <a:ext cx="3124080" cy="82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From Exec board annual report 2010, Clean Development Mechanism, UNFCC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36440" y="5560920"/>
            <a:ext cx="8398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mission reductions from CDM projects are monitored and credits are accrued year on year. Projects last for 10 years or 7 years with up to 2 renewals. Additionality does not have to be re-asses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0" y="152280"/>
            <a:ext cx="914400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Multiple applications to climate metric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76320" y="1179360"/>
            <a:ext cx="8997840" cy="50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Emission trading scheme / CD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- pulse metric to calculate CO</a:t>
            </a:r>
            <a:r>
              <a:rPr b="0" lang="fr-FR" sz="2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-equivalence and tra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- 21 years is a long time for assuming additionality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Investment decision / CD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- pulse metri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- visibility on future CO</a:t>
            </a:r>
            <a:r>
              <a:rPr b="0" lang="fr-FR" sz="2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-equivalenc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- cost-benefit analysis (multi-year, discounting, …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fr-FR" sz="2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 equivalent emiss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- pulse metric as long as on an emission trajectory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- sustained metric in stabilisation regime?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590560" y="122040"/>
            <a:ext cx="464796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nclusions (1/2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46160" y="1209600"/>
            <a:ext cx="8845560" cy="38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The 100-year GWP is comparable to an idealised GDP metric (with quadratic damage function and 2% discount rat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An important discriminator for the methane CO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-equivalence among published climate metrics is whether the metric is cumulative or end-point (i.e. GTP vs iGTP / GWP / GDP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For an idealised GDP, the methane CO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-equivalence is essentially determined by socio-economical parameters that involve a value judgment on impacts and discounting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80880" y="122400"/>
            <a:ext cx="85345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370560" y="685800"/>
            <a:ext cx="1935360" cy="17398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04920" y="1403280"/>
            <a:ext cx="8229600" cy="437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. Ration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. Biogenic vs fossil metha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3. Revisiting the GDP: implications for the GW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4. Time-evolving CO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equivalen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5. What metric for what usage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6. Conclu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438280" y="122040"/>
            <a:ext cx="464832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nclusions (2/2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46160" y="990720"/>
            <a:ext cx="8845560" cy="57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There is no reason for CO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-equivalence to stay constant, e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GTP as we approach the target for an end-point metr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GDP as climate change unfolds with a convex damage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back-calculation of CO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-equivalent emis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visibility on future evolution is requi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ulse emissions make sense f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- trading CH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and CO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on ETS and through the CD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resenting a snapshot of a country emiss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It is less clear whether the same metric should be used to provide long-term stabilisation climate targe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transition peri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304920" y="274320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hank you for your attention</a:t>
            </a:r>
            <a:br>
              <a:rPr sz="4400"/>
            </a:b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1523880" cy="137016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895480" cy="131436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3"/>
          <a:stretch/>
        </p:blipFill>
        <p:spPr>
          <a:xfrm>
            <a:off x="7010280" y="76320"/>
            <a:ext cx="1828800" cy="137160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5105520" y="76320"/>
            <a:ext cx="152064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80880" y="122400"/>
            <a:ext cx="85345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y methan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6705720" y="914400"/>
            <a:ext cx="1935000" cy="17398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04920" y="1274760"/>
            <a:ext cx="6476760" cy="48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. Second largest GHG in terms of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. Significant anthropogenic emissions from a variety of sectors (agriculture, landfill, coal mining, conventional natural gas exploitation, shale gas exploitation) with some opportunities for mitig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. Multi-gas abatement strategies mostly sensitive to the methane CO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equivalence </a:t>
            </a:r>
            <a:r>
              <a:rPr b="0" lang="en-GB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other long-lived greenhouse gases have either too small RF (e.g. SF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or NF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) or a pretty invariant CO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equivalence (e.g. N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) to really make a difference from a climate persp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80880" y="122400"/>
            <a:ext cx="85345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ethane factshe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6705720" y="914400"/>
            <a:ext cx="1935000" cy="17398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52280" y="1090440"/>
            <a:ext cx="8832960" cy="53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tmospheric concentration =1800 ppbv = 1.8 ppmv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versus 380 ppmv for carbon dioxid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adiative efficiency = 3.7 10</a:t>
            </a:r>
            <a:r>
              <a:rPr b="0" lang="en-GB" sz="20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Wm</a:t>
            </a:r>
            <a:r>
              <a:rPr b="0" lang="en-GB" sz="20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pbv</a:t>
            </a:r>
            <a:r>
              <a:rPr b="0" lang="en-GB" sz="20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versus 1.548 10</a:t>
            </a:r>
            <a:r>
              <a:rPr b="0" lang="en-GB" sz="2000" spc="-1" strike="noStrike" baseline="30000">
                <a:solidFill>
                  <a:srgbClr val="000000"/>
                </a:solidFill>
                <a:latin typeface="Arial"/>
              </a:rPr>
              <a:t>-5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Wm</a:t>
            </a:r>
            <a:r>
              <a:rPr b="0" lang="en-GB" sz="20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pbv</a:t>
            </a:r>
            <a:r>
              <a:rPr b="0" lang="en-GB" sz="20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for carbon dioxid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adiative forcing = 0.48 Wm</a:t>
            </a:r>
            <a:r>
              <a:rPr b="0" lang="en-GB" sz="2000" spc="-1" strike="noStrike" baseline="30000">
                <a:solidFill>
                  <a:srgbClr val="000000"/>
                </a:solidFill>
                <a:latin typeface="Arial"/>
              </a:rPr>
              <a:t>-2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 20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versus 1.66 Wm</a:t>
            </a:r>
            <a:r>
              <a:rPr b="0" lang="en-GB" sz="20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for carbon dioxid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fetime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≈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10 yea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erturbation lifetime ≈ 12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direct effects on stratospheric water vapour, ozone, CO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aeros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lobal Warming Potential (on a mass basi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1 initially and also in Kyoto protoc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3 in IPCC TAR (200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5 in IPCC AR4 (200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220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Methane cy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371600" y="3078000"/>
            <a:ext cx="2009880" cy="1417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762120" y="3916440"/>
            <a:ext cx="838080" cy="5572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5257800" y="2773440"/>
            <a:ext cx="3209760" cy="17049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397440" y="1938240"/>
            <a:ext cx="736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294640" y="868320"/>
            <a:ext cx="736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560360" y="944640"/>
            <a:ext cx="736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350040" y="1859040"/>
            <a:ext cx="718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090880" y="2316240"/>
            <a:ext cx="718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22440" y="2544840"/>
            <a:ext cx="444240" cy="1295280"/>
          </a:xfrm>
          <a:custGeom>
            <a:avLst/>
            <a:gdLst/>
            <a:ahLst/>
            <a:rect l="l" t="t" r="r" b="b"/>
            <a:pathLst>
              <a:path w="280" h="816">
                <a:moveTo>
                  <a:pt x="40" y="0"/>
                </a:moveTo>
                <a:cubicBezTo>
                  <a:pt x="20" y="148"/>
                  <a:pt x="0" y="296"/>
                  <a:pt x="40" y="432"/>
                </a:cubicBezTo>
                <a:cubicBezTo>
                  <a:pt x="80" y="568"/>
                  <a:pt x="240" y="752"/>
                  <a:pt x="280" y="81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981080" y="2773440"/>
            <a:ext cx="381240" cy="304560"/>
          </a:xfrm>
          <a:custGeom>
            <a:avLst/>
            <a:gdLst/>
            <a:ahLst/>
            <a:rect l="l" t="t" r="r" b="b"/>
            <a:pathLst>
              <a:path w="240" h="192">
                <a:moveTo>
                  <a:pt x="0" y="192"/>
                </a:moveTo>
                <a:cubicBezTo>
                  <a:pt x="76" y="160"/>
                  <a:pt x="152" y="128"/>
                  <a:pt x="192" y="96"/>
                </a:cubicBezTo>
                <a:cubicBezTo>
                  <a:pt x="232" y="64"/>
                  <a:pt x="232" y="24"/>
                  <a:pt x="24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590920" y="1325520"/>
            <a:ext cx="177840" cy="914400"/>
          </a:xfrm>
          <a:custGeom>
            <a:avLst/>
            <a:gdLst/>
            <a:ahLst/>
            <a:rect l="l" t="t" r="r" b="b"/>
            <a:pathLst>
              <a:path w="112" h="576">
                <a:moveTo>
                  <a:pt x="0" y="576"/>
                </a:moveTo>
                <a:cubicBezTo>
                  <a:pt x="40" y="480"/>
                  <a:pt x="80" y="384"/>
                  <a:pt x="96" y="288"/>
                </a:cubicBezTo>
                <a:cubicBezTo>
                  <a:pt x="112" y="192"/>
                  <a:pt x="104" y="96"/>
                  <a:pt x="96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324480" y="2316240"/>
            <a:ext cx="381240" cy="304560"/>
          </a:xfrm>
          <a:custGeom>
            <a:avLst/>
            <a:gdLst/>
            <a:ahLst/>
            <a:rect l="l" t="t" r="r" b="b"/>
            <a:pathLst>
              <a:path w="240" h="192">
                <a:moveTo>
                  <a:pt x="0" y="192"/>
                </a:moveTo>
                <a:cubicBezTo>
                  <a:pt x="76" y="160"/>
                  <a:pt x="152" y="128"/>
                  <a:pt x="192" y="96"/>
                </a:cubicBezTo>
                <a:cubicBezTo>
                  <a:pt x="232" y="64"/>
                  <a:pt x="232" y="24"/>
                  <a:pt x="24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010280" y="1440000"/>
            <a:ext cx="774720" cy="571320"/>
          </a:xfrm>
          <a:custGeom>
            <a:avLst/>
            <a:gdLst/>
            <a:ahLst/>
            <a:rect l="l" t="t" r="r" b="b"/>
            <a:pathLst>
              <a:path w="488" h="360">
                <a:moveTo>
                  <a:pt x="8" y="336"/>
                </a:moveTo>
                <a:cubicBezTo>
                  <a:pt x="4" y="348"/>
                  <a:pt x="0" y="360"/>
                  <a:pt x="56" y="336"/>
                </a:cubicBezTo>
                <a:cubicBezTo>
                  <a:pt x="112" y="312"/>
                  <a:pt x="272" y="248"/>
                  <a:pt x="344" y="192"/>
                </a:cubicBezTo>
                <a:cubicBezTo>
                  <a:pt x="416" y="136"/>
                  <a:pt x="452" y="68"/>
                  <a:pt x="488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6320" y="5094360"/>
            <a:ext cx="8991360" cy="1050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Use a larger GWP for fossil methane of 27 (Boucher et al., ERL, 2009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ount fossil methane as CH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and CO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in inventories (Gillenwater, ESP, 200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916920" y="1143000"/>
            <a:ext cx="106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Biogen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etha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939640" y="1143000"/>
            <a:ext cx="106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oss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etha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0" y="2316240"/>
            <a:ext cx="9144000" cy="2151000"/>
            <a:chOff x="0" y="2316240"/>
            <a:chExt cx="9144000" cy="2151000"/>
          </a:xfrm>
        </p:grpSpPr>
        <p:pic>
          <p:nvPicPr>
            <p:cNvPr id="78" name="" descr=""/>
            <p:cNvPicPr/>
            <p:nvPr/>
          </p:nvPicPr>
          <p:blipFill>
            <a:blip r:embed="rId1"/>
            <a:stretch/>
          </p:blipFill>
          <p:spPr>
            <a:xfrm>
              <a:off x="0" y="2316240"/>
              <a:ext cx="9144000" cy="141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"/>
            <p:cNvSpPr/>
            <p:nvPr/>
          </p:nvSpPr>
          <p:spPr>
            <a:xfrm>
              <a:off x="7924680" y="2482920"/>
              <a:ext cx="838440" cy="381240"/>
            </a:xfrm>
            <a:prstGeom prst="rect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99480" y="3168720"/>
              <a:ext cx="838080" cy="381240"/>
            </a:xfrm>
            <a:prstGeom prst="rect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1240" y="3778560"/>
              <a:ext cx="1067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3300"/>
                  </a:solidFill>
                  <a:latin typeface="Arial"/>
                </a:rPr>
                <a:t>Discou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3300"/>
                  </a:solidFill>
                  <a:latin typeface="Arial"/>
                </a:rPr>
                <a:t>ter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352680" y="2482920"/>
              <a:ext cx="4419720" cy="381240"/>
            </a:xfrm>
            <a:prstGeom prst="rect">
              <a:avLst/>
            </a:prstGeom>
            <a:noFill/>
            <a:ln w="2844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352680" y="3168720"/>
              <a:ext cx="4419720" cy="381240"/>
            </a:xfrm>
            <a:prstGeom prst="rect">
              <a:avLst/>
            </a:prstGeom>
            <a:noFill/>
            <a:ln w="2844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272120" y="3824640"/>
              <a:ext cx="273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33cc33"/>
                  </a:solidFill>
                  <a:latin typeface="Arial"/>
                </a:rPr>
                <a:t>Marginal damage caus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33cc33"/>
                  </a:solidFill>
                  <a:latin typeface="Arial"/>
                </a:rPr>
                <a:t>by a pulse emission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971800" y="2406960"/>
              <a:ext cx="304920" cy="609480"/>
            </a:xfrm>
            <a:prstGeom prst="rect">
              <a:avLst/>
            </a:prstGeom>
            <a:noFill/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971800" y="3092760"/>
              <a:ext cx="304920" cy="609480"/>
            </a:xfrm>
            <a:prstGeom prst="rect">
              <a:avLst/>
            </a:prstGeom>
            <a:noFill/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600280" y="3854520"/>
              <a:ext cx="132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99"/>
                  </a:solidFill>
                  <a:latin typeface="Arial"/>
                </a:rPr>
                <a:t>Cumulati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240" y="7632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Global Damage Potential (GDP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6440" y="1219320"/>
            <a:ext cx="761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revisiting Hammitt et al. (1996) and Kandlikar (199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55520" y="4724280"/>
            <a:ext cx="4178160" cy="177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What damage func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xponent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hockey-stick func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S-shaped (or sigmoid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5181480" y="4581360"/>
            <a:ext cx="2971800" cy="211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76320" y="1936800"/>
            <a:ext cx="1828800" cy="8380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WP 100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5 / 2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438280" y="1873080"/>
            <a:ext cx="1752840" cy="946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DP 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0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8 / 3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876920" y="1936800"/>
            <a:ext cx="182880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DP 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0 years – 2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2 / 4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238880" y="3689280"/>
            <a:ext cx="1828800" cy="8384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DP quadrat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inity – 2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4 / 2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238880" y="5257800"/>
            <a:ext cx="1828800" cy="946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DP cub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inity – 2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4 / 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876920" y="3689280"/>
            <a:ext cx="1828800" cy="838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DP 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inity – 2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7 / 3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238880" y="1936800"/>
            <a:ext cx="182880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DP quadrat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0 years – 2 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1 / 3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9" name=""/>
          <p:cNvCxnSpPr>
            <a:stCxn id="92" idx="3"/>
            <a:endCxn id="93" idx="1"/>
          </p:cNvCxnSpPr>
          <p:nvPr/>
        </p:nvCxnSpPr>
        <p:spPr>
          <a:xfrm flipV="1">
            <a:off x="1904760" y="2346120"/>
            <a:ext cx="533880" cy="10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4" idx="2"/>
            <a:endCxn id="97" idx="0"/>
          </p:cNvCxnSpPr>
          <p:nvPr/>
        </p:nvCxnSpPr>
        <p:spPr>
          <a:xfrm>
            <a:off x="5790960" y="2774880"/>
            <a:ext cx="1080" cy="915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98" idx="2"/>
            <a:endCxn id="95" idx="0"/>
          </p:cNvCxnSpPr>
          <p:nvPr/>
        </p:nvCxnSpPr>
        <p:spPr>
          <a:xfrm>
            <a:off x="8152920" y="2774880"/>
            <a:ext cx="1080" cy="915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97" idx="3"/>
            <a:endCxn id="95" idx="1"/>
          </p:cNvCxnSpPr>
          <p:nvPr/>
        </p:nvCxnSpPr>
        <p:spPr>
          <a:xfrm>
            <a:off x="6705360" y="410796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3" name=""/>
          <p:cNvCxnSpPr>
            <a:stCxn id="94" idx="3"/>
            <a:endCxn id="98" idx="1"/>
          </p:cNvCxnSpPr>
          <p:nvPr/>
        </p:nvCxnSpPr>
        <p:spPr>
          <a:xfrm>
            <a:off x="6705360" y="235548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4" name=""/>
          <p:cNvCxnSpPr>
            <a:stCxn id="93" idx="3"/>
            <a:endCxn id="94" idx="1"/>
          </p:cNvCxnSpPr>
          <p:nvPr/>
        </p:nvCxnSpPr>
        <p:spPr>
          <a:xfrm>
            <a:off x="4190760" y="2346480"/>
            <a:ext cx="686520" cy="10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"/>
          <p:cNvCxnSpPr>
            <a:stCxn id="97" idx="2"/>
            <a:endCxn id="96" idx="1"/>
          </p:cNvCxnSpPr>
          <p:nvPr/>
        </p:nvCxnSpPr>
        <p:spPr>
          <a:xfrm>
            <a:off x="5790960" y="4527720"/>
            <a:ext cx="1448280" cy="1203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6" name=""/>
          <p:cNvSpPr/>
          <p:nvPr/>
        </p:nvSpPr>
        <p:spPr>
          <a:xfrm>
            <a:off x="1600200" y="1447920"/>
            <a:ext cx="11430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F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886200" y="1447920"/>
            <a:ext cx="14479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coun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95880" y="1447920"/>
            <a:ext cx="20574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ear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adra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019920" y="3308400"/>
            <a:ext cx="20574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ear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adra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486400" y="4876920"/>
            <a:ext cx="19051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ear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b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800600" y="2971800"/>
            <a:ext cx="17524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gration to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162920" y="2971800"/>
            <a:ext cx="18288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gration to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"/>
          <p:cNvCxnSpPr>
            <a:stCxn id="95" idx="2"/>
            <a:endCxn id="96" idx="0"/>
          </p:cNvCxnSpPr>
          <p:nvPr/>
        </p:nvCxnSpPr>
        <p:spPr>
          <a:xfrm>
            <a:off x="8152920" y="4527720"/>
            <a:ext cx="1080" cy="73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4" name=""/>
          <p:cNvSpPr/>
          <p:nvPr/>
        </p:nvSpPr>
        <p:spPr>
          <a:xfrm>
            <a:off x="7162920" y="4724280"/>
            <a:ext cx="19810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adratic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b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52280" y="76320"/>
            <a:ext cx="88394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Climate metrics: from GWP to GD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76320" y="1936800"/>
            <a:ext cx="1828800" cy="8380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WP 100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5 / 2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438280" y="1873080"/>
            <a:ext cx="1752840" cy="946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DP 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0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8 / 3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76920" y="1936800"/>
            <a:ext cx="182880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DP 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0 years – 2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2 / 4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238880" y="3689280"/>
            <a:ext cx="1828800" cy="8384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DP quadrat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inity – 2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4 / 2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238880" y="5257800"/>
            <a:ext cx="1828800" cy="946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DP cub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inity – 2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4 / 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876920" y="3689280"/>
            <a:ext cx="1828800" cy="838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DP 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inity – 2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7 / 3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238880" y="1936800"/>
            <a:ext cx="182880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DP quadrat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0 years – 2 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1 / 3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6" idx="3"/>
            <a:endCxn id="117" idx="1"/>
          </p:cNvCxnSpPr>
          <p:nvPr/>
        </p:nvCxnSpPr>
        <p:spPr>
          <a:xfrm flipV="1">
            <a:off x="1904760" y="2346120"/>
            <a:ext cx="533880" cy="10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" name=""/>
          <p:cNvCxnSpPr>
            <a:stCxn id="118" idx="2"/>
            <a:endCxn id="121" idx="0"/>
          </p:cNvCxnSpPr>
          <p:nvPr/>
        </p:nvCxnSpPr>
        <p:spPr>
          <a:xfrm>
            <a:off x="5790960" y="2774880"/>
            <a:ext cx="1080" cy="915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122" idx="2"/>
            <a:endCxn id="119" idx="0"/>
          </p:cNvCxnSpPr>
          <p:nvPr/>
        </p:nvCxnSpPr>
        <p:spPr>
          <a:xfrm>
            <a:off x="8152920" y="2774880"/>
            <a:ext cx="1080" cy="915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6" name=""/>
          <p:cNvCxnSpPr>
            <a:stCxn id="121" idx="3"/>
            <a:endCxn id="119" idx="1"/>
          </p:cNvCxnSpPr>
          <p:nvPr/>
        </p:nvCxnSpPr>
        <p:spPr>
          <a:xfrm>
            <a:off x="6705360" y="410796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7" name=""/>
          <p:cNvCxnSpPr>
            <a:stCxn id="118" idx="3"/>
            <a:endCxn id="122" idx="1"/>
          </p:cNvCxnSpPr>
          <p:nvPr/>
        </p:nvCxnSpPr>
        <p:spPr>
          <a:xfrm>
            <a:off x="6705360" y="235548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8" name=""/>
          <p:cNvCxnSpPr>
            <a:stCxn id="117" idx="3"/>
            <a:endCxn id="118" idx="1"/>
          </p:cNvCxnSpPr>
          <p:nvPr/>
        </p:nvCxnSpPr>
        <p:spPr>
          <a:xfrm>
            <a:off x="4190760" y="2346480"/>
            <a:ext cx="686520" cy="10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9" name=""/>
          <p:cNvCxnSpPr>
            <a:stCxn id="121" idx="2"/>
            <a:endCxn id="120" idx="1"/>
          </p:cNvCxnSpPr>
          <p:nvPr/>
        </p:nvCxnSpPr>
        <p:spPr>
          <a:xfrm>
            <a:off x="5790960" y="4527720"/>
            <a:ext cx="1448280" cy="1203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0" name=""/>
          <p:cNvSpPr/>
          <p:nvPr/>
        </p:nvSpPr>
        <p:spPr>
          <a:xfrm>
            <a:off x="1600200" y="1447920"/>
            <a:ext cx="11430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F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886200" y="1447920"/>
            <a:ext cx="14479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coun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095880" y="1447920"/>
            <a:ext cx="20574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ear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adra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019920" y="3308400"/>
            <a:ext cx="20574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ear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adra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486400" y="4876920"/>
            <a:ext cx="19051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ear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b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00600" y="2971800"/>
            <a:ext cx="17524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gration to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162920" y="2971800"/>
            <a:ext cx="18288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gration to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19" idx="2"/>
            <a:endCxn id="120" idx="0"/>
          </p:cNvCxnSpPr>
          <p:nvPr/>
        </p:nvCxnSpPr>
        <p:spPr>
          <a:xfrm>
            <a:off x="8152920" y="4527720"/>
            <a:ext cx="1080" cy="73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8" name=""/>
          <p:cNvSpPr/>
          <p:nvPr/>
        </p:nvSpPr>
        <p:spPr>
          <a:xfrm>
            <a:off x="7162920" y="4724280"/>
            <a:ext cx="19810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adratic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b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1371600"/>
            <a:ext cx="1676160" cy="533520"/>
          </a:xfrm>
          <a:prstGeom prst="ellipse">
            <a:avLst/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943600" y="3276720"/>
            <a:ext cx="2209680" cy="457200"/>
          </a:xfrm>
          <a:prstGeom prst="ellipse">
            <a:avLst/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52280" y="76320"/>
            <a:ext cx="88394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Climate metrics: from GWP to GD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1066680" y="228600"/>
            <a:ext cx="7543800" cy="582948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Uncertainties in methane CO</a:t>
            </a:r>
            <a:r>
              <a:rPr b="0" lang="fr-FR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-equivale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rot="18900000">
            <a:off x="1679040" y="5576400"/>
            <a:ext cx="8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z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rot="18900000">
            <a:off x="1571040" y="5790960"/>
            <a:ext cx="155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Water vapo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rot="18900000">
            <a:off x="1800720" y="5943240"/>
            <a:ext cx="185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ethane life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rot="18900000">
            <a:off x="2232000" y="5942880"/>
            <a:ext cx="195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Oxidation fr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rot="18900000">
            <a:off x="3453840" y="5693400"/>
            <a:ext cx="965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650840" y="5637240"/>
            <a:ext cx="1334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lim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ensi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arame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572000" y="56386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rot="18900000">
            <a:off x="5641920" y="5729040"/>
            <a:ext cx="104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war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rot="18900000">
            <a:off x="5414040" y="594288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amage f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18900000">
            <a:off x="6168600" y="5866920"/>
            <a:ext cx="152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count 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467480" y="6019920"/>
            <a:ext cx="1524240" cy="563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D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30T10:43:16Z</dcterms:created>
  <dc:creator>Olivier</dc:creator>
  <dc:description/>
  <dc:language>en-US</dc:language>
  <cp:lastModifiedBy>obolmd</cp:lastModifiedBy>
  <dcterms:modified xsi:type="dcterms:W3CDTF">2012-03-27T12:30:25Z</dcterms:modified>
  <cp:revision>85</cp:revision>
  <dc:subject/>
  <dc:title>Ingénierie planétaire : fuite en avant ou solution d’avenir au problème du changement climatique ? </dc:title>
</cp:coreProperties>
</file>