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1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C83E-1C2F-4A59-A18F-881D570D2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A5F5-5E90-4A60-A6E1-D9A61578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A5CB-0CA8-46D6-8950-71195AE56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A8D3-32F3-40C7-8E9C-013B1B3BB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2ED2-A7CB-43FB-BA15-23F35462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0315-57BC-4A6B-A411-80FD8750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C481-CC62-4661-A296-FE5384AA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9847-D741-425A-A45D-F93DBA6B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8D26-4A7A-4CB7-AE1E-F22C34F2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3312-64C4-4227-82B1-B9AF0AA8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F485-6982-47B0-B411-EF3DBA4E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D47D-A691-435D-9279-C45A4AC9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0A3B-6C8E-494F-B4AE-2B8F19797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80880" y="4343400"/>
            <a:ext cx="2819160" cy="2819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6765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tions on the methane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equival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160" y="3047760"/>
            <a:ext cx="83055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ivier Bouc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ire de 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étéorologie Dynamique, CNRS / UPMC, Paris,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FCCC Workshop on common metrics to calculate the 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quivalence of anthropogen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enhouse gas emissions by sources and removals by sinks in Bonn, Germany (3-4 April 201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943600" y="5065560"/>
            <a:ext cx="3276720" cy="1640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009880" y="5111640"/>
            <a:ext cx="24858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724280" y="5105520"/>
            <a:ext cx="1467000" cy="1466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276720" y="152280"/>
            <a:ext cx="1523880" cy="1370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228600" y="228600"/>
            <a:ext cx="2895480" cy="1314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7010280" y="1522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5105520" y="228600"/>
            <a:ext cx="1520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34520" cy="65944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istogram of GWP and G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6320" y="1936800"/>
            <a:ext cx="18288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WP 1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/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1873080"/>
            <a:ext cx="1752840" cy="946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 / 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193680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 / 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238880" y="3689280"/>
            <a:ext cx="1828800" cy="838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quadr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/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38880" y="5257800"/>
            <a:ext cx="1828800" cy="946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cub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/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3689280"/>
            <a:ext cx="18288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 / 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38880" y="193680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quadr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 – 2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 / 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57" idx="3"/>
            <a:endCxn id="158" idx="1"/>
          </p:cNvCxnSpPr>
          <p:nvPr/>
        </p:nvCxnSpPr>
        <p:spPr>
          <a:xfrm flipV="1">
            <a:off x="1904760" y="2346120"/>
            <a:ext cx="5338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9" idx="2"/>
            <a:endCxn id="162" idx="0"/>
          </p:cNvCxnSpPr>
          <p:nvPr/>
        </p:nvCxnSpPr>
        <p:spPr>
          <a:xfrm>
            <a:off x="5790960" y="277488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63" idx="2"/>
            <a:endCxn id="160" idx="0"/>
          </p:cNvCxnSpPr>
          <p:nvPr/>
        </p:nvCxnSpPr>
        <p:spPr>
          <a:xfrm>
            <a:off x="8152920" y="277488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2" idx="3"/>
            <a:endCxn id="160" idx="1"/>
          </p:cNvCxnSpPr>
          <p:nvPr/>
        </p:nvCxnSpPr>
        <p:spPr>
          <a:xfrm>
            <a:off x="6705360" y="410796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59" idx="3"/>
            <a:endCxn id="163" idx="1"/>
          </p:cNvCxnSpPr>
          <p:nvPr/>
        </p:nvCxnSpPr>
        <p:spPr>
          <a:xfrm>
            <a:off x="6705360" y="235548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8" idx="3"/>
            <a:endCxn id="159" idx="1"/>
          </p:cNvCxnSpPr>
          <p:nvPr/>
        </p:nvCxnSpPr>
        <p:spPr>
          <a:xfrm>
            <a:off x="4190760" y="2346480"/>
            <a:ext cx="68652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2" idx="2"/>
            <a:endCxn id="161" idx="1"/>
          </p:cNvCxnSpPr>
          <p:nvPr/>
        </p:nvCxnSpPr>
        <p:spPr>
          <a:xfrm>
            <a:off x="5790960" y="4527720"/>
            <a:ext cx="1448280" cy="12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600200" y="144792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1447920"/>
            <a:ext cx="14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95880" y="144792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19920" y="330840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86400" y="4876920"/>
            <a:ext cx="1905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2971800"/>
            <a:ext cx="1752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2971800"/>
            <a:ext cx="1828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60" idx="2"/>
            <a:endCxn id="161" idx="0"/>
          </p:cNvCxnSpPr>
          <p:nvPr/>
        </p:nvCxnSpPr>
        <p:spPr>
          <a:xfrm>
            <a:off x="8152920" y="4527720"/>
            <a:ext cx="1080" cy="73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"/>
          <p:cNvSpPr/>
          <p:nvPr/>
        </p:nvSpPr>
        <p:spPr>
          <a:xfrm>
            <a:off x="7162920" y="4724280"/>
            <a:ext cx="19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5303880"/>
            <a:ext cx="5791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limate metric: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umulative vs end-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76320"/>
            <a:ext cx="20192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TP end-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/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"/>
          <p:cNvCxnSpPr>
            <a:stCxn id="181" idx="2"/>
          </p:cNvCxnSpPr>
          <p:nvPr/>
        </p:nvCxnSpPr>
        <p:spPr>
          <a:xfrm>
            <a:off x="3295440" y="914040"/>
            <a:ext cx="1080" cy="959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1981080" y="1081080"/>
            <a:ext cx="293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poin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mul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05120" y="-380880"/>
            <a:ext cx="2743200" cy="35812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28600" y="587520"/>
            <a:ext cx="8115480" cy="62704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57200" y="19836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ime-evolving CO</a:t>
            </a:r>
            <a:r>
              <a:rPr b="0" lang="fr-FR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-equi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00800" y="1857240"/>
            <a:ext cx="25909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equivalenc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hort-lived species tend to increase as climate change incre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7200" y="152280"/>
            <a:ext cx="822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Issu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: CO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-equivalent emissions may go up even if individual gas emissions go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28800" y="3809880"/>
            <a:ext cx="106668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2438280"/>
            <a:ext cx="10666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2971800"/>
            <a:ext cx="10666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4038480"/>
            <a:ext cx="1066680" cy="22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2209680"/>
            <a:ext cx="1066680" cy="1828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48320" y="3124080"/>
            <a:ext cx="1066680" cy="38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5053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295280" y="24382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715000" y="220968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350532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632448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3809880"/>
            <a:ext cx="335304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895480" y="2209320"/>
            <a:ext cx="335304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82440" y="64008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27360" y="64008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350532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2971800"/>
            <a:ext cx="335304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57200" y="152280"/>
            <a:ext cx="822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Solu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: recalculate past emissions with new CO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-equiva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3809880"/>
            <a:ext cx="106668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1600200"/>
            <a:ext cx="106668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2971800"/>
            <a:ext cx="10666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48520" y="4038480"/>
            <a:ext cx="1066680" cy="22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48520" y="2209680"/>
            <a:ext cx="1066680" cy="1828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48320" y="3124080"/>
            <a:ext cx="1066680" cy="38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35053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295280" y="1600200"/>
            <a:ext cx="5335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715000" y="220968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15000" y="350532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14400" y="632448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3809880"/>
            <a:ext cx="335304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95480" y="1600200"/>
            <a:ext cx="335304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82440" y="64008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27360" y="64008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350532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2971800"/>
            <a:ext cx="335304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46160" y="1089000"/>
            <a:ext cx="88455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total (i.e.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quivalent) GHG emissions for countries and estimate time var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te emission targets at the internat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down emission targets between gases within individual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 emissions in emission trading scheme (ETS) or offset emissions through the Clean Development Mechanism (CD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 investment decisions across different 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6160" y="5835600"/>
            <a:ext cx="884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hould we use the same climate 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or these different applic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98360"/>
            <a:ext cx="91440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ultiple applications to climate metr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95560" y="6284880"/>
            <a:ext cx="1831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EME,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82960" y="5715000"/>
            <a:ext cx="507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ethane CO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equivalence 100-year GWP=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4602240" cy="4986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3867120" cy="3586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964560" y="6284880"/>
            <a:ext cx="2018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urce: Wikip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"/>
          <p:cNvCxnSpPr/>
          <p:nvPr/>
        </p:nvCxnSpPr>
        <p:spPr>
          <a:xfrm flipV="1" rot="16200000">
            <a:off x="5146560" y="3241800"/>
            <a:ext cx="1793160" cy="1934280"/>
          </a:xfrm>
          <a:prstGeom prst="curvedConnector5">
            <a:avLst>
              <a:gd name="adj1" fmla="val -12650"/>
              <a:gd name="adj2" fmla="val 55900"/>
              <a:gd name="adj3" fmla="val -12650"/>
            </a:avLst>
          </a:prstGeom>
          <a:ln w="7632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76320" y="380880"/>
            <a:ext cx="2133360" cy="6098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ethane and the C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3797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52280" y="1371600"/>
            <a:ext cx="1524240" cy="5335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3048120"/>
            <a:ext cx="1981080" cy="5331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791320" y="4203720"/>
            <a:ext cx="31240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rom Exec board annual report 2010, Clean Development Mechanism, UNFC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6440" y="5560920"/>
            <a:ext cx="839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mission reductions from CDM projects are monitored and credits are accrued year on year. Projects last for 10 years or 7 years with up to 2 renewals. Additionality does not have to be re-ass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ultiple applications to climate metr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6320" y="1179360"/>
            <a:ext cx="899784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mission trading scheme / CD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pulse metric to calculate CO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equivalence and tr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21 years is a long time for assuming additional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Investment decision / CD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pulse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visibility on future CO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equivalen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cost-benefit analysis (multi-year, discounting, 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equivalent emis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pulse metric as long as on an emission trajector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sustained metric in stabilisation regime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90560" y="122040"/>
            <a:ext cx="46479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lusions (1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6160" y="1209600"/>
            <a:ext cx="884556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100-year GWP is comparable to an idealised GDP metric (with quadratic damage function and 2% discount ra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 important discriminator for the methane 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equivalence among published climate metrics is whether the metric is cumulative or end-point (i.e. GTP vs iGTP / GWP / GD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 an idealised GDP, the methane 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equivalence is essentially determined by socio-economical parameters that involve a value judgment on impacts and discount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22400"/>
            <a:ext cx="85345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370560" y="685800"/>
            <a:ext cx="1935360" cy="1739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1403280"/>
            <a:ext cx="8229600" cy="43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Rat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Biogenic vs fossil meth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Revisiting the GDP: implications for the GW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 Time-evolving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equival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 What metric for what usag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.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8280" y="122040"/>
            <a:ext cx="4648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lusions (2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6160" y="990720"/>
            <a:ext cx="884556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re is no reason for 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equivalence to stay constant, 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TP as we approach the target for an end-point 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DP as climate change unfolds with a convex damag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ack-calculation of 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equivalent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isibility on future evolution i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ulse emissions make sense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trading C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on ETS and through the C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esenting a snapshot of a country emis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t is less clear whether the same metric should be used to provide long-term stabilisation climate targ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nsition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27432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ank you for your attention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1523880" cy="13701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895480" cy="1314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7010280" y="763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5105520" y="76320"/>
            <a:ext cx="1520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122400"/>
            <a:ext cx="85345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metha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705720" y="914400"/>
            <a:ext cx="1935000" cy="1739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1274760"/>
            <a:ext cx="6476760" cy="48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Second largest GHG in terms of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Significant anthropogenic emissions from a variety of sectors (agriculture, landfill, coal mining, conventional natural gas exploitation, shale gas exploitation) with some opportunities for mit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 Multi-gas abatement strategies mostly sensitive to the methan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equivalence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ther long-lived greenhouse gases have either too small RF (e.g. S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r N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or a pretty invariant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equivalence (e.g.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) to really make a difference from a climate persp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122400"/>
            <a:ext cx="85345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thane fact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705720" y="914400"/>
            <a:ext cx="1935000" cy="1739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280" y="1090440"/>
            <a:ext cx="8832960" cy="53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mospheric concentration =1800 ppbv = 1.8 ppm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versus 380 ppmv for carbon diox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diative efficiency = 3.7 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pbv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versus 1.548 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pbv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carbon diox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diative forcing = 0.48 W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versus 1.66 W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carbon diox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fetim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10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turbation lifetime ≈ 12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rect effects on stratospheric water vapour, ozone, C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aero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Warming Potential (on a mass ba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1 initially and also in Kyoto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3 in IPCC TAR (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5 in IPCC AR4 (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ethane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71600" y="3078000"/>
            <a:ext cx="2009880" cy="1417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62120" y="3916440"/>
            <a:ext cx="838080" cy="557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257800" y="2773440"/>
            <a:ext cx="3209760" cy="1704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7440" y="19382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94640" y="86832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60360" y="9446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50040" y="185904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90880" y="231624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2440" y="2544840"/>
            <a:ext cx="444240" cy="1295280"/>
          </a:xfrm>
          <a:custGeom>
            <a:avLst/>
            <a:gdLst/>
            <a:ahLst/>
            <a:rect l="l" t="t" r="r" b="b"/>
            <a:pathLst>
              <a:path w="280" h="816">
                <a:moveTo>
                  <a:pt x="40" y="0"/>
                </a:moveTo>
                <a:cubicBezTo>
                  <a:pt x="20" y="148"/>
                  <a:pt x="0" y="296"/>
                  <a:pt x="40" y="432"/>
                </a:cubicBezTo>
                <a:cubicBezTo>
                  <a:pt x="80" y="568"/>
                  <a:pt x="240" y="752"/>
                  <a:pt x="280" y="81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773440"/>
            <a:ext cx="38124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92"/>
                </a:moveTo>
                <a:cubicBezTo>
                  <a:pt x="76" y="160"/>
                  <a:pt x="152" y="128"/>
                  <a:pt x="192" y="96"/>
                </a:cubicBezTo>
                <a:cubicBezTo>
                  <a:pt x="232" y="64"/>
                  <a:pt x="232" y="24"/>
                  <a:pt x="24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1325520"/>
            <a:ext cx="177840" cy="914400"/>
          </a:xfrm>
          <a:custGeom>
            <a:avLst/>
            <a:gdLst/>
            <a:ahLst/>
            <a:rect l="l" t="t" r="r" b="b"/>
            <a:pathLst>
              <a:path w="112" h="576">
                <a:moveTo>
                  <a:pt x="0" y="576"/>
                </a:moveTo>
                <a:cubicBezTo>
                  <a:pt x="40" y="480"/>
                  <a:pt x="80" y="384"/>
                  <a:pt x="96" y="288"/>
                </a:cubicBezTo>
                <a:cubicBezTo>
                  <a:pt x="112" y="192"/>
                  <a:pt x="104" y="96"/>
                  <a:pt x="9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2316240"/>
            <a:ext cx="38124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92"/>
                </a:moveTo>
                <a:cubicBezTo>
                  <a:pt x="76" y="160"/>
                  <a:pt x="152" y="128"/>
                  <a:pt x="192" y="96"/>
                </a:cubicBezTo>
                <a:cubicBezTo>
                  <a:pt x="232" y="64"/>
                  <a:pt x="232" y="24"/>
                  <a:pt x="24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1440000"/>
            <a:ext cx="774720" cy="571320"/>
          </a:xfrm>
          <a:custGeom>
            <a:avLst/>
            <a:gdLst/>
            <a:ahLst/>
            <a:rect l="l" t="t" r="r" b="b"/>
            <a:pathLst>
              <a:path w="488" h="360">
                <a:moveTo>
                  <a:pt x="8" y="336"/>
                </a:moveTo>
                <a:cubicBezTo>
                  <a:pt x="4" y="348"/>
                  <a:pt x="0" y="360"/>
                  <a:pt x="56" y="336"/>
                </a:cubicBezTo>
                <a:cubicBezTo>
                  <a:pt x="112" y="312"/>
                  <a:pt x="272" y="248"/>
                  <a:pt x="344" y="192"/>
                </a:cubicBezTo>
                <a:cubicBezTo>
                  <a:pt x="416" y="136"/>
                  <a:pt x="452" y="68"/>
                  <a:pt x="488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320" y="5094360"/>
            <a:ext cx="8991360" cy="105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se a larger GWP for fossil methane of 27 (Boucher et al., ERL, 200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unt fossil methane as CH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n inventories (Gillenwater, ESP, 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6920" y="1143000"/>
            <a:ext cx="10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ioge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th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39640" y="1143000"/>
            <a:ext cx="10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s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th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2316240"/>
            <a:ext cx="9144000" cy="2151000"/>
            <a:chOff x="0" y="2316240"/>
            <a:chExt cx="9144000" cy="2151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2316240"/>
              <a:ext cx="9144000" cy="14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7924680" y="2482920"/>
              <a:ext cx="838440" cy="38124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99480" y="3168720"/>
              <a:ext cx="838080" cy="38124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1240" y="3778560"/>
              <a:ext cx="106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Arial"/>
                </a:rPr>
                <a:t>Disco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Arial"/>
                </a:rPr>
                <a:t>te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352680" y="2482920"/>
              <a:ext cx="4419720" cy="381240"/>
            </a:xfrm>
            <a:prstGeom prst="rect">
              <a:avLst/>
            </a:prstGeom>
            <a:noFill/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52680" y="3168720"/>
              <a:ext cx="4419720" cy="381240"/>
            </a:xfrm>
            <a:prstGeom prst="rect">
              <a:avLst/>
            </a:prstGeom>
            <a:noFill/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272120" y="3824640"/>
              <a:ext cx="273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cc33"/>
                  </a:solidFill>
                  <a:latin typeface="Arial"/>
                </a:rPr>
                <a:t>Marginal damage cau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cc33"/>
                  </a:solidFill>
                  <a:latin typeface="Arial"/>
                </a:rPr>
                <a:t>by a pulse emiss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71800" y="2406960"/>
              <a:ext cx="304920" cy="60948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71800" y="3092760"/>
              <a:ext cx="304920" cy="60948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00280" y="3854520"/>
              <a:ext cx="13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Cumula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Global Damage Potential (GD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6440" y="1219320"/>
            <a:ext cx="76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visiting Hammitt et al. (1996) and Kandlikar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5520" y="4724280"/>
            <a:ext cx="417816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What damage fu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onen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ockey-stick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-shaped (or sigmoi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181480" y="4581360"/>
            <a:ext cx="2971800" cy="21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320" y="1936800"/>
            <a:ext cx="18288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WP 1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/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1873080"/>
            <a:ext cx="1752840" cy="946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 / 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193680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 / 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3689280"/>
            <a:ext cx="1828800" cy="838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quadr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/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38880" y="5257800"/>
            <a:ext cx="1828800" cy="946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cub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/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3689280"/>
            <a:ext cx="18288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 / 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193680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quadr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 – 2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 / 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2" idx="3"/>
            <a:endCxn id="93" idx="1"/>
          </p:cNvCxnSpPr>
          <p:nvPr/>
        </p:nvCxnSpPr>
        <p:spPr>
          <a:xfrm flipV="1">
            <a:off x="1904760" y="2346120"/>
            <a:ext cx="5338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4" idx="2"/>
            <a:endCxn id="97" idx="0"/>
          </p:cNvCxnSpPr>
          <p:nvPr/>
        </p:nvCxnSpPr>
        <p:spPr>
          <a:xfrm>
            <a:off x="5790960" y="277488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8" idx="2"/>
            <a:endCxn id="95" idx="0"/>
          </p:cNvCxnSpPr>
          <p:nvPr/>
        </p:nvCxnSpPr>
        <p:spPr>
          <a:xfrm>
            <a:off x="8152920" y="277488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7" idx="3"/>
            <a:endCxn id="95" idx="1"/>
          </p:cNvCxnSpPr>
          <p:nvPr/>
        </p:nvCxnSpPr>
        <p:spPr>
          <a:xfrm>
            <a:off x="6705360" y="410796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4" idx="3"/>
            <a:endCxn id="98" idx="1"/>
          </p:cNvCxnSpPr>
          <p:nvPr/>
        </p:nvCxnSpPr>
        <p:spPr>
          <a:xfrm>
            <a:off x="6705360" y="235548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3" idx="3"/>
            <a:endCxn id="94" idx="1"/>
          </p:cNvCxnSpPr>
          <p:nvPr/>
        </p:nvCxnSpPr>
        <p:spPr>
          <a:xfrm>
            <a:off x="4190760" y="2346480"/>
            <a:ext cx="68652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7" idx="2"/>
            <a:endCxn id="96" idx="1"/>
          </p:cNvCxnSpPr>
          <p:nvPr/>
        </p:nvCxnSpPr>
        <p:spPr>
          <a:xfrm>
            <a:off x="5790960" y="4527720"/>
            <a:ext cx="1448280" cy="12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1600200" y="144792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1447920"/>
            <a:ext cx="14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144792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330840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4876920"/>
            <a:ext cx="1905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971800"/>
            <a:ext cx="1752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2920" y="2971800"/>
            <a:ext cx="1828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95" idx="2"/>
            <a:endCxn id="96" idx="0"/>
          </p:cNvCxnSpPr>
          <p:nvPr/>
        </p:nvCxnSpPr>
        <p:spPr>
          <a:xfrm>
            <a:off x="8152920" y="4527720"/>
            <a:ext cx="1080" cy="73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7162920" y="4724280"/>
            <a:ext cx="19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7632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limate metrics: from GWP to GD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320" y="1936800"/>
            <a:ext cx="18288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WP 1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/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38280" y="1873080"/>
            <a:ext cx="1752840" cy="946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 / 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76920" y="193680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 / 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38880" y="3689280"/>
            <a:ext cx="1828800" cy="838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quadr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/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38880" y="5257800"/>
            <a:ext cx="1828800" cy="946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cub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/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3689280"/>
            <a:ext cx="18288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 / 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193680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quadr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 – 2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 / 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6" idx="3"/>
            <a:endCxn id="117" idx="1"/>
          </p:cNvCxnSpPr>
          <p:nvPr/>
        </p:nvCxnSpPr>
        <p:spPr>
          <a:xfrm flipV="1">
            <a:off x="1904760" y="2346120"/>
            <a:ext cx="5338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8" idx="2"/>
            <a:endCxn id="121" idx="0"/>
          </p:cNvCxnSpPr>
          <p:nvPr/>
        </p:nvCxnSpPr>
        <p:spPr>
          <a:xfrm>
            <a:off x="5790960" y="277488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22" idx="2"/>
            <a:endCxn id="119" idx="0"/>
          </p:cNvCxnSpPr>
          <p:nvPr/>
        </p:nvCxnSpPr>
        <p:spPr>
          <a:xfrm>
            <a:off x="8152920" y="277488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1" idx="3"/>
            <a:endCxn id="119" idx="1"/>
          </p:cNvCxnSpPr>
          <p:nvPr/>
        </p:nvCxnSpPr>
        <p:spPr>
          <a:xfrm>
            <a:off x="6705360" y="410796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3"/>
            <a:endCxn id="122" idx="1"/>
          </p:cNvCxnSpPr>
          <p:nvPr/>
        </p:nvCxnSpPr>
        <p:spPr>
          <a:xfrm>
            <a:off x="6705360" y="235548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17" idx="3"/>
            <a:endCxn id="118" idx="1"/>
          </p:cNvCxnSpPr>
          <p:nvPr/>
        </p:nvCxnSpPr>
        <p:spPr>
          <a:xfrm>
            <a:off x="4190760" y="2346480"/>
            <a:ext cx="68652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1" idx="2"/>
            <a:endCxn id="120" idx="1"/>
          </p:cNvCxnSpPr>
          <p:nvPr/>
        </p:nvCxnSpPr>
        <p:spPr>
          <a:xfrm>
            <a:off x="5790960" y="4527720"/>
            <a:ext cx="1448280" cy="12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1600200" y="144792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86200" y="1447920"/>
            <a:ext cx="14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5880" y="144792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330840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4876920"/>
            <a:ext cx="1905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2971800"/>
            <a:ext cx="1752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62920" y="2971800"/>
            <a:ext cx="1828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19" idx="2"/>
            <a:endCxn id="120" idx="0"/>
          </p:cNvCxnSpPr>
          <p:nvPr/>
        </p:nvCxnSpPr>
        <p:spPr>
          <a:xfrm>
            <a:off x="8152920" y="4527720"/>
            <a:ext cx="1080" cy="73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7162920" y="4724280"/>
            <a:ext cx="19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1371600"/>
            <a:ext cx="1676160" cy="53352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3600" y="3276720"/>
            <a:ext cx="2209680" cy="4572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7632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limate metrics: from GWP to GD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543800" cy="58294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Uncertainties in methane CO</a:t>
            </a:r>
            <a:r>
              <a:rPr b="0" lang="fr-FR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-equival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8900000">
            <a:off x="1679040" y="55764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8900000">
            <a:off x="1571040" y="579096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ater vap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8900000">
            <a:off x="1800720" y="594324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thane life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8900000">
            <a:off x="2232000" y="594288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xidation f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8900000">
            <a:off x="3453840" y="5693400"/>
            <a:ext cx="96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50840" y="5637240"/>
            <a:ext cx="13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638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8900000">
            <a:off x="5641920" y="572904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ar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8900000">
            <a:off x="5414040" y="594288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mag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8900000">
            <a:off x="6168600" y="586692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467480" y="6019920"/>
            <a:ext cx="1524240" cy="56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10:43:16Z</dcterms:created>
  <dc:creator>Olivier</dc:creator>
  <dc:description/>
  <dc:language>en-US</dc:language>
  <cp:lastModifiedBy>obolmd</cp:lastModifiedBy>
  <dcterms:modified xsi:type="dcterms:W3CDTF">2012-03-27T12:30:25Z</dcterms:modified>
  <cp:revision>85</cp:revision>
  <dc:subject/>
  <dc:title>Ingénierie planétaire : fuite en avant ou solution d’avenir au problème du changement climatique ? </dc:title>
</cp:coreProperties>
</file>