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F1E-2B1C-4952-B8B1-91A7FDAA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E54-8D1C-4E92-B79B-0CEC7406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B8C-4F62-425F-B78A-FE50287F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8BA-6533-491F-87EB-07AF26C2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B40-D46D-4A8A-91AE-C12CCF7F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A6D-DBCF-40AE-B6DE-FA6A4333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620-22D4-44C7-B533-A4CD3D8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B84-3AC2-44D6-BFC0-068357D4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F7D-3D73-4AA8-B83F-DC078D32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B2E-C242-4952-B82B-BE0B3179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2FE-9028-4255-91E7-54C75152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F4F-79FF-46A2-AE60-426FA5F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55A7-561A-413B-B263-97880571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434340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tions on the methane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ivier Bouc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ire de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téorologie Dynamique, CNRS / UPMC, Pari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CCC Workshop on common metrics to calculate th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quivalence of anthropogen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house gas emissions by sources and removals by sinks in Bonn, Germany (3-4 April 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5065560"/>
            <a:ext cx="3276720" cy="164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009880" y="5111640"/>
            <a:ext cx="24858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1467000" cy="146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010280" y="152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105520" y="22860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594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gram of GWP and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7" idx="3"/>
            <a:endCxn id="158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9" idx="2"/>
            <a:endCxn id="162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3" idx="2"/>
            <a:endCxn id="160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3"/>
            <a:endCxn id="160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9" idx="3"/>
            <a:endCxn id="163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8" idx="3"/>
            <a:endCxn id="159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2" idx="2"/>
            <a:endCxn id="161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60" idx="2"/>
            <a:endCxn id="161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303880"/>
            <a:ext cx="579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umulative vs end-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76320"/>
            <a:ext cx="20192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P end-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/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81" idx="2"/>
          </p:cNvCxnSpPr>
          <p:nvPr/>
        </p:nvCxnSpPr>
        <p:spPr>
          <a:xfrm>
            <a:off x="3295440" y="914040"/>
            <a:ext cx="1080" cy="95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981080" y="1081080"/>
            <a:ext cx="293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poi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mu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-380880"/>
            <a:ext cx="2743200" cy="3581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587520"/>
            <a:ext cx="8115480" cy="6270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1983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ime-evolving CO</a:t>
            </a:r>
            <a:r>
              <a:rPr b="0" lang="fr-FR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1857240"/>
            <a:ext cx="25909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equivalenc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hort-lived species tend to increase as climate chang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t emissions may go up even if individual gas emissions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438280"/>
            <a:ext cx="10666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295280" y="2438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895480" y="220932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recalculate past emissions with new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600200"/>
            <a:ext cx="106668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295280" y="1600200"/>
            <a:ext cx="533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1600200"/>
            <a:ext cx="335304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6160" y="1089000"/>
            <a:ext cx="88455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total (i.e.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quivalent) GHG emissions for countries and estimate tim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emission targets at the inter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down emission targets between gases within individual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emissions in emission trading scheme (ETS) or offset emissions through the Clean Development Mechanism (C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investment decisions across different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6160" y="5835600"/>
            <a:ext cx="88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ould we use the same climat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these different ap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9836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95560" y="6284880"/>
            <a:ext cx="1831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ME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82960" y="5715000"/>
            <a:ext cx="50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ethane CO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equivalence 100-year GWP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602240" cy="498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867120" cy="3586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964560" y="6284880"/>
            <a:ext cx="2018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ce: 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/>
          <p:nvPr/>
        </p:nvCxnSpPr>
        <p:spPr>
          <a:xfrm flipV="1" rot="16200000">
            <a:off x="5146560" y="3241800"/>
            <a:ext cx="1793160" cy="1934280"/>
          </a:xfrm>
          <a:prstGeom prst="curvedConnector5">
            <a:avLst>
              <a:gd name="adj1" fmla="val -12650"/>
              <a:gd name="adj2" fmla="val 55900"/>
              <a:gd name="adj3" fmla="val -12650"/>
            </a:avLst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76320" y="380880"/>
            <a:ext cx="2133360" cy="6098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and the C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379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52280" y="1371600"/>
            <a:ext cx="152424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3048120"/>
            <a:ext cx="1981080" cy="533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4203720"/>
            <a:ext cx="3124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om Exec board annual report 2010, Clean Development Mechanism, UNFC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6440" y="556092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ission reductions from CDM projects are monitored and credits are accrued year on year. Projects last for 10 years or 7 years with up to 2 renewals. Additionality does not have to be re-ass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0" y="1179360"/>
            <a:ext cx="89978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mission trading scheme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to calculat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and t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21 years is a long time for assuming additiona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vestment decision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visibility on futur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cost-benefit analysis (multi-year, discounting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equivalent e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as long as on an emission traject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sustained metric in stabilisation regim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560" y="122040"/>
            <a:ext cx="46479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6160" y="1209600"/>
            <a:ext cx="8845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100-year GWP is comparable to an idealised GDP metric (with quadratic damage function and 2% discount r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 important discriminator for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among published climate metrics is whether the metric is cumulative or end-point (i.e. GTP vs iGTP / GWP / GD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an idealised GDP,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is essentially determined by socio-economical parameters that involve a value judgment on impacts and discou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0560" y="685800"/>
            <a:ext cx="1935360" cy="173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403280"/>
            <a:ext cx="822960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Biogenic vs fossil meth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Revisiting the GDP: implications for the GW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Time-evolving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What metric for what us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12204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6160" y="990720"/>
            <a:ext cx="884556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re is no reason for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to stay constant, 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TP as we approach the target for an end-point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DP as climate change unfolds with a convex damag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ck-calculation of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t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isibility on future evolution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ulse emissions make sens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trading C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n ETS and through the C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senting a snapshot of a country 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t is less clear whether the same metric should be used to provide long-term stabilisation climate targ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i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27432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010280" y="763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105520" y="7632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metha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1274760"/>
            <a:ext cx="647676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Second largest GHG in terms of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Significant anthropogenic emissions from a variety of sectors (agriculture, landfill, coal mining, conventional natural gas exploitation, shale gas exploitation) with some opportunities for m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Multi-gas abatement strategies mostly sensitive to the methan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her long-lived greenhouse gases have either too small RF (e.g. S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N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or a pretty invariant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(e.g.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) to really make a difference from a climate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hane fact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1090440"/>
            <a:ext cx="883296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mospheric concentration =1800 ppbv = 1.8 ppm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380 ppmv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efficiency = 3.7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548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forcing = 0.48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66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feti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0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turbation lifetime ≈ 1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effects on stratospheric water vapour, ozone,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Warming Potential (on a mass ba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1 initially and also in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 in IPCC TAR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 in IPCC AR4 (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3078000"/>
            <a:ext cx="2009880" cy="1417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3916440"/>
            <a:ext cx="838080" cy="55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57800" y="2773440"/>
            <a:ext cx="320976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7440" y="1938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4640" y="868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60360" y="9446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50040" y="18590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90880" y="23162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440" y="2544840"/>
            <a:ext cx="444240" cy="1295280"/>
          </a:xfrm>
          <a:custGeom>
            <a:avLst/>
            <a:gdLst/>
            <a:ahLst/>
            <a:rect l="l" t="t" r="r" b="b"/>
            <a:pathLst>
              <a:path w="280" h="816">
                <a:moveTo>
                  <a:pt x="40" y="0"/>
                </a:moveTo>
                <a:cubicBezTo>
                  <a:pt x="20" y="148"/>
                  <a:pt x="0" y="296"/>
                  <a:pt x="40" y="432"/>
                </a:cubicBezTo>
                <a:cubicBezTo>
                  <a:pt x="80" y="568"/>
                  <a:pt x="240" y="752"/>
                  <a:pt x="280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7734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325520"/>
            <a:ext cx="177840" cy="914400"/>
          </a:xfrm>
          <a:custGeom>
            <a:avLst/>
            <a:gdLst/>
            <a:ahLst/>
            <a:rect l="l" t="t" r="r" b="b"/>
            <a:pathLst>
              <a:path w="112" h="576">
                <a:moveTo>
                  <a:pt x="0" y="576"/>
                </a:moveTo>
                <a:cubicBezTo>
                  <a:pt x="40" y="480"/>
                  <a:pt x="80" y="384"/>
                  <a:pt x="96" y="288"/>
                </a:cubicBezTo>
                <a:cubicBezTo>
                  <a:pt x="112" y="192"/>
                  <a:pt x="104" y="96"/>
                  <a:pt x="9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23162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1440000"/>
            <a:ext cx="774720" cy="571320"/>
          </a:xfrm>
          <a:custGeom>
            <a:avLst/>
            <a:gdLst/>
            <a:ahLst/>
            <a:rect l="l" t="t" r="r" b="b"/>
            <a:pathLst>
              <a:path w="488" h="360">
                <a:moveTo>
                  <a:pt x="8" y="336"/>
                </a:moveTo>
                <a:cubicBezTo>
                  <a:pt x="4" y="348"/>
                  <a:pt x="0" y="360"/>
                  <a:pt x="56" y="336"/>
                </a:cubicBezTo>
                <a:cubicBezTo>
                  <a:pt x="112" y="312"/>
                  <a:pt x="272" y="248"/>
                  <a:pt x="344" y="192"/>
                </a:cubicBezTo>
                <a:cubicBezTo>
                  <a:pt x="416" y="136"/>
                  <a:pt x="452" y="68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5094360"/>
            <a:ext cx="899136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e a larger GWP for fossil methane of 27 (Boucher et al., ERL,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nt fossil methane as C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 inventories (Gillenwater, ESP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692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3964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2316240"/>
            <a:ext cx="9144000" cy="2151000"/>
            <a:chOff x="0" y="2316240"/>
            <a:chExt cx="9144000" cy="2151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2316240"/>
              <a:ext cx="91440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924680" y="2482920"/>
              <a:ext cx="83844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99480" y="3168720"/>
              <a:ext cx="83808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1240" y="377856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Dis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2680" y="24829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1687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72120" y="3824640"/>
              <a:ext cx="273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Marginal damage cau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by a pulse emis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24069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71800" y="30927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00280" y="38545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umul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lobal Damage Potential (GD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440" y="1219320"/>
            <a:ext cx="76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visiting Hammitt et al. (1996) and Kandlikar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5520" y="4724280"/>
            <a:ext cx="41781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at damage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one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ckey-stick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-shaped (or sigmo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81480" y="4581360"/>
            <a:ext cx="297180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2" idx="3"/>
            <a:endCxn id="93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2"/>
            <a:endCxn id="97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2"/>
            <a:endCxn id="95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7" idx="3"/>
            <a:endCxn id="95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98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3" idx="3"/>
            <a:endCxn id="94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2"/>
            <a:endCxn id="96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5" idx="2"/>
            <a:endCxn id="96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6" idx="3"/>
            <a:endCxn id="117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8" idx="2"/>
            <a:endCxn id="121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  <a:endCxn id="119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1" idx="3"/>
            <a:endCxn id="119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22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7" idx="3"/>
            <a:endCxn id="118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0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19" idx="2"/>
            <a:endCxn id="120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371600"/>
            <a:ext cx="1676160" cy="533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3276720"/>
            <a:ext cx="220968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543800" cy="5829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certainties in methane CO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900000">
            <a:off x="1679040" y="5576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900000">
            <a:off x="1571040" y="57909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ter vap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900000">
            <a:off x="1800720" y="59432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8900000">
            <a:off x="2232000" y="59428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xidation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8900000">
            <a:off x="3453840" y="5693400"/>
            <a:ext cx="96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50840" y="56372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900000">
            <a:off x="5641920" y="57290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900000">
            <a:off x="5414040" y="594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mag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8900000">
            <a:off x="6168600" y="58669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6019920"/>
            <a:ext cx="15242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0:43:16Z</dcterms:created>
  <dc:creator>Olivier</dc:creator>
  <dc:description/>
  <dc:language>en-US</dc:language>
  <cp:lastModifiedBy>obolmd</cp:lastModifiedBy>
  <dcterms:modified xsi:type="dcterms:W3CDTF">2012-03-27T12:30:25Z</dcterms:modified>
  <cp:revision>85</cp:revision>
  <dc:subject/>
  <dc:title>Ingénierie planétaire : fuite en avant ou solution d’avenir au problème du changement climatique ? </dc:title>
</cp:coreProperties>
</file>