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C12-8A23-42DC-B1D4-12556DCE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6CC-E011-48CD-8B39-2DBC8AD0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C50-187B-408B-964E-77CBE759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D78-8DC5-4109-81AA-70365D2C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B29-F2EB-4EFA-A605-56393651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542-DE66-497D-9AE3-E4773439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34B-C365-49ED-8652-4C57A6C6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9CA-92B8-4D3B-AD16-9DC168AC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007-98AF-4DF1-BCFA-EA6ECB66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9D3-1178-43CF-BCD3-F13E0FE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40D-0F69-4DA8-AB2F-028AF1C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7E1-847B-4810-A6A2-E395A580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165B-14FE-487D-BBE6-D452A48E5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4343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tions on the methan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er Bou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ire de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orologie Dynamique, CNRS /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Workshop on common metrics to calculate th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ivalence of anthropoge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 gas emissions by sources and removals by sinks in Bonn, Germany (3-4 April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065560"/>
            <a:ext cx="3276720" cy="164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09880" y="5111640"/>
            <a:ext cx="24858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146700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010280" y="15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105520" y="22860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9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gram of GWP and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3"/>
            <a:endCxn id="158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2"/>
            <a:endCxn id="162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3" idx="2"/>
            <a:endCxn id="160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60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3"/>
            <a:endCxn id="163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59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2"/>
            <a:endCxn id="161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0" idx="2"/>
            <a:endCxn id="161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03880"/>
            <a:ext cx="579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umulative vs end-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76320"/>
            <a:ext cx="20192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end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/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295440" y="914040"/>
            <a:ext cx="108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981080" y="1081080"/>
            <a:ext cx="293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poi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-380880"/>
            <a:ext cx="2743200" cy="358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115480" cy="627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me-evolving CO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1857240"/>
            <a:ext cx="2590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equival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-lived species tend to increase as climate chan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t emissions may go up even if individual gas emission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438280"/>
            <a:ext cx="1066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952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95480" y="220932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recalculate past emissions with new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00200"/>
            <a:ext cx="106668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16002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1600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6160" y="1089000"/>
            <a:ext cx="8845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total (i.e.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quivalent) GHG emissions for countries and estimate tim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emission targets at the inter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emission targets between gases within individual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emissions in emission trading scheme (ETS) or offset emissions through the Clean Development Mechanism (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investment decisions across differe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58356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we use the same climat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these different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36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5560" y="6284880"/>
            <a:ext cx="183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5715000"/>
            <a:ext cx="50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hane C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equivalence 100-year GWP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602240" cy="498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67120" cy="3586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64560" y="6284880"/>
            <a:ext cx="201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 flipV="1" rot="16200000">
            <a:off x="5146560" y="3241800"/>
            <a:ext cx="1793160" cy="1934280"/>
          </a:xfrm>
          <a:prstGeom prst="curvedConnector5">
            <a:avLst>
              <a:gd name="adj1" fmla="val -12650"/>
              <a:gd name="adj2" fmla="val 55900"/>
              <a:gd name="adj3" fmla="val -1265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76320" y="380880"/>
            <a:ext cx="2133360" cy="6098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and the C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1371600"/>
            <a:ext cx="152424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48120"/>
            <a:ext cx="198108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4203720"/>
            <a:ext cx="3124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om Exec board annual report 2010, Clean Development Mechanism, UNFC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5560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ission reductions from CDM projects are monitored and credits are accrued year on year. Projects last for 10 years or 7 years with up to 2 renewals. Additionality does not have to be re-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1179360"/>
            <a:ext cx="8997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mission trading scheme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to calculat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and 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21 years is a long time for assuming addition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vestment decision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visibility on futur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st-benefit analysis (multi-year, discounting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quivalent e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as long as on an emission traje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sustained metric in stabilisation reg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122040"/>
            <a:ext cx="46479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6160" y="1209600"/>
            <a:ext cx="8845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100-year GWP is comparable to an idealised GDP metric (with quadratic damage function and 2% discount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mportant discriminator for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among published climate metrics is whether the metric is cumulative or end-point (i.e. GTP vs iGTP / GWP / G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n idealised GDP,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is essentially determined by socio-economical parameters that involve a value judgment on impacts and discou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0560" y="685800"/>
            <a:ext cx="19353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403280"/>
            <a:ext cx="82296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iogenic vs fossil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Revisiting the GDP: implications for the G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ime-evolving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What metric for what us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12204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6160" y="990720"/>
            <a:ext cx="88455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no reason for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to stay constant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TP as we approach the target for an end-point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s climate change unfolds with a convex damag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k-calculati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bility on future evolu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lse emissions make sens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rading C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n ETS and through the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 snapshot of a country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less clear whether the same metric should be used to provide long-term stabilisation climate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743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10280" y="76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7632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meth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274760"/>
            <a:ext cx="647676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econd largest GHG in terms of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Significant anthropogenic emissions from a variety of sectors (agriculture, landfill, coal mining, conventional natural gas exploitation, shale gas exploitation) with some opportunities for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Multi-gas abatement strategies mostly sensitive to the methan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her long-lived greenhouse gases have either too small RF (e.g. S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N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r a pretty invarian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(e.g.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) to really make a difference from a climate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ane fac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090440"/>
            <a:ext cx="883296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ic concentration =1800 ppbv = 1.8 ppm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380 ppmv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efficiency = 3.7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548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forcing = 0.48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66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turbation lifetime ≈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effects on stratospheric water vapour, ozone,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Warming Potential (on a mass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initially and also in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in IPCC TAR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in IPCC AR4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078000"/>
            <a:ext cx="2009880" cy="141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916440"/>
            <a:ext cx="838080" cy="5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773440"/>
            <a:ext cx="320976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7440" y="1938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4640" y="868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0360" y="9446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040" y="18590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90880" y="23162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2544840"/>
            <a:ext cx="444240" cy="1295280"/>
          </a:xfrm>
          <a:custGeom>
            <a:avLst/>
            <a:gdLst/>
            <a:ahLst/>
            <a:rect l="l" t="t" r="r" b="b"/>
            <a:pathLst>
              <a:path w="280" h="816">
                <a:moveTo>
                  <a:pt x="40" y="0"/>
                </a:moveTo>
                <a:cubicBezTo>
                  <a:pt x="20" y="148"/>
                  <a:pt x="0" y="296"/>
                  <a:pt x="40" y="432"/>
                </a:cubicBezTo>
                <a:cubicBezTo>
                  <a:pt x="80" y="568"/>
                  <a:pt x="240" y="752"/>
                  <a:pt x="28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7734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325520"/>
            <a:ext cx="177840" cy="914400"/>
          </a:xfrm>
          <a:custGeom>
            <a:avLst/>
            <a:gdLst/>
            <a:ahLst/>
            <a:rect l="l" t="t" r="r" b="b"/>
            <a:pathLst>
              <a:path w="112" h="576">
                <a:moveTo>
                  <a:pt x="0" y="576"/>
                </a:moveTo>
                <a:cubicBezTo>
                  <a:pt x="40" y="480"/>
                  <a:pt x="80" y="384"/>
                  <a:pt x="96" y="288"/>
                </a:cubicBezTo>
                <a:cubicBezTo>
                  <a:pt x="112" y="192"/>
                  <a:pt x="104" y="9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162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440000"/>
            <a:ext cx="774720" cy="571320"/>
          </a:xfrm>
          <a:custGeom>
            <a:avLst/>
            <a:gdLst/>
            <a:ahLst/>
            <a:rect l="l" t="t" r="r" b="b"/>
            <a:pathLst>
              <a:path w="488" h="360">
                <a:moveTo>
                  <a:pt x="8" y="336"/>
                </a:moveTo>
                <a:cubicBezTo>
                  <a:pt x="4" y="348"/>
                  <a:pt x="0" y="360"/>
                  <a:pt x="56" y="336"/>
                </a:cubicBezTo>
                <a:cubicBezTo>
                  <a:pt x="112" y="312"/>
                  <a:pt x="272" y="248"/>
                  <a:pt x="344" y="192"/>
                </a:cubicBezTo>
                <a:cubicBezTo>
                  <a:pt x="416" y="136"/>
                  <a:pt x="452" y="68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94360"/>
            <a:ext cx="8991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a larger GWP for fossil methane of 27 (Boucher et al., ERL,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nt fossil methane as C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inventories (Gillenwater, ESP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692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3964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2316240"/>
            <a:ext cx="9144000" cy="2151000"/>
            <a:chOff x="0" y="2316240"/>
            <a:chExt cx="9144000" cy="2151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2316240"/>
              <a:ext cx="91440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924680" y="2482920"/>
              <a:ext cx="83844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99480" y="3168720"/>
              <a:ext cx="83808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1240" y="377856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Dis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4829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1687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2120" y="3824640"/>
              <a:ext cx="27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arginal damage ca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by a pulse e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24069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30927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280" y="38545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umul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lobal Damage Potential (GD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440" y="121932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visiting Hammitt et al. (1996) and Kandlika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4724280"/>
            <a:ext cx="4178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damag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n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ckey-stick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-shaped (or sigmo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81480" y="4581360"/>
            <a:ext cx="29718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3"/>
            <a:endCxn id="93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2"/>
            <a:endCxn id="97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2"/>
            <a:endCxn id="95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5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8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6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5" idx="2"/>
            <a:endCxn id="96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6" idx="3"/>
            <a:endCxn id="117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19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22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7" idx="3"/>
            <a:endCxn id="118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0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20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1676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276720"/>
            <a:ext cx="22096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certainties in methane C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679040" y="5576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571040" y="5790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ter va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1800720" y="5943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232000" y="59428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idation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3453840" y="56934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56372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5641920" y="57290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5414040" y="594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6168600" y="58669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6019920"/>
            <a:ext cx="1524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43:16Z</dcterms:created>
  <dc:creator>Olivier</dc:creator>
  <dc:description/>
  <dc:language>en-US</dc:language>
  <cp:lastModifiedBy>obolmd</cp:lastModifiedBy>
  <dcterms:modified xsi:type="dcterms:W3CDTF">2012-03-27T12:30:25Z</dcterms:modified>
  <cp:revision>85</cp:revision>
  <dc:subject/>
  <dc:title>Ingénierie planétaire : fuite en avant ou solution d’avenir au problème du changement climatique ? </dc:title>
</cp:coreProperties>
</file>