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1524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orkshop on common metrics to calculate the C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equivalence of anthropogenic greenhouse gas emissions by sources and removals by sink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339640" y="6243480"/>
            <a:ext cx="5832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Javier Hanna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, UNFCCC secretariat, MD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4148280"/>
            <a:ext cx="78818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3 April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2560" y="980640"/>
            <a:ext cx="88930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9744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Relationship between Policy Frameworks and Metr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-295560">
              <a:lnSpc>
                <a:spcPts val="25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implications of choice of alternative metrics for outcomes such as emissions of different gases, climate change outcomes, and costs (especially for specific countries or sector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-295560">
              <a:lnSpc>
                <a:spcPts val="25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the potential for extending the multi-gas strategy to short-lived pollutant e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ations to the Scoping of IPCC AR5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-295560">
              <a:lnSpc>
                <a:spcPts val="25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metrics to be included in the IPCC AR5 process in an integrated manner with participation from all three working groups and the IPCC TF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-295560">
              <a:lnSpc>
                <a:spcPts val="25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ss should include an assessment of, and if appropriate, numerical values for metrics proposed in the literatu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7440" indent="-295560">
              <a:lnSpc>
                <a:spcPts val="25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ssessment should elucidate the relationship between physical metrics and more comprehensive metrics that include econo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5040" y="30960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SBSTA work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1125360"/>
            <a:ext cx="828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BSTA 34 (2011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comed the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report of IPCC meeting on the science of alternative metrics and its conclusions and recommenda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UNFCCC and the scientific commun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garding research needs and the scoping phase of the AR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retariat should organize, subject to the availability of resources, a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workshop on common metric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first half 2012), with a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focus on: i) uncertainties; ii) new and refined areas or metrics; iii) policy goals; and iv) the relationship between policy frameworks and metric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th purpose of providing information for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further consideration under the Conven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SBSTA 36 (2012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35040" y="30960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SBSTA work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125360"/>
            <a:ext cx="828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BSTA 34 (2011) acknowledg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 common metrics and shortcomings of GWPs are still being assessed by the IPCC in the context of the AR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93dc"/>
                </a:solidFill>
                <a:latin typeface="Arial"/>
                <a:ea typeface="ＭＳ Ｐゴシック"/>
              </a:rPr>
              <a:t>GWPs are a well-defined metric based on radiative forcing that continues to be useful in a multigas approac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93dc"/>
                </a:solidFill>
                <a:latin typeface="Arial"/>
                <a:ea typeface="ＭＳ Ｐゴシック"/>
              </a:rPr>
              <a:t>GWPs were not designed with a particular policy goal in mind and, depending on the specific policy goals, alternative metrics may be preferab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tions in the use of GWPs (100-year time horizon) in evaluating the contribution to climate change of emissions of GHG with short life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AWG-KP work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821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1720" indent="-26172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cision 4/CMP.7 (Durban - 2011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the second commitment period of the KP, the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global warming potential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sed to calculate the CO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quivalence of GHG in Annex A to the KP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shall be those in the column entitled “Global Warming Potential for Given Time Horizon” in table 2.14 of the Errata to the contribution of WG I to the AR4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based on the effects of GHG over a 100-year time horizon, taking into account the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inherent and complicated uncertainties involv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global warming potential estimat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 common metrics and the shortcomings in GWPs are still being assessed by IPCC in the context of AR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b93dc"/>
                </a:solidFill>
                <a:latin typeface="Arial"/>
              </a:rPr>
              <a:t>GWP is a well-defined metric based on radiative forcing that continues to be useful in a multi-gas approac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b93dc"/>
                </a:solidFill>
                <a:latin typeface="Arial"/>
              </a:rPr>
              <a:t>GWP was not designed with a particular policy goal in mind and, depending on the specific policy goals, alternative metrics may be prefer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821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7120" indent="-267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 4/CMP.7 (Durban - 2011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3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ations of GWP (100-year time horizon) in evaluating contribution to climate change of GHG with short lifetim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3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s SBSTA to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conduct an assess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IPCC work) of implications of the choice of metrics for the third or subsequent KP commitment period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3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s the SBSTA to initiate such an assessment no later than 2015 and to present to the CMP its recommendations on the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most appropriate metric and related values to be used by Par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a view to adopt a decis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3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 to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change the metric or revise the val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calculat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ivalence of GHG shall apply only to commitment period adopted subsequent to the change or revi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AWG-KP work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424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505440" indent="-347760">
              <a:lnSpc>
                <a:spcPct val="1150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 step forward in the consideration of the common metrics in the SBSTA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ST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y 201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continue consideration of common metrics taking into account the workshop re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ce for a dialogue between the scientific community and the Parties to address the key recommendations to the UNFCCC regar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on future policy goa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he scientific community regarding research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I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ertain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 I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I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nd refined areas or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III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5440" indent="-347760">
              <a:lnSpc>
                <a:spcPct val="115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IV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ship between policy frameworks and metr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400" y="30636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UNFCCC workshop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117080"/>
            <a:ext cx="8424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b93dc"/>
                </a:solidFill>
                <a:latin typeface="Arial"/>
                <a:ea typeface="ＭＳ Ｐゴシック"/>
              </a:rPr>
              <a:t>Thank you!!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b93dc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8674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29320" indent="-2293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BSTA work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WG-KP work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NFCCC workshop on common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2803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-253800">
              <a:lnSpc>
                <a:spcPts val="2699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nd session (2006) of 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Ad Hoc Working Group on Further Commitments for Annex I Parties under the Kyoto Protocol (AWG-KP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ided that the work programme will include the analysis of possible means to achieve mitigation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6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of relevant methodological issues, including the </a:t>
            </a: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global warming potentials of GH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ts val="2699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th session (2008) of AWG-KP (first par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6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information on GWPs in the AR4 to calculate the CO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quivalence of the GHGs listed in Annex A to the Kyoto Protoco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6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dings of the AR4 relating to the shortcomings of GWP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6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common metrics other than GWPs that could be used to calculate the CO2 equivalence of GHGs: </a:t>
            </a: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global temperature potentials (GTP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mentioned in the AR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821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5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R4 does not include GTP values and GTP values are not published for all GHGs included in the AR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5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Invited the IPCC to undertake further technical assessment of alternative common metr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5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ed for work to be carried out by the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Subsidiary Body for Scientific and Technological Advice (</a:t>
            </a:r>
            <a:r>
              <a:rPr b="0" lang="en-GB" sz="2200" spc="-1" strike="noStrike">
                <a:solidFill>
                  <a:srgbClr val="990000"/>
                </a:solidFill>
                <a:latin typeface="Arial"/>
              </a:rPr>
              <a:t>SBS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drawing on the results of the work of the IPCC on the potential implications of applying alternative common metr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5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rther consider GWPs and alternative common metrics, as well as the implications of their application in the second commitment period of the K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12760" indent="-21276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6th session (2008) of AWG-KP (second par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56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PCC informed about the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undertake further technical assessment of alternative common metr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56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programme for 2009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5680" indent="-2527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work on common metr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5680" indent="-2527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8th session: consider issues relating to common metr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STA 29 (2008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56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y on behalf of the G 77 and China requested an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agenda item on common metrics be included for SBSTA 3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200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8th session (2009) of AWG-K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56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CC reported on the outcome of the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PCC expert meeting on the science of alternative metric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slo, Norway, March 200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27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ts val="2398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STA 30 (2009) considered common metr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56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tions were inconclus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117080"/>
            <a:ext cx="8713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y Conclusions and Recommendations to UNFCCC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315720">
              <a:lnSpc>
                <a:spcPts val="25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Potential is a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ell-defined metric ba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radiative forcing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at continues to be useful in a multi-gas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15720">
              <a:lnSpc>
                <a:spcPts val="25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comings have been ident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however th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cientific basis has not been fully estab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o address these shortcom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rehensively in any currently discussed metr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315720">
              <a:lnSpc>
                <a:spcPts val="2500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ffectiveness of the use of a given 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pends on the primary policy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limit long term t change, limit rates of change, avoid particular impacts, and balance costs and benefit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104580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y Conclusions and Recommendations to UNFCCC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36240">
              <a:lnSpc>
                <a:spcPts val="2699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WP was not designed with a particular policy goal in mind and depending on policy goal/s, alternative metrics may be pref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36240">
              <a:lnSpc>
                <a:spcPts val="2699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erical value of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WP can depend on the choice of time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is choice involves value judgments in terms of future commitment to radiative forc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36240">
              <a:lnSpc>
                <a:spcPts val="2699"/>
              </a:lnSpc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imely information on potential future policy goals would facilitate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ternative metr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560" y="901440"/>
            <a:ext cx="88930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383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ations to Scientific Commun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Uncertain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-285120">
              <a:lnSpc>
                <a:spcPts val="25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ze the uncertainties in GTPs stemming from uncertainties in climate sensitivity, climate efficacies, ocean heat uptak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-285120">
              <a:lnSpc>
                <a:spcPts val="25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Probability Density Functions for metrics, and for GWPs and GTPs in particular, encompassing all sources of uncertainti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-285120">
              <a:lnSpc>
                <a:spcPts val="25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ze uncertainty associated with ocean heat uptake, climate sensitivity, carbon cycle response and other processes in a hierarchy of climate models; and understand and communicate the simplifications embedded in reduced complexity model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-285120">
              <a:lnSpc>
                <a:spcPts val="25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 to quantify magnitudes of indirect effects and interactions between different emissions, not only for long-lived GHG but also for shorter-lived pollutant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760" indent="-285120">
              <a:lnSpc>
                <a:spcPts val="25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understand and quantify the uncertainty in mitigation costs and climate change dam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b93dc"/>
                </a:solidFill>
                <a:latin typeface="Arial"/>
              </a:rPr>
              <a:t>The IPCC workshop on common metric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2560" y="980640"/>
            <a:ext cx="88930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20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New and Refined Areas or Metr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12480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metrics for policy targets other than limits to temperature change, e.g. rate of temperature change, integral of temperature change, and cost-benefit analysis approaches, or other climate variabl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12480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pproaches to account for long-term outcomes, e.g. consideration of post-target period for GTPs or post-horizon period for GWP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12480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rehensively assess regional differences in emissions-to-impact relationships especially for short and very-short lived pollutant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12480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ermine the degree to which physical metrics approximate more comprehensive metrics that include econom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12480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whether existing metrics are appropriate to account for geo-engineering proposals, particularly in the context of climate protection at the regional sc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8:01:42Z</dcterms:created>
  <dc:creator>Tinus Pulles</dc:creator>
  <dc:description/>
  <dc:language>en-US</dc:language>
  <cp:lastModifiedBy>Hanna</cp:lastModifiedBy>
  <dcterms:modified xsi:type="dcterms:W3CDTF">2012-04-02T18:25:50Z</dcterms:modified>
  <cp:revision>169</cp:revision>
  <dc:subject/>
  <dc:title>Course on review of higher tiers non-LULUCF and LULUCF sectors</dc:title>
</cp:coreProperties>
</file>