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64C4-CD6A-4787-BB44-4A1648441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E130-E20B-4CBC-814A-35E42D44F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428-9FB6-45B6-B0C5-2711459C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844-80AA-48D4-905F-7E68D922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311-CC15-41C5-AEE8-A2278C10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BB4-DF05-42E3-B6F3-3F7C314A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7790-7254-4F0A-8D7D-A5547EA9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F508-28F3-480C-BE27-4E9BB8F5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1B19-FC4E-47C5-8180-7248FD6D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B2C6-C6F9-4723-84A4-84FD55AD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0E84-61F0-4352-9426-8F348B03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E8C7-E072-4F79-B90C-4551629F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F30D-7D4C-4207-ACCE-EBDE2C46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F45-3F0D-4C60-A04D-B7CA679D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BA44-EB50-457F-A055-25778281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71EA-A7EC-4730-ADD9-A96F1D6B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E651-2EA9-46A6-BE4F-FF37EADC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3D90-4965-4C93-9455-8272936C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D335-798E-400B-B420-9B636EEE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00F51-B0E3-4EAE-9447-142C6B73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F79F9-B9B8-4F6F-9E04-3DC05CFB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9F0E2-A9FB-4DE1-9DCE-CBFD282E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EFB73-C2D9-42FF-8CFD-604AEC83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23B4F-254B-483A-A5FD-CD39BEEA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4DA-888B-4ACC-9077-6E25D41B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FEB28-233A-47C8-9DFE-5CA58885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D908F-24A8-4A8D-8365-F6684921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27995-044F-4492-836D-189606C6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D3120-9EA7-48A9-9886-CF973761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6F637-0997-4711-B712-9D394A2A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46AD0-4C3A-46E3-B4EF-4CFB6F72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62710-0D47-4ED8-88FF-4685CE70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27ED6-222E-48C8-8446-26164B27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DCF68-DD3C-42A9-8C18-7091F923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B7785-968B-4D62-BC82-3385039F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198-5812-4C12-8516-E62F110D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26A5-365D-4640-8907-2A7FF88F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EE0D9-9E39-4120-96D1-A3E03E44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7B1D-0E1C-4567-A70E-662F0033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C8FF-4E9C-42E8-BDEE-6A653F4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12BDC-B498-4F8E-A4A2-5843B686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9890C-FEDF-4A71-B354-576AD287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8FC48-97CF-46AA-968F-04B699FA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8E0C1-1396-4BD0-BAD7-B259ED12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58917-A14D-4DCE-8452-834FB81D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06A-72F3-4DF8-8C19-B3CF46BC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B6F-38F3-4B49-9AB1-818C0F84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54A-5173-4E2A-8C65-067DAEF6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F7B-5139-4ACE-A1A5-79952E87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B5A-D9F1-4992-95CA-FE074C8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03FA-776D-4FAA-8891-224AF3015BD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036D-4531-4774-9BD6-F77E85848421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F770-37A5-49CC-A806-39650E97131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9FC1-A5AC-4A01-B500-D7AF34E2B1D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42920" y="60480"/>
            <a:ext cx="351180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4c600"/>
                </a:solidFill>
                <a:latin typeface="Century Gothic"/>
              </a:rPr>
              <a:t>Workshop on common metrics to calculate the CO</a:t>
            </a:r>
            <a:r>
              <a:rPr b="1" lang="en-US" sz="1900" spc="-1" strike="noStrike" baseline="-25000">
                <a:solidFill>
                  <a:srgbClr val="94c600"/>
                </a:solidFill>
                <a:latin typeface="Century Gothic"/>
              </a:rPr>
              <a:t>2</a:t>
            </a:r>
            <a:r>
              <a:rPr b="1" lang="en-US" sz="1900" spc="-1" strike="noStrike">
                <a:solidFill>
                  <a:srgbClr val="94c600"/>
                </a:solidFill>
                <a:latin typeface="Century Gothic"/>
              </a:rPr>
              <a:t> equivalence of anthropogenic greenhouse gas emissions by sources and removals by sinks</a:t>
            </a:r>
            <a:endParaRPr b="0" lang="en-US" sz="1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42920" y="5013360"/>
            <a:ext cx="36068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242"/>
                </a:solidFill>
                <a:latin typeface="Century Gothic"/>
              </a:rPr>
              <a:t>Thiago de Araújo Men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entury Gothic"/>
              </a:rPr>
              <a:t>Prof. IEC-PUC Minas/ Brazil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Retângulo 3"/>
          <p:cNvSpPr/>
          <p:nvPr/>
        </p:nvSpPr>
        <p:spPr>
          <a:xfrm>
            <a:off x="4732200" y="242100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pic IV: Relationship between policy frameworks and metric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Retângulo 4"/>
          <p:cNvSpPr/>
          <p:nvPr/>
        </p:nvSpPr>
        <p:spPr>
          <a:xfrm>
            <a:off x="4732200" y="3513240"/>
            <a:ext cx="351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Implication of different common metrics on mitigation policies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entury Gothic"/>
              </a:rPr>
              <a:t>the case of Brazi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6040" y="836640"/>
            <a:ext cx="70246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 – Importance assigned by Brazi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700280"/>
            <a:ext cx="7201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Brazil was the first country to set a Designated National Authority (DNA) (1999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A Brazilian project methodology was </a:t>
            </a:r>
            <a:r>
              <a:rPr b="0" lang="pt-BR" sz="2400" spc="-1" strike="noStrike">
                <a:solidFill>
                  <a:srgbClr val="3e3d2d"/>
                </a:solidFill>
                <a:latin typeface="Tahoma"/>
              </a:rPr>
              <a:t>one of </a:t>
            </a: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the first approved by the EB (</a:t>
            </a:r>
            <a:r>
              <a:rPr b="0" lang="pt-BR" sz="2400" spc="-1" strike="noStrike">
                <a:solidFill>
                  <a:srgbClr val="3e3d2d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andfill – Salvador da Bahia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Tahoma"/>
              </a:rPr>
              <a:t>A Brazilian project was the first CDM project  registered (Nova Gera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Tahoma"/>
              </a:rPr>
              <a:t>High participation on the portfolio of projec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0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 Placeholder 2" descr=""/>
          <p:cNvPicPr/>
          <p:nvPr/>
        </p:nvPicPr>
        <p:blipFill>
          <a:blip r:embed="rId1"/>
          <a:stretch/>
        </p:blipFill>
        <p:spPr>
          <a:xfrm>
            <a:off x="468360" y="1595520"/>
            <a:ext cx="8207280" cy="3778200"/>
          </a:xfrm>
          <a:prstGeom prst="rect">
            <a:avLst/>
          </a:prstGeom>
          <a:ln w="0">
            <a:noFill/>
          </a:ln>
        </p:spPr>
      </p:pic>
      <p:sp>
        <p:nvSpPr>
          <p:cNvPr id="372" name="Retângulo 4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539640" y="608184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9840" y="1268280"/>
            <a:ext cx="9039240" cy="4537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3"/>
          <p:cNvSpPr/>
          <p:nvPr/>
        </p:nvSpPr>
        <p:spPr>
          <a:xfrm>
            <a:off x="539640" y="608184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812000" cy="4464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3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 RESULTS IN BRAZI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9640" y="1557360"/>
            <a:ext cx="813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August 2010, the potential of annual reduction from project activities in Brazil in the CDM pipeline represented 8% of emissions from sectors other than land use, land use change and forestry in 1994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5 CDM project activities related to the production of adipic acid and nitric acid alone have reduced N</a:t>
            </a:r>
            <a:r>
              <a:rPr b="0" lang="en-U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 emissions virtually to zero in the Brazilian industrial secto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5 registered CDM project activities accounted for a reduction of approximately 47% of methane emissions in landfills in 1994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2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39640" y="609444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Source: 2nd National Communication, 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8000" y="1284120"/>
            <a:ext cx="87962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0000" y="4005000"/>
            <a:ext cx="738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39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94c600"/>
                </a:solidFill>
                <a:latin typeface="Century Gothic"/>
              </a:rPr>
              <a:t>III - Impacts on the different metrics in Brazilian CDM potential mitigation efforts</a:t>
            </a:r>
            <a:br>
              <a:rPr sz="4400"/>
            </a:b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611280" y="836640"/>
          <a:ext cx="7921440" cy="4427640"/>
        </p:xfrm>
        <a:graphic>
          <a:graphicData uri="http://schemas.openxmlformats.org/drawingml/2006/table">
            <a:tbl>
              <a:tblPr/>
              <a:tblGrid>
                <a:gridCol w="1955880"/>
                <a:gridCol w="1989000"/>
                <a:gridCol w="1987560"/>
                <a:gridCol w="1989000"/>
              </a:tblGrid>
              <a:tr h="8413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R4 GWP </a:t>
                      </a: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TP</a:t>
                      </a:r>
                      <a:r>
                        <a:rPr b="1" lang="en-US" sz="36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*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AR GWP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*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18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F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F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389" name="Rectangle 1"/>
          <p:cNvSpPr/>
          <p:nvPr/>
        </p:nvSpPr>
        <p:spPr>
          <a:xfrm>
            <a:off x="611280" y="568188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For use in the second commitment period of the KP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*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FUGLESTVEDT, J.S. et al., 2010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**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For use in the first commitment period of the KP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mitigation effort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Text Box 33"/>
          <p:cNvSpPr/>
          <p:nvPr/>
        </p:nvSpPr>
        <p:spPr>
          <a:xfrm>
            <a:off x="7380360" y="6292800"/>
            <a:ext cx="121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5148360" y="662040"/>
            <a:ext cx="3360600" cy="2019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5148360" y="2681280"/>
            <a:ext cx="3354120" cy="2016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148360" y="4552920"/>
            <a:ext cx="3354120" cy="1766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4"/>
          <a:stretch/>
        </p:blipFill>
        <p:spPr>
          <a:xfrm>
            <a:off x="971640" y="525600"/>
            <a:ext cx="3313080" cy="201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5"/>
          <a:stretch/>
        </p:blipFill>
        <p:spPr>
          <a:xfrm>
            <a:off x="971640" y="2538360"/>
            <a:ext cx="3313080" cy="2014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6"/>
          <a:stretch/>
        </p:blipFill>
        <p:spPr>
          <a:xfrm>
            <a:off x="971640" y="4524480"/>
            <a:ext cx="3313080" cy="2014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33"/>
          <p:cNvSpPr/>
          <p:nvPr/>
        </p:nvSpPr>
        <p:spPr>
          <a:xfrm>
            <a:off x="539640" y="6246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entury Gothic"/>
              </a:rPr>
              <a:t>15/03/201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15/03/201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Retângulo 8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781200" y="981000"/>
            <a:ext cx="7613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esentation Overview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55640" y="148392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’s approach in the National Communications: estimates in mass values, concerns with use of GWP in a generalized way, implications from use of other metrics to the total national emissio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ian efforts to contribute to reduction of GHG emissions: role played by CDM 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mpacts of the applications of different metrics to the mitigation results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inal remark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Retângulo 3"/>
          <p:cNvSpPr/>
          <p:nvPr/>
        </p:nvSpPr>
        <p:spPr>
          <a:xfrm>
            <a:off x="4716360" y="44280"/>
            <a:ext cx="338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d9d9d9"/>
                </a:solidFill>
                <a:latin typeface="Century Gothic"/>
              </a:rPr>
              <a:t>Implication of different common metrics on mitigation policies: </a:t>
            </a:r>
            <a:r>
              <a:rPr b="0" i="1" lang="pt-BR" sz="1100" spc="-1" strike="noStrike">
                <a:solidFill>
                  <a:srgbClr val="d9d9d9"/>
                </a:solidFill>
                <a:latin typeface="Century Gothic"/>
              </a:rPr>
              <a:t>the case of Brazi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826920" y="746280"/>
            <a:ext cx="74930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900000" y="797040"/>
            <a:ext cx="7419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2636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6000" spc="-1" strike="noStrike">
                <a:solidFill>
                  <a:srgbClr val="94c600"/>
                </a:solidFill>
                <a:latin typeface="Century Gothic"/>
              </a:rPr>
              <a:t>IV - Final remarks</a:t>
            </a:r>
            <a:endParaRPr b="0" lang="en-US" sz="6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0" name="Retângulo 3"/>
          <p:cNvSpPr/>
          <p:nvPr/>
        </p:nvSpPr>
        <p:spPr>
          <a:xfrm>
            <a:off x="4643280" y="142920"/>
            <a:ext cx="345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V – Final Remark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042920" y="1052280"/>
            <a:ext cx="72741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entory aggregate GHG emissions can be a misleading information and the choice of metric deeply affects the result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enefit of methane CDM projects to climate change mitigation is likely  overestimated by the use of GWP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se of the GTP metric to assess the mitigation benefit would significantly reduce  revenues from CH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CDM projects activities in Brazil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’s annual CERs issuance would be reduced by 19 million, representing  a potential 1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st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crediting period reduction of 147 million tCO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;  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Retângulo 4"/>
          <p:cNvSpPr/>
          <p:nvPr/>
        </p:nvSpPr>
        <p:spPr>
          <a:xfrm>
            <a:off x="4643280" y="142920"/>
            <a:ext cx="345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V – Final Remark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22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4c600"/>
                </a:solidFill>
                <a:latin typeface="Century Gothic"/>
              </a:rPr>
              <a:t>Thank you</a:t>
            </a:r>
            <a:endParaRPr b="0" lang="en-US" sz="7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42560" y="3933720"/>
            <a:ext cx="677700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ntacts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agomendes81@gmail.co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31480" y="1844280"/>
            <a:ext cx="702468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4c600"/>
                </a:solidFill>
                <a:latin typeface="Century Gothic"/>
              </a:rPr>
              <a:t>I - Brazil’s national GHG inventory</a:t>
            </a:r>
            <a:endParaRPr b="0" lang="en-US" sz="5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6040" y="76464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Aggregated GHG emission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9280" y="134136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Guidelines requirements (17/CP.8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315000" algn="just">
              <a:lnSpc>
                <a:spcPct val="15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Non-Annex I Parties wishing to report on aggregated GHG emissions and removals expressed in CO</a:t>
            </a:r>
            <a:r>
              <a:rPr b="0" lang="en-US" sz="2000" spc="-1" strike="noStrike" baseline="-25000">
                <a:solidFill>
                  <a:srgbClr val="3e3d2d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 equivalents should use the global warming potentials (GWP) provided by the IPCC in its Second Assessment Report (“1995 IPCC GWP Values”) based on the effects of GHGs over a 100-year time horizon”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Brazil also provided aggregated emissions using the GTP metrics to highlight the difference in the total net GHG emissions and the importance of the metrics discussio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6048360" cy="5632200"/>
          </a:xfrm>
          <a:prstGeom prst="rect">
            <a:avLst/>
          </a:prstGeom>
          <a:ln w="0">
            <a:noFill/>
          </a:ln>
        </p:spPr>
      </p:pic>
      <p:sp>
        <p:nvSpPr>
          <p:cNvPr id="356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487440" y="1413000"/>
            <a:ext cx="818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042920" y="758880"/>
            <a:ext cx="6985080" cy="5526000"/>
          </a:xfrm>
          <a:prstGeom prst="rect">
            <a:avLst/>
          </a:prstGeom>
          <a:ln w="0">
            <a:noFill/>
          </a:ln>
        </p:spPr>
      </p:pic>
      <p:sp>
        <p:nvSpPr>
          <p:cNvPr id="362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171440"/>
            <a:ext cx="7024680" cy="456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900" spc="-1" strike="noStrike">
                <a:solidFill>
                  <a:srgbClr val="94c600"/>
                </a:solidFill>
                <a:latin typeface="Century Gothic"/>
              </a:rPr>
              <a:t>II - Brazilian efforts to contribute to the reduction of GHG emissions: role played by CDM </a:t>
            </a:r>
            <a:br>
              <a:rPr sz="4900"/>
            </a:b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6040" y="83628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280" y="1484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Art. 12 of KP – Kyoto Mechanism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non-Annex I Parties in achieving sustainable development and in contributing to the ultimate goal of the Conven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Annex I countries in achieving compliance with their quantified emission limitation and reduction commitmen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4:23:22Z</dcterms:created>
  <dc:creator/>
  <dc:description/>
  <dc:language>en-US</dc:language>
  <cp:lastModifiedBy>TAM81</cp:lastModifiedBy>
  <dcterms:modified xsi:type="dcterms:W3CDTF">2012-03-30T00:26:18Z</dcterms:modified>
  <cp:revision>67</cp:revision>
  <dc:subject/>
  <dc:title>Workshop on common metrics to calculate the CO2 equivalence of anthropogenic greenhouse gas emissions by sources and removals by sinks</dc:title>
</cp:coreProperties>
</file>