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DE47-8396-48C7-A7AB-160056A51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5E4D-80A7-4B31-8E6E-695B7D644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775-EF66-4434-993F-D3378EA3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A1F-FDEF-4CB6-9A73-FEF880B2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FE3-FB08-4DB2-BD8B-44EB2015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FFC-9A9C-43B4-A13B-82072780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8B5-3759-4592-B06E-CF23AF8D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33E1-ED75-4CB1-BB05-3A4672D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1C88-F48B-49BF-990D-A5D7BB4F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CA7D-2E2E-4FB1-B84A-C8B64382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63AA-779E-4EB8-A046-E34DB7B8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DF5C-84AE-4993-8166-0CA16B2A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8BCB-A6B7-4F8E-9022-DBA0B9B9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420-025F-4EEE-9D1C-2B2D3BF3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5DE-3DD1-4E0E-9330-2B8280A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2179-BC30-4628-AC17-4F9FA8F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FCE3-C686-4431-B4E3-24FB4D8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FF50-031D-4453-AA48-03B8A3C2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2CEB-76D8-4F29-89B8-67B0EF8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A985B-AE70-4E1C-A069-E2950C74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73DF8-9EDA-4FC5-B899-B44E6154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5469B-13AF-4DB8-BF76-8496AA1C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D413A-1328-416B-AAB4-445D08D6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B77E5-E1D1-4BE5-B140-DFFE07BA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A02-99CB-4E5A-A89D-64C05716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35182-D528-4A6C-A206-E5B664B2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85CF8-D25B-4A17-80F8-6D4EE44B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D5EE3-07A8-4519-A45C-F16F1041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7FAFA-12FE-4D25-A3FC-67A11FA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AFD6F-6472-40F3-BCD7-2170A0B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8C8DC-4872-4EFB-86C8-3F16AC34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B1EC9-5A2B-4B95-87F9-C4BCC3C6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30F49-08CA-4050-BF51-9061FF28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EE54-2E26-44C2-8159-EFB58277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D7B2-B7AE-490A-9F6B-ECA33197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DB1-0CFE-4E20-A3D7-72BC2371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C8736-8D0E-4314-BADB-8430095E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F367-F451-4BE3-9A1B-BE61494D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1DA6-3D77-4E14-85CA-8154279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21F4-3B63-499B-95A8-C41E210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D9B8-12A8-4777-BF62-2A2D563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7B24-271F-4511-9CB4-F762125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5090-83B4-454B-A1E2-D76B166B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26F0-1CA5-45D7-8E14-8AB275CB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69C7-A002-4856-B98C-D58211D3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262-E04F-4309-A216-AA47336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0B2-229D-4424-AC85-E0052C11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409-4774-4DF0-82C6-8CFF1D1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2BC-C5F3-4D8F-BCF2-797474D6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B92-0C5D-4942-BDDE-CAEB386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8505-89AC-47D7-9054-27184EB4199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89B-C69D-445D-AF1C-69E861E4CFA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DB75-0642-47DD-AAF6-17C8D6BE1EC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49F1-6A52-4C9F-8259-66D7F5304DF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60480"/>
            <a:ext cx="3511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Workshop on common metrics to calculate the CO</a:t>
            </a:r>
            <a:r>
              <a:rPr b="1" lang="en-US" sz="1900" spc="-1" strike="noStrike" baseline="-25000">
                <a:solidFill>
                  <a:srgbClr val="94c600"/>
                </a:solidFill>
                <a:latin typeface="Century Gothic"/>
              </a:rPr>
              <a:t>2</a:t>
            </a: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 equivalence of anthropogenic greenhouse gas emissions by sources and removals by sinks</a:t>
            </a:r>
            <a:endParaRPr b="0" lang="en-US" sz="1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42920" y="5013360"/>
            <a:ext cx="3606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242"/>
                </a:solidFill>
                <a:latin typeface="Century Gothic"/>
              </a:rPr>
              <a:t>Thiago de Araújo Men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entury Gothic"/>
              </a:rPr>
              <a:t>Prof. IEC-PUC Minas/ Brazil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tângulo 3"/>
          <p:cNvSpPr/>
          <p:nvPr/>
        </p:nvSpPr>
        <p:spPr>
          <a:xfrm>
            <a:off x="4732200" y="242100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pic IV: Relationship between policy frameworks and metric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4732200" y="35132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Implication of different common metrics on mitigation polic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entury Gothic"/>
              </a:rPr>
              <a:t>the case of Braz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040" y="836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– Importance assigned by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700280"/>
            <a:ext cx="7201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was the first country to set a Designated National Authority (DNA) (1999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 Brazilian project methodology was 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one of 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the first approved by the EB (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ndfill – Salvador da Bahi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A Brazilian project was the first CDM project  registered (Nova Ger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High participation on the portfolio of pro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2" descr=""/>
          <p:cNvPicPr/>
          <p:nvPr/>
        </p:nvPicPr>
        <p:blipFill>
          <a:blip r:embed="rId1"/>
          <a:stretch/>
        </p:blipFill>
        <p:spPr>
          <a:xfrm>
            <a:off x="468360" y="1595520"/>
            <a:ext cx="8207280" cy="377820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4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840" y="1268280"/>
            <a:ext cx="9039240" cy="4537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12000" cy="44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RESULTS IN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155736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August 2010, the potential of annual reduction from project activities in Brazil in the CDM pipeline represented 8% of emissions from sectors other than land use, land use change and forestry in 1994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5 CDM project activities related to the production of adipic acid and nitric acid alone have reduced N</a:t>
            </a:r>
            <a:r>
              <a:rPr b="0" lang="en-U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 emissions virtually to zero in the Brazilian industrial sec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5 registered CDM project activities accounted for a reduction of approximately 47% of methane emissions in landfills in 1994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60944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Source: 2nd National Communication, 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8000" y="1284120"/>
            <a:ext cx="8796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0000" y="400500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9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III - Impacts on the different metrics in Brazilian CDM potential mitigation efforts</a:t>
            </a:r>
            <a:br>
              <a:rPr sz="4400"/>
            </a:b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11280" y="836640"/>
          <a:ext cx="7921440" cy="4427640"/>
        </p:xfrm>
        <a:graphic>
          <a:graphicData uri="http://schemas.openxmlformats.org/drawingml/2006/table">
            <a:tbl>
              <a:tblPr/>
              <a:tblGrid>
                <a:gridCol w="1955880"/>
                <a:gridCol w="1989000"/>
                <a:gridCol w="1987560"/>
                <a:gridCol w="1989000"/>
              </a:tblGrid>
              <a:tr h="8413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4 GWP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TP</a:t>
                      </a:r>
                      <a:r>
                        <a:rPr b="1" lang="en-US" sz="36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AR GW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1"/>
          <p:cNvSpPr/>
          <p:nvPr/>
        </p:nvSpPr>
        <p:spPr>
          <a:xfrm>
            <a:off x="611280" y="568188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For use in the second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UGLESTVEDT, J.S. et al., 2010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r use in the first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mitigation effort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7380360" y="629280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48360" y="662040"/>
            <a:ext cx="3360600" cy="201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5148360" y="2681280"/>
            <a:ext cx="3354120" cy="2016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148360" y="4552920"/>
            <a:ext cx="3354120" cy="1766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971640" y="525600"/>
            <a:ext cx="3313080" cy="201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5"/>
          <a:stretch/>
        </p:blipFill>
        <p:spPr>
          <a:xfrm>
            <a:off x="971640" y="2538360"/>
            <a:ext cx="3313080" cy="201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971640" y="4524480"/>
            <a:ext cx="3313080" cy="20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3"/>
          <p:cNvSpPr/>
          <p:nvPr/>
        </p:nvSpPr>
        <p:spPr>
          <a:xfrm>
            <a:off x="539640" y="6246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Retângulo 8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61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esentation Overvie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pproach in the National Communications: estimates in mass values, concerns with use of GWP in a generalized way, implications from use of other metrics to the total national emiss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ian efforts to contribute to reduction of GHG emissions: role played by CDM 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mpacts of the applications of different metrics to the mitigation results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remar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Retângulo 3"/>
          <p:cNvSpPr/>
          <p:nvPr/>
        </p:nvSpPr>
        <p:spPr>
          <a:xfrm>
            <a:off x="4716360" y="44280"/>
            <a:ext cx="33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d9d9d9"/>
                </a:solidFill>
                <a:latin typeface="Century Gothic"/>
              </a:rPr>
              <a:t>Implication of different common metrics on mitigation policies: </a:t>
            </a:r>
            <a:r>
              <a:rPr b="0" i="1" lang="pt-BR" sz="1100" spc="-1" strike="noStrike">
                <a:solidFill>
                  <a:srgbClr val="d9d9d9"/>
                </a:solidFill>
                <a:latin typeface="Century Gothic"/>
              </a:rPr>
              <a:t>the case of Brazi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826920" y="746280"/>
            <a:ext cx="74930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900000" y="797040"/>
            <a:ext cx="7419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2636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IV - Final remarks</a:t>
            </a: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Retângulo 3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042920" y="1052280"/>
            <a:ext cx="72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entory aggregate GHG emissions can be a misleading information and the choice of metric deeply affects the result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enefit of methane CDM projects to climate change mitigation is likely  overestimated by the use of GW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of the GTP metric to assess the mitigation benefit would significantly reduce  revenues from CH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DM projects activities in Brazil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nnual CERs issuance would be reduced by 19 million, representing  a potential 1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st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rediting period reduction of 147 million tCO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;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Retângulo 4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22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4c600"/>
                </a:solidFill>
                <a:latin typeface="Century Gothic"/>
              </a:rPr>
              <a:t>Thank you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3933720"/>
            <a:ext cx="67770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act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agomendes81@gmail.c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1480" y="1844280"/>
            <a:ext cx="7024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4c600"/>
                </a:solidFill>
                <a:latin typeface="Century Gothic"/>
              </a:rPr>
              <a:t>I - Brazil’s national GHG inventory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Aggregated GHG emiss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Guidelines requirements (17/CP.8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315000" algn="just">
              <a:lnSpc>
                <a:spcPct val="15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Non-Annex I Parties wishing to report on aggregated GHG emissions and removals expressed in CO</a:t>
            </a:r>
            <a:r>
              <a:rPr b="0" lang="en-US" sz="2000" spc="-1" strike="noStrike" baseline="-25000">
                <a:solidFill>
                  <a:srgbClr val="3e3d2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 equivalents should use the global warming potentials (GWP) provided by the IPCC in its Second Assessment Report (“1995 IPCC GWP Values”) based on the effects of GHGs over a 100-year time horizon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also provided aggregated emissions using the GTP metrics to highlight the difference in the total net GHG emissions and the importance of the metrics discus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5632200"/>
          </a:xfrm>
          <a:prstGeom prst="rect">
            <a:avLst/>
          </a:prstGeom>
          <a:ln w="0">
            <a:noFill/>
          </a:ln>
        </p:spPr>
      </p:pic>
      <p:sp>
        <p:nvSpPr>
          <p:cNvPr id="356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87440" y="1413000"/>
            <a:ext cx="818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42920" y="758880"/>
            <a:ext cx="6985080" cy="5526000"/>
          </a:xfrm>
          <a:prstGeom prst="rect">
            <a:avLst/>
          </a:prstGeom>
          <a:ln w="0">
            <a:noFill/>
          </a:ln>
        </p:spPr>
      </p:pic>
      <p:sp>
        <p:nvSpPr>
          <p:cNvPr id="362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71440"/>
            <a:ext cx="7024680" cy="456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II - Brazilian efforts to contribute to the reduction of GHG emissions: role played by CDM </a:t>
            </a:r>
            <a:br>
              <a:rPr sz="4900"/>
            </a:b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040" y="83628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28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rt. 12 of KP – Kyoto Mechanism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non-Annex I Parties in achieving sustainable development and in contributing to the ultimate goal of the Conven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Annex I countries in achieving compliance with their quantified emission limitation and reduction commit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22Z</dcterms:created>
  <dc:creator/>
  <dc:description/>
  <dc:language>en-US</dc:language>
  <cp:lastModifiedBy>TAM81</cp:lastModifiedBy>
  <dcterms:modified xsi:type="dcterms:W3CDTF">2012-03-30T00:26:18Z</dcterms:modified>
  <cp:revision>67</cp:revision>
  <dc:subject/>
  <dc:title>Workshop on common metrics to calculate the CO2 equivalence of anthropogenic greenhouse gas emissions by sources and removals by sinks</dc:title>
</cp:coreProperties>
</file>