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F6CB-4772-43FF-9425-3A372E0DE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EE97-4364-448A-9C02-34BE48590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C02-9E0A-4E56-94AB-D97F8393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D21-3319-4FA3-BA5B-459AB7DB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917-72C6-4A4C-AF0A-E45AC74E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6F6-8218-42F7-92A3-2D77CF88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3969-D1C7-4139-B6DC-F5BC7037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50F8-E0BB-40DB-A29C-340C1D76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ABCF-AB83-4AF8-A7D7-B7BCDCFA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DEBC-9F1D-4F26-855F-17A36C29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445B-403B-4123-8AEC-ACCCB722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E0D0-7B01-4996-93E0-77B7B34F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243F-45CF-4EF9-BDB1-A1A55CF4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7CF-BEEF-45D1-B0C5-C98AD65D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09B5-54AD-416A-B5BB-861ED6E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15F3-EADC-4A4C-B37E-A728CC3B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86FE-F525-401B-89A5-159E1E6C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E790-2D00-4908-A3D7-7C187687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A917-696D-4291-976A-44C3BCCD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5BEED-0039-448C-BE5D-5AB7C1C9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665BE-239E-493C-B3EF-648A97D0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3CCF1-67D8-48DC-BFAF-8C90E88A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6FF51-2E7E-451C-B43E-9F61F80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8A204-A817-492D-89EF-06D9E901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33E-8511-4640-AB5C-009C4993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F4EA3-7E0C-4DE4-A524-886434EF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BF866-624F-4C96-A8C5-6D9CE746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E28D5-67B4-4D94-B79D-D1DD042A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04837-BD99-425C-A882-8A64689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E0EBB-1A70-4EAE-8968-B36A6094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57849-26AD-4D3D-9FD6-D313F069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1E03C-89B8-468F-AAA5-304DC477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DF3AF-F47B-4C73-8BDC-162A0184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4433-32C1-4545-BF33-02167F08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83E2A-BDD9-4FF9-B960-CD522737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A4E-C16D-4C8C-A477-28D7A56B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B273B-03D4-4C09-8A75-EAABB38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0D26-3C53-459D-89A7-ACA6C9C7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CB0D6-759D-4B64-89D3-794056F1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43BD5-6031-45C8-8A75-1FACAE2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320C9-165F-4ED7-8A45-26452F33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E946-E18D-4B40-8D5F-030705D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C6CD-7C6C-4728-99DF-8EC2140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640F-47EE-4D67-BD56-FD4F361E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5393-3C79-44F9-966F-56B71B50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307-6B79-4A06-956C-BBAB5A24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03D-8417-4323-9AAF-A090786A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235-067D-4326-A0DC-80268FFE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69F-EE79-4785-BAB6-B52D7A4A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5AF-B7AE-4B9B-89F0-20B070DE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73F9-2181-4371-933F-12008067FAE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0AAD-6071-4CAE-B75E-172E5EFD47D4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A1D7-4993-457C-9670-14F6F42E993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7509-D6C3-4D83-8F87-96F0EA52AED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2920" y="60480"/>
            <a:ext cx="35118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Workshop on common metrics to calculate the CO</a:t>
            </a:r>
            <a:r>
              <a:rPr b="1" lang="en-US" sz="1900" spc="-1" strike="noStrike" baseline="-25000">
                <a:solidFill>
                  <a:srgbClr val="94c600"/>
                </a:solidFill>
                <a:latin typeface="Century Gothic"/>
              </a:rPr>
              <a:t>2</a:t>
            </a: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 equivalence of anthropogenic greenhouse gas emissions by sources and removals by sinks</a:t>
            </a:r>
            <a:endParaRPr b="0" lang="en-US" sz="1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42920" y="5013360"/>
            <a:ext cx="3606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242"/>
                </a:solidFill>
                <a:latin typeface="Century Gothic"/>
              </a:rPr>
              <a:t>Thiago de Araújo Men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entury Gothic"/>
              </a:rPr>
              <a:t>Prof. IEC-PUC Minas/ Brazil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Retângulo 3"/>
          <p:cNvSpPr/>
          <p:nvPr/>
        </p:nvSpPr>
        <p:spPr>
          <a:xfrm>
            <a:off x="4732200" y="242100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pic IV: Relationship between policy frameworks and metric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Retângulo 4"/>
          <p:cNvSpPr/>
          <p:nvPr/>
        </p:nvSpPr>
        <p:spPr>
          <a:xfrm>
            <a:off x="4732200" y="35132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Implication of different common metrics on mitigation polic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entury Gothic"/>
              </a:rPr>
              <a:t>the case of Brazi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6040" y="83664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– Importance assigned by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700280"/>
            <a:ext cx="7201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was the first country to set a Designated National Authority (DNA) (1999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 Brazilian project methodology was 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one of 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the first approved by the EB (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ndfill – Salvador da Bahia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A Brazilian project was the first CDM project  registered (Nova Ger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High participation on the portfolio of projec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2" descr=""/>
          <p:cNvPicPr/>
          <p:nvPr/>
        </p:nvPicPr>
        <p:blipFill>
          <a:blip r:embed="rId1"/>
          <a:stretch/>
        </p:blipFill>
        <p:spPr>
          <a:xfrm>
            <a:off x="468360" y="1595520"/>
            <a:ext cx="8207280" cy="3778200"/>
          </a:xfrm>
          <a:prstGeom prst="rect">
            <a:avLst/>
          </a:prstGeom>
          <a:ln w="0">
            <a:noFill/>
          </a:ln>
        </p:spPr>
      </p:pic>
      <p:sp>
        <p:nvSpPr>
          <p:cNvPr id="372" name="Retângulo 4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9840" y="1268280"/>
            <a:ext cx="9039240" cy="4537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12000" cy="4464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3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RESULTS IN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640" y="1557360"/>
            <a:ext cx="813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August 2010, the potential of annual reduction from project activities in Brazil in the CDM pipeline represented 8% of emissions from sectors other than land use, land use change and forestry in 1994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5 CDM project activities related to the production of adipic acid and nitric acid alone have reduced N</a:t>
            </a:r>
            <a:r>
              <a:rPr b="0" lang="en-U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 emissions virtually to zero in the Brazilian industrial secto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5 registered CDM project activities accounted for a reduction of approximately 47% of methane emissions in landfills in 1994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39640" y="609444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Source: 2nd National Communication, 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8000" y="1284120"/>
            <a:ext cx="8796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0000" y="4005000"/>
            <a:ext cx="738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39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III - Impacts on the different metrics in Brazilian CDM potential mitigation efforts</a:t>
            </a:r>
            <a:br>
              <a:rPr sz="4400"/>
            </a:b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611280" y="836640"/>
          <a:ext cx="7921440" cy="4427640"/>
        </p:xfrm>
        <a:graphic>
          <a:graphicData uri="http://schemas.openxmlformats.org/drawingml/2006/table">
            <a:tbl>
              <a:tblPr/>
              <a:tblGrid>
                <a:gridCol w="1955880"/>
                <a:gridCol w="1989000"/>
                <a:gridCol w="1987560"/>
                <a:gridCol w="1989000"/>
              </a:tblGrid>
              <a:tr h="8413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R4 GWP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TP</a:t>
                      </a:r>
                      <a:r>
                        <a:rPr b="1" lang="en-US" sz="36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AR GW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389" name="Rectangle 1"/>
          <p:cNvSpPr/>
          <p:nvPr/>
        </p:nvSpPr>
        <p:spPr>
          <a:xfrm>
            <a:off x="611280" y="568188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For use in the second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UGLESTVEDT, J.S. et al., 2010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r use in the first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mitigation effort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Text Box 33"/>
          <p:cNvSpPr/>
          <p:nvPr/>
        </p:nvSpPr>
        <p:spPr>
          <a:xfrm>
            <a:off x="7380360" y="6292800"/>
            <a:ext cx="12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148360" y="662040"/>
            <a:ext cx="3360600" cy="2019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5148360" y="2681280"/>
            <a:ext cx="3354120" cy="2016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148360" y="4552920"/>
            <a:ext cx="3354120" cy="1766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4"/>
          <a:stretch/>
        </p:blipFill>
        <p:spPr>
          <a:xfrm>
            <a:off x="971640" y="525600"/>
            <a:ext cx="3313080" cy="201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5"/>
          <a:stretch/>
        </p:blipFill>
        <p:spPr>
          <a:xfrm>
            <a:off x="971640" y="2538360"/>
            <a:ext cx="3313080" cy="2014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971640" y="4524480"/>
            <a:ext cx="3313080" cy="20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3"/>
          <p:cNvSpPr/>
          <p:nvPr/>
        </p:nvSpPr>
        <p:spPr>
          <a:xfrm>
            <a:off x="539640" y="6246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Retângulo 8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613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esentation Overvie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55640" y="1483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pproach in the National Communications: estimates in mass values, concerns with use of GWP in a generalized way, implications from use of other metrics to the total national emissio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ian efforts to contribute to reduction of GHG emissions: role played by CDM 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mpacts of the applications of different metrics to the mitigation results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inal remar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Retângulo 3"/>
          <p:cNvSpPr/>
          <p:nvPr/>
        </p:nvSpPr>
        <p:spPr>
          <a:xfrm>
            <a:off x="4716360" y="44280"/>
            <a:ext cx="338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d9d9d9"/>
                </a:solidFill>
                <a:latin typeface="Century Gothic"/>
              </a:rPr>
              <a:t>Implication of different common metrics on mitigation policies: </a:t>
            </a:r>
            <a:r>
              <a:rPr b="0" i="1" lang="pt-BR" sz="1100" spc="-1" strike="noStrike">
                <a:solidFill>
                  <a:srgbClr val="d9d9d9"/>
                </a:solidFill>
                <a:latin typeface="Century Gothic"/>
              </a:rPr>
              <a:t>the case of Brazi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826920" y="746280"/>
            <a:ext cx="74930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900000" y="797040"/>
            <a:ext cx="7419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2636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IV - Final remarks</a:t>
            </a:r>
            <a:endParaRPr b="0" lang="en-US" sz="6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Retângulo 3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042920" y="1052280"/>
            <a:ext cx="7274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entory aggregate GHG emissions can be a misleading information and the choice of metric deeply affects the result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enefit of methane CDM projects to climate change mitigation is likely  overestimated by the use of GWP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e of the GTP metric to assess the mitigation benefit would significantly reduce  revenues from CH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DM projects activities in Brazil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nnual CERs issuance would be reduced by 19 million, representing  a potential 1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st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rediting period reduction of 147 million tCO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;  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Retângulo 4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22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4c600"/>
                </a:solidFill>
                <a:latin typeface="Century Gothic"/>
              </a:rPr>
              <a:t>Thank you</a:t>
            </a:r>
            <a:endParaRPr b="0" lang="en-US" sz="7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560" y="3933720"/>
            <a:ext cx="67770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ntact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agomendes81@gmail.co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31480" y="1844280"/>
            <a:ext cx="70246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4c600"/>
                </a:solidFill>
                <a:latin typeface="Century Gothic"/>
              </a:rPr>
              <a:t>I - Brazil’s national GHG inventory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Aggregated GHG emission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9280" y="134136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Guidelines requirements (17/CP.8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315000" algn="just">
              <a:lnSpc>
                <a:spcPct val="15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Non-Annex I Parties wishing to report on aggregated GHG emissions and removals expressed in CO</a:t>
            </a:r>
            <a:r>
              <a:rPr b="0" lang="en-US" sz="2000" spc="-1" strike="noStrike" baseline="-25000">
                <a:solidFill>
                  <a:srgbClr val="3e3d2d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 equivalents should use the global warming potentials (GWP) provided by the IPCC in its Second Assessment Report (“1995 IPCC GWP Values”) based on the effects of GHGs over a 100-year time horizon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also provided aggregated emissions using the GTP metrics to highlight the difference in the total net GHG emissions and the importance of the metrics discus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6048360" cy="5632200"/>
          </a:xfrm>
          <a:prstGeom prst="rect">
            <a:avLst/>
          </a:prstGeom>
          <a:ln w="0">
            <a:noFill/>
          </a:ln>
        </p:spPr>
      </p:pic>
      <p:sp>
        <p:nvSpPr>
          <p:cNvPr id="356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87440" y="1413000"/>
            <a:ext cx="818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42920" y="758880"/>
            <a:ext cx="6985080" cy="5526000"/>
          </a:xfrm>
          <a:prstGeom prst="rect">
            <a:avLst/>
          </a:prstGeom>
          <a:ln w="0">
            <a:noFill/>
          </a:ln>
        </p:spPr>
      </p:pic>
      <p:sp>
        <p:nvSpPr>
          <p:cNvPr id="362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171440"/>
            <a:ext cx="7024680" cy="456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II - Brazilian efforts to contribute to the reduction of GHG emissions: role played by CDM </a:t>
            </a:r>
            <a:br>
              <a:rPr sz="4900"/>
            </a:b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6040" y="83628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28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Art. 12 of KP – Kyoto Mechanism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non-Annex I Parties in achieving sustainable development and in contributing to the ultimate goal of the Conven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Annex I countries in achieving compliance with their quantified emission limitation and reduction commitme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3:22Z</dcterms:created>
  <dc:creator/>
  <dc:description/>
  <dc:language>en-US</dc:language>
  <cp:lastModifiedBy>TAM81</cp:lastModifiedBy>
  <dcterms:modified xsi:type="dcterms:W3CDTF">2012-03-30T00:26:18Z</dcterms:modified>
  <cp:revision>67</cp:revision>
  <dc:subject/>
  <dc:title>Workshop on common metrics to calculate the CO2 equivalence of anthropogenic greenhouse gas emissions by sources and removals by sinks</dc:title>
</cp:coreProperties>
</file>