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3AF-8643-4B6F-883E-2E2DC7FEA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3B1-6774-47D2-A936-0902654B2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27C-E438-4B07-A146-6F925123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0BD-3CCD-4F10-B4A1-9CA556A4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037-5CB3-4AE0-9026-AB010E3C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19F-3824-4326-BC78-B928CE30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05CB-0A79-4E3B-B0FF-B2719E4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31EE-CBA1-40C2-8A8F-F4F1DE7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951D-2D65-4D4D-849B-0826C228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7CA3-F2D7-4E9F-A235-88EEB1A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C78E-BD6B-41FF-B673-034094B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26F4-9876-4BB7-A4CA-E101BAB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94FB-D662-4B6E-A031-6C1D015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ECF-FF84-436A-93A7-59D34AF7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9C6-91CC-45C9-91A8-13A691A5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896C-68C1-4E6D-A05F-49C6D49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36B-BE52-4293-9EAC-65DDB68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C30-6C30-4957-8929-6A1354D9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BD9-B23A-43E9-A06D-3B69C4E6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990BA-9C2A-4867-96AB-16B9C8E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15AA0-637A-455D-AF37-59FAE28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30F82-6983-444E-A116-0614B59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F90FB-339A-4C8A-9B79-DB60F5F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4A5DE-1818-466A-B8CE-3C6090E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B4B-E3DD-4AC2-8C56-E88FF04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8D74A-5C34-4784-87B5-84AC767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62A64-2CCF-4915-BC5A-93EB6CA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FE225-43E1-4DF0-AC77-DA74EB9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69387-4275-465D-ABA7-9C204E2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2001F-EE05-4E38-9DB8-E25D4FF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61DBE-EDAE-441D-988D-66C11BDC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1F260-3FD5-431E-A22A-371F8F3C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6D17-1AA2-4DD5-BC98-D7DE7E25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D34F-F06A-42FF-87B3-03F92D6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51FB-0D99-474A-913F-FF768BC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989-5E9E-4014-9CBE-C9BAB97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43C3-2E67-4A0B-90AC-75A4EF5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DCA3-E719-4135-9B74-CAB69B0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442C-3838-4B7B-A4F6-55B6B92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D609-8EDC-4DE0-A5C8-AF8988A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0FD0-5702-404D-8ABA-CF48835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E6DA-BCBE-4A04-891D-CBA90EB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0B84-C250-430F-A95B-C7E144B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5D99-31E4-4141-AC8F-CAEC32E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47BF-620A-4533-AE87-7EF8D19B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598-4A80-4F71-BC80-B54D085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0CE-1CCF-4D78-BCAA-0A3C5D6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4CD-C675-4818-9224-CFD661F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6ED-F0FF-401F-B52A-A676AF9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993-93ED-4E58-A872-5419200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4DC6-8125-4A49-A4A0-012A4748D15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598-8431-496D-A920-467171DCE61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D1DE-A123-411E-B591-BCC223A4EB8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44CE-2FE6-46A4-9F3C-D8134E176BA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60480"/>
            <a:ext cx="3511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Workshop on common metrics to calculate the CO</a:t>
            </a:r>
            <a:r>
              <a:rPr b="1" lang="en-US" sz="1900" spc="-1" strike="noStrike" baseline="-25000">
                <a:solidFill>
                  <a:srgbClr val="94c600"/>
                </a:solidFill>
                <a:latin typeface="Century Gothic"/>
              </a:rPr>
              <a:t>2</a:t>
            </a:r>
            <a:r>
              <a:rPr b="1" lang="en-US" sz="1900" spc="-1" strike="noStrike">
                <a:solidFill>
                  <a:srgbClr val="94c600"/>
                </a:solidFill>
                <a:latin typeface="Century Gothic"/>
              </a:rPr>
              <a:t> equivalence of anthropogenic greenhouse gas emissions by sources and removals by sinks</a:t>
            </a:r>
            <a:endParaRPr b="0" lang="en-US" sz="1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42920" y="5013360"/>
            <a:ext cx="3606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42"/>
                </a:solidFill>
                <a:latin typeface="Century Gothic"/>
              </a:rPr>
              <a:t>Thiago de Araújo Men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entury Gothic"/>
              </a:rPr>
              <a:t>Prof. IEC-PUC Minas/ Brazil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tângulo 3"/>
          <p:cNvSpPr/>
          <p:nvPr/>
        </p:nvSpPr>
        <p:spPr>
          <a:xfrm>
            <a:off x="4732200" y="242100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pic IV: Relationship between policy frameworks and metri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4732200" y="35132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Implication of different common metrics on mitigation polic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entury Gothic"/>
              </a:rPr>
              <a:t>the case of Braz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040" y="836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– Importance assigned by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700280"/>
            <a:ext cx="7201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was the first country to set a Designated National Authority (DNA) (1999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 Brazilian project methodology was 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one of 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the first approved by the EB (</a:t>
            </a:r>
            <a:r>
              <a:rPr b="0" lang="pt-BR" sz="2400" spc="-1" strike="noStrike">
                <a:solidFill>
                  <a:srgbClr val="3e3d2d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andfill – Salvador da Bahi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A Brazilian project was the first CDM project  registered (Nova Ger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81160" indent="-2811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e3d2d"/>
                </a:solidFill>
                <a:latin typeface="Tahoma"/>
              </a:rPr>
              <a:t>High participation on the portfolio of pro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2" descr=""/>
          <p:cNvPicPr/>
          <p:nvPr/>
        </p:nvPicPr>
        <p:blipFill>
          <a:blip r:embed="rId1"/>
          <a:stretch/>
        </p:blipFill>
        <p:spPr>
          <a:xfrm>
            <a:off x="468360" y="1595520"/>
            <a:ext cx="8207280" cy="377820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4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840" y="1268280"/>
            <a:ext cx="9039240" cy="4537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3"/>
          <p:cNvSpPr/>
          <p:nvPr/>
        </p:nvSpPr>
        <p:spPr>
          <a:xfrm>
            <a:off x="539640" y="608184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12000" cy="44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 RESULTS IN BRAZI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557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August 2010, the potential of annual reduction from project activities in Brazil in the CDM pipeline represented 8% of emissions from sectors other than land use, land use change and forestry in 1994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5 CDM project activities related to the production of adipic acid and nitric acid alone have reduced N</a:t>
            </a:r>
            <a:r>
              <a:rPr b="0" lang="en-U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 emissions virtually to zero in the Brazilian industrial sec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5 registered CDM project activities accounted for a reduction of approximately 47% of methane emissions in landfills in 1994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60944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Source: 2nd National Communication, 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8000" y="1284120"/>
            <a:ext cx="8796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9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94c600"/>
                </a:solidFill>
                <a:latin typeface="Century Gothic"/>
              </a:rPr>
              <a:t>III - Impacts on the different metrics in Brazilian CDM potential mitigation efforts</a:t>
            </a:r>
            <a:br>
              <a:rPr sz="4400"/>
            </a:b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11280" y="836640"/>
          <a:ext cx="7921440" cy="4427640"/>
        </p:xfrm>
        <a:graphic>
          <a:graphicData uri="http://schemas.openxmlformats.org/drawingml/2006/table">
            <a:tbl>
              <a:tblPr/>
              <a:tblGrid>
                <a:gridCol w="1955880"/>
                <a:gridCol w="1989000"/>
                <a:gridCol w="1987560"/>
                <a:gridCol w="1989000"/>
              </a:tblGrid>
              <a:tr h="841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4 GWP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TP</a:t>
                      </a:r>
                      <a:r>
                        <a:rPr b="1" lang="en-US" sz="36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AR GW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182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F</a:t>
                      </a:r>
                      <a:r>
                        <a:rPr b="1" lang="en-US" sz="36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"/>
          <p:cNvSpPr/>
          <p:nvPr/>
        </p:nvSpPr>
        <p:spPr>
          <a:xfrm>
            <a:off x="611280" y="568188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For use in the second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UGLESTVEDT, J.S. et al., 2010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***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r use in the first commitment period of the KP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mitigation effort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7380360" y="629280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8360" y="662040"/>
            <a:ext cx="3360600" cy="201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5148360" y="2681280"/>
            <a:ext cx="3354120" cy="201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148360" y="4552920"/>
            <a:ext cx="3354120" cy="176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971640" y="525600"/>
            <a:ext cx="3313080" cy="201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971640" y="2538360"/>
            <a:ext cx="3313080" cy="201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971640" y="4524480"/>
            <a:ext cx="3313080" cy="20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3"/>
          <p:cNvSpPr/>
          <p:nvPr/>
        </p:nvSpPr>
        <p:spPr>
          <a:xfrm>
            <a:off x="539640" y="6246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15/03/20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61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esentation Overvie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pproach in the National Communications: estimates in mass values, concerns with use of GWP in a generalized way, implications from use of other metrics to the total national emiss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ian efforts to contribute to reduction of GHG emissions: role played by CDM 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mpacts of the applications of different metrics to the mitigation results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82480" indent="-514080">
              <a:lnSpc>
                <a:spcPct val="13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remar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Retângulo 3"/>
          <p:cNvSpPr/>
          <p:nvPr/>
        </p:nvSpPr>
        <p:spPr>
          <a:xfrm>
            <a:off x="4716360" y="44280"/>
            <a:ext cx="33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d9d9d9"/>
                </a:solidFill>
                <a:latin typeface="Century Gothic"/>
              </a:rPr>
              <a:t>Implication of different common metrics on mitigation policies: </a:t>
            </a:r>
            <a:r>
              <a:rPr b="0" i="1" lang="pt-BR" sz="1100" spc="-1" strike="noStrike">
                <a:solidFill>
                  <a:srgbClr val="d9d9d9"/>
                </a:solidFill>
                <a:latin typeface="Century Gothic"/>
              </a:rPr>
              <a:t>the case of Brazi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826920" y="746280"/>
            <a:ext cx="74930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tângulo 3"/>
          <p:cNvSpPr/>
          <p:nvPr/>
        </p:nvSpPr>
        <p:spPr>
          <a:xfrm>
            <a:off x="4643280" y="-57240"/>
            <a:ext cx="33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I - Impacts on the different metrics in Brazilian CDM potential result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539640" y="609444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entury Gothic"/>
              </a:rPr>
              <a:t>30/06/2011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900000" y="797040"/>
            <a:ext cx="7419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2636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4c600"/>
                </a:solidFill>
                <a:latin typeface="Century Gothic"/>
              </a:rPr>
              <a:t>IV - Final remarks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Retângulo 3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042920" y="1052280"/>
            <a:ext cx="72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entory aggregate GHG emissions can be a misleading information and the choice of metric deeply affects the result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enefit of methane CDM projects to climate change mitigation is likely  overestimated by the use of GW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of the GTP metric to assess the mitigation benefit would significantly reduce  revenues from CH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DM projects activities in Brazil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zil’s annual CERs issuance would be reduced by 19 million, representing  a potential 1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crediting period reduction of 147 million tCO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;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Retângulo 4"/>
          <p:cNvSpPr/>
          <p:nvPr/>
        </p:nvSpPr>
        <p:spPr>
          <a:xfrm>
            <a:off x="4643280" y="142920"/>
            <a:ext cx="345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V – Final Remark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22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4c600"/>
                </a:solidFill>
                <a:latin typeface="Century Gothic"/>
              </a:rPr>
              <a:t>Thank you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3933720"/>
            <a:ext cx="67770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act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agomendes81@gmail.c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1480" y="1844280"/>
            <a:ext cx="7024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4c600"/>
                </a:solidFill>
                <a:latin typeface="Century Gothic"/>
              </a:rPr>
              <a:t>I - Brazil’s national GHG inventory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Aggregated GHG emiss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Guidelines requirements (17/CP.8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315000" algn="just">
              <a:lnSpc>
                <a:spcPct val="15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Non-Annex I Parties wishing to report on aggregated GHG emissions and removals expressed in CO</a:t>
            </a:r>
            <a:r>
              <a:rPr b="0" lang="en-US" sz="2000" spc="-1" strike="noStrike" baseline="-25000">
                <a:solidFill>
                  <a:srgbClr val="3e3d2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Tahoma"/>
              </a:rPr>
              <a:t> equivalents should use the global warming potentials (GWP) provided by the IPCC in its Second Assessment Report (“1995 IPCC GWP Values”) based on the effects of GHGs over a 100-year time horizon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ahoma"/>
              </a:rPr>
              <a:t>Brazil also provided aggregated emissions using the GTP metrics to highlight the difference in the total net GHG emissions and the importance of the metrics discus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5632200"/>
          </a:xfrm>
          <a:prstGeom prst="rect">
            <a:avLst/>
          </a:prstGeom>
          <a:ln w="0">
            <a:noFill/>
          </a:ln>
        </p:spPr>
      </p:pic>
      <p:sp>
        <p:nvSpPr>
          <p:cNvPr id="356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0" y="6271920"/>
            <a:ext cx="3784680" cy="2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Brazil, 2010</a:t>
            </a:r>
            <a:endParaRPr b="0" lang="en-US" sz="1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42920" y="758880"/>
            <a:ext cx="6985080" cy="552600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5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 - Brazil’s national GHG inventory: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GWP and GTP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71440"/>
            <a:ext cx="7024680" cy="456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900" spc="-1" strike="noStrike">
                <a:solidFill>
                  <a:srgbClr val="94c600"/>
                </a:solidFill>
                <a:latin typeface="Century Gothic"/>
              </a:rPr>
              <a:t>II - Brazilian efforts to contribute to the reduction of GHG emissions: role played by CDM </a:t>
            </a:r>
            <a:br>
              <a:rPr sz="4900"/>
            </a:b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040" y="83628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CD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rt. 12 of KP – Kyoto Mechanism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non-Annex I Parties in achieving sustainable development and in contributing to the ultimate goal of the Conven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 algn="just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Annex I countries in achieving compliance with their quantified emission limitation and reduction commit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4643280" y="0"/>
            <a:ext cx="34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9d9"/>
                </a:solidFill>
                <a:latin typeface="Century Gothic"/>
              </a:rPr>
              <a:t>II - Role of CDM on Brazilian efforts to reduces GHG emissions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22Z</dcterms:created>
  <dc:creator/>
  <dc:description/>
  <dc:language>en-US</dc:language>
  <cp:lastModifiedBy>TAM81</cp:lastModifiedBy>
  <dcterms:modified xsi:type="dcterms:W3CDTF">2012-03-30T00:26:18Z</dcterms:modified>
  <cp:revision>67</cp:revision>
  <dc:subject/>
  <dc:title>Workshop on common metrics to calculate the CO2 equivalence of anthropogenic greenhouse gas emissions by sources and removals by sinks</dc:title>
</cp:coreProperties>
</file>