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2E24-8327-4FEF-9B58-FAAA9C469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020F-845F-46C8-8346-FA4BD739D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BDA-15B6-40F1-B69B-7D9CF1C0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17C-EF38-45E7-8C32-A56D00F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251-8077-4B5B-A463-7464A247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522-6039-43E9-B92C-7D31809D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F16-92B2-47CE-B91C-89B68958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64B-4381-4342-B4C7-F6CB710D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18AD-1CF0-4D6D-A010-182AC1E0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1486-FC3C-4A65-96CE-8CA041FA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EF65-3EE3-4309-A2D8-D35FF08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71C9-6A3A-4A5E-8A7F-A35DEBAB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C3B8-4D79-4696-A076-2A624C7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EE1-840E-409D-96D1-6B4F1125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3A51-2A19-4E13-B5A1-0400E7DF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6DEA-C01A-420F-B715-3269E1C7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9E8A-FBA6-4EC4-AB3E-6F7C476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2482-0B0F-4A80-93C6-A29B7C5E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B759-B570-4673-8D67-07E52173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94133-12AC-4B99-8DFF-9D27D9BD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387DC-0068-4604-AB57-7EC0235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BB2AC-EC6E-4199-87BC-39C0E78F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5C416-BE92-4F2C-93A1-AC967AE4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C7761-8730-464F-8D7F-A76D8F71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F64-4386-4DFA-AEC9-6E0619BC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8A73C-1C96-42CB-BAFA-D7668825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0819B-AF1E-4C06-A47B-0B1EE5F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9D1FE-6273-470A-A000-E370622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D9843-9E53-4935-BE06-587B37B7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ACD35-CCD1-438C-9175-E63BF8CF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10E0B-C8E6-497F-A35B-88F3F1FE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E3FBC-DB37-464A-B87F-CA049178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B4755-003A-4B12-A3CB-289D07A0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6361-FAAC-46B4-9747-23E81F26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6633-D2C9-43E2-9965-1329E159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F6A-21BE-4A52-9F86-CA25E4D7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1D58-F8DF-4806-BE6C-2630D93F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F7C6-6CD8-40A4-88D4-CA98FFFB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DBF36-6DAD-433C-A388-FD9CE263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0E0F-8328-4973-9E9A-583F8E42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1B7B-ED8C-4472-B927-A8387137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4BE2-34B2-49CB-8386-CC221621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23FD-75AC-46BD-83F5-CC798189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67FD-D99D-4FB4-96C0-9EA05680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A6BF-F620-4889-9D03-8CD30D02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179-154B-407F-894F-EADF719B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3E4-F81E-43F9-AAEF-41F44A64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322-3788-49D1-AEF2-752A0E4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F8E-49E9-4B98-90DD-4C9CB04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DDD-E008-4DDF-88C2-13099D85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0433-A836-4C11-A6E5-0666855BC50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27B0-CB76-4C8C-A5F4-BB0604062542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65A2-D9B4-4FD9-8935-753701205F5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1B6F-7413-4026-BB5A-A5868368284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2920" y="60480"/>
            <a:ext cx="3511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Workshop on common metrics to calculate the CO</a:t>
            </a:r>
            <a:r>
              <a:rPr b="1" lang="en-US" sz="1900" spc="-1" strike="noStrike" baseline="-25000">
                <a:solidFill>
                  <a:srgbClr val="94c600"/>
                </a:solidFill>
                <a:latin typeface="Century Gothic"/>
              </a:rPr>
              <a:t>2</a:t>
            </a: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 equivalence of anthropogenic greenhouse gas emissions by sources and removals by sinks</a:t>
            </a:r>
            <a:endParaRPr b="0" lang="en-US" sz="1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42920" y="5013360"/>
            <a:ext cx="3606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242"/>
                </a:solidFill>
                <a:latin typeface="Century Gothic"/>
              </a:rPr>
              <a:t>Thiago de Araújo Men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entury Gothic"/>
              </a:rPr>
              <a:t>Prof. IEC-PUC Minas/ Brazil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tângulo 3"/>
          <p:cNvSpPr/>
          <p:nvPr/>
        </p:nvSpPr>
        <p:spPr>
          <a:xfrm>
            <a:off x="4732200" y="242100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pic IV: Relationship between policy frameworks and metric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4732200" y="35132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Implication of different common metrics on mitigation polic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entury Gothic"/>
              </a:rPr>
              <a:t>the case of Braz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6040" y="836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– Importance assigned by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700280"/>
            <a:ext cx="7201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was the first country to set a Designated National Authority (DNA) (1999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 Brazilian project methodology was 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one of 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the first approved by the EB (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ndfill – Salvador da Bahi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A Brazilian project was the first CDM project  registered (Nova Ger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High participation on the portfolio of projec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2" descr=""/>
          <p:cNvPicPr/>
          <p:nvPr/>
        </p:nvPicPr>
        <p:blipFill>
          <a:blip r:embed="rId1"/>
          <a:stretch/>
        </p:blipFill>
        <p:spPr>
          <a:xfrm>
            <a:off x="468360" y="1595520"/>
            <a:ext cx="8207280" cy="3778200"/>
          </a:xfrm>
          <a:prstGeom prst="rect">
            <a:avLst/>
          </a:prstGeom>
          <a:ln w="0">
            <a:noFill/>
          </a:ln>
        </p:spPr>
      </p:pic>
      <p:sp>
        <p:nvSpPr>
          <p:cNvPr id="372" name="Retângulo 4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840" y="1268280"/>
            <a:ext cx="9039240" cy="4537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12000" cy="4464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3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RESULTS IN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1557360"/>
            <a:ext cx="813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August 2010, the potential of annual reduction from project activities in Brazil in the CDM pipeline represented 8% of emissions from sectors other than land use, land use change and forestry in 1994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5 CDM project activities related to the production of adipic acid and nitric acid alone have reduced N</a:t>
            </a:r>
            <a:r>
              <a:rPr b="0" lang="en-U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 emissions virtually to zero in the Brazilian industrial secto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5 registered CDM project activities accounted for a reduction of approximately 47% of methane emissions in landfills in 1994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39640" y="60944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Source: 2nd National Communication, 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8000" y="1284120"/>
            <a:ext cx="8796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0000" y="4005000"/>
            <a:ext cx="738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39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III - Impacts on the different metrics in Brazilian CDM potential mitigation efforts</a:t>
            </a:r>
            <a:br>
              <a:rPr sz="4400"/>
            </a:b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611280" y="836640"/>
          <a:ext cx="7921440" cy="4427640"/>
        </p:xfrm>
        <a:graphic>
          <a:graphicData uri="http://schemas.openxmlformats.org/drawingml/2006/table">
            <a:tbl>
              <a:tblPr/>
              <a:tblGrid>
                <a:gridCol w="1955880"/>
                <a:gridCol w="1989000"/>
                <a:gridCol w="1987560"/>
                <a:gridCol w="1989000"/>
              </a:tblGrid>
              <a:tr h="8413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R4 GWP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TP</a:t>
                      </a:r>
                      <a:r>
                        <a:rPr b="1" lang="en-US" sz="36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AR GW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389" name="Rectangle 1"/>
          <p:cNvSpPr/>
          <p:nvPr/>
        </p:nvSpPr>
        <p:spPr>
          <a:xfrm>
            <a:off x="611280" y="568188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For use in the second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UGLESTVEDT, J.S. et al., 2010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r use in the first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mitigation effort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Text Box 33"/>
          <p:cNvSpPr/>
          <p:nvPr/>
        </p:nvSpPr>
        <p:spPr>
          <a:xfrm>
            <a:off x="7380360" y="6292800"/>
            <a:ext cx="12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148360" y="662040"/>
            <a:ext cx="3360600" cy="2019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5148360" y="2681280"/>
            <a:ext cx="3354120" cy="2016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148360" y="4552920"/>
            <a:ext cx="3354120" cy="1766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971640" y="525600"/>
            <a:ext cx="3313080" cy="201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5"/>
          <a:stretch/>
        </p:blipFill>
        <p:spPr>
          <a:xfrm>
            <a:off x="971640" y="2538360"/>
            <a:ext cx="3313080" cy="201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971640" y="4524480"/>
            <a:ext cx="3313080" cy="20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3"/>
          <p:cNvSpPr/>
          <p:nvPr/>
        </p:nvSpPr>
        <p:spPr>
          <a:xfrm>
            <a:off x="539640" y="6246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Retângulo 8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613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esentation Overvie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pproach in the National Communications: estimates in mass values, concerns with use of GWP in a generalized way, implications from use of other metrics to the total national emiss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ian efforts to contribute to reduction of GHG emissions: role played by CDM 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mpacts of the applications of different metrics to the mitigation results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inal remar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Retângulo 3"/>
          <p:cNvSpPr/>
          <p:nvPr/>
        </p:nvSpPr>
        <p:spPr>
          <a:xfrm>
            <a:off x="4716360" y="44280"/>
            <a:ext cx="33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d9d9d9"/>
                </a:solidFill>
                <a:latin typeface="Century Gothic"/>
              </a:rPr>
              <a:t>Implication of different common metrics on mitigation policies: </a:t>
            </a:r>
            <a:r>
              <a:rPr b="0" i="1" lang="pt-BR" sz="1100" spc="-1" strike="noStrike">
                <a:solidFill>
                  <a:srgbClr val="d9d9d9"/>
                </a:solidFill>
                <a:latin typeface="Century Gothic"/>
              </a:rPr>
              <a:t>the case of Brazi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826920" y="746280"/>
            <a:ext cx="74930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900000" y="797040"/>
            <a:ext cx="7419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2636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IV - Final remarks</a:t>
            </a:r>
            <a:endParaRPr b="0" lang="en-US" sz="6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Retângulo 3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042920" y="1052280"/>
            <a:ext cx="7274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entory aggregate GHG emissions can be a misleading information and the choice of metric deeply affects the result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enefit of methane CDM projects to climate change mitigation is likely  overestimated by the use of GWP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e of the GTP metric to assess the mitigation benefit would significantly reduce  revenues from CH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DM projects activities in Brazil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nnual CERs issuance would be reduced by 19 million, representing  a potential 1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st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rediting period reduction of 147 million tCO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; 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Retângulo 4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22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4c600"/>
                </a:solidFill>
                <a:latin typeface="Century Gothic"/>
              </a:rPr>
              <a:t>Thank you</a:t>
            </a:r>
            <a:endParaRPr b="0" lang="en-US" sz="7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3933720"/>
            <a:ext cx="67770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ntact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agomendes81@gmail.co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31480" y="1844280"/>
            <a:ext cx="70246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4c600"/>
                </a:solidFill>
                <a:latin typeface="Century Gothic"/>
              </a:rPr>
              <a:t>I - Brazil’s national GHG inventory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Aggregated GHG emission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9280" y="1341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Guidelines requirements (17/CP.8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315000" algn="just">
              <a:lnSpc>
                <a:spcPct val="15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Non-Annex I Parties wishing to report on aggregated GHG emissions and removals expressed in CO</a:t>
            </a:r>
            <a:r>
              <a:rPr b="0" lang="en-US" sz="2000" spc="-1" strike="noStrike" baseline="-25000">
                <a:solidFill>
                  <a:srgbClr val="3e3d2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 equivalents should use the global warming potentials (GWP) provided by the IPCC in its Second Assessment Report (“1995 IPCC GWP Values”) based on the effects of GHGs over a 100-year time horizon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also provided aggregated emissions using the GTP metrics to highlight the difference in the total net GHG emissions and the importance of the metrics discus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5632200"/>
          </a:xfrm>
          <a:prstGeom prst="rect">
            <a:avLst/>
          </a:prstGeom>
          <a:ln w="0">
            <a:noFill/>
          </a:ln>
        </p:spPr>
      </p:pic>
      <p:sp>
        <p:nvSpPr>
          <p:cNvPr id="356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87440" y="1413000"/>
            <a:ext cx="818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42920" y="758880"/>
            <a:ext cx="6985080" cy="5526000"/>
          </a:xfrm>
          <a:prstGeom prst="rect">
            <a:avLst/>
          </a:prstGeom>
          <a:ln w="0">
            <a:noFill/>
          </a:ln>
        </p:spPr>
      </p:pic>
      <p:sp>
        <p:nvSpPr>
          <p:cNvPr id="362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171440"/>
            <a:ext cx="7024680" cy="456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II - Brazilian efforts to contribute to the reduction of GHG emissions: role played by CDM </a:t>
            </a:r>
            <a:br>
              <a:rPr sz="4900"/>
            </a:b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6040" y="83628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28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Art. 12 of KP – Kyoto Mechanism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non-Annex I Parties in achieving sustainable development and in contributing to the ultimate goal of the Conven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Annex I countries in achieving compliance with their quantified emission limitation and reduction commitme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3:22Z</dcterms:created>
  <dc:creator/>
  <dc:description/>
  <dc:language>en-US</dc:language>
  <cp:lastModifiedBy>TAM81</cp:lastModifiedBy>
  <dcterms:modified xsi:type="dcterms:W3CDTF">2012-03-30T00:26:18Z</dcterms:modified>
  <cp:revision>67</cp:revision>
  <dc:subject/>
  <dc:title>Workshop on common metrics to calculate the CO2 equivalence of anthropogenic greenhouse gas emissions by sources and removals by sinks</dc:title>
</cp:coreProperties>
</file>