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B60-B144-4082-BFE6-7585EA00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9B4-40C5-4542-B8E8-826D7270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C01-191C-4FD8-85DC-84809C52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36D-8B19-437A-A00E-C2E22946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2EC2-1589-43C0-BDC9-EA2DB51C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215C-23B9-4591-BA5C-3732910C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1748-ACA0-4F55-810B-EFCD3878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F90D-207C-45C6-B75B-01618193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6BD0-615B-427F-8C7D-AB15834E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8552-9A00-4A6F-B75A-3FDB9D6E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457A-0BE0-4DC6-A64A-F880D767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79C-D063-4034-B312-EAD82574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554E-B552-426B-B0A5-01F4B757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3066-87FA-471D-A98F-E30FA4DE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2934-C790-41B0-95E6-F847272B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34A6-0427-4398-BE45-6E56861E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8FB2-27CE-40F7-90C5-C7E83460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6857-8C1C-444A-A3D5-F7781470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3FE6B-89CB-4C13-9E3E-7AE68B25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112A-0719-4C1F-BA99-B7AF1ADF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217F3-A15B-4A1F-B8DA-11C32B4B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11EC-36BC-4708-864B-F27FCD02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265-6834-403F-882D-D97F3A40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ABB2-97CA-4FE8-833F-C73BBA28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9571-563D-49E1-9571-66558203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4C07-707F-4E67-8D18-EC018D87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50F0-396B-4EBF-BA57-9B4074E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0F65F-C23F-4098-A4C5-0664FD56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CD6E-6337-4E48-8DF5-D4081BD1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5338-5E0B-4103-928E-A8147C61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82E80-AB00-4D1B-9475-ED74E501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040D5-DB4C-4EC6-BBC0-72C1023B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FBED9-4B86-4DF9-A389-E29145CB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1B3-A2D4-4475-8C44-7000C309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6B809-7AC0-45F6-B615-DA918FF0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4F641-19E1-46C7-9E5B-D2DE9D31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4B93C-8EF8-47E2-BDE8-7798DB9A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F1E9F-A1DF-4CAD-92A4-F14FA9FB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AF57-ACCB-4728-B25D-AC8DB4F6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93FA-694B-4B2B-83E7-E56C5190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49831-6BC4-4872-9D1A-ED66A647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BA6A7-ED82-457D-877E-CD64C1F3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137AD-E059-496F-ADFB-34FAB92D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B31-A966-489E-BD19-FD16A8D2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608-04E1-4C7B-AAB0-3E2007FC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CF3-0777-4575-86DC-23C290F2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6F9-5921-4F88-8A24-C47AA8F6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BD5-05D2-412A-9C67-22AF499A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4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04E7-3F44-4AB2-837E-317AE3F580E5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0E10-BF20-4A9C-90A2-F3752259D7F0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dt" idx="5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ADA3-B9B6-4696-B3DB-E445BF85B0BE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E2F2-AC69-4B3E-96ED-F5525ABE96BD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99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8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AA4A-93C2-45F0-98B3-2E12ED01A12A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B777-E495-4011-9D2D-3D6DDB4AFEDD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10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dt" idx="11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618F-4E1C-4D0F-9899-2B29FC752B8B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179E-6741-422F-8734-E86A1A028CB2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60040" y="680760"/>
            <a:ext cx="77900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effectiveness and implications of GWPs and GTPs under alternative policy goa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85600" y="3366720"/>
            <a:ext cx="75466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Andy Reisinger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 Keywan Riahi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Oscar van Vliet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New Zealand Agricultural Greenhouse Gas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ternational Institute for Applied Systems Analysis (II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Manuscript submitted to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Climatic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Work funded by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NZ Ministry of Agriculture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various EU-FP7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1E57-9896-4F48-9160-D693A15886D0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2E7D-84A4-4A08-89A8-9102E8AFDFAD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2400" y="248760"/>
            <a:ext cx="79167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lobal cost-effectiveness of metr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10840" y="1222200"/>
            <a:ext cx="8250120" cy="42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Fixed GTP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sult in highe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and higher total mitigation costs than GWPs, but lower prices/costs on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Time-dependent GTP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(focusing on year 2100) result in lowe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and lower total mitigation costs than GWPs; prices and costs for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re lower initially but (much) higher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Assumptions about agriculture mitigation potential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have a </a:t>
            </a:r>
            <a:r>
              <a:rPr b="0" i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larger effect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on global costs than alternative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Different long-term stabilisation target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have a </a:t>
            </a:r>
            <a:r>
              <a:rPr b="0" i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much larger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effect than alternative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Excluding agriculture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lobally is by far the most costly ‘metri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6820-BDFF-4048-9C3A-C49D81076D82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A373-2E9D-4C2A-B07E-7651365221E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2400" y="248760"/>
            <a:ext cx="79167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relevant policy goal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0840" y="1294920"/>
            <a:ext cx="8250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ealised amount of warming and oversh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GDP 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Timing of cost-effective CO</a:t>
            </a:r>
            <a:r>
              <a:rPr b="1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emissions p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egional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8A1A-F70A-4B7A-8FB3-ED3A500A15B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F91D-7B3D-4B9D-9E99-08B19E692BD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12840" y="754200"/>
            <a:ext cx="8753400" cy="4951440"/>
          </a:xfrm>
          <a:prstGeom prst="rect">
            <a:avLst/>
          </a:prstGeom>
          <a:ln w="0">
            <a:noFill/>
          </a:ln>
        </p:spPr>
      </p:pic>
      <p:sp>
        <p:nvSpPr>
          <p:cNvPr id="27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58C3-CB30-41CE-A6F3-E142E0302AB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734F-0773-4931-A67A-8B7F4FA375D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sed warming – rate and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1"/>
          <p:cNvSpPr/>
          <p:nvPr/>
        </p:nvSpPr>
        <p:spPr>
          <a:xfrm>
            <a:off x="1741320" y="1015920"/>
            <a:ext cx="2365560" cy="25628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ak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2-2.25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te (2020-2050)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-0.26°C / de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st of the differences are due to alternative assumptions, not alternativ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219240" y="0"/>
            <a:ext cx="8705520" cy="5727600"/>
          </a:xfrm>
          <a:prstGeom prst="rect">
            <a:avLst/>
          </a:prstGeom>
          <a:ln w="0">
            <a:noFill/>
          </a:ln>
        </p:spPr>
      </p:pic>
      <p:sp>
        <p:nvSpPr>
          <p:cNvPr id="284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1A26-AFA8-43D4-97EA-980696F2B54B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9E12-87B0-4A0A-81EE-87789B8E4BE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P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4746600" y="3454560"/>
            <a:ext cx="3917880" cy="11912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me-dependent GTPs result in lower aggregate costs, b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eater GDP losses relative to BAU towards 2100 than G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E9EB-924B-414B-904C-8C9B5F81F41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4AF9-CE4C-4C57-8D2B-985BF84B09ED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ing of cost-effective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00160" y="712800"/>
            <a:ext cx="8697600" cy="497376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4"/>
          <p:cNvGrpSpPr/>
          <p:nvPr/>
        </p:nvGrpSpPr>
        <p:grpSpPr>
          <a:xfrm>
            <a:off x="2700360" y="1001880"/>
            <a:ext cx="6132240" cy="2051640"/>
            <a:chOff x="2700360" y="1001880"/>
            <a:chExt cx="6132240" cy="2051640"/>
          </a:xfrm>
        </p:grpSpPr>
        <p:sp>
          <p:nvSpPr>
            <p:cNvPr id="300" name="Left-Right Arrow 11"/>
            <p:cNvSpPr/>
            <p:nvPr/>
          </p:nvSpPr>
          <p:spPr>
            <a:xfrm>
              <a:off x="2700360" y="1045080"/>
              <a:ext cx="1857600" cy="435240"/>
            </a:xfrm>
            <a:prstGeom prst="leftRightArrow">
              <a:avLst>
                <a:gd name="adj1" fmla="val 50000"/>
                <a:gd name="adj2" fmla="val 50010"/>
              </a:avLst>
            </a:prstGeom>
            <a:solidFill>
              <a:srgbClr val="ff0000">
                <a:alpha val="47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2"/>
            <p:cNvSpPr/>
            <p:nvPr/>
          </p:nvSpPr>
          <p:spPr>
            <a:xfrm>
              <a:off x="4893840" y="1001880"/>
              <a:ext cx="3938760" cy="205164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fferent metrics and assump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llow the CO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emissions pea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e delayed by almost 15 ye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ut most of the delay comes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fferent assumptions; metr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ave a smaller influ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7"/>
          <p:cNvSpPr/>
          <p:nvPr/>
        </p:nvSpPr>
        <p:spPr>
          <a:xfrm>
            <a:off x="1616040" y="4411800"/>
            <a:ext cx="702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athways shown result in radiative forcing of 450ppm CO2-eq in 2100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the timing of 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tigation differs due to metrics and other assu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4A23-91A7-497A-841E-6670D72990FE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3981-D8D4-4FE9-A66A-E061BB6C2FB3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546120" y="10332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74200" y="82980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WPs are not the most cost-effective metric to compare GHGs</a:t>
            </a:r>
            <a:br>
              <a:rPr sz="2200"/>
            </a:br>
            <a:r>
              <a:rPr b="0" i="1" lang="en-US" sz="2400" spc="-1" strike="noStrike">
                <a:solidFill>
                  <a:srgbClr val="42611b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the main goal is to limit long-term radiative forcing in 2100, and to do so via cost-minimising global abatement path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xed 100-year GTPs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are even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les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cost-effective (+ 5 to 10%)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me-dependent GTPs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would be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more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cost-effective (- 4 to 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t implications of alternative metrics: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smaller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than alternative assumptions about future agricultural mitigation potential, and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much smaller</a:t>
            </a:r>
            <a:r>
              <a:rPr b="0" i="1" lang="en-US" sz="20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than choices of long-term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ther policy goals: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different equivalent metrics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do not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result in equivalent  other environmental outcomes – but differences are again smaller than those arising from other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gional implications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regional effect of metrics on production systems and land-use change – see second presentation plea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DA9B-7C2A-4A00-983E-415DD730187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F5E9-E9C9-45E1-89C2-EBA457C78E67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546120" y="32076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s to the polic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4200" y="1090440"/>
            <a:ext cx="8075880" cy="43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important is it for the policy process to have a metric that is optimal for a particular policy goal but, almost by definition, will do a poorer job for other policy goa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sustainable is the implementation of a metric that implies escalating cost of CH</a:t>
            </a:r>
            <a:r>
              <a:rPr b="0" i="1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 emissions globall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are the social/policy benefits and costs of continuously updating a metric to achieve optimality (however defined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Are tests of metrics useful that assume full global and sectoral participation at full price leve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What are the implications of different metrics for </a:t>
            </a:r>
            <a:br>
              <a:rPr sz="2200"/>
            </a:b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regional and sectoral engagement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to climate ch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4560" y="1335240"/>
            <a:ext cx="82504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398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611b"/>
                </a:solidFill>
                <a:latin typeface="Arial"/>
              </a:rPr>
              <a:t>100-year GWPs are not a cost-effective way of comparing GHGs if the main policy goal is to limit long-term climate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611b"/>
                </a:solidFill>
                <a:latin typeface="Arial"/>
              </a:rPr>
              <a:t>Few studies have explored the cost and climate policy implications if other physically-based metrics were to replace GW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Determine the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global cost-effectivenes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of different metrics for the </a:t>
            </a:r>
            <a:r>
              <a:rPr b="1" i="1" lang="en-US" sz="2200" spc="-1" strike="noStrike">
                <a:solidFill>
                  <a:srgbClr val="42611b"/>
                </a:solidFill>
                <a:latin typeface="Arial"/>
              </a:rPr>
              <a:t>main policy goal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of limiting radiative forcing in 2100 to 450 or 550ppm CO</a:t>
            </a:r>
            <a:r>
              <a:rPr b="1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-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Evaluate influence of metrics on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additional policy goal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2611b"/>
                </a:solidFill>
                <a:latin typeface="Arial"/>
              </a:rPr>
              <a:t>(realised warming, GDP, timing of CO</a:t>
            </a:r>
            <a:r>
              <a:rPr b="1" i="1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42611b"/>
                </a:solidFill>
                <a:latin typeface="Arial"/>
              </a:rPr>
              <a:t> emissions pe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69ED-7CDA-4FC7-A2F0-1B684CF0A237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8DB5-A5BC-49D2-A578-240262AA42EA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33360" y="1174680"/>
            <a:ext cx="8578800" cy="448632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CE17-B52B-458F-8CEB-8E27F910825D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D564-216A-41E3-8D98-64157317F3A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3080" y="43920"/>
            <a:ext cx="7916760" cy="13352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luated alternative metrics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WPs, fixed and time-dependent GT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2015640" y="1552680"/>
            <a:ext cx="502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560" y="112320"/>
            <a:ext cx="85694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tests: technology/policy 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4560" y="1045800"/>
            <a:ext cx="82504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Assumed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policy goal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is to limit radiative forcing in 2100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450 ppm 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-eq (~2.7 Wm</a:t>
            </a:r>
            <a:r>
              <a:rPr b="0" lang="en-US" sz="2000" spc="-1" strike="noStrike" baseline="30000">
                <a:solidFill>
                  <a:srgbClr val="42611b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550 ppm 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-eq (~3.8 Wm</a:t>
            </a:r>
            <a:r>
              <a:rPr b="0" lang="en-US" sz="2000" spc="-1" strike="noStrike" baseline="30000">
                <a:solidFill>
                  <a:srgbClr val="42611b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ate of improvement of agricultural mitigation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No improvement / rapid 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dditional technology from 2030 or 2070 to mitigate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from enteric fer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Policy treatment of agricultural GHG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ully included in global mitigation efforts /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ully excluded / excluded until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Use integrated assessment model MESSAGE to determine cost-minimising abatement pathways over 21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0E94-658E-4E98-B666-05B85441B68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66FC-2425-4FD1-9BB0-A64E26F4962F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050D-F3E4-45D2-A767-5EBDD252B57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35F7-C7D9-4DC2-95DE-F6DC50171B37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460440" y="900000"/>
            <a:ext cx="8112240" cy="4819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3360" y="58320"/>
            <a:ext cx="8564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ative forcing paths – all metrics/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265C-A3C6-46E0-8349-BD9A7B998AA4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AEFD-D848-4C4D-AE63-6702B2249EC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01520" y="1204920"/>
            <a:ext cx="8955000" cy="4448160"/>
          </a:xfrm>
          <a:prstGeom prst="rect">
            <a:avLst/>
          </a:prstGeom>
          <a:ln w="0">
            <a:noFill/>
          </a:ln>
        </p:spPr>
      </p:pic>
      <p:sp>
        <p:nvSpPr>
          <p:cNvPr id="232" name="Title 1"/>
          <p:cNvSpPr/>
          <p:nvPr/>
        </p:nvSpPr>
        <p:spPr>
          <a:xfrm>
            <a:off x="333360" y="58680"/>
            <a:ext cx="8564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– all metrics/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F04F-E68E-4300-90FE-D25443C3081E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276A-BE31-46E2-8D32-32D3F05A3463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233280" y="527040"/>
            <a:ext cx="7202520" cy="5226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233280" y="527040"/>
            <a:ext cx="7202520" cy="5226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1"/>
          <p:cNvSpPr/>
          <p:nvPr/>
        </p:nvSpPr>
        <p:spPr>
          <a:xfrm>
            <a:off x="5799240" y="1670040"/>
            <a:ext cx="308088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fixed 100-year GTPs: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less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ime-dependent GTPs: 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less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 initially, 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more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 by 2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3360" y="58320"/>
            <a:ext cx="8564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– detailed 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EBF6-DDA9-4CB5-A077-03C14092701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itle 1"/>
          <p:cNvSpPr/>
          <p:nvPr/>
        </p:nvSpPr>
        <p:spPr>
          <a:xfrm>
            <a:off x="3786120" y="109440"/>
            <a:ext cx="3592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SSAGE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09440" y="155520"/>
            <a:ext cx="7410600" cy="6623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0"/>
          <p:cNvSpPr/>
          <p:nvPr/>
        </p:nvSpPr>
        <p:spPr>
          <a:xfrm>
            <a:off x="7143840" y="1554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1"/>
          <p:cNvSpPr/>
          <p:nvPr/>
        </p:nvSpPr>
        <p:spPr>
          <a:xfrm>
            <a:off x="7095960" y="39528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3044880" y="109440"/>
            <a:ext cx="30542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ne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307520" y="2475000"/>
            <a:ext cx="6500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mitigation determines ‘atmospheric space’ for C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emissions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nd hence total mitiga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754520" y="914400"/>
            <a:ext cx="12621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4641840" y="3452760"/>
            <a:ext cx="12621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5843520" y="0"/>
            <a:ext cx="1193760" cy="24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022800" y="2898720"/>
            <a:ext cx="1109880" cy="20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1335240" y="6026040"/>
            <a:ext cx="56592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1378080" y="6351480"/>
            <a:ext cx="565920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A571-C011-40C1-91FB-1778652521F4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tretch/>
        </p:blipFill>
        <p:spPr>
          <a:xfrm>
            <a:off x="174600" y="363600"/>
            <a:ext cx="8707320" cy="626904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9"/>
          <p:cNvGrpSpPr/>
          <p:nvPr/>
        </p:nvGrpSpPr>
        <p:grpSpPr>
          <a:xfrm>
            <a:off x="5121360" y="171360"/>
            <a:ext cx="4022640" cy="4556160"/>
            <a:chOff x="5121360" y="171360"/>
            <a:chExt cx="4022640" cy="4556160"/>
          </a:xfrm>
        </p:grpSpPr>
        <p:sp>
          <p:nvSpPr>
            <p:cNvPr id="262" name="Rectangle 5"/>
            <p:cNvSpPr/>
            <p:nvPr/>
          </p:nvSpPr>
          <p:spPr>
            <a:xfrm>
              <a:off x="5121360" y="914760"/>
              <a:ext cx="4022640" cy="38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608800" y="171360"/>
              <a:ext cx="3535200" cy="9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10"/>
          <p:cNvSpPr/>
          <p:nvPr/>
        </p:nvSpPr>
        <p:spPr>
          <a:xfrm>
            <a:off x="1581120" y="3786120"/>
            <a:ext cx="3657600" cy="1833840"/>
          </a:xfrm>
          <a:prstGeom prst="rect">
            <a:avLst/>
          </a:prstGeom>
          <a:solidFill>
            <a:srgbClr val="7f7f7f">
              <a:alpha val="8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discounted net present value mitigation costs (2010-2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for 550pp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eq stabi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4:12:39Z</dcterms:created>
  <dc:creator>Andy Reisinger</dc:creator>
  <dc:description/>
  <dc:language>en-US</dc:language>
  <cp:lastModifiedBy>Andy Reisinger</cp:lastModifiedBy>
  <dcterms:modified xsi:type="dcterms:W3CDTF">2012-04-02T07:19:52Z</dcterms:modified>
  <cp:revision>159</cp:revision>
  <dc:subject/>
  <dc:title>Mitigating Greenhouse Gas Emissions</dc:title>
</cp:coreProperties>
</file>