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C8F-B5FF-43DF-A1B5-FA9255D3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9A5-E53B-495C-9A96-E157688D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2B4-0E1C-413A-9B52-7968B8A1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FAC-CFBD-4071-B59B-5E8EBB0E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A1BF-CEAA-48DE-B161-0EE96889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8F22-0974-47A7-918B-79DA2C48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51B7-85B2-425C-9190-063967D9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CDC9-9E27-40FE-83CC-F1E54EA0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189F-AF22-416D-8114-6854F277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2D48-59CD-4258-8379-D9860C1E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5320-CA8E-490D-B541-12F0900C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20C-3D0C-4E6F-BB5E-4F97E08E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782A-C737-4186-AFC7-1D282489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13C8-C610-47C0-9D25-E6F3F54B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2AE9-7C95-40C0-A01E-DF898829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BAD6-7BB7-4E64-A7F4-EB3ED369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2A96-6E97-47C6-856E-023A616C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58DAD-83DB-414F-B673-C85E5919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8E58B-BEEE-4E03-A5EC-B5D17B53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CFDE-0397-443A-9604-E93E7802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8EE8A-6814-44FB-B92B-B1D705BE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1EBFC-04B9-4C0E-9C79-F392D2AF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4A0-7DD5-4C75-94DD-A30C8E7D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6732C-EC71-4B62-BE2E-71CD1BD6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6066C-B3CA-4BAA-917F-D7F9A8AE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4F8E5-17DB-4B1F-A72E-1DF3D93C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9AEC-D35A-4E7A-8C6D-57FD3AEE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AD5B2-6906-45D7-898A-6DDA47A4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B42D-798C-4F80-BA78-8BA67DD4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09EC-6364-4121-93A0-6A22E077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387A1-6A16-4C44-945D-3607214A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7FFE8-FC55-459A-8C34-47D399EC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6D42B-7C54-4BAA-9F96-89FAB402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8AF-1222-4AC4-A41C-F02573F1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6A9A7-B410-48F7-9F01-EE069AD6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8A412-9D77-40A0-8D88-C5722B45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D8D1A-1CDF-4C8E-B171-308D1D92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9FD47-1BB8-48A0-B292-E761B02E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52FB0-A510-4DD0-9EBA-22D9A4B2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E3CE3-298A-40D6-AADF-04106E36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1BA4D-1787-4518-B091-8D77F3E3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04768-9434-4640-8C12-F010A8E0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50420-76E2-4056-8016-9F52BEEF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EE2-6A2A-461F-AB30-D4FE71D8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12E-185B-4797-8B33-227D4597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07EF-81FB-4BA9-9EC7-9A9C11CB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150-75CC-4D56-B41D-3B0F3ACF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D50-732B-4368-9307-62CF3D0E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4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284A-7883-4566-BC73-1522E073553E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27ED-E198-4A94-9F9B-4984643FB58F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4"/>
          <p:cNvSpPr>
            <a:spLocks noGrp="1"/>
          </p:cNvSpPr>
          <p:nvPr>
            <p:ph type="dt" idx="5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BBF3-E546-412B-8596-E2036C1C5C6A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E580-B7EB-437D-855F-98C3CA0F3092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99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7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8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FDCD-D4FD-4E7C-AE1A-5903F4327BEF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A473-110F-4A42-808F-73CA75388894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10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dt" idx="11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A908-6B1E-421C-ABF1-19A91E02C8B2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0588-7464-490E-8870-F3A38867BB9A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60040" y="680760"/>
            <a:ext cx="77900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effectiveness and implications of GWPs and GTPs under alternative policy goa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85600" y="3366720"/>
            <a:ext cx="75466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Andy Reisinger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 Keywan Riahi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Oscar van Vliet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New Zealand Agricultural Greenhouse Gas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ternational Institute for Applied Systems Analysis (II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Manuscript submitted to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Climatic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Work funded by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NZ Ministry of Agriculture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various EU-FP7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07C3-1DF7-4ADD-AA0C-2E837352869A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8B11-FAF1-43D9-A90C-4D8C2F3E685D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2400" y="248760"/>
            <a:ext cx="79167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lobal cost-effectiveness of metric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10840" y="1222200"/>
            <a:ext cx="8250120" cy="42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Fixed GTP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sult in highe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and higher total mitigation costs than GWPs, but lower prices/costs on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Time-dependent GTP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(focusing on year 2100) result in lowe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and lower total mitigation costs than GWPs; prices and costs for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re lower initially but (much) higher 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Assumptions about agriculture mitigation potential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have a </a:t>
            </a:r>
            <a:r>
              <a:rPr b="0" i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larger effect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on global costs than alternative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Different long-term stabilisation target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have a </a:t>
            </a:r>
            <a:r>
              <a:rPr b="0" i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much larger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effect than alternative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Excluding agriculture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lobally is by far the most costly ‘metri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071A-DBF2-47FA-9D77-0E7D2D771F4C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1337-6C3C-4F8F-A506-F11F7614CEE0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2400" y="248760"/>
            <a:ext cx="79167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about other relevant policy goal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10840" y="1294920"/>
            <a:ext cx="8250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ealised amount of warming and oversh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GDP imp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Timing of cost-effective CO</a:t>
            </a:r>
            <a:r>
              <a:rPr b="1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emissions pe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egional im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3BE1-FCF2-4FCE-A843-A63EF0906A25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0F78-0375-4813-A08D-EF44C12F2E3C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12840" y="754200"/>
            <a:ext cx="8753400" cy="4951440"/>
          </a:xfrm>
          <a:prstGeom prst="rect">
            <a:avLst/>
          </a:prstGeom>
          <a:ln w="0">
            <a:noFill/>
          </a:ln>
        </p:spPr>
      </p:pic>
      <p:sp>
        <p:nvSpPr>
          <p:cNvPr id="27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CFD0-6BC8-45C1-9EF8-276CA9B2CCFA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8CF3-DB1D-488C-94D5-0F0E2893959E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sed warming – rate and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1"/>
          <p:cNvSpPr/>
          <p:nvPr/>
        </p:nvSpPr>
        <p:spPr>
          <a:xfrm>
            <a:off x="1741320" y="1015920"/>
            <a:ext cx="2365560" cy="2562840"/>
          </a:xfrm>
          <a:prstGeom prst="rect">
            <a:avLst/>
          </a:prstGeom>
          <a:solidFill>
            <a:srgbClr val="d9d9d9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ak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2-2.25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te (2020-2050)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-0.26°C / de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st of the differences are due to alternative assumptions, not alternativ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219240" y="0"/>
            <a:ext cx="8705520" cy="5727600"/>
          </a:xfrm>
          <a:prstGeom prst="rect">
            <a:avLst/>
          </a:prstGeom>
          <a:ln w="0">
            <a:noFill/>
          </a:ln>
        </p:spPr>
      </p:pic>
      <p:sp>
        <p:nvSpPr>
          <p:cNvPr id="284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5C79-7C01-4DD0-85BB-8781D9DDC2AF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F45D-4EC0-4D9D-9DCE-9A73F73678B7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DP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4746600" y="3454560"/>
            <a:ext cx="3917880" cy="1191240"/>
          </a:xfrm>
          <a:prstGeom prst="rect">
            <a:avLst/>
          </a:prstGeom>
          <a:solidFill>
            <a:srgbClr val="d9d9d9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me-dependent GTPs result in lower aggregate costs, bu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eater GDP losses relative to BAU towards 2100 than GW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9581-304E-4456-BCC8-FE5A86D06FC9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A59D-1283-41CF-BC48-A720298E39EB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ing of cost-effective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200160" y="712800"/>
            <a:ext cx="8697600" cy="497376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14"/>
          <p:cNvGrpSpPr/>
          <p:nvPr/>
        </p:nvGrpSpPr>
        <p:grpSpPr>
          <a:xfrm>
            <a:off x="2700360" y="1001880"/>
            <a:ext cx="6132240" cy="2051640"/>
            <a:chOff x="2700360" y="1001880"/>
            <a:chExt cx="6132240" cy="2051640"/>
          </a:xfrm>
        </p:grpSpPr>
        <p:sp>
          <p:nvSpPr>
            <p:cNvPr id="300" name="Left-Right Arrow 11"/>
            <p:cNvSpPr/>
            <p:nvPr/>
          </p:nvSpPr>
          <p:spPr>
            <a:xfrm>
              <a:off x="2700360" y="1045080"/>
              <a:ext cx="1857600" cy="435240"/>
            </a:xfrm>
            <a:prstGeom prst="leftRightArrow">
              <a:avLst>
                <a:gd name="adj1" fmla="val 50000"/>
                <a:gd name="adj2" fmla="val 50010"/>
              </a:avLst>
            </a:prstGeom>
            <a:solidFill>
              <a:srgbClr val="ff0000">
                <a:alpha val="47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2"/>
            <p:cNvSpPr/>
            <p:nvPr/>
          </p:nvSpPr>
          <p:spPr>
            <a:xfrm>
              <a:off x="4893840" y="1001880"/>
              <a:ext cx="3938760" cy="2051640"/>
            </a:xfrm>
            <a:prstGeom prst="rect">
              <a:avLst/>
            </a:prstGeom>
            <a:solidFill>
              <a:srgbClr val="d9d9d9"/>
            </a:solidFill>
            <a:ln w="1260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fferent metrics and assump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llow the CO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emissions pea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e delayed by almost 15 ye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ut most of the delay comes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fferent assumptions; metr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ave a smaller influ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17"/>
          <p:cNvSpPr/>
          <p:nvPr/>
        </p:nvSpPr>
        <p:spPr>
          <a:xfrm>
            <a:off x="1616040" y="4411800"/>
            <a:ext cx="7029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athways shown result in radiative forcing of 450ppm CO2-eq in 2100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the timing of 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tigation differs due to metrics and other assum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A255-2784-4117-82CB-059E278D61C6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EFA2-0081-409B-BEB7-136E1795C5BB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itle 1"/>
          <p:cNvSpPr/>
          <p:nvPr/>
        </p:nvSpPr>
        <p:spPr>
          <a:xfrm>
            <a:off x="546120" y="10332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74200" y="82980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WPs are not the most cost-effective metric to compare GHGs</a:t>
            </a:r>
            <a:br>
              <a:rPr sz="2200"/>
            </a:br>
            <a:r>
              <a:rPr b="0" i="1" lang="en-US" sz="2400" spc="-1" strike="noStrike">
                <a:solidFill>
                  <a:srgbClr val="42611b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the main goal is to limit long-term radiative forcing in 2100, and to do so via cost-minimising global abatement path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xed 100-year GTPs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are even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les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cost-effective (+ 5 to 10%)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me-dependent GTPs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would be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more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cost-effective (- 4 to 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st implications of alternative metrics: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smaller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than alternative assumptions about future agricultural mitigation potential, and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much smaller</a:t>
            </a:r>
            <a:r>
              <a:rPr b="0" i="1" lang="en-US" sz="20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than choices of long-term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ther policy goals: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different equivalent metrics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do not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result in equivalent  other environmental outcomes – but differences are again smaller than those arising from other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gional implications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regional effect of metrics on production systems and land-use change – see second presentation plea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CBE0-AFA2-4B55-AB43-549260065B25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E8B7-CDDC-4414-804A-74C8A38A33C3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546120" y="32076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stions to the policy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4200" y="1090440"/>
            <a:ext cx="8075880" cy="43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important is it for the policy process to have a metric that is optimal for a particular policy goal but, almost by definition, will do a poorer job for other policy goal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sustainable is the implementation of a metric that implies escalating cost of CH</a:t>
            </a:r>
            <a:r>
              <a:rPr b="0" i="1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 emissions globall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are the social/policy benefits and costs of continuously updating a metric to achieve optimality (however defined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Are tests of metrics useful that assume full global and sectoral participation at full price level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What are the implications of different metrics for </a:t>
            </a:r>
            <a:br>
              <a:rPr sz="2200"/>
            </a:b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regional and sectoral engagement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to climate chan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a nutshel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4560" y="1335240"/>
            <a:ext cx="82504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398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611b"/>
                </a:solidFill>
                <a:latin typeface="Arial"/>
              </a:rPr>
              <a:t>100-year GWPs are not a cost-effective way of comparing GHGs if the main policy goal is to limit long-term climate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611b"/>
                </a:solidFill>
                <a:latin typeface="Arial"/>
              </a:rPr>
              <a:t>Few studies have explored the cost and climate policy implications if other physically-based metrics were to replace GW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Determine the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global cost-effectivenes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of different metrics for the </a:t>
            </a:r>
            <a:r>
              <a:rPr b="1" i="1" lang="en-US" sz="2200" spc="-1" strike="noStrike">
                <a:solidFill>
                  <a:srgbClr val="42611b"/>
                </a:solidFill>
                <a:latin typeface="Arial"/>
              </a:rPr>
              <a:t>main policy goal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of limiting radiative forcing in 2100 to 450 or 550ppm CO</a:t>
            </a:r>
            <a:r>
              <a:rPr b="1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-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Evaluate influence of metrics on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additional policy goal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2611b"/>
                </a:solidFill>
                <a:latin typeface="Arial"/>
              </a:rPr>
              <a:t>(realised warming, GDP, timing of CO</a:t>
            </a:r>
            <a:r>
              <a:rPr b="1" i="1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42611b"/>
                </a:solidFill>
                <a:latin typeface="Arial"/>
              </a:rPr>
              <a:t> emissions pea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2FEC-48CC-4FA7-91B1-7DC66B55F8FE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A491-F1B8-422F-A63B-286A3EB9D52E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33360" y="1174680"/>
            <a:ext cx="8578800" cy="448632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6FF0-9D2B-4F28-A784-A70C5816201D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8930-876B-4736-8BC3-EDE4A8F7C810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3080" y="43920"/>
            <a:ext cx="7916760" cy="13352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aluated alternative metrics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WPs, fixed and time-dependent GT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2015640" y="1552680"/>
            <a:ext cx="502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560" y="112320"/>
            <a:ext cx="85694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itivity tests: technology/policy 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4560" y="1045800"/>
            <a:ext cx="82504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Assumed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policy goal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is to limit radiative forcing in 2100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450 ppm 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-eq (~2.7 Wm</a:t>
            </a:r>
            <a:r>
              <a:rPr b="0" lang="en-US" sz="2000" spc="-1" strike="noStrike" baseline="30000">
                <a:solidFill>
                  <a:srgbClr val="42611b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550 ppm 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-eq (~3.8 Wm</a:t>
            </a:r>
            <a:r>
              <a:rPr b="0" lang="en-US" sz="2000" spc="-1" strike="noStrike" baseline="30000">
                <a:solidFill>
                  <a:srgbClr val="42611b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ate of improvement of agricultural mitigation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No improvement / rapid impr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dditional technology from 2030 or 2070 to mitigate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from enteric fer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Policy treatment of agricultural GHG e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ully included in global mitigation efforts /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ully excluded / excluded until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Use integrated assessment model MESSAGE to determine cost-minimising abatement pathways over 21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9509-B296-4678-935C-3C01F0DCD450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7B7D-F0F3-4B07-8AD5-A8196959E78D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1DC7-6B01-420A-BF81-F7FCEE61BB20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3DF2-B49A-4F2F-B2AA-CEDFE56CE735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460440" y="900000"/>
            <a:ext cx="8112240" cy="48196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3360" y="58320"/>
            <a:ext cx="8564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ative forcing paths – all metrics/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B8C2-2B86-46C8-8128-73CEB0DA830B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499A-628B-4BF8-A5FB-CF072FF6FB6C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01520" y="1204920"/>
            <a:ext cx="8955000" cy="4448160"/>
          </a:xfrm>
          <a:prstGeom prst="rect">
            <a:avLst/>
          </a:prstGeom>
          <a:ln w="0">
            <a:noFill/>
          </a:ln>
        </p:spPr>
      </p:pic>
      <p:sp>
        <p:nvSpPr>
          <p:cNvPr id="232" name="Title 1"/>
          <p:cNvSpPr/>
          <p:nvPr/>
        </p:nvSpPr>
        <p:spPr>
          <a:xfrm>
            <a:off x="333360" y="58680"/>
            <a:ext cx="8564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– all metrics/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0652-8CD1-4807-917D-F7EA58A3E7E5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3866-2EF6-4D40-A8A5-A0A72A8C820F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233280" y="527040"/>
            <a:ext cx="7202520" cy="5226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233280" y="527040"/>
            <a:ext cx="7202520" cy="52261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1"/>
          <p:cNvSpPr/>
          <p:nvPr/>
        </p:nvSpPr>
        <p:spPr>
          <a:xfrm>
            <a:off x="5799240" y="1670040"/>
            <a:ext cx="308088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fixed 100-year GTPs: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less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ime-dependent GTPs: 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less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 initially, 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more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 by 2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33360" y="58320"/>
            <a:ext cx="8564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– detailed ex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F30C-DAF5-4EF3-BE25-86925FEF6225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itle 1"/>
          <p:cNvSpPr/>
          <p:nvPr/>
        </p:nvSpPr>
        <p:spPr>
          <a:xfrm>
            <a:off x="3786120" y="109440"/>
            <a:ext cx="3592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SSAGE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09440" y="155520"/>
            <a:ext cx="7410600" cy="66232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0"/>
          <p:cNvSpPr/>
          <p:nvPr/>
        </p:nvSpPr>
        <p:spPr>
          <a:xfrm>
            <a:off x="7143840" y="15541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0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1"/>
          <p:cNvSpPr/>
          <p:nvPr/>
        </p:nvSpPr>
        <p:spPr>
          <a:xfrm>
            <a:off x="7095960" y="39528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0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itle 1"/>
          <p:cNvSpPr/>
          <p:nvPr/>
        </p:nvSpPr>
        <p:spPr>
          <a:xfrm>
            <a:off x="3044880" y="109440"/>
            <a:ext cx="30542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 ne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307520" y="2475000"/>
            <a:ext cx="65005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mitigation determines ‘atmospheric space’ for C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emissions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nd hence total mitigation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4754520" y="914400"/>
            <a:ext cx="126216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4641840" y="3452760"/>
            <a:ext cx="126216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5843520" y="0"/>
            <a:ext cx="1193760" cy="24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6022800" y="2898720"/>
            <a:ext cx="1109880" cy="20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1335240" y="6026040"/>
            <a:ext cx="565920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1378080" y="6351480"/>
            <a:ext cx="5659200" cy="3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B432-32AF-4E34-B5C2-7CD5F1A6B753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1"/>
          <a:stretch/>
        </p:blipFill>
        <p:spPr>
          <a:xfrm>
            <a:off x="174600" y="363600"/>
            <a:ext cx="8707320" cy="626904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9"/>
          <p:cNvGrpSpPr/>
          <p:nvPr/>
        </p:nvGrpSpPr>
        <p:grpSpPr>
          <a:xfrm>
            <a:off x="5121360" y="171360"/>
            <a:ext cx="4022640" cy="4556160"/>
            <a:chOff x="5121360" y="171360"/>
            <a:chExt cx="4022640" cy="4556160"/>
          </a:xfrm>
        </p:grpSpPr>
        <p:sp>
          <p:nvSpPr>
            <p:cNvPr id="262" name="Rectangle 5"/>
            <p:cNvSpPr/>
            <p:nvPr/>
          </p:nvSpPr>
          <p:spPr>
            <a:xfrm>
              <a:off x="5121360" y="914760"/>
              <a:ext cx="4022640" cy="38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608800" y="171360"/>
              <a:ext cx="3535200" cy="9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10"/>
          <p:cNvSpPr/>
          <p:nvPr/>
        </p:nvSpPr>
        <p:spPr>
          <a:xfrm>
            <a:off x="1581120" y="3786120"/>
            <a:ext cx="3657600" cy="1833840"/>
          </a:xfrm>
          <a:prstGeom prst="rect">
            <a:avLst/>
          </a:prstGeom>
          <a:solidFill>
            <a:srgbClr val="7f7f7f">
              <a:alpha val="8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discounted net present value mitigation costs (2010-2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for 550pp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eq stabi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4:12:39Z</dcterms:created>
  <dc:creator>Andy Reisinger</dc:creator>
  <dc:description/>
  <dc:language>en-US</dc:language>
  <cp:lastModifiedBy>Andy Reisinger</cp:lastModifiedBy>
  <dcterms:modified xsi:type="dcterms:W3CDTF">2012-04-02T07:19:52Z</dcterms:modified>
  <cp:revision>159</cp:revision>
  <dc:subject/>
  <dc:title>Mitigating Greenhouse Gas Emissions</dc:title>
</cp:coreProperties>
</file>