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03C1-DCEB-404C-9B0B-E1EA57F1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871-EAED-4F24-803E-CCB92E18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8240-2EB8-48C6-9A76-8B7B7F53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9EAA-F0F8-41BA-BA01-8F0D264D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07B9-7E42-43BD-BC4C-5F663121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41F5-4232-432E-96B0-E2BC32ED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4E4F-5F8D-44D3-88DD-CA98E5DB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73B0-EFE5-40B1-9554-722DDAFE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0C94-DD50-4CD9-80D8-A03C8E05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48A7-0AAA-4BF1-91A0-B0E6B37F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88F3-DAC2-43BA-8E1E-D44A74C3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920-4EBE-4C5B-B4AF-BACC2939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7BBF-11EC-4F1B-A666-97E45E72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C27E-608E-4785-80FE-F06CF1C4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6BF5-2BF1-442E-AFCC-8BA1AEF4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B3EA-EF65-4CF3-8090-95B11C53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56A4-8C81-4726-920F-B4F35E35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BF01D-5E85-4F23-B91E-42408E6D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EB652-3DD8-495A-B95A-616A8FA1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A5447-F236-4271-A71A-44901A82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548EB-D3DA-4AAB-8569-9660BBD9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F5027-3D9A-4670-AFF2-E61D3B8C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A8E-26A8-4F35-BE22-8D0AF6D9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1E9C5-DC2A-48B6-90D8-B2232457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0E462-420C-4B62-A9BA-D654FA9F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AB016-798D-4312-BF43-A9F98A14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0CCC2-A4E5-47FB-9858-D495571B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7E068-9966-4AAB-8197-0850F0E7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908B6-7B5B-4428-89D4-5A966027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87F49-2BE4-4C5A-BBEE-A90090A8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A6C63-E029-46BA-81E3-E1CC9742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47F89-62A8-411B-B8BF-CCE950E8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CBC28-4625-44F8-B5B8-19DDD8F7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CBF8-4D0D-426A-B559-817D6217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E6F62-F6B3-41CC-8FFF-B2979572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5FFD7-5728-4A4E-8CE5-CA48345D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22BBE-8D38-4F5D-8031-08BB6EBC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A3C89-06F8-474E-9747-D47A5715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948DB-1DFB-49F4-86A3-EE72FC71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E835E-7812-4D3D-B168-FF55A0FF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CD5ED-AD13-47F6-B24A-5D93C356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3FC7D-C486-4282-B901-65EAD97D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16D23-17E2-4759-B2B0-6FB89FF1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F04-2624-4B7F-8010-717D3712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6008-7CEA-422E-82B7-6C03B991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2539-25BE-41FC-9237-DA5F7D49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FC5-18A6-4D7D-8BB3-88377240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1810-E795-4A35-82A2-3157181C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4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B471-E19E-47D0-BC47-DE9F2B773649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0C44-A753-4004-A7BF-F81035D634EA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4"/>
          <p:cNvSpPr>
            <a:spLocks noGrp="1"/>
          </p:cNvSpPr>
          <p:nvPr>
            <p:ph type="dt" idx="5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DC02-058C-479A-A1F0-0F3BCB8C4FE9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BAAE-F45D-4A77-ACB2-872F3BDE8C71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99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7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8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D084-116A-4D1D-AC07-5315B0853DC0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7820-3817-40DC-AF45-D5FFC8613657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10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dt" idx="11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BFC9-5118-48B3-8570-44DED6EF9466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DB48-DC0E-4F71-8718-512B5627E24F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60040" y="680760"/>
            <a:ext cx="77900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st-effectiveness and implications of GWPs and GTPs under alternative policy goa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85600" y="3366720"/>
            <a:ext cx="7546680" cy="24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b1b4"/>
                </a:solidFill>
                <a:latin typeface="Arial"/>
              </a:rPr>
              <a:t>Andy Reisinger</a:t>
            </a:r>
            <a:r>
              <a:rPr b="0" lang="en-US" sz="2400" spc="-1" strike="noStrike" baseline="30000">
                <a:solidFill>
                  <a:srgbClr val="afb1b4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afb1b4"/>
                </a:solidFill>
                <a:latin typeface="Arial"/>
              </a:rPr>
              <a:t> Keywan Riahi</a:t>
            </a:r>
            <a:r>
              <a:rPr b="0" lang="en-US" sz="24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afb1b4"/>
                </a:solidFill>
                <a:latin typeface="Arial"/>
              </a:rPr>
              <a:t>Oscar van Vliet</a:t>
            </a:r>
            <a:r>
              <a:rPr b="0" lang="en-US" sz="24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New Zealand Agricultural Greenhouse Gas Researc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International Institute for Applied Systems Analysis (II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Manuscript submitted to </a:t>
            </a:r>
            <a:r>
              <a:rPr b="0" lang="en-US" sz="1800" spc="-1" strike="noStrike">
                <a:solidFill>
                  <a:srgbClr val="afb1b4"/>
                </a:solidFill>
                <a:latin typeface="Arial"/>
              </a:rPr>
              <a:t>Climatic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Work funded by </a:t>
            </a:r>
            <a:r>
              <a:rPr b="0" lang="en-US" sz="1800" spc="-1" strike="noStrike">
                <a:solidFill>
                  <a:srgbClr val="afb1b4"/>
                </a:solidFill>
                <a:latin typeface="Arial"/>
              </a:rPr>
              <a:t>NZ Ministry of Agriculture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afb1b4"/>
                </a:solidFill>
                <a:latin typeface="Arial"/>
              </a:rPr>
              <a:t>various EU-FP7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2BF6-9971-4272-A7C1-4073E1E98C9A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BE11-8FB4-481B-9BFB-10FA5D7F4DA5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2400" y="248760"/>
            <a:ext cx="79167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lobal cost-effectiveness of metric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10840" y="1222200"/>
            <a:ext cx="8250120" cy="42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Fixed GTP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esult in higher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prices and higher total mitigation costs than GWPs, but lower prices/costs on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Time-dependent GTP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(focusing on year 2100) result in lower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prices and lower total mitigation costs than GWPs; prices and costs for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re lower initially but (much) higher 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Assumptions about agriculture mitigation potential</a:t>
            </a:r>
            <a:br>
              <a:rPr sz="2200"/>
            </a:b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have a </a:t>
            </a:r>
            <a:r>
              <a:rPr b="0" i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larger effect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on global costs than alternative metr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Different long-term stabilisation target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have a </a:t>
            </a:r>
            <a:r>
              <a:rPr b="0" i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much larger</a:t>
            </a: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effect than alternative metr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Excluding agriculture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lobally is by far the most costly ‘metri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E627-C405-4C45-B488-3B4719791A55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5D1E-F3A4-4C5B-9190-2DFFF5E3277B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82400" y="248760"/>
            <a:ext cx="79167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about other relevant policy goals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10840" y="1294920"/>
            <a:ext cx="8250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Realised amount of warming and oversh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GDP imp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Timing of cost-effective CO</a:t>
            </a:r>
            <a:r>
              <a:rPr b="1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emissions pe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Regional im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5ECC-97B1-44AA-B403-BE3F1201457B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AE9A-EE54-426F-9F5E-D575A16A4124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312840" y="754200"/>
            <a:ext cx="8753400" cy="4951440"/>
          </a:xfrm>
          <a:prstGeom prst="rect">
            <a:avLst/>
          </a:prstGeom>
          <a:ln w="0">
            <a:noFill/>
          </a:ln>
        </p:spPr>
      </p:pic>
      <p:sp>
        <p:nvSpPr>
          <p:cNvPr id="27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0FD5-EAAE-49FB-957F-570896296A0E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9B5A-22EC-4410-9DE2-A04A46D1B886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itle 1"/>
          <p:cNvSpPr/>
          <p:nvPr/>
        </p:nvSpPr>
        <p:spPr>
          <a:xfrm>
            <a:off x="798480" y="-28440"/>
            <a:ext cx="8562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ised warming – rate and 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1"/>
          <p:cNvSpPr/>
          <p:nvPr/>
        </p:nvSpPr>
        <p:spPr>
          <a:xfrm>
            <a:off x="1741320" y="1015920"/>
            <a:ext cx="2365560" cy="2562840"/>
          </a:xfrm>
          <a:prstGeom prst="rect">
            <a:avLst/>
          </a:prstGeom>
          <a:solidFill>
            <a:srgbClr val="d9d9d9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ak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2-2.25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te (2020-2050)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-0.26°C / de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st of the differences are due to alternative assumptions, not alternativ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219240" y="0"/>
            <a:ext cx="8705520" cy="5727600"/>
          </a:xfrm>
          <a:prstGeom prst="rect">
            <a:avLst/>
          </a:prstGeom>
          <a:ln w="0">
            <a:noFill/>
          </a:ln>
        </p:spPr>
      </p:pic>
      <p:sp>
        <p:nvSpPr>
          <p:cNvPr id="284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E16D-DEEA-445A-813E-4886A88FAA5D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269C-6466-4F72-BD13-5392F01903C8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itle 1"/>
          <p:cNvSpPr/>
          <p:nvPr/>
        </p:nvSpPr>
        <p:spPr>
          <a:xfrm>
            <a:off x="798480" y="-28440"/>
            <a:ext cx="8562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DP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4746600" y="3454560"/>
            <a:ext cx="3917880" cy="1191240"/>
          </a:xfrm>
          <a:prstGeom prst="rect">
            <a:avLst/>
          </a:prstGeom>
          <a:solidFill>
            <a:srgbClr val="d9d9d9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ime-dependent GTPs result in lower aggregate costs, bu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eater GDP losses relative to BAU towards 2100 than GW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E534-91F8-495B-8633-B79EE8EFD545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0332-633F-4819-8F7F-65952FD786A1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798480" y="-28440"/>
            <a:ext cx="8562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ing of cost-effective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issions 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200160" y="712800"/>
            <a:ext cx="8697600" cy="497376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14"/>
          <p:cNvGrpSpPr/>
          <p:nvPr/>
        </p:nvGrpSpPr>
        <p:grpSpPr>
          <a:xfrm>
            <a:off x="2700360" y="1001880"/>
            <a:ext cx="6132240" cy="2051640"/>
            <a:chOff x="2700360" y="1001880"/>
            <a:chExt cx="6132240" cy="2051640"/>
          </a:xfrm>
        </p:grpSpPr>
        <p:sp>
          <p:nvSpPr>
            <p:cNvPr id="300" name="Left-Right Arrow 11"/>
            <p:cNvSpPr/>
            <p:nvPr/>
          </p:nvSpPr>
          <p:spPr>
            <a:xfrm>
              <a:off x="2700360" y="1045080"/>
              <a:ext cx="1857600" cy="435240"/>
            </a:xfrm>
            <a:prstGeom prst="leftRightArrow">
              <a:avLst>
                <a:gd name="adj1" fmla="val 50000"/>
                <a:gd name="adj2" fmla="val 50010"/>
              </a:avLst>
            </a:prstGeom>
            <a:solidFill>
              <a:srgbClr val="ff0000">
                <a:alpha val="47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2"/>
            <p:cNvSpPr/>
            <p:nvPr/>
          </p:nvSpPr>
          <p:spPr>
            <a:xfrm>
              <a:off x="4893840" y="1001880"/>
              <a:ext cx="3938760" cy="2051640"/>
            </a:xfrm>
            <a:prstGeom prst="rect">
              <a:avLst/>
            </a:prstGeom>
            <a:solidFill>
              <a:srgbClr val="d9d9d9"/>
            </a:solidFill>
            <a:ln w="1260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ifferent metrics and assump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llow the CO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emissions pea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e delayed by almost 15 ye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ut most of the delay comes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ifferent assumptions; metr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ave a smaller influ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17"/>
          <p:cNvSpPr/>
          <p:nvPr/>
        </p:nvSpPr>
        <p:spPr>
          <a:xfrm>
            <a:off x="1616040" y="4411800"/>
            <a:ext cx="7029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athways shown result in radiative forcing of 450ppm CO2-eq in 2100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the timing of 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tigation differs due to metrics and other assum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E3EB-B26B-4A6C-AD15-DE265F112428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ADA3-F338-4338-9F44-D8D8ECB2DB92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itle 1"/>
          <p:cNvSpPr/>
          <p:nvPr/>
        </p:nvSpPr>
        <p:spPr>
          <a:xfrm>
            <a:off x="546120" y="103320"/>
            <a:ext cx="78818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74200" y="82980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WPs are not the most cost-effective metric to compare GHGs</a:t>
            </a:r>
            <a:br>
              <a:rPr sz="2200"/>
            </a:br>
            <a:r>
              <a:rPr b="0" i="1" lang="en-US" sz="2400" spc="-1" strike="noStrike">
                <a:solidFill>
                  <a:srgbClr val="42611b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the main goal is to limit long-term radiative forcing in 2100, and to do so via cost-minimising global abatement path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xed 100-year GTPs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are even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less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cost-effective (+ 5 to 10%)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me-dependent GTPs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would be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more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cost-effective (- 4 to 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st implications of alternative metrics: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smaller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than alternative assumptions about future agricultural mitigation potential, and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much smaller</a:t>
            </a:r>
            <a:r>
              <a:rPr b="0" i="1" lang="en-US" sz="20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than choices of long-term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ther policy goals: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different equivalent metrics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do not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result in equivalent  other environmental outcomes – but differences are again smaller than those arising from other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gional implications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regional effect of metrics on production systems and land-use change – see second presentation plea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8491-2898-4978-BE0B-2BC67197FBD4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28D3-1404-449A-9E31-C9448384BF19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546120" y="320760"/>
            <a:ext cx="7881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stions to the policy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74200" y="1090440"/>
            <a:ext cx="8075880" cy="43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How important is it for the policy process to have a metric that is optimal for a particular policy goal but, almost by definition, will do a poorer job for other policy goal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How sustainable is the implementation of a metric that implies escalating cost of CH</a:t>
            </a:r>
            <a:r>
              <a:rPr b="0" i="1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 emissions globall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What are the social/policy benefits and costs of continuously updating a metric to achieve optimality (however defined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Are tests of metrics useful that assume full global and sectoral participation at full price level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What are the implications of different metrics for </a:t>
            </a:r>
            <a:br>
              <a:rPr sz="2200"/>
            </a:b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regional and sectoral engagement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to climate chan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a nutshel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4560" y="1335240"/>
            <a:ext cx="82504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398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611b"/>
                </a:solidFill>
                <a:latin typeface="Arial"/>
              </a:rPr>
              <a:t>100-year GWPs are not a cost-effective way of comparing GHGs if the main policy goal is to limit long-term climate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611b"/>
                </a:solidFill>
                <a:latin typeface="Arial"/>
              </a:rPr>
              <a:t>Few studies have explored the cost and climate policy implications if other physically-based metrics were to replace GW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Determine the </a:t>
            </a: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global cost-effectivenes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of different metrics for the </a:t>
            </a:r>
            <a:r>
              <a:rPr b="1" i="1" lang="en-US" sz="2200" spc="-1" strike="noStrike">
                <a:solidFill>
                  <a:srgbClr val="42611b"/>
                </a:solidFill>
                <a:latin typeface="Arial"/>
              </a:rPr>
              <a:t>main policy goal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of limiting radiative forcing in 2100 to 450 or 550ppm CO</a:t>
            </a:r>
            <a:r>
              <a:rPr b="1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-equiv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Evaluate influence of metrics on </a:t>
            </a: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additional policy goal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2611b"/>
                </a:solidFill>
                <a:latin typeface="Arial"/>
              </a:rPr>
              <a:t>(realised warming, GDP, timing of CO</a:t>
            </a:r>
            <a:r>
              <a:rPr b="1" i="1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42611b"/>
                </a:solidFill>
                <a:latin typeface="Arial"/>
              </a:rPr>
              <a:t> emissions pea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BBC8-C468-4B37-AA77-B6F2B67A57CC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7851-CE4E-42F0-91C6-14D5AFA7CD84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333360" y="1174680"/>
            <a:ext cx="8578800" cy="448632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EDC8-DA91-4F26-BD65-AA9742E35F68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CDAA-84FF-43B5-AE71-CD19F6FFB6FA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3080" y="43920"/>
            <a:ext cx="7916760" cy="13352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aluated alternative metrics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WPs, fixed and time-dependent GT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2015640" y="1552680"/>
            <a:ext cx="502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560" y="112320"/>
            <a:ext cx="85694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itivity tests: technology/policy assum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4560" y="1045800"/>
            <a:ext cx="82504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25160" indent="-425160"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Assumed </a:t>
            </a: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policy goal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is to limit radiative forcing in 2100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450 ppm CO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-eq (~2.7 Wm</a:t>
            </a:r>
            <a:r>
              <a:rPr b="0" lang="en-US" sz="2000" spc="-1" strike="noStrike" baseline="30000">
                <a:solidFill>
                  <a:srgbClr val="42611b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550 ppm CO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-eq (~3.8 Wm</a:t>
            </a:r>
            <a:r>
              <a:rPr b="0" lang="en-US" sz="2000" spc="-1" strike="noStrike" baseline="30000">
                <a:solidFill>
                  <a:srgbClr val="42611b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Rate of improvement of agricultural mitigation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No improvement / rapid impr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Additional technology from 2030 or 2070 to mitigate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from enteric fer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Policy treatment of agricultural GHG e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Fully included in global mitigation efforts /</a:t>
            </a:r>
            <a:br>
              <a:rPr sz="2200"/>
            </a:b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fully excluded / excluded until 20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Use integrated assessment model MESSAGE to determine cost-minimising abatement pathways over 21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cent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FCF4-A78A-490A-8FD1-330964E7353F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2D7F-7262-4C6E-B332-8D59A547E2A6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E678-7356-4B32-AC33-D56F257321A9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24A9-011A-456A-B719-08EDFEEE4F6F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460440" y="900000"/>
            <a:ext cx="8112240" cy="48196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3360" y="58320"/>
            <a:ext cx="8564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ative forcing paths – all metrics/assum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C110-259F-48D2-A3C1-9254E034FB7F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7A23-8FB3-4E25-BB6B-60195FDFCAC1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01520" y="1204920"/>
            <a:ext cx="8955000" cy="4448160"/>
          </a:xfrm>
          <a:prstGeom prst="rect">
            <a:avLst/>
          </a:prstGeom>
          <a:ln w="0">
            <a:noFill/>
          </a:ln>
        </p:spPr>
      </p:pic>
      <p:sp>
        <p:nvSpPr>
          <p:cNvPr id="232" name="Title 1"/>
          <p:cNvSpPr/>
          <p:nvPr/>
        </p:nvSpPr>
        <p:spPr>
          <a:xfrm>
            <a:off x="333360" y="58680"/>
            <a:ext cx="8564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issions – all metrics/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E95F-7634-49C8-BE37-54462339FEE6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E0C7-26F1-459E-B7BA-80A6FAEDDA68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233280" y="527040"/>
            <a:ext cx="7202520" cy="52261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233280" y="527040"/>
            <a:ext cx="7202520" cy="52261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1"/>
          <p:cNvSpPr/>
          <p:nvPr/>
        </p:nvSpPr>
        <p:spPr>
          <a:xfrm>
            <a:off x="5799240" y="1670040"/>
            <a:ext cx="308088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fixed 100-year GTPs: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less CH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mi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ime-dependent GTPs: 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less CH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mitigation initially, 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more CH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mitigation by 2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33360" y="58320"/>
            <a:ext cx="8564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issions – detailed exam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577800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lobal agricultural C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emission pathwa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C819-752F-40FF-BA52-95E624F16779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itle 1"/>
          <p:cNvSpPr/>
          <p:nvPr/>
        </p:nvSpPr>
        <p:spPr>
          <a:xfrm>
            <a:off x="3786120" y="109440"/>
            <a:ext cx="3592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SSAGE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09440" y="155520"/>
            <a:ext cx="7410600" cy="66232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20"/>
          <p:cNvSpPr/>
          <p:nvPr/>
        </p:nvSpPr>
        <p:spPr>
          <a:xfrm>
            <a:off x="7143840" y="15541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0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1"/>
          <p:cNvSpPr/>
          <p:nvPr/>
        </p:nvSpPr>
        <p:spPr>
          <a:xfrm>
            <a:off x="7095960" y="395280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0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itle 1"/>
          <p:cNvSpPr/>
          <p:nvPr/>
        </p:nvSpPr>
        <p:spPr>
          <a:xfrm>
            <a:off x="3044880" y="109440"/>
            <a:ext cx="30542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bal ne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307520" y="2475000"/>
            <a:ext cx="65005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mitigation determines ‘atmospheric space’ for C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emissions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nd hence total mitigation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4754520" y="914400"/>
            <a:ext cx="126216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4641840" y="3452760"/>
            <a:ext cx="126216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5843520" y="0"/>
            <a:ext cx="1193760" cy="24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6022800" y="2898720"/>
            <a:ext cx="1109880" cy="20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1335240" y="6026040"/>
            <a:ext cx="565920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1378080" y="6351480"/>
            <a:ext cx="5659200" cy="3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577800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lobal agricultural C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emission pathwa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C141-C5F5-4100-A27B-5629CA15D1E6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1"/>
          <a:stretch/>
        </p:blipFill>
        <p:spPr>
          <a:xfrm>
            <a:off x="174600" y="363600"/>
            <a:ext cx="8707320" cy="626904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9"/>
          <p:cNvGrpSpPr/>
          <p:nvPr/>
        </p:nvGrpSpPr>
        <p:grpSpPr>
          <a:xfrm>
            <a:off x="5121360" y="171360"/>
            <a:ext cx="4022640" cy="4556160"/>
            <a:chOff x="5121360" y="171360"/>
            <a:chExt cx="4022640" cy="4556160"/>
          </a:xfrm>
        </p:grpSpPr>
        <p:sp>
          <p:nvSpPr>
            <p:cNvPr id="262" name="Rectangle 5"/>
            <p:cNvSpPr/>
            <p:nvPr/>
          </p:nvSpPr>
          <p:spPr>
            <a:xfrm>
              <a:off x="5121360" y="914760"/>
              <a:ext cx="4022640" cy="38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608800" y="171360"/>
              <a:ext cx="3535200" cy="9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Box 10"/>
          <p:cNvSpPr/>
          <p:nvPr/>
        </p:nvSpPr>
        <p:spPr>
          <a:xfrm>
            <a:off x="1581120" y="3786120"/>
            <a:ext cx="3657600" cy="1833840"/>
          </a:xfrm>
          <a:prstGeom prst="rect">
            <a:avLst/>
          </a:prstGeom>
          <a:solidFill>
            <a:srgbClr val="7f7f7f">
              <a:alpha val="8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discounted net present value mitigation costs (2010-2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for 550pp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eq stabi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4:12:39Z</dcterms:created>
  <dc:creator>Andy Reisinger</dc:creator>
  <dc:description/>
  <dc:language>en-US</dc:language>
  <cp:lastModifiedBy>Andy Reisinger</cp:lastModifiedBy>
  <dcterms:modified xsi:type="dcterms:W3CDTF">2012-04-02T07:19:52Z</dcterms:modified>
  <cp:revision>159</cp:revision>
  <dc:subject/>
  <dc:title>Mitigating Greenhouse Gas Emissions</dc:title>
</cp:coreProperties>
</file>