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5A8-3A8B-4768-B29F-82D9A2B6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D60-DA62-45A7-8301-6426D8DA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4DB-8691-460E-955A-1DE975B3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33F-D6AA-4D10-AA10-7A038E9A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39E6-83B7-4FC2-AE7C-E17DC68E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7B7B-80E0-44B8-A795-B65A99BA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2FDE-BE15-4AA8-8EF7-0B8AA702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098D-7DFC-4A01-8876-E1CD1F1A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CF4B-96BB-4827-A546-F06EE4C7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7EBE-D862-4330-A38A-3F73758F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911C-6B72-4F05-A3E2-50470EC2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49D-EDFC-4E5D-A6F8-E852EA93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2015-2B27-4454-9EDB-90699866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6A64-A312-418F-BA26-32DEF44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9D0F-93C2-4DCB-8C75-F668DF5D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783A-06C2-4887-A748-631E8D17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00C8-52D4-4E41-A91C-7334C2D4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2733-8D52-4D47-8267-DD9A4CAE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8904-63CD-4C9A-BFB4-29EFB9FB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36C87-BCAB-4FF0-A577-A1045CFB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B571-16B5-4A12-B09B-7F03B39F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21A47-09B8-4646-9C41-68CDAFD1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3EC-E29F-4A6B-B962-84FDF030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C924-C412-44C5-A504-B137022B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1D2C6-45BA-4567-8BF4-03B8C1D0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0476-7A4D-452C-B11D-C5972FAC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3DED9-B9A1-4C83-90F2-2B3906B9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7ACC-ED8A-4715-8E67-730B6296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CF14-8B1F-4FB2-A1B5-0B412903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54F48-8174-4A5C-8BB1-DD2262B1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A433-3296-435C-A820-1EA1273A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83779-A323-4948-A72D-F7F2E975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844A7-D69B-43D2-ABEA-3520C101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A21-F6B7-491E-A57D-6EEE82CB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69188-3346-4D4D-AC1B-3EB92F11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F6338-3082-474A-A83F-49969F3B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8FF9-AA78-4326-8FD3-518D8F48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0BEA2-AF4A-4660-810E-E39B1DF1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AEF3-269B-403A-8ABA-767D41A8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DBEED-70C4-47F6-B693-9077C02A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D5F6F-7BC0-4308-9B52-8B08F41D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3F75-0E59-42FA-B9D2-AE991B28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3E8AA-4059-4963-B7A1-3EC52104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997-C073-4884-A3BC-886607B5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E90-57BA-4A55-B5A6-A0F164D3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5E6-A527-4CC6-9910-03F91FF9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89C-0C0E-4C45-AC22-E23752A1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62F-CF0E-463B-9AC7-60146A4D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0883-98A6-40DF-8698-806A217F668D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E28D-C716-4644-AABA-4CB395716AA8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413E-4666-4F68-A064-4C7089AA562E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D39F-F4DE-4D8C-B07C-459970DA7BF9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7235-923B-48DC-9099-BE2021C7649E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72D1-CA6E-43CB-BEAF-DEF38665BB7F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0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11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95FC-16A9-4D27-9991-AB421AD5467B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8322-5ABF-4935-8E95-94422813CA41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60040" y="680760"/>
            <a:ext cx="77900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effectiveness and implications of GWPs and GTPs under alternative policy goa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85600" y="3366720"/>
            <a:ext cx="75466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 Keywan Riahi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Oscar van Vliet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Manuscript submitted to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Climatic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Work funded by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NZ Ministry of Agriculture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various EU-FP7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F6A4-3E7A-4474-9EDA-857A6D486422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9745-EEF5-4BC7-AA43-CCC9C374F269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lobal cost-effectiveness of metr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10840" y="1222200"/>
            <a:ext cx="8250120" cy="42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Fixed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high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higher total mitigation costs than GWPs, but lower prices/costs on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Time-dependent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(focusing on year 2100) result in low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lower total mitigation costs than GWPs; prices and costs for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re lower initially but (much) higher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ssumptions about agriculture mitigation potential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larger effect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on global costs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Different long-term stabilisation target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much larger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ffect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Excluding agriculture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ly is by far the most costly ‘metri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1570-EBDF-47D8-85CD-A88B294011C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BE14-AC62-4481-BEFD-B96C900D2653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relevant policy goal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0840" y="1294920"/>
            <a:ext cx="8250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alised amount of warming and oversh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DP 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Timing of cost-effective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emissions p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gional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2236-2BA9-4898-961C-0DC07A2EEC0B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0CA-F7B9-4500-B3B5-E644BC1F482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12840" y="754200"/>
            <a:ext cx="8753400" cy="4951440"/>
          </a:xfrm>
          <a:prstGeom prst="rect">
            <a:avLst/>
          </a:prstGeom>
          <a:ln w="0">
            <a:noFill/>
          </a:ln>
        </p:spPr>
      </p:pic>
      <p:sp>
        <p:nvSpPr>
          <p:cNvPr id="27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320F-1531-4E9E-8472-9B19A009C1A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D5CF-02D9-45F1-986F-5A78281E211E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sed warming – rate and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>
            <a:off x="1741320" y="1015920"/>
            <a:ext cx="2365560" cy="25628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ak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2-2.25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te (2020-2050)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-0.26°C / de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st of the differences are due to alternative assumptions, not alternativ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5727600"/>
          </a:xfrm>
          <a:prstGeom prst="rect">
            <a:avLst/>
          </a:prstGeom>
          <a:ln w="0">
            <a:noFill/>
          </a:ln>
        </p:spPr>
      </p:pic>
      <p:sp>
        <p:nvSpPr>
          <p:cNvPr id="28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0F9F-1B87-4F08-A4B4-A6DCABE7B181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C515-5644-4F6F-80D8-B5BF6F5DBB5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4746600" y="3454560"/>
            <a:ext cx="3917880" cy="11912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me-dependent GTPs result in lower aggregate costs, b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eater GDP losses relative to BAU towards 2100 than G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D1DA-6B9B-4960-9DA5-005CC025AF5F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8F1A-5839-42B6-99BE-FE62BD8417A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 of cost-effective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00160" y="712800"/>
            <a:ext cx="8697600" cy="49737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4"/>
          <p:cNvGrpSpPr/>
          <p:nvPr/>
        </p:nvGrpSpPr>
        <p:grpSpPr>
          <a:xfrm>
            <a:off x="2700360" y="1001880"/>
            <a:ext cx="6132240" cy="2051640"/>
            <a:chOff x="2700360" y="1001880"/>
            <a:chExt cx="6132240" cy="2051640"/>
          </a:xfrm>
        </p:grpSpPr>
        <p:sp>
          <p:nvSpPr>
            <p:cNvPr id="300" name="Left-Right Arrow 11"/>
            <p:cNvSpPr/>
            <p:nvPr/>
          </p:nvSpPr>
          <p:spPr>
            <a:xfrm>
              <a:off x="2700360" y="1045080"/>
              <a:ext cx="1857600" cy="435240"/>
            </a:xfrm>
            <a:prstGeom prst="leftRightArrow">
              <a:avLst>
                <a:gd name="adj1" fmla="val 50000"/>
                <a:gd name="adj2" fmla="val 50010"/>
              </a:avLst>
            </a:prstGeom>
            <a:solidFill>
              <a:srgbClr val="ff0000">
                <a:alpha val="47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2"/>
            <p:cNvSpPr/>
            <p:nvPr/>
          </p:nvSpPr>
          <p:spPr>
            <a:xfrm>
              <a:off x="4893840" y="1001880"/>
              <a:ext cx="3938760" cy="205164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metrics and assump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llow the CO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emissions pea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e delayed by almost 15 ye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ut most of the delay comes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assumptions; metr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ave a smaller influ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7"/>
          <p:cNvSpPr/>
          <p:nvPr/>
        </p:nvSpPr>
        <p:spPr>
          <a:xfrm>
            <a:off x="1616040" y="4411800"/>
            <a:ext cx="702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athways shown result in radiative forcing of 450ppm CO2-eq in 2100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the timing of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tigation differs due to metrics and other assu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10D4-EEAE-4026-86AB-1536ADC9903C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12A7-17D6-4963-AD96-163FE9529340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546120" y="10332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74200" y="82980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are not the most cost-effective metric to compare GHGs</a:t>
            </a:r>
            <a:br>
              <a:rPr sz="2200"/>
            </a:br>
            <a:r>
              <a:rPr b="0" i="1" lang="en-US" sz="2400" spc="-1" strike="noStrike">
                <a:solidFill>
                  <a:srgbClr val="42611b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the main goal is to limit long-term radiative forcing in 2100, and to do so via cost-minimising global abatement path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xed 100-year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re even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es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+ 5 to 10%)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-dependent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would be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ore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- 4 to 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t implications of alternative metrics: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smaller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than alternative assumptions about future agricultural mitigation potential, and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uch smaller</a:t>
            </a:r>
            <a:r>
              <a:rPr b="0" i="1" lang="en-US" sz="20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than choices of long-term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ther policy goals: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different equivalent metric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do not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result in equivalent  other environmental outcomes – but differences are again smaller than those arising from other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gional implications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regional effect of metrics on production systems and land-use change – see second presentation plea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FBD5-3B86-4E39-81BE-304DB6A2426C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5A60-E599-4733-9B86-FE9F56652B8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4200" y="1090440"/>
            <a:ext cx="8075880" cy="43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important is it for the policy process to have a metric that is optimal for a particular policy goal but, almost by definition, will do a poorer job for other policy goa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sustainable is the implementation of a metric that implies escalating cost of CH</a:t>
            </a:r>
            <a:r>
              <a:rPr b="0" i="1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emissions globall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are the social/policy benefits and costs of continuously updating a metric to achieve optimality (however defined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Are tests of metrics useful that assume full global and sectoral participation at full price leve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hat are the implications of different metrics for </a:t>
            </a:r>
            <a:br>
              <a:rPr sz="2200"/>
            </a:b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and sectoral engagement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to climate ch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4560" y="1335240"/>
            <a:ext cx="82504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100-year GWPs are not a cost-effective way of comparing GHGs if the main policy goal is to limit long-term climate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Few studies have explored the cost and climate policy implications if other physically-based metrics were to replace GW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Determine the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global cost-effectivenes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different metrics for the </a:t>
            </a:r>
            <a:r>
              <a:rPr b="1" i="1" lang="en-US" sz="2200" spc="-1" strike="noStrike">
                <a:solidFill>
                  <a:srgbClr val="42611b"/>
                </a:solidFill>
                <a:latin typeface="Arial"/>
              </a:rPr>
              <a:t>main 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limiting radiative forcing in 2100 to 450 or 550ppm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-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Evaluate influence of metrics on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dditional policy goal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(realised warming, GDP, timing of CO</a:t>
            </a:r>
            <a:r>
              <a:rPr b="1" i="1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 emissions pe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DAA6-7D5F-4B2E-8F87-94911AB622C2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A937-A96E-43E6-8389-98546C299FD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33360" y="1174680"/>
            <a:ext cx="8578800" cy="448632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56BA-8C8E-4161-B1DA-D6037A3CE7B6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D02A-8188-4F27-BFC0-74EC523350D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3080" y="43920"/>
            <a:ext cx="7916760" cy="13352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ed alternative metrics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WPs, fixed and time-dependent GT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2015640" y="1552680"/>
            <a:ext cx="502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112320"/>
            <a:ext cx="85694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tests: technology/policy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4560" y="1045800"/>
            <a:ext cx="82504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d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is to limit radiative forcing in 2100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4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2.7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5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3.8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ate of improvement of agricultural mitigation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o improvement / rapid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dditional technology from 2030 or 2070 to mitigate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from enteric fer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Policy treatment of agricultural GHG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included in global mitigation efforts /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excluded / excluded until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Use integrated assessment model MESSAGE to determine cost-minimising abatement pathways over 21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CE42-BB16-4535-B909-1AD04895CCF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B48A-9DA0-4150-A629-01570B5004D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6FE0-B0AB-475E-B52E-9D923837919D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436C-00B2-49D4-B69E-53542F8154A1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460440" y="900000"/>
            <a:ext cx="8112240" cy="4819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ative forcing paths – all metrics/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717D-1FB3-4198-A2FE-45E0D06C816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6ADB-D85A-4A4D-8B1A-BC5C9391BB10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01520" y="1204920"/>
            <a:ext cx="8955000" cy="4448160"/>
          </a:xfrm>
          <a:prstGeom prst="rect">
            <a:avLst/>
          </a:prstGeom>
          <a:ln w="0">
            <a:noFill/>
          </a:ln>
        </p:spPr>
      </p:pic>
      <p:sp>
        <p:nvSpPr>
          <p:cNvPr id="232" name="Title 1"/>
          <p:cNvSpPr/>
          <p:nvPr/>
        </p:nvSpPr>
        <p:spPr>
          <a:xfrm>
            <a:off x="333360" y="58680"/>
            <a:ext cx="8564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all metrics/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89DF-139E-46BC-8A58-4035A86EA64B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44C1-031D-43CE-AC96-CB50E7110BB2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1"/>
          <p:cNvSpPr/>
          <p:nvPr/>
        </p:nvSpPr>
        <p:spPr>
          <a:xfrm>
            <a:off x="5799240" y="1670040"/>
            <a:ext cx="308088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fixed 100-year GTPs: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ime-dependent GTPs: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initially,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ore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by 2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detailed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3465-EDB1-483D-A58B-C5263715FEF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itle 1"/>
          <p:cNvSpPr/>
          <p:nvPr/>
        </p:nvSpPr>
        <p:spPr>
          <a:xfrm>
            <a:off x="3786120" y="109440"/>
            <a:ext cx="3592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SAGE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09440" y="155520"/>
            <a:ext cx="7410600" cy="6623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0"/>
          <p:cNvSpPr/>
          <p:nvPr/>
        </p:nvSpPr>
        <p:spPr>
          <a:xfrm>
            <a:off x="7143840" y="1554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1"/>
          <p:cNvSpPr/>
          <p:nvPr/>
        </p:nvSpPr>
        <p:spPr>
          <a:xfrm>
            <a:off x="7095960" y="39528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3044880" y="109440"/>
            <a:ext cx="30542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ne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307520" y="2475000"/>
            <a:ext cx="6500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mitigation determines ‘atmospheric space’ for C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emissions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d hence total mitiga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754520" y="91440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641840" y="345276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5843520" y="0"/>
            <a:ext cx="1193760" cy="24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022800" y="2898720"/>
            <a:ext cx="1109880" cy="20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1335240" y="6026040"/>
            <a:ext cx="56592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378080" y="6351480"/>
            <a:ext cx="56592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A09C-60E7-4983-892C-552C06A95DB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tretch/>
        </p:blipFill>
        <p:spPr>
          <a:xfrm>
            <a:off x="174600" y="363600"/>
            <a:ext cx="8707320" cy="626904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9"/>
          <p:cNvGrpSpPr/>
          <p:nvPr/>
        </p:nvGrpSpPr>
        <p:grpSpPr>
          <a:xfrm>
            <a:off x="5121360" y="171360"/>
            <a:ext cx="4022640" cy="4556160"/>
            <a:chOff x="5121360" y="171360"/>
            <a:chExt cx="4022640" cy="4556160"/>
          </a:xfrm>
        </p:grpSpPr>
        <p:sp>
          <p:nvSpPr>
            <p:cNvPr id="262" name="Rectangle 5"/>
            <p:cNvSpPr/>
            <p:nvPr/>
          </p:nvSpPr>
          <p:spPr>
            <a:xfrm>
              <a:off x="5121360" y="914760"/>
              <a:ext cx="4022640" cy="38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608800" y="171360"/>
              <a:ext cx="3535200" cy="9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10"/>
          <p:cNvSpPr/>
          <p:nvPr/>
        </p:nvSpPr>
        <p:spPr>
          <a:xfrm>
            <a:off x="1581120" y="3786120"/>
            <a:ext cx="3657600" cy="1833840"/>
          </a:xfrm>
          <a:prstGeom prst="rect">
            <a:avLst/>
          </a:prstGeom>
          <a:solidFill>
            <a:srgbClr val="7f7f7f">
              <a:alpha val="8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iscounted net present value mitigation costs (2010-2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for 550pp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eq stabi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19:52Z</dcterms:modified>
  <cp:revision>159</cp:revision>
  <dc:subject/>
  <dc:title>Mitigating Greenhouse Gas Emissions</dc:title>
</cp:coreProperties>
</file>