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2E9-8984-4084-9FEF-29B9682D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6EF-CA55-4ED3-922D-CBC1248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B74-7240-4B31-82DC-FE868476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CC1-3E85-4734-AF11-6A4D5CD7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2697-ED69-4F27-84EE-72DFC6F5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F09D-0096-4528-846B-8A2CEFD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FCC6-3297-4EB3-AC4C-404A63B8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3F88-D7A6-4810-B703-FA4F72B7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7A64-25E8-4290-9F98-3AF29173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EF19-5933-4E2D-A785-60AF6A0E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C146-D92A-41C6-BD2A-B777B3EE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83E-E4D7-48E5-BC10-3237890A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534-6568-46B8-90FB-1CA3692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5A36-6CF6-4E35-88A9-DE50591B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492C-B49E-44DF-8336-3EA7869E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F2D8-7C0D-49E2-898E-B9A2F5DE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609B-B922-4CE1-A6BA-2CA1E9E9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23A0-0416-4E96-B919-2E649541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E021-B804-4FB6-971F-7E7BB434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B749-3FB0-494E-B4E3-92794F4D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0C85-5BD7-4313-AB42-D9BFCA02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5CAD-196A-46B5-BCCF-774DEF8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953-A252-4BC4-864D-67FFB0F7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A492-D619-4494-8A2C-F6CAF24E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917B-6401-4FC4-9183-00AB42B4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E52A-64D1-409C-9DF6-4A01C4F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4541-60A9-44A6-A066-1587092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A680-D800-4995-AB02-9AB0D830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388F-E16B-4A09-81AA-DF0D737C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D32F-CEFE-4627-87C7-D42E1125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44DE-E9E2-4703-A452-F31C4FB8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778A5-AD9C-4E72-96B0-63639E95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0C82-3B59-4913-826E-71754872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F1D-1047-45EB-BF1A-12F4AFC3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DD29-7135-4540-830E-295494B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3476-86D8-401A-85AA-C738DA01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957A-5A73-433C-9C66-66E2FFAD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0F12-C66F-4C8D-A3DA-4F8C2CD0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8FEE7-93E5-45D1-A12F-024CE801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C357-1EF8-45BA-85A5-395568D3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D652-28D4-4601-AC44-A7F5BC8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012B-CB1E-4E45-A4C9-5A7D18BC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9920" y="16002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7456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5224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9920" y="3668400"/>
            <a:ext cx="25498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586FE-2C7F-47B0-BC33-ED776442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208-FE56-4D1B-B265-F0A61F04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560" y="358920"/>
            <a:ext cx="79171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C0A-BFBD-47C8-AD1F-1E7F3B88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CCD-20B3-4C95-B610-BA34D0C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2840" y="36684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6DF-B11F-484A-B86E-78710A7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8646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560" y="3668400"/>
            <a:ext cx="79200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F18-5D6A-426B-8552-B0355FE3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4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F2E3-D814-4FB8-9B36-CE0D09BFD08A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BA5F-7115-4CB8-8889-4619C318B077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dt" idx="5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540B-4625-446D-AE0E-F69BAA44EAA9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0EAF-AB27-4974-99D1-F3BB22BE986F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411280" y="6127920"/>
            <a:ext cx="6145200" cy="350640"/>
            <a:chOff x="2411280" y="6127920"/>
            <a:chExt cx="6145200" cy="350640"/>
          </a:xfrm>
        </p:grpSpPr>
        <p:pic>
          <p:nvPicPr>
            <p:cNvPr id="99" name="Picture 12" descr="AG-MASTER-LOGO-rev_sl.gif"/>
            <p:cNvPicPr/>
            <p:nvPr/>
          </p:nvPicPr>
          <p:blipFill>
            <a:blip r:embed="rId2"/>
            <a:stretch/>
          </p:blipFill>
          <p:spPr>
            <a:xfrm>
              <a:off x="2411280" y="6202080"/>
              <a:ext cx="464040" cy="2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DairyNZ_NoStrap_grey_sl.gif"/>
            <p:cNvPicPr/>
            <p:nvPr/>
          </p:nvPicPr>
          <p:blipFill>
            <a:blip r:embed="rId3"/>
            <a:srcRect l="10316" t="0" r="4577" b="0"/>
            <a:stretch/>
          </p:blipFill>
          <p:spPr>
            <a:xfrm>
              <a:off x="3032280" y="6127920"/>
              <a:ext cx="61416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LandcareLogoLarge_white_sl.gif"/>
            <p:cNvPicPr/>
            <p:nvPr/>
          </p:nvPicPr>
          <p:blipFill>
            <a:blip r:embed="rId4"/>
            <a:stretch/>
          </p:blipFill>
          <p:spPr>
            <a:xfrm>
              <a:off x="3804120" y="6231960"/>
              <a:ext cx="6660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LU-logo-white-Specialist.gif"/>
            <p:cNvPicPr/>
            <p:nvPr/>
          </p:nvPicPr>
          <p:blipFill>
            <a:blip r:embed="rId5"/>
            <a:stretch/>
          </p:blipFill>
          <p:spPr>
            <a:xfrm>
              <a:off x="4627440" y="6217560"/>
              <a:ext cx="4716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6" descr="MU_Logo_grey_sl.gif"/>
            <p:cNvPicPr/>
            <p:nvPr/>
          </p:nvPicPr>
          <p:blipFill>
            <a:blip r:embed="rId6"/>
            <a:stretch/>
          </p:blipFill>
          <p:spPr>
            <a:xfrm>
              <a:off x="5256360" y="6179400"/>
              <a:ext cx="66600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7" descr="PFR_white.gif"/>
            <p:cNvPicPr/>
            <p:nvPr/>
          </p:nvPicPr>
          <p:blipFill>
            <a:blip r:embed="rId7"/>
            <a:stretch/>
          </p:blipFill>
          <p:spPr>
            <a:xfrm>
              <a:off x="7384320" y="6211440"/>
              <a:ext cx="55800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niwalogo.gif"/>
            <p:cNvPicPr/>
            <p:nvPr/>
          </p:nvPicPr>
          <p:blipFill>
            <a:blip r:embed="rId8"/>
            <a:stretch/>
          </p:blipFill>
          <p:spPr>
            <a:xfrm>
              <a:off x="6079680" y="6222960"/>
              <a:ext cx="6660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GGRC-Logo_white_sl.gif"/>
            <p:cNvPicPr/>
            <p:nvPr/>
          </p:nvPicPr>
          <p:blipFill>
            <a:blip r:embed="rId9"/>
            <a:stretch/>
          </p:blipFill>
          <p:spPr>
            <a:xfrm>
              <a:off x="6903000" y="6168960"/>
              <a:ext cx="324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scion_logo_white_sl.gif"/>
            <p:cNvPicPr/>
            <p:nvPr/>
          </p:nvPicPr>
          <p:blipFill>
            <a:blip r:embed="rId10"/>
            <a:stretch/>
          </p:blipFill>
          <p:spPr>
            <a:xfrm>
              <a:off x="8099280" y="6239880"/>
              <a:ext cx="457200" cy="12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0"/>
          <p:cNvSpPr/>
          <p:nvPr/>
        </p:nvSpPr>
        <p:spPr>
          <a:xfrm>
            <a:off x="2411280" y="5992920"/>
            <a:ext cx="136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5c237"/>
                </a:solidFill>
                <a:latin typeface="Arial"/>
              </a:rPr>
              <a:t>Leading Partners in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NZ AGRC Logo.jpg"/>
          <p:cNvPicPr/>
          <p:nvPr/>
        </p:nvPicPr>
        <p:blipFill>
          <a:blip r:embed="rId11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41092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8"/>
          </p:nvPr>
        </p:nvSpPr>
        <p:spPr>
          <a:xfrm>
            <a:off x="735444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3648-0728-4FCA-9206-1944AB0B9FFB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476920" y="6551640"/>
            <a:ext cx="730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7F2F-7D01-4BA7-BDBB-CEB0FA64841B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240" y="5778360"/>
            <a:ext cx="91407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NZ AGRC Logo.jpg"/>
          <p:cNvPicPr/>
          <p:nvPr/>
        </p:nvPicPr>
        <p:blipFill>
          <a:blip r:embed="rId2"/>
          <a:stretch/>
        </p:blipFill>
        <p:spPr>
          <a:xfrm>
            <a:off x="576360" y="6012000"/>
            <a:ext cx="928440" cy="622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74560" y="16002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40000" indent="-270000">
              <a:spcBef>
                <a:spcPts val="550"/>
              </a:spcBef>
              <a:spcAft>
                <a:spcPts val="1500"/>
              </a:spcAft>
              <a:buClr>
                <a:srgbClr val="85c2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6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1439640">
              <a:spcBef>
                <a:spcPts val="550"/>
              </a:spcBef>
              <a:spcAft>
                <a:spcPts val="1500"/>
              </a:spcAft>
              <a:buClr>
                <a:srgbClr val="7c7c7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1439640">
              <a:spcBef>
                <a:spcPts val="55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0"/>
          </p:nvPr>
        </p:nvSpPr>
        <p:spPr>
          <a:xfrm>
            <a:off x="5616360" y="6526080"/>
            <a:ext cx="2879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1"/>
          </p:nvPr>
        </p:nvSpPr>
        <p:spPr>
          <a:xfrm>
            <a:off x="7297200" y="6372000"/>
            <a:ext cx="107964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0D68-C05F-4DAE-8046-E900C1E64824}" type="datetime3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  |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19680" y="6372000"/>
            <a:ext cx="730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afb1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E2B2-F393-4D84-BDF7-5DCC1D1E1C4C}" type="slidenum">
              <a:rPr b="0" lang="en-US" sz="600" spc="-1" strike="noStrike">
                <a:solidFill>
                  <a:srgbClr val="afb1b4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60040" y="680760"/>
            <a:ext cx="77900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effectiveness and implications of GWPs and GTPs under alternative policy goa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85600" y="3366720"/>
            <a:ext cx="75466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Andy Reisinger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 Keywan Riahi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afb1b4"/>
                </a:solidFill>
                <a:latin typeface="Arial"/>
              </a:rPr>
              <a:t>Oscar van Vliet</a:t>
            </a:r>
            <a:r>
              <a:rPr b="0" lang="en-US" sz="2400" spc="-1" strike="noStrike" baseline="30000">
                <a:solidFill>
                  <a:srgbClr val="afb1b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New Zealand Agricultural Greenhouse Gas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afb1b4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International Institute for Applied Systems Analysis (II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Manuscript submitted to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Climatic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Work funded by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NZ Ministry of Agriculture </a:t>
            </a:r>
            <a:r>
              <a:rPr b="0" i="1" lang="en-US" sz="1800" spc="-1" strike="noStrike">
                <a:solidFill>
                  <a:srgbClr val="afb1b4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afb1b4"/>
                </a:solidFill>
                <a:latin typeface="Arial"/>
              </a:rPr>
              <a:t>various EU-FP7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65C2-4771-444E-87A7-B957E244FC5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4E7F-8453-4E3F-B517-AA1773FF5BE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lobal cost-effectiveness of metr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0840" y="1222200"/>
            <a:ext cx="8250120" cy="42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Fixed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result in high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higher total mitigation costs than GWPs, but lower prices/costs on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Time-dependent GTP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(focusing on year 2100) result in lower CO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prices and lower total mitigation costs than GWPs; prices and costs for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are lower initially but (much) higher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ssumptions about agriculture mitigation potential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larger effect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on global costs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Different long-term stabilisation target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have a </a:t>
            </a:r>
            <a:r>
              <a:rPr b="0" i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much larger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effect than alternative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5240" indent="-34524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Excluding agriculture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lobally is by far the most costly ‘metri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B34C-1D19-4A0E-9B1C-0FF6A549ADD8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7605-549D-493B-98A7-5B9C99CC058E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2400" y="248760"/>
            <a:ext cx="79167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relevant policy goal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0840" y="1294920"/>
            <a:ext cx="8250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alised amount of warming and oversh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GDP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Timing of cost-effective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emissions p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1199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egional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4A58-0343-40C0-AE40-777EE82E5515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8536-74CF-4144-89A1-645C77AFEB0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12840" y="754200"/>
            <a:ext cx="8753400" cy="4951440"/>
          </a:xfrm>
          <a:prstGeom prst="rect">
            <a:avLst/>
          </a:prstGeom>
          <a:ln w="0">
            <a:noFill/>
          </a:ln>
        </p:spPr>
      </p:pic>
      <p:sp>
        <p:nvSpPr>
          <p:cNvPr id="27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CDC2-C7C3-4B86-8C0A-33BE262B1670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DB84-B663-456E-8B06-0AD5B86910CE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ed warming – rate and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1741320" y="1015920"/>
            <a:ext cx="2365560" cy="25628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ak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2-2.25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te (2020-2050)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-0.26°C / de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st of the differences are due to alternative assumptions, not alternativ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5727600"/>
          </a:xfrm>
          <a:prstGeom prst="rect">
            <a:avLst/>
          </a:prstGeom>
          <a:ln w="0">
            <a:noFill/>
          </a:ln>
        </p:spPr>
      </p:pic>
      <p:sp>
        <p:nvSpPr>
          <p:cNvPr id="284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A9F5-00D3-4486-8A67-F5ED76646BC9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134-0C3E-4CC8-A985-4EAEE39FA20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746600" y="3454560"/>
            <a:ext cx="3917880" cy="11912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e-dependent GTPs result in lower aggregate costs, b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eater GDP losses relative to BAU towards 2100 than G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7C8A-195D-4CC0-9072-AF29F9A4B8A4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9FE8-7EC1-47EB-B866-D44C798E5B47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798480" y="-28440"/>
            <a:ext cx="8562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of cost-effective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00160" y="712800"/>
            <a:ext cx="8697600" cy="49737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4"/>
          <p:cNvGrpSpPr/>
          <p:nvPr/>
        </p:nvGrpSpPr>
        <p:grpSpPr>
          <a:xfrm>
            <a:off x="2700360" y="1001880"/>
            <a:ext cx="6132240" cy="2051640"/>
            <a:chOff x="2700360" y="1001880"/>
            <a:chExt cx="6132240" cy="2051640"/>
          </a:xfrm>
        </p:grpSpPr>
        <p:sp>
          <p:nvSpPr>
            <p:cNvPr id="300" name="Left-Right Arrow 11"/>
            <p:cNvSpPr/>
            <p:nvPr/>
          </p:nvSpPr>
          <p:spPr>
            <a:xfrm>
              <a:off x="2700360" y="1045080"/>
              <a:ext cx="1857600" cy="435240"/>
            </a:xfrm>
            <a:prstGeom prst="leftRightArrow">
              <a:avLst>
                <a:gd name="adj1" fmla="val 50000"/>
                <a:gd name="adj2" fmla="val 50010"/>
              </a:avLst>
            </a:prstGeom>
            <a:solidFill>
              <a:srgbClr val="ff0000">
                <a:alpha val="47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2"/>
            <p:cNvSpPr/>
            <p:nvPr/>
          </p:nvSpPr>
          <p:spPr>
            <a:xfrm>
              <a:off x="4893840" y="1001880"/>
              <a:ext cx="3938760" cy="20516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metrics and assump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llow the C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emissions pea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e delayed by almost 15 y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ut most of the delay comes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fferent assumptions; metr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ave a smaller influ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7"/>
          <p:cNvSpPr/>
          <p:nvPr/>
        </p:nvSpPr>
        <p:spPr>
          <a:xfrm>
            <a:off x="1616040" y="4411800"/>
            <a:ext cx="702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thways shown result in radiative forcing of 450ppm CO2-eq in 2100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e timing of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tigation differs due to metrics and other 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820B-9A74-44BD-B5CF-10F07A03435C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832B-4F62-4321-816F-F73576B7120A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546120" y="103320"/>
            <a:ext cx="78818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74200" y="829800"/>
            <a:ext cx="80758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GWPs are not the most cost-effective metric to compare GHGs</a:t>
            </a:r>
            <a:br>
              <a:rPr sz="2200"/>
            </a:br>
            <a:r>
              <a:rPr b="0" i="1" lang="en-US" sz="2400" spc="-1" strike="noStrike">
                <a:solidFill>
                  <a:srgbClr val="42611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the main goal is to limit long-term radiative forcing in 2100, and to do so via cost-minimising global abatement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xed 100-year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are even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less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+ 5 to 10%)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-dependent GTPs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would be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ore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cost-effective (- 4 to 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t implications of alternative metrics: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smaller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than alternative assumptions about future agricultural mitigation potential, and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much smaller</a:t>
            </a:r>
            <a:r>
              <a:rPr b="0" i="1" lang="en-US" sz="20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than choices of long-ter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her policy goals: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different equivalent metrics </a:t>
            </a:r>
            <a:r>
              <a:rPr b="0" i="1" lang="en-US" sz="2000" spc="-1" strike="noStrike" u="sng">
                <a:solidFill>
                  <a:srgbClr val="42611b"/>
                </a:solidFill>
                <a:uFillTx/>
                <a:latin typeface="Arial"/>
              </a:rPr>
              <a:t>do not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 result in equivalent  other environmental outcomes – but differences are again smaller than those arising from other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ional implications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regional effect of metrics on production systems and land-use change – see second presentation plea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CDF6-56FB-49E1-BFBB-ABCC0BDD6A6A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BD03-4EA7-4061-BED2-E5A7E2B046B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546120" y="320760"/>
            <a:ext cx="788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s to the polic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4200" y="1090440"/>
            <a:ext cx="807588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important is it for the policy process to have a metric that is optimal for a particular policy goal but, almost by definition, will do a poorer job for other policy goa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How sustainable is the implementation of a metric that implies escalating cost of CH</a:t>
            </a:r>
            <a:r>
              <a:rPr b="0" i="1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 emissions global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What are the social/policy benefits and costs of continuously updating a metric to achieve optimality (however defined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2611b"/>
                </a:solidFill>
                <a:latin typeface="Arial"/>
              </a:rPr>
              <a:t>Are tests of metrics useful that assume full global and sectoral participation at full price leve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536400">
              <a:spcBef>
                <a:spcPts val="1199"/>
              </a:spcBef>
              <a:buClr>
                <a:srgbClr val="85c2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hat are the implications of different metrics for </a:t>
            </a:r>
            <a:br>
              <a:rPr sz="2200"/>
            </a:b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regional and sectoral engagement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to climate ch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560" y="358920"/>
            <a:ext cx="79171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4560" y="1335240"/>
            <a:ext cx="82504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100-year GWPs are not a cost-effective way of comparing GHGs if the main policy goal is to limit long-term climate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611b"/>
                </a:solidFill>
                <a:latin typeface="Arial"/>
              </a:rPr>
              <a:t>Few studies have explored the cost and climate policy implications if other physically-based metrics were to replace GW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Determine the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global cost-effectivenes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different metrics for the </a:t>
            </a:r>
            <a:r>
              <a:rPr b="1" i="1" lang="en-US" sz="2200" spc="-1" strike="noStrike">
                <a:solidFill>
                  <a:srgbClr val="42611b"/>
                </a:solidFill>
                <a:latin typeface="Arial"/>
              </a:rPr>
              <a:t>main 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of limiting radiative forcing in 2100 to 450 or 550ppm CO</a:t>
            </a:r>
            <a:r>
              <a:rPr b="1" lang="en-US" sz="22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-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Evaluate influence of metrics on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additional policy goals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(realised warming, GDP, timing of CO</a:t>
            </a:r>
            <a:r>
              <a:rPr b="1" i="1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42611b"/>
                </a:solidFill>
                <a:latin typeface="Arial"/>
              </a:rPr>
              <a:t> emissions pe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7A23-20CD-413D-9144-534BDE02B61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9D4A-F477-4F32-9B48-A98E66B9F054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33360" y="1174680"/>
            <a:ext cx="8578800" cy="448632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1680-6B45-42A8-B375-2140313707E6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1CB9-DFE5-4ACC-A023-1936150D3C76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3080" y="43920"/>
            <a:ext cx="7916760" cy="13352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ed alternative metrics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WPs, fixed and time-dependent GT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2015640" y="1552680"/>
            <a:ext cx="502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560" y="11232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tests: technology/policy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4560" y="1045800"/>
            <a:ext cx="82504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Assumed </a:t>
            </a:r>
            <a:r>
              <a:rPr b="1" lang="en-US" sz="2200" spc="-1" strike="noStrike" u="sng">
                <a:solidFill>
                  <a:srgbClr val="42611b"/>
                </a:solidFill>
                <a:uFillTx/>
                <a:latin typeface="Arial"/>
              </a:rPr>
              <a:t>policy goal</a:t>
            </a: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 is to limit radiative forcing in 210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4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2.7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550 ppm CO</a:t>
            </a:r>
            <a:r>
              <a:rPr b="0" lang="en-US" sz="2000" spc="-1" strike="noStrike" baseline="-25000">
                <a:solidFill>
                  <a:srgbClr val="42611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-eq (~3.8 Wm</a:t>
            </a:r>
            <a:r>
              <a:rPr b="0" lang="en-US" sz="2000" spc="-1" strike="noStrike" baseline="30000">
                <a:solidFill>
                  <a:srgbClr val="42611b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42611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Rate of improvement of agricultural mitigation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No improvement / rapid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Additional technology from 2030 or 2070 to mitigate CH</a:t>
            </a:r>
            <a:r>
              <a:rPr b="0" lang="en-US" sz="2200" spc="-1" strike="noStrike" baseline="-25000">
                <a:solidFill>
                  <a:srgbClr val="42611b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 from enteric fer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00"/>
              </a:spcBef>
              <a:spcAft>
                <a:spcPts val="300"/>
              </a:spcAft>
              <a:buClr>
                <a:srgbClr val="4261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611b"/>
                </a:solidFill>
                <a:latin typeface="Arial"/>
              </a:rPr>
              <a:t>Policy treatment of agricultural GHG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4360" indent="-425160">
              <a:spcBef>
                <a:spcPts val="300"/>
              </a:spcBef>
              <a:spcAft>
                <a:spcPts val="300"/>
              </a:spcAft>
              <a:buClr>
                <a:srgbClr val="85c237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included in global mitigation efforts /</a:t>
            </a:r>
            <a:br>
              <a:rPr sz="2200"/>
            </a:br>
            <a:r>
              <a:rPr b="0" lang="en-US" sz="2200" spc="-1" strike="noStrike">
                <a:solidFill>
                  <a:srgbClr val="42611b"/>
                </a:solidFill>
                <a:latin typeface="Arial"/>
              </a:rPr>
              <a:t>fully excluded / excluded until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Use integrated assessment model MESSAGE to determine cost-minimising abatement pathways over 21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D338-C0BE-4FC4-B8F1-FBA3791B7E2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4040-CC12-4F90-84F7-14A0DF968DAE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4B4-9AD7-44E8-AC2A-BCFDA4E405D2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74A4-ACAF-4F5B-9842-F5B6E9714425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460440" y="900000"/>
            <a:ext cx="8112240" cy="4819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tive forcing paths – all metrics/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411-CCA5-4A10-BB46-DC5BC6C8556C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E009-1F9B-4200-8946-89FAF1F1F341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1520" y="1204920"/>
            <a:ext cx="8955000" cy="4448160"/>
          </a:xfrm>
          <a:prstGeom prst="rect">
            <a:avLst/>
          </a:prstGeom>
          <a:ln w="0">
            <a:noFill/>
          </a:ln>
        </p:spPr>
      </p:pic>
      <p:sp>
        <p:nvSpPr>
          <p:cNvPr id="232" name="Title 1"/>
          <p:cNvSpPr/>
          <p:nvPr/>
        </p:nvSpPr>
        <p:spPr>
          <a:xfrm>
            <a:off x="333360" y="58680"/>
            <a:ext cx="8564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all metrics/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2411280" y="6551640"/>
            <a:ext cx="3240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Copyright © 2010 New Zealand Agricultural Greenhouse Gas Research Cent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7354800" y="6551640"/>
            <a:ext cx="1079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FFF6-910F-482D-A4EF-4090BF80E7E3}" type="datetime3">
              <a:rPr b="0" lang="en-US" sz="600" spc="-1" strike="noStrike">
                <a:solidFill>
                  <a:srgbClr val="afb1b4"/>
                </a:solidFill>
                <a:latin typeface="Arial"/>
              </a:rPr>
              <a:t>July 30, 2026</a:t>
            </a:fld>
            <a:r>
              <a:rPr b="0" lang="en-US" sz="600" spc="-1" strike="noStrike">
                <a:solidFill>
                  <a:srgbClr val="afb1b4"/>
                </a:solidFill>
                <a:latin typeface="Arial"/>
              </a:rPr>
              <a:t>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5B23-6E53-424C-9A72-F3189359785F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5"/>
          <p:cNvSpPr/>
          <p:nvPr/>
        </p:nvSpPr>
        <p:spPr>
          <a:xfrm>
            <a:off x="1103400" y="2235240"/>
            <a:ext cx="313524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233280" y="527040"/>
            <a:ext cx="7202520" cy="5226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1"/>
          <p:cNvSpPr/>
          <p:nvPr/>
        </p:nvSpPr>
        <p:spPr>
          <a:xfrm>
            <a:off x="5799240" y="1670040"/>
            <a:ext cx="30808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fixed 100-year GTPs: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ime-dependent GTPs: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less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initially, 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ore C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mitigation by 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"/>
          <p:cNvSpPr/>
          <p:nvPr/>
        </p:nvSpPr>
        <p:spPr>
          <a:xfrm>
            <a:off x="530280" y="5776920"/>
            <a:ext cx="6432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agricultural marginal abatement costs from Beach et al.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3360" y="58320"/>
            <a:ext cx="8564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s – detailed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8CC4-9869-4D7D-9FF1-C76E505B2C59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3786120" y="109440"/>
            <a:ext cx="3592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SAGE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9440" y="155520"/>
            <a:ext cx="7410600" cy="6623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0"/>
          <p:cNvSpPr/>
          <p:nvPr/>
        </p:nvSpPr>
        <p:spPr>
          <a:xfrm>
            <a:off x="7143840" y="1554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7095960" y="39528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3044880" y="109440"/>
            <a:ext cx="3054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ne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307520" y="2475000"/>
            <a:ext cx="6500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mitigation determines ‘atmospheric space’ for C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emissions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d hence total mitiga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754520" y="91440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641840" y="3452760"/>
            <a:ext cx="12621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843520" y="0"/>
            <a:ext cx="1193760" cy="24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022800" y="2898720"/>
            <a:ext cx="1109880" cy="20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1335240" y="6026040"/>
            <a:ext cx="56592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378080" y="6351480"/>
            <a:ext cx="56592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778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lobal agricultural 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emission path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6360" y="360360"/>
            <a:ext cx="395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c7c7c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8477280" y="6551640"/>
            <a:ext cx="73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3019-D6BF-4B5F-BE1B-2195554DF14B}" type="slidenum">
              <a:rPr b="0" lang="en-US" sz="600" spc="-1" strike="noStrike">
                <a:solidFill>
                  <a:srgbClr val="afb1b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tretch/>
        </p:blipFill>
        <p:spPr>
          <a:xfrm>
            <a:off x="174600" y="363600"/>
            <a:ext cx="8707320" cy="626904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9"/>
          <p:cNvGrpSpPr/>
          <p:nvPr/>
        </p:nvGrpSpPr>
        <p:grpSpPr>
          <a:xfrm>
            <a:off x="5121360" y="171360"/>
            <a:ext cx="4022640" cy="4556160"/>
            <a:chOff x="5121360" y="171360"/>
            <a:chExt cx="4022640" cy="4556160"/>
          </a:xfrm>
        </p:grpSpPr>
        <p:sp>
          <p:nvSpPr>
            <p:cNvPr id="262" name="Rectangle 5"/>
            <p:cNvSpPr/>
            <p:nvPr/>
          </p:nvSpPr>
          <p:spPr>
            <a:xfrm>
              <a:off x="5121360" y="914760"/>
              <a:ext cx="4022640" cy="38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608800" y="171360"/>
              <a:ext cx="3535200" cy="9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10"/>
          <p:cNvSpPr/>
          <p:nvPr/>
        </p:nvSpPr>
        <p:spPr>
          <a:xfrm>
            <a:off x="1581120" y="3786120"/>
            <a:ext cx="3657600" cy="1833840"/>
          </a:xfrm>
          <a:prstGeom prst="rect">
            <a:avLst/>
          </a:prstGeom>
          <a:solidFill>
            <a:srgbClr val="7f7f7f">
              <a:alpha val="8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iscounted net present value mitigation costs (2010-2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for 550pp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eq stabi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4:12:39Z</dcterms:created>
  <dc:creator>Andy Reisinger</dc:creator>
  <dc:description/>
  <dc:language>en-US</dc:language>
  <cp:lastModifiedBy>Andy Reisinger</cp:lastModifiedBy>
  <dcterms:modified xsi:type="dcterms:W3CDTF">2012-04-02T07:19:52Z</dcterms:modified>
  <cp:revision>159</cp:revision>
  <dc:subject/>
  <dc:title>Mitigating Greenhouse Gas Emissions</dc:title>
</cp:coreProperties>
</file>