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4C7-32A8-4BF5-80FF-19782383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8C5-2CF5-439B-84D8-6F82FE4D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9A3-F943-47D9-A12C-45666140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7FB4-09D4-426C-968B-5E14861D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32ED-4325-43BD-90E5-76271480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255B-6BF5-45B7-B7CF-3100EDA4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2882-27D7-4B65-8394-D301B11B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2C97-5215-42B7-8F19-DFF62FAF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E6BA-5282-4F94-B722-691CF248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CFF8-A595-4969-A2C2-554843C6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2979-0EC5-4F22-A3B8-10563132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817F-A737-401D-BF09-FB694D5E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A4F3-1473-49FA-995C-2DC57023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60C6-08E2-4E58-A002-87E17CFD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B18E-F86A-4E82-9970-26C05FB0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4467-00BD-4B9C-A1AA-AABBFC57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F3DE-D058-4BB1-8859-5FAA4F4C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6016-F392-4440-B034-F577D5F7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AA77C-A469-4D24-952A-BEC1E350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D08A5-7E9B-449F-B65C-E0F7338D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052A2-095C-4836-8202-EC958E23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A3534-9CF3-43DB-BFAF-A3A9726D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AD3F-46CE-474A-B9E6-D59E798E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EAF16-A78C-4410-A279-F4AC1549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5014F-C969-4802-B3B5-262713F6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3E793-314A-418A-89D5-F25D2ED8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C83DD-1364-4F5F-84FB-E287983D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A4049-749F-48AA-99CA-CA7DD73D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840F8-EA2C-46BB-9849-BFF43962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F81CF-A934-4FEB-988E-F85F2C5D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5121B-12E0-491F-BEA3-0366409A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6085-C28A-421F-BC0B-A11347FF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EAA6A-3BB0-439F-A0FF-BDCB7BBD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19F5-ED74-475D-B61B-484CC0B8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0A9AE-C504-45AC-85B2-E3EB5E25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DD439-14D5-4AC6-ABFF-A443BEFB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534F2-6135-4B57-9FA6-69E83332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46DA6-ACA7-479D-851D-3D30FF97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2EA02-3431-4224-B2D1-A05A19E0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2F97A-6A96-4AEB-9577-44F39715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C1E42-86CA-4537-A728-9E1903D4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F0FC2-9199-4424-83E4-2E6E53A0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1543F-0D03-44BA-85DC-9B2D7627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B514C-97A3-4303-8E20-C3C790CD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5D7-CA2A-4FDB-81C7-2CD7A227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99DCA-6F1D-49E3-95E1-6E17E9B2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CA2C8-52F8-4A00-A989-1FE95B6A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22062-1C46-466D-9ACD-662478CD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F8F7E-23C2-4101-8AAB-AE1CD77A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C3A93-C68D-437E-890C-1267077E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40C3C-6DB9-499F-B15D-4755CE0A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AC252-8E85-4DFF-99BF-C0289F78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1FEDE-49AF-42A0-A99C-400EF9F0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15B0D-C8E9-41CC-879C-A41E18FC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31B7B-656B-4379-A3F0-11B59394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EA9-CB12-4776-93A0-FD3CC9C0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8B00E-51B1-45DC-A725-DB863637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4D54-422F-47D9-BCFE-E688DFB3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9CA-D8B6-4B0A-9379-D3A17F7F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248-6BFF-4E06-ACBF-0FF1EDBC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4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F562-80F4-4579-AFB2-41F10EC2AC55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B209-01FB-4593-8AA2-30F4BBDE2B06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4"/>
          <p:cNvSpPr>
            <a:spLocks noGrp="1"/>
          </p:cNvSpPr>
          <p:nvPr>
            <p:ph type="dt" idx="5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C9E3-AE58-48A2-82C0-671AFADA44A6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E5A6-824D-4CBE-B1EC-814E034ACE12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99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7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8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4712-F3AA-42F5-8CAE-2A45523073A0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E4DF-27FB-4F11-A7C8-303B017F7F1A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153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BD06-2B9C-4E22-8053-9257ABA76348}" type="slidenum">
              <a:rPr b="0" lang="en-GB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3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4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3170-A88D-4897-86FC-3228E91DB5C8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5C70-374B-4C8C-840A-BDEF371A6189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38400" y="560520"/>
            <a:ext cx="73850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actions of metrics and alternative policy settings at a country level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ase study from New Zealand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278000" y="2711160"/>
            <a:ext cx="717696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Andy Reisinger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 Adolf Stroombergen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K. Riahi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O. van Vliet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P. Havlik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,3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 M. Obersteiner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afb1b4"/>
                </a:solidFill>
                <a:latin typeface="Arial"/>
              </a:rPr>
              <a:t> M. Herrero</a:t>
            </a:r>
            <a:r>
              <a:rPr b="0" lang="en-US" sz="2800" spc="-1" strike="noStrike" baseline="30000">
                <a:solidFill>
                  <a:srgbClr val="afb1b4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New Zealand Agricultural Greenhouse Gas Researc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Infometrics 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3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International Institute for Applied Systems Analysis (II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Published in Proceedings of the Tyndall Conference 2011 (McGovern and Bates, edi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98E5-CA04-482C-BC2C-D79AF657C804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BB9D-0A85-42F9-AADF-6DC5402902BB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high res infometrics_logo_020619 copy"/>
          <p:cNvPicPr/>
          <p:nvPr/>
        </p:nvPicPr>
        <p:blipFill>
          <a:blip r:embed="rId1"/>
          <a:stretch/>
        </p:blipFill>
        <p:spPr>
          <a:xfrm>
            <a:off x="7858080" y="6438960"/>
            <a:ext cx="1028880" cy="41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FFAF-DAE2-42BF-B849-7F690DF2F763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28EF-695E-4D8C-9370-79AF41067D62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74200" y="91404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Competing effect of metrics. Fixed 100-year GTPs woul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educe burden of hard-to-mitigate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g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aise global carbon prices and bioenergy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esult in lower increase in livestock commodity price ind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Assume emissions targets -15% by 2020 and -50% by 20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Scenarios evaluated: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WPs or fixed 100-year GT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Policy choi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06400" indent="-270000">
              <a:spcBef>
                <a:spcPts val="601"/>
              </a:spcBef>
              <a:buClr>
                <a:srgbClr val="85c2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Full global participation in mitigation of agricultural emissions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3" marL="806400" indent="-270000">
              <a:spcBef>
                <a:spcPts val="601"/>
              </a:spcBef>
              <a:buClr>
                <a:srgbClr val="85c2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Sensitivity tests: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4" marL="1076400" indent="-270000">
              <a:spcBef>
                <a:spcPts val="601"/>
              </a:spcBef>
              <a:buClr>
                <a:srgbClr val="85c237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only country to apply price on its agricultural emissions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4" marL="1076400" indent="-270000">
              <a:spcBef>
                <a:spcPts val="601"/>
              </a:spcBef>
              <a:buClr>
                <a:srgbClr val="85c237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Agricultural non-CO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emissions excluded from all obligations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  <a:p>
            <a:pPr lvl="2" marL="536400" indent="-536400">
              <a:spcBef>
                <a:spcPts val="601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Technology: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50% reduction technology in enteric fermentation</a:t>
            </a:r>
            <a:endParaRPr b="0" lang="en-US" sz="20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320" name="Title 1"/>
          <p:cNvSpPr/>
          <p:nvPr/>
        </p:nvSpPr>
        <p:spPr>
          <a:xfrm>
            <a:off x="503280" y="219240"/>
            <a:ext cx="8101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-level implications of metrics for 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0798-DCA0-4025-93A0-7E780E1E6E70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EB20-21F7-44A9-B5B8-90A6C3474B88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503280" y="219240"/>
            <a:ext cx="78818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-level implications for New Zea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1352520" y="1362240"/>
            <a:ext cx="6307200" cy="4311360"/>
          </a:xfrm>
          <a:prstGeom prst="rect">
            <a:avLst/>
          </a:prstGeom>
          <a:ln w="0">
            <a:noFill/>
          </a:ln>
        </p:spPr>
      </p:pic>
      <p:sp>
        <p:nvSpPr>
          <p:cNvPr id="326" name="TextBox 7"/>
          <p:cNvSpPr/>
          <p:nvPr/>
        </p:nvSpPr>
        <p:spPr>
          <a:xfrm>
            <a:off x="3291840" y="731880"/>
            <a:ext cx="326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s for emissions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dity pric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2906-993D-41D0-8062-6CCAFEBC5379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EDDA-90BB-4752-AE5C-CDC26CF18A71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74200" y="100152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Net effect of metrics on NZ depends on policy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gains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from full global participation in agricultural mitigation due to increasing livestock commodity pric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is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better off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if everybody mitigates agricultural emission than if nobody does, despite having large fractional ag emissions itself and assuming no mitigation opportunities for agriculture within 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NZ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loses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if it is the only country to fully price agricultural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GTPs mute economic effects of mitigation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on New Zea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611b"/>
                </a:solidFill>
                <a:latin typeface="Arial"/>
              </a:rPr>
              <a:t>If NZ benefits, it would benefit more under GWPs than G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611b"/>
                </a:solidFill>
                <a:latin typeface="Arial"/>
              </a:rPr>
              <a:t>If NZ incurs costs, costs would be greater under GWPs than G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Benefits from any additional enteric CH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abatement technologies would be greater under GWPs than under (fixed 100-year)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T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tle 1"/>
          <p:cNvSpPr/>
          <p:nvPr/>
        </p:nvSpPr>
        <p:spPr>
          <a:xfrm>
            <a:off x="503280" y="219240"/>
            <a:ext cx="8101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-level implications of metrics for 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8182-EF3F-411A-A7DB-FAEC80963AA6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944A-2869-44C1-9183-FABE875E7B27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74200" y="915480"/>
            <a:ext cx="8075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lternative metrics affect different regions differently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depending on the GHG efficiency of production and relative roles of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nd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prices on production/expansion within a global trad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most regions, the decision to fully expose agriculture to the cost of its emissions is more important than the met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trics matter for New Zealand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net mitigation costs, but alternative policy scenarios matter much more (including determining whether NZ receives net benefits or costs from mitigation and its global implementation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TPs would mute both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positiv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negativ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effects on N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aveat: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weak link between models, and idealised sce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tle 1"/>
          <p:cNvSpPr/>
          <p:nvPr/>
        </p:nvSpPr>
        <p:spPr>
          <a:xfrm>
            <a:off x="503280" y="219240"/>
            <a:ext cx="8101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7F08-6E4F-461D-828C-B9B6245CB9D9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D1F5-39D7-4DA8-9534-43CE64779C7B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itle 1"/>
          <p:cNvSpPr/>
          <p:nvPr/>
        </p:nvSpPr>
        <p:spPr>
          <a:xfrm>
            <a:off x="546120" y="320760"/>
            <a:ext cx="7881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stions to the policy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74200" y="1002960"/>
            <a:ext cx="8075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What regional dimensions of metrics are most important? Cost? Market access? Local food production? Most vulnerable sectors (measured how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How can they be expressed so that they become tractable for further scientific / economic analysis? What assumptions are relevant for sensitivity te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Given the intricate links between metrics and other policy choices, does it make sense to evaluate the economic effects of metrics in isolation? What real-world assumptions would be most useful and relevant to stud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800" indent="-4878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What work would be useful regarding the political economy and social dimensions of metric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a nutshel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74560" y="1334880"/>
            <a:ext cx="8250480" cy="39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Globally, different metrics have only a minor impact on mitigation costs </a:t>
            </a:r>
            <a:r>
              <a:rPr b="1" lang="en-US" sz="2800" spc="-1" strike="noStrike">
                <a:solidFill>
                  <a:srgbClr val="42611b"/>
                </a:solidFill>
                <a:latin typeface="Arial"/>
              </a:rPr>
              <a:t>IF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the world follows a cost-minimising emissions pathway to limit long-term radiative for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What are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regional implications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of alternative metrics for agricultural production and non-CO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emiss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New Zealand is the developed country with the largest fraction of agricultural GHG emissions (almost 50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ow would the cost of meeting economy-wide emissions targets change for New Zealand under different metric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9581-1861-4154-AA7B-DF9CD21E10DE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1D5A-BD73-4D81-93DC-4992565C74E5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2" descr=""/>
          <p:cNvPicPr/>
          <p:nvPr/>
        </p:nvPicPr>
        <p:blipFill>
          <a:blip r:embed="rId1"/>
          <a:stretch/>
        </p:blipFill>
        <p:spPr>
          <a:xfrm>
            <a:off x="628560" y="1176480"/>
            <a:ext cx="2535480" cy="1479240"/>
          </a:xfrm>
          <a:prstGeom prst="rect">
            <a:avLst/>
          </a:prstGeom>
          <a:ln w="0">
            <a:noFill/>
          </a:ln>
        </p:spPr>
      </p:pic>
      <p:sp>
        <p:nvSpPr>
          <p:cNvPr id="26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6254-63F5-48ED-8878-37A4566D3607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0561-9F22-4415-8FB3-C75CEA58CE05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3080" y="1033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Zealand’s emissions profile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der 20-, 100- and 500-year GW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2"/>
          <a:stretch/>
        </p:blipFill>
        <p:spPr>
          <a:xfrm>
            <a:off x="333360" y="2627280"/>
            <a:ext cx="8505720" cy="29354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3"/>
          <p:cNvSpPr/>
          <p:nvPr/>
        </p:nvSpPr>
        <p:spPr>
          <a:xfrm>
            <a:off x="3595320" y="1278000"/>
            <a:ext cx="51472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mited abatement potential for past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vestock production (&gt;95% of ag emi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s a lower C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weight better for New Zeal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560" y="24300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x, nested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74560" y="1219320"/>
            <a:ext cx="82504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Metrics affect mitigation costs for an individual country in multiple, interconnected way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Balance and quantity of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nd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emissions, and targets and assigned amount units (under Kyoto-type regi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lobal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-eq prices for the world as a whole to meet an agreed long-term 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Agricultural production costs, competitiveness, and international agricultural commodity pr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this study, we assume that the world will adjust GHG prices/mitigation efforts to meet agreed long-term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B1B3-EDF5-4B2A-AC15-413F483C59A1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0C3A-3D0B-4459-A99D-6203DAB26117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5"/>
          <p:cNvSpPr/>
          <p:nvPr/>
        </p:nvSpPr>
        <p:spPr>
          <a:xfrm>
            <a:off x="0" y="4973760"/>
            <a:ext cx="9144000" cy="18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3"/>
          <p:cNvSpPr/>
          <p:nvPr/>
        </p:nvSpPr>
        <p:spPr>
          <a:xfrm>
            <a:off x="2916360" y="2133720"/>
            <a:ext cx="3085920" cy="981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cost-effective multi-gas emissions pathways and mitigation costs over the 2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century to meet a pre-determined stabilisation target in the year 21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2916360" y="189000"/>
            <a:ext cx="3085920" cy="1295280"/>
          </a:xfrm>
          <a:prstGeom prst="rect">
            <a:avLst/>
          </a:prstGeom>
          <a:solidFill>
            <a:srgbClr val="dc9e9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GICC version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exchange rates between CO</a:t>
            </a:r>
            <a:r>
              <a:rPr b="0" lang="en-US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and non-CO</a:t>
            </a:r>
            <a:r>
              <a:rPr b="0" lang="en-US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gases, for alternative bio-physical metrics and policy choices for treatment of agricul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ibrated to complex coupled climate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1"/>
          <p:cNvSpPr/>
          <p:nvPr/>
        </p:nvSpPr>
        <p:spPr>
          <a:xfrm>
            <a:off x="3780000" y="1484280"/>
            <a:ext cx="1457280" cy="781200"/>
          </a:xfrm>
          <a:prstGeom prst="downArrow">
            <a:avLst>
              <a:gd name="adj1" fmla="val 73509"/>
              <a:gd name="adj2" fmla="val 49593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non-CO</a:t>
            </a:r>
            <a:r>
              <a:rPr b="1" lang="en-US" sz="13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metr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2916360" y="4149720"/>
            <a:ext cx="3085920" cy="961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LOBI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changes in agricultural production and commodity price indices up to 2050, based on detailed spatially explicit modelling of agricultural products and tra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2916360" y="5651640"/>
            <a:ext cx="3085920" cy="111600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SS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changes in economic activity in New Zealand in 2020 and 2050, relative to ‘no climate policy’, for prescribed economy-wide emissions targets expressed in percentage relative to 199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/>
          <p:cNvSpPr/>
          <p:nvPr/>
        </p:nvSpPr>
        <p:spPr>
          <a:xfrm>
            <a:off x="3780000" y="3141720"/>
            <a:ext cx="1457280" cy="1200240"/>
          </a:xfrm>
          <a:prstGeom prst="downArrow">
            <a:avLst>
              <a:gd name="adj1" fmla="val 73509"/>
              <a:gd name="adj2" fmla="val 21454"/>
            </a:avLst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GHG prices and bioenergy deman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3780000" y="5084640"/>
            <a:ext cx="1457280" cy="723960"/>
          </a:xfrm>
          <a:prstGeom prst="downArrow">
            <a:avLst>
              <a:gd name="adj1" fmla="val 73509"/>
              <a:gd name="adj2" fmla="val 35491"/>
            </a:avLst>
          </a:prstGeom>
          <a:solidFill>
            <a:srgbClr val="ffffff"/>
          </a:solidFill>
          <a:ln w="316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modity pric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6084720" y="2421000"/>
            <a:ext cx="924120" cy="4152960"/>
          </a:xfrm>
          <a:custGeom>
            <a:avLst/>
            <a:gdLst>
              <a:gd name="textAreaLeft" fmla="*/ 123840 w 924120"/>
              <a:gd name="textAreaRight" fmla="*/ 800280 w 924120"/>
              <a:gd name="textAreaTop" fmla="*/ 871560 h 4152960"/>
              <a:gd name="textAreaBottom" fmla="*/ 3038760 h 415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2877782"/>
                <a:lnTo>
                  <a:pt x="7645" y="21013"/>
                </a:lnTo>
                <a:lnTo>
                  <a:pt x="0" y="19235"/>
                </a:lnTo>
                <a:lnTo>
                  <a:pt x="7645" y="16283"/>
                </a:lnTo>
                <a:lnTo>
                  <a:pt x="7645" y="17546"/>
                </a:lnTo>
                <a:arcTo wR="21600" hR="9067" stAng="2877782" swAng="-2701239"/>
                <a:lnTo>
                  <a:pt x="21440" y="10169"/>
                </a:lnTo>
                <a:arcTo wR="21600" hR="9067" stAng="-176543" swAng="-5223457"/>
                <a:close/>
              </a:path>
              <a:path fill="darkenLess"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-176543"/>
                <a:lnTo>
                  <a:pt x="21440" y="10169"/>
                </a:lnTo>
                <a:arcTo wR="21600" hR="9067" stAng="-176543" swAng="-5223457"/>
                <a:close/>
              </a:path>
            </a:pathLst>
          </a:custGeom>
          <a:solidFill>
            <a:srgbClr val="ffffff"/>
          </a:solidFill>
          <a:ln w="316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 flipH="1">
            <a:off x="1979640" y="476280"/>
            <a:ext cx="923760" cy="6191280"/>
          </a:xfrm>
          <a:custGeom>
            <a:avLst/>
            <a:gdLst>
              <a:gd name="textAreaLeft" fmla="*/ 123480 w 923760"/>
              <a:gd name="textAreaRight" fmla="*/ 800280 w 923760"/>
              <a:gd name="textAreaTop" fmla="*/ 1299240 h 6191280"/>
              <a:gd name="textAreaBottom" fmla="*/ 4529880 h 619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2877782"/>
                <a:lnTo>
                  <a:pt x="7645" y="21013"/>
                </a:lnTo>
                <a:lnTo>
                  <a:pt x="0" y="19235"/>
                </a:lnTo>
                <a:lnTo>
                  <a:pt x="7645" y="16283"/>
                </a:lnTo>
                <a:lnTo>
                  <a:pt x="7645" y="17546"/>
                </a:lnTo>
                <a:arcTo wR="21600" hR="9067" stAng="2877782" swAng="-2701239"/>
                <a:lnTo>
                  <a:pt x="21440" y="10169"/>
                </a:lnTo>
                <a:arcTo wR="21600" hR="9067" stAng="-176543" swAng="-5223457"/>
                <a:close/>
              </a:path>
              <a:path fill="darkenLess" w="21600" h="21600">
                <a:moveTo>
                  <a:pt x="0" y="0"/>
                </a:moveTo>
                <a:arcTo wR="21600" hR="9067" stAng="-5400000" swAng="5400000"/>
                <a:lnTo>
                  <a:pt x="21600" y="11271"/>
                </a:lnTo>
                <a:arcTo wR="21600" hR="9067" stAng="0" swAng="-176543"/>
                <a:lnTo>
                  <a:pt x="21440" y="10169"/>
                </a:lnTo>
                <a:arcTo wR="21600" hR="9067" stAng="-176543" swAng="-5223457"/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7121520" y="3957480"/>
            <a:ext cx="162864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CO</a:t>
            </a:r>
            <a:r>
              <a:rPr b="1" lang="en-US" sz="13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prices used in emissions tra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639720" y="5486400"/>
            <a:ext cx="1488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metric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to account for non-CO</a:t>
            </a:r>
            <a:r>
              <a:rPr b="1" lang="en-US" sz="13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gases in emissions targ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7"/>
          <p:cNvSpPr/>
          <p:nvPr/>
        </p:nvSpPr>
        <p:spPr>
          <a:xfrm>
            <a:off x="438120" y="404640"/>
            <a:ext cx="18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6443640" y="404640"/>
            <a:ext cx="21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7D28-E1FC-4FE6-B67D-B448AA3E2307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90D7-29E7-4744-AE07-81672B71F36F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74200" y="92844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Use GLOBIOM to model agricultural production to 20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1199"/>
              </a:spcAft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Spatially explicit partial equilibrium model for agriculture and forestry, including trade (Havlik et al.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Impose prices for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,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nd N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O and biofuel demands from global MESSAGE runs for 450ppm targ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100-year GWPs (defau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Fixed 100-year GT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1199"/>
              </a:spcAft>
              <a:buClr>
                <a:srgbClr val="85c2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agricultural non-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emissions exclu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5320">
              <a:spcAft>
                <a:spcPts val="601"/>
              </a:spcAft>
              <a:buClr>
                <a:srgbClr val="85c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Explore regional agricultural production and GHG emissions under additional GHG costs in all regions, and effects on supply / commodity prices of livestock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itle 1"/>
          <p:cNvSpPr/>
          <p:nvPr/>
        </p:nvSpPr>
        <p:spPr>
          <a:xfrm>
            <a:off x="503280" y="219240"/>
            <a:ext cx="8640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implications for livestock 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577800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lobal agricultural C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emission pathwa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CB40-DDDE-42CD-BEB8-A94DF2615DA5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3FE1-8639-40C6-BC60-E17A082D7F63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785880" y="270000"/>
            <a:ext cx="78818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hanges in cattle milk 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2030, relative to no-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rcRect l="0" t="34208" r="0" b="0"/>
          <a:stretch/>
        </p:blipFill>
        <p:spPr>
          <a:xfrm>
            <a:off x="254160" y="690480"/>
            <a:ext cx="8265960" cy="58248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8"/>
          <p:cNvSpPr/>
          <p:nvPr/>
        </p:nvSpPr>
        <p:spPr>
          <a:xfrm>
            <a:off x="3552840" y="4083120"/>
            <a:ext cx="5049720" cy="189324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108000" bIns="108000" anchor="t">
            <a:spAutoFit/>
          </a:bodyPr>
          <a:p>
            <a:pPr algn="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trics have different effects region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most regions, the decision to impose a cost at all has a bigger effect than the choice of metr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C276-0EE6-4A93-BDDB-A006C5E2003D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B3A3-5039-447C-A129-82337C1CF1D9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itle 1"/>
          <p:cNvSpPr/>
          <p:nvPr/>
        </p:nvSpPr>
        <p:spPr>
          <a:xfrm>
            <a:off x="785880" y="109440"/>
            <a:ext cx="7881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nges in product supply pr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rcRect l="0" t="0" r="0" b="36179"/>
          <a:stretch/>
        </p:blipFill>
        <p:spPr>
          <a:xfrm>
            <a:off x="525600" y="826920"/>
            <a:ext cx="5943600" cy="4691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"/>
          <p:cNvPicPr/>
          <p:nvPr/>
        </p:nvPicPr>
        <p:blipFill>
          <a:blip r:embed="rId2"/>
          <a:stretch/>
        </p:blipFill>
        <p:spPr>
          <a:xfrm>
            <a:off x="6418440" y="658800"/>
            <a:ext cx="2609640" cy="1419120"/>
          </a:xfrm>
          <a:prstGeom prst="rect">
            <a:avLst/>
          </a:prstGeom>
          <a:ln w="0">
            <a:noFill/>
          </a:ln>
        </p:spPr>
      </p:pic>
      <p:grpSp>
        <p:nvGrpSpPr>
          <p:cNvPr id="306" name="Group 19"/>
          <p:cNvGrpSpPr/>
          <p:nvPr/>
        </p:nvGrpSpPr>
        <p:grpSpPr>
          <a:xfrm>
            <a:off x="525600" y="825480"/>
            <a:ext cx="5894280" cy="3985200"/>
            <a:chOff x="525600" y="825480"/>
            <a:chExt cx="5894280" cy="3985200"/>
          </a:xfrm>
        </p:grpSpPr>
        <p:pic>
          <p:nvPicPr>
            <p:cNvPr id="307" name="Picture 8" descr=""/>
            <p:cNvPicPr/>
            <p:nvPr/>
          </p:nvPicPr>
          <p:blipFill>
            <a:blip r:embed="rId3"/>
            <a:srcRect l="0" t="0" r="0" b="18653"/>
            <a:stretch/>
          </p:blipFill>
          <p:spPr>
            <a:xfrm>
              <a:off x="525600" y="825480"/>
              <a:ext cx="5894280" cy="37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Box 18"/>
            <p:cNvSpPr/>
            <p:nvPr/>
          </p:nvSpPr>
          <p:spPr>
            <a:xfrm>
              <a:off x="757440" y="4411800"/>
              <a:ext cx="534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Box 23"/>
          <p:cNvSpPr/>
          <p:nvPr/>
        </p:nvSpPr>
        <p:spPr>
          <a:xfrm>
            <a:off x="1530360" y="658800"/>
            <a:ext cx="41036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ere future production increa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quire land-use change, 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pri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te the 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therwise, non-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prices a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re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382680" y="279360"/>
            <a:ext cx="7570800" cy="5419800"/>
          </a:xfrm>
          <a:prstGeom prst="rect">
            <a:avLst/>
          </a:prstGeom>
          <a:ln w="0">
            <a:noFill/>
          </a:ln>
        </p:spPr>
      </p:pic>
      <p:sp>
        <p:nvSpPr>
          <p:cNvPr id="31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8E9A-216D-4464-94CF-FE813C5A338C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FDDB-62A9-4163-8533-0CB59DE9E14D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itle 1"/>
          <p:cNvSpPr/>
          <p:nvPr/>
        </p:nvSpPr>
        <p:spPr>
          <a:xfrm>
            <a:off x="785880" y="109440"/>
            <a:ext cx="83581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nges in livestock commodity price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"/>
          <p:cNvPicPr/>
          <p:nvPr/>
        </p:nvPicPr>
        <p:blipFill>
          <a:blip r:embed="rId2"/>
          <a:stretch/>
        </p:blipFill>
        <p:spPr>
          <a:xfrm>
            <a:off x="2470320" y="933480"/>
            <a:ext cx="2609640" cy="141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4:12:39Z</dcterms:created>
  <dc:creator>Andy Reisinger</dc:creator>
  <dc:description/>
  <dc:language>en-US</dc:language>
  <cp:lastModifiedBy>Andy Reisinger</cp:lastModifiedBy>
  <dcterms:modified xsi:type="dcterms:W3CDTF">2012-04-02T07:24:02Z</dcterms:modified>
  <cp:revision>123</cp:revision>
  <dc:subject/>
  <dc:title>Mitigating Greenhouse Gas Emissions</dc:title>
</cp:coreProperties>
</file>