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51A-4CDA-4812-BBE6-7115F0DD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FD4-AA59-4A42-A2B9-51403B0D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D02-16E4-40EE-B89D-D85DCCF0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C21-958F-4E9A-AE31-4970EC3C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ACA3-DB90-42A3-8D2B-69A29BB4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AB52-9114-4FE5-8FB3-13ADF58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A3B9-B04D-480D-B066-F502F2FE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679F-D4CA-4755-81ED-E31B72F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0296-6D52-4F00-B687-010CA2CC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1F9A-9376-4C82-BBF8-FB7893EF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290-52A2-46F2-9D5D-A0984DF2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7F2-0BD7-4989-BFC9-6C0456F0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8A4-E5CA-4A04-953E-39F1137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C62C-0567-4AE6-8DAF-7D293724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F30-E812-4371-8071-8B786D8F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B7B5-AD66-4ECF-A7F8-D472F8DC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FDF6-3751-44C1-903D-FF42F7F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9DCE-C11D-49DE-A5BF-E6C20B39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3A74-01DE-40DB-BF71-CD90D1E2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CB22-079B-4C27-A3F7-0671FB6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C4A7-6C78-4448-B93C-A49B66E2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ADD7-8A52-40E8-AB4E-2C73F48F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563-4124-4508-A5E6-015E635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7747-0798-43D3-836A-7B15FC6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D3D1-4FB5-4B8D-834F-CCAEDD0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C874-4FCE-4E4C-A8C0-D42F140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22BC-FC43-425D-B1A9-D4AD958B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DFE3-9D9C-4220-B52C-F50A07B1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B503-396E-47EB-B727-5B12DCD0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6D49-FFB9-4EF3-90D6-854F134A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FFCC-96B8-403F-9925-7360B057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A118-4449-42D8-B47D-E51C5476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FF7B-3A73-41B5-85E0-D4F6E191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C6B-D492-4B86-9F31-8DDFD426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D0B6-F185-44FA-B466-122D6B9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09178-C856-4AF0-AB85-2921ECF7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E19A-8BA5-47D9-9A9C-6A56F59A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4CDF-2F9B-48FF-B348-A347DA98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9B0F-D484-47FA-AD75-90FC6AA4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A6EE-FC34-425A-ACD8-F358C58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1769-18F8-4BD2-BDBD-8CA88085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985E-7B9D-43B6-887E-8A55CCDB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63ED-8CC8-40C2-BC09-52D05DE9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F870-8F1D-4026-A289-22E3FA20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710-3B03-4982-B98D-F1D3B70B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CF04-B81A-4760-AED3-7B1D7447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E8A6-3C79-4760-BBC1-9F9B81C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443E-D703-4D04-AE67-3E3B70F4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FAF1A-CAA0-49BB-80E3-677F24A9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6F51F-9279-4568-A65D-03F12A16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02B2F-606B-4A4B-BB1F-6EC90AF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8932B-1D0D-42AD-B611-9822090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F3A9-620D-46C1-B4D5-85DB9BC0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D5974-C61D-4DED-AEC2-717B91DC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7F16-589F-40F7-ADD5-807A0EF7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C74-E333-4D51-8FDF-050F3E48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F7A1-13F7-4496-8377-C95E276B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CC9-5258-437A-A97E-0ADC931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A8A-6598-46C4-9E8F-8F40570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B28-A1B4-404A-841F-6BBA2C41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7C32-7FFE-4A92-9BCB-D83231713F27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02D-90CB-42B4-A618-31549774D220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73E-E217-4FD2-B39B-98C777EADAEC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9980-C195-4B60-9B78-156C0AE2C1D2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EE64-6441-4535-85CC-9D9B4BEE55FA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6AC-F83B-451C-9024-6112A1C7813A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153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4B5-926C-4341-A615-AE183C3DB813}" type="slidenum">
              <a:rPr b="0" lang="en-GB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4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F90-2706-4009-891E-E86034EBF9B9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397D-16D0-4939-921A-73BBF0BA040C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8400" y="560520"/>
            <a:ext cx="73850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ons of metrics and alternative policy settings at a country level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se study from New Zealand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78000" y="2711160"/>
            <a:ext cx="71769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Adolf Stroombergen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K. Riahi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O. van Vliet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P. Havlik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,3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Oberstein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Herrero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fometrics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Published in Proceedings of the Tyndall Conference 2011 (McGovern and Bates, ed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AF1A-3736-4A7A-B3F7-F630C7C8287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7174-A178-4388-B653-45C18C20463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high res infometrics_logo_020619 copy"/>
          <p:cNvPicPr/>
          <p:nvPr/>
        </p:nvPicPr>
        <p:blipFill>
          <a:blip r:embed="rId1"/>
          <a:stretch/>
        </p:blipFill>
        <p:spPr>
          <a:xfrm>
            <a:off x="7858080" y="6438960"/>
            <a:ext cx="1028880" cy="41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3D3C-4F77-43FC-883B-729BA80EDE83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78AA-F659-4B42-B121-984A816E0A9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74200" y="9140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Competing effect of metrics. Fixed 100-year GTPs wou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duce burden of hard-to-mitigate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aise global carbon prices and bioenergy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lower increase in livestock commodity price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 emissions targets -15% by 2020 and -50% by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Scenarios evaluated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or 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Full global participation in mitigation of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Sensitivity tests: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only country to apply price on its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emissions excluded from all obligat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2" marL="536400" indent="-536400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Technology: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50% reduction technology in enteric fermentation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559D-3915-43FF-95D4-47F84D5DB65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4C6F-F691-4860-83A6-2A6DFB00DBE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03280" y="21924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for New Zea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6307200" cy="43113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3291840" y="731880"/>
            <a:ext cx="32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for emissions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dity pri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AEE3-46C6-42AC-8B22-AD3FE154673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433E-5257-4B98-A5E1-F332C7DFB7A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4200" y="100152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Net effect of metrics on NZ depends on polic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ain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from full global participation in agricultural mitigation due to increasing livestock commodity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i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better off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everybody mitigates agricultural emission than if nobody does, despite having large fractional ag emissions itself and assuming no mitigation opportunities for agriculture within 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ose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it is the only country to fully price agricultur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TPs mute economic effects of mitigation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o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benefits, it would benefit more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incurs costs, costs would be greater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Benefits from any additional enteric CH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abatement technologies would be greater under GWPs than under (fixed 100-year)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E049-5342-4D9B-A3F3-42EAF59982C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5AE-F67D-43E6-8382-9E0DCDEC6E0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200" y="915480"/>
            <a:ext cx="8075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ternative metrics affect different regions differently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depending on the GHG efficiency of production and relative roles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on production/expansion within a global trad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most regions, the decision to fully expose agriculture to the cost of its emissions is more important than the 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rics matter for New Zealand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et mitigation costs, but alternative policy scenarios matter much more (including determining whether NZ receives net benefits or costs from mitigation and its global implement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TPs would mute both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ffects on 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veat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weak link between models, and idealised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5168-3B7F-4F2D-989D-26B47B30C3F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715-C964-412E-AD16-D889D6B9111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4200" y="1002960"/>
            <a:ext cx="8075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regional dimensions of metrics are most important? Cost? Market access? Local food production? Most vulnerable sectors (measured how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can they be expressed so that they become tractable for further scientific / economic analysis? What assumptions are relevant for sensitivity te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Given the intricate links between metrics and other policy choices, does it make sense to evaluate the economic effects of metrics in isolation? What real-world assumptions would be most useful and relevant to stu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work would be useful regarding the political economy and social dimensions of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4560" y="1334880"/>
            <a:ext cx="825048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lobally, different metrics have only a minor impact on mitigation costs </a:t>
            </a:r>
            <a:r>
              <a:rPr b="1" lang="en-US" sz="2800" spc="-1" strike="noStrike">
                <a:solidFill>
                  <a:srgbClr val="42611b"/>
                </a:solidFill>
                <a:latin typeface="Arial"/>
              </a:rPr>
              <a:t>IF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the world follows a cost-minimising emissions pathway to limit long-term radiative for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ar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implicati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lternative metrics for agricultural production and non-CO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miss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New Zealand is the developed country with the largest fraction of agricultural GHG emissions (almost 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ow would the cost of meeting economy-wide emissions targets change for New Zealand under different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5CC-B542-4698-9658-25D8DB0B886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C1B-CBA2-403B-9F71-8485A53542D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628560" y="1176480"/>
            <a:ext cx="2535480" cy="147924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4666-80EF-430B-B587-7DF3FCB1CA8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5E5-D829-40E8-85DF-FE4904E009B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3080" y="1033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Zealand’s emissions profi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 20-, 100- and 500-year GW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2"/>
          <a:stretch/>
        </p:blipFill>
        <p:spPr>
          <a:xfrm>
            <a:off x="333360" y="2627280"/>
            <a:ext cx="8505720" cy="29354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3"/>
          <p:cNvSpPr/>
          <p:nvPr/>
        </p:nvSpPr>
        <p:spPr>
          <a:xfrm>
            <a:off x="3595320" y="1278000"/>
            <a:ext cx="5147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mited abatement potential for pas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stock production (&gt;95% of ag emi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lower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eight better for New Zea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560" y="24300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, nested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4560" y="1219320"/>
            <a:ext cx="825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Metrics affect mitigation costs for an individual country in multiple, interconnected wa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Balance and quantity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, and targets and assigned amount units (under Kyoto-type reg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-eq prices for the world as a whole to meet an agreed long-term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production costs, competitiveness, and international agricultural commodity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this study, we assume that the world will adjust GHG prices/mitigation efforts to meet agreed long-ter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9970-B037-4479-9F4A-7E597E03EB1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DBE6-A95B-40EB-ABD8-FD30667B852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0" y="4973760"/>
            <a:ext cx="9144000" cy="18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2916360" y="2133720"/>
            <a:ext cx="3085920" cy="981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ost-effective multi-gas emissions pathways and mitigation costs over the 2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o meet a pre-determined stabilisation target in the year 21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916360" y="189000"/>
            <a:ext cx="3085920" cy="1295280"/>
          </a:xfrm>
          <a:prstGeom prst="rect">
            <a:avLst/>
          </a:prstGeom>
          <a:solidFill>
            <a:srgbClr val="dc9e9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GICC vers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exchange rates between 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non-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, for alternative bio-physical metrics and policy choices for treatment of agri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d to complex coupled climat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3780000" y="1484280"/>
            <a:ext cx="1457280" cy="781200"/>
          </a:xfrm>
          <a:prstGeom prst="downArrow">
            <a:avLst>
              <a:gd name="adj1" fmla="val 73509"/>
              <a:gd name="adj2" fmla="val 49593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metr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916360" y="4149720"/>
            <a:ext cx="3085920" cy="961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OBI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agricultural production and commodity price indices up to 2050, based on detailed spatially explicit modelling of agricultural products and tr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916360" y="5651640"/>
            <a:ext cx="3085920" cy="1116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economic activity in New Zealand in 2020 and 2050, relative to ‘no climate policy’, for prescribed economy-wide emissions targets expressed in percentage relative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3780000" y="3141720"/>
            <a:ext cx="1457280" cy="1200240"/>
          </a:xfrm>
          <a:prstGeom prst="downArrow">
            <a:avLst>
              <a:gd name="adj1" fmla="val 73509"/>
              <a:gd name="adj2" fmla="val 21454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HG prices and bioenergy dema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3780000" y="5084640"/>
            <a:ext cx="1457280" cy="723960"/>
          </a:xfrm>
          <a:prstGeom prst="downArrow">
            <a:avLst>
              <a:gd name="adj1" fmla="val 73509"/>
              <a:gd name="adj2" fmla="val 35491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y pric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084720" y="2421000"/>
            <a:ext cx="924120" cy="4152960"/>
          </a:xfrm>
          <a:custGeom>
            <a:avLst/>
            <a:gdLst>
              <a:gd name="textAreaLeft" fmla="*/ 123840 w 924120"/>
              <a:gd name="textAreaRight" fmla="*/ 800280 w 924120"/>
              <a:gd name="textAreaTop" fmla="*/ 871560 h 4152960"/>
              <a:gd name="textAreaBottom" fmla="*/ 3038760 h 415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 flipH="1">
            <a:off x="1979640" y="476280"/>
            <a:ext cx="923760" cy="6191280"/>
          </a:xfrm>
          <a:custGeom>
            <a:avLst/>
            <a:gdLst>
              <a:gd name="textAreaLeft" fmla="*/ 123480 w 923760"/>
              <a:gd name="textAreaRight" fmla="*/ 800280 w 923760"/>
              <a:gd name="textAreaTop" fmla="*/ 1299240 h 6191280"/>
              <a:gd name="textAreaBottom" fmla="*/ 4529880 h 619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121520" y="3957480"/>
            <a:ext cx="162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prices used in emissions tra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39720" y="5486400"/>
            <a:ext cx="148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etric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ount for 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 in emissions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438120" y="40464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6443640" y="404640"/>
            <a:ext cx="21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E034-8BED-41CC-8673-183D8F30A94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807E-2CCB-4E25-B820-DC7CF6A66A8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4200" y="9284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Use GLOBIOM to model agricultural production to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Spatially explicit partial equilibrium model for agriculture and forestry, including trade (Havlik et al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Impose prices fo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,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O and biofuel demands from global MESSAGE runs for 450ppm targ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100-year GWPs (defa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 ex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xplore regional agricultural production and GHG emissions under additional GHG costs in all regions, and effects on supply / commodity prices of livestock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503280" y="219240"/>
            <a:ext cx="864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implications for livestoc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9441-011C-4D3E-89FE-4444B62F86F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521-BD00-4277-9B99-33C35EB05CE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85880" y="27000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hanges in cattle mil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30, relative to no-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rcRect l="0" t="34208" r="0" b="0"/>
          <a:stretch/>
        </p:blipFill>
        <p:spPr>
          <a:xfrm>
            <a:off x="254160" y="690480"/>
            <a:ext cx="8265960" cy="5824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8"/>
          <p:cNvSpPr/>
          <p:nvPr/>
        </p:nvSpPr>
        <p:spPr>
          <a:xfrm>
            <a:off x="3552840" y="4083120"/>
            <a:ext cx="5049720" cy="189324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t">
            <a:sp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rics have different effects regi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regions, the decision to impose a cost at all has a bigger effect than the choice of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CAEA-CB97-49C3-BBE9-1F1257EBEB11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EDCD-E328-4F53-A396-011084304E4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785880" y="10944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product suppl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36179"/>
          <a:stretch/>
        </p:blipFill>
        <p:spPr>
          <a:xfrm>
            <a:off x="525600" y="826920"/>
            <a:ext cx="5943600" cy="469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6418440" y="658800"/>
            <a:ext cx="2609640" cy="141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9"/>
          <p:cNvGrpSpPr/>
          <p:nvPr/>
        </p:nvGrpSpPr>
        <p:grpSpPr>
          <a:xfrm>
            <a:off x="525600" y="825480"/>
            <a:ext cx="5894280" cy="3985200"/>
            <a:chOff x="525600" y="825480"/>
            <a:chExt cx="5894280" cy="3985200"/>
          </a:xfrm>
        </p:grpSpPr>
        <p:pic>
          <p:nvPicPr>
            <p:cNvPr id="307" name="Picture 8" descr=""/>
            <p:cNvPicPr/>
            <p:nvPr/>
          </p:nvPicPr>
          <p:blipFill>
            <a:blip r:embed="rId3"/>
            <a:srcRect l="0" t="0" r="0" b="18653"/>
            <a:stretch/>
          </p:blipFill>
          <p:spPr>
            <a:xfrm>
              <a:off x="525600" y="825480"/>
              <a:ext cx="58942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8"/>
            <p:cNvSpPr/>
            <p:nvPr/>
          </p:nvSpPr>
          <p:spPr>
            <a:xfrm>
              <a:off x="757440" y="4411800"/>
              <a:ext cx="534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23"/>
          <p:cNvSpPr/>
          <p:nvPr/>
        </p:nvSpPr>
        <p:spPr>
          <a:xfrm>
            <a:off x="1530360" y="658800"/>
            <a:ext cx="4103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future production increa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quire land-use change,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te th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wise, non-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 a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82680" y="279360"/>
            <a:ext cx="7570800" cy="54198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4EF7-39E2-4469-B3ED-DC36555F08B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96D0-FC7F-49A8-AC39-FC72BBE2494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785880" y="109440"/>
            <a:ext cx="835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livestock commodity price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2470320" y="933480"/>
            <a:ext cx="26096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24:02Z</dcterms:modified>
  <cp:revision>123</cp:revision>
  <dc:subject/>
  <dc:title>Mitigating Greenhouse Gas Emissions</dc:title>
</cp:coreProperties>
</file>