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4697-55C5-4611-8358-7444DF876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B8FD-3E4A-4084-AE3A-8E6F45488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BBC3-0CAE-4DA3-8287-3D3A6006D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5224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92992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57456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5224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92992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0A8C-7816-44BB-8794-A4FA96499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98F1B-EDFF-4E9F-B64D-CAD8CF49B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016E7-E48D-4A7C-9E16-4040157CE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08A3A-9FCE-406D-B652-512C1D716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CB93D-DA5F-4A37-AE7C-9554BD578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B3571-7375-485B-9022-3CD754EC5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574560" y="358920"/>
            <a:ext cx="791712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3AF18-5BFC-4254-9ADA-F84F1253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0CEC0-E15E-45C3-8C11-157F4835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EC33-5F6C-4671-A0FB-EDC012D5D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E1F69-A31F-4EF8-83DB-528F5A3A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576F5-6832-48B9-ACC0-AED95596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1FEC7-C160-4D85-AE59-40F75192A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B97FE-7632-4CBF-9436-E866233B3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5224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2992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7456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5224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2992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E91CA-BE3D-4965-880B-BD47A28B7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841BC-3606-4906-B860-E3EC35D37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AD076-57CB-410C-AC33-17C66CD58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6F180-F665-40B8-B648-57BFBB7EA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667A1-6F6F-4184-8F19-834191C9C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721F5-8D2B-40ED-8C5F-E36BC9D2C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E929-3C69-4BA6-8589-F0A9B8AFD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574560" y="358920"/>
            <a:ext cx="791712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91236-C5F6-4271-9D0D-E0591DF1B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8C56A-55DF-4B38-B5E4-15E2FD5B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8BFAF-CF10-41B4-971E-720B7418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F7DDD-0A1A-4FC8-A08A-0AB2207E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72804-E962-4D9A-9D50-2B6F741FE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E46D5-2D97-458F-8E95-5D27227CF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5224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2992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7456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5224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2992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021BE-21E9-4794-AAA9-8307D3AEE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FB394-075E-4FF2-9543-911155637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D140B-CCE6-4C86-84D4-612517AEB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663B2-E96F-4120-A285-F5FD1B96A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B77B-05D8-4E27-B1C4-0B4C5200D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97AC4-0A20-42FC-A11C-28FBA3FB3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1158D-0E08-47BC-A353-5E8280336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74560" y="358920"/>
            <a:ext cx="791712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BE18A-00C1-4CFB-A89E-4302678DB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67BDA-0B62-430D-B6E5-ADF0DD17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25471-2583-4273-A3AD-1A4C6007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4C8AB-79D1-49F3-8DA1-229E3E65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C7BE1-2348-44AE-8810-F717FCCC5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48AA9-F489-407C-AE20-69564F404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5224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2992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7456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5224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2992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49F9A-D3D6-47FC-A142-4884C3539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8796D-28C8-4E66-8218-B0C7709EA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98F4-9C68-4041-A199-4DFCE3BDD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AA339-5DF4-418D-A6BE-C63DA2FEC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91BD7-1F68-4561-9B20-6CF68A6B1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B402E-CF94-48B3-AFB1-840001697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F8389-537A-4B02-828B-936A0C264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574560" y="358920"/>
            <a:ext cx="791712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30753-9BDE-45E7-A628-9319AA450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D8D59-4C43-4F48-85A7-15A41EDF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B2F2B-50A4-4AF1-A19A-18962849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7AD2D-641E-4A4D-B6DD-8CE49499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EBE8D-F2D3-4726-B8F5-7C8744875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1BDBD-2E11-4271-A051-E858D6A51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74560" y="358920"/>
            <a:ext cx="791712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4362-B693-4BB2-82D2-06B1A89EB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5224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92992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57456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5224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92992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C042F-87A8-4771-87E2-8AE2C424F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9D80-94BA-4254-AFCE-B504C221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C2E6-AB0D-4507-B476-5832962D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3219-656D-4EC3-B20A-E4963D84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25.xml"/><Relationship Id="rId13" Type="http://schemas.openxmlformats.org/officeDocument/2006/relationships/slideLayout" Target="../slideLayouts/slideLayout26.xml"/><Relationship Id="rId14" Type="http://schemas.openxmlformats.org/officeDocument/2006/relationships/slideLayout" Target="../slideLayouts/slideLayout27.xml"/><Relationship Id="rId15" Type="http://schemas.openxmlformats.org/officeDocument/2006/relationships/slideLayout" Target="../slideLayouts/slideLayout28.xml"/><Relationship Id="rId16" Type="http://schemas.openxmlformats.org/officeDocument/2006/relationships/slideLayout" Target="../slideLayouts/slideLayout29.xml"/><Relationship Id="rId17" Type="http://schemas.openxmlformats.org/officeDocument/2006/relationships/slideLayout" Target="../slideLayouts/slideLayout30.xml"/><Relationship Id="rId18" Type="http://schemas.openxmlformats.org/officeDocument/2006/relationships/slideLayout" Target="../slideLayouts/slideLayout31.xml"/><Relationship Id="rId19" Type="http://schemas.openxmlformats.org/officeDocument/2006/relationships/slideLayout" Target="../slideLayouts/slideLayout32.xml"/><Relationship Id="rId20" Type="http://schemas.openxmlformats.org/officeDocument/2006/relationships/slideLayout" Target="../slideLayouts/slideLayout33.xml"/><Relationship Id="rId21" Type="http://schemas.openxmlformats.org/officeDocument/2006/relationships/slideLayout" Target="../slideLayouts/slideLayout34.xml"/><Relationship Id="rId22" Type="http://schemas.openxmlformats.org/officeDocument/2006/relationships/slideLayout" Target="../slideLayouts/slideLayout35.xml"/><Relationship Id="rId2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37.xml"/><Relationship Id="rId13" Type="http://schemas.openxmlformats.org/officeDocument/2006/relationships/slideLayout" Target="../slideLayouts/slideLayout38.xml"/><Relationship Id="rId14" Type="http://schemas.openxmlformats.org/officeDocument/2006/relationships/slideLayout" Target="../slideLayouts/slideLayout39.xml"/><Relationship Id="rId15" Type="http://schemas.openxmlformats.org/officeDocument/2006/relationships/slideLayout" Target="../slideLayouts/slideLayout40.xml"/><Relationship Id="rId16" Type="http://schemas.openxmlformats.org/officeDocument/2006/relationships/slideLayout" Target="../slideLayouts/slideLayout41.xml"/><Relationship Id="rId17" Type="http://schemas.openxmlformats.org/officeDocument/2006/relationships/slideLayout" Target="../slideLayouts/slideLayout42.xml"/><Relationship Id="rId18" Type="http://schemas.openxmlformats.org/officeDocument/2006/relationships/slideLayout" Target="../slideLayouts/slideLayout43.xml"/><Relationship Id="rId19" Type="http://schemas.openxmlformats.org/officeDocument/2006/relationships/slideLayout" Target="../slideLayouts/slideLayout44.xml"/><Relationship Id="rId20" Type="http://schemas.openxmlformats.org/officeDocument/2006/relationships/slideLayout" Target="../slideLayouts/slideLayout45.xml"/><Relationship Id="rId21" Type="http://schemas.openxmlformats.org/officeDocument/2006/relationships/slideLayout" Target="../slideLayouts/slideLayout46.xml"/><Relationship Id="rId22" Type="http://schemas.openxmlformats.org/officeDocument/2006/relationships/slideLayout" Target="../slideLayouts/slideLayout47.xml"/><Relationship Id="rId2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3240" y="5778360"/>
            <a:ext cx="9140760" cy="107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440000" indent="-270000">
              <a:spcBef>
                <a:spcPts val="550"/>
              </a:spcBef>
              <a:spcAft>
                <a:spcPts val="1500"/>
              </a:spcAft>
              <a:buClr>
                <a:srgbClr val="85c23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4000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09640" indent="-26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9640" indent="-143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11"/>
          <p:cNvGrpSpPr/>
          <p:nvPr/>
        </p:nvGrpSpPr>
        <p:grpSpPr>
          <a:xfrm>
            <a:off x="2411280" y="6127920"/>
            <a:ext cx="6145200" cy="350640"/>
            <a:chOff x="2411280" y="6127920"/>
            <a:chExt cx="6145200" cy="350640"/>
          </a:xfrm>
        </p:grpSpPr>
        <p:pic>
          <p:nvPicPr>
            <p:cNvPr id="4" name="Picture 12" descr="AG-MASTER-LOGO-rev_sl.gif"/>
            <p:cNvPicPr/>
            <p:nvPr/>
          </p:nvPicPr>
          <p:blipFill>
            <a:blip r:embed="rId2"/>
            <a:stretch/>
          </p:blipFill>
          <p:spPr>
            <a:xfrm>
              <a:off x="2411280" y="6202080"/>
              <a:ext cx="464040" cy="20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13" descr="DairyNZ_NoStrap_grey_sl.gif"/>
            <p:cNvPicPr/>
            <p:nvPr/>
          </p:nvPicPr>
          <p:blipFill>
            <a:blip r:embed="rId3"/>
            <a:srcRect l="10316" t="0" r="4577" b="0"/>
            <a:stretch/>
          </p:blipFill>
          <p:spPr>
            <a:xfrm>
              <a:off x="3032280" y="6127920"/>
              <a:ext cx="614160" cy="35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14" descr="LandcareLogoLarge_white_sl.gif"/>
            <p:cNvPicPr/>
            <p:nvPr/>
          </p:nvPicPr>
          <p:blipFill>
            <a:blip r:embed="rId4"/>
            <a:stretch/>
          </p:blipFill>
          <p:spPr>
            <a:xfrm>
              <a:off x="3804120" y="6231960"/>
              <a:ext cx="666000" cy="14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15" descr="LU-logo-white-Specialist.gif"/>
            <p:cNvPicPr/>
            <p:nvPr/>
          </p:nvPicPr>
          <p:blipFill>
            <a:blip r:embed="rId5"/>
            <a:stretch/>
          </p:blipFill>
          <p:spPr>
            <a:xfrm>
              <a:off x="4627440" y="6217560"/>
              <a:ext cx="47160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6" descr="MU_Logo_grey_sl.gif"/>
            <p:cNvPicPr/>
            <p:nvPr/>
          </p:nvPicPr>
          <p:blipFill>
            <a:blip r:embed="rId6"/>
            <a:stretch/>
          </p:blipFill>
          <p:spPr>
            <a:xfrm>
              <a:off x="5256360" y="6179400"/>
              <a:ext cx="666000" cy="24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17" descr="PFR_white.gif"/>
            <p:cNvPicPr/>
            <p:nvPr/>
          </p:nvPicPr>
          <p:blipFill>
            <a:blip r:embed="rId7"/>
            <a:stretch/>
          </p:blipFill>
          <p:spPr>
            <a:xfrm>
              <a:off x="7384320" y="6211440"/>
              <a:ext cx="558000" cy="18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18" descr="niwalogo.gif"/>
            <p:cNvPicPr/>
            <p:nvPr/>
          </p:nvPicPr>
          <p:blipFill>
            <a:blip r:embed="rId8"/>
            <a:stretch/>
          </p:blipFill>
          <p:spPr>
            <a:xfrm>
              <a:off x="6079680" y="6222960"/>
              <a:ext cx="66600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Picture 19" descr="PGGRC-Logo_white_sl.gif"/>
            <p:cNvPicPr/>
            <p:nvPr/>
          </p:nvPicPr>
          <p:blipFill>
            <a:blip r:embed="rId9"/>
            <a:stretch/>
          </p:blipFill>
          <p:spPr>
            <a:xfrm>
              <a:off x="6903000" y="6168960"/>
              <a:ext cx="324000" cy="2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" name="Picture 20" descr="scion_logo_white_sl.gif"/>
            <p:cNvPicPr/>
            <p:nvPr/>
          </p:nvPicPr>
          <p:blipFill>
            <a:blip r:embed="rId10"/>
            <a:stretch/>
          </p:blipFill>
          <p:spPr>
            <a:xfrm>
              <a:off x="8099280" y="6239880"/>
              <a:ext cx="457200" cy="12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" name="Text Box 10"/>
          <p:cNvSpPr/>
          <p:nvPr/>
        </p:nvSpPr>
        <p:spPr>
          <a:xfrm>
            <a:off x="2411280" y="5992920"/>
            <a:ext cx="1368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5c237"/>
                </a:solidFill>
                <a:latin typeface="Arial"/>
              </a:rPr>
              <a:t>Leading Partners in Sci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" name="Picture 23" descr="NZ AGRC Logo.jpg"/>
          <p:cNvPicPr/>
          <p:nvPr/>
        </p:nvPicPr>
        <p:blipFill>
          <a:blip r:embed="rId11"/>
          <a:stretch/>
        </p:blipFill>
        <p:spPr>
          <a:xfrm>
            <a:off x="576360" y="6012000"/>
            <a:ext cx="928440" cy="622080"/>
          </a:xfrm>
          <a:prstGeom prst="rect">
            <a:avLst/>
          </a:prstGeom>
          <a:ln w="0">
            <a:noFill/>
          </a:ln>
        </p:spPr>
      </p:pic>
      <p:sp>
        <p:nvSpPr>
          <p:cNvPr id="15" name="PlaceHolder 3"/>
          <p:cNvSpPr>
            <a:spLocks noGrp="1"/>
          </p:cNvSpPr>
          <p:nvPr>
            <p:ph type="ftr" idx="1"/>
          </p:nvPr>
        </p:nvSpPr>
        <p:spPr>
          <a:xfrm>
            <a:off x="241092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dt" idx="2"/>
          </p:nvPr>
        </p:nvSpPr>
        <p:spPr>
          <a:xfrm>
            <a:off x="735444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E7460-A7E7-45DB-A511-1D39E420B26D}" type="datetime3"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476920" y="6551640"/>
            <a:ext cx="7308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BC80D-EEAF-44A1-8BE5-6FBA7EBA6A56}" type="slidenum"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9"/>
          <p:cNvSpPr/>
          <p:nvPr/>
        </p:nvSpPr>
        <p:spPr>
          <a:xfrm>
            <a:off x="3240" y="5778360"/>
            <a:ext cx="9140760" cy="107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440000" indent="-270000">
              <a:spcBef>
                <a:spcPts val="550"/>
              </a:spcBef>
              <a:spcAft>
                <a:spcPts val="1500"/>
              </a:spcAft>
              <a:buClr>
                <a:srgbClr val="85c23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4000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09640" indent="-26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9640" indent="-143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4"/>
          </p:nvPr>
        </p:nvSpPr>
        <p:spPr>
          <a:xfrm>
            <a:off x="5616360" y="6526080"/>
            <a:ext cx="287964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9" descr="NZ AGRC Logo.jpg"/>
          <p:cNvPicPr/>
          <p:nvPr/>
        </p:nvPicPr>
        <p:blipFill>
          <a:blip r:embed="rId2"/>
          <a:stretch/>
        </p:blipFill>
        <p:spPr>
          <a:xfrm>
            <a:off x="576360" y="6012000"/>
            <a:ext cx="928440" cy="6220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4"/>
          <p:cNvSpPr>
            <a:spLocks noGrp="1"/>
          </p:cNvSpPr>
          <p:nvPr>
            <p:ph type="dt" idx="5"/>
          </p:nvPr>
        </p:nvSpPr>
        <p:spPr>
          <a:xfrm>
            <a:off x="7297200" y="6372000"/>
            <a:ext cx="1079640" cy="10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E724C-CE00-4F17-9E0F-D876EE27CE3C}" type="datetime3"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8419680" y="6372000"/>
            <a:ext cx="73080" cy="10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8CCFA-5D5C-4ED1-BF05-8AF8E8EA3A7A}" type="slidenum"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9"/>
          <p:cNvSpPr/>
          <p:nvPr/>
        </p:nvSpPr>
        <p:spPr>
          <a:xfrm>
            <a:off x="3240" y="5778360"/>
            <a:ext cx="9140760" cy="107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1"/>
          <p:cNvGrpSpPr/>
          <p:nvPr/>
        </p:nvGrpSpPr>
        <p:grpSpPr>
          <a:xfrm>
            <a:off x="2411280" y="6127920"/>
            <a:ext cx="6145200" cy="350640"/>
            <a:chOff x="2411280" y="6127920"/>
            <a:chExt cx="6145200" cy="350640"/>
          </a:xfrm>
        </p:grpSpPr>
        <p:pic>
          <p:nvPicPr>
            <p:cNvPr id="99" name="Picture 12" descr="AG-MASTER-LOGO-rev_sl.gif"/>
            <p:cNvPicPr/>
            <p:nvPr/>
          </p:nvPicPr>
          <p:blipFill>
            <a:blip r:embed="rId2"/>
            <a:stretch/>
          </p:blipFill>
          <p:spPr>
            <a:xfrm>
              <a:off x="2411280" y="6202080"/>
              <a:ext cx="464040" cy="20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13" descr="DairyNZ_NoStrap_grey_sl.gif"/>
            <p:cNvPicPr/>
            <p:nvPr/>
          </p:nvPicPr>
          <p:blipFill>
            <a:blip r:embed="rId3"/>
            <a:srcRect l="10316" t="0" r="4577" b="0"/>
            <a:stretch/>
          </p:blipFill>
          <p:spPr>
            <a:xfrm>
              <a:off x="3032280" y="6127920"/>
              <a:ext cx="614160" cy="35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14" descr="LandcareLogoLarge_white_sl.gif"/>
            <p:cNvPicPr/>
            <p:nvPr/>
          </p:nvPicPr>
          <p:blipFill>
            <a:blip r:embed="rId4"/>
            <a:stretch/>
          </p:blipFill>
          <p:spPr>
            <a:xfrm>
              <a:off x="3804120" y="6231960"/>
              <a:ext cx="666000" cy="14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15" descr="LU-logo-white-Specialist.gif"/>
            <p:cNvPicPr/>
            <p:nvPr/>
          </p:nvPicPr>
          <p:blipFill>
            <a:blip r:embed="rId5"/>
            <a:stretch/>
          </p:blipFill>
          <p:spPr>
            <a:xfrm>
              <a:off x="4627440" y="6217560"/>
              <a:ext cx="47160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16" descr="MU_Logo_grey_sl.gif"/>
            <p:cNvPicPr/>
            <p:nvPr/>
          </p:nvPicPr>
          <p:blipFill>
            <a:blip r:embed="rId6"/>
            <a:stretch/>
          </p:blipFill>
          <p:spPr>
            <a:xfrm>
              <a:off x="5256360" y="6179400"/>
              <a:ext cx="666000" cy="24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17" descr="PFR_white.gif"/>
            <p:cNvPicPr/>
            <p:nvPr/>
          </p:nvPicPr>
          <p:blipFill>
            <a:blip r:embed="rId7"/>
            <a:stretch/>
          </p:blipFill>
          <p:spPr>
            <a:xfrm>
              <a:off x="7384320" y="6211440"/>
              <a:ext cx="558000" cy="18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18" descr="niwalogo.gif"/>
            <p:cNvPicPr/>
            <p:nvPr/>
          </p:nvPicPr>
          <p:blipFill>
            <a:blip r:embed="rId8"/>
            <a:stretch/>
          </p:blipFill>
          <p:spPr>
            <a:xfrm>
              <a:off x="6079680" y="6222960"/>
              <a:ext cx="66600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19" descr="PGGRC-Logo_white_sl.gif"/>
            <p:cNvPicPr/>
            <p:nvPr/>
          </p:nvPicPr>
          <p:blipFill>
            <a:blip r:embed="rId9"/>
            <a:stretch/>
          </p:blipFill>
          <p:spPr>
            <a:xfrm>
              <a:off x="6903000" y="6168960"/>
              <a:ext cx="324000" cy="2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20" descr="scion_logo_white_sl.gif"/>
            <p:cNvPicPr/>
            <p:nvPr/>
          </p:nvPicPr>
          <p:blipFill>
            <a:blip r:embed="rId10"/>
            <a:stretch/>
          </p:blipFill>
          <p:spPr>
            <a:xfrm>
              <a:off x="8099280" y="6239880"/>
              <a:ext cx="457200" cy="12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" name="Text Box 10"/>
          <p:cNvSpPr/>
          <p:nvPr/>
        </p:nvSpPr>
        <p:spPr>
          <a:xfrm>
            <a:off x="2411280" y="5992920"/>
            <a:ext cx="1368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5c237"/>
                </a:solidFill>
                <a:latin typeface="Arial"/>
              </a:rPr>
              <a:t>Leading Partners in Sci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3" descr="NZ AGRC Logo.jpg"/>
          <p:cNvPicPr/>
          <p:nvPr/>
        </p:nvPicPr>
        <p:blipFill>
          <a:blip r:embed="rId11"/>
          <a:stretch/>
        </p:blipFill>
        <p:spPr>
          <a:xfrm>
            <a:off x="576360" y="6012000"/>
            <a:ext cx="928440" cy="6220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440000" indent="-270000">
              <a:spcBef>
                <a:spcPts val="550"/>
              </a:spcBef>
              <a:spcAft>
                <a:spcPts val="1500"/>
              </a:spcAft>
              <a:buClr>
                <a:srgbClr val="85c23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4000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09640" indent="-26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9640" indent="-143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ftr" idx="7"/>
          </p:nvPr>
        </p:nvSpPr>
        <p:spPr>
          <a:xfrm>
            <a:off x="241092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dt" idx="8"/>
          </p:nvPr>
        </p:nvSpPr>
        <p:spPr>
          <a:xfrm>
            <a:off x="735444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747F7-9265-4315-A9A5-362CC4A1D888}" type="datetime3"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  |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8476920" y="6551640"/>
            <a:ext cx="7308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D63B6-EFFB-4D19-9251-1659E251EC06}" type="slidenum"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2"/>
    <p:sldLayoutId id="2147483676" r:id="rId13"/>
    <p:sldLayoutId id="2147483677" r:id="rId14"/>
    <p:sldLayoutId id="2147483678" r:id="rId15"/>
    <p:sldLayoutId id="2147483679" r:id="rId16"/>
    <p:sldLayoutId id="2147483680" r:id="rId17"/>
    <p:sldLayoutId id="2147483681" r:id="rId18"/>
    <p:sldLayoutId id="2147483682" r:id="rId19"/>
    <p:sldLayoutId id="2147483683" r:id="rId20"/>
    <p:sldLayoutId id="2147483684" r:id="rId21"/>
    <p:sldLayoutId id="2147483685" r:id="rId22"/>
    <p:sldLayoutId id="2147483686" r:id="rId2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9"/>
          <p:cNvSpPr/>
          <p:nvPr/>
        </p:nvSpPr>
        <p:spPr>
          <a:xfrm>
            <a:off x="3240" y="5778360"/>
            <a:ext cx="9140760" cy="107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1"/>
          <p:cNvGrpSpPr/>
          <p:nvPr/>
        </p:nvGrpSpPr>
        <p:grpSpPr>
          <a:xfrm>
            <a:off x="2411280" y="6127920"/>
            <a:ext cx="6145200" cy="350640"/>
            <a:chOff x="2411280" y="6127920"/>
            <a:chExt cx="6145200" cy="350640"/>
          </a:xfrm>
        </p:grpSpPr>
        <p:pic>
          <p:nvPicPr>
            <p:cNvPr id="153" name="Picture 12" descr="AG-MASTER-LOGO-rev_sl.gif"/>
            <p:cNvPicPr/>
            <p:nvPr/>
          </p:nvPicPr>
          <p:blipFill>
            <a:blip r:embed="rId2"/>
            <a:stretch/>
          </p:blipFill>
          <p:spPr>
            <a:xfrm>
              <a:off x="2411280" y="6202080"/>
              <a:ext cx="464040" cy="20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13" descr="DairyNZ_NoStrap_grey_sl.gif"/>
            <p:cNvPicPr/>
            <p:nvPr/>
          </p:nvPicPr>
          <p:blipFill>
            <a:blip r:embed="rId3"/>
            <a:srcRect l="10316" t="0" r="4577" b="0"/>
            <a:stretch/>
          </p:blipFill>
          <p:spPr>
            <a:xfrm>
              <a:off x="3032280" y="6127920"/>
              <a:ext cx="614160" cy="35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14" descr="LandcareLogoLarge_white_sl.gif"/>
            <p:cNvPicPr/>
            <p:nvPr/>
          </p:nvPicPr>
          <p:blipFill>
            <a:blip r:embed="rId4"/>
            <a:stretch/>
          </p:blipFill>
          <p:spPr>
            <a:xfrm>
              <a:off x="3804120" y="6231960"/>
              <a:ext cx="666000" cy="14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15" descr="LU-logo-white-Specialist.gif"/>
            <p:cNvPicPr/>
            <p:nvPr/>
          </p:nvPicPr>
          <p:blipFill>
            <a:blip r:embed="rId5"/>
            <a:stretch/>
          </p:blipFill>
          <p:spPr>
            <a:xfrm>
              <a:off x="4627440" y="6217560"/>
              <a:ext cx="47160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16" descr="MU_Logo_grey_sl.gif"/>
            <p:cNvPicPr/>
            <p:nvPr/>
          </p:nvPicPr>
          <p:blipFill>
            <a:blip r:embed="rId6"/>
            <a:stretch/>
          </p:blipFill>
          <p:spPr>
            <a:xfrm>
              <a:off x="5256360" y="6179400"/>
              <a:ext cx="666000" cy="24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17" descr="PFR_white.gif"/>
            <p:cNvPicPr/>
            <p:nvPr/>
          </p:nvPicPr>
          <p:blipFill>
            <a:blip r:embed="rId7"/>
            <a:stretch/>
          </p:blipFill>
          <p:spPr>
            <a:xfrm>
              <a:off x="7384320" y="6211440"/>
              <a:ext cx="558000" cy="18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18" descr="niwalogo.gif"/>
            <p:cNvPicPr/>
            <p:nvPr/>
          </p:nvPicPr>
          <p:blipFill>
            <a:blip r:embed="rId8"/>
            <a:stretch/>
          </p:blipFill>
          <p:spPr>
            <a:xfrm>
              <a:off x="6079680" y="6222960"/>
              <a:ext cx="66600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19" descr="PGGRC-Logo_white_sl.gif"/>
            <p:cNvPicPr/>
            <p:nvPr/>
          </p:nvPicPr>
          <p:blipFill>
            <a:blip r:embed="rId9"/>
            <a:stretch/>
          </p:blipFill>
          <p:spPr>
            <a:xfrm>
              <a:off x="6903000" y="6168960"/>
              <a:ext cx="324000" cy="2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scion_logo_white_sl.gif"/>
            <p:cNvPicPr/>
            <p:nvPr/>
          </p:nvPicPr>
          <p:blipFill>
            <a:blip r:embed="rId10"/>
            <a:stretch/>
          </p:blipFill>
          <p:spPr>
            <a:xfrm>
              <a:off x="8099280" y="6239880"/>
              <a:ext cx="457200" cy="12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2" name="Text Box 10"/>
          <p:cNvSpPr/>
          <p:nvPr/>
        </p:nvSpPr>
        <p:spPr>
          <a:xfrm>
            <a:off x="2411280" y="5992920"/>
            <a:ext cx="1368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5c237"/>
                </a:solidFill>
                <a:latin typeface="Arial"/>
              </a:rPr>
              <a:t>Leading Partners in Sci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3" descr="NZ AGRC Logo.jpg"/>
          <p:cNvPicPr/>
          <p:nvPr/>
        </p:nvPicPr>
        <p:blipFill>
          <a:blip r:embed="rId11"/>
          <a:stretch/>
        </p:blipFill>
        <p:spPr>
          <a:xfrm>
            <a:off x="576360" y="6012000"/>
            <a:ext cx="928440" cy="6220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440000" indent="-270000">
              <a:spcBef>
                <a:spcPts val="550"/>
              </a:spcBef>
              <a:spcAft>
                <a:spcPts val="1500"/>
              </a:spcAft>
              <a:buClr>
                <a:srgbClr val="85c23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4000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09640" indent="-26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9640" indent="-143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735444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241092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8476920" y="6551640"/>
            <a:ext cx="7308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6840E-38BA-4CA3-9715-E601D5C72ED1}" type="slidenum">
              <a:rPr b="0" lang="en-GB" sz="600" spc="-1" strike="noStrike">
                <a:solidFill>
                  <a:srgbClr val="afb1b4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2"/>
    <p:sldLayoutId id="2147483689" r:id="rId13"/>
    <p:sldLayoutId id="2147483690" r:id="rId14"/>
    <p:sldLayoutId id="2147483691" r:id="rId15"/>
    <p:sldLayoutId id="2147483692" r:id="rId16"/>
    <p:sldLayoutId id="2147483693" r:id="rId17"/>
    <p:sldLayoutId id="2147483694" r:id="rId18"/>
    <p:sldLayoutId id="2147483695" r:id="rId19"/>
    <p:sldLayoutId id="2147483696" r:id="rId20"/>
    <p:sldLayoutId id="2147483697" r:id="rId21"/>
    <p:sldLayoutId id="2147483698" r:id="rId22"/>
    <p:sldLayoutId id="2147483699" r:id="rId2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9"/>
          <p:cNvSpPr/>
          <p:nvPr/>
        </p:nvSpPr>
        <p:spPr>
          <a:xfrm>
            <a:off x="3240" y="5778360"/>
            <a:ext cx="9140760" cy="107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9" descr="NZ AGRC Logo.jpg"/>
          <p:cNvPicPr/>
          <p:nvPr/>
        </p:nvPicPr>
        <p:blipFill>
          <a:blip r:embed="rId2"/>
          <a:stretch/>
        </p:blipFill>
        <p:spPr>
          <a:xfrm>
            <a:off x="576360" y="6012000"/>
            <a:ext cx="928440" cy="62208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440000" indent="-270000">
              <a:spcBef>
                <a:spcPts val="550"/>
              </a:spcBef>
              <a:spcAft>
                <a:spcPts val="1500"/>
              </a:spcAft>
              <a:buClr>
                <a:srgbClr val="85c23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4000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09640" indent="-26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9640" indent="-143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ftr" idx="13"/>
          </p:nvPr>
        </p:nvSpPr>
        <p:spPr>
          <a:xfrm>
            <a:off x="5616360" y="6526080"/>
            <a:ext cx="287964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dt" idx="14"/>
          </p:nvPr>
        </p:nvSpPr>
        <p:spPr>
          <a:xfrm>
            <a:off x="7297200" y="6372000"/>
            <a:ext cx="1079640" cy="10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D8023-F003-498B-98C2-90C583CC9FC2}" type="datetime3"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  |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5"/>
          </p:nvPr>
        </p:nvSpPr>
        <p:spPr>
          <a:xfrm>
            <a:off x="8419680" y="6372000"/>
            <a:ext cx="73080" cy="10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6BA5A-7B5C-48CF-93BD-F09B503CF948}" type="slidenum"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38400" y="560520"/>
            <a:ext cx="738504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ractions of metrics and alternative policy settings at a country level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case study from New Zealand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278000" y="2711160"/>
            <a:ext cx="7176960" cy="28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00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fb1b4"/>
                </a:solidFill>
                <a:latin typeface="Arial"/>
              </a:rPr>
              <a:t>Andy Reisinger</a:t>
            </a:r>
            <a:r>
              <a:rPr b="0" lang="en-US" sz="2800" spc="-1" strike="noStrike" baseline="30000">
                <a:solidFill>
                  <a:srgbClr val="afb1b4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afb1b4"/>
                </a:solidFill>
                <a:latin typeface="Arial"/>
              </a:rPr>
              <a:t> Adolf Stroombergen</a:t>
            </a:r>
            <a:r>
              <a:rPr b="0" lang="en-US" sz="2800" spc="-1" strike="noStrike" baseline="30000">
                <a:solidFill>
                  <a:srgbClr val="afb1b4"/>
                </a:solidFill>
                <a:latin typeface="Arial"/>
              </a:rPr>
              <a:t>2</a:t>
            </a:r>
            <a:br>
              <a:rPr sz="2800"/>
            </a:br>
            <a:r>
              <a:rPr b="0" lang="en-US" sz="2800" spc="-1" strike="noStrike">
                <a:solidFill>
                  <a:srgbClr val="afb1b4"/>
                </a:solidFill>
                <a:latin typeface="Arial"/>
              </a:rPr>
              <a:t>K. Riahi</a:t>
            </a:r>
            <a:r>
              <a:rPr b="0" lang="en-US" sz="2800" spc="-1" strike="noStrike" baseline="30000">
                <a:solidFill>
                  <a:srgbClr val="afb1b4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afb1b4"/>
                </a:solidFill>
                <a:latin typeface="Arial"/>
              </a:rPr>
              <a:t>O. van Vliet</a:t>
            </a:r>
            <a:r>
              <a:rPr b="0" lang="en-US" sz="2800" spc="-1" strike="noStrike" baseline="30000">
                <a:solidFill>
                  <a:srgbClr val="afb1b4"/>
                </a:solidFill>
                <a:latin typeface="Arial"/>
              </a:rPr>
              <a:t>2</a:t>
            </a:r>
            <a:br>
              <a:rPr sz="2800"/>
            </a:br>
            <a:r>
              <a:rPr b="0" lang="en-US" sz="2800" spc="-1" strike="noStrike">
                <a:solidFill>
                  <a:srgbClr val="afb1b4"/>
                </a:solidFill>
                <a:latin typeface="Arial"/>
              </a:rPr>
              <a:t>P. Havlik</a:t>
            </a:r>
            <a:r>
              <a:rPr b="0" lang="en-US" sz="2800" spc="-1" strike="noStrike" baseline="30000">
                <a:solidFill>
                  <a:srgbClr val="afb1b4"/>
                </a:solidFill>
                <a:latin typeface="Arial"/>
              </a:rPr>
              <a:t>2,3</a:t>
            </a:r>
            <a:r>
              <a:rPr b="0" lang="en-US" sz="2800" spc="-1" strike="noStrike">
                <a:solidFill>
                  <a:srgbClr val="afb1b4"/>
                </a:solidFill>
                <a:latin typeface="Arial"/>
              </a:rPr>
              <a:t> M. Obersteiner</a:t>
            </a:r>
            <a:r>
              <a:rPr b="0" lang="en-US" sz="2800" spc="-1" strike="noStrike" baseline="30000">
                <a:solidFill>
                  <a:srgbClr val="afb1b4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afb1b4"/>
                </a:solidFill>
                <a:latin typeface="Arial"/>
              </a:rPr>
              <a:t> M. Herrero</a:t>
            </a:r>
            <a:r>
              <a:rPr b="0" lang="en-US" sz="2800" spc="-1" strike="noStrike" baseline="30000">
                <a:solidFill>
                  <a:srgbClr val="afb1b4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baseline="30000">
                <a:solidFill>
                  <a:srgbClr val="afb1b4"/>
                </a:solidFill>
                <a:latin typeface="Arial"/>
              </a:rPr>
              <a:t>1 </a:t>
            </a:r>
            <a:r>
              <a:rPr b="0" i="1" lang="en-US" sz="1800" spc="-1" strike="noStrike">
                <a:solidFill>
                  <a:srgbClr val="afb1b4"/>
                </a:solidFill>
                <a:latin typeface="Arial"/>
              </a:rPr>
              <a:t>New Zealand Agricultural Greenhouse Gas Research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baseline="30000">
                <a:solidFill>
                  <a:srgbClr val="afb1b4"/>
                </a:solidFill>
                <a:latin typeface="Arial"/>
              </a:rPr>
              <a:t>2 </a:t>
            </a:r>
            <a:r>
              <a:rPr b="0" i="1" lang="en-US" sz="1800" spc="-1" strike="noStrike">
                <a:solidFill>
                  <a:srgbClr val="afb1b4"/>
                </a:solidFill>
                <a:latin typeface="Arial"/>
              </a:rPr>
              <a:t>Infometrics Consul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baseline="30000">
                <a:solidFill>
                  <a:srgbClr val="afb1b4"/>
                </a:solidFill>
                <a:latin typeface="Arial"/>
              </a:rPr>
              <a:t>3 </a:t>
            </a:r>
            <a:r>
              <a:rPr b="0" i="1" lang="en-US" sz="1800" spc="-1" strike="noStrike">
                <a:solidFill>
                  <a:srgbClr val="afb1b4"/>
                </a:solidFill>
                <a:latin typeface="Arial"/>
              </a:rPr>
              <a:t>International Institute for Applied Systems Analysis (IIAS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baseline="30000">
                <a:solidFill>
                  <a:srgbClr val="afb1b4"/>
                </a:solidFill>
                <a:latin typeface="Arial"/>
              </a:rPr>
              <a:t>Published in Proceedings of the Tyndall Conference 2011 (McGovern and Bates, edito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BB00C-F008-4E32-968E-CD31B3931EA7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E21A6-FDA3-4A81-AFDE-1C46E0E00CC0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7" descr="high res infometrics_logo_020619 copy"/>
          <p:cNvPicPr/>
          <p:nvPr/>
        </p:nvPicPr>
        <p:blipFill>
          <a:blip r:embed="rId1"/>
          <a:stretch/>
        </p:blipFill>
        <p:spPr>
          <a:xfrm>
            <a:off x="7858080" y="6438960"/>
            <a:ext cx="1028880" cy="419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DD6C6-5BFF-42A3-8066-E1314BAF0459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71FB6-94F0-4ADB-AF81-95B5C1839D71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574200" y="914040"/>
            <a:ext cx="807588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Competing effect of metrics. Fixed 100-year GTPs woul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601"/>
              </a:spcBef>
              <a:buClr>
                <a:srgbClr val="85c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Reduce burden of hard-to-mitigate non-CO</a:t>
            </a:r>
            <a:r>
              <a:rPr b="0" lang="en-US" sz="2200" spc="-1" strike="noStrike" baseline="-25000">
                <a:solidFill>
                  <a:srgbClr val="42611b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 g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85c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Raise global carbon prices and bioenergy dem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85c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Result in lower increase in livestock commodity price inde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Assume emissions targets -15% by 2020 and -50% by 20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Scenarios evaluated: 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GWPs or fixed 100-year GT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601"/>
              </a:spcBef>
              <a:buClr>
                <a:srgbClr val="85c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42611b"/>
                </a:solidFill>
                <a:uFillTx/>
                <a:latin typeface="Arial"/>
              </a:rPr>
              <a:t>Policy choic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06400" indent="-270000">
              <a:spcBef>
                <a:spcPts val="601"/>
              </a:spcBef>
              <a:buClr>
                <a:srgbClr val="85c23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Full global participation in mitigation of agricultural emissions</a:t>
            </a:r>
            <a:endParaRPr b="0" lang="en-US" sz="2000" spc="-1" strike="noStrike">
              <a:solidFill>
                <a:srgbClr val="7c7c7c"/>
              </a:solidFill>
              <a:latin typeface="Arial"/>
            </a:endParaRPr>
          </a:p>
          <a:p>
            <a:pPr lvl="3" marL="806400" indent="-270000">
              <a:spcBef>
                <a:spcPts val="601"/>
              </a:spcBef>
              <a:buClr>
                <a:srgbClr val="85c23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Sensitivity tests:</a:t>
            </a:r>
            <a:endParaRPr b="0" lang="en-US" sz="2000" spc="-1" strike="noStrike">
              <a:solidFill>
                <a:srgbClr val="7c7c7c"/>
              </a:solidFill>
              <a:latin typeface="Arial"/>
            </a:endParaRPr>
          </a:p>
          <a:p>
            <a:pPr lvl="4" marL="1076400" indent="-270000">
              <a:spcBef>
                <a:spcPts val="601"/>
              </a:spcBef>
              <a:buClr>
                <a:srgbClr val="85c237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NZ only country to apply price on its agricultural emissions</a:t>
            </a:r>
            <a:endParaRPr b="0" lang="en-US" sz="2000" spc="-1" strike="noStrike">
              <a:solidFill>
                <a:srgbClr val="7c7c7c"/>
              </a:solidFill>
              <a:latin typeface="Arial"/>
            </a:endParaRPr>
          </a:p>
          <a:p>
            <a:pPr lvl="4" marL="1076400" indent="-270000">
              <a:spcBef>
                <a:spcPts val="601"/>
              </a:spcBef>
              <a:buClr>
                <a:srgbClr val="85c237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Agricultural non-CO</a:t>
            </a:r>
            <a:r>
              <a:rPr b="0" lang="en-US" sz="2000" spc="-1" strike="noStrike" baseline="-25000">
                <a:solidFill>
                  <a:srgbClr val="42611b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 emissions excluded from all obligations</a:t>
            </a:r>
            <a:endParaRPr b="0" lang="en-US" sz="2000" spc="-1" strike="noStrike">
              <a:solidFill>
                <a:srgbClr val="7c7c7c"/>
              </a:solidFill>
              <a:latin typeface="Arial"/>
            </a:endParaRPr>
          </a:p>
          <a:p>
            <a:pPr lvl="2" marL="536400" indent="-536400">
              <a:spcBef>
                <a:spcPts val="601"/>
              </a:spcBef>
              <a:buClr>
                <a:srgbClr val="85c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42611b"/>
                </a:solidFill>
                <a:uFillTx/>
                <a:latin typeface="Arial"/>
              </a:rPr>
              <a:t>Technology: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 50% reduction technology in enteric fermentation</a:t>
            </a:r>
            <a:endParaRPr b="0" lang="en-US" sz="2000" spc="-1" strike="noStrike">
              <a:solidFill>
                <a:srgbClr val="7c7c7c"/>
              </a:solidFill>
              <a:latin typeface="Arial"/>
            </a:endParaRPr>
          </a:p>
        </p:txBody>
      </p:sp>
      <p:sp>
        <p:nvSpPr>
          <p:cNvPr id="320" name="Title 1"/>
          <p:cNvSpPr/>
          <p:nvPr/>
        </p:nvSpPr>
        <p:spPr>
          <a:xfrm>
            <a:off x="503280" y="219240"/>
            <a:ext cx="810108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tional-level implications of metrics for N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D1CB3-EDB4-40DA-B021-506F299F6784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7BFA3-80F3-4182-AC8F-28727C583CCA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itle 1"/>
          <p:cNvSpPr/>
          <p:nvPr/>
        </p:nvSpPr>
        <p:spPr>
          <a:xfrm>
            <a:off x="503280" y="219240"/>
            <a:ext cx="788184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tional-level implications for New Zea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2" descr=""/>
          <p:cNvPicPr/>
          <p:nvPr/>
        </p:nvPicPr>
        <p:blipFill>
          <a:blip r:embed="rId1"/>
          <a:stretch/>
        </p:blipFill>
        <p:spPr>
          <a:xfrm>
            <a:off x="1352520" y="1362240"/>
            <a:ext cx="6307200" cy="4311360"/>
          </a:xfrm>
          <a:prstGeom prst="rect">
            <a:avLst/>
          </a:prstGeom>
          <a:ln w="0">
            <a:noFill/>
          </a:ln>
        </p:spPr>
      </p:pic>
      <p:sp>
        <p:nvSpPr>
          <p:cNvPr id="326" name="TextBox 7"/>
          <p:cNvSpPr/>
          <p:nvPr/>
        </p:nvSpPr>
        <p:spPr>
          <a:xfrm>
            <a:off x="3291840" y="731880"/>
            <a:ext cx="326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rics for emissions targ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bon pr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dity price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cy assum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322AA-2D5C-4009-9F61-C523D9574CEB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10FBC-5ABE-48D7-9C38-F049CF9AD59E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574200" y="1001520"/>
            <a:ext cx="807588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42611b"/>
                </a:solidFill>
                <a:uFillTx/>
                <a:latin typeface="Arial"/>
              </a:rPr>
              <a:t>Net effect of metrics on NZ depends on policy set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1199"/>
              </a:spcBef>
              <a:buClr>
                <a:srgbClr val="85c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NZ </a:t>
            </a:r>
            <a:r>
              <a:rPr b="0" i="1" lang="en-US" sz="2000" spc="-1" strike="noStrike" u="sng">
                <a:solidFill>
                  <a:srgbClr val="42611b"/>
                </a:solidFill>
                <a:uFillTx/>
                <a:latin typeface="Arial"/>
              </a:rPr>
              <a:t>gains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 from full global participation in agricultural mitigation due to increasing livestock commodity price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1199"/>
              </a:spcBef>
              <a:buClr>
                <a:srgbClr val="85c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NZ is </a:t>
            </a:r>
            <a:r>
              <a:rPr b="0" i="1" lang="en-US" sz="2000" spc="-1" strike="noStrike" u="sng">
                <a:solidFill>
                  <a:srgbClr val="42611b"/>
                </a:solidFill>
                <a:uFillTx/>
                <a:latin typeface="Arial"/>
              </a:rPr>
              <a:t>better off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 if everybody mitigates agricultural emission than if nobody does, despite having large fractional ag emissions itself and assuming no mitigation opportunities for agriculture within N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1199"/>
              </a:spcBef>
              <a:buClr>
                <a:srgbClr val="85c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NZ </a:t>
            </a:r>
            <a:r>
              <a:rPr b="0" i="1" lang="en-US" sz="2000" spc="-1" strike="noStrike" u="sng">
                <a:solidFill>
                  <a:srgbClr val="42611b"/>
                </a:solidFill>
                <a:uFillTx/>
                <a:latin typeface="Arial"/>
              </a:rPr>
              <a:t>loses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 if it is the only country to fully price agricultural e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1199"/>
              </a:spcBef>
              <a:buClr>
                <a:srgbClr val="85c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42611b"/>
                </a:solidFill>
                <a:uFillTx/>
                <a:latin typeface="Arial"/>
              </a:rPr>
              <a:t>GTPs mute economic effects of mitigation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 on New Zea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601"/>
              </a:spcBef>
              <a:buClr>
                <a:srgbClr val="85c23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611b"/>
                </a:solidFill>
                <a:latin typeface="Arial"/>
              </a:rPr>
              <a:t>If NZ benefits, it would benefit more under GWPs than GT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601"/>
              </a:spcBef>
              <a:buClr>
                <a:srgbClr val="85c23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611b"/>
                </a:solidFill>
                <a:latin typeface="Arial"/>
              </a:rPr>
              <a:t>If NZ incurs costs, costs would be greater under GWPs than GT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1199"/>
              </a:spcBef>
              <a:buClr>
                <a:srgbClr val="85c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Benefits from any additional enteric CH</a:t>
            </a:r>
            <a:r>
              <a:rPr b="0" lang="en-US" sz="2000" spc="-1" strike="noStrike" baseline="-25000">
                <a:solidFill>
                  <a:srgbClr val="42611b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 abatement technologies would be greater under GWPs than under (fixed 100-year) 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GT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itle 1"/>
          <p:cNvSpPr/>
          <p:nvPr/>
        </p:nvSpPr>
        <p:spPr>
          <a:xfrm>
            <a:off x="503280" y="219240"/>
            <a:ext cx="810108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tional-level implications of metrics for N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41FFE-17B8-45D2-AB2A-6BCAD48B3E5E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BA237-E6C1-4540-AF9B-454D4A022CC2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574200" y="915480"/>
            <a:ext cx="807588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lternative metrics affect different regions differently 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depending on the GHG efficiency of production and relative roles of CO</a:t>
            </a:r>
            <a:r>
              <a:rPr b="0" lang="en-US" sz="2200" spc="-1" strike="noStrike" baseline="-25000">
                <a:solidFill>
                  <a:srgbClr val="42611b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 and non-CO</a:t>
            </a:r>
            <a:r>
              <a:rPr b="0" lang="en-US" sz="2200" spc="-1" strike="noStrike" baseline="-25000">
                <a:solidFill>
                  <a:srgbClr val="42611b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 prices on production/expansion within a global trade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In most regions, the decision to fully expose agriculture to the cost of its emissions is more important than the metr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etrics matter for New Zealand 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net mitigation costs, but alternative policy scenarios matter much more (including determining whether NZ receives net benefits or costs from mitigation and its global implementation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GTPs would mute both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positive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and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negative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effects on N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Caveat: 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weak link between models, and idealised scen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itle 1"/>
          <p:cNvSpPr/>
          <p:nvPr/>
        </p:nvSpPr>
        <p:spPr>
          <a:xfrm>
            <a:off x="503280" y="219240"/>
            <a:ext cx="810108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76B35-F00A-4F6C-906B-DCD435BB5059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4D793-5270-44E8-A8AD-8232533BF4E8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itle 1"/>
          <p:cNvSpPr/>
          <p:nvPr/>
        </p:nvSpPr>
        <p:spPr>
          <a:xfrm>
            <a:off x="546120" y="320760"/>
            <a:ext cx="78818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Questions to the policy commun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74200" y="1002960"/>
            <a:ext cx="80758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lvl="1" marL="487800" indent="-487800">
              <a:spcBef>
                <a:spcPts val="1199"/>
              </a:spcBef>
              <a:buClr>
                <a:srgbClr val="85c23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2611b"/>
                </a:solidFill>
                <a:latin typeface="Arial"/>
              </a:rPr>
              <a:t>What regional dimensions of metrics are most important? Cost? Market access? Local food production? Most vulnerable sectors (measured how)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87800" indent="-487800">
              <a:spcBef>
                <a:spcPts val="1199"/>
              </a:spcBef>
              <a:buClr>
                <a:srgbClr val="85c23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2611b"/>
                </a:solidFill>
                <a:latin typeface="Arial"/>
              </a:rPr>
              <a:t>How can they be expressed so that they become tractable for further scientific / economic analysis? What assumptions are relevant for sensitivity test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87800" indent="-487800">
              <a:spcBef>
                <a:spcPts val="1199"/>
              </a:spcBef>
              <a:buClr>
                <a:srgbClr val="85c23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2611b"/>
                </a:solidFill>
                <a:latin typeface="Arial"/>
              </a:rPr>
              <a:t>Given the intricate links between metrics and other policy choices, does it make sense to evaluate the economic effects of metrics in isolation? What real-world assumptions would be most useful and relevant to stud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87800" indent="-487800">
              <a:spcBef>
                <a:spcPts val="1199"/>
              </a:spcBef>
              <a:buClr>
                <a:srgbClr val="85c23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2611b"/>
                </a:solidFill>
                <a:latin typeface="Arial"/>
              </a:rPr>
              <a:t>What work would be useful regarding the political economy and social dimensions of metric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 a nutshel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74560" y="1334880"/>
            <a:ext cx="8250480" cy="39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Globally, different metrics have only a minor impact on mitigation costs </a:t>
            </a:r>
            <a:r>
              <a:rPr b="1" lang="en-US" sz="2800" spc="-1" strike="noStrike">
                <a:solidFill>
                  <a:srgbClr val="42611b"/>
                </a:solidFill>
                <a:latin typeface="Arial"/>
              </a:rPr>
              <a:t>IF</a:t>
            </a: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 the world follows a cost-minimising emissions pathway to limit long-term radiative forc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What are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regional implications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of alternative metrics for agricultural production and non-CO</a:t>
            </a:r>
            <a:r>
              <a:rPr b="1" lang="en-US" sz="2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emission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New Zealand is the developed country with the largest fraction of agricultural GHG emissions (almost 50%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How would the cost of meeting economy-wide emissions targets change for New Zealand under different metric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76360" y="360360"/>
            <a:ext cx="39592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c7c7c"/>
              </a:solidFill>
              <a:latin typeface="Arial"/>
            </a:endParaRPr>
          </a:p>
        </p:txBody>
      </p:sp>
      <p:sp>
        <p:nvSpPr>
          <p:cNvPr id="257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9BA35-845A-4269-A7BC-4DD6C20D8675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7AF69-0A5C-42A5-9B6F-46986BAA5D8F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9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9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12" descr=""/>
          <p:cNvPicPr/>
          <p:nvPr/>
        </p:nvPicPr>
        <p:blipFill>
          <a:blip r:embed="rId1"/>
          <a:stretch/>
        </p:blipFill>
        <p:spPr>
          <a:xfrm>
            <a:off x="628560" y="1176480"/>
            <a:ext cx="2535480" cy="1479240"/>
          </a:xfrm>
          <a:prstGeom prst="rect">
            <a:avLst/>
          </a:prstGeom>
          <a:ln w="0">
            <a:noFill/>
          </a:ln>
        </p:spPr>
      </p:pic>
      <p:sp>
        <p:nvSpPr>
          <p:cNvPr id="261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3FFD7-D7CA-46AF-B838-0D62EB6B8E1A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714F1-4A4E-4D53-AFF1-85D34F766E08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03080" y="1033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w Zealand’s emissions profile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nder 20-, 100- and 500-year GWP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9" descr=""/>
          <p:cNvPicPr/>
          <p:nvPr/>
        </p:nvPicPr>
        <p:blipFill>
          <a:blip r:embed="rId2"/>
          <a:stretch/>
        </p:blipFill>
        <p:spPr>
          <a:xfrm>
            <a:off x="333360" y="2627280"/>
            <a:ext cx="8505720" cy="2935440"/>
          </a:xfrm>
          <a:prstGeom prst="rect">
            <a:avLst/>
          </a:prstGeom>
          <a:ln w="0">
            <a:noFill/>
          </a:ln>
        </p:spPr>
      </p:pic>
      <p:sp>
        <p:nvSpPr>
          <p:cNvPr id="267" name="TextBox 13"/>
          <p:cNvSpPr/>
          <p:nvPr/>
        </p:nvSpPr>
        <p:spPr>
          <a:xfrm>
            <a:off x="3595320" y="1278000"/>
            <a:ext cx="51472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imited abatement potential for past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ivestock production (&gt;95% of ag emiss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s a lower CH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weight better for New Zeala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9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74560" y="24300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mplex, nested proble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574560" y="1219320"/>
            <a:ext cx="82504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Metrics affect mitigation costs for an individual country in multiple, interconnected way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spcAft>
                <a:spcPts val="1199"/>
              </a:spcAft>
              <a:buClr>
                <a:srgbClr val="4261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Balance and quantity of CO</a:t>
            </a:r>
            <a:r>
              <a:rPr b="0" lang="en-US" sz="2200" spc="-1" strike="noStrike" baseline="-25000">
                <a:solidFill>
                  <a:srgbClr val="42611b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 and non-CO</a:t>
            </a:r>
            <a:r>
              <a:rPr b="0" lang="en-US" sz="2200" spc="-1" strike="noStrike" baseline="-25000">
                <a:solidFill>
                  <a:srgbClr val="42611b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 emissions, and targets and assigned amount units (under Kyoto-type regim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spcAft>
                <a:spcPts val="1199"/>
              </a:spcAft>
              <a:buClr>
                <a:srgbClr val="4261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Global CO</a:t>
            </a:r>
            <a:r>
              <a:rPr b="0" lang="en-US" sz="2200" spc="-1" strike="noStrike" baseline="-25000">
                <a:solidFill>
                  <a:srgbClr val="42611b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-eq prices for the world as a whole to meet an agreed long-term go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spcAft>
                <a:spcPts val="1199"/>
              </a:spcAft>
              <a:buClr>
                <a:srgbClr val="4261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Agricultural production costs, competitiveness, and international agricultural commodity pr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In this study, we assume that the world will adjust GHG prices/mitigation efforts to meet agreed long-term go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76360" y="360360"/>
            <a:ext cx="39592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c7c7c"/>
              </a:solidFill>
              <a:latin typeface="Arial"/>
            </a:endParaRPr>
          </a:p>
        </p:txBody>
      </p:sp>
      <p:sp>
        <p:nvSpPr>
          <p:cNvPr id="271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F005B-EDCD-41D5-891B-F6F73C20E3C6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D1628-2863-4CC8-9E04-4EEA86092743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9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15"/>
          <p:cNvSpPr/>
          <p:nvPr/>
        </p:nvSpPr>
        <p:spPr>
          <a:xfrm>
            <a:off x="0" y="4973760"/>
            <a:ext cx="9144000" cy="188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3"/>
          <p:cNvSpPr/>
          <p:nvPr/>
        </p:nvSpPr>
        <p:spPr>
          <a:xfrm>
            <a:off x="2916360" y="2133720"/>
            <a:ext cx="3085920" cy="981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alculates cost-effective multi-gas emissions pathways and mitigation costs over the 21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century to meet a pre-determined stabilisation target in the year 210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2"/>
          <p:cNvSpPr/>
          <p:nvPr/>
        </p:nvSpPr>
        <p:spPr>
          <a:xfrm>
            <a:off x="2916360" y="189000"/>
            <a:ext cx="3085920" cy="1295280"/>
          </a:xfrm>
          <a:prstGeom prst="rect">
            <a:avLst/>
          </a:prstGeom>
          <a:solidFill>
            <a:srgbClr val="dc9e9c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GICC version 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alculates exchange rates between CO</a:t>
            </a:r>
            <a:r>
              <a:rPr b="0" lang="en-US" sz="1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and non-CO</a:t>
            </a:r>
            <a:r>
              <a:rPr b="0" lang="en-US" sz="1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gases, for alternative bio-physical metrics and policy choices for treatment of agricultu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alibrated to complex coupled climate mode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11"/>
          <p:cNvSpPr/>
          <p:nvPr/>
        </p:nvSpPr>
        <p:spPr>
          <a:xfrm>
            <a:off x="3780000" y="1484280"/>
            <a:ext cx="1457280" cy="781200"/>
          </a:xfrm>
          <a:prstGeom prst="downArrow">
            <a:avLst>
              <a:gd name="adj1" fmla="val 73509"/>
              <a:gd name="adj2" fmla="val 49593"/>
            </a:avLst>
          </a:prstGeom>
          <a:solidFill>
            <a:srgbClr val="ffffff"/>
          </a:solidFill>
          <a:ln w="316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non-CO</a:t>
            </a:r>
            <a:r>
              <a:rPr b="1" lang="en-US" sz="13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 metric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2916360" y="4149720"/>
            <a:ext cx="3085920" cy="961920"/>
          </a:xfrm>
          <a:prstGeom prst="rect">
            <a:avLst/>
          </a:prstGeom>
          <a:solidFill>
            <a:srgbClr val="4bacc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LOBI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alculates changes in agricultural production and commodity price indices up to 2050, based on detailed spatially explicit modelling of agricultural products and trad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9"/>
          <p:cNvSpPr/>
          <p:nvPr/>
        </p:nvSpPr>
        <p:spPr>
          <a:xfrm>
            <a:off x="2916360" y="5651640"/>
            <a:ext cx="3085920" cy="1116000"/>
          </a:xfrm>
          <a:prstGeom prst="rect">
            <a:avLst/>
          </a:prstGeom>
          <a:solidFill>
            <a:srgbClr val="f7964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SS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alculates changes in economic activity in New Zealand in 2020 and 2050, relative to ‘no climate policy’, for prescribed economy-wide emissions targets expressed in percentage relative to 199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8"/>
          <p:cNvSpPr/>
          <p:nvPr/>
        </p:nvSpPr>
        <p:spPr>
          <a:xfrm>
            <a:off x="3780000" y="3141720"/>
            <a:ext cx="1457280" cy="1200240"/>
          </a:xfrm>
          <a:prstGeom prst="downArrow">
            <a:avLst>
              <a:gd name="adj1" fmla="val 73509"/>
              <a:gd name="adj2" fmla="val 21454"/>
            </a:avLst>
          </a:prstGeom>
          <a:solidFill>
            <a:srgbClr val="ffffff"/>
          </a:solidFill>
          <a:ln w="316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GHG prices and bioenergy demand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7"/>
          <p:cNvSpPr/>
          <p:nvPr/>
        </p:nvSpPr>
        <p:spPr>
          <a:xfrm>
            <a:off x="3780000" y="5084640"/>
            <a:ext cx="1457280" cy="723960"/>
          </a:xfrm>
          <a:prstGeom prst="downArrow">
            <a:avLst>
              <a:gd name="adj1" fmla="val 73509"/>
              <a:gd name="adj2" fmla="val 35491"/>
            </a:avLst>
          </a:prstGeom>
          <a:solidFill>
            <a:srgbClr val="ffffff"/>
          </a:solidFill>
          <a:ln w="3168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mmodity price ind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6"/>
          <p:cNvSpPr/>
          <p:nvPr/>
        </p:nvSpPr>
        <p:spPr>
          <a:xfrm>
            <a:off x="6084720" y="2421000"/>
            <a:ext cx="924120" cy="4152960"/>
          </a:xfrm>
          <a:custGeom>
            <a:avLst/>
            <a:gdLst>
              <a:gd name="textAreaLeft" fmla="*/ 123840 w 924120"/>
              <a:gd name="textAreaRight" fmla="*/ 800280 w 924120"/>
              <a:gd name="textAreaTop" fmla="*/ 871560 h 4152960"/>
              <a:gd name="textAreaBottom" fmla="*/ 3038760 h 415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067" stAng="-5400000" swAng="5400000"/>
                <a:lnTo>
                  <a:pt x="21600" y="11271"/>
                </a:lnTo>
                <a:arcTo wR="21600" hR="9067" stAng="0" swAng="2877782"/>
                <a:lnTo>
                  <a:pt x="7645" y="21013"/>
                </a:lnTo>
                <a:lnTo>
                  <a:pt x="0" y="19235"/>
                </a:lnTo>
                <a:lnTo>
                  <a:pt x="7645" y="16283"/>
                </a:lnTo>
                <a:lnTo>
                  <a:pt x="7645" y="17546"/>
                </a:lnTo>
                <a:arcTo wR="21600" hR="9067" stAng="2877782" swAng="-2701239"/>
                <a:lnTo>
                  <a:pt x="21440" y="10169"/>
                </a:lnTo>
                <a:arcTo wR="21600" hR="9067" stAng="-176543" swAng="-5223457"/>
                <a:close/>
              </a:path>
              <a:path fill="darkenLess" w="21600" h="21600">
                <a:moveTo>
                  <a:pt x="0" y="0"/>
                </a:moveTo>
                <a:arcTo wR="21600" hR="9067" stAng="-5400000" swAng="5400000"/>
                <a:lnTo>
                  <a:pt x="21600" y="11271"/>
                </a:lnTo>
                <a:arcTo wR="21600" hR="9067" stAng="0" swAng="-176543"/>
                <a:lnTo>
                  <a:pt x="21440" y="10169"/>
                </a:lnTo>
                <a:arcTo wR="21600" hR="9067" stAng="-176543" swAng="-5223457"/>
                <a:close/>
              </a:path>
            </a:pathLst>
          </a:custGeom>
          <a:solidFill>
            <a:srgbClr val="ffffff"/>
          </a:solidFill>
          <a:ln w="316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5"/>
          <p:cNvSpPr/>
          <p:nvPr/>
        </p:nvSpPr>
        <p:spPr>
          <a:xfrm flipH="1">
            <a:off x="1979640" y="476280"/>
            <a:ext cx="923760" cy="6191280"/>
          </a:xfrm>
          <a:custGeom>
            <a:avLst/>
            <a:gdLst>
              <a:gd name="textAreaLeft" fmla="*/ 123480 w 923760"/>
              <a:gd name="textAreaRight" fmla="*/ 800280 w 923760"/>
              <a:gd name="textAreaTop" fmla="*/ 1299240 h 6191280"/>
              <a:gd name="textAreaBottom" fmla="*/ 4529880 h 619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067" stAng="-5400000" swAng="5400000"/>
                <a:lnTo>
                  <a:pt x="21600" y="11271"/>
                </a:lnTo>
                <a:arcTo wR="21600" hR="9067" stAng="0" swAng="2877782"/>
                <a:lnTo>
                  <a:pt x="7645" y="21013"/>
                </a:lnTo>
                <a:lnTo>
                  <a:pt x="0" y="19235"/>
                </a:lnTo>
                <a:lnTo>
                  <a:pt x="7645" y="16283"/>
                </a:lnTo>
                <a:lnTo>
                  <a:pt x="7645" y="17546"/>
                </a:lnTo>
                <a:arcTo wR="21600" hR="9067" stAng="2877782" swAng="-2701239"/>
                <a:lnTo>
                  <a:pt x="21440" y="10169"/>
                </a:lnTo>
                <a:arcTo wR="21600" hR="9067" stAng="-176543" swAng="-5223457"/>
                <a:close/>
              </a:path>
              <a:path fill="darkenLess" w="21600" h="21600">
                <a:moveTo>
                  <a:pt x="0" y="0"/>
                </a:moveTo>
                <a:arcTo wR="21600" hR="9067" stAng="-5400000" swAng="5400000"/>
                <a:lnTo>
                  <a:pt x="21600" y="11271"/>
                </a:lnTo>
                <a:arcTo wR="21600" hR="9067" stAng="0" swAng="-176543"/>
                <a:lnTo>
                  <a:pt x="21440" y="10169"/>
                </a:lnTo>
                <a:arcTo wR="21600" hR="9067" stAng="-176543" swAng="-5223457"/>
                <a:close/>
              </a:path>
            </a:pathLst>
          </a:cu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316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7121520" y="3957480"/>
            <a:ext cx="1628640" cy="7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global CO</a:t>
            </a:r>
            <a:r>
              <a:rPr b="1" lang="en-US" sz="13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 prices used in emissions trad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639720" y="5486400"/>
            <a:ext cx="1488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metrics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to account for non-CO</a:t>
            </a:r>
            <a:r>
              <a:rPr b="1" lang="en-US" sz="13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 gases in emissions targe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7"/>
          <p:cNvSpPr/>
          <p:nvPr/>
        </p:nvSpPr>
        <p:spPr>
          <a:xfrm>
            <a:off x="438120" y="404640"/>
            <a:ext cx="183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8"/>
          <p:cNvSpPr/>
          <p:nvPr/>
        </p:nvSpPr>
        <p:spPr>
          <a:xfrm>
            <a:off x="6443640" y="404640"/>
            <a:ext cx="217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nk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B848B-FD06-41B6-85A2-B4D9E8F53818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D64C3-F7C7-48AA-B9E2-7CC5AD915A71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74200" y="928440"/>
            <a:ext cx="807588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Use GLOBIOM to model agricultural production to 20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65320">
              <a:spcAft>
                <a:spcPts val="1199"/>
              </a:spcAft>
              <a:buClr>
                <a:srgbClr val="85c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Spatially explicit partial equilibrium model for agriculture and forestry, including trade (Havlik et al. 20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65320">
              <a:spcAft>
                <a:spcPts val="601"/>
              </a:spcAft>
              <a:buClr>
                <a:srgbClr val="85c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Impose prices for CO</a:t>
            </a:r>
            <a:r>
              <a:rPr b="0" lang="en-US" sz="2200" spc="-1" strike="noStrike" baseline="-25000">
                <a:solidFill>
                  <a:srgbClr val="42611b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, CH</a:t>
            </a:r>
            <a:r>
              <a:rPr b="0" lang="en-US" sz="2200" spc="-1" strike="noStrike" baseline="-25000">
                <a:solidFill>
                  <a:srgbClr val="42611b"/>
                </a:solidFill>
                <a:latin typeface="Arial"/>
              </a:rPr>
              <a:t>4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 and N</a:t>
            </a:r>
            <a:r>
              <a:rPr b="0" lang="en-US" sz="2200" spc="-1" strike="noStrike" baseline="-25000">
                <a:solidFill>
                  <a:srgbClr val="42611b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O and biofuel demands from global MESSAGE runs for 450ppm targ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65320">
              <a:spcAft>
                <a:spcPts val="601"/>
              </a:spcAft>
              <a:buClr>
                <a:srgbClr val="85c23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100-year GWPs (defaul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65320">
              <a:spcAft>
                <a:spcPts val="601"/>
              </a:spcAft>
              <a:buClr>
                <a:srgbClr val="85c23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Fixed 100-year GT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65320">
              <a:spcAft>
                <a:spcPts val="1199"/>
              </a:spcAft>
              <a:buClr>
                <a:srgbClr val="85c23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agricultural non-CO</a:t>
            </a:r>
            <a:r>
              <a:rPr b="0" lang="en-US" sz="2200" spc="-1" strike="noStrike" baseline="-25000">
                <a:solidFill>
                  <a:srgbClr val="42611b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 emissions exclu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65320">
              <a:spcAft>
                <a:spcPts val="601"/>
              </a:spcAft>
              <a:buClr>
                <a:srgbClr val="85c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Explore regional agricultural production and GHG emissions under additional GHG costs in all regions, and effects on supply / commodity prices of livestock produ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itle 1"/>
          <p:cNvSpPr/>
          <p:nvPr/>
        </p:nvSpPr>
        <p:spPr>
          <a:xfrm>
            <a:off x="503280" y="219240"/>
            <a:ext cx="864072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gional implications for livestock produ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5778000"/>
            <a:ext cx="9144000" cy="10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Global agricultural CH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emission pathway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5A94C-8179-4B8D-A28C-E2DC0983E462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77E67-29BA-408A-9B56-C0367394C2EC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itle 1"/>
          <p:cNvSpPr/>
          <p:nvPr/>
        </p:nvSpPr>
        <p:spPr>
          <a:xfrm>
            <a:off x="785880" y="270000"/>
            <a:ext cx="788184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gional changes in cattle milk produ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2030, relative to no-mit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3" descr=""/>
          <p:cNvPicPr/>
          <p:nvPr/>
        </p:nvPicPr>
        <p:blipFill>
          <a:blip r:embed="rId1"/>
          <a:srcRect l="0" t="34208" r="0" b="0"/>
          <a:stretch/>
        </p:blipFill>
        <p:spPr>
          <a:xfrm>
            <a:off x="254160" y="690480"/>
            <a:ext cx="8265960" cy="5824800"/>
          </a:xfrm>
          <a:prstGeom prst="rect">
            <a:avLst/>
          </a:prstGeom>
          <a:ln w="0">
            <a:noFill/>
          </a:ln>
        </p:spPr>
      </p:pic>
      <p:sp>
        <p:nvSpPr>
          <p:cNvPr id="299" name="TextBox 8"/>
          <p:cNvSpPr/>
          <p:nvPr/>
        </p:nvSpPr>
        <p:spPr>
          <a:xfrm>
            <a:off x="3552840" y="4083120"/>
            <a:ext cx="5049720" cy="1893240"/>
          </a:xfrm>
          <a:prstGeom prst="rect">
            <a:avLst/>
          </a:prstGeom>
          <a:solidFill>
            <a:srgbClr val="d9d9d9"/>
          </a:solidFill>
          <a:ln w="1260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4000" rIns="144000" tIns="108000" bIns="108000" anchor="t">
            <a:spAutoFit/>
          </a:bodyPr>
          <a:p>
            <a:pPr algn="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etrics have different effects region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most regions, the decision to impose a cost at all has a bigger effect than the choice of metr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9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9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841EF-14AE-4204-826F-22CE9B19D181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90780-C305-4573-9880-7C786FAFCDD7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itle 1"/>
          <p:cNvSpPr/>
          <p:nvPr/>
        </p:nvSpPr>
        <p:spPr>
          <a:xfrm>
            <a:off x="785880" y="109440"/>
            <a:ext cx="78818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nges in product supply pr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5" descr=""/>
          <p:cNvPicPr/>
          <p:nvPr/>
        </p:nvPicPr>
        <p:blipFill>
          <a:blip r:embed="rId1"/>
          <a:srcRect l="0" t="0" r="0" b="36179"/>
          <a:stretch/>
        </p:blipFill>
        <p:spPr>
          <a:xfrm>
            <a:off x="525600" y="826920"/>
            <a:ext cx="5943600" cy="46911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6" descr=""/>
          <p:cNvPicPr/>
          <p:nvPr/>
        </p:nvPicPr>
        <p:blipFill>
          <a:blip r:embed="rId2"/>
          <a:stretch/>
        </p:blipFill>
        <p:spPr>
          <a:xfrm>
            <a:off x="6418440" y="658800"/>
            <a:ext cx="2609640" cy="1419120"/>
          </a:xfrm>
          <a:prstGeom prst="rect">
            <a:avLst/>
          </a:prstGeom>
          <a:ln w="0">
            <a:noFill/>
          </a:ln>
        </p:spPr>
      </p:pic>
      <p:grpSp>
        <p:nvGrpSpPr>
          <p:cNvPr id="306" name="Group 19"/>
          <p:cNvGrpSpPr/>
          <p:nvPr/>
        </p:nvGrpSpPr>
        <p:grpSpPr>
          <a:xfrm>
            <a:off x="525600" y="825480"/>
            <a:ext cx="5894280" cy="3985200"/>
            <a:chOff x="525600" y="825480"/>
            <a:chExt cx="5894280" cy="3985200"/>
          </a:xfrm>
        </p:grpSpPr>
        <p:pic>
          <p:nvPicPr>
            <p:cNvPr id="307" name="Picture 8" descr=""/>
            <p:cNvPicPr/>
            <p:nvPr/>
          </p:nvPicPr>
          <p:blipFill>
            <a:blip r:embed="rId3"/>
            <a:srcRect l="0" t="0" r="0" b="18653"/>
            <a:stretch/>
          </p:blipFill>
          <p:spPr>
            <a:xfrm>
              <a:off x="525600" y="825480"/>
              <a:ext cx="5894280" cy="376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TextBox 18"/>
            <p:cNvSpPr/>
            <p:nvPr/>
          </p:nvSpPr>
          <p:spPr>
            <a:xfrm>
              <a:off x="757440" y="4411800"/>
              <a:ext cx="5342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Box 23"/>
          <p:cNvSpPr/>
          <p:nvPr/>
        </p:nvSpPr>
        <p:spPr>
          <a:xfrm>
            <a:off x="1530360" y="658800"/>
            <a:ext cx="4103640" cy="18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here future production increas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quire land-use change, C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pric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ominate the respon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therwise, non-C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prices ar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ore import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9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382680" y="279360"/>
            <a:ext cx="7570800" cy="5419800"/>
          </a:xfrm>
          <a:prstGeom prst="rect">
            <a:avLst/>
          </a:prstGeom>
          <a:ln w="0">
            <a:noFill/>
          </a:ln>
        </p:spPr>
      </p:pic>
      <p:sp>
        <p:nvSpPr>
          <p:cNvPr id="311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B2541-0594-479C-A42C-5103D7E64C4B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2B2F0-D564-4BF6-B642-21DE418CB1B4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itle 1"/>
          <p:cNvSpPr/>
          <p:nvPr/>
        </p:nvSpPr>
        <p:spPr>
          <a:xfrm>
            <a:off x="785880" y="109440"/>
            <a:ext cx="83581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nges in livestock commodity price ind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6" descr=""/>
          <p:cNvPicPr/>
          <p:nvPr/>
        </p:nvPicPr>
        <p:blipFill>
          <a:blip r:embed="rId2"/>
          <a:stretch/>
        </p:blipFill>
        <p:spPr>
          <a:xfrm>
            <a:off x="2470320" y="933480"/>
            <a:ext cx="2609640" cy="1419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04:12:39Z</dcterms:created>
  <dc:creator>Andy Reisinger</dc:creator>
  <dc:description/>
  <dc:language>en-US</dc:language>
  <cp:lastModifiedBy>Andy Reisinger</cp:lastModifiedBy>
  <dcterms:modified xsi:type="dcterms:W3CDTF">2012-04-02T07:24:02Z</dcterms:modified>
  <cp:revision>123</cp:revision>
  <dc:subject/>
  <dc:title>Mitigating Greenhouse Gas Emissions</dc:title>
</cp:coreProperties>
</file>