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127-2DE1-4452-9085-4B8EBDCA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5E5-20DC-4DF7-9026-3CBC2E27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F73-0EB5-4059-A222-3C52CEE1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EB0-3324-42CC-A16D-EB57FAB1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FF82-7563-4A55-8654-961AD16F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836A-0449-4687-A861-A8C55F1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92F6-2CAB-4C22-8DDC-65606C93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4B3B-573E-415D-82F8-1489EDD8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F9FE-E53B-4740-8CD1-8BC5B361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12F8-AEDC-442A-8DEB-6DD62791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DFE7-6204-46D0-BADC-4FBBFE2A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D26-795B-4F47-A4BA-50D7177E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8FCE-A06D-455C-BB8C-F8DD4FD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CF1E-E440-41E8-9F3D-8087077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E362-8A8A-4967-8FCE-7F97EA9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60B9-8924-488F-9B0E-572D25A9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E275-4740-4A09-A5F3-704E6A18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5BE5-4E26-4FF5-AA3B-633D1F12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C856-0791-4CEB-BACB-2752DCBD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F8F5-A88B-4CD0-A24A-EC04E4A5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A629-661E-4190-A3A9-0E8C8CCC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3D7C-A409-4B13-B796-DBD3BC80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54D-193B-441A-ACB5-1C281258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8C2A-96C9-4B4D-8CC8-7178AA88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FCE6-A8E9-433E-9A1B-7FF95ED9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9B84-A7D2-478C-914F-C3E2DC7B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DBB5-CB45-426E-9A88-D0BEC412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B07D-483C-4743-A3DD-45424DBF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5D16-C24C-49BB-98E1-5D507501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EE71-7997-49E9-967C-047870F2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8FC28-A9F1-47AF-934C-FF33AB95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5C85-5A4D-4A34-9C10-A294C4BD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0D9E-8652-4E83-B14C-71EDC3FC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C3A-A67E-48FF-B5D3-A3F07EFD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1C717-2EDB-433F-9A26-34B3A259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AC7C-3649-4F69-9F59-D322FE0D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FE1C5-A445-4AC2-8271-BCE6C3D1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7A160-431E-48E9-B453-F4185560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27FF-A9B2-412F-BD07-CA0B13A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4404-1CD6-4631-A5E8-D4D328B7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8ED5-F318-40AA-B30C-1E43C1D3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4F30-FE50-438B-A0D0-42164A77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C651-ABEF-4F2C-AB07-BC0D9585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FB7C-09F9-4517-A5DD-9736B798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142-DDA5-4019-BF13-5C03F5D4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55D01-253D-458B-8C7A-DCE0662C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1E5F-6507-489B-B6CE-40656F13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FD12-5460-4D27-9033-50C3CABC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4F359-3F33-482E-A01E-9F32F49E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ACAA7-16D4-4E16-83E7-851B6F29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580D6-FD23-4741-B41E-CE93107B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F0880-D821-434E-B0B6-C141A37B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C20AE-5020-48B6-9896-FD79E4E0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35789-3C58-4A14-AB88-A60FBCA3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8C04F-2CF7-4712-96E1-CF07C038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E8E-9B2B-4530-B668-E59AD523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28B70-F2B9-4A88-8E25-A54ECE27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B64-E7C7-49B3-BA85-CD37757D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A37-2146-48FA-A95F-30CEE5B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7F8-5357-443D-86E3-B5B0A400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2DF3-246A-4272-8B9A-41B3E92CDAE7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530-C5C5-42DC-938D-F6CF8ACA868A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4E2D-34FA-4A00-BD37-79D0EE8DD2DE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1923-1299-4C41-81D2-07EB381FC084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29C1-71C2-4F0E-9A47-7F5CB31DB7BA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F1EE-0F44-4D42-97D9-77DE3F087252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153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4F63-B6DC-41F8-8115-94FBB6450107}" type="slidenum">
              <a:rPr b="0" lang="en-GB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3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4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F41D-1142-453A-A569-6966BBDBEF29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9E16-0052-4C1B-9E73-471691D3EFC3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38400" y="560520"/>
            <a:ext cx="73850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actions of metrics and alternative policy settings at a country level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ase study from New Zealand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78000" y="2711160"/>
            <a:ext cx="71769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Adolf Stroombergen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K. Riahi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O. van Vliet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P. Havlik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,3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Oberstein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Herrero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fometrics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Published in Proceedings of the Tyndall Conference 2011 (McGovern and Bates, edi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191D-6479-4D5F-951B-AEB08D14E9FD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9C10-2DAF-4F18-A5EA-F208B0CEE1B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high res infometrics_logo_020619 copy"/>
          <p:cNvPicPr/>
          <p:nvPr/>
        </p:nvPicPr>
        <p:blipFill>
          <a:blip r:embed="rId1"/>
          <a:stretch/>
        </p:blipFill>
        <p:spPr>
          <a:xfrm>
            <a:off x="7858080" y="6438960"/>
            <a:ext cx="1028880" cy="41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3592-F3B9-4221-B7C6-8305AB17CEB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8C5F-6A42-4E6C-9D0A-8A4AFA7F09C2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74200" y="9140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Competing effect of metrics. Fixed 100-year GTPs woul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duce burden of hard-to-mitigate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aise global carbon prices and bioenergy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lower increase in livestock commodity price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 emissions targets -15% by 2020 and -50% by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Scenarios evaluated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or 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cho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Full global participation in mitigation of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Sensitivity tests: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only country to apply price on its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emissions excluded from all obligat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2" marL="536400" indent="-536400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Technology: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50% reduction technology in enteric fermentation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25E6-E0EE-4BDF-AAAC-83BE60E1665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E930-9360-42E6-8F7A-1D9B2869B62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03280" y="21924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for New Zea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6307200" cy="43113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7"/>
          <p:cNvSpPr/>
          <p:nvPr/>
        </p:nvSpPr>
        <p:spPr>
          <a:xfrm>
            <a:off x="3291840" y="731880"/>
            <a:ext cx="326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 for emissions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dity pric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AF72-545D-4EA0-B742-71C10FFFEB9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69D-3E57-4BB1-9096-1BDE92400C5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74200" y="100152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Net effect of metrics on NZ depends on policy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ain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from full global participation in agricultural mitigation due to increasing livestock commodity pric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i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better off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everybody mitigates agricultural emission than if nobody does, despite having large fractional ag emissions itself and assuming no mitigation opportunities for agriculture within 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ose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it is the only country to fully price agricultur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TPs mute economic effects of mitigation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on 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benefits, it would benefit more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incurs costs, costs would be greater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Benefits from any additional enteric CH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abatement technologies would be greater under GWPs than under (fixed 100-year)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6517-DD38-4E19-9877-15FEEEF3ACD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4F6-6763-4B22-89E1-0853EC5C338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4200" y="915480"/>
            <a:ext cx="8075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ternative metrics affect different regions differently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depending on the GHG efficiency of production and relative roles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on production/expansion within a global trad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most regions, the decision to fully expose agriculture to the cost of its emissions is more important than the 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trics matter for New Zealand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et mitigation costs, but alternative policy scenarios matter much more (including determining whether NZ receives net benefits or costs from mitigation and its global implementa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TPs would mute both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ffects on 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veat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weak link between models, and idealised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838C-BC8E-4A30-A1B9-27CF4E184353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EC7F-52C2-44B8-8884-4CA805D963F0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4200" y="1002960"/>
            <a:ext cx="8075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regional dimensions of metrics are most important? Cost? Market access? Local food production? Most vulnerable sectors (measured how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can they be expressed so that they become tractable for further scientific / economic analysis? What assumptions are relevant for sensitivity te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Given the intricate links between metrics and other policy choices, does it make sense to evaluate the economic effects of metrics in isolation? What real-world assumptions would be most useful and relevant to stud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work would be useful regarding the political economy and social dimensions of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4560" y="1334880"/>
            <a:ext cx="825048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lobally, different metrics have only a minor impact on mitigation costs </a:t>
            </a:r>
            <a:r>
              <a:rPr b="1" lang="en-US" sz="2800" spc="-1" strike="noStrike">
                <a:solidFill>
                  <a:srgbClr val="42611b"/>
                </a:solidFill>
                <a:latin typeface="Arial"/>
              </a:rPr>
              <a:t>IF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the world follows a cost-minimising emissions pathway to limit long-term radiative for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at ar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implicati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lternative metrics for agricultural production and non-CO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miss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New Zealand is the developed country with the largest fraction of agricultural GHG emissions (almost 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ow would the cost of meeting economy-wide emissions targets change for New Zealand under different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35C4-E548-4D89-A3D8-D998FF399E3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04A1-394E-433A-BCB8-7084452BA47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628560" y="1176480"/>
            <a:ext cx="2535480" cy="147924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0FCD-F620-41C3-8084-3F0F9C3048D1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8CCA-27F6-4169-BA1C-6C6BFD7A4EF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3080" y="1033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Zealand’s emissions profi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der 20-, 100- and 500-year GW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2"/>
          <a:stretch/>
        </p:blipFill>
        <p:spPr>
          <a:xfrm>
            <a:off x="333360" y="2627280"/>
            <a:ext cx="8505720" cy="29354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3"/>
          <p:cNvSpPr/>
          <p:nvPr/>
        </p:nvSpPr>
        <p:spPr>
          <a:xfrm>
            <a:off x="3595320" y="1278000"/>
            <a:ext cx="5147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mited abatement potential for pas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vestock production (&gt;95% of ag emi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lower 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weight better for New Zea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560" y="24300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x, nested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74560" y="1219320"/>
            <a:ext cx="825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Metrics affect mitigation costs for an individual country in multiple, interconnected wa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Balance and quantity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, and targets and assigned amount units (under Kyoto-type reg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-eq prices for the world as a whole to meet an agreed long-term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production costs, competitiveness, and international agricultural commodity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this study, we assume that the world will adjust GHG prices/mitigation efforts to meet agreed long-ter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A910-9027-43A2-A108-854A9F44BDC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7AD0-23C3-4F53-AA06-D2C0D172194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5"/>
          <p:cNvSpPr/>
          <p:nvPr/>
        </p:nvSpPr>
        <p:spPr>
          <a:xfrm>
            <a:off x="0" y="4973760"/>
            <a:ext cx="9144000" cy="18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2916360" y="2133720"/>
            <a:ext cx="3085920" cy="981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ost-effective multi-gas emissions pathways and mitigation costs over the 2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o meet a pre-determined stabilisation target in the year 21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916360" y="189000"/>
            <a:ext cx="3085920" cy="1295280"/>
          </a:xfrm>
          <a:prstGeom prst="rect">
            <a:avLst/>
          </a:prstGeom>
          <a:solidFill>
            <a:srgbClr val="dc9e9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GICC vers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exchange rates between 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non-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, for alternative bio-physical metrics and policy choices for treatment of agricul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ed to complex coupled climate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3780000" y="1484280"/>
            <a:ext cx="1457280" cy="781200"/>
          </a:xfrm>
          <a:prstGeom prst="downArrow">
            <a:avLst>
              <a:gd name="adj1" fmla="val 73509"/>
              <a:gd name="adj2" fmla="val 49593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metr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2916360" y="4149720"/>
            <a:ext cx="3085920" cy="961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LOBI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agricultural production and commodity price indices up to 2050, based on detailed spatially explicit modelling of agricultural products and tra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916360" y="5651640"/>
            <a:ext cx="3085920" cy="1116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economic activity in New Zealand in 2020 and 2050, relative to ‘no climate policy’, for prescribed economy-wide emissions targets expressed in percentage relative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3780000" y="3141720"/>
            <a:ext cx="1457280" cy="1200240"/>
          </a:xfrm>
          <a:prstGeom prst="downArrow">
            <a:avLst>
              <a:gd name="adj1" fmla="val 73509"/>
              <a:gd name="adj2" fmla="val 21454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HG prices and bioenergy dema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3780000" y="5084640"/>
            <a:ext cx="1457280" cy="723960"/>
          </a:xfrm>
          <a:prstGeom prst="downArrow">
            <a:avLst>
              <a:gd name="adj1" fmla="val 73509"/>
              <a:gd name="adj2" fmla="val 35491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dity pric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6084720" y="2421000"/>
            <a:ext cx="924120" cy="4152960"/>
          </a:xfrm>
          <a:custGeom>
            <a:avLst/>
            <a:gdLst>
              <a:gd name="textAreaLeft" fmla="*/ 123840 w 924120"/>
              <a:gd name="textAreaRight" fmla="*/ 800280 w 924120"/>
              <a:gd name="textAreaTop" fmla="*/ 871560 h 4152960"/>
              <a:gd name="textAreaBottom" fmla="*/ 3038760 h 415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 flipH="1">
            <a:off x="1979640" y="476280"/>
            <a:ext cx="923760" cy="6191280"/>
          </a:xfrm>
          <a:custGeom>
            <a:avLst/>
            <a:gdLst>
              <a:gd name="textAreaLeft" fmla="*/ 123480 w 923760"/>
              <a:gd name="textAreaRight" fmla="*/ 800280 w 923760"/>
              <a:gd name="textAreaTop" fmla="*/ 1299240 h 6191280"/>
              <a:gd name="textAreaBottom" fmla="*/ 4529880 h 619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121520" y="3957480"/>
            <a:ext cx="1628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prices used in emissions tra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39720" y="5486400"/>
            <a:ext cx="148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etric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ount for 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 in emissions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438120" y="40464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6443640" y="404640"/>
            <a:ext cx="21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E57F-7C24-47C1-BD72-FA32F91BB64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3E32-24EA-4B04-B7C5-F3A08C1E50F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74200" y="9284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Use GLOBIOM to model agricultural production to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Spatially explicit partial equilibrium model for agriculture and forestry, including trade (Havlik et al.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Impose prices fo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,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O and biofuel demands from global MESSAGE runs for 450ppm targ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100-year GWPs (defa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 exclu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xplore regional agricultural production and GHG emissions under additional GHG costs in all regions, and effects on supply / commodity prices of livestock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503280" y="219240"/>
            <a:ext cx="864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implications for livestoc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1D15-F5E8-485F-B1D4-66EA38505143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7EC7-E86A-4199-8E23-F147A54BC6F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85880" y="27000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hanges in cattle mil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30, relative to no-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rcRect l="0" t="34208" r="0" b="0"/>
          <a:stretch/>
        </p:blipFill>
        <p:spPr>
          <a:xfrm>
            <a:off x="254160" y="690480"/>
            <a:ext cx="8265960" cy="58248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8"/>
          <p:cNvSpPr/>
          <p:nvPr/>
        </p:nvSpPr>
        <p:spPr>
          <a:xfrm>
            <a:off x="3552840" y="4083120"/>
            <a:ext cx="5049720" cy="189324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t">
            <a:spAutoFit/>
          </a:bodyPr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rics have different effects region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ost regions, the decision to impose a cost at all has a bigger effect than the choice of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9D54-5C3A-424B-BB53-C8B01A35D4D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586A-C213-4B69-85AC-AEE8A89B8F8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785880" y="10944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product suppl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rcRect l="0" t="0" r="0" b="36179"/>
          <a:stretch/>
        </p:blipFill>
        <p:spPr>
          <a:xfrm>
            <a:off x="525600" y="826920"/>
            <a:ext cx="5943600" cy="4691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6418440" y="658800"/>
            <a:ext cx="2609640" cy="141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9"/>
          <p:cNvGrpSpPr/>
          <p:nvPr/>
        </p:nvGrpSpPr>
        <p:grpSpPr>
          <a:xfrm>
            <a:off x="525600" y="825480"/>
            <a:ext cx="5894280" cy="3985200"/>
            <a:chOff x="525600" y="825480"/>
            <a:chExt cx="5894280" cy="3985200"/>
          </a:xfrm>
        </p:grpSpPr>
        <p:pic>
          <p:nvPicPr>
            <p:cNvPr id="307" name="Picture 8" descr=""/>
            <p:cNvPicPr/>
            <p:nvPr/>
          </p:nvPicPr>
          <p:blipFill>
            <a:blip r:embed="rId3"/>
            <a:srcRect l="0" t="0" r="0" b="18653"/>
            <a:stretch/>
          </p:blipFill>
          <p:spPr>
            <a:xfrm>
              <a:off x="525600" y="825480"/>
              <a:ext cx="589428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18"/>
            <p:cNvSpPr/>
            <p:nvPr/>
          </p:nvSpPr>
          <p:spPr>
            <a:xfrm>
              <a:off x="757440" y="4411800"/>
              <a:ext cx="534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23"/>
          <p:cNvSpPr/>
          <p:nvPr/>
        </p:nvSpPr>
        <p:spPr>
          <a:xfrm>
            <a:off x="1530360" y="658800"/>
            <a:ext cx="4103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future production increa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quire land-use change,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te the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wise, non-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 a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re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82680" y="279360"/>
            <a:ext cx="7570800" cy="541980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29C4-E3CB-4CD8-86B8-9A2309DCBFB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BAC2-D5AC-4AE3-9A06-12FCD2D6519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785880" y="109440"/>
            <a:ext cx="835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livestock commodity price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2470320" y="933480"/>
            <a:ext cx="26096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24:02Z</dcterms:modified>
  <cp:revision>123</cp:revision>
  <dc:subject/>
  <dc:title>Mitigating Greenhouse Gas Emissions</dc:title>
</cp:coreProperties>
</file>