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42F5-84C0-4F11-AF5D-B01BF81D7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9E91-A3B3-4382-BFA6-EA1226F1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99BF-25B5-4C43-A107-BA4036EA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5DDB-5DCF-47F6-B4B2-A155819EF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8DB6-1E6D-4A61-AE56-28281CDF3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9569-67C3-40CA-890F-A3421CD8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DCF8-B360-448C-885A-73F10B3A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2ABF-3A3B-4474-A52C-4C4570D3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0265-E11E-4C0C-8B09-B291349B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EFC0-2526-42A0-A91E-CF80FB3B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E799-343A-423C-B35E-375D6B73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EA93-BAB7-4090-A782-410E2C31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31E2-35E5-4E8C-BFEF-BEF5C5B5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E96E-5CDE-404C-B84E-A6FB1FC3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F695-ED5A-4B91-ABC2-64A61FA0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3BA6-5137-4E41-A0BE-2CBA5FC11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36C9-14B2-43E5-8962-BBC799C93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498AD-0CB9-4590-9FEC-EF8742D97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1813E-3407-4B5F-A932-79100031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BC691-619F-4985-AAD6-D495FF49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3D4EA-3525-44BE-9B07-BB118885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DC92F-F4CB-4B08-96C7-60627942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9554-1417-4B83-AF12-C68095D2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BD745-19D2-4EC1-8062-85A708A3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EE6FA-AA63-4284-8DAC-F64CBB9F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DAA78-ACCA-41B1-AD8C-18F8C0F3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61A9F-CB4A-4772-A754-B1BF6E5A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1EC64-CC09-4349-A63D-7B3BB120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6BB73-D07B-410F-8D4E-302D1012C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563B1-9E01-4D05-ADF2-61A36FC0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99C00-2023-4257-BC87-2FE5105F8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2070F-1A34-4B4F-B580-54A015AA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473B9-43E1-40FC-9BE9-23DF9C39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67E3-9893-4708-A15E-0CFA55AD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B657A-48FD-4084-BFE2-AA70C306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17D21-08E1-4C5E-8361-71349905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03651-C9A3-4E9C-881A-0F4BB3C1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85435-5F2B-468D-9B3A-987568A4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B4B67-2387-40A7-A0F0-13AC2AD3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2F5DC-0719-420E-8E8E-2B968CDE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3118D-B302-4D7A-899A-D651EFFD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3E874-C4D2-4374-AA63-B6EC5C7DB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09B10-D9D5-498F-AABF-9ADD73F65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EB9B3-BC6A-4F53-9D9C-9E6D2D616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A5B1-925E-4A32-9991-176D9E2C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C142E-D085-4B4D-B1A4-F8F78CFF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CFFE9-A55E-4DF3-8A2F-957B04DB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57825-4A98-4908-ABCE-5D603E94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98C6A-8D18-422A-B63C-E4197197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262E6-E130-4E13-8609-0B6385FE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683E9-12B0-4E8E-B10A-5527D603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6D956-700C-4093-B55A-DED3E3C1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BE671-687E-411C-A7A9-34372792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CB5E2-3073-4773-8721-EEA6A665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A7520-64E0-45FD-B1EC-2EC27706A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3137-FB1A-4E43-8E19-1C4E163D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415B3-A5EC-4534-A101-6CD04A87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5434-4DB9-416F-9469-762E51E2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A984-1019-4FB6-B6C6-109902A9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F249-5F3F-4CA4-9232-B1EB76FB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2411280" y="6127920"/>
            <a:ext cx="6145200" cy="350640"/>
            <a:chOff x="2411280" y="6127920"/>
            <a:chExt cx="6145200" cy="350640"/>
          </a:xfrm>
        </p:grpSpPr>
        <p:pic>
          <p:nvPicPr>
            <p:cNvPr id="4" name="Picture 12" descr="AG-MASTER-LOGO-rev_sl.gif"/>
            <p:cNvPicPr/>
            <p:nvPr/>
          </p:nvPicPr>
          <p:blipFill>
            <a:blip r:embed="rId2"/>
            <a:stretch/>
          </p:blipFill>
          <p:spPr>
            <a:xfrm>
              <a:off x="2411280" y="6202080"/>
              <a:ext cx="464040" cy="20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13" descr="DairyNZ_NoStrap_grey_sl.gif"/>
            <p:cNvPicPr/>
            <p:nvPr/>
          </p:nvPicPr>
          <p:blipFill>
            <a:blip r:embed="rId3"/>
            <a:srcRect l="10316" t="0" r="4577" b="0"/>
            <a:stretch/>
          </p:blipFill>
          <p:spPr>
            <a:xfrm>
              <a:off x="3032280" y="6127920"/>
              <a:ext cx="614160" cy="35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4" descr="LandcareLogoLarge_white_sl.gif"/>
            <p:cNvPicPr/>
            <p:nvPr/>
          </p:nvPicPr>
          <p:blipFill>
            <a:blip r:embed="rId4"/>
            <a:stretch/>
          </p:blipFill>
          <p:spPr>
            <a:xfrm>
              <a:off x="3804120" y="6231960"/>
              <a:ext cx="666000" cy="1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15" descr="LU-logo-white-Specialist.gif"/>
            <p:cNvPicPr/>
            <p:nvPr/>
          </p:nvPicPr>
          <p:blipFill>
            <a:blip r:embed="rId5"/>
            <a:stretch/>
          </p:blipFill>
          <p:spPr>
            <a:xfrm>
              <a:off x="4627440" y="6217560"/>
              <a:ext cx="47160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6" descr="MU_Logo_grey_sl.gif"/>
            <p:cNvPicPr/>
            <p:nvPr/>
          </p:nvPicPr>
          <p:blipFill>
            <a:blip r:embed="rId6"/>
            <a:stretch/>
          </p:blipFill>
          <p:spPr>
            <a:xfrm>
              <a:off x="5256360" y="6179400"/>
              <a:ext cx="666000" cy="2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7" descr="PFR_white.gif"/>
            <p:cNvPicPr/>
            <p:nvPr/>
          </p:nvPicPr>
          <p:blipFill>
            <a:blip r:embed="rId7"/>
            <a:stretch/>
          </p:blipFill>
          <p:spPr>
            <a:xfrm>
              <a:off x="7384320" y="6211440"/>
              <a:ext cx="55800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8" descr="niwalogo.gif"/>
            <p:cNvPicPr/>
            <p:nvPr/>
          </p:nvPicPr>
          <p:blipFill>
            <a:blip r:embed="rId8"/>
            <a:stretch/>
          </p:blipFill>
          <p:spPr>
            <a:xfrm>
              <a:off x="6079680" y="6222960"/>
              <a:ext cx="6660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19" descr="PGGRC-Logo_white_sl.gif"/>
            <p:cNvPicPr/>
            <p:nvPr/>
          </p:nvPicPr>
          <p:blipFill>
            <a:blip r:embed="rId9"/>
            <a:stretch/>
          </p:blipFill>
          <p:spPr>
            <a:xfrm>
              <a:off x="6903000" y="6168960"/>
              <a:ext cx="32400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Picture 20" descr="scion_logo_white_sl.gif"/>
            <p:cNvPicPr/>
            <p:nvPr/>
          </p:nvPicPr>
          <p:blipFill>
            <a:blip r:embed="rId10"/>
            <a:stretch/>
          </p:blipFill>
          <p:spPr>
            <a:xfrm>
              <a:off x="8099280" y="6239880"/>
              <a:ext cx="457200" cy="12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" name="Text Box 10"/>
          <p:cNvSpPr/>
          <p:nvPr/>
        </p:nvSpPr>
        <p:spPr>
          <a:xfrm>
            <a:off x="2411280" y="5992920"/>
            <a:ext cx="1368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5c237"/>
                </a:solidFill>
                <a:latin typeface="Arial"/>
              </a:rPr>
              <a:t>Leading Partners in Sci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23" descr="NZ AGRC Logo.jpg"/>
          <p:cNvPicPr/>
          <p:nvPr/>
        </p:nvPicPr>
        <p:blipFill>
          <a:blip r:embed="rId11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3"/>
          <p:cNvSpPr>
            <a:spLocks noGrp="1"/>
          </p:cNvSpPr>
          <p:nvPr>
            <p:ph type="ftr" idx="1"/>
          </p:nvPr>
        </p:nvSpPr>
        <p:spPr>
          <a:xfrm>
            <a:off x="241092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dt" idx="2"/>
          </p:nvPr>
        </p:nvSpPr>
        <p:spPr>
          <a:xfrm>
            <a:off x="735444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ADA2-C4D4-4F5E-8D7B-245D63C0745B}" type="datetime3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476920" y="6551640"/>
            <a:ext cx="7308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D9DC-CC3A-411D-9D3A-60C3C633082D}" type="slidenum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4"/>
          </p:nvPr>
        </p:nvSpPr>
        <p:spPr>
          <a:xfrm>
            <a:off x="5616360" y="6526080"/>
            <a:ext cx="28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9" descr="NZ AGRC Logo.jpg"/>
          <p:cNvPicPr/>
          <p:nvPr/>
        </p:nvPicPr>
        <p:blipFill>
          <a:blip r:embed="rId2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4"/>
          <p:cNvSpPr>
            <a:spLocks noGrp="1"/>
          </p:cNvSpPr>
          <p:nvPr>
            <p:ph type="dt" idx="5"/>
          </p:nvPr>
        </p:nvSpPr>
        <p:spPr>
          <a:xfrm>
            <a:off x="7297200" y="6372000"/>
            <a:ext cx="107964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9B00-93C9-41E6-B925-3FF757E47EF3}" type="datetime3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419680" y="6372000"/>
            <a:ext cx="7308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C1B3-C285-4355-899D-7D5E037CAD0B}" type="slidenum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1"/>
          <p:cNvGrpSpPr/>
          <p:nvPr/>
        </p:nvGrpSpPr>
        <p:grpSpPr>
          <a:xfrm>
            <a:off x="2411280" y="6127920"/>
            <a:ext cx="6145200" cy="350640"/>
            <a:chOff x="2411280" y="6127920"/>
            <a:chExt cx="6145200" cy="350640"/>
          </a:xfrm>
        </p:grpSpPr>
        <p:pic>
          <p:nvPicPr>
            <p:cNvPr id="99" name="Picture 12" descr="AG-MASTER-LOGO-rev_sl.gif"/>
            <p:cNvPicPr/>
            <p:nvPr/>
          </p:nvPicPr>
          <p:blipFill>
            <a:blip r:embed="rId2"/>
            <a:stretch/>
          </p:blipFill>
          <p:spPr>
            <a:xfrm>
              <a:off x="2411280" y="6202080"/>
              <a:ext cx="464040" cy="20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13" descr="DairyNZ_NoStrap_grey_sl.gif"/>
            <p:cNvPicPr/>
            <p:nvPr/>
          </p:nvPicPr>
          <p:blipFill>
            <a:blip r:embed="rId3"/>
            <a:srcRect l="10316" t="0" r="4577" b="0"/>
            <a:stretch/>
          </p:blipFill>
          <p:spPr>
            <a:xfrm>
              <a:off x="3032280" y="6127920"/>
              <a:ext cx="614160" cy="35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14" descr="LandcareLogoLarge_white_sl.gif"/>
            <p:cNvPicPr/>
            <p:nvPr/>
          </p:nvPicPr>
          <p:blipFill>
            <a:blip r:embed="rId4"/>
            <a:stretch/>
          </p:blipFill>
          <p:spPr>
            <a:xfrm>
              <a:off x="3804120" y="6231960"/>
              <a:ext cx="666000" cy="1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15" descr="LU-logo-white-Specialist.gif"/>
            <p:cNvPicPr/>
            <p:nvPr/>
          </p:nvPicPr>
          <p:blipFill>
            <a:blip r:embed="rId5"/>
            <a:stretch/>
          </p:blipFill>
          <p:spPr>
            <a:xfrm>
              <a:off x="4627440" y="6217560"/>
              <a:ext cx="47160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16" descr="MU_Logo_grey_sl.gif"/>
            <p:cNvPicPr/>
            <p:nvPr/>
          </p:nvPicPr>
          <p:blipFill>
            <a:blip r:embed="rId6"/>
            <a:stretch/>
          </p:blipFill>
          <p:spPr>
            <a:xfrm>
              <a:off x="5256360" y="6179400"/>
              <a:ext cx="666000" cy="2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17" descr="PFR_white.gif"/>
            <p:cNvPicPr/>
            <p:nvPr/>
          </p:nvPicPr>
          <p:blipFill>
            <a:blip r:embed="rId7"/>
            <a:stretch/>
          </p:blipFill>
          <p:spPr>
            <a:xfrm>
              <a:off x="7384320" y="6211440"/>
              <a:ext cx="55800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18" descr="niwalogo.gif"/>
            <p:cNvPicPr/>
            <p:nvPr/>
          </p:nvPicPr>
          <p:blipFill>
            <a:blip r:embed="rId8"/>
            <a:stretch/>
          </p:blipFill>
          <p:spPr>
            <a:xfrm>
              <a:off x="6079680" y="6222960"/>
              <a:ext cx="6660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19" descr="PGGRC-Logo_white_sl.gif"/>
            <p:cNvPicPr/>
            <p:nvPr/>
          </p:nvPicPr>
          <p:blipFill>
            <a:blip r:embed="rId9"/>
            <a:stretch/>
          </p:blipFill>
          <p:spPr>
            <a:xfrm>
              <a:off x="6903000" y="6168960"/>
              <a:ext cx="32400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20" descr="scion_logo_white_sl.gif"/>
            <p:cNvPicPr/>
            <p:nvPr/>
          </p:nvPicPr>
          <p:blipFill>
            <a:blip r:embed="rId10"/>
            <a:stretch/>
          </p:blipFill>
          <p:spPr>
            <a:xfrm>
              <a:off x="8099280" y="6239880"/>
              <a:ext cx="457200" cy="12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Text Box 10"/>
          <p:cNvSpPr/>
          <p:nvPr/>
        </p:nvSpPr>
        <p:spPr>
          <a:xfrm>
            <a:off x="2411280" y="5992920"/>
            <a:ext cx="1368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5c237"/>
                </a:solidFill>
                <a:latin typeface="Arial"/>
              </a:rPr>
              <a:t>Leading Partners in Sci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3" descr="NZ AGRC Logo.jpg"/>
          <p:cNvPicPr/>
          <p:nvPr/>
        </p:nvPicPr>
        <p:blipFill>
          <a:blip r:embed="rId11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ftr" idx="7"/>
          </p:nvPr>
        </p:nvSpPr>
        <p:spPr>
          <a:xfrm>
            <a:off x="241092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dt" idx="8"/>
          </p:nvPr>
        </p:nvSpPr>
        <p:spPr>
          <a:xfrm>
            <a:off x="735444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37D4-0EA0-4546-9C21-67C76B93CB3E}" type="datetime3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  |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476920" y="6551640"/>
            <a:ext cx="7308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2C8F-35FB-4DD4-8AC4-481944954FBD}" type="slidenum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1"/>
          <p:cNvGrpSpPr/>
          <p:nvPr/>
        </p:nvGrpSpPr>
        <p:grpSpPr>
          <a:xfrm>
            <a:off x="2411280" y="6127920"/>
            <a:ext cx="6145200" cy="350640"/>
            <a:chOff x="2411280" y="6127920"/>
            <a:chExt cx="6145200" cy="350640"/>
          </a:xfrm>
        </p:grpSpPr>
        <p:pic>
          <p:nvPicPr>
            <p:cNvPr id="153" name="Picture 12" descr="AG-MASTER-LOGO-rev_sl.gif"/>
            <p:cNvPicPr/>
            <p:nvPr/>
          </p:nvPicPr>
          <p:blipFill>
            <a:blip r:embed="rId2"/>
            <a:stretch/>
          </p:blipFill>
          <p:spPr>
            <a:xfrm>
              <a:off x="2411280" y="6202080"/>
              <a:ext cx="464040" cy="20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13" descr="DairyNZ_NoStrap_grey_sl.gif"/>
            <p:cNvPicPr/>
            <p:nvPr/>
          </p:nvPicPr>
          <p:blipFill>
            <a:blip r:embed="rId3"/>
            <a:srcRect l="10316" t="0" r="4577" b="0"/>
            <a:stretch/>
          </p:blipFill>
          <p:spPr>
            <a:xfrm>
              <a:off x="3032280" y="6127920"/>
              <a:ext cx="614160" cy="35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14" descr="LandcareLogoLarge_white_sl.gif"/>
            <p:cNvPicPr/>
            <p:nvPr/>
          </p:nvPicPr>
          <p:blipFill>
            <a:blip r:embed="rId4"/>
            <a:stretch/>
          </p:blipFill>
          <p:spPr>
            <a:xfrm>
              <a:off x="3804120" y="6231960"/>
              <a:ext cx="666000" cy="1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15" descr="LU-logo-white-Specialist.gif"/>
            <p:cNvPicPr/>
            <p:nvPr/>
          </p:nvPicPr>
          <p:blipFill>
            <a:blip r:embed="rId5"/>
            <a:stretch/>
          </p:blipFill>
          <p:spPr>
            <a:xfrm>
              <a:off x="4627440" y="6217560"/>
              <a:ext cx="47160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16" descr="MU_Logo_grey_sl.gif"/>
            <p:cNvPicPr/>
            <p:nvPr/>
          </p:nvPicPr>
          <p:blipFill>
            <a:blip r:embed="rId6"/>
            <a:stretch/>
          </p:blipFill>
          <p:spPr>
            <a:xfrm>
              <a:off x="5256360" y="6179400"/>
              <a:ext cx="666000" cy="2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17" descr="PFR_white.gif"/>
            <p:cNvPicPr/>
            <p:nvPr/>
          </p:nvPicPr>
          <p:blipFill>
            <a:blip r:embed="rId7"/>
            <a:stretch/>
          </p:blipFill>
          <p:spPr>
            <a:xfrm>
              <a:off x="7384320" y="6211440"/>
              <a:ext cx="55800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18" descr="niwalogo.gif"/>
            <p:cNvPicPr/>
            <p:nvPr/>
          </p:nvPicPr>
          <p:blipFill>
            <a:blip r:embed="rId8"/>
            <a:stretch/>
          </p:blipFill>
          <p:spPr>
            <a:xfrm>
              <a:off x="6079680" y="6222960"/>
              <a:ext cx="6660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19" descr="PGGRC-Logo_white_sl.gif"/>
            <p:cNvPicPr/>
            <p:nvPr/>
          </p:nvPicPr>
          <p:blipFill>
            <a:blip r:embed="rId9"/>
            <a:stretch/>
          </p:blipFill>
          <p:spPr>
            <a:xfrm>
              <a:off x="6903000" y="6168960"/>
              <a:ext cx="32400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scion_logo_white_sl.gif"/>
            <p:cNvPicPr/>
            <p:nvPr/>
          </p:nvPicPr>
          <p:blipFill>
            <a:blip r:embed="rId10"/>
            <a:stretch/>
          </p:blipFill>
          <p:spPr>
            <a:xfrm>
              <a:off x="8099280" y="6239880"/>
              <a:ext cx="457200" cy="12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Text Box 10"/>
          <p:cNvSpPr/>
          <p:nvPr/>
        </p:nvSpPr>
        <p:spPr>
          <a:xfrm>
            <a:off x="2411280" y="5992920"/>
            <a:ext cx="1368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5c237"/>
                </a:solidFill>
                <a:latin typeface="Arial"/>
              </a:rPr>
              <a:t>Leading Partners in Sci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3" descr="NZ AGRC Logo.jpg"/>
          <p:cNvPicPr/>
          <p:nvPr/>
        </p:nvPicPr>
        <p:blipFill>
          <a:blip r:embed="rId11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735444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241092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8476920" y="6551640"/>
            <a:ext cx="7308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28BD-0B60-4F2D-8290-2994C975CA8E}" type="slidenum">
              <a:rPr b="0" lang="en-GB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9" descr="NZ AGRC Logo.jpg"/>
          <p:cNvPicPr/>
          <p:nvPr/>
        </p:nvPicPr>
        <p:blipFill>
          <a:blip r:embed="rId2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13"/>
          </p:nvPr>
        </p:nvSpPr>
        <p:spPr>
          <a:xfrm>
            <a:off x="5616360" y="6526080"/>
            <a:ext cx="28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dt" idx="14"/>
          </p:nvPr>
        </p:nvSpPr>
        <p:spPr>
          <a:xfrm>
            <a:off x="7297200" y="6372000"/>
            <a:ext cx="107964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1271-481C-45B2-831E-6291102B097F}" type="datetime3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  |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8419680" y="6372000"/>
            <a:ext cx="7308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230B-2862-4AEE-9497-AD0467380FAE}" type="slidenum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38400" y="560520"/>
            <a:ext cx="738504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actions of metrics and alternative policy settings at a country level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case study from New Zealand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278000" y="2711160"/>
            <a:ext cx="7176960" cy="28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fb1b4"/>
                </a:solidFill>
                <a:latin typeface="Arial"/>
              </a:rPr>
              <a:t>Andy Reisinger</a:t>
            </a:r>
            <a:r>
              <a:rPr b="0" lang="en-US" sz="2800" spc="-1" strike="noStrike" baseline="30000">
                <a:solidFill>
                  <a:srgbClr val="afb1b4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afb1b4"/>
                </a:solidFill>
                <a:latin typeface="Arial"/>
              </a:rPr>
              <a:t> Adolf Stroombergen</a:t>
            </a:r>
            <a:r>
              <a:rPr b="0" lang="en-US" sz="2800" spc="-1" strike="noStrike" baseline="30000">
                <a:solidFill>
                  <a:srgbClr val="afb1b4"/>
                </a:solidFill>
                <a:latin typeface="Arial"/>
              </a:rPr>
              <a:t>2</a:t>
            </a:r>
            <a:br>
              <a:rPr sz="2800"/>
            </a:br>
            <a:r>
              <a:rPr b="0" lang="en-US" sz="2800" spc="-1" strike="noStrike">
                <a:solidFill>
                  <a:srgbClr val="afb1b4"/>
                </a:solidFill>
                <a:latin typeface="Arial"/>
              </a:rPr>
              <a:t>K. Riahi</a:t>
            </a:r>
            <a:r>
              <a:rPr b="0" lang="en-US" sz="2800" spc="-1" strike="noStrike" baseline="30000">
                <a:solidFill>
                  <a:srgbClr val="afb1b4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afb1b4"/>
                </a:solidFill>
                <a:latin typeface="Arial"/>
              </a:rPr>
              <a:t>O. van Vliet</a:t>
            </a:r>
            <a:r>
              <a:rPr b="0" lang="en-US" sz="2800" spc="-1" strike="noStrike" baseline="30000">
                <a:solidFill>
                  <a:srgbClr val="afb1b4"/>
                </a:solidFill>
                <a:latin typeface="Arial"/>
              </a:rPr>
              <a:t>2</a:t>
            </a:r>
            <a:br>
              <a:rPr sz="2800"/>
            </a:br>
            <a:r>
              <a:rPr b="0" lang="en-US" sz="2800" spc="-1" strike="noStrike">
                <a:solidFill>
                  <a:srgbClr val="afb1b4"/>
                </a:solidFill>
                <a:latin typeface="Arial"/>
              </a:rPr>
              <a:t>P. Havlik</a:t>
            </a:r>
            <a:r>
              <a:rPr b="0" lang="en-US" sz="2800" spc="-1" strike="noStrike" baseline="30000">
                <a:solidFill>
                  <a:srgbClr val="afb1b4"/>
                </a:solidFill>
                <a:latin typeface="Arial"/>
              </a:rPr>
              <a:t>2,3</a:t>
            </a:r>
            <a:r>
              <a:rPr b="0" lang="en-US" sz="2800" spc="-1" strike="noStrike">
                <a:solidFill>
                  <a:srgbClr val="afb1b4"/>
                </a:solidFill>
                <a:latin typeface="Arial"/>
              </a:rPr>
              <a:t> M. Obersteiner</a:t>
            </a:r>
            <a:r>
              <a:rPr b="0" lang="en-US" sz="2800" spc="-1" strike="noStrike" baseline="30000">
                <a:solidFill>
                  <a:srgbClr val="afb1b4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afb1b4"/>
                </a:solidFill>
                <a:latin typeface="Arial"/>
              </a:rPr>
              <a:t> M. Herrero</a:t>
            </a:r>
            <a:r>
              <a:rPr b="0" lang="en-US" sz="2800" spc="-1" strike="noStrike" baseline="30000">
                <a:solidFill>
                  <a:srgbClr val="afb1b4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afb1b4"/>
                </a:solidFill>
                <a:latin typeface="Arial"/>
              </a:rPr>
              <a:t>1 </a:t>
            </a:r>
            <a:r>
              <a:rPr b="0" i="1" lang="en-US" sz="1800" spc="-1" strike="noStrike">
                <a:solidFill>
                  <a:srgbClr val="afb1b4"/>
                </a:solidFill>
                <a:latin typeface="Arial"/>
              </a:rPr>
              <a:t>New Zealand Agricultural Greenhouse Gas Researc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afb1b4"/>
                </a:solidFill>
                <a:latin typeface="Arial"/>
              </a:rPr>
              <a:t>2 </a:t>
            </a:r>
            <a:r>
              <a:rPr b="0" i="1" lang="en-US" sz="1800" spc="-1" strike="noStrike">
                <a:solidFill>
                  <a:srgbClr val="afb1b4"/>
                </a:solidFill>
                <a:latin typeface="Arial"/>
              </a:rPr>
              <a:t>Infometrics Consul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afb1b4"/>
                </a:solidFill>
                <a:latin typeface="Arial"/>
              </a:rPr>
              <a:t>3 </a:t>
            </a:r>
            <a:r>
              <a:rPr b="0" i="1" lang="en-US" sz="1800" spc="-1" strike="noStrike">
                <a:solidFill>
                  <a:srgbClr val="afb1b4"/>
                </a:solidFill>
                <a:latin typeface="Arial"/>
              </a:rPr>
              <a:t>International Institute for Applied Systems Analysis (IIA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afb1b4"/>
                </a:solidFill>
                <a:latin typeface="Arial"/>
              </a:rPr>
              <a:t>Published in Proceedings of the Tyndall Conference 2011 (McGovern and Bates, edi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5663-E934-4AC4-AC04-65193FE89FAB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96C9-FCD0-4E52-9EE2-B17865617EDE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high res infometrics_logo_020619 copy"/>
          <p:cNvPicPr/>
          <p:nvPr/>
        </p:nvPicPr>
        <p:blipFill>
          <a:blip r:embed="rId1"/>
          <a:stretch/>
        </p:blipFill>
        <p:spPr>
          <a:xfrm>
            <a:off x="7858080" y="6438960"/>
            <a:ext cx="1028880" cy="41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6817-D978-4F36-80E4-11AA78B9211B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6BCE-6340-40EA-BB7A-B022A06870B3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574200" y="914040"/>
            <a:ext cx="807588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Competing effect of metrics. Fixed 100-year GTPs woul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Reduce burden of hard-to-mitigate non-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g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Raise global carbon prices and bioenergy dem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Result in lower increase in livestock commodity price ind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Assume emissions targets -15% by 2020 and -50% by 20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Scenarios evaluated: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GWPs or fixed 100-year GT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Policy choic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06400" indent="-270000">
              <a:spcBef>
                <a:spcPts val="601"/>
              </a:spcBef>
              <a:buClr>
                <a:srgbClr val="85c23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Full global participation in mitigation of agricultural emissions</a:t>
            </a:r>
            <a:endParaRPr b="0" lang="en-US" sz="2000" spc="-1" strike="noStrike">
              <a:solidFill>
                <a:srgbClr val="7c7c7c"/>
              </a:solidFill>
              <a:latin typeface="Arial"/>
            </a:endParaRPr>
          </a:p>
          <a:p>
            <a:pPr lvl="3" marL="806400" indent="-270000">
              <a:spcBef>
                <a:spcPts val="601"/>
              </a:spcBef>
              <a:buClr>
                <a:srgbClr val="85c23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Sensitivity tests:</a:t>
            </a:r>
            <a:endParaRPr b="0" lang="en-US" sz="2000" spc="-1" strike="noStrike">
              <a:solidFill>
                <a:srgbClr val="7c7c7c"/>
              </a:solidFill>
              <a:latin typeface="Arial"/>
            </a:endParaRPr>
          </a:p>
          <a:p>
            <a:pPr lvl="4" marL="1076400" indent="-270000">
              <a:spcBef>
                <a:spcPts val="601"/>
              </a:spcBef>
              <a:buClr>
                <a:srgbClr val="85c237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NZ only country to apply price on its agricultural emissions</a:t>
            </a:r>
            <a:endParaRPr b="0" lang="en-US" sz="2000" spc="-1" strike="noStrike">
              <a:solidFill>
                <a:srgbClr val="7c7c7c"/>
              </a:solidFill>
              <a:latin typeface="Arial"/>
            </a:endParaRPr>
          </a:p>
          <a:p>
            <a:pPr lvl="4" marL="1076400" indent="-270000">
              <a:spcBef>
                <a:spcPts val="601"/>
              </a:spcBef>
              <a:buClr>
                <a:srgbClr val="85c237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Agricultural non-CO</a:t>
            </a:r>
            <a:r>
              <a:rPr b="0" lang="en-US" sz="20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emissions excluded from all obligations</a:t>
            </a:r>
            <a:endParaRPr b="0" lang="en-US" sz="2000" spc="-1" strike="noStrike">
              <a:solidFill>
                <a:srgbClr val="7c7c7c"/>
              </a:solidFill>
              <a:latin typeface="Arial"/>
            </a:endParaRPr>
          </a:p>
          <a:p>
            <a:pPr lvl="2" marL="536400" indent="-536400">
              <a:spcBef>
                <a:spcPts val="601"/>
              </a:spcBef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Technology: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50% reduction technology in enteric fermentation</a:t>
            </a:r>
            <a:endParaRPr b="0" lang="en-US" sz="2000" spc="-1" strike="noStrike">
              <a:solidFill>
                <a:srgbClr val="7c7c7c"/>
              </a:solidFill>
              <a:latin typeface="Arial"/>
            </a:endParaRPr>
          </a:p>
        </p:txBody>
      </p:sp>
      <p:sp>
        <p:nvSpPr>
          <p:cNvPr id="320" name="Title 1"/>
          <p:cNvSpPr/>
          <p:nvPr/>
        </p:nvSpPr>
        <p:spPr>
          <a:xfrm>
            <a:off x="503280" y="219240"/>
            <a:ext cx="81010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tional-level implications of metrics for N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62E1-051F-47A3-83C1-E5A6605C9BD8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69FC-363E-4DE8-A6F1-4D822CFE326B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itle 1"/>
          <p:cNvSpPr/>
          <p:nvPr/>
        </p:nvSpPr>
        <p:spPr>
          <a:xfrm>
            <a:off x="503280" y="219240"/>
            <a:ext cx="788184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tional-level implications for New Zea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1352520" y="1362240"/>
            <a:ext cx="6307200" cy="4311360"/>
          </a:xfrm>
          <a:prstGeom prst="rect">
            <a:avLst/>
          </a:prstGeom>
          <a:ln w="0">
            <a:noFill/>
          </a:ln>
        </p:spPr>
      </p:pic>
      <p:sp>
        <p:nvSpPr>
          <p:cNvPr id="326" name="TextBox 7"/>
          <p:cNvSpPr/>
          <p:nvPr/>
        </p:nvSpPr>
        <p:spPr>
          <a:xfrm>
            <a:off x="3291840" y="731880"/>
            <a:ext cx="326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rics for emissions tar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on pr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dity price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cy 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14EF-3B75-4B95-BB21-EBA1C2693D63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E903-29F9-4B98-8CEC-9F70785C3734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574200" y="1001520"/>
            <a:ext cx="807588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Net effect of metrics on NZ depends on policy set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NZ </a:t>
            </a:r>
            <a:r>
              <a:rPr b="0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gains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from full global participation in agricultural mitigation due to increasing livestock commodity price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NZ is </a:t>
            </a:r>
            <a:r>
              <a:rPr b="0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better off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if everybody mitigates agricultural emission than if nobody does, despite having large fractional ag emissions itself and assuming no mitigation opportunities for agriculture within 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NZ </a:t>
            </a:r>
            <a:r>
              <a:rPr b="0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loses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if it is the only country to fully price agricultural e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GTPs mute economic effects of mitigation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on New Zea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buClr>
                <a:srgbClr val="85c23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611b"/>
                </a:solidFill>
                <a:latin typeface="Arial"/>
              </a:rPr>
              <a:t>If NZ benefits, it would benefit more under GWPs than GT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buClr>
                <a:srgbClr val="85c23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611b"/>
                </a:solidFill>
                <a:latin typeface="Arial"/>
              </a:rPr>
              <a:t>If NZ incurs costs, costs would be greater under GWPs than GT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Benefits from any additional enteric CH</a:t>
            </a:r>
            <a:r>
              <a:rPr b="0" lang="en-US" sz="2000" spc="-1" strike="noStrike" baseline="-25000">
                <a:solidFill>
                  <a:srgbClr val="42611b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abatement technologies would be greater under GWPs than under (fixed 100-year)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GT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itle 1"/>
          <p:cNvSpPr/>
          <p:nvPr/>
        </p:nvSpPr>
        <p:spPr>
          <a:xfrm>
            <a:off x="503280" y="219240"/>
            <a:ext cx="81010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tional-level implications of metrics for N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4160-3D4D-4290-BCC5-2DCA639D55D8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679B-5A96-40E3-9549-9D8FACFE97AB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74200" y="915480"/>
            <a:ext cx="80758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lternative metrics affect different regions differently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depending on the GHG efficiency of production and relative roles of 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and non-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prices on production/expansion within a global trad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n most regions, the decision to fully expose agriculture to the cost of its emissions is more important than the metr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etrics matter for New Zealand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net mitigation costs, but alternative policy scenarios matter much more (including determining whether NZ receives net benefits or costs from mitigation and its global implementation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GTPs would mute both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positive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and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negative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effects on N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aveat: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weak link between models, and idealised scen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itle 1"/>
          <p:cNvSpPr/>
          <p:nvPr/>
        </p:nvSpPr>
        <p:spPr>
          <a:xfrm>
            <a:off x="503280" y="219240"/>
            <a:ext cx="81010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A2FF-1556-4944-8B90-664855B117CF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AA26-FFDE-4D1E-A24B-F0780F0476B6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itle 1"/>
          <p:cNvSpPr/>
          <p:nvPr/>
        </p:nvSpPr>
        <p:spPr>
          <a:xfrm>
            <a:off x="546120" y="320760"/>
            <a:ext cx="7881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uestions to the policy commun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74200" y="1002960"/>
            <a:ext cx="8075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lvl="1" marL="487800" indent="-4878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What regional dimensions of metrics are most important? Cost? Market access? Local food production? Most vulnerable sectors (measured how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7800" indent="-4878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How can they be expressed so that they become tractable for further scientific / economic analysis? What assumptions are relevant for sensitivity test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7800" indent="-4878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Given the intricate links between metrics and other policy choices, does it make sense to evaluate the economic effects of metrics in isolation? What real-world assumptions would be most useful and relevant to stud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7800" indent="-4878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What work would be useful regarding the political economy and social dimensions of metric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 a nutshel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74560" y="1334880"/>
            <a:ext cx="8250480" cy="39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Globally, different metrics have only a minor impact on mitigation costs </a:t>
            </a:r>
            <a:r>
              <a:rPr b="1" lang="en-US" sz="2800" spc="-1" strike="noStrike">
                <a:solidFill>
                  <a:srgbClr val="42611b"/>
                </a:solidFill>
                <a:latin typeface="Arial"/>
              </a:rPr>
              <a:t>IF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the world follows a cost-minimising emissions pathway to limit long-term radiative forc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What are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regional implications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of alternative metrics for agricultural production and non-CO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emission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New Zealand is the developed country with the largest fraction of agricultural GHG emissions (almost 50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How would the cost of meeting economy-wide emissions targets change for New Zealand under different metric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6360" y="360360"/>
            <a:ext cx="395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c7c7c"/>
              </a:solidFill>
              <a:latin typeface="Arial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02A6-91C9-4E89-8968-448949E6E4DE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BD1D-D8D0-4B98-B19C-8BD92519E1F8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9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12" descr=""/>
          <p:cNvPicPr/>
          <p:nvPr/>
        </p:nvPicPr>
        <p:blipFill>
          <a:blip r:embed="rId1"/>
          <a:stretch/>
        </p:blipFill>
        <p:spPr>
          <a:xfrm>
            <a:off x="628560" y="1176480"/>
            <a:ext cx="2535480" cy="1479240"/>
          </a:xfrm>
          <a:prstGeom prst="rect">
            <a:avLst/>
          </a:prstGeom>
          <a:ln w="0">
            <a:noFill/>
          </a:ln>
        </p:spPr>
      </p:pic>
      <p:sp>
        <p:nvSpPr>
          <p:cNvPr id="261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7B5A-9166-4B42-9E6E-056E6283AACC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8D60-3EE8-4C35-9BD2-1C159FE5DF94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03080" y="1033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Zealand’s emissions profile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nder 20-, 100- and 500-year GW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9" descr=""/>
          <p:cNvPicPr/>
          <p:nvPr/>
        </p:nvPicPr>
        <p:blipFill>
          <a:blip r:embed="rId2"/>
          <a:stretch/>
        </p:blipFill>
        <p:spPr>
          <a:xfrm>
            <a:off x="333360" y="2627280"/>
            <a:ext cx="8505720" cy="2935440"/>
          </a:xfrm>
          <a:prstGeom prst="rect">
            <a:avLst/>
          </a:prstGeom>
          <a:ln w="0">
            <a:noFill/>
          </a:ln>
        </p:spPr>
      </p:pic>
      <p:sp>
        <p:nvSpPr>
          <p:cNvPr id="267" name="TextBox 13"/>
          <p:cNvSpPr/>
          <p:nvPr/>
        </p:nvSpPr>
        <p:spPr>
          <a:xfrm>
            <a:off x="3595320" y="1278000"/>
            <a:ext cx="51472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mited abatement potential for past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vestock production (&gt;95% of ag emiss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s a lower CH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weight better for New Zeala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4560" y="24300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plex, nested probl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74560" y="1219320"/>
            <a:ext cx="82504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Metrics affect mitigation costs for an individual country in multiple, interconnected way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Balance and quantity of 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and non-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emissions, and targets and assigned amount units (under Kyoto-type regim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Global 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-eq prices for the world as a whole to meet an agreed long-term go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Agricultural production costs, competitiveness, and international agricultural commodity pr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n this study, we assume that the world will adjust GHG prices/mitigation efforts to meet agreed long-term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76360" y="360360"/>
            <a:ext cx="395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c7c7c"/>
              </a:solidFill>
              <a:latin typeface="Arial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4563-66B2-4C3B-A3AD-5993492F1A52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377A-354B-4C5B-BEA1-60A8F2B3FC47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5"/>
          <p:cNvSpPr/>
          <p:nvPr/>
        </p:nvSpPr>
        <p:spPr>
          <a:xfrm>
            <a:off x="0" y="4973760"/>
            <a:ext cx="9144000" cy="188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3"/>
          <p:cNvSpPr/>
          <p:nvPr/>
        </p:nvSpPr>
        <p:spPr>
          <a:xfrm>
            <a:off x="2916360" y="2133720"/>
            <a:ext cx="3085920" cy="981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es cost-effective multi-gas emissions pathways and mitigation costs over the 2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century to meet a pre-determined stabilisation target in the year 210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2916360" y="189000"/>
            <a:ext cx="3085920" cy="1295280"/>
          </a:xfrm>
          <a:prstGeom prst="rect">
            <a:avLst/>
          </a:prstGeom>
          <a:solidFill>
            <a:srgbClr val="dc9e9c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GICC version 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es exchange rates between CO</a:t>
            </a:r>
            <a:r>
              <a:rPr b="0" lang="en-US" sz="1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and non-CO</a:t>
            </a:r>
            <a:r>
              <a:rPr b="0" lang="en-US" sz="1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gases, for alternative bio-physical metrics and policy choices for treatment of agricul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alibrated to complex coupled climate mod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1"/>
          <p:cNvSpPr/>
          <p:nvPr/>
        </p:nvSpPr>
        <p:spPr>
          <a:xfrm>
            <a:off x="3780000" y="1484280"/>
            <a:ext cx="1457280" cy="781200"/>
          </a:xfrm>
          <a:prstGeom prst="downArrow">
            <a:avLst>
              <a:gd name="adj1" fmla="val 73509"/>
              <a:gd name="adj2" fmla="val 49593"/>
            </a:avLst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non-CO</a:t>
            </a:r>
            <a:r>
              <a:rPr b="1" lang="en-US" sz="13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metri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2916360" y="4149720"/>
            <a:ext cx="3085920" cy="961920"/>
          </a:xfrm>
          <a:prstGeom prst="rec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LOBI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es changes in agricultural production and commodity price indices up to 2050, based on detailed spatially explicit modelling of agricultural products and tra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9"/>
          <p:cNvSpPr/>
          <p:nvPr/>
        </p:nvSpPr>
        <p:spPr>
          <a:xfrm>
            <a:off x="2916360" y="5651640"/>
            <a:ext cx="3085920" cy="111600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SS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es changes in economic activity in New Zealand in 2020 and 2050, relative to ‘no climate policy’, for prescribed economy-wide emissions targets expressed in percentage relative to 199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8"/>
          <p:cNvSpPr/>
          <p:nvPr/>
        </p:nvSpPr>
        <p:spPr>
          <a:xfrm>
            <a:off x="3780000" y="3141720"/>
            <a:ext cx="1457280" cy="1200240"/>
          </a:xfrm>
          <a:prstGeom prst="downArrow">
            <a:avLst>
              <a:gd name="adj1" fmla="val 73509"/>
              <a:gd name="adj2" fmla="val 21454"/>
            </a:avLst>
          </a:prstGeom>
          <a:solidFill>
            <a:srgbClr val="ffffff"/>
          </a:solidFill>
          <a:ln w="316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GHG prices and bioenergy demand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7"/>
          <p:cNvSpPr/>
          <p:nvPr/>
        </p:nvSpPr>
        <p:spPr>
          <a:xfrm>
            <a:off x="3780000" y="5084640"/>
            <a:ext cx="1457280" cy="723960"/>
          </a:xfrm>
          <a:prstGeom prst="downArrow">
            <a:avLst>
              <a:gd name="adj1" fmla="val 73509"/>
              <a:gd name="adj2" fmla="val 35491"/>
            </a:avLst>
          </a:prstGeom>
          <a:solidFill>
            <a:srgbClr val="ffffff"/>
          </a:solidFill>
          <a:ln w="3168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mmodity price 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6"/>
          <p:cNvSpPr/>
          <p:nvPr/>
        </p:nvSpPr>
        <p:spPr>
          <a:xfrm>
            <a:off x="6084720" y="2421000"/>
            <a:ext cx="924120" cy="4152960"/>
          </a:xfrm>
          <a:custGeom>
            <a:avLst/>
            <a:gdLst>
              <a:gd name="textAreaLeft" fmla="*/ 123840 w 924120"/>
              <a:gd name="textAreaRight" fmla="*/ 800280 w 924120"/>
              <a:gd name="textAreaTop" fmla="*/ 871560 h 4152960"/>
              <a:gd name="textAreaBottom" fmla="*/ 3038760 h 415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67" stAng="-5400000" swAng="5400000"/>
                <a:lnTo>
                  <a:pt x="21600" y="11271"/>
                </a:lnTo>
                <a:arcTo wR="21600" hR="9067" stAng="0" swAng="2877782"/>
                <a:lnTo>
                  <a:pt x="7645" y="21013"/>
                </a:lnTo>
                <a:lnTo>
                  <a:pt x="0" y="19235"/>
                </a:lnTo>
                <a:lnTo>
                  <a:pt x="7645" y="16283"/>
                </a:lnTo>
                <a:lnTo>
                  <a:pt x="7645" y="17546"/>
                </a:lnTo>
                <a:arcTo wR="21600" hR="9067" stAng="2877782" swAng="-2701239"/>
                <a:lnTo>
                  <a:pt x="21440" y="10169"/>
                </a:lnTo>
                <a:arcTo wR="21600" hR="9067" stAng="-176543" swAng="-5223457"/>
                <a:close/>
              </a:path>
              <a:path fill="darkenLess" w="21600" h="21600">
                <a:moveTo>
                  <a:pt x="0" y="0"/>
                </a:moveTo>
                <a:arcTo wR="21600" hR="9067" stAng="-5400000" swAng="5400000"/>
                <a:lnTo>
                  <a:pt x="21600" y="11271"/>
                </a:lnTo>
                <a:arcTo wR="21600" hR="9067" stAng="0" swAng="-176543"/>
                <a:lnTo>
                  <a:pt x="21440" y="10169"/>
                </a:lnTo>
                <a:arcTo wR="21600" hR="9067" stAng="-176543" swAng="-5223457"/>
                <a:close/>
              </a:path>
            </a:pathLst>
          </a:custGeom>
          <a:solidFill>
            <a:srgbClr val="ffffff"/>
          </a:solidFill>
          <a:ln w="316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"/>
          <p:cNvSpPr/>
          <p:nvPr/>
        </p:nvSpPr>
        <p:spPr>
          <a:xfrm flipH="1">
            <a:off x="1979640" y="476280"/>
            <a:ext cx="923760" cy="6191280"/>
          </a:xfrm>
          <a:custGeom>
            <a:avLst/>
            <a:gdLst>
              <a:gd name="textAreaLeft" fmla="*/ 123480 w 923760"/>
              <a:gd name="textAreaRight" fmla="*/ 800280 w 923760"/>
              <a:gd name="textAreaTop" fmla="*/ 1299240 h 6191280"/>
              <a:gd name="textAreaBottom" fmla="*/ 4529880 h 619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67" stAng="-5400000" swAng="5400000"/>
                <a:lnTo>
                  <a:pt x="21600" y="11271"/>
                </a:lnTo>
                <a:arcTo wR="21600" hR="9067" stAng="0" swAng="2877782"/>
                <a:lnTo>
                  <a:pt x="7645" y="21013"/>
                </a:lnTo>
                <a:lnTo>
                  <a:pt x="0" y="19235"/>
                </a:lnTo>
                <a:lnTo>
                  <a:pt x="7645" y="16283"/>
                </a:lnTo>
                <a:lnTo>
                  <a:pt x="7645" y="17546"/>
                </a:lnTo>
                <a:arcTo wR="21600" hR="9067" stAng="2877782" swAng="-2701239"/>
                <a:lnTo>
                  <a:pt x="21440" y="10169"/>
                </a:lnTo>
                <a:arcTo wR="21600" hR="9067" stAng="-176543" swAng="-5223457"/>
                <a:close/>
              </a:path>
              <a:path fill="darkenLess" w="21600" h="21600">
                <a:moveTo>
                  <a:pt x="0" y="0"/>
                </a:moveTo>
                <a:arcTo wR="21600" hR="9067" stAng="-5400000" swAng="5400000"/>
                <a:lnTo>
                  <a:pt x="21600" y="11271"/>
                </a:lnTo>
                <a:arcTo wR="21600" hR="9067" stAng="0" swAng="-176543"/>
                <a:lnTo>
                  <a:pt x="21440" y="10169"/>
                </a:lnTo>
                <a:arcTo wR="21600" hR="9067" stAng="-176543" swAng="-5223457"/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7121520" y="3957480"/>
            <a:ext cx="162864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global CO</a:t>
            </a:r>
            <a:r>
              <a:rPr b="1" lang="en-US" sz="13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prices used in emissions tra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639720" y="5486400"/>
            <a:ext cx="1488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metrics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to account for non-CO</a:t>
            </a:r>
            <a:r>
              <a:rPr b="1" lang="en-US" sz="13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gases in emissions targe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7"/>
          <p:cNvSpPr/>
          <p:nvPr/>
        </p:nvSpPr>
        <p:spPr>
          <a:xfrm>
            <a:off x="438120" y="404640"/>
            <a:ext cx="183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8"/>
          <p:cNvSpPr/>
          <p:nvPr/>
        </p:nvSpPr>
        <p:spPr>
          <a:xfrm>
            <a:off x="6443640" y="404640"/>
            <a:ext cx="21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k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2BEB-DDC9-4835-875F-3869E7EED95D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F7B1-0CD4-4F97-9AC7-73F5FDFDA73D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74200" y="928440"/>
            <a:ext cx="807588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Use GLOBIOM to model agricultural production to 20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5320">
              <a:spcAft>
                <a:spcPts val="1199"/>
              </a:spcAft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Spatially explicit partial equilibrium model for agriculture and forestry, including trade (Havlik et al. 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5320">
              <a:spcAft>
                <a:spcPts val="601"/>
              </a:spcAft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Impose prices for 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, CH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and N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O and biofuel demands from global MESSAGE runs for 450ppm targ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5320">
              <a:spcAft>
                <a:spcPts val="601"/>
              </a:spcAft>
              <a:buClr>
                <a:srgbClr val="85c23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100-year GWPs (defaul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5320">
              <a:spcAft>
                <a:spcPts val="601"/>
              </a:spcAft>
              <a:buClr>
                <a:srgbClr val="85c23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Fixed 100-year GT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5320">
              <a:spcAft>
                <a:spcPts val="1199"/>
              </a:spcAft>
              <a:buClr>
                <a:srgbClr val="85c23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agricultural non-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emissions exclu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5320">
              <a:spcAft>
                <a:spcPts val="601"/>
              </a:spcAft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Explore regional agricultural production and GHG emissions under additional GHG costs in all regions, and effects on supply / commodity prices of livestock 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itle 1"/>
          <p:cNvSpPr/>
          <p:nvPr/>
        </p:nvSpPr>
        <p:spPr>
          <a:xfrm>
            <a:off x="503280" y="219240"/>
            <a:ext cx="86407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gional implications for livestock p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5778000"/>
            <a:ext cx="914400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Global agricultural CH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emission pathway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135C-5D99-45D7-BFE4-35F6AD5E9A07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FAE6-330F-4C47-8E3E-DE170E869EFA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itle 1"/>
          <p:cNvSpPr/>
          <p:nvPr/>
        </p:nvSpPr>
        <p:spPr>
          <a:xfrm>
            <a:off x="785880" y="270000"/>
            <a:ext cx="788184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gional changes in cattle milk p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2030, relative to no-mit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" descr=""/>
          <p:cNvPicPr/>
          <p:nvPr/>
        </p:nvPicPr>
        <p:blipFill>
          <a:blip r:embed="rId1"/>
          <a:srcRect l="0" t="34208" r="0" b="0"/>
          <a:stretch/>
        </p:blipFill>
        <p:spPr>
          <a:xfrm>
            <a:off x="254160" y="690480"/>
            <a:ext cx="8265960" cy="5824800"/>
          </a:xfrm>
          <a:prstGeom prst="rect">
            <a:avLst/>
          </a:prstGeom>
          <a:ln w="0">
            <a:noFill/>
          </a:ln>
        </p:spPr>
      </p:pic>
      <p:sp>
        <p:nvSpPr>
          <p:cNvPr id="299" name="TextBox 8"/>
          <p:cNvSpPr/>
          <p:nvPr/>
        </p:nvSpPr>
        <p:spPr>
          <a:xfrm>
            <a:off x="3552840" y="4083120"/>
            <a:ext cx="5049720" cy="1893240"/>
          </a:xfrm>
          <a:prstGeom prst="rect">
            <a:avLst/>
          </a:prstGeom>
          <a:solidFill>
            <a:srgbClr val="d9d9d9"/>
          </a:soli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108000" bIns="108000" anchor="t">
            <a:spAutoFit/>
          </a:bodyPr>
          <a:p>
            <a:pPr algn="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etrics have different effects region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most regions, the decision to impose a cost at all has a bigger effect than the choice of metr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79AD-1551-4497-A367-BEEAE7AE54FA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7CD8-F769-403F-9984-5D666124F82D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itle 1"/>
          <p:cNvSpPr/>
          <p:nvPr/>
        </p:nvSpPr>
        <p:spPr>
          <a:xfrm>
            <a:off x="785880" y="109440"/>
            <a:ext cx="7881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nges in product supply pr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5" descr=""/>
          <p:cNvPicPr/>
          <p:nvPr/>
        </p:nvPicPr>
        <p:blipFill>
          <a:blip r:embed="rId1"/>
          <a:srcRect l="0" t="0" r="0" b="36179"/>
          <a:stretch/>
        </p:blipFill>
        <p:spPr>
          <a:xfrm>
            <a:off x="525600" y="826920"/>
            <a:ext cx="5943600" cy="4691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6" descr=""/>
          <p:cNvPicPr/>
          <p:nvPr/>
        </p:nvPicPr>
        <p:blipFill>
          <a:blip r:embed="rId2"/>
          <a:stretch/>
        </p:blipFill>
        <p:spPr>
          <a:xfrm>
            <a:off x="6418440" y="658800"/>
            <a:ext cx="2609640" cy="1419120"/>
          </a:xfrm>
          <a:prstGeom prst="rect">
            <a:avLst/>
          </a:prstGeom>
          <a:ln w="0">
            <a:noFill/>
          </a:ln>
        </p:spPr>
      </p:pic>
      <p:grpSp>
        <p:nvGrpSpPr>
          <p:cNvPr id="306" name="Group 19"/>
          <p:cNvGrpSpPr/>
          <p:nvPr/>
        </p:nvGrpSpPr>
        <p:grpSpPr>
          <a:xfrm>
            <a:off x="525600" y="825480"/>
            <a:ext cx="5894280" cy="3985200"/>
            <a:chOff x="525600" y="825480"/>
            <a:chExt cx="5894280" cy="3985200"/>
          </a:xfrm>
        </p:grpSpPr>
        <p:pic>
          <p:nvPicPr>
            <p:cNvPr id="307" name="Picture 8" descr=""/>
            <p:cNvPicPr/>
            <p:nvPr/>
          </p:nvPicPr>
          <p:blipFill>
            <a:blip r:embed="rId3"/>
            <a:srcRect l="0" t="0" r="0" b="18653"/>
            <a:stretch/>
          </p:blipFill>
          <p:spPr>
            <a:xfrm>
              <a:off x="525600" y="825480"/>
              <a:ext cx="5894280" cy="376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TextBox 18"/>
            <p:cNvSpPr/>
            <p:nvPr/>
          </p:nvSpPr>
          <p:spPr>
            <a:xfrm>
              <a:off x="757440" y="4411800"/>
              <a:ext cx="5342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Box 23"/>
          <p:cNvSpPr/>
          <p:nvPr/>
        </p:nvSpPr>
        <p:spPr>
          <a:xfrm>
            <a:off x="1530360" y="658800"/>
            <a:ext cx="410364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here future production increas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quire land-use change, C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pric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minate the respo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therwise, non-C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prices ar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ore impor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382680" y="279360"/>
            <a:ext cx="7570800" cy="5419800"/>
          </a:xfrm>
          <a:prstGeom prst="rect">
            <a:avLst/>
          </a:prstGeom>
          <a:ln w="0">
            <a:noFill/>
          </a:ln>
        </p:spPr>
      </p:pic>
      <p:sp>
        <p:nvSpPr>
          <p:cNvPr id="311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1A00-3030-4F38-A8C6-0FCE3BA121F6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E255-9B7C-4FDD-ABF7-B7DAB3046296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itle 1"/>
          <p:cNvSpPr/>
          <p:nvPr/>
        </p:nvSpPr>
        <p:spPr>
          <a:xfrm>
            <a:off x="785880" y="109440"/>
            <a:ext cx="83581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nges in livestock commodity price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6" descr=""/>
          <p:cNvPicPr/>
          <p:nvPr/>
        </p:nvPicPr>
        <p:blipFill>
          <a:blip r:embed="rId2"/>
          <a:stretch/>
        </p:blipFill>
        <p:spPr>
          <a:xfrm>
            <a:off x="2470320" y="933480"/>
            <a:ext cx="2609640" cy="141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04:12:39Z</dcterms:created>
  <dc:creator>Andy Reisinger</dc:creator>
  <dc:description/>
  <dc:language>en-US</dc:language>
  <cp:lastModifiedBy>Andy Reisinger</cp:lastModifiedBy>
  <dcterms:modified xsi:type="dcterms:W3CDTF">2012-04-02T07:24:02Z</dcterms:modified>
  <cp:revision>123</cp:revision>
  <dc:subject/>
  <dc:title>Mitigating Greenhouse Gas Emissions</dc:title>
</cp:coreProperties>
</file>