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48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14400" y="42840"/>
            <a:ext cx="1641240" cy="3938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0" y="6377040"/>
            <a:ext cx="9144000" cy="480960"/>
          </a:xfrm>
          <a:prstGeom prst="rect">
            <a:avLst/>
          </a:prstGeom>
          <a:solidFill>
            <a:srgbClr val="0032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7297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297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7297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72970"/>
              </a:buClr>
              <a:buFont typeface="Time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7297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7297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7297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72970"/>
              </a:buClr>
              <a:buFont typeface="Time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7297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7297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7297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7297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7297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095880" y="76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Chalmers University of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771516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etrics and stabilization of the global average surface temperature </a:t>
            </a:r>
            <a:endParaRPr b="0" lang="en-US" sz="3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5880" y="4214880"/>
            <a:ext cx="7786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Daniel J.A. Johansson</a:t>
            </a: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Division of Physical Resource Theory, Department of Energy and Environment</a:t>
            </a:r>
            <a:endParaRPr b="0" lang="en-US" sz="1800" spc="-1" strike="noStrike">
              <a:solidFill>
                <a:srgbClr val="07297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Chalmers University of Technology</a:t>
            </a:r>
            <a:endParaRPr b="0" lang="en-US" sz="1800" spc="-1" strike="noStrike">
              <a:solidFill>
                <a:srgbClr val="07297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Gothenburg, Sweden.</a:t>
            </a:r>
            <a:endParaRPr b="0" lang="en-US" sz="18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1390680" y="2786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UNFCCC workshop on common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Bonn, Germany, 2012-04-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Global Temperature change Potential (GTP)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6429240" cy="298296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6"/>
          <p:cNvSpPr/>
          <p:nvPr/>
        </p:nvSpPr>
        <p:spPr>
          <a:xfrm flipV="1">
            <a:off x="1428840" y="2143080"/>
            <a:ext cx="0" cy="25718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214280" y="171468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GTP for year </a:t>
            </a:r>
            <a:r>
              <a:rPr b="0" i="1" lang="sv-S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6821640" y="2962440"/>
                <a:ext cx="2205000" cy="93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Box 9"/>
          <p:cNvSpPr/>
          <p:nvPr/>
        </p:nvSpPr>
        <p:spPr>
          <a:xfrm>
            <a:off x="249120" y="5500800"/>
            <a:ext cx="86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TP initially developed in: Shine K.P., Fuglestvedt J.S., Hailemariam   K., Stuber N. , 2005, Alternatives to the Global Warming Potential for Comparing Climate Impacts of Emissions of Greenhouse Gase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matic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Comparison GCP and GTP for CH</a:t>
            </a:r>
            <a:r>
              <a:rPr b="0" lang="sv-SE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1204920" y="1341360"/>
            <a:ext cx="67057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324000" y="5322960"/>
            <a:ext cx="74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Results from runs with the MiMiC model (Azar, Johansson &amp; Pers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318960" y="5630760"/>
            <a:ext cx="864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onship between GTP and GCP originally formulated in : Shine K.P., Berntsen T.K., Fuglestvedt J.S.,  Bieltvedt Skeie R., Stuber N., 2007, Comparing the climate effect of emissions of short- and long-lived climate agent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ilosophical Transactions of The Royal Societ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Cost-Effective Temperature Potential (CETP)</a:t>
            </a:r>
            <a:endParaRPr b="0" lang="en-US" sz="36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99800"/>
            <a:ext cx="7772400" cy="35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An approximation of GCP.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physical information, 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an estimate of stabilisation year,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discount rate.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71280" y="5715000"/>
            <a:ext cx="900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Johansson, 2011, Johansson, 201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onomics- and physical-based metrics for comparing greenhouse gases</a:t>
            </a: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v-SE" sz="1400" spc="-1" strike="noStrike">
                <a:solidFill>
                  <a:srgbClr val="000000"/>
                </a:solidFill>
                <a:latin typeface="Times New Roman"/>
              </a:rPr>
              <a:t>Climatic Change</a:t>
            </a: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CETP</a:t>
            </a:r>
            <a:endParaRPr b="0" lang="en-US" sz="3600" spc="-1" strike="noStrike">
              <a:solidFill>
                <a:srgbClr val="07297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2500200"/>
            <a:ext cx="5505480" cy="25545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6"/>
          <p:cNvSpPr/>
          <p:nvPr/>
        </p:nvSpPr>
        <p:spPr>
          <a:xfrm flipV="1">
            <a:off x="1000080" y="2143080"/>
            <a:ext cx="0" cy="25718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57120" y="17146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ETP for year </a:t>
            </a:r>
            <a:r>
              <a:rPr b="0" i="1" lang="sv-S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Straight Arrow Connector 9"/>
          <p:cNvCxnSpPr/>
          <p:nvPr/>
        </p:nvCxnSpPr>
        <p:spPr>
          <a:xfrm>
            <a:off x="1000080" y="3429000"/>
            <a:ext cx="92952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00" name="TextBox 10"/>
          <p:cNvSpPr/>
          <p:nvPr/>
        </p:nvSpPr>
        <p:spPr>
          <a:xfrm>
            <a:off x="5724360" y="1285920"/>
            <a:ext cx="328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time integrated discounted temperature pulse beyond the target time y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sv-SE" sz="2400" spc="-1" strike="noStrike" baseline="30000">
                <a:solidFill>
                  <a:srgbClr val="000000"/>
                </a:solidFill>
                <a:latin typeface="Times New Roman"/>
              </a:rPr>
              <a:t>-r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sv-SE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Discount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-discoun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5613480" y="3021120"/>
                <a:ext cx="334008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T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·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sup>
                        </m:sSup>
                        <m:r>
                          <m:t xml:space="preserve">dτ</m:t>
                        </m:r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·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sup>
                        </m:sSup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Box 12"/>
          <p:cNvSpPr/>
          <p:nvPr/>
        </p:nvSpPr>
        <p:spPr>
          <a:xfrm>
            <a:off x="1143000" y="3571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c00000"/>
                </a:solidFill>
                <a:latin typeface="Times New Roman"/>
              </a:rPr>
              <a:t>Integrate and dis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72970"/>
                </a:solidFill>
                <a:latin typeface="Times New Roman"/>
                <a:ea typeface="ＭＳ Ｐゴシック"/>
              </a:rPr>
              <a:t>Simple Carbon Cycle and Climate model ACC2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072120" y="5572080"/>
            <a:ext cx="28353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Tanaka et al., 2007, </a:t>
            </a:r>
            <a:r>
              <a:rPr b="0" i="1" lang="nb-NO" sz="12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MPI Report</a:t>
            </a:r>
            <a:r>
              <a:rPr b="0" lang="nb-NO" sz="12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Tanaka et al., 2009, </a:t>
            </a:r>
            <a:r>
              <a:rPr b="0" i="1" lang="nb-NO" sz="12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G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Tanaka et al., 2009, </a:t>
            </a:r>
            <a:r>
              <a:rPr b="0" i="1" lang="nb-NO" sz="12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Cli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1285200" y="1285920"/>
            <a:ext cx="4753800" cy="4914720"/>
            <a:chOff x="1285200" y="1285920"/>
            <a:chExt cx="4753800" cy="4914720"/>
          </a:xfrm>
        </p:grpSpPr>
        <p:sp>
          <p:nvSpPr>
            <p:cNvPr id="106" name="Rectangle 3"/>
            <p:cNvSpPr/>
            <p:nvPr/>
          </p:nvSpPr>
          <p:spPr>
            <a:xfrm>
              <a:off x="4743720" y="1285920"/>
              <a:ext cx="1295280" cy="424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4"/>
            <p:cNvSpPr/>
            <p:nvPr/>
          </p:nvSpPr>
          <p:spPr>
            <a:xfrm rot="5400000">
              <a:off x="4528080" y="2948400"/>
              <a:ext cx="2449440" cy="2764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Surface Air Temperature 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5"/>
            <p:cNvSpPr/>
            <p:nvPr/>
          </p:nvSpPr>
          <p:spPr>
            <a:xfrm rot="5400000">
              <a:off x="4012200" y="3721680"/>
              <a:ext cx="28796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DOECLIM (Kriegler, 200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566720" y="20574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 rot="5400000">
              <a:off x="-592560" y="3739680"/>
              <a:ext cx="4032360" cy="2764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Emissions of greenhouse gases &amp; related ag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1952640" y="3581280"/>
              <a:ext cx="2590920" cy="2543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2104920" y="3917880"/>
              <a:ext cx="2286000" cy="2217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CH</a:t>
              </a:r>
              <a:r>
                <a:rPr b="0" lang="en-US" sz="1200" spc="-1" strike="noStrike" baseline="-10000">
                  <a:solidFill>
                    <a:srgbClr val="cc0000"/>
                  </a:solidFill>
                  <a:latin typeface="Arial"/>
                  <a:ea typeface="ＭＳ Ｐゴシック"/>
                </a:rPr>
                <a:t>4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 &amp; N</a:t>
              </a:r>
              <a:r>
                <a:rPr b="0" lang="en-US" sz="1200" spc="-1" strike="noStrike" baseline="-10000">
                  <a:solidFill>
                    <a:srgbClr val="cc0000"/>
                  </a:solidFill>
                  <a:latin typeface="Arial"/>
                  <a:ea typeface="ＭＳ Ｐゴシック"/>
                </a:rPr>
                <a:t>2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1"/>
            <p:cNvSpPr/>
            <p:nvPr/>
          </p:nvSpPr>
          <p:spPr>
            <a:xfrm>
              <a:off x="2104920" y="4235400"/>
              <a:ext cx="2286000" cy="2217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SF</a:t>
              </a:r>
              <a:r>
                <a:rPr b="0" lang="en-US" sz="1200" spc="-1" strike="noStrike" baseline="-10000">
                  <a:solidFill>
                    <a:srgbClr val="cc0000"/>
                  </a:solidFill>
                  <a:latin typeface="Arial"/>
                  <a:ea typeface="ＭＳ Ｐゴシック"/>
                </a:rPr>
                <a:t>6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 &amp; 29 Halocarb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2104920" y="4556160"/>
              <a:ext cx="2286000" cy="2217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Tropos-/Stratospheric O</a:t>
              </a:r>
              <a:r>
                <a:rPr b="0" lang="en-US" sz="1200" spc="-1" strike="noStrike" baseline="-10000">
                  <a:solidFill>
                    <a:srgbClr val="cc0000"/>
                  </a:solidFill>
                  <a:latin typeface="Arial"/>
                  <a:ea typeface="ＭＳ Ｐゴシック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2104920" y="4876920"/>
              <a:ext cx="2286000" cy="402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Sulfate/Carbonaceous Aerosols (direct/indirec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4"/>
            <p:cNvSpPr/>
            <p:nvPr/>
          </p:nvSpPr>
          <p:spPr>
            <a:xfrm>
              <a:off x="2104920" y="5410080"/>
              <a:ext cx="2286000" cy="2217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Stratospheric H</a:t>
              </a:r>
              <a:r>
                <a:rPr b="0" lang="en-US" sz="1200" spc="-1" strike="noStrike" baseline="-10000">
                  <a:solidFill>
                    <a:srgbClr val="cc0000"/>
                  </a:solidFill>
                  <a:latin typeface="Arial"/>
                  <a:ea typeface="ＭＳ Ｐゴシック"/>
                </a:rPr>
                <a:t>2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5"/>
            <p:cNvSpPr/>
            <p:nvPr/>
          </p:nvSpPr>
          <p:spPr>
            <a:xfrm>
              <a:off x="2104920" y="5749920"/>
              <a:ext cx="2286000" cy="2217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OH, NO</a:t>
              </a:r>
              <a:r>
                <a:rPr b="0" lang="en-US" sz="1200" spc="-1" strike="noStrike" baseline="-10000">
                  <a:solidFill>
                    <a:srgbClr val="cc0000"/>
                  </a:solidFill>
                  <a:latin typeface="Arial"/>
                  <a:ea typeface="ＭＳ Ｐゴシック"/>
                </a:rPr>
                <a:t>x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, CO, V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1950840" y="35812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  <a:ea typeface="HG丸ｺﾞｼｯｸM-PRO"/>
                </a:rPr>
                <a:t>Atmospheric Chem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8"/>
            <p:cNvSpPr/>
            <p:nvPr/>
          </p:nvSpPr>
          <p:spPr>
            <a:xfrm rot="5400000">
              <a:off x="3851640" y="2948400"/>
              <a:ext cx="2449440" cy="2764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  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Total Radiative Forc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1952640" y="1295280"/>
              <a:ext cx="2590920" cy="2209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0"/>
            <p:cNvSpPr/>
            <p:nvPr/>
          </p:nvSpPr>
          <p:spPr>
            <a:xfrm>
              <a:off x="2006640" y="1385640"/>
              <a:ext cx="2521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Carbon 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1"/>
            <p:cNvSpPr/>
            <p:nvPr/>
          </p:nvSpPr>
          <p:spPr>
            <a:xfrm rot="5400000">
              <a:off x="1458360" y="2545920"/>
              <a:ext cx="15238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Hooss et al. (200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IRF 4-Box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486160" y="2063520"/>
              <a:ext cx="685800" cy="75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3"/>
            <p:cNvSpPr/>
            <p:nvPr/>
          </p:nvSpPr>
          <p:spPr>
            <a:xfrm>
              <a:off x="2486160" y="2139840"/>
              <a:ext cx="685800" cy="22860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2486160" y="2368440"/>
              <a:ext cx="685800" cy="417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5"/>
            <p:cNvSpPr/>
            <p:nvPr/>
          </p:nvSpPr>
          <p:spPr>
            <a:xfrm>
              <a:off x="2486160" y="2786040"/>
              <a:ext cx="685800" cy="595080"/>
            </a:xfrm>
            <a:prstGeom prst="rect">
              <a:avLst/>
            </a:prstGeom>
            <a:solidFill>
              <a:srgbClr val="0000cc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6"/>
            <p:cNvSpPr/>
            <p:nvPr/>
          </p:nvSpPr>
          <p:spPr>
            <a:xfrm>
              <a:off x="2486160" y="1606320"/>
              <a:ext cx="685800" cy="53316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2752560" y="210168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8"/>
            <p:cNvSpPr/>
            <p:nvPr/>
          </p:nvSpPr>
          <p:spPr>
            <a:xfrm>
              <a:off x="2752560" y="233028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29"/>
            <p:cNvSpPr/>
            <p:nvPr/>
          </p:nvSpPr>
          <p:spPr>
            <a:xfrm>
              <a:off x="2752560" y="274788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30"/>
            <p:cNvSpPr/>
            <p:nvPr/>
          </p:nvSpPr>
          <p:spPr>
            <a:xfrm flipV="1">
              <a:off x="2867040" y="210132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 flipV="1">
              <a:off x="2867040" y="232992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 flipV="1">
              <a:off x="2867040" y="274752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324240" y="1604880"/>
              <a:ext cx="685800" cy="495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3324240" y="1604880"/>
              <a:ext cx="685800" cy="49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 rot="5400000">
              <a:off x="2998440" y="2363760"/>
              <a:ext cx="685800" cy="75960"/>
            </a:xfrm>
            <a:prstGeom prst="rect">
              <a:avLst/>
            </a:prstGeom>
            <a:solidFill>
              <a:srgbClr val="ccff66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2486160" y="1601640"/>
              <a:ext cx="1523880" cy="45720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37"/>
            <p:cNvSpPr/>
            <p:nvPr/>
          </p:nvSpPr>
          <p:spPr>
            <a:xfrm>
              <a:off x="2504880" y="1697040"/>
              <a:ext cx="148572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Atmosp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38"/>
            <p:cNvSpPr/>
            <p:nvPr/>
          </p:nvSpPr>
          <p:spPr>
            <a:xfrm>
              <a:off x="2752560" y="1987560"/>
              <a:ext cx="0" cy="1141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39"/>
            <p:cNvSpPr/>
            <p:nvPr/>
          </p:nvSpPr>
          <p:spPr>
            <a:xfrm flipV="1">
              <a:off x="2867040" y="1987200"/>
              <a:ext cx="0" cy="1141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40"/>
            <p:cNvSpPr/>
            <p:nvPr/>
          </p:nvSpPr>
          <p:spPr>
            <a:xfrm rot="5400000">
              <a:off x="3424320" y="2539800"/>
              <a:ext cx="15112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Joos et al. (199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IRF 4-Box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41"/>
            <p:cNvSpPr/>
            <p:nvPr/>
          </p:nvSpPr>
          <p:spPr>
            <a:xfrm>
              <a:off x="2506680" y="2870280"/>
              <a:ext cx="75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Ocean Upt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42"/>
            <p:cNvSpPr/>
            <p:nvPr/>
          </p:nvSpPr>
          <p:spPr>
            <a:xfrm>
              <a:off x="3303720" y="2725560"/>
              <a:ext cx="83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Land Upt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43"/>
            <p:cNvSpPr/>
            <p:nvPr/>
          </p:nvSpPr>
          <p:spPr>
            <a:xfrm rot="5400000">
              <a:off x="4068000" y="3021480"/>
              <a:ext cx="14698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Parameter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44"/>
            <p:cNvSpPr/>
            <p:nvPr/>
          </p:nvSpPr>
          <p:spPr>
            <a:xfrm>
              <a:off x="4543560" y="206064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utoShape 45"/>
            <p:cNvSpPr/>
            <p:nvPr/>
          </p:nvSpPr>
          <p:spPr>
            <a:xfrm>
              <a:off x="4542120" y="35892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47"/>
            <p:cNvSpPr/>
            <p:nvPr/>
          </p:nvSpPr>
          <p:spPr>
            <a:xfrm>
              <a:off x="4886640" y="1374480"/>
              <a:ext cx="1008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Cl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48"/>
            <p:cNvSpPr/>
            <p:nvPr/>
          </p:nvSpPr>
          <p:spPr>
            <a:xfrm>
              <a:off x="1569960" y="495792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49"/>
            <p:cNvSpPr/>
            <p:nvPr/>
          </p:nvSpPr>
          <p:spPr>
            <a:xfrm rot="5400000">
              <a:off x="3099240" y="4783680"/>
              <a:ext cx="26668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Parameterization (Joos et al., 200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50"/>
            <p:cNvSpPr/>
            <p:nvPr/>
          </p:nvSpPr>
          <p:spPr>
            <a:xfrm>
              <a:off x="3341880" y="2004840"/>
              <a:ext cx="0" cy="1141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1"/>
            <p:cNvSpPr/>
            <p:nvPr/>
          </p:nvSpPr>
          <p:spPr>
            <a:xfrm rot="16200000">
              <a:off x="3070080" y="2363400"/>
              <a:ext cx="685800" cy="75960"/>
            </a:xfrm>
            <a:prstGeom prst="rect">
              <a:avLst/>
            </a:prstGeom>
            <a:solidFill>
              <a:srgbClr val="ccff33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52"/>
            <p:cNvSpPr/>
            <p:nvPr/>
          </p:nvSpPr>
          <p:spPr>
            <a:xfrm rot="5400000">
              <a:off x="3217680" y="2287440"/>
              <a:ext cx="685800" cy="228600"/>
            </a:xfrm>
            <a:prstGeom prst="rect">
              <a:avLst/>
            </a:prstGeom>
            <a:solidFill>
              <a:srgbClr val="808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53"/>
            <p:cNvSpPr/>
            <p:nvPr/>
          </p:nvSpPr>
          <p:spPr>
            <a:xfrm rot="5400000">
              <a:off x="3495600" y="2225520"/>
              <a:ext cx="685800" cy="352440"/>
            </a:xfrm>
            <a:prstGeom prst="rect">
              <a:avLst/>
            </a:prstGeom>
            <a:solidFill>
              <a:srgbClr val="3333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54"/>
            <p:cNvSpPr/>
            <p:nvPr/>
          </p:nvSpPr>
          <p:spPr>
            <a:xfrm>
              <a:off x="3764160" y="199548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55"/>
            <p:cNvSpPr/>
            <p:nvPr/>
          </p:nvSpPr>
          <p:spPr>
            <a:xfrm flipV="1">
              <a:off x="3878280" y="199512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3500640" y="200484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57"/>
            <p:cNvSpPr/>
            <p:nvPr/>
          </p:nvSpPr>
          <p:spPr>
            <a:xfrm flipV="1">
              <a:off x="3614760" y="2004480"/>
              <a:ext cx="0" cy="1141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58"/>
            <p:cNvSpPr/>
            <p:nvPr/>
          </p:nvSpPr>
          <p:spPr>
            <a:xfrm flipV="1">
              <a:off x="3417840" y="2004480"/>
              <a:ext cx="0" cy="1141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59"/>
            <p:cNvSpPr/>
            <p:nvPr/>
          </p:nvSpPr>
          <p:spPr>
            <a:xfrm flipH="1">
              <a:off x="3857040" y="1285920"/>
              <a:ext cx="1173240" cy="304560"/>
            </a:xfrm>
            <a:prstGeom prst="rightArrow">
              <a:avLst>
                <a:gd name="adj1" fmla="val 57296"/>
                <a:gd name="adj2" fmla="val 4902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0"/>
            <p:cNvSpPr/>
            <p:nvPr/>
          </p:nvSpPr>
          <p:spPr>
            <a:xfrm>
              <a:off x="4023000" y="15001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Temperature feed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44"/>
            <p:cNvSpPr/>
            <p:nvPr/>
          </p:nvSpPr>
          <p:spPr>
            <a:xfrm>
              <a:off x="5220000" y="20620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Rectangle 60"/>
          <p:cNvSpPr/>
          <p:nvPr/>
        </p:nvSpPr>
        <p:spPr>
          <a:xfrm>
            <a:off x="642960" y="1214280"/>
            <a:ext cx="5429160" cy="5000760"/>
          </a:xfrm>
          <a:prstGeom prst="rect">
            <a:avLst/>
          </a:prstGeom>
          <a:solidFill>
            <a:srgbClr val="072970">
              <a:alpha val="65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61"/>
          <p:cNvSpPr/>
          <p:nvPr/>
        </p:nvSpPr>
        <p:spPr>
          <a:xfrm>
            <a:off x="1143000" y="1720800"/>
            <a:ext cx="45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imes New Roman"/>
              </a:rPr>
              <a:t>Max 2</a:t>
            </a:r>
            <a:r>
              <a:rPr b="0" lang="sv-S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ºC above pre-industri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imizing NPV abatemen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72970"/>
                </a:solidFill>
                <a:latin typeface="Times New Roman"/>
              </a:rPr>
              <a:t>CH</a:t>
            </a:r>
            <a:r>
              <a:rPr b="0" lang="sv-SE" sz="3200" spc="-1" strike="noStrike" baseline="-25000">
                <a:solidFill>
                  <a:srgbClr val="072970"/>
                </a:solidFill>
                <a:latin typeface="Times New Roman"/>
              </a:rPr>
              <a:t>4 </a:t>
            </a:r>
            <a:r>
              <a:rPr b="0" lang="sv-SE" sz="3200" spc="-1" strike="noStrike">
                <a:solidFill>
                  <a:srgbClr val="072970"/>
                </a:solidFill>
                <a:latin typeface="Times New Roman"/>
              </a:rPr>
              <a:t>metric value in 2°C stabilization scenario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56240" cy="4383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692280" y="5816520"/>
            <a:ext cx="76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anaka K., Berntsen T.K., Fuglestvedt J.S., Johansson D.J.A., O’Neill B., 2012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orking title:] Evaluation of emission metrics under climate stabilization target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ngoing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72970"/>
                </a:solidFill>
                <a:latin typeface="Times New Roman"/>
              </a:rPr>
              <a:t>CH</a:t>
            </a:r>
            <a:r>
              <a:rPr b="0" lang="sv-SE" sz="3200" spc="-1" strike="noStrike" baseline="-25000">
                <a:solidFill>
                  <a:srgbClr val="072970"/>
                </a:solidFill>
                <a:latin typeface="Times New Roman"/>
              </a:rPr>
              <a:t>4 </a:t>
            </a:r>
            <a:r>
              <a:rPr b="0" lang="sv-SE" sz="3200" spc="-1" strike="noStrike">
                <a:solidFill>
                  <a:srgbClr val="072970"/>
                </a:solidFill>
                <a:latin typeface="Times New Roman"/>
              </a:rPr>
              <a:t>metric value in 2°C stabilization scenario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56240" cy="43833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692280" y="5803920"/>
            <a:ext cx="76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anaka K., Berntsen T.K., Fuglestvedt J.S., Johansson D.J.A., O’Neill B., 2012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orking title:] Evaluation of emission metrics under climate stabilization target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ngoing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72970"/>
                </a:solidFill>
                <a:latin typeface="Times New Roman"/>
              </a:rPr>
              <a:t>CH</a:t>
            </a:r>
            <a:r>
              <a:rPr b="0" lang="sv-SE" sz="3200" spc="-1" strike="noStrike" baseline="-25000">
                <a:solidFill>
                  <a:srgbClr val="072970"/>
                </a:solidFill>
                <a:latin typeface="Times New Roman"/>
              </a:rPr>
              <a:t>4 </a:t>
            </a:r>
            <a:r>
              <a:rPr b="0" lang="sv-SE" sz="3200" spc="-1" strike="noStrike">
                <a:solidFill>
                  <a:srgbClr val="072970"/>
                </a:solidFill>
                <a:latin typeface="Times New Roman"/>
              </a:rPr>
              <a:t>metric value in 2°C stabilization scenario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56240" cy="4383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692280" y="5816520"/>
            <a:ext cx="76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anaka K., Berntsen T.K., Fuglestvedt J.S., Johansson D.J.A., O’Neill B., 2012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orking title:] Evaluation of emission metrics under climate stabilization target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ngoing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72970"/>
                </a:solidFill>
                <a:latin typeface="Times New Roman"/>
              </a:rPr>
              <a:t>N</a:t>
            </a:r>
            <a:r>
              <a:rPr b="0" lang="sv-SE" sz="3200" spc="-1" strike="noStrike" baseline="-25000">
                <a:solidFill>
                  <a:srgbClr val="072970"/>
                </a:solidFill>
                <a:latin typeface="Times New Roman"/>
              </a:rPr>
              <a:t>2</a:t>
            </a:r>
            <a:r>
              <a:rPr b="0" lang="sv-SE" sz="3200" spc="-1" strike="noStrike">
                <a:solidFill>
                  <a:srgbClr val="072970"/>
                </a:solidFill>
                <a:latin typeface="Times New Roman"/>
              </a:rPr>
              <a:t>O</a:t>
            </a:r>
            <a:r>
              <a:rPr b="0" lang="sv-SE" sz="3200" spc="-1" strike="noStrike" baseline="-25000">
                <a:solidFill>
                  <a:srgbClr val="07297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72970"/>
                </a:solidFill>
                <a:latin typeface="Times New Roman"/>
              </a:rPr>
              <a:t>metric value in 2°C stabilization scenario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33920" cy="43833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669960" y="5877000"/>
            <a:ext cx="76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anaka K., Berntsen T.K., Fuglestvedt J.S., Johansson D.J.A., O’Neill B., 2012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orking title:] Evaluation of emission metrics under climate stabilization target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ngoing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Importance of discount rate</a:t>
            </a:r>
            <a:br>
              <a:rPr sz="3600"/>
            </a:b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sv-SE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57160" y="5715000"/>
            <a:ext cx="742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Johansson, 201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onomics- and physical-based metrics for comparing greenhouse gases</a:t>
            </a: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v-SE" sz="1400" spc="-1" strike="noStrike">
                <a:solidFill>
                  <a:srgbClr val="000000"/>
                </a:solidFill>
                <a:latin typeface="Times New Roman"/>
              </a:rPr>
              <a:t>Climatic Change</a:t>
            </a: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08000" y="2708280"/>
            <a:ext cx="8928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Emissions profiles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Global Cost Potential (GCP)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Global Temperature change Potential (GTP)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ost-Effective Temperature Potential (CETP)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Importance of discount rate</a:t>
            </a:r>
            <a:br>
              <a:rPr sz="3600"/>
            </a:b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v-SE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7297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8920" y="2781360"/>
            <a:ext cx="89298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Times New Roman"/>
              </a:rPr>
              <a:t>GWP was not constructed to facilitate the implementation of cost-effective climate stabilization regime…</a:t>
            </a:r>
            <a:endParaRPr b="0" lang="en-US" sz="19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sv-SE" sz="1900" spc="-1" strike="noStrike">
                <a:solidFill>
                  <a:srgbClr val="000000"/>
                </a:solidFill>
                <a:latin typeface="Times New Roman"/>
              </a:rPr>
              <a:t>although it has enabled the implementation of the basket approach.</a:t>
            </a:r>
            <a:endParaRPr b="0" lang="en-US" sz="19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Times New Roman"/>
              </a:rPr>
              <a:t>Using cost effective trade-off ratios (Global Cost Potential - GCP)  instead of GWP could enhance the cost-effectiveness of a stabilization regime…</a:t>
            </a:r>
            <a:endParaRPr b="0" lang="en-US" sz="19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sv-SE" sz="1900" spc="-1" strike="noStrike">
                <a:solidFill>
                  <a:srgbClr val="000000"/>
                </a:solidFill>
                <a:latin typeface="Times New Roman"/>
              </a:rPr>
              <a:t>but one would then depend on complex and uncertain optimizing IAMs.</a:t>
            </a:r>
            <a:endParaRPr b="0" lang="en-US" sz="19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Times New Roman"/>
              </a:rPr>
              <a:t>CETP approximate GCP well under a range of assumptions.</a:t>
            </a:r>
            <a:endParaRPr b="0" lang="en-US" sz="19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Times New Roman"/>
              </a:rPr>
              <a:t>Neither  GTP, CETP and GCP take into account climate effects in the short term.</a:t>
            </a:r>
            <a:endParaRPr b="0" lang="en-US" sz="19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Times New Roman"/>
              </a:rPr>
              <a:t>CETP and GCP do to take into account climate effects in the long-term, beyond stabilization, while GTP does not.</a:t>
            </a:r>
            <a:endParaRPr b="0" lang="en-US" sz="19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ramond"/>
              </a:rPr>
              <a:t>THANK YOU!</a:t>
            </a:r>
            <a:endParaRPr b="0" lang="en-US" sz="72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Questions, comments?</a:t>
            </a:r>
            <a:endParaRPr b="0" lang="en-US" sz="66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42976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Additional cost of meeting the 2°C limit when using GWP-100 as compared to GCP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142920" y="5929200"/>
            <a:ext cx="90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Based on: Johansson, Persson &amp; Azar, 2006, The cost using Global Warming Potentials, </a:t>
            </a:r>
            <a:r>
              <a:rPr b="0" i="1" lang="sv-SE" sz="1600" spc="-1" strike="noStrike">
                <a:solidFill>
                  <a:srgbClr val="000000"/>
                </a:solidFill>
                <a:latin typeface="Times New Roman"/>
              </a:rPr>
              <a:t>Climatic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285640"/>
            <a:ext cx="7772400" cy="36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use of GWP-100 would set a too high price on CH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(short lived gases) years  far from when stabilization occur, while the opposite hold for years close to when stabilization occur.</a:t>
            </a: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cost of of using GWP-100 is very approximately about 5% of Net Present Value (NPV) abatement cost.</a:t>
            </a: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tabilizing below 2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 cost-effectively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42920" y="2241720"/>
            <a:ext cx="4929120" cy="344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42920" y="568476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UNEP, 2010, The Emissions Gap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357880" y="2492280"/>
            <a:ext cx="32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GWP was not designed to facilitate the basket approach in a cost effective stabilization reg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1720800"/>
            <a:ext cx="235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sv-SE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equivalent  emissions using GWP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lobal Cost Potential (GCP).</a:t>
            </a: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0714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Based on that a climate target should be met at lowest possible abatement cost.</a:t>
            </a: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Based on optimizing Integrated Assessment Models (IAMs).</a:t>
            </a: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072970"/>
                </a:solidFill>
                <a:latin typeface="Times New Roman"/>
              </a:rPr>
              <a:t>Optimizing Integrated Assessment Model</a:t>
            </a: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268360" y="2205000"/>
            <a:ext cx="45356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Narrow"/>
              </a:rPr>
              <a:t>Economy &amp; Energy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58920" y="342900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Narrow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619280" y="4653000"/>
            <a:ext cx="590400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Narrow"/>
              </a:rPr>
              <a:t>Climate mo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Narrow"/>
              </a:rPr>
              <a:t>Calculates concentrations, radiative forcing and subsequent temperature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535640" y="28605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4583160" y="425304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"/>
          <p:cNvSpPr/>
          <p:nvPr/>
        </p:nvSpPr>
        <p:spPr>
          <a:xfrm>
            <a:off x="1476360" y="3284640"/>
            <a:ext cx="6264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072970"/>
                </a:solidFill>
                <a:latin typeface="Times New Roman"/>
              </a:rPr>
              <a:t>Optimizing Integrated Assessment Model</a:t>
            </a: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68360" y="2205000"/>
            <a:ext cx="45356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Narrow"/>
              </a:rPr>
              <a:t>Economy &amp; Energy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58920" y="342900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Narrow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619280" y="4653000"/>
            <a:ext cx="590400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Narrow"/>
              </a:rPr>
              <a:t>Climate mo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Narrow"/>
              </a:rPr>
              <a:t>Calculates concentrations, radiative forcing and subsequent temperature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535640" y="28605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>
            <a:off x="4583160" y="425304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1"/>
          <p:cNvSpPr/>
          <p:nvPr/>
        </p:nvSpPr>
        <p:spPr>
          <a:xfrm>
            <a:off x="1476360" y="3284640"/>
            <a:ext cx="6264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9880" y="1906560"/>
            <a:ext cx="7704000" cy="4140000"/>
          </a:xfrm>
          <a:prstGeom prst="rect">
            <a:avLst/>
          </a:prstGeom>
          <a:solidFill>
            <a:srgbClr val="ffffff">
              <a:alpha val="99000"/>
            </a:srgbClr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 Narrow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 Narrow"/>
              </a:rPr>
              <a:t>Minimize total NPV abatement costs to stabilize the temperature at 2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°C above the pre-industrial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st optimal emissions profiles compatible with this tar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st optimal emissions prices (taxes) needed to induce ab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Straight Arrow Connector 3"/>
          <p:cNvCxnSpPr/>
          <p:nvPr/>
        </p:nvCxnSpPr>
        <p:spPr>
          <a:xfrm>
            <a:off x="4570200" y="3460320"/>
            <a:ext cx="1080" cy="793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lobal Cost Potential (GCP)</a:t>
            </a: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0714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a6a6a6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a6a6a6"/>
                </a:solidFill>
                <a:latin typeface="Times New Roman"/>
              </a:rPr>
              <a:t>Based on that a climate target should be met at lowest possible abatement cost.</a:t>
            </a: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a6a6a6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a6a6a6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a6a6a6"/>
                </a:solidFill>
                <a:latin typeface="Times New Roman"/>
              </a:rPr>
              <a:t>Based on optimizing Integrated Assessment Models (IAMs).</a:t>
            </a: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7297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metric is the ratio of the cost-optimal price (tax) on emissions of a gas X to the cost-optimal tax on emissions of CO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lobal Cost Potential (GCP)</a:t>
            </a:r>
            <a:endParaRPr b="0" lang="en-US" sz="44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285840" y="5643720"/>
            <a:ext cx="63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Manne &amp; Richels, 2001, An alternative approach to establishing trade-offs among greenhouse gases, </a:t>
            </a:r>
            <a:r>
              <a:rPr b="0" i="1" lang="sv-SE" sz="14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2571840"/>
            <a:ext cx="4657680" cy="2214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214960" y="2643120"/>
            <a:ext cx="2500200" cy="221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14200" y="49291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106880" y="485784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5357880" y="485784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7358040" y="478620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GCP - Transparency and numerical models</a:t>
            </a:r>
            <a:endParaRPr b="0" lang="en-US" sz="3200" spc="-1" strike="noStrike">
              <a:solidFill>
                <a:srgbClr val="07297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228564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mizing IAMs are complex and far from transparent for most climate scientist, policy advisors and policy makers.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lude a range of very uncertain parameters and  uncertain structural relationships.</a:t>
            </a: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7297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729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4T15:36:27Z</dcterms:created>
  <dc:creator>Daniel Johansson</dc:creator>
  <dc:description>Detta är ett första utkast till PowerPoint-mall.</dc:description>
  <dc:language>en-US</dc:language>
  <cp:lastModifiedBy>Daniel Johansson</cp:lastModifiedBy>
  <cp:lastPrinted>2012-03-29T15:00:43Z</cp:lastPrinted>
  <dcterms:modified xsi:type="dcterms:W3CDTF">2012-04-02T16:41:18Z</dcterms:modified>
  <cp:revision>211</cp:revision>
  <dc:subject/>
  <dc:title>No Slide Title</dc:title>
</cp:coreProperties>
</file>