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7DB-DC25-4FC3-900D-B03460ED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CEF-D147-427E-B931-9CFDF729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B35A-417A-4BC4-BCAF-A385ACC5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480-09DF-471C-A504-8F1BD26B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1A3-C826-48DA-A9FF-1C7362F0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F265-6F2F-492F-8BC0-CEACBFEC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F16A-F9B6-4B36-B977-4592571E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2CB-2E05-4E1D-ADF5-F9E4792F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6EF-C9B5-4FF1-AB09-383A6720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E237-06F3-4410-946A-15B64EAD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4309-3FB4-4378-A800-0F117ACE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35FB-115B-4157-B981-85FC1FB9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5f8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" name="Bilde 6" descr="logo_lang.jpg"/>
          <p:cNvPicPr/>
          <p:nvPr/>
        </p:nvPicPr>
        <p:blipFill>
          <a:blip r:embed="rId2"/>
          <a:stretch/>
        </p:blipFill>
        <p:spPr>
          <a:xfrm>
            <a:off x="5095800" y="6518160"/>
            <a:ext cx="3859200" cy="187560"/>
          </a:xfrm>
          <a:prstGeom prst="rect">
            <a:avLst/>
          </a:prstGeom>
          <a:ln w="0">
            <a:noFill/>
          </a:ln>
        </p:spPr>
      </p:pic>
      <p:sp>
        <p:nvSpPr>
          <p:cNvPr id="3" name="TextBox 1"/>
          <p:cNvSpPr/>
          <p:nvPr/>
        </p:nvSpPr>
        <p:spPr>
          <a:xfrm>
            <a:off x="34920" y="651816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141313"/>
                </a:solidFill>
                <a:latin typeface="Arial"/>
              </a:rPr>
              <a:t>SBSTA Meeting (Bonn), 3-4 April, 2012</a:t>
            </a:r>
            <a:endParaRPr b="0" lang="en-US" sz="1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Bilde 7" descr="logo_lang_negativ.png"/>
          <p:cNvPicPr/>
          <p:nvPr/>
        </p:nvPicPr>
        <p:blipFill>
          <a:blip r:embed="rId3"/>
          <a:stretch/>
        </p:blipFill>
        <p:spPr>
          <a:xfrm>
            <a:off x="5095800" y="6518160"/>
            <a:ext cx="3859200" cy="187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abbc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abb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Bilde 6" descr="logo_lang.jpg"/>
          <p:cNvPicPr/>
          <p:nvPr/>
        </p:nvPicPr>
        <p:blipFill>
          <a:blip r:embed="rId2"/>
          <a:stretch/>
        </p:blipFill>
        <p:spPr>
          <a:xfrm>
            <a:off x="5095800" y="6518160"/>
            <a:ext cx="3859200" cy="18756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34920" y="651816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141313"/>
                </a:solidFill>
                <a:latin typeface="Arial"/>
              </a:rPr>
              <a:t>SBSTA Meeting (Bonn), 3-4 April, 2012</a:t>
            </a:r>
            <a:endParaRPr b="0" lang="en-US" sz="1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5f8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4131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313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4131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B14F-9F99-42FF-A652-019E7A8E07BA}" type="slidenum">
              <a:rPr b="0" lang="en-US" sz="2400" spc="-1" strike="noStrike">
                <a:solidFill>
                  <a:srgbClr val="14131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2123640" y="4005360"/>
            <a:ext cx="49690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en P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International Climate and Environmental Research – Oslo (CICE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44360" y="162000"/>
            <a:ext cx="88203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Use Box-Diffusion Energy-Balance Model (EBM)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1045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Metrics use Impulse Response Function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IRFs 1-1 mapping with box-diffusion EBM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nalytical solution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Easy problem (?)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Don’t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</a:rPr>
              <a:t>need 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a GCM to understand the physics…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724120" y="1989000"/>
            <a:ext cx="3648240" cy="1067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2597040" y="2901960"/>
            <a:ext cx="3990960" cy="9619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2411280" y="2895480"/>
            <a:ext cx="5029200" cy="914400"/>
          </a:xfrm>
          <a:prstGeom prst="rect">
            <a:avLst/>
          </a:prstGeom>
          <a:solidFill>
            <a:srgbClr val="e8ab72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2411280" y="1987560"/>
            <a:ext cx="502920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Example, 3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3"/>
          <a:stretch/>
        </p:blipFill>
        <p:spPr>
          <a:xfrm>
            <a:off x="3135240" y="3844800"/>
            <a:ext cx="2876760" cy="952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4"/>
          <a:stretch/>
        </p:blipFill>
        <p:spPr>
          <a:xfrm>
            <a:off x="3797280" y="5369040"/>
            <a:ext cx="1638360" cy="8380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8"/>
          <p:cNvSpPr/>
          <p:nvPr/>
        </p:nvSpPr>
        <p:spPr>
          <a:xfrm>
            <a:off x="2411280" y="3809880"/>
            <a:ext cx="5029200" cy="914400"/>
          </a:xfrm>
          <a:prstGeom prst="rect">
            <a:avLst/>
          </a:prstGeom>
          <a:solidFill>
            <a:srgbClr val="673a1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6" name="Up Arrow 3"/>
          <p:cNvSpPr/>
          <p:nvPr/>
        </p:nvSpPr>
        <p:spPr>
          <a:xfrm flipV="1" rot="18592800">
            <a:off x="3940200" y="1230840"/>
            <a:ext cx="320400" cy="844560"/>
          </a:xfrm>
          <a:prstGeom prst="upArrow">
            <a:avLst>
              <a:gd name="adj1" fmla="val 50000"/>
              <a:gd name="adj2" fmla="val 500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7" name="Up Arrow 10"/>
          <p:cNvSpPr/>
          <p:nvPr/>
        </p:nvSpPr>
        <p:spPr>
          <a:xfrm flipV="1">
            <a:off x="7113600" y="2598840"/>
            <a:ext cx="228600" cy="61272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8" name="Up Arrow 11"/>
          <p:cNvSpPr/>
          <p:nvPr/>
        </p:nvSpPr>
        <p:spPr>
          <a:xfrm>
            <a:off x="6732720" y="3511440"/>
            <a:ext cx="228600" cy="603360"/>
          </a:xfrm>
          <a:prstGeom prst="upArrow">
            <a:avLst>
              <a:gd name="adj1" fmla="val 50000"/>
              <a:gd name="adj2" fmla="val 49953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9" name="Up Arrow 12"/>
          <p:cNvSpPr/>
          <p:nvPr/>
        </p:nvSpPr>
        <p:spPr>
          <a:xfrm flipV="1">
            <a:off x="7113600" y="3513240"/>
            <a:ext cx="228600" cy="61272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0" name="Up Arrow 13"/>
          <p:cNvSpPr/>
          <p:nvPr/>
        </p:nvSpPr>
        <p:spPr>
          <a:xfrm flipV="1" rot="13933800">
            <a:off x="5166360" y="1214640"/>
            <a:ext cx="314280" cy="877680"/>
          </a:xfrm>
          <a:prstGeom prst="upArrow">
            <a:avLst>
              <a:gd name="adj1" fmla="val 50000"/>
              <a:gd name="adj2" fmla="val 50022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403440" y="101448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5794200" y="1014480"/>
            <a:ext cx="80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3" name="Up Arrow 17"/>
          <p:cNvSpPr/>
          <p:nvPr/>
        </p:nvSpPr>
        <p:spPr>
          <a:xfrm>
            <a:off x="6732720" y="2610000"/>
            <a:ext cx="228600" cy="604800"/>
          </a:xfrm>
          <a:prstGeom prst="upArrow">
            <a:avLst>
              <a:gd name="adj1" fmla="val 50000"/>
              <a:gd name="adj2" fmla="val 50072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489400" y="201132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c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2447280" y="38368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c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2447280" y="29224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c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7574760" y="27478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k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7588080" y="35877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k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3772080" y="5334120"/>
            <a:ext cx="1638000" cy="914400"/>
          </a:xfrm>
          <a:prstGeom prst="rect">
            <a:avLst/>
          </a:prstGeom>
          <a:noFill/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5"/>
          <a:stretch/>
        </p:blipFill>
        <p:spPr>
          <a:xfrm>
            <a:off x="6162840" y="5516640"/>
            <a:ext cx="2904840" cy="8287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5"/>
          <p:cNvSpPr/>
          <p:nvPr/>
        </p:nvSpPr>
        <p:spPr>
          <a:xfrm>
            <a:off x="28440" y="2205000"/>
            <a:ext cx="239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Mixed-layer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2" name="TextBox 26"/>
          <p:cNvSpPr/>
          <p:nvPr/>
        </p:nvSpPr>
        <p:spPr>
          <a:xfrm>
            <a:off x="22320" y="3135240"/>
            <a:ext cx="238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Intermediate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3" name="TextBox 27"/>
          <p:cNvSpPr/>
          <p:nvPr/>
        </p:nvSpPr>
        <p:spPr>
          <a:xfrm>
            <a:off x="28440" y="4075200"/>
            <a:ext cx="239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Deep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05" name="Up Arrow 3"/>
          <p:cNvSpPr/>
          <p:nvPr/>
        </p:nvSpPr>
        <p:spPr>
          <a:xfrm flipV="1" rot="18592800">
            <a:off x="3706920" y="2637360"/>
            <a:ext cx="320400" cy="844560"/>
          </a:xfrm>
          <a:prstGeom prst="upArrow">
            <a:avLst>
              <a:gd name="adj1" fmla="val 50000"/>
              <a:gd name="adj2" fmla="val 500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6" name="Up Arrow 13"/>
          <p:cNvSpPr/>
          <p:nvPr/>
        </p:nvSpPr>
        <p:spPr>
          <a:xfrm flipV="1" rot="13933800">
            <a:off x="4932360" y="2620800"/>
            <a:ext cx="314640" cy="878040"/>
          </a:xfrm>
          <a:prstGeom prst="upArrow">
            <a:avLst>
              <a:gd name="adj1" fmla="val 50000"/>
              <a:gd name="adj2" fmla="val 4998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3170160" y="242100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5560920" y="2421000"/>
            <a:ext cx="80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rcRect l="8595" t="2295" r="42984" b="0"/>
          <a:stretch/>
        </p:blipFill>
        <p:spPr>
          <a:xfrm>
            <a:off x="3517920" y="3417840"/>
            <a:ext cx="1766880" cy="10414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0"/>
          <p:cNvSpPr/>
          <p:nvPr/>
        </p:nvSpPr>
        <p:spPr>
          <a:xfrm>
            <a:off x="3510000" y="3384720"/>
            <a:ext cx="185400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2988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rcRect l="8595" t="2295" r="42984" b="0"/>
          <a:stretch/>
        </p:blipFill>
        <p:spPr>
          <a:xfrm>
            <a:off x="1914480" y="3203640"/>
            <a:ext cx="1766880" cy="1041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1906560" y="3170160"/>
            <a:ext cx="185436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4" name="Up Arrow 3"/>
          <p:cNvSpPr/>
          <p:nvPr/>
        </p:nvSpPr>
        <p:spPr>
          <a:xfrm flipV="1">
            <a:off x="2600280" y="2264760"/>
            <a:ext cx="320760" cy="842760"/>
          </a:xfrm>
          <a:prstGeom prst="upArrow">
            <a:avLst>
              <a:gd name="adj1" fmla="val 50000"/>
              <a:gd name="adj2" fmla="val 499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5" name="Up Arrow 13"/>
          <p:cNvSpPr/>
          <p:nvPr/>
        </p:nvSpPr>
        <p:spPr>
          <a:xfrm flipV="1">
            <a:off x="2606760" y="4188600"/>
            <a:ext cx="314280" cy="878040"/>
          </a:xfrm>
          <a:prstGeom prst="upArrow">
            <a:avLst>
              <a:gd name="adj1" fmla="val 50000"/>
              <a:gd name="adj2" fmla="val 50043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2120760" y="233532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7" name="TextBox 16"/>
          <p:cNvSpPr/>
          <p:nvPr/>
        </p:nvSpPr>
        <p:spPr>
          <a:xfrm>
            <a:off x="1906560" y="4381560"/>
            <a:ext cx="80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4140360" y="2409840"/>
            <a:ext cx="317808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Energy going in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4140360" y="4245120"/>
            <a:ext cx="317808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Energy going ou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4176720" y="3324240"/>
            <a:ext cx="32749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hange in energy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rcRect l="8595" t="2295" r="42984" b="0"/>
          <a:stretch/>
        </p:blipFill>
        <p:spPr>
          <a:xfrm>
            <a:off x="1914480" y="3203640"/>
            <a:ext cx="1766880" cy="1041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"/>
          <p:cNvSpPr/>
          <p:nvPr/>
        </p:nvSpPr>
        <p:spPr>
          <a:xfrm>
            <a:off x="1906560" y="3170160"/>
            <a:ext cx="185436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4" name="Up Arrow 3"/>
          <p:cNvSpPr/>
          <p:nvPr/>
        </p:nvSpPr>
        <p:spPr>
          <a:xfrm flipV="1">
            <a:off x="2600280" y="2264760"/>
            <a:ext cx="320760" cy="842760"/>
          </a:xfrm>
          <a:prstGeom prst="upArrow">
            <a:avLst>
              <a:gd name="adj1" fmla="val 50000"/>
              <a:gd name="adj2" fmla="val 499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5" name="Up Arrow 13"/>
          <p:cNvSpPr/>
          <p:nvPr/>
        </p:nvSpPr>
        <p:spPr>
          <a:xfrm flipV="1">
            <a:off x="2606760" y="4188600"/>
            <a:ext cx="314280" cy="878040"/>
          </a:xfrm>
          <a:prstGeom prst="upArrow">
            <a:avLst>
              <a:gd name="adj1" fmla="val 50000"/>
              <a:gd name="adj2" fmla="val 50043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2120760" y="233532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1906560" y="4381560"/>
            <a:ext cx="80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4140360" y="2409840"/>
            <a:ext cx="32400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stantaneous RF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4140360" y="4245120"/>
            <a:ext cx="32400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stantaneous 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0" name="TextBox 14"/>
          <p:cNvSpPr/>
          <p:nvPr/>
        </p:nvSpPr>
        <p:spPr>
          <a:xfrm>
            <a:off x="4140360" y="3324240"/>
            <a:ext cx="32400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Rate of change 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1" name="TextBox 15"/>
          <p:cNvSpPr/>
          <p:nvPr/>
        </p:nvSpPr>
        <p:spPr>
          <a:xfrm>
            <a:off x="1300320" y="1434960"/>
            <a:ext cx="60800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For a pulse emission…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33" name="Up Arrow 3"/>
          <p:cNvSpPr/>
          <p:nvPr/>
        </p:nvSpPr>
        <p:spPr>
          <a:xfrm flipV="1">
            <a:off x="2747880" y="2264760"/>
            <a:ext cx="320760" cy="842760"/>
          </a:xfrm>
          <a:prstGeom prst="upArrow">
            <a:avLst>
              <a:gd name="adj1" fmla="val 50000"/>
              <a:gd name="adj2" fmla="val 499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4" name="Up Arrow 13"/>
          <p:cNvSpPr/>
          <p:nvPr/>
        </p:nvSpPr>
        <p:spPr>
          <a:xfrm flipV="1">
            <a:off x="2744640" y="4188600"/>
            <a:ext cx="314640" cy="878040"/>
          </a:xfrm>
          <a:prstGeom prst="upArrow">
            <a:avLst>
              <a:gd name="adj1" fmla="val 50000"/>
              <a:gd name="adj2" fmla="val 4998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1258920" y="2335320"/>
            <a:ext cx="1390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AGWP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1258920" y="4381560"/>
            <a:ext cx="159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iAGTP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5003640" y="2409840"/>
            <a:ext cx="3178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AGW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5003640" y="4245120"/>
            <a:ext cx="3178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~i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9" name="TextBox 14"/>
          <p:cNvSpPr/>
          <p:nvPr/>
        </p:nvSpPr>
        <p:spPr>
          <a:xfrm>
            <a:off x="5003640" y="3324240"/>
            <a:ext cx="3178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~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0" name="TextBox 15"/>
          <p:cNvSpPr/>
          <p:nvPr/>
        </p:nvSpPr>
        <p:spPr>
          <a:xfrm>
            <a:off x="2163600" y="1434960"/>
            <a:ext cx="60804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tegrate for a pulse emission…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639720" y="3164040"/>
            <a:ext cx="4219560" cy="876240"/>
          </a:xfrm>
          <a:prstGeom prst="rect">
            <a:avLst/>
          </a:prstGeom>
          <a:ln w="25560">
            <a:solidFill>
              <a:srgbClr val="141313"/>
            </a:solidFill>
            <a:miter/>
          </a:ln>
        </p:spPr>
      </p:pic>
      <p:sp>
        <p:nvSpPr>
          <p:cNvPr id="242" name="TextBox 18"/>
          <p:cNvSpPr/>
          <p:nvPr/>
        </p:nvSpPr>
        <p:spPr>
          <a:xfrm>
            <a:off x="2908440" y="5229360"/>
            <a:ext cx="5626080" cy="1007640"/>
          </a:xfrm>
          <a:prstGeom prst="rect">
            <a:avLst/>
          </a:prstGeom>
          <a:solidFill>
            <a:srgbClr val="bfbfb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One equation linking the AGWP, AGTP, i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cxnSp>
        <p:nvCxnSpPr>
          <p:cNvPr id="243" name="Straight Arrow Connector 5"/>
          <p:cNvCxnSpPr/>
          <p:nvPr/>
        </p:nvCxnSpPr>
        <p:spPr>
          <a:xfrm flipH="1" flipV="1">
            <a:off x="3923640" y="4188960"/>
            <a:ext cx="577080" cy="983520"/>
          </a:xfrm>
          <a:prstGeom prst="straightConnector1">
            <a:avLst/>
          </a:prstGeom>
          <a:ln w="63360">
            <a:solidFill>
              <a:srgbClr val="141313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EBM Interpretation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GWP: Cumulative energy added to the system (integrated forcing)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AGTP/λ: Cumulative energy lost from the system (feedbacks, back to space)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OHC/AGTP: Energy currently in the system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188000" indent="-45252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OHC: in the ocean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188000" indent="-45252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AGTP: in the surface-mixed layer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\\wii\OfflineFolders\glen\Documents\Projects\Metrics\iGTP\Paper\ERL_v3\Figure1.png"/>
          <p:cNvPicPr/>
          <p:nvPr/>
        </p:nvPicPr>
        <p:blipFill>
          <a:blip r:embed="rId1"/>
          <a:srcRect l="9734" t="4657" r="8554" b="5746"/>
          <a:stretch/>
        </p:blipFill>
        <p:spPr>
          <a:xfrm>
            <a:off x="-36360" y="1052640"/>
            <a:ext cx="9115200" cy="58323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Absolute metric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853920" y="2227320"/>
            <a:ext cx="71928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5348160" y="450864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393840" y="522936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5353200" y="1827360"/>
            <a:ext cx="9349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250920" y="2276640"/>
            <a:ext cx="8713800" cy="374868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1. A pulse emission decays to zero, 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2. thus the energy in the system decays to zer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3. and for energy balance the accumulated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energy in equals the energy ou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AGTP </a:t>
            </a:r>
            <a:r>
              <a:rPr b="0" lang="en-GB" sz="30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AGW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“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ertia” dictates the difference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Normalized metric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f iA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AGWP, then it does not imply i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GWP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Why? The reference gas…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141313"/>
                </a:solidFill>
                <a:latin typeface="Arial"/>
              </a:rPr>
              <a:t>idea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of a reference gas is to represent the other gase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\\wii\OfflineFolders\glen\Documents\Projects\Metrics\iGTP\Paper\ERL_v3\Figure2.png"/>
          <p:cNvPicPr/>
          <p:nvPr/>
        </p:nvPicPr>
        <p:blipFill>
          <a:blip r:embed="rId1"/>
          <a:srcRect l="10008" t="3565" r="6616" b="5809"/>
          <a:stretch/>
        </p:blipFill>
        <p:spPr>
          <a:xfrm>
            <a:off x="-9360" y="1052640"/>
            <a:ext cx="9109080" cy="58086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iGTP=GW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566640" y="107640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5149800" y="443700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468360" y="443700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5148360" y="1362240"/>
            <a:ext cx="93636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2195640" y="2708280"/>
            <a:ext cx="5113080" cy="100764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Within about 10% for a range of TH (except for BC)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2" name="TextBox 9"/>
          <p:cNvSpPr/>
          <p:nvPr/>
        </p:nvSpPr>
        <p:spPr>
          <a:xfrm>
            <a:off x="1476360" y="3929040"/>
            <a:ext cx="3619440" cy="1008360"/>
          </a:xfrm>
          <a:prstGeom prst="rect">
            <a:avLst/>
          </a:prstGeom>
          <a:solidFill>
            <a:srgbClr val="bfbfb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Arial"/>
              </a:rPr>
              <a:t>But why?</a:t>
            </a:r>
            <a:endParaRPr b="0" lang="en-US" sz="6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Why iGTP (integrated GTP)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nother metric just complicates matters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A thought experiment…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Suppose X is the reference ga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X has a lifetime as for CH</a:t>
            </a:r>
            <a:r>
              <a:rPr b="0" lang="en-US" sz="28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 and twice RF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What is GWP, GTP, iGTP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GWP=GTP=iGTP=0.5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O is the “universal” ga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GWP~GTP~iGTP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oes GWP=iGT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epends on the reference gas…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oes 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represent the other species well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\\wii\OfflineFolders\glen\Documents\Projects\Metrics\iGTP\Paper\ERL_v2\FigureSI1_Residence_Extra.png"/>
          <p:cNvPicPr/>
          <p:nvPr/>
        </p:nvPicPr>
        <p:blipFill>
          <a:blip r:embed="rId1"/>
          <a:srcRect l="7518" t="4375" r="7505" b="2637"/>
          <a:stretch/>
        </p:blipFill>
        <p:spPr>
          <a:xfrm>
            <a:off x="23760" y="469800"/>
            <a:ext cx="9120240" cy="56959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"/>
          <p:cNvSpPr/>
          <p:nvPr/>
        </p:nvSpPr>
        <p:spPr>
          <a:xfrm>
            <a:off x="755640" y="3290760"/>
            <a:ext cx="7704000" cy="256716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response </a:t>
            </a:r>
            <a:r>
              <a:rPr b="1" lang="en-GB" sz="3000" spc="-1" strike="noStrike">
                <a:solidFill>
                  <a:srgbClr val="141313"/>
                </a:solidFill>
                <a:latin typeface="Arial"/>
              </a:rPr>
              <a:t>can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capture time scales of CH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, N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O, and SF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response </a:t>
            </a:r>
            <a:r>
              <a:rPr b="1" lang="en-GB" sz="3000" spc="-1" strike="noStrike">
                <a:solidFill>
                  <a:srgbClr val="141313"/>
                </a:solidFill>
                <a:latin typeface="Arial"/>
              </a:rPr>
              <a:t>can’t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capture time scale of 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\\wii\OfflineFolders\glen\Documents\Projects\Metrics\iGTP\Paper\ERL_v3\Figure3.png"/>
          <p:cNvPicPr/>
          <p:nvPr/>
        </p:nvPicPr>
        <p:blipFill>
          <a:blip r:embed="rId1"/>
          <a:srcRect l="10087" t="4713" r="8117" b="6634"/>
          <a:stretch/>
        </p:blipFill>
        <p:spPr>
          <a:xfrm>
            <a:off x="19080" y="1057320"/>
            <a:ext cx="9124920" cy="58006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CO</a:t>
            </a:r>
            <a:r>
              <a:rPr b="1" lang="en-GB" sz="4400" spc="-1" strike="noStrike" baseline="-25000">
                <a:solidFill>
                  <a:srgbClr val="005f8b"/>
                </a:solidFill>
                <a:latin typeface="Arial"/>
              </a:rPr>
              <a:t>2</a:t>
            </a: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 as a reference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1763640" y="141300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5364000" y="587700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468360" y="587700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8028000" y="1413000"/>
            <a:ext cx="936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324000" y="2612880"/>
            <a:ext cx="8712000" cy="256716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does a bad job for 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does a good job for N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an estimate if CO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over/under estimates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Why is GWP≠GTP? The path is different…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itle 1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  <a:ea typeface="Geneva"/>
              </a:rPr>
              <a:t>CO</a:t>
            </a:r>
            <a:r>
              <a:rPr b="1" lang="en-GB" sz="4400" spc="-1" strike="noStrike" baseline="-25000">
                <a:solidFill>
                  <a:srgbClr val="005f8b"/>
                </a:solidFill>
                <a:latin typeface="Arial"/>
                <a:ea typeface="Geneva"/>
              </a:rPr>
              <a:t>2</a:t>
            </a:r>
            <a:r>
              <a:rPr b="1" lang="en-GB" sz="4400" spc="-1" strike="noStrike">
                <a:solidFill>
                  <a:srgbClr val="005f8b"/>
                </a:solidFill>
                <a:latin typeface="Arial"/>
                <a:ea typeface="Geneva"/>
              </a:rPr>
              <a:t> as a reference for CH</a:t>
            </a:r>
            <a:r>
              <a:rPr b="1" lang="nb-NO" sz="4400" spc="-1" strike="noStrike" baseline="-25000">
                <a:solidFill>
                  <a:srgbClr val="005f8b"/>
                </a:solidFill>
                <a:latin typeface="Arial"/>
                <a:ea typeface="Geneva"/>
              </a:rPr>
              <a:t>4</a:t>
            </a:r>
            <a:endParaRPr b="0" lang="en-US" sz="44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77" name="Picture 2" descr="\\wii\OfflineFolders\glen\Documents\Projects\Metrics\iGTP\GWP-GTP calculations BETA 20110217\Fig_Methane.png"/>
          <p:cNvPicPr/>
          <p:nvPr/>
        </p:nvPicPr>
        <p:blipFill>
          <a:blip r:embed="rId1"/>
          <a:srcRect l="9839" t="3894" r="8117" b="6111"/>
          <a:stretch/>
        </p:blipFill>
        <p:spPr>
          <a:xfrm>
            <a:off x="0" y="950760"/>
            <a:ext cx="9180360" cy="5907240"/>
          </a:xfrm>
          <a:prstGeom prst="rect">
            <a:avLst/>
          </a:prstGeom>
          <a:ln w="0">
            <a:noFill/>
          </a:ln>
        </p:spPr>
      </p:pic>
      <p:sp>
        <p:nvSpPr>
          <p:cNvPr id="278" name="TextBox 4"/>
          <p:cNvSpPr/>
          <p:nvPr/>
        </p:nvSpPr>
        <p:spPr>
          <a:xfrm>
            <a:off x="2195640" y="126828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RF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5364000" y="4437000"/>
            <a:ext cx="1368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i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468360" y="4437000"/>
            <a:ext cx="14396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5499000" y="1407960"/>
            <a:ext cx="1441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AGW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oes GWP=iGT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epends on the reference gas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ND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metric…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b-NO" sz="32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nb-NO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200" spc="-1" strike="noStrike">
                <a:solidFill>
                  <a:srgbClr val="141313"/>
                </a:solidFill>
                <a:latin typeface="Arial"/>
              </a:rPr>
              <a:t> as a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~iGTP: GWP and iGTP are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</a:rPr>
              <a:t>integrations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2" marL="1600200" indent="-457200">
              <a:spcBef>
                <a:spcPts val="601"/>
              </a:spcBef>
              <a:buClr>
                <a:srgbClr val="141313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141313"/>
                </a:solidFill>
                <a:latin typeface="Arial"/>
              </a:rPr>
              <a:t>Except for very short lived species</a:t>
            </a:r>
            <a:endParaRPr b="0" lang="en-US" sz="24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≠GTP: GTP is a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</a:rPr>
              <a:t>pathway 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(instantaneous)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oes GWP=iGTP=GT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t is often argued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 and GTP are different since they are a different responses”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 would argue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 and GTP are different since the reference gas is bad”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etail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Possible to look into more technical detail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Climate model parameterisation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Fluxes in and out of different ocean layers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Read the paper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A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AGWP for a pulse emission since RF,T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0 and energy balance requires the energy in to equal the energy ou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GWP since the reference gas (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) is </a:t>
            </a:r>
            <a:r>
              <a:rPr b="0" i="1" lang="en-GB" sz="3200" spc="-1" strike="noStrike">
                <a:solidFill>
                  <a:srgbClr val="141313"/>
                </a:solidFill>
                <a:latin typeface="Arial"/>
              </a:rPr>
              <a:t>good enough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for integrated metric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GWP≠GTP since the reference gas (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) is </a:t>
            </a:r>
            <a:r>
              <a:rPr b="1" i="1" lang="en-GB" sz="3200" spc="-1" strike="noStrike">
                <a:solidFill>
                  <a:srgbClr val="141313"/>
                </a:solidFill>
                <a:latin typeface="Arial"/>
              </a:rPr>
              <a:t>not </a:t>
            </a:r>
            <a:r>
              <a:rPr b="0" i="1" lang="en-GB" sz="3200" spc="-1" strike="noStrike">
                <a:solidFill>
                  <a:srgbClr val="141313"/>
                </a:solidFill>
                <a:latin typeface="Arial"/>
              </a:rPr>
              <a:t>good enough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for the pathway of RF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Policy Implication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3200" spc="-1" strike="noStrike">
                <a:solidFill>
                  <a:srgbClr val="141313"/>
                </a:solidFill>
                <a:latin typeface="Arial"/>
              </a:rPr>
              <a:t>If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integrated temperature is the goal of climate policy, then GWP is a simple metric with a similar response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Common metrics are connected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The importance of 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as a reference gas is underappreciated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176120" indent="-44784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Reference gas may be more important for instantaneous metrics (e.g., GTP)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176120" indent="-44784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How does CO</a:t>
            </a:r>
            <a:r>
              <a:rPr b="0" lang="en-GB" sz="28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 affect metric values?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A primer…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0" y="1557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  <a:ea typeface="Arial"/>
              </a:rPr>
              <a:t>Integrated response to a pulse emission 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41313"/>
                </a:solidFill>
                <a:latin typeface="Arial"/>
                <a:ea typeface="Arial"/>
              </a:rPr>
              <a:t>equals 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  <a:ea typeface="Arial"/>
              </a:rPr>
              <a:t>instantaneous response to a sustained emission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495440" y="4076640"/>
            <a:ext cx="6153120" cy="504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1428840" y="4648320"/>
            <a:ext cx="6286320" cy="4381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7"/>
          <p:cNvSpPr/>
          <p:nvPr/>
        </p:nvSpPr>
        <p:spPr>
          <a:xfrm>
            <a:off x="1692360" y="5229360"/>
            <a:ext cx="57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  <a:ea typeface="Arial"/>
              </a:rPr>
              <a:t>Mathematical property of a convolution for a linear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590840" y="333360"/>
            <a:ext cx="5962320" cy="343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3333600" y="765000"/>
            <a:ext cx="2476800" cy="343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2238480" y="1197000"/>
            <a:ext cx="4667040" cy="600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4"/>
          <a:stretch/>
        </p:blipFill>
        <p:spPr>
          <a:xfrm>
            <a:off x="108000" y="1989000"/>
            <a:ext cx="9036000" cy="1295640"/>
          </a:xfrm>
          <a:prstGeom prst="rect">
            <a:avLst/>
          </a:prstGeom>
          <a:ln w="0">
            <a:noFill/>
          </a:ln>
        </p:spPr>
      </p:pic>
      <p:sp>
        <p:nvSpPr>
          <p:cNvPr id="135" name="Straight Connector 3"/>
          <p:cNvSpPr/>
          <p:nvPr/>
        </p:nvSpPr>
        <p:spPr>
          <a:xfrm>
            <a:off x="2627280" y="2997360"/>
            <a:ext cx="6516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36" name="Straight Connector 9"/>
          <p:cNvSpPr/>
          <p:nvPr/>
        </p:nvSpPr>
        <p:spPr>
          <a:xfrm>
            <a:off x="179280" y="3284640"/>
            <a:ext cx="6726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-7920" y="3638520"/>
            <a:ext cx="9151920" cy="838080"/>
          </a:xfrm>
          <a:prstGeom prst="rect">
            <a:avLst/>
          </a:prstGeom>
          <a:ln w="0">
            <a:noFill/>
          </a:ln>
        </p:spPr>
      </p:pic>
      <p:sp>
        <p:nvSpPr>
          <p:cNvPr id="138" name="Straight Connector 12"/>
          <p:cNvSpPr/>
          <p:nvPr/>
        </p:nvSpPr>
        <p:spPr>
          <a:xfrm>
            <a:off x="3419640" y="3860640"/>
            <a:ext cx="572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39" name="Straight Connector 14"/>
          <p:cNvSpPr/>
          <p:nvPr/>
        </p:nvSpPr>
        <p:spPr>
          <a:xfrm>
            <a:off x="34920" y="414972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6"/>
          <a:stretch/>
        </p:blipFill>
        <p:spPr>
          <a:xfrm>
            <a:off x="11160" y="4849920"/>
            <a:ext cx="913284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100160" y="-27000"/>
            <a:ext cx="6943680" cy="1933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34920" y="1920960"/>
            <a:ext cx="2019240" cy="428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3816360" y="1982880"/>
            <a:ext cx="5219640" cy="1085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4"/>
          <a:stretch/>
        </p:blipFill>
        <p:spPr>
          <a:xfrm>
            <a:off x="2093760" y="1989000"/>
            <a:ext cx="168624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5"/>
          <a:stretch/>
        </p:blipFill>
        <p:spPr>
          <a:xfrm>
            <a:off x="34920" y="3141720"/>
            <a:ext cx="9001080" cy="57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6"/>
          <a:stretch/>
        </p:blipFill>
        <p:spPr>
          <a:xfrm>
            <a:off x="34920" y="3768840"/>
            <a:ext cx="1419120" cy="38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7"/>
          <a:stretch/>
        </p:blipFill>
        <p:spPr>
          <a:xfrm>
            <a:off x="1525680" y="3768840"/>
            <a:ext cx="7432560" cy="1100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"/>
          <p:cNvPicPr/>
          <p:nvPr/>
        </p:nvPicPr>
        <p:blipFill>
          <a:blip r:embed="rId8"/>
          <a:stretch/>
        </p:blipFill>
        <p:spPr>
          <a:xfrm>
            <a:off x="82440" y="4941720"/>
            <a:ext cx="9068040" cy="1143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/>
          <p:cNvPicPr/>
          <p:nvPr/>
        </p:nvPicPr>
        <p:blipFill>
          <a:blip r:embed="rId9"/>
          <a:stretch/>
        </p:blipFill>
        <p:spPr>
          <a:xfrm>
            <a:off x="468360" y="5732640"/>
            <a:ext cx="1485720" cy="742680"/>
          </a:xfrm>
          <a:prstGeom prst="rect">
            <a:avLst/>
          </a:prstGeom>
          <a:ln w="0">
            <a:noFill/>
          </a:ln>
        </p:spPr>
      </p:pic>
      <p:sp>
        <p:nvSpPr>
          <p:cNvPr id="150" name="Straight Connector 10"/>
          <p:cNvSpPr/>
          <p:nvPr/>
        </p:nvSpPr>
        <p:spPr>
          <a:xfrm>
            <a:off x="1779480" y="3732120"/>
            <a:ext cx="4087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1" name="Straight Connector 12"/>
          <p:cNvSpPr/>
          <p:nvPr/>
        </p:nvSpPr>
        <p:spPr>
          <a:xfrm>
            <a:off x="82440" y="414972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2" name="Straight Connector 14"/>
          <p:cNvSpPr/>
          <p:nvPr/>
        </p:nvSpPr>
        <p:spPr>
          <a:xfrm>
            <a:off x="684360" y="6381720"/>
            <a:ext cx="1269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165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5796000" y="1413000"/>
            <a:ext cx="3181320" cy="276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1476360" y="2438280"/>
            <a:ext cx="5686560" cy="990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4"/>
          <a:stretch/>
        </p:blipFill>
        <p:spPr>
          <a:xfrm>
            <a:off x="1509840" y="3789360"/>
            <a:ext cx="5619600" cy="113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5"/>
          <a:stretch/>
        </p:blipFill>
        <p:spPr>
          <a:xfrm>
            <a:off x="2340000" y="5157720"/>
            <a:ext cx="4191120" cy="1152720"/>
          </a:xfrm>
          <a:prstGeom prst="rect">
            <a:avLst/>
          </a:prstGeom>
          <a:ln w="0">
            <a:noFill/>
          </a:ln>
        </p:spPr>
      </p:pic>
      <p:sp>
        <p:nvSpPr>
          <p:cNvPr id="158" name="Straight Connector 6"/>
          <p:cNvSpPr/>
          <p:nvPr/>
        </p:nvSpPr>
        <p:spPr>
          <a:xfrm>
            <a:off x="1509840" y="3213000"/>
            <a:ext cx="830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5076720" y="2938320"/>
            <a:ext cx="1079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0" name="Straight Connector 11"/>
          <p:cNvSpPr/>
          <p:nvPr/>
        </p:nvSpPr>
        <p:spPr>
          <a:xfrm>
            <a:off x="5616720" y="4005360"/>
            <a:ext cx="1512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1" name="Straight Connector 13"/>
          <p:cNvSpPr/>
          <p:nvPr/>
        </p:nvSpPr>
        <p:spPr>
          <a:xfrm>
            <a:off x="1509840" y="4292640"/>
            <a:ext cx="1909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2" name="Straight Connector 15"/>
          <p:cNvSpPr/>
          <p:nvPr/>
        </p:nvSpPr>
        <p:spPr>
          <a:xfrm>
            <a:off x="3884760" y="5445000"/>
            <a:ext cx="687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3" name="Straight Connector 17"/>
          <p:cNvSpPr/>
          <p:nvPr/>
        </p:nvSpPr>
        <p:spPr>
          <a:xfrm>
            <a:off x="3263760" y="6021360"/>
            <a:ext cx="1236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Why iGTP (integrated GTP)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n the early days of the GWP, research focussed on iGTP!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t some stage, the link from radiative forcing to temperature was lost.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 the iGTP similar to the GWP</a:t>
            </a:r>
            <a:r>
              <a:rPr b="1" lang="nb-NO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\\wii\OfflineFolders\glen\Documents\Projects\Metrics\iGTP\Paper\ERL_v3\Figure2.png"/>
          <p:cNvPicPr/>
          <p:nvPr/>
        </p:nvPicPr>
        <p:blipFill>
          <a:blip r:embed="rId1"/>
          <a:srcRect l="10008" t="3565" r="6616" b="5809"/>
          <a:stretch/>
        </p:blipFill>
        <p:spPr>
          <a:xfrm>
            <a:off x="-9360" y="1052640"/>
            <a:ext cx="9109080" cy="5808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iGTP=GW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566640" y="107640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5149800" y="443700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468360" y="443700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5148360" y="1362240"/>
            <a:ext cx="93636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2195640" y="2708280"/>
            <a:ext cx="5113080" cy="100764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Within about 5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-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10% for a range of TH (except for BC)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1476360" y="3929040"/>
            <a:ext cx="3619440" cy="1008360"/>
          </a:xfrm>
          <a:prstGeom prst="rect">
            <a:avLst/>
          </a:prstGeom>
          <a:solidFill>
            <a:srgbClr val="bfbfb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Arial"/>
              </a:rPr>
              <a:t>But why?</a:t>
            </a:r>
            <a:endParaRPr b="0" lang="en-US" sz="6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Why? Two case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bsolute metric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AGWP, AGTP, iAGTP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Relative metric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, GTP, iGTP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Reference gas important!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ifferent reasons for similaritie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15:22Z</dcterms:created>
  <dc:creator>GPP, CICERO</dc:creator>
  <dc:description/>
  <dc:language>en-US</dc:language>
  <cp:lastModifiedBy>Glen Peters</cp:lastModifiedBy>
  <dcterms:modified xsi:type="dcterms:W3CDTF">2012-04-03T08:59:25Z</dcterms:modified>
  <cp:revision>145</cp:revision>
  <dc:subject/>
  <dc:title>Slide 1</dc:title>
</cp:coreProperties>
</file>