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D2A-1861-4F52-8462-1579685E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4AB-1A61-49A0-9BD3-C5891416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2BD-92AA-428D-A945-8AD28AC4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416-3B71-442F-BB72-D8CAE2E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0C5-A887-478C-98C9-E76A1FB3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190-01F1-43F9-9919-90A01C58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AD2-CF92-41ED-9987-697AA2C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D97-19E8-4428-8F9E-4B25026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731-752A-4037-9882-EEA7469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C31-BA5A-4A4E-BED8-B7B49C1E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59D-32B9-4CC4-A798-2F965066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841-C22D-4503-A314-D6C630FA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3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e 7" descr="logo_lang_negativ.png"/>
          <p:cNvPicPr/>
          <p:nvPr/>
        </p:nvPicPr>
        <p:blipFill>
          <a:blip r:embed="rId3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abbc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ab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8B50-AC71-4790-901A-FD4B5DAE2239}" type="slidenum"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4969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n P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International Climate and Environmental Research – Oslo (CI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360" y="162000"/>
            <a:ext cx="8820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Use Box-Diffusion Energy-Balance Model (EBM)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104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s use Impulse Response Func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IRFs 1-1 mapping with box-diffusion EBM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alytical solu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Easy problem (?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Don’t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need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 GCM to understand the physic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724120" y="1989000"/>
            <a:ext cx="364824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597040" y="2901960"/>
            <a:ext cx="399096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411280" y="2895480"/>
            <a:ext cx="5029200" cy="914400"/>
          </a:xfrm>
          <a:prstGeom prst="rect">
            <a:avLst/>
          </a:prstGeom>
          <a:solidFill>
            <a:srgbClr val="e8ab72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411280" y="1987560"/>
            <a:ext cx="50292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xample, 3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3135240" y="3844800"/>
            <a:ext cx="287676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797280" y="5369040"/>
            <a:ext cx="163836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2411280" y="3809880"/>
            <a:ext cx="5029200" cy="914400"/>
          </a:xfrm>
          <a:prstGeom prst="rect">
            <a:avLst/>
          </a:prstGeom>
          <a:solidFill>
            <a:srgbClr val="673a1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6" name="Up Arrow 3"/>
          <p:cNvSpPr/>
          <p:nvPr/>
        </p:nvSpPr>
        <p:spPr>
          <a:xfrm flipV="1" rot="18592800">
            <a:off x="3940200" y="123084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Up Arrow 10"/>
          <p:cNvSpPr/>
          <p:nvPr/>
        </p:nvSpPr>
        <p:spPr>
          <a:xfrm flipV="1">
            <a:off x="7113600" y="25988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Up Arrow 11"/>
          <p:cNvSpPr/>
          <p:nvPr/>
        </p:nvSpPr>
        <p:spPr>
          <a:xfrm>
            <a:off x="6732720" y="3511440"/>
            <a:ext cx="228600" cy="6033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Up Arrow 12"/>
          <p:cNvSpPr/>
          <p:nvPr/>
        </p:nvSpPr>
        <p:spPr>
          <a:xfrm flipV="1">
            <a:off x="7113600" y="35132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0" name="Up Arrow 13"/>
          <p:cNvSpPr/>
          <p:nvPr/>
        </p:nvSpPr>
        <p:spPr>
          <a:xfrm flipV="1" rot="13933800">
            <a:off x="5166360" y="1214640"/>
            <a:ext cx="314280" cy="87768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403440" y="101448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5794200" y="101448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Up Arrow 17"/>
          <p:cNvSpPr/>
          <p:nvPr/>
        </p:nvSpPr>
        <p:spPr>
          <a:xfrm>
            <a:off x="6732720" y="2610000"/>
            <a:ext cx="228600" cy="60480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489400" y="2011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447280" y="3836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2447280" y="2922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7574760" y="2747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7588080" y="3587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772080" y="5334120"/>
            <a:ext cx="1638000" cy="914400"/>
          </a:xfrm>
          <a:prstGeom prst="rect">
            <a:avLst/>
          </a:prstGeom>
          <a:noFill/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5"/>
          <a:stretch/>
        </p:blipFill>
        <p:spPr>
          <a:xfrm>
            <a:off x="6162840" y="5516640"/>
            <a:ext cx="2904840" cy="82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5"/>
          <p:cNvSpPr/>
          <p:nvPr/>
        </p:nvSpPr>
        <p:spPr>
          <a:xfrm>
            <a:off x="28440" y="22050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Mixed-layer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22320" y="3135240"/>
            <a:ext cx="238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ntermediate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8440" y="40752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Dee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05" name="Up Arrow 3"/>
          <p:cNvSpPr/>
          <p:nvPr/>
        </p:nvSpPr>
        <p:spPr>
          <a:xfrm flipV="1" rot="18592800">
            <a:off x="3706920" y="263736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6" name="Up Arrow 13"/>
          <p:cNvSpPr/>
          <p:nvPr/>
        </p:nvSpPr>
        <p:spPr>
          <a:xfrm flipV="1" rot="13933800">
            <a:off x="4932360" y="26208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170160" y="242100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5560920" y="242100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3517920" y="34178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0"/>
          <p:cNvSpPr/>
          <p:nvPr/>
        </p:nvSpPr>
        <p:spPr>
          <a:xfrm>
            <a:off x="3510000" y="3384720"/>
            <a:ext cx="18540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98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140360" y="240984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in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40360" y="424512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176720" y="3324240"/>
            <a:ext cx="32749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hange in energy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4140360" y="24098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140360" y="424512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4140360" y="33242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Rate of change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1300320" y="1434960"/>
            <a:ext cx="60800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33" name="Up Arrow 3"/>
          <p:cNvSpPr/>
          <p:nvPr/>
        </p:nvSpPr>
        <p:spPr>
          <a:xfrm flipV="1">
            <a:off x="27478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Up Arrow 13"/>
          <p:cNvSpPr/>
          <p:nvPr/>
        </p:nvSpPr>
        <p:spPr>
          <a:xfrm flipV="1">
            <a:off x="2744640" y="41886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1258920" y="2335320"/>
            <a:ext cx="13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58920" y="4381560"/>
            <a:ext cx="15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AGTP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03640" y="24098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03640" y="424512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003640" y="33242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2163600" y="1434960"/>
            <a:ext cx="60804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tegrate 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39720" y="3164040"/>
            <a:ext cx="4219560" cy="876240"/>
          </a:xfrm>
          <a:prstGeom prst="rect">
            <a:avLst/>
          </a:prstGeom>
          <a:ln w="25560">
            <a:solidFill>
              <a:srgbClr val="141313"/>
            </a:solidFill>
            <a:miter/>
          </a:ln>
        </p:spPr>
      </p:pic>
      <p:sp>
        <p:nvSpPr>
          <p:cNvPr id="242" name="TextBox 18"/>
          <p:cNvSpPr/>
          <p:nvPr/>
        </p:nvSpPr>
        <p:spPr>
          <a:xfrm>
            <a:off x="2908440" y="5229360"/>
            <a:ext cx="5626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One equation linking the AGWP, AGTP, 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cxnSp>
        <p:nvCxnSpPr>
          <p:cNvPr id="243" name="Straight Arrow Connector 5"/>
          <p:cNvCxnSpPr/>
          <p:nvPr/>
        </p:nvCxnSpPr>
        <p:spPr>
          <a:xfrm flipH="1" flipV="1">
            <a:off x="3923640" y="4188960"/>
            <a:ext cx="577080" cy="983520"/>
          </a:xfrm>
          <a:prstGeom prst="straightConnector1">
            <a:avLst/>
          </a:prstGeom>
          <a:ln w="63360">
            <a:solidFill>
              <a:srgbClr val="141313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BM Interpretat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GWP: Cumulative energy added to the system (integrated forcing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/λ: Cumulative energy lost from the system (feedbacks, back to space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OHC/AGTP: Energy currently in the system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OHC: in the ocea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TP: in the surface-mixed laye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\\wii\OfflineFolders\glen\Documents\Projects\Metrics\iGTP\Paper\ERL_v3\Figure1.png"/>
          <p:cNvPicPr/>
          <p:nvPr/>
        </p:nvPicPr>
        <p:blipFill>
          <a:blip r:embed="rId1"/>
          <a:srcRect l="9734" t="4657" r="8554" b="5746"/>
          <a:stretch/>
        </p:blipFill>
        <p:spPr>
          <a:xfrm>
            <a:off x="-36360" y="1052640"/>
            <a:ext cx="9115200" cy="58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bsolute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53920" y="2227320"/>
            <a:ext cx="7192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5348160" y="450864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93840" y="522936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53200" y="1827360"/>
            <a:ext cx="9349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50920" y="2276640"/>
            <a:ext cx="8713800" cy="374868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. A pulse emission decays to zero, 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2. thus the energy in the system decays to zer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3. and for energy balance the accumulated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in equals the energy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0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ertia” dictates the difference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Normalized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f 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, then it does not imply 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Why? The reference ga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idea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of a reference gas is to represent the other gas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other metric just complicates matters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thought experiment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Suppose X is the reference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X has a lifetime as for CH</a:t>
            </a:r>
            <a:r>
              <a:rPr b="0" lang="en-US" sz="28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 and twice RF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What is GWP, GTP, iGTP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=GTP=iGTP=0.5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O is the “universal”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~GTP~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oes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represent the other species well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\\wii\OfflineFolders\glen\Documents\Projects\Metrics\iGTP\Paper\ERL_v2\FigureSI1_Residence_Extra.png"/>
          <p:cNvPicPr/>
          <p:nvPr/>
        </p:nvPicPr>
        <p:blipFill>
          <a:blip r:embed="rId1"/>
          <a:srcRect l="7518" t="4375" r="7505" b="2637"/>
          <a:stretch/>
        </p:blipFill>
        <p:spPr>
          <a:xfrm>
            <a:off x="23760" y="469800"/>
            <a:ext cx="9120240" cy="5695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55640" y="3290760"/>
            <a:ext cx="7704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s of CH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,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, and SF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’t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 of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\\wii\OfflineFolders\glen\Documents\Projects\Metrics\iGTP\Paper\ERL_v3\Figure3.png"/>
          <p:cNvPicPr/>
          <p:nvPr/>
        </p:nvPicPr>
        <p:blipFill>
          <a:blip r:embed="rId1"/>
          <a:srcRect l="10087" t="4713" r="8117" b="6634"/>
          <a:stretch/>
        </p:blipFill>
        <p:spPr>
          <a:xfrm>
            <a:off x="19080" y="1057320"/>
            <a:ext cx="9124920" cy="5800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 as a reference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763640" y="14130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5364000" y="587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8360" y="587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028000" y="1413000"/>
            <a:ext cx="936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4000" y="2612880"/>
            <a:ext cx="8712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bad job for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good job for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an estimate if 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over/under estimates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hy is GWP≠GTP? The path is different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tle 1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 as a reference for CH</a:t>
            </a:r>
            <a:r>
              <a:rPr b="1" lang="nb-NO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4</a:t>
            </a:r>
            <a:endParaRPr b="0" lang="en-US" sz="44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77" name="Picture 2" descr="\\wii\OfflineFolders\glen\Documents\Projects\Metrics\iGTP\GWP-GTP calculations BETA 20110217\Fig_Methane.png"/>
          <p:cNvPicPr/>
          <p:nvPr/>
        </p:nvPicPr>
        <p:blipFill>
          <a:blip r:embed="rId1"/>
          <a:srcRect l="9839" t="3894" r="8117" b="6111"/>
          <a:stretch/>
        </p:blipFill>
        <p:spPr>
          <a:xfrm>
            <a:off x="0" y="950760"/>
            <a:ext cx="9180360" cy="59072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2195640" y="126828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364000" y="4437000"/>
            <a:ext cx="1368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468360" y="4437000"/>
            <a:ext cx="14396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5499000" y="1407960"/>
            <a:ext cx="1441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 as a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~iGTP: GWP and iGTP are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integration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1600200" indent="-457200">
              <a:spcBef>
                <a:spcPts val="601"/>
              </a:spcBef>
              <a:buClr>
                <a:srgbClr val="141313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41313"/>
                </a:solidFill>
                <a:latin typeface="Arial"/>
              </a:rPr>
              <a:t>Except for very short lived speci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≠GTP: GTP is a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pathway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(instantaneous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=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t is often argu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y are a different responses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 would argu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 reference gas is bad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etail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Possible to look into more technical detail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Climate model parameterisatio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Fluxes in and out of different ocean layer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ad the paper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 for a pulse emission since RF,T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0 and energy balance requires the energy in to equal the energy ou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integrated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GWP≠GT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not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the pathway of RF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Policy Implication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integrated temperature is the goal of climate policy, then GWP is a simple metric with a similar respons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Common metrics are connec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importance of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s a reference gas is underapprecia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may be more important for instantaneous metrics (e.g., GTP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How does CO</a:t>
            </a:r>
            <a:r>
              <a:rPr b="0" lang="en-GB" sz="2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 affect metric values?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primer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tegrated response to a pulse emission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equals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stantaneous response to a sustained emission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95440" y="4076640"/>
            <a:ext cx="615312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428840" y="4648320"/>
            <a:ext cx="628632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1692360" y="522936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Mathematical property of a convolution for a linear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90840" y="333360"/>
            <a:ext cx="596232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333600" y="765000"/>
            <a:ext cx="2476800" cy="3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238480" y="1197000"/>
            <a:ext cx="466704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108000" y="1989000"/>
            <a:ext cx="9036000" cy="129564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3"/>
          <p:cNvSpPr/>
          <p:nvPr/>
        </p:nvSpPr>
        <p:spPr>
          <a:xfrm>
            <a:off x="2627280" y="2997360"/>
            <a:ext cx="651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79280" y="3284640"/>
            <a:ext cx="6726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-7920" y="3638520"/>
            <a:ext cx="915192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12"/>
          <p:cNvSpPr/>
          <p:nvPr/>
        </p:nvSpPr>
        <p:spPr>
          <a:xfrm>
            <a:off x="3419640" y="3860640"/>
            <a:ext cx="572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Straight Connector 14"/>
          <p:cNvSpPr/>
          <p:nvPr/>
        </p:nvSpPr>
        <p:spPr>
          <a:xfrm>
            <a:off x="34920" y="414972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11160" y="4849920"/>
            <a:ext cx="91328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00160" y="-27000"/>
            <a:ext cx="6943680" cy="193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4920" y="1920960"/>
            <a:ext cx="2019240" cy="42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816360" y="1982880"/>
            <a:ext cx="5219640" cy="10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2093760" y="1989000"/>
            <a:ext cx="168624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34920" y="3141720"/>
            <a:ext cx="9001080" cy="57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34920" y="3768840"/>
            <a:ext cx="1419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7"/>
          <a:stretch/>
        </p:blipFill>
        <p:spPr>
          <a:xfrm>
            <a:off x="1525680" y="3768840"/>
            <a:ext cx="743256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8"/>
          <a:stretch/>
        </p:blipFill>
        <p:spPr>
          <a:xfrm>
            <a:off x="82440" y="4941720"/>
            <a:ext cx="906804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9"/>
          <a:stretch/>
        </p:blipFill>
        <p:spPr>
          <a:xfrm>
            <a:off x="468360" y="5732640"/>
            <a:ext cx="1485720" cy="742680"/>
          </a:xfrm>
          <a:prstGeom prst="rect">
            <a:avLst/>
          </a:prstGeom>
          <a:ln w="0">
            <a:noFill/>
          </a:ln>
        </p:spPr>
      </p:pic>
      <p:sp>
        <p:nvSpPr>
          <p:cNvPr id="150" name="Straight Connector 10"/>
          <p:cNvSpPr/>
          <p:nvPr/>
        </p:nvSpPr>
        <p:spPr>
          <a:xfrm>
            <a:off x="1779480" y="3732120"/>
            <a:ext cx="4087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1" name="Straight Connector 12"/>
          <p:cNvSpPr/>
          <p:nvPr/>
        </p:nvSpPr>
        <p:spPr>
          <a:xfrm>
            <a:off x="82440" y="41497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Straight Connector 14"/>
          <p:cNvSpPr/>
          <p:nvPr/>
        </p:nvSpPr>
        <p:spPr>
          <a:xfrm>
            <a:off x="684360" y="6381720"/>
            <a:ext cx="1269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16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181320" cy="27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1476360" y="2438280"/>
            <a:ext cx="568656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1509840" y="3789360"/>
            <a:ext cx="5619600" cy="11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340000" y="5157720"/>
            <a:ext cx="419112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Straight Connector 6"/>
          <p:cNvSpPr/>
          <p:nvPr/>
        </p:nvSpPr>
        <p:spPr>
          <a:xfrm>
            <a:off x="1509840" y="3213000"/>
            <a:ext cx="83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5076720" y="293832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5616720" y="400536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1509840" y="4292640"/>
            <a:ext cx="1909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3884760" y="5445000"/>
            <a:ext cx="68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>
            <a:off x="3263760" y="6021360"/>
            <a:ext cx="1236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n the early days of the GWP, research focussed on iGTP!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t some stage, the link from radiative forcing to temperature was lost.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 the iGTP similar to the GWP</a:t>
            </a: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5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-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? Two case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bsolut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WP, AGTP, iA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lativ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, GTP, 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important!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ifferent reasons for similariti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15:22Z</dcterms:created>
  <dc:creator>GPP, CICERO</dc:creator>
  <dc:description/>
  <dc:language>en-US</dc:language>
  <cp:lastModifiedBy>Glen Peters</cp:lastModifiedBy>
  <dcterms:modified xsi:type="dcterms:W3CDTF">2012-04-03T08:59:25Z</dcterms:modified>
  <cp:revision>145</cp:revision>
  <dc:subject/>
  <dc:title>Slide 1</dc:title>
</cp:coreProperties>
</file>