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0AF92-3B13-4B43-BEA0-1CFCADD9F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74680-7258-4910-A434-0ECAD9B33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F2A97-491E-4D9C-A753-1483D0F56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s begin in about 20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A10EC-FA89-44D3-BDF0-2BDEAB92D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GWP-weighted emission level is prescribed for every year, depending on how trading occurs,  the range of T increases by 2400 will be 2-4C, with the range continuing to exp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8DC66-F0B1-4BD3-B088-05DEE9F5E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D8EA0-2757-4A2B-80D5-58940B7B2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mention advantage of HFC phaseout in terms of avoiding future forcing – and in a multi-basket approach, you know what you will 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point out issu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9E4FC-4517-446C-9FF9-3C9609364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groups diff phaseout sche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s of Gases within a group could be traded with reductions of other gases in the sam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0E242-291A-44F8-8441-07E70A6FD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EFE75-54FC-4387-9C57-B8674DEF9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ll use CFCs and HCFCs to explore the hypothetical impacts of a different control strategy – one where CFC and HCFC production could be tra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F2D10-3098-408D-AE94-2833A7A15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is with equiv eff strat chlorine or EESC, which is a metric that relates to the amount of chlorine and bromine available to destroy strat o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, when MP controls went into force, the ODP-weighted emission were kept identical to those used to generate this curve, but all emissions were traded to HCFC emissions, with no CFC emissi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8B79F-A6FE-4737-AAF9-DF237646E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relate ss ODPs to time-dependent OD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CAAE4-7A83-41F8-8429-0AD8366CB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uncertai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phaseout leads to not much spread in future pos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D1452-33C7-4EA3-92D7-B9D2A70FB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7BA3D-773C-4379-A4DB-B5D13515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95A39-77FC-421E-A7F0-DCB760C5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7DDC-3D4E-41BD-B64A-6135B248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88CCC-C741-4B99-8305-D9C0F60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F44E3-0A3A-456A-BD36-E8DEC25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67D95-63BF-4B5D-BDC1-B945B2A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B9A24-677F-40AF-94F9-A4C2736C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3FEB3-112C-4089-8DD3-F1FC9B53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517E2-E9DC-46C2-A74B-32B05615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6261C-5055-4CB4-845E-56985F7D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DA8C0-A6DE-44B3-A76C-E87E1706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1E26A-AB4A-4AEA-B15B-E00C7977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E090B-676D-40EA-B9AC-0A8AF624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B5E35-B46D-4F32-8F2C-C173962F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07AF4-8577-4C07-AD31-214F759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4BA06-89AC-4C46-B4A0-15C7C61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9EF9D-9A1A-4488-A04C-AC059E59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6E965-BFD1-4A0E-AE65-7AE1FF1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0A65B-A2CE-479A-829C-E3F8C4AE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4B81D-788B-486D-83E1-CD1D1FBC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2122F-953E-4BD1-8EF8-C1843423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0C7A4-2951-46DC-97C9-9032D703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E35E0-95C2-4FB1-9418-0871BC65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BCAE4-7129-4B18-A4C8-9CCD44F7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84BE4-9F60-43F0-AFA4-49BAE08F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AB9BD-9739-4298-A916-7FE621C0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0C05C-3458-474C-81E3-A0D0A1D9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48FAD-6010-42EC-A704-011867B3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0848D-D6EB-4AB0-8344-CB5052E2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FF627-B2E5-46C4-A25D-E5DA5C46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530-AAD3-4E15-8CFD-7FF438BE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4BB57-D29E-4968-B824-30CEB974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D5A8A-7707-4931-B481-FA5CCA13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FA840-AD5C-4E3B-BFC4-6309726A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D21D6-417D-449E-9F22-7D9D4754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2C88E-0F20-4872-86A2-34BE35F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50D47-266F-4C52-BB37-A0FDC363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13765-5E4C-4777-998E-03A66C96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28A71-1C09-4E49-88C9-0CDE1DD3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CF27B-4D67-482B-92C4-3D3646C5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B6EF5-FCBB-44B0-BD68-19504BDC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7E2-1027-41DA-8D77-62EF4C54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520A7-A69C-4BE0-8F55-3D265E32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D819A-1F92-471A-AC73-1165327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376AC-08FF-4D52-9E34-AE2E89E4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F927B-328B-4A50-8CF9-38CA2C3F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09A1B-3B9C-49F0-A597-105F2914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AE1-7496-4E62-AEC6-F22A1649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F40-F0CF-412F-AE7B-61124FE1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9B6-72DF-4BF8-A9E1-E0C8832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7E8-F3B2-442F-99E9-D4B1C01D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D00-B81D-4FBE-ACFA-0FAD67B0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EB2-7CDD-4943-A88B-1EF127BB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B48-46A0-4BC3-AC5C-FD87F1A7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FD0-2AB0-4112-B379-0F970EB3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FC0-80BC-461D-985C-14601123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719-C21D-4F0A-81DC-7F5999AD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293F-B591-40DC-B236-72E6E17E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CEA4-E6B7-4CF6-8881-72FB17A1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6154-99BF-45AF-82FB-E1476C85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5A76-2F75-4F3E-8EA0-6EA6F7FE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2C2E-746B-4220-8022-D4AE460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387D-1238-46FD-937B-EE4BAF5B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C44A-8D14-49C3-BA11-3DFD986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715D-74EC-4D59-A4D6-C6FDCEB7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F07D-CCF1-4E3C-8DF3-5AC426F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B0B6-FDCC-47E2-9F59-1250C3F2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6A84-8EC1-4FA6-8D64-EBEFABE7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DD56-79F5-496B-A17B-D6FB6DA8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B4F1-7E87-4AC7-B382-22C43C43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8696-5F39-4F2A-A1B2-DEE8EA2A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8CF6-7131-4D8B-BCF5-9504A1B5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D450-BFAC-4CCF-A5AF-019ED9E1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F26E3-752A-4C03-A8B7-4A0FBB6E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6DCB-0468-4D93-BE27-E6A800EE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F7FC-6E48-482B-A133-0D358C9B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B15C-014D-4185-81B7-F3B96C52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F068-A322-4159-A1D5-BA0ECF82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7829-5306-433C-A8D1-6147F3D2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AD1F-ACBD-434C-9D52-0E3BDEF3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B2F2-4E78-4182-B919-B60EEE8B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025F-7657-4B70-9059-B4AE080C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E24C-3227-4976-9772-8FA6BA53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8365-AF5C-4BE8-97D3-6760768E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00D5-3664-45F2-A95E-8DD948E3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4BF63-0086-49CC-B8D7-248DC3E2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F678-D054-40D4-A603-AC21E96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AF12-D6B5-400E-835C-752E652E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C1D9-B4F8-423C-AE5B-90C177D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8E0B-7CF8-431F-8566-FD68C4A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93DAC-7325-48F9-9B89-1FD32977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9ED6-D4F6-4F0F-A819-0C95DD3E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2407-7A75-421A-B1FF-023A39DD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DAF70-DB7A-4B8F-AB73-1DF00737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B896B-82DE-4F9F-A410-CA768DE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AF121-37EE-4D4D-A629-A7E76391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D902-8168-45DD-B8D7-6FF6F18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CD47-5D95-4524-B91B-EF6A118B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B1F39-F693-4C2A-A301-6F357DC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11E45-F52C-4044-858A-32E9E1A0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54081-D7B6-45DE-8A01-284405F8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89B8E-4644-4A52-B418-092D6A8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95980-0B5D-432B-8893-C2D9236E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8BFBA-FD8B-4733-9CD7-6451DED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7615-2F95-44BB-A826-2A5EFA26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7A5C6-EA6B-4699-AEB8-5455F87E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65AB4-811F-4E3F-B8A3-F7959ED9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5B09C-CDD9-4B98-B38A-6805AEF5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9427-43C9-4426-ADE1-2706EAD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C2E64-B003-4361-AC31-76D1D661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F7A02-A466-4F2F-91C5-696D2D32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76F05-87FC-4357-A413-4603F093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865B-8EE2-4D48-AAC5-DDBCB005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63AFF-A808-4C79-9672-84F0CA26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17B5A-08A2-4750-9A2C-C79C5D41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BC05C-70DD-4D26-9D97-73A4541A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8BCFF-5006-4101-A9F1-F9B13EA9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4FF18-99BE-4585-AF00-1641A5F8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5636C-270A-42A1-AB72-D04F95C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3842A-5612-4C9C-BD79-8383A08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4A0E-4748-4692-AE28-B3DEF0A2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6775D-9AFA-4A4D-9B05-07D86F8C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91DB2-4300-4048-8674-8984ABEF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97F2C-9A60-4686-8F42-71C3B3DB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574B6-74CC-4012-8EAF-E9D0F2F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3A6B4-1AD4-4883-A7B9-3A8E3A9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F9DB-E630-43BC-9A00-0595D3A0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31359-B2DC-4131-945F-2D921BA3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1FEAC-F258-494F-BBAD-AC1DDD6D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B84EE-0DA2-4860-97CA-15547045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44E10-F575-4EB9-A447-BAE37390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E90EF-5517-4DF6-81B3-B9E24AA6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4D305-CD1C-4EF9-8D1B-3D9F75B44E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0098B-66DD-4AC6-AF81-948ED816E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D47C8-87DF-4574-9BD3-7C32FF223B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7C292-837B-445D-A390-CD162F0004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0A7DE-3F78-4185-BAE8-3D00284BC3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2F7FA-CF4D-4D36-B9D7-8B2019DCCD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B2A00-DC89-4C9E-B347-03B9C0BBE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409E8-83C1-4867-A6E2-BE56E7303E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1377F-BD8A-469A-B794-07671BB682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91ECD-3ACC-4331-9F86-4BE957FE5A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81ED4-F7F9-4727-BC95-A3776A800D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88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2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37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4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55" name="Oval 26"/>
          <p:cNvSpPr/>
          <p:nvPr/>
        </p:nvSpPr>
        <p:spPr>
          <a:xfrm>
            <a:off x="4470480" y="4280040"/>
            <a:ext cx="4673520" cy="723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/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mpact on Clim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CP4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5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7592760" y="4013280"/>
            <a:ext cx="81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2" name="Straight Arrow Connector 5"/>
          <p:cNvCxnSpPr/>
          <p:nvPr/>
        </p:nvCxnSpPr>
        <p:spPr>
          <a:xfrm flipV="1">
            <a:off x="7911720" y="3619080"/>
            <a:ext cx="13320" cy="419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469800" y="6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6807240" y="2082960"/>
            <a:ext cx="82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ll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6" name="Straight Arrow Connector 6"/>
          <p:cNvCxnSpPr/>
          <p:nvPr/>
        </p:nvCxnSpPr>
        <p:spPr>
          <a:xfrm>
            <a:off x="7574040" y="2355840"/>
            <a:ext cx="326160" cy="186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biguity of Single Bas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3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4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Chart 14" descr=""/>
          <p:cNvPicPr/>
          <p:nvPr/>
        </p:nvPicPr>
        <p:blipFill>
          <a:blip r:embed="rId2"/>
          <a:stretch/>
        </p:blipFill>
        <p:spPr>
          <a:xfrm>
            <a:off x="4462560" y="2981160"/>
            <a:ext cx="4584600" cy="31705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5"/>
          <p:cNvSpPr/>
          <p:nvPr/>
        </p:nvSpPr>
        <p:spPr>
          <a:xfrm>
            <a:off x="8610480" y="4813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ight Arrow 16"/>
          <p:cNvSpPr/>
          <p:nvPr/>
        </p:nvSpPr>
        <p:spPr>
          <a:xfrm>
            <a:off x="8567640" y="4889520"/>
            <a:ext cx="152640" cy="268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7"/>
          <p:cNvSpPr/>
          <p:nvPr/>
        </p:nvSpPr>
        <p:spPr>
          <a:xfrm>
            <a:off x="6268680" y="235116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ative Forc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2010 to 2050 (RCP8.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-317520" y="1600200"/>
            <a:ext cx="516888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94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6" name="TextBox 2"/>
          <p:cNvSpPr/>
          <p:nvPr/>
        </p:nvSpPr>
        <p:spPr>
          <a:xfrm>
            <a:off x="2754360" y="4245120"/>
            <a:ext cx="4244760" cy="137376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Montreal Protocol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A Lesson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Implications for HFC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Group 3" descr=""/>
          <p:cNvPicPr/>
          <p:nvPr/>
        </p:nvPicPr>
        <p:blipFill>
          <a:blip r:embed="rId1"/>
          <a:stretch/>
        </p:blipFill>
        <p:spPr>
          <a:xfrm>
            <a:off x="-328680" y="1494000"/>
            <a:ext cx="9539280" cy="4582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9" name="Oval 4"/>
          <p:cNvSpPr/>
          <p:nvPr/>
        </p:nvSpPr>
        <p:spPr>
          <a:xfrm>
            <a:off x="7149960" y="1828800"/>
            <a:ext cx="1994040" cy="1320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6390000" y="422748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-term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1" name="Straight Arrow Connector 10"/>
          <p:cNvCxnSpPr/>
          <p:nvPr/>
        </p:nvCxnSpPr>
        <p:spPr>
          <a:xfrm flipV="1">
            <a:off x="7709040" y="2552400"/>
            <a:ext cx="978480" cy="167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2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Up-Down Arrow 19"/>
          <p:cNvSpPr/>
          <p:nvPr/>
        </p:nvSpPr>
        <p:spPr>
          <a:xfrm>
            <a:off x="8686800" y="2286000"/>
            <a:ext cx="139680" cy="266760"/>
          </a:xfrm>
          <a:prstGeom prst="up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6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 and 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892080" y="2133720"/>
            <a:ext cx="7794720" cy="42512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4"/>
          <p:cNvSpPr/>
          <p:nvPr/>
        </p:nvSpPr>
        <p:spPr>
          <a:xfrm>
            <a:off x="6633360" y="64198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vishankara et al.,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5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206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ntreal Protocol successfully implemented a multi-basket approach to deal with the international problem of stratospheric ozone deple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A single-basket approach, as used in the Kyoto Protocol, can lead to some level of ambiguity in the climate impact of regu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regulation on some group of gases (e.g., HFCs) has the inadvertent affect of delaying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gulation, this will have multi-century climate implic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66760" y="176544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66760" y="1765440"/>
            <a:ext cx="887724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266760" y="1765440"/>
            <a:ext cx="88772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7"/>
          <p:cNvSpPr/>
          <p:nvPr/>
        </p:nvSpPr>
        <p:spPr>
          <a:xfrm rot="18878400">
            <a:off x="6990840" y="39430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266760" y="1765440"/>
            <a:ext cx="8877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Cs/HCFCs Illus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7"/>
          <p:cNvSpPr/>
          <p:nvPr/>
        </p:nvSpPr>
        <p:spPr>
          <a:xfrm>
            <a:off x="6318000" y="4133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7936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FC/HCFC Contribution to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5" descr="idl.ps"/>
          <p:cNvPicPr/>
          <p:nvPr/>
        </p:nvPicPr>
        <p:blipFill>
          <a:blip r:embed="rId1"/>
          <a:stretch/>
        </p:blipFill>
        <p:spPr>
          <a:xfrm>
            <a:off x="1041480" y="1176480"/>
            <a:ext cx="7315200" cy="5421240"/>
          </a:xfrm>
          <a:prstGeom prst="rect">
            <a:avLst/>
          </a:prstGeom>
          <a:ln w="0">
            <a:noFill/>
          </a:ln>
        </p:spPr>
      </p:pic>
      <p:sp>
        <p:nvSpPr>
          <p:cNvPr id="519" name="Left-Right Arrow 2"/>
          <p:cNvSpPr/>
          <p:nvPr/>
        </p:nvSpPr>
        <p:spPr>
          <a:xfrm>
            <a:off x="4051440" y="2502000"/>
            <a:ext cx="3632040" cy="635040"/>
          </a:xfrm>
          <a:prstGeom prst="left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j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eft-Right Arrow 4"/>
          <p:cNvSpPr/>
          <p:nvPr/>
        </p:nvSpPr>
        <p:spPr>
          <a:xfrm>
            <a:off x="2133720" y="2502000"/>
            <a:ext cx="1917720" cy="635040"/>
          </a:xfrm>
          <a:prstGeom prst="left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s - b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a Trade to HC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ngle-Basket Range of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2:54:02Z</dcterms:created>
  <dc:creator>John Daniel</dc:creator>
  <dc:description/>
  <dc:language>en-US</dc:language>
  <cp:lastModifiedBy>John Daniel</cp:lastModifiedBy>
  <dcterms:modified xsi:type="dcterms:W3CDTF">2012-03-29T21:11:55Z</dcterms:modified>
  <cp:revision>119</cp:revision>
  <dc:subject/>
  <dc:title>Limitations of Single-Basekt Trading: Lessons from the Montreal Protocol for Climate Policy </dc:title>
</cp:coreProperties>
</file>