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wmf" ContentType="image/x-wmf"/>
  <Override PartName="/ppt/media/image9.wmf" ContentType="image/x-wmf"/>
  <Override PartName="/ppt/media/image14.png" ContentType="image/png"/>
  <Override PartName="/ppt/media/image15.png" ContentType="image/png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16.wmf" ContentType="image/x-wmf"/>
  <Override PartName="/ppt/media/image8.png" ContentType="image/png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59E67E-81FB-4723-9435-50BDB294FD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lications of the particular control strategy to its suc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9443C6-D94C-4C7A-94CE-5508A214F0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453633-545F-4CB0-BD85-3E3584BA56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des begin in about 204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6B73C4-1BE7-4546-A388-F9FBE93C77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GWP-weighted emission level is prescribed for every year, depending on how trading occurs,  the range of T increases by 2400 will be 2-4C, with the range continuing to exp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8FB09C-81FC-4BF0-B8FB-CF83632DFF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lications of the particular control strategy to its suc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A374AE-5FEE-4B14-97AF-688BE21D0B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haps mention advantage of HFC phaseout in terms of avoiding future forcing – and in a multi-basket approach, you know what you will g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point out issu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62D26F-FF34-4E45-BA9F-E32C625948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ous groups diff phaseout sched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tions of Gases within a group could be traded with reductions of other gases in the same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9091F1-EEA2-48E5-9901-1D46108CEB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005352-70E1-4C1E-BB21-C226CF979B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will use CFCs and HCFCs to explore the hypothetical impacts of a different control strategy – one where CFC and HCFC production could be tra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3E2936-58A6-4E94-9809-C514BC17A3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this with equiv eff strat chlorine or EESC, which is a metric that relates to the amount of chlorine and bromine available to destroy strat oz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uss cur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f, when MP controls went into force, the ODP-weighted emission were kept identical to those used to generate this curve, but all emissions were traded to HCFC emissions, with no CFC emission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EC6107-3375-4B91-9027-62C1CBA37B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ybe relate ss ODPs to time-dependent OD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5232B9-41DD-4CA7-8ED5-3497AC4FE3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ak uncertain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st phaseout leads to not much spread in future possibi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4C685A-4343-4DDC-B933-6FD48A075D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D74480-DA97-4616-B31B-CC76D11CF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78A21F-0E54-4927-90D7-29884240B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FE790F-4C54-443C-A092-57D826BD7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B2F8F4-D5FE-4C30-B9A8-240C6F831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E208C8-446E-44B1-A72E-8B12114E1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0A144A-54CB-4C43-95DF-69FA86B1D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5E6708-C8FD-42AC-82D8-2594660BB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C89F05-D49A-463B-9BA1-035A0A0C6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7C95F4-BA08-4E0A-833F-10DDB00C5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FA4F44-857C-441A-9353-930FB7696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993561-5954-4849-B6F7-9859E5FB9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9CC029-C236-45DA-BC34-2C8537FBB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B0861B-1BB8-405E-9D02-DB3803337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E274BE-4E39-41F3-BE0D-137967501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11F207-9507-4FD1-946A-EF3F54A6E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91FEB6-D7E4-4ECD-9E90-C04B8DE43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34DEE4-4C40-490D-8FEC-BF252F67B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FB64D5-37D0-40CF-ACDF-9DCFDB21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E344BC-2693-4020-B8DD-18D3839C8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32D97B-8056-4271-A22C-D3D728F7E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51718C-317A-49AE-8A8A-E59892048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D6AC35-C360-4FE0-8F38-168712C9C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2E3C03-F1C8-4AB9-A296-2FC52B25A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0B4B7B-FD8D-4F59-941C-46C4FA1F5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008F5A-EC57-4330-B9B0-BA2A4EFF0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E9C990-D6B1-4ECD-97CF-3EFB1FA3A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96FBBC-B9E3-4E09-A860-A67F70107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1B5808-7499-4FC6-9EF6-1A389D07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7A52B0-0F75-4853-9E33-B09917CEC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41F705-93F6-474B-AA4B-43A57B10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EA1F-8A48-4239-BEEE-C8CD54D04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DF632D-6EDA-41A2-AB22-27DB19699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DB0C11-1895-4AB7-915E-21DDBA34C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857EBD-8614-45A8-9773-7012E90E7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4CCC03-7458-451D-B227-F9E8CA947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3AD466-DCC3-457C-94CC-0C6BB9B38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721666-CD1B-4CF2-A38E-419B7619A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E1FF04-23D2-4AA6-BFC1-A209C4CFD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6402FA-1102-493B-96CC-D75AFA933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6628F9-87C3-42F5-9825-CEC377C07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F39002-B739-43BC-AD31-CA6514759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0DEC-3567-46C8-BF21-468585E87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065E9B-8FB1-41C8-A6C3-30D6C5457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2A033A-0D27-4DF3-8977-F006B70B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56B492-E94A-46F0-90A1-5C756E45E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251BF9-3BE5-4548-A8A5-716169782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D339E7-FA7A-4691-AC80-352090FB5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E307-8697-496D-88B4-E564A411E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3B99-9E3C-413A-96DE-852ABA53A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4013-96D7-4D7C-A10A-E9B253B4E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C0DD-D407-41B2-BE67-605CD04DA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2130-734A-4BB0-B282-DEF9053EC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AA52-4133-4863-A2C2-9DB3E231D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D5CD-A0D5-4CE3-8937-400C144D2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1200-B641-4866-BEEE-2219FEC1B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6F24-C5F8-41A1-8AE4-C7248FBF6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694D-72D1-4893-98C2-12E8572BD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3BDDE-B163-498B-A681-C331BD37F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746B4-69E2-4CAE-BFCF-F7075F120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76FC1-16E3-4579-B7DF-599440FDA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9E3A6-4E87-46FB-BB8A-F57881EE6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6E77D-2274-4A77-B02B-BB03C8900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8B116-FDA9-4295-81DB-D48DFBA48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65F3C-0E17-4970-BA2C-22D64E1F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88608-32CB-47D5-A551-AA48978F8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E81CD-3937-4902-ADF9-65AA37453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C656E-D4F8-46BE-B2DD-3207C0705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2039A-0DA9-4882-B28B-AAE1875BF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1B88F-AFBC-479B-A5D7-F2634AE86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C2650-2C49-4822-86DE-7A287D017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73E37-2AEF-408D-8A25-7F0AB1AB3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F09CF-9FB8-459F-A1AD-34EC84498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2277C-20ED-4C9F-BAEF-3F251C1C9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57245-C521-4A42-B96A-9A10CC3A2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15AB5-AF32-45FA-A9F7-FAA16BB96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301EA-7D14-4CF2-B153-D32FC504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8DA7A-52D3-4C17-8A74-E13186D7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4B7A6-6825-4B5E-9341-FFA939000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2DAA9-93F6-4E08-B09C-86B2C7609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C3292-2957-4DAB-B6CC-C243364B8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E6276-3BFD-405B-AB7F-1A26EF756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75915-D61A-4059-8C60-ADCCCAE31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D65EB-5D5B-441B-AA48-770F1E436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820B8-E260-4EF3-AF42-BDD041C50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3B50D-7238-43FD-AE38-182202FDB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030BB-207D-4384-B4CE-8A05CFBAA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D4763-6FD4-4F54-A543-353E9012F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A4BF7-CE09-49F2-BC43-0BA9B5AB2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72527-165E-4379-958F-45907A19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9A81C-5E8D-44C1-BBDA-2544A81F7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4F183-FD8B-44EA-90BA-96AA90E3B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588FF-423A-4C51-B0EB-DEC873922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4CA31-2C3E-4C6B-B00C-F1C885995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EB4D1-E9BC-4F72-9A77-EA1138BEB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D868A8-F5B3-4D70-8E21-C5D856686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39F36-466A-4C58-98BE-DA35F63F9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CBBB9-D8D1-48BE-9AA6-211304AAA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F41CBC-C776-450E-8EFB-2D628CD72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9888A-1AA7-4E5D-B657-707536B94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7772D-6030-4306-971A-B268D516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4BFC6-5B12-49F4-85D8-7664944A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F0E5A-5560-43FB-8757-8527729BC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1496B-1C18-49AA-B98C-6175A9F50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8E73D-6493-4934-AD95-4AEB9CD5F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4DE908-0FA3-4493-A5DD-64FF2B983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C3AA32-E9CE-4CD3-AE93-18813FBA6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FFC834-9011-48C1-8C92-C86E8BAC0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7FD051-D3E8-422F-8D8B-2B68B1923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13160A-3451-4B5E-90A4-31DA95A1B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63D7C0-4435-46C8-B9B9-4EE56056F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5346A6-823B-4E84-9032-DA68790FF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763FD7-1474-4E31-88B8-56BACB5C0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E5AB56-4CF0-4EB4-A685-C44CCC67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4AF1F9-BAC7-4947-8D01-E0253E0E6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A4F8A5-26C6-498C-B356-60AD5E66D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0F762C-CE77-41DB-B0DC-693B3E5B1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C97DFB-1239-4E83-9B6E-D4D8A11BF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DC3BEC-EA28-48BD-9E0B-4E08FB29D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3B10B4-8E64-4D37-9669-A18FFF778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E8D4E8-341E-4CE1-AB89-320472C1E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6D968F-9B8B-4841-B0BF-2CE3FC5A5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8E4814-56BF-4CE3-9C4E-383599E4B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84E6A2-139A-4A05-8E13-E163ECFCF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56E251-F346-4F24-8EC1-8DEA3CB7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75708F-ED88-48D6-97A7-A9BF886A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37CED7-903A-4C85-BA0A-66E9AB23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2CEE8A-4B64-4B31-A993-FE5A5D716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9100B7-F1AB-4309-9250-62DC51379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DAAE2C-C074-4D65-9F2B-5D1DD3C00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5F8652-59E4-4B1B-BEE8-D0CB4C2C6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0A3AE9-398F-4342-99CC-418A0ECAE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253E52-E9BF-401F-AEFE-8A4FD7605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95b3d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Box 6"/>
          <p:cNvSpPr/>
          <p:nvPr/>
        </p:nvSpPr>
        <p:spPr>
          <a:xfrm>
            <a:off x="-18000" y="6540480"/>
            <a:ext cx="25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 April 2012, Bonn, German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95b3d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Box 6"/>
          <p:cNvSpPr/>
          <p:nvPr/>
        </p:nvSpPr>
        <p:spPr>
          <a:xfrm>
            <a:off x="-18000" y="6540480"/>
            <a:ext cx="25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 April 2012, Bonn, German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9C2A74-4844-48FE-AA23-71C58748DFF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95b3d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Box 6"/>
          <p:cNvSpPr/>
          <p:nvPr/>
        </p:nvSpPr>
        <p:spPr>
          <a:xfrm>
            <a:off x="-18000" y="6540480"/>
            <a:ext cx="25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 April 2012, Bonn, German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496BAD-7062-4305-B545-C26788F37D9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95b3d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TextBox 6"/>
          <p:cNvSpPr/>
          <p:nvPr/>
        </p:nvSpPr>
        <p:spPr>
          <a:xfrm>
            <a:off x="-18000" y="6540480"/>
            <a:ext cx="25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 April 2012, Bonn, German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77AE4D-A72E-4241-B170-0D5E09CB972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95b3d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Box 6"/>
          <p:cNvSpPr/>
          <p:nvPr/>
        </p:nvSpPr>
        <p:spPr>
          <a:xfrm>
            <a:off x="-18000" y="6540480"/>
            <a:ext cx="25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 April 2012, Bonn, German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89B9BA-71EC-4119-B2F9-E4E95478329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95b3d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6"/>
          <p:cNvSpPr/>
          <p:nvPr/>
        </p:nvSpPr>
        <p:spPr>
          <a:xfrm>
            <a:off x="-18000" y="6540480"/>
            <a:ext cx="25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 April 2012, Bonn, German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D54CA8-EF2B-417C-ACF6-E4C7E6C93F1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95b3d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6"/>
          <p:cNvSpPr/>
          <p:nvPr/>
        </p:nvSpPr>
        <p:spPr>
          <a:xfrm>
            <a:off x="-18000" y="6540480"/>
            <a:ext cx="25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 April 2012, Bonn, German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DB9DD3-8A59-4D84-8887-8D146C54723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95b3d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Box 6"/>
          <p:cNvSpPr/>
          <p:nvPr/>
        </p:nvSpPr>
        <p:spPr>
          <a:xfrm>
            <a:off x="-18000" y="6540480"/>
            <a:ext cx="25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 April 2012, Bonn, German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D90852-E0D9-4305-8924-C2F0479B44B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95b3d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Box 6"/>
          <p:cNvSpPr/>
          <p:nvPr/>
        </p:nvSpPr>
        <p:spPr>
          <a:xfrm>
            <a:off x="-18000" y="6540480"/>
            <a:ext cx="25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 April 2012, Bonn, German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1E426C-ABCE-4B73-8C6F-04EF4E82459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95b3d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Box 6"/>
          <p:cNvSpPr/>
          <p:nvPr/>
        </p:nvSpPr>
        <p:spPr>
          <a:xfrm>
            <a:off x="-18000" y="6540480"/>
            <a:ext cx="25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 April 2012, Bonn, German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655AE3-F22C-45F4-8A28-6F135ACF3F9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95b3d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Box 6"/>
          <p:cNvSpPr/>
          <p:nvPr/>
        </p:nvSpPr>
        <p:spPr>
          <a:xfrm>
            <a:off x="-18000" y="6540480"/>
            <a:ext cx="25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 April 2012, Bonn, German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D80766-21AD-4166-A4A2-0252A6BFBAA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95b3d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Box 6"/>
          <p:cNvSpPr/>
          <p:nvPr/>
        </p:nvSpPr>
        <p:spPr>
          <a:xfrm>
            <a:off x="-18000" y="6540480"/>
            <a:ext cx="25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 April 2012, Bonn, German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B1ED8B-5F98-4C9E-B72C-0092B402540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7" name="Content Placeholder 4" descr=""/>
          <p:cNvPicPr/>
          <p:nvPr/>
        </p:nvPicPr>
        <p:blipFill>
          <a:blip r:embed="rId1"/>
          <a:srcRect l="0" t="13341" r="0" b="13341"/>
          <a:stretch/>
        </p:blipFill>
        <p:spPr>
          <a:xfrm>
            <a:off x="-2549520" y="-838080"/>
            <a:ext cx="11887200" cy="7772400"/>
          </a:xfrm>
          <a:prstGeom prst="rect">
            <a:avLst/>
          </a:prstGeom>
          <a:ln w="0">
            <a:noFill/>
          </a:ln>
        </p:spPr>
      </p:pic>
      <p:sp>
        <p:nvSpPr>
          <p:cNvPr id="488" name="Title 1"/>
          <p:cNvSpPr/>
          <p:nvPr/>
        </p:nvSpPr>
        <p:spPr>
          <a:xfrm>
            <a:off x="114480" y="185760"/>
            <a:ext cx="8864280" cy="10969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alibri"/>
              </a:rPr>
              <a:t>Limitations of Single-Basket Trading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alibri"/>
              </a:rPr>
              <a:t>Lessons from the Montreal Protocol for Climate Poli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9" name="Picture 7" descr=""/>
          <p:cNvPicPr/>
          <p:nvPr/>
        </p:nvPicPr>
        <p:blipFill>
          <a:blip r:embed="rId2"/>
          <a:stretch/>
        </p:blipFill>
        <p:spPr>
          <a:xfrm>
            <a:off x="52560" y="5504040"/>
            <a:ext cx="1353960" cy="1353960"/>
          </a:xfrm>
          <a:prstGeom prst="rect">
            <a:avLst/>
          </a:prstGeom>
          <a:ln w="0">
            <a:noFill/>
          </a:ln>
        </p:spPr>
      </p:pic>
      <p:sp>
        <p:nvSpPr>
          <p:cNvPr id="490" name="TextBox 9"/>
          <p:cNvSpPr/>
          <p:nvPr/>
        </p:nvSpPr>
        <p:spPr>
          <a:xfrm>
            <a:off x="2333160" y="1257480"/>
            <a:ext cx="4833360" cy="11912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John S. Dani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National Oceanic and Atmospheric Adminis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Chemical Sciences Divi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Boulder, Colorado U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TextBox 10"/>
          <p:cNvSpPr/>
          <p:nvPr/>
        </p:nvSpPr>
        <p:spPr>
          <a:xfrm>
            <a:off x="1720800" y="5921280"/>
            <a:ext cx="7616880" cy="9169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mitations of Single-Basket Trading: Lessons from the Montreal Protocol for Climate Policy, Daniel, Solomon, Sanford, McFarland, Fuglestvedt, and Friedlingstein, Climatic Change, 2012 (online 2011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19" descr=""/>
          <p:cNvPicPr/>
          <p:nvPr/>
        </p:nvPicPr>
        <p:blipFill>
          <a:blip r:embed="rId1"/>
          <a:stretch/>
        </p:blipFill>
        <p:spPr>
          <a:xfrm>
            <a:off x="-3201840" y="-1668600"/>
            <a:ext cx="10972800" cy="10972800"/>
          </a:xfrm>
          <a:prstGeom prst="rect">
            <a:avLst/>
          </a:prstGeom>
          <a:ln w="0">
            <a:noFill/>
          </a:ln>
        </p:spPr>
      </p:pic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46280" y="-3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Kyoto Protocol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ingle Basket Approa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7" name="Group 20"/>
          <p:cNvGrpSpPr/>
          <p:nvPr/>
        </p:nvGrpSpPr>
        <p:grpSpPr>
          <a:xfrm>
            <a:off x="564480" y="1417680"/>
            <a:ext cx="3390120" cy="2572560"/>
            <a:chOff x="564480" y="1417680"/>
            <a:chExt cx="3390120" cy="2572560"/>
          </a:xfrm>
        </p:grpSpPr>
        <p:sp>
          <p:nvSpPr>
            <p:cNvPr id="528" name="TextBox 4"/>
            <p:cNvSpPr/>
            <p:nvPr/>
          </p:nvSpPr>
          <p:spPr>
            <a:xfrm rot="16380000">
              <a:off x="2411280" y="290412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PFC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TextBox 5"/>
            <p:cNvSpPr/>
            <p:nvPr/>
          </p:nvSpPr>
          <p:spPr>
            <a:xfrm>
              <a:off x="564480" y="3143520"/>
              <a:ext cx="637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CO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" name="TextBox 6"/>
            <p:cNvSpPr/>
            <p:nvPr/>
          </p:nvSpPr>
          <p:spPr>
            <a:xfrm>
              <a:off x="970560" y="1762920"/>
              <a:ext cx="624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CH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" name="TextBox 7"/>
            <p:cNvSpPr/>
            <p:nvPr/>
          </p:nvSpPr>
          <p:spPr>
            <a:xfrm>
              <a:off x="1569600" y="3480120"/>
              <a:ext cx="677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N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Calibri"/>
                </a:rPr>
                <a:t>2</a:t>
              </a: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TextBox 8"/>
            <p:cNvSpPr/>
            <p:nvPr/>
          </p:nvSpPr>
          <p:spPr>
            <a:xfrm rot="16800000">
              <a:off x="3260520" y="3213720"/>
              <a:ext cx="79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HFC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TextBox 9"/>
            <p:cNvSpPr/>
            <p:nvPr/>
          </p:nvSpPr>
          <p:spPr>
            <a:xfrm>
              <a:off x="1694520" y="1417680"/>
              <a:ext cx="555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SF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Calibr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19" descr=""/>
          <p:cNvPicPr/>
          <p:nvPr/>
        </p:nvPicPr>
        <p:blipFill>
          <a:blip r:embed="rId1"/>
          <a:stretch/>
        </p:blipFill>
        <p:spPr>
          <a:xfrm>
            <a:off x="-3201840" y="-1668600"/>
            <a:ext cx="10972800" cy="1097280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746280" y="-3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Kyoto Protocol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ingle Basket Approa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6" name="Group 20"/>
          <p:cNvGrpSpPr/>
          <p:nvPr/>
        </p:nvGrpSpPr>
        <p:grpSpPr>
          <a:xfrm>
            <a:off x="564480" y="1417680"/>
            <a:ext cx="3390120" cy="2572560"/>
            <a:chOff x="564480" y="1417680"/>
            <a:chExt cx="3390120" cy="2572560"/>
          </a:xfrm>
        </p:grpSpPr>
        <p:sp>
          <p:nvSpPr>
            <p:cNvPr id="537" name="TextBox 4"/>
            <p:cNvSpPr/>
            <p:nvPr/>
          </p:nvSpPr>
          <p:spPr>
            <a:xfrm rot="16380000">
              <a:off x="2411280" y="290412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PFC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" name="TextBox 5"/>
            <p:cNvSpPr/>
            <p:nvPr/>
          </p:nvSpPr>
          <p:spPr>
            <a:xfrm>
              <a:off x="564480" y="3143520"/>
              <a:ext cx="637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CO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" name="TextBox 6"/>
            <p:cNvSpPr/>
            <p:nvPr/>
          </p:nvSpPr>
          <p:spPr>
            <a:xfrm>
              <a:off x="970560" y="1762920"/>
              <a:ext cx="624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CH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TextBox 7"/>
            <p:cNvSpPr/>
            <p:nvPr/>
          </p:nvSpPr>
          <p:spPr>
            <a:xfrm>
              <a:off x="1569600" y="3480120"/>
              <a:ext cx="677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N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Calibri"/>
                </a:rPr>
                <a:t>2</a:t>
              </a: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TextBox 8"/>
            <p:cNvSpPr/>
            <p:nvPr/>
          </p:nvSpPr>
          <p:spPr>
            <a:xfrm rot="16800000">
              <a:off x="3260520" y="3213720"/>
              <a:ext cx="79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HFC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TextBox 9"/>
            <p:cNvSpPr/>
            <p:nvPr/>
          </p:nvSpPr>
          <p:spPr>
            <a:xfrm>
              <a:off x="1694520" y="1417680"/>
              <a:ext cx="555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SF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Calibr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43" name="Chart 25" descr=""/>
          <p:cNvPicPr/>
          <p:nvPr/>
        </p:nvPicPr>
        <p:blipFill>
          <a:blip r:embed="rId2"/>
          <a:stretch/>
        </p:blipFill>
        <p:spPr>
          <a:xfrm>
            <a:off x="4267080" y="2567160"/>
            <a:ext cx="4559400" cy="3327120"/>
          </a:xfrm>
          <a:prstGeom prst="rect">
            <a:avLst/>
          </a:prstGeom>
          <a:ln w="0">
            <a:noFill/>
          </a:ln>
        </p:spPr>
      </p:pic>
      <p:sp>
        <p:nvSpPr>
          <p:cNvPr id="544" name="TextBox 27"/>
          <p:cNvSpPr/>
          <p:nvPr/>
        </p:nvSpPr>
        <p:spPr>
          <a:xfrm>
            <a:off x="6070320" y="2368440"/>
            <a:ext cx="228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10 Radiative Forc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19" descr=""/>
          <p:cNvPicPr/>
          <p:nvPr/>
        </p:nvPicPr>
        <p:blipFill>
          <a:blip r:embed="rId1"/>
          <a:stretch/>
        </p:blipFill>
        <p:spPr>
          <a:xfrm>
            <a:off x="-3201840" y="-1668600"/>
            <a:ext cx="10972800" cy="10972800"/>
          </a:xfrm>
          <a:prstGeom prst="rect">
            <a:avLst/>
          </a:prstGeom>
          <a:ln w="0">
            <a:noFill/>
          </a:ln>
        </p:spPr>
      </p:pic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746280" y="-3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Kyoto Protocol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ingle Basket Approa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7" name="Group 20"/>
          <p:cNvGrpSpPr/>
          <p:nvPr/>
        </p:nvGrpSpPr>
        <p:grpSpPr>
          <a:xfrm>
            <a:off x="564480" y="1417680"/>
            <a:ext cx="3390120" cy="2572560"/>
            <a:chOff x="564480" y="1417680"/>
            <a:chExt cx="3390120" cy="2572560"/>
          </a:xfrm>
        </p:grpSpPr>
        <p:sp>
          <p:nvSpPr>
            <p:cNvPr id="548" name="TextBox 4"/>
            <p:cNvSpPr/>
            <p:nvPr/>
          </p:nvSpPr>
          <p:spPr>
            <a:xfrm rot="16380000">
              <a:off x="2411280" y="290412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PFC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" name="TextBox 5"/>
            <p:cNvSpPr/>
            <p:nvPr/>
          </p:nvSpPr>
          <p:spPr>
            <a:xfrm>
              <a:off x="564480" y="3143520"/>
              <a:ext cx="637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CO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" name="TextBox 6"/>
            <p:cNvSpPr/>
            <p:nvPr/>
          </p:nvSpPr>
          <p:spPr>
            <a:xfrm>
              <a:off x="970560" y="1762920"/>
              <a:ext cx="624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CH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TextBox 7"/>
            <p:cNvSpPr/>
            <p:nvPr/>
          </p:nvSpPr>
          <p:spPr>
            <a:xfrm>
              <a:off x="1569600" y="3480120"/>
              <a:ext cx="677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N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Calibri"/>
                </a:rPr>
                <a:t>2</a:t>
              </a: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TextBox 8"/>
            <p:cNvSpPr/>
            <p:nvPr/>
          </p:nvSpPr>
          <p:spPr>
            <a:xfrm rot="16800000">
              <a:off x="3260520" y="3213720"/>
              <a:ext cx="79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HFC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TextBox 9"/>
            <p:cNvSpPr/>
            <p:nvPr/>
          </p:nvSpPr>
          <p:spPr>
            <a:xfrm>
              <a:off x="1694520" y="1417680"/>
              <a:ext cx="555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SF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Calibr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54" name="Chart 25" descr=""/>
          <p:cNvPicPr/>
          <p:nvPr/>
        </p:nvPicPr>
        <p:blipFill>
          <a:blip r:embed="rId2"/>
          <a:stretch/>
        </p:blipFill>
        <p:spPr>
          <a:xfrm>
            <a:off x="4267080" y="2567160"/>
            <a:ext cx="4559400" cy="3327120"/>
          </a:xfrm>
          <a:prstGeom prst="rect">
            <a:avLst/>
          </a:prstGeom>
          <a:ln w="0">
            <a:noFill/>
          </a:ln>
        </p:spPr>
      </p:pic>
      <p:sp>
        <p:nvSpPr>
          <p:cNvPr id="555" name="Oval 26"/>
          <p:cNvSpPr/>
          <p:nvPr/>
        </p:nvSpPr>
        <p:spPr>
          <a:xfrm>
            <a:off x="4470480" y="4280040"/>
            <a:ext cx="4673520" cy="723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TextBox 27"/>
          <p:cNvSpPr/>
          <p:nvPr/>
        </p:nvSpPr>
        <p:spPr>
          <a:xfrm>
            <a:off x="6070320" y="2368440"/>
            <a:ext cx="228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10 Radiative Forc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/C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Impact on Climat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(RCP4.5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8" name="Picture 5" descr="idl.ps"/>
          <p:cNvPicPr/>
          <p:nvPr/>
        </p:nvPicPr>
        <p:blipFill>
          <a:blip r:embed="rId1"/>
          <a:stretch/>
        </p:blipFill>
        <p:spPr>
          <a:xfrm>
            <a:off x="38160" y="1625760"/>
            <a:ext cx="9144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mpact of a Trade to All C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Emiss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0" name="Picture 4" descr="idl.ps"/>
          <p:cNvPicPr/>
          <p:nvPr/>
        </p:nvPicPr>
        <p:blipFill>
          <a:blip r:embed="rId1"/>
          <a:stretch/>
        </p:blipFill>
        <p:spPr>
          <a:xfrm>
            <a:off x="38160" y="162576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561" name="TextBox 2"/>
          <p:cNvSpPr/>
          <p:nvPr/>
        </p:nvSpPr>
        <p:spPr>
          <a:xfrm>
            <a:off x="7592760" y="4013280"/>
            <a:ext cx="816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ll 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62" name="Straight Arrow Connector 5"/>
          <p:cNvCxnSpPr/>
          <p:nvPr/>
        </p:nvCxnSpPr>
        <p:spPr>
          <a:xfrm flipV="1">
            <a:off x="7911720" y="3619080"/>
            <a:ext cx="13320" cy="4197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4" descr="idl.ps"/>
          <p:cNvPicPr/>
          <p:nvPr/>
        </p:nvPicPr>
        <p:blipFill>
          <a:blip r:embed="rId1"/>
          <a:stretch/>
        </p:blipFill>
        <p:spPr>
          <a:xfrm>
            <a:off x="38160" y="162576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564" name="Title 1"/>
          <p:cNvSpPr/>
          <p:nvPr/>
        </p:nvSpPr>
        <p:spPr>
          <a:xfrm>
            <a:off x="469800" y="6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mpact of a Trade to All CO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Emiss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TextBox 5"/>
          <p:cNvSpPr/>
          <p:nvPr/>
        </p:nvSpPr>
        <p:spPr>
          <a:xfrm>
            <a:off x="6807240" y="2082960"/>
            <a:ext cx="825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All C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66" name="Straight Arrow Connector 6"/>
          <p:cNvCxnSpPr/>
          <p:nvPr/>
        </p:nvCxnSpPr>
        <p:spPr>
          <a:xfrm>
            <a:off x="7574040" y="2355840"/>
            <a:ext cx="326160" cy="1864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mbiguity of Single Bask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8" name="Picture 3" descr="idl.ps"/>
          <p:cNvPicPr/>
          <p:nvPr/>
        </p:nvPicPr>
        <p:blipFill>
          <a:blip r:embed="rId1"/>
          <a:stretch/>
        </p:blipFill>
        <p:spPr>
          <a:xfrm>
            <a:off x="38160" y="1625760"/>
            <a:ext cx="9144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mplications for HF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0" name="Picture 7" descr=""/>
          <p:cNvPicPr/>
          <p:nvPr/>
        </p:nvPicPr>
        <p:blipFill>
          <a:blip r:embed="rId1"/>
          <a:stretch/>
        </p:blipFill>
        <p:spPr>
          <a:xfrm>
            <a:off x="399960" y="1574640"/>
            <a:ext cx="4152960" cy="4572000"/>
          </a:xfrm>
          <a:prstGeom prst="rect">
            <a:avLst/>
          </a:prstGeom>
          <a:ln w="0">
            <a:noFill/>
          </a:ln>
        </p:spPr>
      </p:pic>
      <p:sp>
        <p:nvSpPr>
          <p:cNvPr id="571" name="TextBox 8"/>
          <p:cNvSpPr/>
          <p:nvPr/>
        </p:nvSpPr>
        <p:spPr>
          <a:xfrm>
            <a:off x="1996560" y="5218200"/>
            <a:ext cx="225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Velders et al, PNAS, 200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mplications for HF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3" name="Picture 7" descr=""/>
          <p:cNvPicPr/>
          <p:nvPr/>
        </p:nvPicPr>
        <p:blipFill>
          <a:blip r:embed="rId1"/>
          <a:stretch/>
        </p:blipFill>
        <p:spPr>
          <a:xfrm>
            <a:off x="399960" y="1574640"/>
            <a:ext cx="4152960" cy="4572000"/>
          </a:xfrm>
          <a:prstGeom prst="rect">
            <a:avLst/>
          </a:prstGeom>
          <a:ln w="0">
            <a:noFill/>
          </a:ln>
        </p:spPr>
      </p:pic>
      <p:sp>
        <p:nvSpPr>
          <p:cNvPr id="574" name="TextBox 8"/>
          <p:cNvSpPr/>
          <p:nvPr/>
        </p:nvSpPr>
        <p:spPr>
          <a:xfrm>
            <a:off x="1996560" y="5218200"/>
            <a:ext cx="225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Velders et al, PNAS, 200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5" name="Chart 14" descr=""/>
          <p:cNvPicPr/>
          <p:nvPr/>
        </p:nvPicPr>
        <p:blipFill>
          <a:blip r:embed="rId2"/>
          <a:stretch/>
        </p:blipFill>
        <p:spPr>
          <a:xfrm>
            <a:off x="4462560" y="2981160"/>
            <a:ext cx="4584600" cy="3170520"/>
          </a:xfrm>
          <a:prstGeom prst="rect">
            <a:avLst/>
          </a:prstGeom>
          <a:ln w="0">
            <a:noFill/>
          </a:ln>
        </p:spPr>
      </p:pic>
      <p:sp>
        <p:nvSpPr>
          <p:cNvPr id="576" name="TextBox 15"/>
          <p:cNvSpPr/>
          <p:nvPr/>
        </p:nvSpPr>
        <p:spPr>
          <a:xfrm>
            <a:off x="8610480" y="48132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.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Right Arrow 16"/>
          <p:cNvSpPr/>
          <p:nvPr/>
        </p:nvSpPr>
        <p:spPr>
          <a:xfrm>
            <a:off x="8567640" y="4889520"/>
            <a:ext cx="152640" cy="26820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TextBox 17"/>
          <p:cNvSpPr/>
          <p:nvPr/>
        </p:nvSpPr>
        <p:spPr>
          <a:xfrm>
            <a:off x="6268680" y="2351160"/>
            <a:ext cx="27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diative Forcing Chan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rom 2010 to 2050 (RCP8.5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mplications for HF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TextBox 8"/>
          <p:cNvSpPr/>
          <p:nvPr/>
        </p:nvSpPr>
        <p:spPr>
          <a:xfrm>
            <a:off x="2376360" y="5218200"/>
            <a:ext cx="184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Velders, PNAS, 200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Rectangle 2"/>
          <p:cNvSpPr/>
          <p:nvPr/>
        </p:nvSpPr>
        <p:spPr>
          <a:xfrm>
            <a:off x="-317520" y="1600200"/>
            <a:ext cx="5168880" cy="4330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2" name="Picture 7" descr=""/>
          <p:cNvPicPr/>
          <p:nvPr/>
        </p:nvPicPr>
        <p:blipFill>
          <a:blip r:embed="rId1"/>
          <a:stretch/>
        </p:blipFill>
        <p:spPr>
          <a:xfrm>
            <a:off x="399960" y="1574640"/>
            <a:ext cx="4152960" cy="4572000"/>
          </a:xfrm>
          <a:prstGeom prst="rect">
            <a:avLst/>
          </a:prstGeom>
          <a:ln w="0">
            <a:noFill/>
          </a:ln>
        </p:spPr>
      </p:pic>
      <p:sp>
        <p:nvSpPr>
          <p:cNvPr id="583" name="TextBox 12"/>
          <p:cNvSpPr/>
          <p:nvPr/>
        </p:nvSpPr>
        <p:spPr>
          <a:xfrm>
            <a:off x="1397160" y="3092400"/>
            <a:ext cx="189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This can all be avoid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Straight Connector 18"/>
          <p:cNvSpPr/>
          <p:nvPr/>
        </p:nvSpPr>
        <p:spPr>
          <a:xfrm flipH="1" flipV="1">
            <a:off x="3086280" y="3568320"/>
            <a:ext cx="482400" cy="190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3" name="Content Placeholder 4" descr=""/>
          <p:cNvPicPr/>
          <p:nvPr/>
        </p:nvPicPr>
        <p:blipFill>
          <a:blip r:embed="rId1"/>
          <a:srcRect l="0" t="13341" r="0" b="13341"/>
          <a:stretch/>
        </p:blipFill>
        <p:spPr>
          <a:xfrm>
            <a:off x="-2549520" y="-838080"/>
            <a:ext cx="11887200" cy="7772400"/>
          </a:xfrm>
          <a:prstGeom prst="rect">
            <a:avLst/>
          </a:prstGeom>
          <a:ln w="0">
            <a:noFill/>
          </a:ln>
        </p:spPr>
      </p:pic>
      <p:sp>
        <p:nvSpPr>
          <p:cNvPr id="494" name="Title 1"/>
          <p:cNvSpPr/>
          <p:nvPr/>
        </p:nvSpPr>
        <p:spPr>
          <a:xfrm>
            <a:off x="114480" y="185760"/>
            <a:ext cx="8864280" cy="10969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alibri"/>
              </a:rPr>
              <a:t>Limitations of Single-Basket Trading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alibri"/>
              </a:rPr>
              <a:t>Lessons from the Montreal Protocol for Climate Poli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5" name="Picture 7" descr=""/>
          <p:cNvPicPr/>
          <p:nvPr/>
        </p:nvPicPr>
        <p:blipFill>
          <a:blip r:embed="rId2"/>
          <a:stretch/>
        </p:blipFill>
        <p:spPr>
          <a:xfrm>
            <a:off x="52560" y="5504040"/>
            <a:ext cx="1353960" cy="1353960"/>
          </a:xfrm>
          <a:prstGeom prst="rect">
            <a:avLst/>
          </a:prstGeom>
          <a:ln w="0">
            <a:noFill/>
          </a:ln>
        </p:spPr>
      </p:pic>
      <p:sp>
        <p:nvSpPr>
          <p:cNvPr id="496" name="TextBox 2"/>
          <p:cNvSpPr/>
          <p:nvPr/>
        </p:nvSpPr>
        <p:spPr>
          <a:xfrm>
            <a:off x="2754360" y="4245120"/>
            <a:ext cx="4244760" cy="1373760"/>
          </a:xfrm>
          <a:prstGeom prst="rect">
            <a:avLst/>
          </a:prstGeom>
          <a:solidFill>
            <a:srgbClr val="bfbfbf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alibri"/>
              </a:rPr>
              <a:t>Montreal Protocol Suc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alibri"/>
              </a:rPr>
              <a:t>A Lesson for Climate Poli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alibri"/>
              </a:rPr>
              <a:t>Implications for HFC Poli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TextBox 9"/>
          <p:cNvSpPr/>
          <p:nvPr/>
        </p:nvSpPr>
        <p:spPr>
          <a:xfrm>
            <a:off x="2333160" y="1257480"/>
            <a:ext cx="4833360" cy="11912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John S. Dani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National Oceanic and Atmospheric Adminis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Chemical Sciences Divi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Boulder, Colorado U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TextBox 10"/>
          <p:cNvSpPr/>
          <p:nvPr/>
        </p:nvSpPr>
        <p:spPr>
          <a:xfrm>
            <a:off x="1720800" y="5921280"/>
            <a:ext cx="7616880" cy="9169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mitations of Single-Basket Trading: Lessons from the Montreal Protocol for Climate Policy, Daniel, Solomon, Sanford, McFarland, Fuglestvedt, and Friedlingstein, Climatic Change, 2012 (online 2011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mplications for HF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TextBox 8"/>
          <p:cNvSpPr/>
          <p:nvPr/>
        </p:nvSpPr>
        <p:spPr>
          <a:xfrm>
            <a:off x="2376360" y="5218200"/>
            <a:ext cx="184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Velders, PNAS, 200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7" name="Group 3" descr=""/>
          <p:cNvPicPr/>
          <p:nvPr/>
        </p:nvPicPr>
        <p:blipFill>
          <a:blip r:embed="rId1"/>
          <a:stretch/>
        </p:blipFill>
        <p:spPr>
          <a:xfrm>
            <a:off x="-328680" y="1494000"/>
            <a:ext cx="9539280" cy="458280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7" descr=""/>
          <p:cNvPicPr/>
          <p:nvPr/>
        </p:nvPicPr>
        <p:blipFill>
          <a:blip r:embed="rId2"/>
          <a:stretch/>
        </p:blipFill>
        <p:spPr>
          <a:xfrm>
            <a:off x="399960" y="1574640"/>
            <a:ext cx="4152960" cy="4572000"/>
          </a:xfrm>
          <a:prstGeom prst="rect">
            <a:avLst/>
          </a:prstGeom>
          <a:ln w="0">
            <a:noFill/>
          </a:ln>
        </p:spPr>
      </p:pic>
      <p:sp>
        <p:nvSpPr>
          <p:cNvPr id="589" name="Oval 4"/>
          <p:cNvSpPr/>
          <p:nvPr/>
        </p:nvSpPr>
        <p:spPr>
          <a:xfrm>
            <a:off x="7149960" y="1828800"/>
            <a:ext cx="1994040" cy="13208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TextBox 5"/>
          <p:cNvSpPr/>
          <p:nvPr/>
        </p:nvSpPr>
        <p:spPr>
          <a:xfrm>
            <a:off x="6390000" y="4227480"/>
            <a:ext cx="251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Potent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Long-term penal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1" name="Straight Arrow Connector 10"/>
          <p:cNvCxnSpPr/>
          <p:nvPr/>
        </p:nvCxnSpPr>
        <p:spPr>
          <a:xfrm flipV="1">
            <a:off x="7709040" y="2552400"/>
            <a:ext cx="978480" cy="16754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2" name="TextBox 12"/>
          <p:cNvSpPr/>
          <p:nvPr/>
        </p:nvSpPr>
        <p:spPr>
          <a:xfrm>
            <a:off x="1397160" y="3092400"/>
            <a:ext cx="189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This can all be avoid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Straight Connector 18"/>
          <p:cNvSpPr/>
          <p:nvPr/>
        </p:nvSpPr>
        <p:spPr>
          <a:xfrm flipH="1" flipV="1">
            <a:off x="3086280" y="3568320"/>
            <a:ext cx="482400" cy="190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Up-Down Arrow 19"/>
          <p:cNvSpPr/>
          <p:nvPr/>
        </p:nvSpPr>
        <p:spPr>
          <a:xfrm>
            <a:off x="8686800" y="2286000"/>
            <a:ext cx="139680" cy="266760"/>
          </a:xfrm>
          <a:prstGeom prst="upDownArrow">
            <a:avLst>
              <a:gd name="adj1" fmla="val 50000"/>
              <a:gd name="adj2" fmla="val 5001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96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 and Ozone Deple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6" name="Picture 3" descr=""/>
          <p:cNvPicPr/>
          <p:nvPr/>
        </p:nvPicPr>
        <p:blipFill>
          <a:blip r:embed="rId1"/>
          <a:stretch/>
        </p:blipFill>
        <p:spPr>
          <a:xfrm>
            <a:off x="892080" y="2133720"/>
            <a:ext cx="7794720" cy="4251240"/>
          </a:xfrm>
          <a:prstGeom prst="rect">
            <a:avLst/>
          </a:prstGeom>
          <a:ln w="0">
            <a:noFill/>
          </a:ln>
        </p:spPr>
      </p:pic>
      <p:sp>
        <p:nvSpPr>
          <p:cNvPr id="597" name="TextBox 4"/>
          <p:cNvSpPr/>
          <p:nvPr/>
        </p:nvSpPr>
        <p:spPr>
          <a:xfrm>
            <a:off x="6633360" y="641988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vishankara et al., 200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-55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304920" y="120600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Montreal Protocol successfully implemented a multi-basket approach to deal with the international problem of stratospheric ozone depletio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alibri"/>
              </a:rPr>
              <a:t>A single-basket approach, as used in the Kyoto Protocol, can lead to some level of ambiguity in the climate impact of regul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f regulation on some group of gases (e.g., HFCs) has the inadvertent affect of delaying C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regulation, this will have multi-century climate implicatio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ontreal Protocol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ultiple Basket Approa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TextBox 2"/>
          <p:cNvSpPr/>
          <p:nvPr/>
        </p:nvSpPr>
        <p:spPr>
          <a:xfrm>
            <a:off x="266760" y="1765440"/>
            <a:ext cx="8877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oups of gases controlled separately (e.g., CFCs, HCFCs, halons, etc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ontreal Protocol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ultiple Basket Approa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TextBox 2"/>
          <p:cNvSpPr/>
          <p:nvPr/>
        </p:nvSpPr>
        <p:spPr>
          <a:xfrm>
            <a:off x="266760" y="1765440"/>
            <a:ext cx="8877240" cy="14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oups of gases controlled separately (e.g., CFCs, HCFCs, halons, etc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“trading” among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ontreal Protocol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ultiple Basket Approa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2"/>
          <p:cNvSpPr/>
          <p:nvPr/>
        </p:nvSpPr>
        <p:spPr>
          <a:xfrm>
            <a:off x="266760" y="1765440"/>
            <a:ext cx="8877240" cy="19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oups of gases controlled separately (e.g., CFCs, HCFCs, halons, etc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“trading” among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successfu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5" name="Picture 3" descr=""/>
          <p:cNvPicPr/>
          <p:nvPr/>
        </p:nvPicPr>
        <p:blipFill>
          <a:blip r:embed="rId1"/>
          <a:stretch/>
        </p:blipFill>
        <p:spPr>
          <a:xfrm>
            <a:off x="4673520" y="2387520"/>
            <a:ext cx="3932280" cy="4124520"/>
          </a:xfrm>
          <a:prstGeom prst="rect">
            <a:avLst/>
          </a:prstGeom>
          <a:ln w="0">
            <a:noFill/>
          </a:ln>
        </p:spPr>
      </p:pic>
      <p:sp>
        <p:nvSpPr>
          <p:cNvPr id="506" name="TextBox 4"/>
          <p:cNvSpPr/>
          <p:nvPr/>
        </p:nvSpPr>
        <p:spPr>
          <a:xfrm>
            <a:off x="5370480" y="2703600"/>
            <a:ext cx="199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dapted fr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Velders et al, PNAS, 2007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TextBox 6"/>
          <p:cNvSpPr/>
          <p:nvPr/>
        </p:nvSpPr>
        <p:spPr>
          <a:xfrm>
            <a:off x="8019720" y="4851360"/>
            <a:ext cx="1188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Meas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f Suc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TextBox 7"/>
          <p:cNvSpPr/>
          <p:nvPr/>
        </p:nvSpPr>
        <p:spPr>
          <a:xfrm rot="18878400">
            <a:off x="6990840" y="394308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558ed5"/>
                </a:solidFill>
                <a:latin typeface="Calibri"/>
              </a:rPr>
              <a:t>No Protoc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Up-Down Arrow 5"/>
          <p:cNvSpPr/>
          <p:nvPr/>
        </p:nvSpPr>
        <p:spPr>
          <a:xfrm>
            <a:off x="7696080" y="4546440"/>
            <a:ext cx="432000" cy="1295640"/>
          </a:xfrm>
          <a:prstGeom prst="upDownArrow">
            <a:avLst>
              <a:gd name="adj1" fmla="val 50000"/>
              <a:gd name="adj2" fmla="val 49986"/>
            </a:avLst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ontreal Protocol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ultiple Basket Approa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TextBox 2"/>
          <p:cNvSpPr/>
          <p:nvPr/>
        </p:nvSpPr>
        <p:spPr>
          <a:xfrm>
            <a:off x="266760" y="1765440"/>
            <a:ext cx="887724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oups of gases controlled separately (e.g., CFCs, HCFCs, halons, etc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“trading” among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successfu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FCs/HCFCs Illustr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2" name="Picture 3" descr=""/>
          <p:cNvPicPr/>
          <p:nvPr/>
        </p:nvPicPr>
        <p:blipFill>
          <a:blip r:embed="rId1"/>
          <a:stretch/>
        </p:blipFill>
        <p:spPr>
          <a:xfrm>
            <a:off x="4673520" y="2387520"/>
            <a:ext cx="3932280" cy="4124520"/>
          </a:xfrm>
          <a:prstGeom prst="rect">
            <a:avLst/>
          </a:prstGeom>
          <a:ln w="0">
            <a:noFill/>
          </a:ln>
        </p:spPr>
      </p:pic>
      <p:sp>
        <p:nvSpPr>
          <p:cNvPr id="513" name="TextBox 4"/>
          <p:cNvSpPr/>
          <p:nvPr/>
        </p:nvSpPr>
        <p:spPr>
          <a:xfrm>
            <a:off x="5370480" y="2703600"/>
            <a:ext cx="199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dapted fr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Velders et al, PNAS, 2007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TextBox 6"/>
          <p:cNvSpPr/>
          <p:nvPr/>
        </p:nvSpPr>
        <p:spPr>
          <a:xfrm>
            <a:off x="8019720" y="4851360"/>
            <a:ext cx="1188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Meas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f Suc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TextBox 7"/>
          <p:cNvSpPr/>
          <p:nvPr/>
        </p:nvSpPr>
        <p:spPr>
          <a:xfrm>
            <a:off x="6318000" y="413388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558ed5"/>
                </a:solidFill>
                <a:latin typeface="Calibri"/>
              </a:rPr>
              <a:t>No Protoc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Up-Down Arrow 5"/>
          <p:cNvSpPr/>
          <p:nvPr/>
        </p:nvSpPr>
        <p:spPr>
          <a:xfrm>
            <a:off x="7696080" y="4546440"/>
            <a:ext cx="432000" cy="1295640"/>
          </a:xfrm>
          <a:prstGeom prst="upDownArrow">
            <a:avLst>
              <a:gd name="adj1" fmla="val 50000"/>
              <a:gd name="adj2" fmla="val 49986"/>
            </a:avLst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7936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FC/HCFC Contribution to 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Deple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8" name="Picture 5" descr="idl.ps"/>
          <p:cNvPicPr/>
          <p:nvPr/>
        </p:nvPicPr>
        <p:blipFill>
          <a:blip r:embed="rId1"/>
          <a:stretch/>
        </p:blipFill>
        <p:spPr>
          <a:xfrm>
            <a:off x="1041480" y="1176480"/>
            <a:ext cx="7315200" cy="5421240"/>
          </a:xfrm>
          <a:prstGeom prst="rect">
            <a:avLst/>
          </a:prstGeom>
          <a:ln w="0">
            <a:noFill/>
          </a:ln>
        </p:spPr>
      </p:pic>
      <p:sp>
        <p:nvSpPr>
          <p:cNvPr id="519" name="Left-Right Arrow 2"/>
          <p:cNvSpPr/>
          <p:nvPr/>
        </p:nvSpPr>
        <p:spPr>
          <a:xfrm>
            <a:off x="4051440" y="2502000"/>
            <a:ext cx="3632040" cy="635040"/>
          </a:xfrm>
          <a:prstGeom prst="leftRightArrow">
            <a:avLst>
              <a:gd name="adj1" fmla="val 50000"/>
              <a:gd name="adj2" fmla="val 49992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roje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Left-Right Arrow 4"/>
          <p:cNvSpPr/>
          <p:nvPr/>
        </p:nvSpPr>
        <p:spPr>
          <a:xfrm>
            <a:off x="2133720" y="2502000"/>
            <a:ext cx="1917720" cy="635040"/>
          </a:xfrm>
          <a:prstGeom prst="leftRightArrow">
            <a:avLst>
              <a:gd name="adj1" fmla="val 50000"/>
              <a:gd name="adj2" fmla="val 49995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bs - ba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act of a Trade to HCF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2" name="Picture 3" descr="idl.ps"/>
          <p:cNvPicPr/>
          <p:nvPr/>
        </p:nvPicPr>
        <p:blipFill>
          <a:blip r:embed="rId1"/>
          <a:stretch/>
        </p:blipFill>
        <p:spPr>
          <a:xfrm>
            <a:off x="1041480" y="1182600"/>
            <a:ext cx="73152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ingle-Basket Range of 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Deple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4" name="Picture 3" descr="idl.ps"/>
          <p:cNvPicPr/>
          <p:nvPr/>
        </p:nvPicPr>
        <p:blipFill>
          <a:blip r:embed="rId1"/>
          <a:stretch/>
        </p:blipFill>
        <p:spPr>
          <a:xfrm>
            <a:off x="1041480" y="1182600"/>
            <a:ext cx="73152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0T12:54:02Z</dcterms:created>
  <dc:creator>John Daniel</dc:creator>
  <dc:description/>
  <dc:language>en-US</dc:language>
  <cp:lastModifiedBy>John Daniel</cp:lastModifiedBy>
  <dcterms:modified xsi:type="dcterms:W3CDTF">2012-03-29T21:11:55Z</dcterms:modified>
  <cp:revision>119</cp:revision>
  <dc:subject/>
  <dc:title>Limitations of Single-Basekt Trading: Lessons from the Montreal Protocol for Climate Policy </dc:title>
</cp:coreProperties>
</file>