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5.png" ContentType="image/png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13A44-1F6D-4DC4-8CCC-DECBE3892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s of the particular control strategy to its su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B09DD-C8FE-452D-A9D6-861142057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5BF063-943D-4BA9-A4DF-79A3432C7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s begin in about 20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6B51C4-18BA-486C-98E9-19AA65687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GWP-weighted emission level is prescribed for every year, depending on how trading occurs,  the range of T increases by 2400 will be 2-4C, with the range continuing to exp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88530-F8A1-4F5B-916F-EC078BDD9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s of the particular control strategy to its su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ED122-9DFC-40BD-AB3B-100D7F223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haps mention advantage of HFC phaseout in terms of avoiding future forcing – and in a multi-basket approach, you know what you will 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point out issu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05A4F-8E33-4721-872F-2835E14C3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ous groups diff phaseout sched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s of Gases within a group could be traded with reductions of other gases in the sam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5A29D-5FC7-4220-8B9E-511AF2159D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4B0911-B88D-4ACA-B272-066D4997B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ll use CFCs and HCFCs to explore the hypothetical impacts of a different control strategy – one where CFC and HCFC production could be tra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A2616-DE5C-4A2A-A6A4-DEE28FE09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this with equiv eff strat chlorine or EESC, which is a metric that relates to the amount of chlorine and bromine available to destroy strat o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, when MP controls went into force, the ODP-weighted emission were kept identical to those used to generate this curve, but all emissions were traded to HCFC emissions, with no CFC emissio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ACF0F-BA69-4A29-9402-FD71BDE412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relate ss ODPs to time-dependent OD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B48B5D-FFF5-4882-BB4B-C09810F37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k uncertain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 phaseout leads to not much spread in future possibi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B1E1D-2588-4961-96BA-590EB2BA3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2C58D-6E89-4ACE-A484-7BD1EB49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41D69-06E1-4019-9030-9006DE3D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F8767-C1F0-4881-83A6-5AB2B685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901F1-3414-4CAF-AD75-F8A70DAF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3F094-2D80-4104-B850-AB58BAF3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E6E57-0B3B-4135-A3DE-7EF42DBB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0EB67-5142-47C3-902D-B7B96618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DE0D5-F1E1-45A6-AD88-8E98D1AB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E3169-D5F7-4576-9BB1-1575F9E5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CDF85-9FF7-43C7-90C7-26AFD8E3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584FA-3AE5-48B7-9056-279CA6EB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22891-5D11-475F-85FC-1169F0A8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15B82-D441-44F0-B96D-766F211E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94A44-FBBC-4F86-882D-773D3C2A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8DEAF-F48F-4296-BC3C-8CA68E3B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BCACA-FD20-44A2-8C57-B9A96DF1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66088-2A7F-479E-BC6E-E48A5F4E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28478-A604-433F-A652-DA49FBA3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C2BFC-5CBA-49F9-9834-F94AA69C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29EDA-1DCD-456E-A5AB-3FF491AA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47859-2EE0-4D8D-BE50-B589E763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550AB-33A9-426B-9CD9-8349A949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01FA6-A6A9-4E04-AC9B-EA383D57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1A295-F53C-47CC-BA45-C448EEDB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D7856-E627-4366-A54A-F24A87DF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B4204-9E0E-46B4-89FD-42263054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AC77C-9CE8-42D5-A9F1-59A2CBD6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6B385-4695-45AA-8898-41214B9F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FE60F-94D4-4F2E-934D-F98814F4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2BDB7-CC1F-4860-B44F-2B44A1A4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06F4-7BBA-4DC4-B536-63119C89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7697D-3680-4901-B67A-300E42EF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33E8C-3DAA-491F-8695-9CFFF076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53064-D320-4B57-8C27-C6A0DB52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8C1A4-7EA3-4893-B85E-3C4F2084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AEFD4-020F-4807-9AB5-1C1EC9C1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B1F76-FE7F-4958-A457-0271C3C5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E2712-B703-4955-B20A-25FFEB7D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EA117-83E0-4A1F-ACF9-93190A38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BB96B-B64C-4BC6-9D90-26A8F308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3A246-AA26-4A60-9113-576221A1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76AA-750D-49F5-B9CC-D3D135F3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412C2-732F-4999-B2D4-9A4E0D34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CB516-B9CB-41EF-ACBF-6EBF07D2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65554-DCAA-43E3-8295-8E95F47E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CF23C-BC29-4A4B-B66C-956A13B4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D3CB7-2DBD-431C-9A20-1B9AB7AA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3DB-852D-4B50-BB81-822B5961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D20-0EE4-4777-8C4D-A68F7D52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F692-A346-43CA-B18A-AB8294D4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2114-B9B7-405F-815C-2FF099AE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9DDF-7D50-423F-BB43-FE25C5E6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384E-3C10-45CE-B178-4D709804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1A09-0B3B-43D7-8B81-3FCB534F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E7DF-3ECB-47F7-B34E-559DE83C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9E42-6FEB-4561-AAFD-8ECCCE3B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26CB-285E-431F-BD57-09BDDF09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B280-9643-4CF8-A59C-8AF06D78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AF44-C716-4DA0-B80E-8ED5D8AF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BF29-D078-471D-AF83-A764C308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36B7-D273-4070-B353-07C6E431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256A-1044-4302-AF5B-4BEF1B59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FBF8-A576-4F2C-9A0D-2797448A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E81A-F10A-4805-AA0C-45A92072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B8D1-188C-4308-84D7-8D59E48E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D84E-E7B9-43E8-A948-2C1664D2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A0FD-D0D4-4AA4-BCB0-0CED6418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A982-7A89-435D-BA2D-693571A9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A26D-CC00-42C8-944E-25EFAD2E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AF958-09E0-4E9D-9FFC-3BD7FE08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672B0-ED22-4F7B-8FB9-0F7D45CA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F64F1-9190-47A6-BF09-5542D805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954E4-9D77-417C-8A53-561C5A43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1B2A5-215B-47BB-A35B-7C00650C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89B8A-4EBB-41FC-94D1-C35C8F73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78108-FED0-4974-BEE6-0A682628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0D31D-8172-4CA0-B4F2-FD932026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C018A-DF30-478E-A74F-0253CC16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A59E5-6161-400F-BF4F-0F7D0674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9259F-DB08-463A-8ACE-794EFA36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2A930-A85B-47F3-9B6B-9DCA74CF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1D5C0-A3F3-4FD4-AB47-5B822183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AD8C3-D55D-42E1-9628-99ADF8A9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0BF2E-3E04-42EA-ABA6-A1053D08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0B79A-245C-4D4B-8A10-F54727DC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B89DB-0E0F-45B0-8DE7-D3554C2C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C5635-22E8-4FA9-94CE-AB6BE2AC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47CAA-9325-425D-A33A-CA819261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14B50-AD43-46D0-8501-910EA9E0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0ED58-B66D-4CCF-8A15-D3C12CDD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BA52D-6474-47C6-8C8C-54CD9771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16721-2CE4-4751-9AB4-C36058F5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05E53-6231-42D2-BA73-01A63353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ACB5D-C64A-413D-A1CC-37F3DF29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F4F98-606B-4A61-8936-2BDE55AE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F9BBE-C680-4DFF-AEC3-7C827884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FEF63-548A-4A47-A54F-C80FD79D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12D7E-7C86-458C-A1FF-E97FAD02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F77D3-73D3-4D54-A950-1FF16A04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7E05E-9020-48D6-8B10-D2081BAB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1C104-559A-4BBE-89C8-423C237C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671C0-FF43-446A-8E0A-593C253E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792A2-CF0C-43FF-B782-85C5AED5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135B4-50C8-4885-BCD6-D8C89E16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C7D24-254B-45A5-A0F0-144EFF70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854A3-043A-41DB-9191-164D8A80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2546C-A31E-4C01-BC7A-7663E79B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CB4C6-1CCC-4EBF-B0D9-04F8646E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F032E-AB27-4B07-9DF5-2AE70911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84CE8-DFD2-4134-93B3-A60650AD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6B031-6788-4B4C-AF6C-3B9116A9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6DE46-18F7-4BB7-BD81-47EA6AB1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317E5-B916-4DAC-97AA-A3B2082A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B34DF-619E-4B1A-B347-8CFE1932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E1D5A-F70F-438E-8609-2E153FA7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3C631-8B28-4EE6-BC07-A63A1904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BA13A-4D4A-455C-8AF0-7D94044C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FC472-E0EA-413E-82DA-48A9EEDE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1BBA1-75C0-4134-8F23-010DF051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E832D-5172-4EBB-9FD4-9846AE30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39359-7F4F-4B3E-8F07-92C855E0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0D82E-DE86-4644-99EF-7AD0FCAA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558CD-12CC-4721-ACBF-7D3AB277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A2E8A-FEBF-42F3-A27E-73843A85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AA8C0-A1D5-4427-B4F6-4DC79D01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BD10D-3E85-4507-B16A-6E682AA4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7ACA1-B98D-44B2-BE69-4378E518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818A0-B837-41A5-9F41-0461F7EB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C68FE-B47D-4F11-AA14-C6B3EAD7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61347-B688-4E87-8848-28B29436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48AB9-4C06-4997-87A6-276F2445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E719C-9FBA-4BF4-8B77-ED53B4A6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01630-4E6B-4F88-BFB0-DF62B7F3EE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3DD82-03A8-4017-B390-C9142A0709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BCA28-93DE-46FE-8E34-C36C0DAF77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61F68-91CC-4DAA-927F-F699B5DE1E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99A1F-8FEF-431C-A6DA-7BDF7D1E23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DBDA7A-4468-4CA8-A070-2337699172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05D06-AB57-4BD9-B13D-891E44065A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D978D-FA26-4DD4-AFE4-A730F8F183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AB7E3-76DD-40F6-8A9E-0702C589E5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AC26D-8A34-48A1-99BB-ECDD5F1EF1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3FBA0-F3AE-44EE-A4A2-017F1B144C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Content Placeholder 4" descr=""/>
          <p:cNvPicPr/>
          <p:nvPr/>
        </p:nvPicPr>
        <p:blipFill>
          <a:blip r:embed="rId1"/>
          <a:srcRect l="0" t="13341" r="0" b="13341"/>
          <a:stretch/>
        </p:blipFill>
        <p:spPr>
          <a:xfrm>
            <a:off x="-2549520" y="-838080"/>
            <a:ext cx="11887200" cy="7772400"/>
          </a:xfrm>
          <a:prstGeom prst="rect">
            <a:avLst/>
          </a:prstGeom>
          <a:ln w="0">
            <a:noFill/>
          </a:ln>
        </p:spPr>
      </p:pic>
      <p:sp>
        <p:nvSpPr>
          <p:cNvPr id="488" name="Title 1"/>
          <p:cNvSpPr/>
          <p:nvPr/>
        </p:nvSpPr>
        <p:spPr>
          <a:xfrm>
            <a:off x="114480" y="185760"/>
            <a:ext cx="8864280" cy="1096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Limitations of Single-Basket Tra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Lessons from the Montreal Protocol for Climate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7" descr=""/>
          <p:cNvPicPr/>
          <p:nvPr/>
        </p:nvPicPr>
        <p:blipFill>
          <a:blip r:embed="rId2"/>
          <a:stretch/>
        </p:blipFill>
        <p:spPr>
          <a:xfrm>
            <a:off x="52560" y="5504040"/>
            <a:ext cx="1353960" cy="1353960"/>
          </a:xfrm>
          <a:prstGeom prst="rect">
            <a:avLst/>
          </a:prstGeom>
          <a:ln w="0">
            <a:noFill/>
          </a:ln>
        </p:spPr>
      </p:pic>
      <p:sp>
        <p:nvSpPr>
          <p:cNvPr id="490" name="TextBox 9"/>
          <p:cNvSpPr/>
          <p:nvPr/>
        </p:nvSpPr>
        <p:spPr>
          <a:xfrm>
            <a:off x="2333160" y="1257480"/>
            <a:ext cx="4833360" cy="11912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John S. Dani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National Oceanic and Atmospheric Adminis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Chemical Sciences Div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Boulder, Colorado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10"/>
          <p:cNvSpPr/>
          <p:nvPr/>
        </p:nvSpPr>
        <p:spPr>
          <a:xfrm>
            <a:off x="1720800" y="5921280"/>
            <a:ext cx="7616880" cy="916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mitations of Single-Basket Trading: Lessons from the Montreal Protocol for Climate Policy, Daniel, Solomon, Sanford, McFarland, Fuglestvedt, and Friedlingstein, Climatic Change, 2012 (online 2011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19" descr=""/>
          <p:cNvPicPr/>
          <p:nvPr/>
        </p:nvPicPr>
        <p:blipFill>
          <a:blip r:embed="rId1"/>
          <a:stretch/>
        </p:blipFill>
        <p:spPr>
          <a:xfrm>
            <a:off x="-3201840" y="-1668600"/>
            <a:ext cx="10972800" cy="109728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-3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yoto Protoco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ing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7" name="Group 20"/>
          <p:cNvGrpSpPr/>
          <p:nvPr/>
        </p:nvGrpSpPr>
        <p:grpSpPr>
          <a:xfrm>
            <a:off x="564480" y="1417680"/>
            <a:ext cx="3390120" cy="2572560"/>
            <a:chOff x="564480" y="1417680"/>
            <a:chExt cx="3390120" cy="2572560"/>
          </a:xfrm>
        </p:grpSpPr>
        <p:sp>
          <p:nvSpPr>
            <p:cNvPr id="528" name="TextBox 4"/>
            <p:cNvSpPr/>
            <p:nvPr/>
          </p:nvSpPr>
          <p:spPr>
            <a:xfrm rot="16380000">
              <a:off x="2411280" y="29041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P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TextBox 5"/>
            <p:cNvSpPr/>
            <p:nvPr/>
          </p:nvSpPr>
          <p:spPr>
            <a:xfrm>
              <a:off x="564480" y="3143520"/>
              <a:ext cx="63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O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TextBox 6"/>
            <p:cNvSpPr/>
            <p:nvPr/>
          </p:nvSpPr>
          <p:spPr>
            <a:xfrm>
              <a:off x="970560" y="1762920"/>
              <a:ext cx="62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H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TextBox 7"/>
            <p:cNvSpPr/>
            <p:nvPr/>
          </p:nvSpPr>
          <p:spPr>
            <a:xfrm>
              <a:off x="1569600" y="3480120"/>
              <a:ext cx="67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N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TextBox 8"/>
            <p:cNvSpPr/>
            <p:nvPr/>
          </p:nvSpPr>
          <p:spPr>
            <a:xfrm rot="16800000">
              <a:off x="3260520" y="3213720"/>
              <a:ext cx="79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H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TextBox 9"/>
            <p:cNvSpPr/>
            <p:nvPr/>
          </p:nvSpPr>
          <p:spPr>
            <a:xfrm>
              <a:off x="1694520" y="1417680"/>
              <a:ext cx="55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SF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9" descr=""/>
          <p:cNvPicPr/>
          <p:nvPr/>
        </p:nvPicPr>
        <p:blipFill>
          <a:blip r:embed="rId1"/>
          <a:stretch/>
        </p:blipFill>
        <p:spPr>
          <a:xfrm>
            <a:off x="-3201840" y="-1668600"/>
            <a:ext cx="10972800" cy="1097280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46280" y="-3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yoto Protoco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ing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6" name="Group 20"/>
          <p:cNvGrpSpPr/>
          <p:nvPr/>
        </p:nvGrpSpPr>
        <p:grpSpPr>
          <a:xfrm>
            <a:off x="564480" y="1417680"/>
            <a:ext cx="3390120" cy="2572560"/>
            <a:chOff x="564480" y="1417680"/>
            <a:chExt cx="3390120" cy="2572560"/>
          </a:xfrm>
        </p:grpSpPr>
        <p:sp>
          <p:nvSpPr>
            <p:cNvPr id="537" name="TextBox 4"/>
            <p:cNvSpPr/>
            <p:nvPr/>
          </p:nvSpPr>
          <p:spPr>
            <a:xfrm rot="16380000">
              <a:off x="2411280" y="29041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P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TextBox 5"/>
            <p:cNvSpPr/>
            <p:nvPr/>
          </p:nvSpPr>
          <p:spPr>
            <a:xfrm>
              <a:off x="564480" y="3143520"/>
              <a:ext cx="63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O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TextBox 6"/>
            <p:cNvSpPr/>
            <p:nvPr/>
          </p:nvSpPr>
          <p:spPr>
            <a:xfrm>
              <a:off x="970560" y="1762920"/>
              <a:ext cx="62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H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TextBox 7"/>
            <p:cNvSpPr/>
            <p:nvPr/>
          </p:nvSpPr>
          <p:spPr>
            <a:xfrm>
              <a:off x="1569600" y="3480120"/>
              <a:ext cx="67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N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TextBox 8"/>
            <p:cNvSpPr/>
            <p:nvPr/>
          </p:nvSpPr>
          <p:spPr>
            <a:xfrm rot="16800000">
              <a:off x="3260520" y="3213720"/>
              <a:ext cx="79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H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TextBox 9"/>
            <p:cNvSpPr/>
            <p:nvPr/>
          </p:nvSpPr>
          <p:spPr>
            <a:xfrm>
              <a:off x="1694520" y="1417680"/>
              <a:ext cx="55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SF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3" name="Chart 25" descr=""/>
          <p:cNvPicPr/>
          <p:nvPr/>
        </p:nvPicPr>
        <p:blipFill>
          <a:blip r:embed="rId2"/>
          <a:stretch/>
        </p:blipFill>
        <p:spPr>
          <a:xfrm>
            <a:off x="4267080" y="2567160"/>
            <a:ext cx="4559400" cy="3327120"/>
          </a:xfrm>
          <a:prstGeom prst="rect">
            <a:avLst/>
          </a:prstGeom>
          <a:ln w="0">
            <a:noFill/>
          </a:ln>
        </p:spPr>
      </p:pic>
      <p:sp>
        <p:nvSpPr>
          <p:cNvPr id="544" name="TextBox 27"/>
          <p:cNvSpPr/>
          <p:nvPr/>
        </p:nvSpPr>
        <p:spPr>
          <a:xfrm>
            <a:off x="6070320" y="236844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 Radiative Forc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9" descr=""/>
          <p:cNvPicPr/>
          <p:nvPr/>
        </p:nvPicPr>
        <p:blipFill>
          <a:blip r:embed="rId1"/>
          <a:stretch/>
        </p:blipFill>
        <p:spPr>
          <a:xfrm>
            <a:off x="-3201840" y="-1668600"/>
            <a:ext cx="10972800" cy="109728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46280" y="-3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yoto Protoco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ing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7" name="Group 20"/>
          <p:cNvGrpSpPr/>
          <p:nvPr/>
        </p:nvGrpSpPr>
        <p:grpSpPr>
          <a:xfrm>
            <a:off x="564480" y="1417680"/>
            <a:ext cx="3390120" cy="2572560"/>
            <a:chOff x="564480" y="1417680"/>
            <a:chExt cx="3390120" cy="2572560"/>
          </a:xfrm>
        </p:grpSpPr>
        <p:sp>
          <p:nvSpPr>
            <p:cNvPr id="548" name="TextBox 4"/>
            <p:cNvSpPr/>
            <p:nvPr/>
          </p:nvSpPr>
          <p:spPr>
            <a:xfrm rot="16380000">
              <a:off x="2411280" y="29041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P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TextBox 5"/>
            <p:cNvSpPr/>
            <p:nvPr/>
          </p:nvSpPr>
          <p:spPr>
            <a:xfrm>
              <a:off x="564480" y="3143520"/>
              <a:ext cx="63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O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TextBox 6"/>
            <p:cNvSpPr/>
            <p:nvPr/>
          </p:nvSpPr>
          <p:spPr>
            <a:xfrm>
              <a:off x="970560" y="1762920"/>
              <a:ext cx="62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H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TextBox 7"/>
            <p:cNvSpPr/>
            <p:nvPr/>
          </p:nvSpPr>
          <p:spPr>
            <a:xfrm>
              <a:off x="1569600" y="3480120"/>
              <a:ext cx="67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N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TextBox 8"/>
            <p:cNvSpPr/>
            <p:nvPr/>
          </p:nvSpPr>
          <p:spPr>
            <a:xfrm rot="16800000">
              <a:off x="3260520" y="3213720"/>
              <a:ext cx="79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H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TextBox 9"/>
            <p:cNvSpPr/>
            <p:nvPr/>
          </p:nvSpPr>
          <p:spPr>
            <a:xfrm>
              <a:off x="1694520" y="1417680"/>
              <a:ext cx="55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SF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4" name="Chart 25" descr=""/>
          <p:cNvPicPr/>
          <p:nvPr/>
        </p:nvPicPr>
        <p:blipFill>
          <a:blip r:embed="rId2"/>
          <a:stretch/>
        </p:blipFill>
        <p:spPr>
          <a:xfrm>
            <a:off x="4267080" y="2567160"/>
            <a:ext cx="4559400" cy="3327120"/>
          </a:xfrm>
          <a:prstGeom prst="rect">
            <a:avLst/>
          </a:prstGeom>
          <a:ln w="0">
            <a:noFill/>
          </a:ln>
        </p:spPr>
      </p:pic>
      <p:sp>
        <p:nvSpPr>
          <p:cNvPr id="555" name="Oval 26"/>
          <p:cNvSpPr/>
          <p:nvPr/>
        </p:nvSpPr>
        <p:spPr>
          <a:xfrm>
            <a:off x="4470480" y="4280040"/>
            <a:ext cx="4673520" cy="723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27"/>
          <p:cNvSpPr/>
          <p:nvPr/>
        </p:nvSpPr>
        <p:spPr>
          <a:xfrm>
            <a:off x="6070320" y="236844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 Radiative Forc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/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Impact on Climat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(RCP4.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5" descr="idl.ps"/>
          <p:cNvPicPr/>
          <p:nvPr/>
        </p:nvPicPr>
        <p:blipFill>
          <a:blip r:embed="rId1"/>
          <a:stretch/>
        </p:blipFill>
        <p:spPr>
          <a:xfrm>
            <a:off x="38160" y="162576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mpact of a Trade to All 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Emis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4" descr="idl.ps"/>
          <p:cNvPicPr/>
          <p:nvPr/>
        </p:nvPicPr>
        <p:blipFill>
          <a:blip r:embed="rId1"/>
          <a:stretch/>
        </p:blipFill>
        <p:spPr>
          <a:xfrm>
            <a:off x="38160" y="162576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561" name="TextBox 2"/>
          <p:cNvSpPr/>
          <p:nvPr/>
        </p:nvSpPr>
        <p:spPr>
          <a:xfrm>
            <a:off x="7592760" y="4013280"/>
            <a:ext cx="81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l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2" name="Straight Arrow Connector 5"/>
          <p:cNvCxnSpPr/>
          <p:nvPr/>
        </p:nvCxnSpPr>
        <p:spPr>
          <a:xfrm flipV="1">
            <a:off x="7911720" y="3619080"/>
            <a:ext cx="13320" cy="419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4" descr="idl.ps"/>
          <p:cNvPicPr/>
          <p:nvPr/>
        </p:nvPicPr>
        <p:blipFill>
          <a:blip r:embed="rId1"/>
          <a:stretch/>
        </p:blipFill>
        <p:spPr>
          <a:xfrm>
            <a:off x="38160" y="162576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564" name="Title 1"/>
          <p:cNvSpPr/>
          <p:nvPr/>
        </p:nvSpPr>
        <p:spPr>
          <a:xfrm>
            <a:off x="469800" y="6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mpact of a Trade to All 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Emis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5"/>
          <p:cNvSpPr/>
          <p:nvPr/>
        </p:nvSpPr>
        <p:spPr>
          <a:xfrm>
            <a:off x="6807240" y="2082960"/>
            <a:ext cx="825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ll 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6" name="Straight Arrow Connector 6"/>
          <p:cNvCxnSpPr/>
          <p:nvPr/>
        </p:nvCxnSpPr>
        <p:spPr>
          <a:xfrm>
            <a:off x="7574040" y="2355840"/>
            <a:ext cx="326160" cy="1864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mbiguity of Single Bas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3" descr="idl.ps"/>
          <p:cNvPicPr/>
          <p:nvPr/>
        </p:nvPicPr>
        <p:blipFill>
          <a:blip r:embed="rId1"/>
          <a:stretch/>
        </p:blipFill>
        <p:spPr>
          <a:xfrm>
            <a:off x="38160" y="162576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lications for H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Picture 7" descr=""/>
          <p:cNvPicPr/>
          <p:nvPr/>
        </p:nvPicPr>
        <p:blipFill>
          <a:blip r:embed="rId1"/>
          <a:stretch/>
        </p:blipFill>
        <p:spPr>
          <a:xfrm>
            <a:off x="399960" y="1574640"/>
            <a:ext cx="4152960" cy="4572000"/>
          </a:xfrm>
          <a:prstGeom prst="rect">
            <a:avLst/>
          </a:prstGeom>
          <a:ln w="0">
            <a:noFill/>
          </a:ln>
        </p:spPr>
      </p:pic>
      <p:sp>
        <p:nvSpPr>
          <p:cNvPr id="571" name="TextBox 8"/>
          <p:cNvSpPr/>
          <p:nvPr/>
        </p:nvSpPr>
        <p:spPr>
          <a:xfrm>
            <a:off x="1996560" y="5218200"/>
            <a:ext cx="225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lders et al, PNAS,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lications for H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7" descr=""/>
          <p:cNvPicPr/>
          <p:nvPr/>
        </p:nvPicPr>
        <p:blipFill>
          <a:blip r:embed="rId1"/>
          <a:stretch/>
        </p:blipFill>
        <p:spPr>
          <a:xfrm>
            <a:off x="399960" y="1574640"/>
            <a:ext cx="4152960" cy="4572000"/>
          </a:xfrm>
          <a:prstGeom prst="rect">
            <a:avLst/>
          </a:prstGeom>
          <a:ln w="0">
            <a:noFill/>
          </a:ln>
        </p:spPr>
      </p:pic>
      <p:sp>
        <p:nvSpPr>
          <p:cNvPr id="574" name="TextBox 8"/>
          <p:cNvSpPr/>
          <p:nvPr/>
        </p:nvSpPr>
        <p:spPr>
          <a:xfrm>
            <a:off x="1996560" y="5218200"/>
            <a:ext cx="225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lders et al, PNAS,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Chart 14" descr=""/>
          <p:cNvPicPr/>
          <p:nvPr/>
        </p:nvPicPr>
        <p:blipFill>
          <a:blip r:embed="rId2"/>
          <a:stretch/>
        </p:blipFill>
        <p:spPr>
          <a:xfrm>
            <a:off x="4462560" y="2981160"/>
            <a:ext cx="4584600" cy="3170520"/>
          </a:xfrm>
          <a:prstGeom prst="rect">
            <a:avLst/>
          </a:prstGeom>
          <a:ln w="0">
            <a:noFill/>
          </a:ln>
        </p:spPr>
      </p:pic>
      <p:sp>
        <p:nvSpPr>
          <p:cNvPr id="576" name="TextBox 15"/>
          <p:cNvSpPr/>
          <p:nvPr/>
        </p:nvSpPr>
        <p:spPr>
          <a:xfrm>
            <a:off x="8610480" y="4813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ight Arrow 16"/>
          <p:cNvSpPr/>
          <p:nvPr/>
        </p:nvSpPr>
        <p:spPr>
          <a:xfrm>
            <a:off x="8567640" y="4889520"/>
            <a:ext cx="152640" cy="2682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17"/>
          <p:cNvSpPr/>
          <p:nvPr/>
        </p:nvSpPr>
        <p:spPr>
          <a:xfrm>
            <a:off x="6268680" y="2351160"/>
            <a:ext cx="27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ative Forcing 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2010 to 2050 (RCP8.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lications for H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8"/>
          <p:cNvSpPr/>
          <p:nvPr/>
        </p:nvSpPr>
        <p:spPr>
          <a:xfrm>
            <a:off x="2376360" y="52182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lders, PNAS,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2"/>
          <p:cNvSpPr/>
          <p:nvPr/>
        </p:nvSpPr>
        <p:spPr>
          <a:xfrm>
            <a:off x="-317520" y="1600200"/>
            <a:ext cx="516888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7" descr=""/>
          <p:cNvPicPr/>
          <p:nvPr/>
        </p:nvPicPr>
        <p:blipFill>
          <a:blip r:embed="rId1"/>
          <a:stretch/>
        </p:blipFill>
        <p:spPr>
          <a:xfrm>
            <a:off x="399960" y="1574640"/>
            <a:ext cx="4152960" cy="4572000"/>
          </a:xfrm>
          <a:prstGeom prst="rect">
            <a:avLst/>
          </a:prstGeom>
          <a:ln w="0">
            <a:noFill/>
          </a:ln>
        </p:spPr>
      </p:pic>
      <p:sp>
        <p:nvSpPr>
          <p:cNvPr id="583" name="TextBox 12"/>
          <p:cNvSpPr/>
          <p:nvPr/>
        </p:nvSpPr>
        <p:spPr>
          <a:xfrm>
            <a:off x="1397160" y="309240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is can all be avoi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traight Connector 18"/>
          <p:cNvSpPr/>
          <p:nvPr/>
        </p:nvSpPr>
        <p:spPr>
          <a:xfrm flipH="1" flipV="1">
            <a:off x="3086280" y="3568320"/>
            <a:ext cx="482400" cy="19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Content Placeholder 4" descr=""/>
          <p:cNvPicPr/>
          <p:nvPr/>
        </p:nvPicPr>
        <p:blipFill>
          <a:blip r:embed="rId1"/>
          <a:srcRect l="0" t="13341" r="0" b="13341"/>
          <a:stretch/>
        </p:blipFill>
        <p:spPr>
          <a:xfrm>
            <a:off x="-2549520" y="-838080"/>
            <a:ext cx="11887200" cy="7772400"/>
          </a:xfrm>
          <a:prstGeom prst="rect">
            <a:avLst/>
          </a:prstGeom>
          <a:ln w="0">
            <a:noFill/>
          </a:ln>
        </p:spPr>
      </p:pic>
      <p:sp>
        <p:nvSpPr>
          <p:cNvPr id="494" name="Title 1"/>
          <p:cNvSpPr/>
          <p:nvPr/>
        </p:nvSpPr>
        <p:spPr>
          <a:xfrm>
            <a:off x="114480" y="185760"/>
            <a:ext cx="8864280" cy="1096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Limitations of Single-Basket Tra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Lessons from the Montreal Protocol for Climate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Picture 7" descr=""/>
          <p:cNvPicPr/>
          <p:nvPr/>
        </p:nvPicPr>
        <p:blipFill>
          <a:blip r:embed="rId2"/>
          <a:stretch/>
        </p:blipFill>
        <p:spPr>
          <a:xfrm>
            <a:off x="52560" y="5504040"/>
            <a:ext cx="1353960" cy="1353960"/>
          </a:xfrm>
          <a:prstGeom prst="rect">
            <a:avLst/>
          </a:prstGeom>
          <a:ln w="0">
            <a:noFill/>
          </a:ln>
        </p:spPr>
      </p:pic>
      <p:sp>
        <p:nvSpPr>
          <p:cNvPr id="496" name="TextBox 2"/>
          <p:cNvSpPr/>
          <p:nvPr/>
        </p:nvSpPr>
        <p:spPr>
          <a:xfrm>
            <a:off x="2754360" y="4245120"/>
            <a:ext cx="4244760" cy="1373760"/>
          </a:xfrm>
          <a:prstGeom prst="rect">
            <a:avLst/>
          </a:prstGeom>
          <a:solidFill>
            <a:srgbClr val="bfbfb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alibri"/>
              </a:rPr>
              <a:t>Montreal Protocol Su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alibri"/>
              </a:rPr>
              <a:t>A Lesson for Climate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alibri"/>
              </a:rPr>
              <a:t>Implications for HFC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9"/>
          <p:cNvSpPr/>
          <p:nvPr/>
        </p:nvSpPr>
        <p:spPr>
          <a:xfrm>
            <a:off x="2333160" y="1257480"/>
            <a:ext cx="4833360" cy="11912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John S. Dani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National Oceanic and Atmospheric Adminis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Chemical Sciences Div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Boulder, Colorado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10"/>
          <p:cNvSpPr/>
          <p:nvPr/>
        </p:nvSpPr>
        <p:spPr>
          <a:xfrm>
            <a:off x="1720800" y="5921280"/>
            <a:ext cx="7616880" cy="916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mitations of Single-Basket Trading: Lessons from the Montreal Protocol for Climate Policy, Daniel, Solomon, Sanford, McFarland, Fuglestvedt, and Friedlingstein, Climatic Change, 2012 (online 2011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lications for H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8"/>
          <p:cNvSpPr/>
          <p:nvPr/>
        </p:nvSpPr>
        <p:spPr>
          <a:xfrm>
            <a:off x="2376360" y="52182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lders, PNAS,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Group 3" descr=""/>
          <p:cNvPicPr/>
          <p:nvPr/>
        </p:nvPicPr>
        <p:blipFill>
          <a:blip r:embed="rId1"/>
          <a:stretch/>
        </p:blipFill>
        <p:spPr>
          <a:xfrm>
            <a:off x="-328680" y="1494000"/>
            <a:ext cx="9539280" cy="45828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7" descr=""/>
          <p:cNvPicPr/>
          <p:nvPr/>
        </p:nvPicPr>
        <p:blipFill>
          <a:blip r:embed="rId2"/>
          <a:stretch/>
        </p:blipFill>
        <p:spPr>
          <a:xfrm>
            <a:off x="399960" y="1574640"/>
            <a:ext cx="4152960" cy="4572000"/>
          </a:xfrm>
          <a:prstGeom prst="rect">
            <a:avLst/>
          </a:prstGeom>
          <a:ln w="0">
            <a:noFill/>
          </a:ln>
        </p:spPr>
      </p:pic>
      <p:sp>
        <p:nvSpPr>
          <p:cNvPr id="589" name="Oval 4"/>
          <p:cNvSpPr/>
          <p:nvPr/>
        </p:nvSpPr>
        <p:spPr>
          <a:xfrm>
            <a:off x="7149960" y="1828800"/>
            <a:ext cx="1994040" cy="1320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5"/>
          <p:cNvSpPr/>
          <p:nvPr/>
        </p:nvSpPr>
        <p:spPr>
          <a:xfrm>
            <a:off x="6390000" y="4227480"/>
            <a:ext cx="251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ot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ong-term penal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1" name="Straight Arrow Connector 10"/>
          <p:cNvCxnSpPr/>
          <p:nvPr/>
        </p:nvCxnSpPr>
        <p:spPr>
          <a:xfrm flipV="1">
            <a:off x="7709040" y="2552400"/>
            <a:ext cx="978480" cy="167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2" name="TextBox 12"/>
          <p:cNvSpPr/>
          <p:nvPr/>
        </p:nvSpPr>
        <p:spPr>
          <a:xfrm>
            <a:off x="1397160" y="309240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is can all be avoi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traight Connector 18"/>
          <p:cNvSpPr/>
          <p:nvPr/>
        </p:nvSpPr>
        <p:spPr>
          <a:xfrm flipH="1" flipV="1">
            <a:off x="3086280" y="3568320"/>
            <a:ext cx="482400" cy="19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Up-Down Arrow 19"/>
          <p:cNvSpPr/>
          <p:nvPr/>
        </p:nvSpPr>
        <p:spPr>
          <a:xfrm>
            <a:off x="8686800" y="2286000"/>
            <a:ext cx="139680" cy="266760"/>
          </a:xfrm>
          <a:prstGeom prst="upDown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96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 and Ozone Deple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1"/>
          <a:stretch/>
        </p:blipFill>
        <p:spPr>
          <a:xfrm>
            <a:off x="892080" y="2133720"/>
            <a:ext cx="7794720" cy="4251240"/>
          </a:xfrm>
          <a:prstGeom prst="rect">
            <a:avLst/>
          </a:prstGeom>
          <a:ln w="0">
            <a:noFill/>
          </a:ln>
        </p:spPr>
      </p:pic>
      <p:sp>
        <p:nvSpPr>
          <p:cNvPr id="597" name="TextBox 4"/>
          <p:cNvSpPr/>
          <p:nvPr/>
        </p:nvSpPr>
        <p:spPr>
          <a:xfrm>
            <a:off x="6633360" y="641988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vishankara et al., 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-5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04920" y="1206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ontreal Protocol successfully implemented a multi-basket approach to deal with the international problem of stratospheric ozone deple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A single-basket approach, as used in the Kyoto Protocol, can lead to some level of ambiguity in the climate impact of regul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regulation on some group of gases (e.g., HFCs) has the inadvertent affect of delaying C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egulation, this will have multi-century climate implic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treal Protoco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2"/>
          <p:cNvSpPr/>
          <p:nvPr/>
        </p:nvSpPr>
        <p:spPr>
          <a:xfrm>
            <a:off x="266760" y="1765440"/>
            <a:ext cx="887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of gases controlled separately (e.g., CFCs, HCFCs, halon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treal Protoco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2"/>
          <p:cNvSpPr/>
          <p:nvPr/>
        </p:nvSpPr>
        <p:spPr>
          <a:xfrm>
            <a:off x="266760" y="1765440"/>
            <a:ext cx="8877240" cy="14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of gases controlled separately (e.g., CFCs, HCFCs, halon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“trading” amo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treal Protoco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2"/>
          <p:cNvSpPr/>
          <p:nvPr/>
        </p:nvSpPr>
        <p:spPr>
          <a:xfrm>
            <a:off x="266760" y="1765440"/>
            <a:ext cx="887724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of gases controlled separately (e.g., CFCs, HCFCs, halon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“trading” amo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success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4673520" y="2387520"/>
            <a:ext cx="3932280" cy="412452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>
            <a:off x="5370480" y="2703600"/>
            <a:ext cx="199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apted fr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elders et al, PNAS, 200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8019720" y="4851360"/>
            <a:ext cx="118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eas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Su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7"/>
          <p:cNvSpPr/>
          <p:nvPr/>
        </p:nvSpPr>
        <p:spPr>
          <a:xfrm rot="18878400">
            <a:off x="6990840" y="39430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</a:rPr>
              <a:t>No Protoc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Up-Down Arrow 5"/>
          <p:cNvSpPr/>
          <p:nvPr/>
        </p:nvSpPr>
        <p:spPr>
          <a:xfrm>
            <a:off x="7696080" y="4546440"/>
            <a:ext cx="432000" cy="1295640"/>
          </a:xfrm>
          <a:prstGeom prst="up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treal Protoco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2"/>
          <p:cNvSpPr/>
          <p:nvPr/>
        </p:nvSpPr>
        <p:spPr>
          <a:xfrm>
            <a:off x="266760" y="1765440"/>
            <a:ext cx="88772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of gases controlled separately (e.g., CFCs, HCFCs, halon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“trading” amo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success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FCs/HCFCs Illustr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4673520" y="2387520"/>
            <a:ext cx="3932280" cy="4124520"/>
          </a:xfrm>
          <a:prstGeom prst="rect">
            <a:avLst/>
          </a:prstGeom>
          <a:ln w="0">
            <a:noFill/>
          </a:ln>
        </p:spPr>
      </p:pic>
      <p:sp>
        <p:nvSpPr>
          <p:cNvPr id="513" name="TextBox 4"/>
          <p:cNvSpPr/>
          <p:nvPr/>
        </p:nvSpPr>
        <p:spPr>
          <a:xfrm>
            <a:off x="5370480" y="2703600"/>
            <a:ext cx="199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apted fr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elders et al, PNAS, 200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6"/>
          <p:cNvSpPr/>
          <p:nvPr/>
        </p:nvSpPr>
        <p:spPr>
          <a:xfrm>
            <a:off x="8019720" y="4851360"/>
            <a:ext cx="118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eas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Su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7"/>
          <p:cNvSpPr/>
          <p:nvPr/>
        </p:nvSpPr>
        <p:spPr>
          <a:xfrm>
            <a:off x="6318000" y="4133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</a:rPr>
              <a:t>No Protoc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Up-Down Arrow 5"/>
          <p:cNvSpPr/>
          <p:nvPr/>
        </p:nvSpPr>
        <p:spPr>
          <a:xfrm>
            <a:off x="7696080" y="4546440"/>
            <a:ext cx="432000" cy="1295640"/>
          </a:xfrm>
          <a:prstGeom prst="up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7936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FC/HCFC Contribution to 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Deple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5" descr="idl.ps"/>
          <p:cNvPicPr/>
          <p:nvPr/>
        </p:nvPicPr>
        <p:blipFill>
          <a:blip r:embed="rId1"/>
          <a:stretch/>
        </p:blipFill>
        <p:spPr>
          <a:xfrm>
            <a:off x="1041480" y="1176480"/>
            <a:ext cx="7315200" cy="5421240"/>
          </a:xfrm>
          <a:prstGeom prst="rect">
            <a:avLst/>
          </a:prstGeom>
          <a:ln w="0">
            <a:noFill/>
          </a:ln>
        </p:spPr>
      </p:pic>
      <p:sp>
        <p:nvSpPr>
          <p:cNvPr id="519" name="Left-Right Arrow 2"/>
          <p:cNvSpPr/>
          <p:nvPr/>
        </p:nvSpPr>
        <p:spPr>
          <a:xfrm>
            <a:off x="4051440" y="2502000"/>
            <a:ext cx="3632040" cy="635040"/>
          </a:xfrm>
          <a:prstGeom prst="leftRightArrow">
            <a:avLst>
              <a:gd name="adj1" fmla="val 50000"/>
              <a:gd name="adj2" fmla="val 49992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j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Left-Right Arrow 4"/>
          <p:cNvSpPr/>
          <p:nvPr/>
        </p:nvSpPr>
        <p:spPr>
          <a:xfrm>
            <a:off x="2133720" y="2502000"/>
            <a:ext cx="1917720" cy="635040"/>
          </a:xfrm>
          <a:prstGeom prst="left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s - b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a Trade to HC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3" descr="idl.ps"/>
          <p:cNvPicPr/>
          <p:nvPr/>
        </p:nvPicPr>
        <p:blipFill>
          <a:blip r:embed="rId1"/>
          <a:stretch/>
        </p:blipFill>
        <p:spPr>
          <a:xfrm>
            <a:off x="1041480" y="1182600"/>
            <a:ext cx="73152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ngle-Basket Range of 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Deple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3" descr="idl.ps"/>
          <p:cNvPicPr/>
          <p:nvPr/>
        </p:nvPicPr>
        <p:blipFill>
          <a:blip r:embed="rId1"/>
          <a:stretch/>
        </p:blipFill>
        <p:spPr>
          <a:xfrm>
            <a:off x="1041480" y="1182600"/>
            <a:ext cx="73152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2:54:02Z</dcterms:created>
  <dc:creator>John Daniel</dc:creator>
  <dc:description/>
  <dc:language>en-US</dc:language>
  <cp:lastModifiedBy>John Daniel</cp:lastModifiedBy>
  <dcterms:modified xsi:type="dcterms:W3CDTF">2012-03-29T21:11:55Z</dcterms:modified>
  <cp:revision>119</cp:revision>
  <dc:subject/>
  <dc:title>Limitations of Single-Basekt Trading: Lessons from the Montreal Protocol for Climate Policy </dc:title>
</cp:coreProperties>
</file>