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4.png" ContentType="image/png"/>
  <Override PartName="/ppt/media/image15.png" ContentType="image/png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16.wmf" ContentType="image/x-wmf"/>
  <Override PartName="/ppt/media/image8.png" ContentType="image/pn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4D1141-8156-40F7-AA7C-1A4F2DC07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lications of the particular control strategy to its suc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B762F7-261B-4502-9323-039BDD3008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26B163-3D34-4061-85E6-5B5D3FC661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es begin in about 20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68E511-AC59-46A0-A400-8D106FB5A8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GWP-weighted emission level is prescribed for every year, depending on how trading occurs,  the range of T increases by 2400 will be 2-4C, with the range continuing to exp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4BA83F-6F70-49E6-87EA-204A8B2D5D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lications of the particular control strategy to its suc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AA3A5C-C5DE-4BF4-B6AC-FF8BECF452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haps mention advantage of HFC phaseout in terms of avoiding future forcing – and in a multi-basket approach, you know what you will 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point out issu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09ACB4-C46B-4401-97E7-74C83779C2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ous groups diff phaseout sched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tions of Gases within a group could be traded with reductions of other gases in the same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8F16BC-905D-442C-8F05-A61BDCFFE9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9A2F22-98D6-472C-88BD-AAC97908C5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ill use CFCs and HCFCs to explore the hypothetical impacts of a different control strategy – one where CFC and HCFC production could be tra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1A0D1D-6E8B-4B81-8329-3BD1299CD7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this with equiv eff strat chlorine or EESC, which is a metric that relates to the amount of chlorine and bromine available to destroy strat o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ss cu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f, when MP controls went into force, the ODP-weighted emission were kept identical to those used to generate this curve, but all emissions were traded to HCFC emissions, with no CFC emissio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58A5E5-21D2-4948-AA9F-9CB90D4019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be relate ss ODPs to time-dependent OD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430110-EAC1-4B9F-B456-6E391CE98C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ak uncertain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st phaseout leads to not much spread in future possibi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22EE22-01D7-4648-A88F-7442DCDBC5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504BA-297A-4E29-8038-B11E8A57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BD1F8-D97C-4269-9186-9EC28AB2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FF2F8-E59F-4651-B955-6BD59040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6CF1D-FD2B-49E9-B35A-9B9CAA78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A18A0-7322-4657-BF02-5CC3DDDD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625FC-E183-4692-A3C5-A050CFEA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CC10E-C61A-4B79-A289-1995A600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381E9-F315-4A22-BF5F-36B844FE7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43374-CC95-42E2-9E99-7CE93556A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EFFBFB-E6EE-4BB4-8DBC-BD17704CB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71A49-E9A3-4D44-A21E-DB8DAACD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E8F8E-267B-429C-86C0-54210408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98318-4DD1-47C4-B104-3A739F12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B6009E-42CE-4577-AA7C-99BABEBC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25793-1900-4CC6-90A9-9B77601E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34FC4-57CE-4413-BBEC-231A356B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B1281-413F-4014-9289-11AD40B5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50836-2E2F-458E-8406-AB5BC592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85EFC-A63A-47B2-9225-D6DA4A7C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091443-76C7-4955-96CD-D50F6A988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BEAE51-D664-47C3-9D2B-8F0287643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1E144E-2BF5-4131-AFC7-F2084901B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3E3055-955D-4F67-90D1-471884E6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0AD242-E397-4B98-A528-E457CE34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CEAE07-8BF1-4406-9F1F-E042B563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FD42E-5796-40FE-8010-0467C3F3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C8B9FF-7443-4D0D-80ED-9CC493FF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FF3C2B-8148-49B4-8556-986E9259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DC293-A726-4753-93C4-586141C5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091755-7F94-465E-AE27-720C9DD1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58D5-FD7B-4796-871C-5E0E705C1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D2DA81-90A1-4B89-A79B-B71E3A8C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58852-EFF6-4D4C-B427-AD5C88C4D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ECD136-8040-4D4C-B94C-63F89CA5B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4F11A-2394-41E2-A246-DBCCCF3AD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49CF2-CD1C-49E7-9990-AF112695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1DF33-266F-4CDD-827C-FB585B49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13109-E754-476D-8909-D6074A4D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DCE75-5791-4577-894B-80EE202D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070D2-7EC4-449C-83A7-0C48463D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4E526-680D-4863-85B1-8AF2DC8D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B481-113E-4267-9CAE-06B646ED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27CE9-DED3-4371-BF08-C2187907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9E25B-F58B-453A-BA97-85E3CA56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EC2C6-2E0B-4A2B-828C-8C7512A6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4B8E2-1467-4A0C-92CC-2DAC4085F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81CED-0E38-49CC-8FEE-BA7405E7E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749B-B96B-41A9-BD72-96BC38C8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283B-2667-40A7-BE00-5D968FA1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72DE-4E9E-43A8-A5E5-D41FA1F5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4749-39E3-4C88-A399-DA86C55B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2F0B-E098-4129-B548-5FC9602B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9F7F-394D-4B23-BB59-595CBD7A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04BC-7273-446C-AB22-F13BDB56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F656-2E6D-4E0B-8B6E-6F2A675F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888A-F913-414C-AACD-8E64DAE11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6455-4A3E-49E0-A7F4-BED50B34F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F44B-D8D4-4B30-A799-6CF6E514C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05034-9FA3-4AF6-A3D4-87368B1E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49AA-8DAE-4E27-B61F-160DF601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94CA-82B9-49C2-B82C-E18FB311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CC0E-2DD5-4106-BE49-EDCA795B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0772-5CB6-4CFA-8899-626DB881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8400C-6747-414C-89B7-EA56E0EE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2EE7-CD8D-4B69-BE11-188CF77F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AB73-B950-4A0F-B6A9-0D02E706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4860-E949-417D-BFD0-76E39D8C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6665-5850-4446-9847-7BD934028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D53F-2F80-4622-B869-7B7790DEA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66FD1-6CE5-423D-B3E7-51BE4A0C0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A090E-1FE0-49D8-8FD1-BB4A4916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ED90E-8E04-4FFB-8077-0FD1F99F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78404-84AF-48E3-ADB4-2080FC20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29BB2-0C34-4230-AABD-F7A05319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67B5F-2BBF-4280-A4A6-6F3E0BF5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6A637-D2FA-489B-953E-A8DC49A3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4B95A-FF4B-436D-8DD9-C11150DC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E711B-3D9B-4DDA-B90B-DE98B77B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18C8D-B5C6-4F62-9891-326990F1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C82EA-CD3B-4D72-85D9-8B4DDBA0A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01FB8-785E-48A2-842B-D16E7D40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927FD-C3F9-4334-B75E-F16C15429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20F8E-79F3-443B-B08B-68A2486C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EDABB-8662-4BA2-9280-490AE860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E9479-D9F2-4848-8C9D-75909270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B4FB5-D60F-4431-977E-00F4F6E5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CEC1A-33D2-4112-A012-B0F9A85B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69C4B-CE34-4029-AFBF-9BE5DA62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6EEC4-2D2F-4A24-8940-54C7271D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85168-D8FF-41B4-B2DF-746F3A74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5018D-6803-4E75-B55E-4B4F71E8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08CD9-9612-44B9-A588-B4FE766D4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67C30-CD1A-44A3-9BCA-2BA97F196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324A9-B944-43E0-9001-5F64247C1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61DE2-3EAA-4E4F-88CA-DFF491CB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ABDA7-DBA6-4A39-BB3B-E9B3BE7B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13707-E4C6-4961-BDA6-89381789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01540-5D1E-48F9-BA8F-9AA179C6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8CAA2-B39D-4D2D-8AE2-62FA9271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C1E39-1062-4AED-AD65-7FC3147F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2200A-708D-4967-8003-31E8B68E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7C33C-6284-4FFA-B982-AF6157A6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4E47D-F130-4214-94C1-360672E8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EAB94-8A1F-4DC2-8484-1F657F2AA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D0E3E-1464-465B-AB06-935419E95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836D0-75DD-4908-8D52-EEF2D83F2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C5429-842E-4A6B-A8C0-1EB5B67D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F601A-6B98-4C89-A459-AD295647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7BCE2-D93B-462B-B84E-DD006717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90EEB-FF39-4153-BD6A-BAEA0F11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0B980-6746-4C54-BE3D-AF375C25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4103E-4985-4591-BD32-0FF81C20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EC4A4-E3E0-4E19-ADDD-D657D08A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F2D95-4203-4B58-B9E8-3E54220F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CA112-DB59-4F81-B915-05067A25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434BB-CE83-41C6-BB40-F46A05A0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EA824-D5B5-4BD1-86D3-BC1168D6A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6A52B-4A78-46E6-9A6D-7AC2E5FA2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F33E4-348A-4892-961E-86CB5886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B852F-548A-4B57-8D13-8477DD81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B2D25-3F20-4383-90EF-4AC0AF7C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5F0B1-E2CB-4358-A445-2384F544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F4CF9-8E50-4A14-9CBD-0C425A86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2850A-B79F-4EE9-B094-4F722153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98E42-91BA-41E8-AFFA-B1AA8F02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3FAE7-A53E-4142-9B66-B81E6241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2F6C6-E496-4DAF-A60E-62CEE5A4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195C7-010C-406E-AA7C-80AEF4411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BEE4D-2C67-4ABF-B573-0602DB2D7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62378-E917-4BD6-8566-B46FEC71A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82F58-F605-4EC1-902A-2F92E53B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69841-9350-4FD3-9468-AED257E3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BA8DE6-264B-4227-B563-0C5521EF88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2A6444-637B-4ADE-B15A-52F2BC980A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031217-AB28-48AB-87DE-D5EDF816ED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4BDA5F-5E3A-4531-9C0B-0529AE7851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A2BE2E-31DA-46F0-A71D-83E75E746B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D2466E-24D5-4D99-B273-33239F2207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019F28-CAD3-46DD-860E-F9C8F487D7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8AEAB9-AD0F-4F84-91A5-19BFB3E7C0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4C3491-49DC-4F36-85CE-387D5B721B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BDE6C8-8896-43DC-B5F9-882E3866F2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A82B70-DE97-41E3-9890-B961F4E331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7" name="Content Placeholder 4" descr=""/>
          <p:cNvPicPr/>
          <p:nvPr/>
        </p:nvPicPr>
        <p:blipFill>
          <a:blip r:embed="rId1"/>
          <a:srcRect l="0" t="13341" r="0" b="13341"/>
          <a:stretch/>
        </p:blipFill>
        <p:spPr>
          <a:xfrm>
            <a:off x="-2549520" y="-838080"/>
            <a:ext cx="11887200" cy="7772400"/>
          </a:xfrm>
          <a:prstGeom prst="rect">
            <a:avLst/>
          </a:prstGeom>
          <a:ln w="0">
            <a:noFill/>
          </a:ln>
        </p:spPr>
      </p:pic>
      <p:sp>
        <p:nvSpPr>
          <p:cNvPr id="488" name="Title 1"/>
          <p:cNvSpPr/>
          <p:nvPr/>
        </p:nvSpPr>
        <p:spPr>
          <a:xfrm>
            <a:off x="114480" y="185760"/>
            <a:ext cx="8864280" cy="1096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alibri"/>
              </a:rPr>
              <a:t>Limitations of Single-Basket Trad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alibri"/>
              </a:rPr>
              <a:t>Lessons from the Montreal Protocol for Climate Poli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Picture 7" descr=""/>
          <p:cNvPicPr/>
          <p:nvPr/>
        </p:nvPicPr>
        <p:blipFill>
          <a:blip r:embed="rId2"/>
          <a:stretch/>
        </p:blipFill>
        <p:spPr>
          <a:xfrm>
            <a:off x="52560" y="5504040"/>
            <a:ext cx="1353960" cy="1353960"/>
          </a:xfrm>
          <a:prstGeom prst="rect">
            <a:avLst/>
          </a:prstGeom>
          <a:ln w="0">
            <a:noFill/>
          </a:ln>
        </p:spPr>
      </p:pic>
      <p:sp>
        <p:nvSpPr>
          <p:cNvPr id="490" name="TextBox 9"/>
          <p:cNvSpPr/>
          <p:nvPr/>
        </p:nvSpPr>
        <p:spPr>
          <a:xfrm>
            <a:off x="2333160" y="1257480"/>
            <a:ext cx="4833360" cy="11912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John S. Dani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National Oceanic and Atmospheric Adminis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Chemical Sciences Div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Boulder, Colorado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TextBox 10"/>
          <p:cNvSpPr/>
          <p:nvPr/>
        </p:nvSpPr>
        <p:spPr>
          <a:xfrm>
            <a:off x="1720800" y="5921280"/>
            <a:ext cx="7616880" cy="916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mitations of Single-Basket Trading: Lessons from the Montreal Protocol for Climate Policy, Daniel, Solomon, Sanford, McFarland, Fuglestvedt, and Friedlingstein, Climatic Change, 2012 (online 2011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19" descr=""/>
          <p:cNvPicPr/>
          <p:nvPr/>
        </p:nvPicPr>
        <p:blipFill>
          <a:blip r:embed="rId1"/>
          <a:stretch/>
        </p:blipFill>
        <p:spPr>
          <a:xfrm>
            <a:off x="-3201840" y="-1668600"/>
            <a:ext cx="10972800" cy="1097280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46280" y="-3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yoto Protocol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ingle Basket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7" name="Group 20"/>
          <p:cNvGrpSpPr/>
          <p:nvPr/>
        </p:nvGrpSpPr>
        <p:grpSpPr>
          <a:xfrm>
            <a:off x="564480" y="1417680"/>
            <a:ext cx="3390120" cy="2572560"/>
            <a:chOff x="564480" y="1417680"/>
            <a:chExt cx="3390120" cy="2572560"/>
          </a:xfrm>
        </p:grpSpPr>
        <p:sp>
          <p:nvSpPr>
            <p:cNvPr id="528" name="TextBox 4"/>
            <p:cNvSpPr/>
            <p:nvPr/>
          </p:nvSpPr>
          <p:spPr>
            <a:xfrm rot="16380000">
              <a:off x="2411280" y="290412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PFC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TextBox 5"/>
            <p:cNvSpPr/>
            <p:nvPr/>
          </p:nvSpPr>
          <p:spPr>
            <a:xfrm>
              <a:off x="564480" y="3143520"/>
              <a:ext cx="637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CO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TextBox 6"/>
            <p:cNvSpPr/>
            <p:nvPr/>
          </p:nvSpPr>
          <p:spPr>
            <a:xfrm>
              <a:off x="970560" y="1762920"/>
              <a:ext cx="62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CH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TextBox 7"/>
            <p:cNvSpPr/>
            <p:nvPr/>
          </p:nvSpPr>
          <p:spPr>
            <a:xfrm>
              <a:off x="1569600" y="3480120"/>
              <a:ext cx="677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N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2</a:t>
              </a: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TextBox 8"/>
            <p:cNvSpPr/>
            <p:nvPr/>
          </p:nvSpPr>
          <p:spPr>
            <a:xfrm rot="16800000">
              <a:off x="3260520" y="3213720"/>
              <a:ext cx="79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HFC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TextBox 9"/>
            <p:cNvSpPr/>
            <p:nvPr/>
          </p:nvSpPr>
          <p:spPr>
            <a:xfrm>
              <a:off x="1694520" y="1417680"/>
              <a:ext cx="55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SF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19" descr=""/>
          <p:cNvPicPr/>
          <p:nvPr/>
        </p:nvPicPr>
        <p:blipFill>
          <a:blip r:embed="rId1"/>
          <a:stretch/>
        </p:blipFill>
        <p:spPr>
          <a:xfrm>
            <a:off x="-3201840" y="-1668600"/>
            <a:ext cx="10972800" cy="1097280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46280" y="-3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yoto Protocol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ingle Basket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6" name="Group 20"/>
          <p:cNvGrpSpPr/>
          <p:nvPr/>
        </p:nvGrpSpPr>
        <p:grpSpPr>
          <a:xfrm>
            <a:off x="564480" y="1417680"/>
            <a:ext cx="3390120" cy="2572560"/>
            <a:chOff x="564480" y="1417680"/>
            <a:chExt cx="3390120" cy="2572560"/>
          </a:xfrm>
        </p:grpSpPr>
        <p:sp>
          <p:nvSpPr>
            <p:cNvPr id="537" name="TextBox 4"/>
            <p:cNvSpPr/>
            <p:nvPr/>
          </p:nvSpPr>
          <p:spPr>
            <a:xfrm rot="16380000">
              <a:off x="2411280" y="290412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PFC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TextBox 5"/>
            <p:cNvSpPr/>
            <p:nvPr/>
          </p:nvSpPr>
          <p:spPr>
            <a:xfrm>
              <a:off x="564480" y="3143520"/>
              <a:ext cx="637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CO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TextBox 6"/>
            <p:cNvSpPr/>
            <p:nvPr/>
          </p:nvSpPr>
          <p:spPr>
            <a:xfrm>
              <a:off x="970560" y="1762920"/>
              <a:ext cx="62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CH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TextBox 7"/>
            <p:cNvSpPr/>
            <p:nvPr/>
          </p:nvSpPr>
          <p:spPr>
            <a:xfrm>
              <a:off x="1569600" y="3480120"/>
              <a:ext cx="677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N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2</a:t>
              </a: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TextBox 8"/>
            <p:cNvSpPr/>
            <p:nvPr/>
          </p:nvSpPr>
          <p:spPr>
            <a:xfrm rot="16800000">
              <a:off x="3260520" y="3213720"/>
              <a:ext cx="79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HFC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TextBox 9"/>
            <p:cNvSpPr/>
            <p:nvPr/>
          </p:nvSpPr>
          <p:spPr>
            <a:xfrm>
              <a:off x="1694520" y="1417680"/>
              <a:ext cx="55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SF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43" name="Chart 25" descr=""/>
          <p:cNvPicPr/>
          <p:nvPr/>
        </p:nvPicPr>
        <p:blipFill>
          <a:blip r:embed="rId2"/>
          <a:stretch/>
        </p:blipFill>
        <p:spPr>
          <a:xfrm>
            <a:off x="4267080" y="2567160"/>
            <a:ext cx="4559400" cy="3327120"/>
          </a:xfrm>
          <a:prstGeom prst="rect">
            <a:avLst/>
          </a:prstGeom>
          <a:ln w="0">
            <a:noFill/>
          </a:ln>
        </p:spPr>
      </p:pic>
      <p:sp>
        <p:nvSpPr>
          <p:cNvPr id="544" name="TextBox 27"/>
          <p:cNvSpPr/>
          <p:nvPr/>
        </p:nvSpPr>
        <p:spPr>
          <a:xfrm>
            <a:off x="6070320" y="236844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0 Radiative Forc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19" descr=""/>
          <p:cNvPicPr/>
          <p:nvPr/>
        </p:nvPicPr>
        <p:blipFill>
          <a:blip r:embed="rId1"/>
          <a:stretch/>
        </p:blipFill>
        <p:spPr>
          <a:xfrm>
            <a:off x="-3201840" y="-1668600"/>
            <a:ext cx="10972800" cy="1097280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46280" y="-3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yoto Protocol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ingle Basket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7" name="Group 20"/>
          <p:cNvGrpSpPr/>
          <p:nvPr/>
        </p:nvGrpSpPr>
        <p:grpSpPr>
          <a:xfrm>
            <a:off x="564480" y="1417680"/>
            <a:ext cx="3390120" cy="2572560"/>
            <a:chOff x="564480" y="1417680"/>
            <a:chExt cx="3390120" cy="2572560"/>
          </a:xfrm>
        </p:grpSpPr>
        <p:sp>
          <p:nvSpPr>
            <p:cNvPr id="548" name="TextBox 4"/>
            <p:cNvSpPr/>
            <p:nvPr/>
          </p:nvSpPr>
          <p:spPr>
            <a:xfrm rot="16380000">
              <a:off x="2411280" y="290412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PFC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TextBox 5"/>
            <p:cNvSpPr/>
            <p:nvPr/>
          </p:nvSpPr>
          <p:spPr>
            <a:xfrm>
              <a:off x="564480" y="3143520"/>
              <a:ext cx="637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CO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TextBox 6"/>
            <p:cNvSpPr/>
            <p:nvPr/>
          </p:nvSpPr>
          <p:spPr>
            <a:xfrm>
              <a:off x="970560" y="1762920"/>
              <a:ext cx="62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CH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TextBox 7"/>
            <p:cNvSpPr/>
            <p:nvPr/>
          </p:nvSpPr>
          <p:spPr>
            <a:xfrm>
              <a:off x="1569600" y="3480120"/>
              <a:ext cx="677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N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2</a:t>
              </a: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TextBox 8"/>
            <p:cNvSpPr/>
            <p:nvPr/>
          </p:nvSpPr>
          <p:spPr>
            <a:xfrm rot="16800000">
              <a:off x="3260520" y="3213720"/>
              <a:ext cx="79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HFC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TextBox 9"/>
            <p:cNvSpPr/>
            <p:nvPr/>
          </p:nvSpPr>
          <p:spPr>
            <a:xfrm>
              <a:off x="1694520" y="1417680"/>
              <a:ext cx="55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SF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4" name="Chart 25" descr=""/>
          <p:cNvPicPr/>
          <p:nvPr/>
        </p:nvPicPr>
        <p:blipFill>
          <a:blip r:embed="rId2"/>
          <a:stretch/>
        </p:blipFill>
        <p:spPr>
          <a:xfrm>
            <a:off x="4267080" y="2567160"/>
            <a:ext cx="4559400" cy="3327120"/>
          </a:xfrm>
          <a:prstGeom prst="rect">
            <a:avLst/>
          </a:prstGeom>
          <a:ln w="0">
            <a:noFill/>
          </a:ln>
        </p:spPr>
      </p:pic>
      <p:sp>
        <p:nvSpPr>
          <p:cNvPr id="555" name="Oval 26"/>
          <p:cNvSpPr/>
          <p:nvPr/>
        </p:nvSpPr>
        <p:spPr>
          <a:xfrm>
            <a:off x="4470480" y="4280040"/>
            <a:ext cx="4673520" cy="723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Box 27"/>
          <p:cNvSpPr/>
          <p:nvPr/>
        </p:nvSpPr>
        <p:spPr>
          <a:xfrm>
            <a:off x="6070320" y="236844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0 Radiative Forc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/C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Impact on Climat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(RCP4.5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Picture 5" descr="idl.ps"/>
          <p:cNvPicPr/>
          <p:nvPr/>
        </p:nvPicPr>
        <p:blipFill>
          <a:blip r:embed="rId1"/>
          <a:stretch/>
        </p:blipFill>
        <p:spPr>
          <a:xfrm>
            <a:off x="38160" y="162576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mpact of a Trade to All C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Emiss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0" name="Picture 4" descr="idl.ps"/>
          <p:cNvPicPr/>
          <p:nvPr/>
        </p:nvPicPr>
        <p:blipFill>
          <a:blip r:embed="rId1"/>
          <a:stretch/>
        </p:blipFill>
        <p:spPr>
          <a:xfrm>
            <a:off x="38160" y="162576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561" name="TextBox 2"/>
          <p:cNvSpPr/>
          <p:nvPr/>
        </p:nvSpPr>
        <p:spPr>
          <a:xfrm>
            <a:off x="7592760" y="4013280"/>
            <a:ext cx="816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ll 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2" name="Straight Arrow Connector 5"/>
          <p:cNvCxnSpPr/>
          <p:nvPr/>
        </p:nvCxnSpPr>
        <p:spPr>
          <a:xfrm flipV="1">
            <a:off x="7911720" y="3619080"/>
            <a:ext cx="13320" cy="4197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4" descr="idl.ps"/>
          <p:cNvPicPr/>
          <p:nvPr/>
        </p:nvPicPr>
        <p:blipFill>
          <a:blip r:embed="rId1"/>
          <a:stretch/>
        </p:blipFill>
        <p:spPr>
          <a:xfrm>
            <a:off x="38160" y="162576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564" name="Title 1"/>
          <p:cNvSpPr/>
          <p:nvPr/>
        </p:nvSpPr>
        <p:spPr>
          <a:xfrm>
            <a:off x="469800" y="6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mpact of a Trade to All C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Emiss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TextBox 5"/>
          <p:cNvSpPr/>
          <p:nvPr/>
        </p:nvSpPr>
        <p:spPr>
          <a:xfrm>
            <a:off x="6807240" y="2082960"/>
            <a:ext cx="825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All C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6" name="Straight Arrow Connector 6"/>
          <p:cNvCxnSpPr/>
          <p:nvPr/>
        </p:nvCxnSpPr>
        <p:spPr>
          <a:xfrm>
            <a:off x="7574040" y="2355840"/>
            <a:ext cx="326160" cy="1864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mbiguity of Single Bask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Picture 3" descr="idl.ps"/>
          <p:cNvPicPr/>
          <p:nvPr/>
        </p:nvPicPr>
        <p:blipFill>
          <a:blip r:embed="rId1"/>
          <a:stretch/>
        </p:blipFill>
        <p:spPr>
          <a:xfrm>
            <a:off x="38160" y="162576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mplications for HF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0" name="Picture 7" descr=""/>
          <p:cNvPicPr/>
          <p:nvPr/>
        </p:nvPicPr>
        <p:blipFill>
          <a:blip r:embed="rId1"/>
          <a:stretch/>
        </p:blipFill>
        <p:spPr>
          <a:xfrm>
            <a:off x="399960" y="1574640"/>
            <a:ext cx="4152960" cy="4572000"/>
          </a:xfrm>
          <a:prstGeom prst="rect">
            <a:avLst/>
          </a:prstGeom>
          <a:ln w="0">
            <a:noFill/>
          </a:ln>
        </p:spPr>
      </p:pic>
      <p:sp>
        <p:nvSpPr>
          <p:cNvPr id="571" name="TextBox 8"/>
          <p:cNvSpPr/>
          <p:nvPr/>
        </p:nvSpPr>
        <p:spPr>
          <a:xfrm>
            <a:off x="1996560" y="5218200"/>
            <a:ext cx="225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elders et al, PNAS,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mplications for HF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Picture 7" descr=""/>
          <p:cNvPicPr/>
          <p:nvPr/>
        </p:nvPicPr>
        <p:blipFill>
          <a:blip r:embed="rId1"/>
          <a:stretch/>
        </p:blipFill>
        <p:spPr>
          <a:xfrm>
            <a:off x="399960" y="1574640"/>
            <a:ext cx="4152960" cy="4572000"/>
          </a:xfrm>
          <a:prstGeom prst="rect">
            <a:avLst/>
          </a:prstGeom>
          <a:ln w="0">
            <a:noFill/>
          </a:ln>
        </p:spPr>
      </p:pic>
      <p:sp>
        <p:nvSpPr>
          <p:cNvPr id="574" name="TextBox 8"/>
          <p:cNvSpPr/>
          <p:nvPr/>
        </p:nvSpPr>
        <p:spPr>
          <a:xfrm>
            <a:off x="1996560" y="5218200"/>
            <a:ext cx="225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elders et al, PNAS,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5" name="Chart 14" descr=""/>
          <p:cNvPicPr/>
          <p:nvPr/>
        </p:nvPicPr>
        <p:blipFill>
          <a:blip r:embed="rId2"/>
          <a:stretch/>
        </p:blipFill>
        <p:spPr>
          <a:xfrm>
            <a:off x="4462560" y="2981160"/>
            <a:ext cx="4584600" cy="3170520"/>
          </a:xfrm>
          <a:prstGeom prst="rect">
            <a:avLst/>
          </a:prstGeom>
          <a:ln w="0">
            <a:noFill/>
          </a:ln>
        </p:spPr>
      </p:pic>
      <p:sp>
        <p:nvSpPr>
          <p:cNvPr id="576" name="TextBox 15"/>
          <p:cNvSpPr/>
          <p:nvPr/>
        </p:nvSpPr>
        <p:spPr>
          <a:xfrm>
            <a:off x="8610480" y="48132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Right Arrow 16"/>
          <p:cNvSpPr/>
          <p:nvPr/>
        </p:nvSpPr>
        <p:spPr>
          <a:xfrm>
            <a:off x="8567640" y="4889520"/>
            <a:ext cx="152640" cy="2682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extBox 17"/>
          <p:cNvSpPr/>
          <p:nvPr/>
        </p:nvSpPr>
        <p:spPr>
          <a:xfrm>
            <a:off x="6268680" y="2351160"/>
            <a:ext cx="27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diative Forcing Chan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m 2010 to 2050 (RCP8.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mplications for HF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Box 8"/>
          <p:cNvSpPr/>
          <p:nvPr/>
        </p:nvSpPr>
        <p:spPr>
          <a:xfrm>
            <a:off x="2376360" y="5218200"/>
            <a:ext cx="18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elders, PNAS,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Rectangle 2"/>
          <p:cNvSpPr/>
          <p:nvPr/>
        </p:nvSpPr>
        <p:spPr>
          <a:xfrm>
            <a:off x="-317520" y="1600200"/>
            <a:ext cx="5168880" cy="4330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Picture 7" descr=""/>
          <p:cNvPicPr/>
          <p:nvPr/>
        </p:nvPicPr>
        <p:blipFill>
          <a:blip r:embed="rId1"/>
          <a:stretch/>
        </p:blipFill>
        <p:spPr>
          <a:xfrm>
            <a:off x="399960" y="1574640"/>
            <a:ext cx="4152960" cy="4572000"/>
          </a:xfrm>
          <a:prstGeom prst="rect">
            <a:avLst/>
          </a:prstGeom>
          <a:ln w="0">
            <a:noFill/>
          </a:ln>
        </p:spPr>
      </p:pic>
      <p:sp>
        <p:nvSpPr>
          <p:cNvPr id="583" name="TextBox 12"/>
          <p:cNvSpPr/>
          <p:nvPr/>
        </p:nvSpPr>
        <p:spPr>
          <a:xfrm>
            <a:off x="1397160" y="3092400"/>
            <a:ext cx="18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his can all be avoi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traight Connector 18"/>
          <p:cNvSpPr/>
          <p:nvPr/>
        </p:nvSpPr>
        <p:spPr>
          <a:xfrm flipH="1" flipV="1">
            <a:off x="3086280" y="3568320"/>
            <a:ext cx="482400" cy="190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Content Placeholder 4" descr=""/>
          <p:cNvPicPr/>
          <p:nvPr/>
        </p:nvPicPr>
        <p:blipFill>
          <a:blip r:embed="rId1"/>
          <a:srcRect l="0" t="13341" r="0" b="13341"/>
          <a:stretch/>
        </p:blipFill>
        <p:spPr>
          <a:xfrm>
            <a:off x="-2549520" y="-838080"/>
            <a:ext cx="11887200" cy="7772400"/>
          </a:xfrm>
          <a:prstGeom prst="rect">
            <a:avLst/>
          </a:prstGeom>
          <a:ln w="0">
            <a:noFill/>
          </a:ln>
        </p:spPr>
      </p:pic>
      <p:sp>
        <p:nvSpPr>
          <p:cNvPr id="494" name="Title 1"/>
          <p:cNvSpPr/>
          <p:nvPr/>
        </p:nvSpPr>
        <p:spPr>
          <a:xfrm>
            <a:off x="114480" y="185760"/>
            <a:ext cx="8864280" cy="1096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alibri"/>
              </a:rPr>
              <a:t>Limitations of Single-Basket Trad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alibri"/>
              </a:rPr>
              <a:t>Lessons from the Montreal Protocol for Climate Poli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5" name="Picture 7" descr=""/>
          <p:cNvPicPr/>
          <p:nvPr/>
        </p:nvPicPr>
        <p:blipFill>
          <a:blip r:embed="rId2"/>
          <a:stretch/>
        </p:blipFill>
        <p:spPr>
          <a:xfrm>
            <a:off x="52560" y="5504040"/>
            <a:ext cx="1353960" cy="1353960"/>
          </a:xfrm>
          <a:prstGeom prst="rect">
            <a:avLst/>
          </a:prstGeom>
          <a:ln w="0">
            <a:noFill/>
          </a:ln>
        </p:spPr>
      </p:pic>
      <p:sp>
        <p:nvSpPr>
          <p:cNvPr id="496" name="TextBox 2"/>
          <p:cNvSpPr/>
          <p:nvPr/>
        </p:nvSpPr>
        <p:spPr>
          <a:xfrm>
            <a:off x="2754360" y="4245120"/>
            <a:ext cx="4244760" cy="1373760"/>
          </a:xfrm>
          <a:prstGeom prst="rect">
            <a:avLst/>
          </a:prstGeom>
          <a:solidFill>
            <a:srgbClr val="bfbfb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alibri"/>
              </a:rPr>
              <a:t>Montreal Protocol Suc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alibri"/>
              </a:rPr>
              <a:t>A Lesson for Climate Poli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alibri"/>
              </a:rPr>
              <a:t>Implications for HFC Poli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Box 9"/>
          <p:cNvSpPr/>
          <p:nvPr/>
        </p:nvSpPr>
        <p:spPr>
          <a:xfrm>
            <a:off x="2333160" y="1257480"/>
            <a:ext cx="4833360" cy="11912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John S. Dani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National Oceanic and Atmospheric Adminis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Chemical Sciences Div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Boulder, Colorado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TextBox 10"/>
          <p:cNvSpPr/>
          <p:nvPr/>
        </p:nvSpPr>
        <p:spPr>
          <a:xfrm>
            <a:off x="1720800" y="5921280"/>
            <a:ext cx="7616880" cy="916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mitations of Single-Basket Trading: Lessons from the Montreal Protocol for Climate Policy, Daniel, Solomon, Sanford, McFarland, Fuglestvedt, and Friedlingstein, Climatic Change, 2012 (online 2011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mplications for HF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8"/>
          <p:cNvSpPr/>
          <p:nvPr/>
        </p:nvSpPr>
        <p:spPr>
          <a:xfrm>
            <a:off x="2376360" y="5218200"/>
            <a:ext cx="18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elders, PNAS,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7" name="Group 3" descr=""/>
          <p:cNvPicPr/>
          <p:nvPr/>
        </p:nvPicPr>
        <p:blipFill>
          <a:blip r:embed="rId1"/>
          <a:stretch/>
        </p:blipFill>
        <p:spPr>
          <a:xfrm>
            <a:off x="-328680" y="1494000"/>
            <a:ext cx="9539280" cy="45828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7" descr=""/>
          <p:cNvPicPr/>
          <p:nvPr/>
        </p:nvPicPr>
        <p:blipFill>
          <a:blip r:embed="rId2"/>
          <a:stretch/>
        </p:blipFill>
        <p:spPr>
          <a:xfrm>
            <a:off x="399960" y="1574640"/>
            <a:ext cx="4152960" cy="4572000"/>
          </a:xfrm>
          <a:prstGeom prst="rect">
            <a:avLst/>
          </a:prstGeom>
          <a:ln w="0">
            <a:noFill/>
          </a:ln>
        </p:spPr>
      </p:pic>
      <p:sp>
        <p:nvSpPr>
          <p:cNvPr id="589" name="Oval 4"/>
          <p:cNvSpPr/>
          <p:nvPr/>
        </p:nvSpPr>
        <p:spPr>
          <a:xfrm>
            <a:off x="7149960" y="1828800"/>
            <a:ext cx="1994040" cy="1320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Box 5"/>
          <p:cNvSpPr/>
          <p:nvPr/>
        </p:nvSpPr>
        <p:spPr>
          <a:xfrm>
            <a:off x="6390000" y="4227480"/>
            <a:ext cx="251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otent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Long-term penal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1" name="Straight Arrow Connector 10"/>
          <p:cNvCxnSpPr/>
          <p:nvPr/>
        </p:nvCxnSpPr>
        <p:spPr>
          <a:xfrm flipV="1">
            <a:off x="7709040" y="2552400"/>
            <a:ext cx="978480" cy="1675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2" name="TextBox 12"/>
          <p:cNvSpPr/>
          <p:nvPr/>
        </p:nvSpPr>
        <p:spPr>
          <a:xfrm>
            <a:off x="1397160" y="3092400"/>
            <a:ext cx="18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his can all be avoi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traight Connector 18"/>
          <p:cNvSpPr/>
          <p:nvPr/>
        </p:nvSpPr>
        <p:spPr>
          <a:xfrm flipH="1" flipV="1">
            <a:off x="3086280" y="3568320"/>
            <a:ext cx="482400" cy="190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Up-Down Arrow 19"/>
          <p:cNvSpPr/>
          <p:nvPr/>
        </p:nvSpPr>
        <p:spPr>
          <a:xfrm>
            <a:off x="8686800" y="2286000"/>
            <a:ext cx="139680" cy="266760"/>
          </a:xfrm>
          <a:prstGeom prst="upDownArrow">
            <a:avLst>
              <a:gd name="adj1" fmla="val 50000"/>
              <a:gd name="adj2" fmla="val 5001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96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 and Ozone Deple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6" name="Picture 3" descr=""/>
          <p:cNvPicPr/>
          <p:nvPr/>
        </p:nvPicPr>
        <p:blipFill>
          <a:blip r:embed="rId1"/>
          <a:stretch/>
        </p:blipFill>
        <p:spPr>
          <a:xfrm>
            <a:off x="892080" y="2133720"/>
            <a:ext cx="7794720" cy="4251240"/>
          </a:xfrm>
          <a:prstGeom prst="rect">
            <a:avLst/>
          </a:prstGeom>
          <a:ln w="0">
            <a:noFill/>
          </a:ln>
        </p:spPr>
      </p:pic>
      <p:sp>
        <p:nvSpPr>
          <p:cNvPr id="597" name="TextBox 4"/>
          <p:cNvSpPr/>
          <p:nvPr/>
        </p:nvSpPr>
        <p:spPr>
          <a:xfrm>
            <a:off x="6633360" y="641988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vishankara et al., 20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-55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04920" y="120600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Montreal Protocol successfully implemented a multi-basket approach to deal with the international problem of stratospheric ozone deple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alibri"/>
              </a:rPr>
              <a:t>A single-basket approach, as used in the Kyoto Protocol, can lead to some level of ambiguity in the climate impact of regul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regulation on some group of gases (e.g., HFCs) has the inadvertent affect of delaying C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regulation, this will have multi-century climate implic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treal Protoco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ultiple Basket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TextBox 2"/>
          <p:cNvSpPr/>
          <p:nvPr/>
        </p:nvSpPr>
        <p:spPr>
          <a:xfrm>
            <a:off x="266760" y="1765440"/>
            <a:ext cx="887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s of gases controlled separately (e.g., CFCs, HCFCs, halons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treal Protoco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ultiple Basket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Box 2"/>
          <p:cNvSpPr/>
          <p:nvPr/>
        </p:nvSpPr>
        <p:spPr>
          <a:xfrm>
            <a:off x="266760" y="1765440"/>
            <a:ext cx="8877240" cy="14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s of gases controlled separately (e.g., CFCs, HCFCs, halons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“trading” among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treal Protoco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ultiple Basket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2"/>
          <p:cNvSpPr/>
          <p:nvPr/>
        </p:nvSpPr>
        <p:spPr>
          <a:xfrm>
            <a:off x="266760" y="1765440"/>
            <a:ext cx="887724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s of gases controlled separately (e.g., CFCs, HCFCs, halons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“trading” among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successfu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Picture 3" descr=""/>
          <p:cNvPicPr/>
          <p:nvPr/>
        </p:nvPicPr>
        <p:blipFill>
          <a:blip r:embed="rId1"/>
          <a:stretch/>
        </p:blipFill>
        <p:spPr>
          <a:xfrm>
            <a:off x="4673520" y="2387520"/>
            <a:ext cx="3932280" cy="4124520"/>
          </a:xfrm>
          <a:prstGeom prst="rect">
            <a:avLst/>
          </a:prstGeom>
          <a:ln w="0">
            <a:noFill/>
          </a:ln>
        </p:spPr>
      </p:pic>
      <p:sp>
        <p:nvSpPr>
          <p:cNvPr id="506" name="TextBox 4"/>
          <p:cNvSpPr/>
          <p:nvPr/>
        </p:nvSpPr>
        <p:spPr>
          <a:xfrm>
            <a:off x="5370480" y="2703600"/>
            <a:ext cx="199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dapted fr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Velders et al, PNAS, 200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Box 6"/>
          <p:cNvSpPr/>
          <p:nvPr/>
        </p:nvSpPr>
        <p:spPr>
          <a:xfrm>
            <a:off x="8019720" y="4851360"/>
            <a:ext cx="1188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Meas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Suc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Box 7"/>
          <p:cNvSpPr/>
          <p:nvPr/>
        </p:nvSpPr>
        <p:spPr>
          <a:xfrm rot="18878400">
            <a:off x="6990840" y="394308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558ed5"/>
                </a:solidFill>
                <a:latin typeface="Calibri"/>
              </a:rPr>
              <a:t>No Protoc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Up-Down Arrow 5"/>
          <p:cNvSpPr/>
          <p:nvPr/>
        </p:nvSpPr>
        <p:spPr>
          <a:xfrm>
            <a:off x="7696080" y="4546440"/>
            <a:ext cx="432000" cy="1295640"/>
          </a:xfrm>
          <a:prstGeom prst="upDownArrow">
            <a:avLst>
              <a:gd name="adj1" fmla="val 50000"/>
              <a:gd name="adj2" fmla="val 49986"/>
            </a:avLst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treal Protoco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ultiple Basket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Box 2"/>
          <p:cNvSpPr/>
          <p:nvPr/>
        </p:nvSpPr>
        <p:spPr>
          <a:xfrm>
            <a:off x="266760" y="1765440"/>
            <a:ext cx="88772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s of gases controlled separately (e.g., CFCs, HCFCs, halons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“trading” among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successfu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FCs/HCFCs Illustr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2" name="Picture 3" descr=""/>
          <p:cNvPicPr/>
          <p:nvPr/>
        </p:nvPicPr>
        <p:blipFill>
          <a:blip r:embed="rId1"/>
          <a:stretch/>
        </p:blipFill>
        <p:spPr>
          <a:xfrm>
            <a:off x="4673520" y="2387520"/>
            <a:ext cx="3932280" cy="4124520"/>
          </a:xfrm>
          <a:prstGeom prst="rect">
            <a:avLst/>
          </a:prstGeom>
          <a:ln w="0">
            <a:noFill/>
          </a:ln>
        </p:spPr>
      </p:pic>
      <p:sp>
        <p:nvSpPr>
          <p:cNvPr id="513" name="TextBox 4"/>
          <p:cNvSpPr/>
          <p:nvPr/>
        </p:nvSpPr>
        <p:spPr>
          <a:xfrm>
            <a:off x="5370480" y="2703600"/>
            <a:ext cx="199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dapted fr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Velders et al, PNAS, 200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TextBox 6"/>
          <p:cNvSpPr/>
          <p:nvPr/>
        </p:nvSpPr>
        <p:spPr>
          <a:xfrm>
            <a:off x="8019720" y="4851360"/>
            <a:ext cx="1188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Meas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Suc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xtBox 7"/>
          <p:cNvSpPr/>
          <p:nvPr/>
        </p:nvSpPr>
        <p:spPr>
          <a:xfrm>
            <a:off x="6318000" y="413388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558ed5"/>
                </a:solidFill>
                <a:latin typeface="Calibri"/>
              </a:rPr>
              <a:t>No Protoc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Up-Down Arrow 5"/>
          <p:cNvSpPr/>
          <p:nvPr/>
        </p:nvSpPr>
        <p:spPr>
          <a:xfrm>
            <a:off x="7696080" y="4546440"/>
            <a:ext cx="432000" cy="1295640"/>
          </a:xfrm>
          <a:prstGeom prst="upDownArrow">
            <a:avLst>
              <a:gd name="adj1" fmla="val 50000"/>
              <a:gd name="adj2" fmla="val 49986"/>
            </a:avLst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7936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FC/HCFC Contribution to 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Deple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Picture 5" descr="idl.ps"/>
          <p:cNvPicPr/>
          <p:nvPr/>
        </p:nvPicPr>
        <p:blipFill>
          <a:blip r:embed="rId1"/>
          <a:stretch/>
        </p:blipFill>
        <p:spPr>
          <a:xfrm>
            <a:off x="1041480" y="1176480"/>
            <a:ext cx="7315200" cy="5421240"/>
          </a:xfrm>
          <a:prstGeom prst="rect">
            <a:avLst/>
          </a:prstGeom>
          <a:ln w="0">
            <a:noFill/>
          </a:ln>
        </p:spPr>
      </p:pic>
      <p:sp>
        <p:nvSpPr>
          <p:cNvPr id="519" name="Left-Right Arrow 2"/>
          <p:cNvSpPr/>
          <p:nvPr/>
        </p:nvSpPr>
        <p:spPr>
          <a:xfrm>
            <a:off x="4051440" y="2502000"/>
            <a:ext cx="3632040" cy="635040"/>
          </a:xfrm>
          <a:prstGeom prst="leftRightArrow">
            <a:avLst>
              <a:gd name="adj1" fmla="val 50000"/>
              <a:gd name="adj2" fmla="val 49992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j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Left-Right Arrow 4"/>
          <p:cNvSpPr/>
          <p:nvPr/>
        </p:nvSpPr>
        <p:spPr>
          <a:xfrm>
            <a:off x="2133720" y="2502000"/>
            <a:ext cx="1917720" cy="635040"/>
          </a:xfrm>
          <a:prstGeom prst="left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s - b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ct of a Trade to HCF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Picture 3" descr="idl.ps"/>
          <p:cNvPicPr/>
          <p:nvPr/>
        </p:nvPicPr>
        <p:blipFill>
          <a:blip r:embed="rId1"/>
          <a:stretch/>
        </p:blipFill>
        <p:spPr>
          <a:xfrm>
            <a:off x="1041480" y="1182600"/>
            <a:ext cx="73152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ngle-Basket Range of 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Deple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4" name="Picture 3" descr="idl.ps"/>
          <p:cNvPicPr/>
          <p:nvPr/>
        </p:nvPicPr>
        <p:blipFill>
          <a:blip r:embed="rId1"/>
          <a:stretch/>
        </p:blipFill>
        <p:spPr>
          <a:xfrm>
            <a:off x="1041480" y="1182600"/>
            <a:ext cx="73152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2:54:02Z</dcterms:created>
  <dc:creator>John Daniel</dc:creator>
  <dc:description/>
  <dc:language>en-US</dc:language>
  <cp:lastModifiedBy>John Daniel</cp:lastModifiedBy>
  <dcterms:modified xsi:type="dcterms:W3CDTF">2012-03-29T21:11:55Z</dcterms:modified>
  <cp:revision>119</cp:revision>
  <dc:subject/>
  <dc:title>Limitations of Single-Basekt Trading: Lessons from the Montreal Protocol for Climate Policy </dc:title>
</cp:coreProperties>
</file>