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4.png" ContentType="image/png"/>
  <Override PartName="/ppt/media/image15.png" ContentType="image/png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16.wmf" ContentType="image/x-wmf"/>
  <Override PartName="/ppt/media/image8.png" ContentType="image/pn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8E0A16-7B87-4E0F-BD14-C64451793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lications of the particular control strategy to its suc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B2E6B4-7A9C-49E5-8B60-90513C24E0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1A6C58-8D64-494D-89BD-A2289BC81E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es begin in about 20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6A4DEF-4275-4A98-B4F0-9CBAAAECE7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GWP-weighted emission level is prescribed for every year, depending on how trading occurs,  the range of T increases by 2400 will be 2-4C, with the range continuing to exp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EC047F-C666-4E58-B8D3-7BB4ACD5DB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lications of the particular control strategy to its suc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1FAC22-815D-49BB-8CB4-40F627C9EE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haps mention advantage of HFC phaseout in terms of avoiding future forcing – and in a multi-basket approach, you know what you will 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point out issu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503829-DC94-436A-A005-5FD9418EE8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ous groups diff phaseout sched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tions of Gases within a group could be traded with reductions of other gases in the same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DC6671-5440-4A5F-A95B-93D099C21C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25649B-6A8B-4F99-8B5A-A35947EE6F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ill use CFCs and HCFCs to explore the hypothetical impacts of a different control strategy – one where CFC and HCFC production could be tra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84DB14-3D9E-4320-944A-81CD04BB1C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this with equiv eff strat chlorine or EESC, which is a metric that relates to the amount of chlorine and bromine available to destroy strat o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 cu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f, when MP controls went into force, the ODP-weighted emission were kept identical to those used to generate this curve, but all emissions were traded to HCFC emissions, with no CFC emissio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0C2379-BF6A-45CB-BB15-0DF6A9DA45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be relate ss ODPs to time-dependent OD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058390-E468-4B15-A7C8-B020CD7475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k uncertain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st phaseout leads to not much spread in future possibi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B5A39B-2F05-4F60-B844-5A740FD3D6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C2004-2EE0-4E85-A41C-C56ED9B9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F87C5-92B8-4EE4-A34D-D4D827E2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14409-D818-49C3-A68E-40862CDB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91382-EDA5-4D70-BAB7-85D42C8F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FE957-A10B-4C9D-B086-4CBFB070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4F45A-5C97-4841-A5C1-2960B824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61BAF-35E8-4038-BE22-9B4ECFC2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CC0BA-588B-417F-8F9B-15E69714D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F229D-681E-4491-801B-097ED1936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213721-5E10-4ABE-A201-AB41C82DC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7D68E-9A5C-4B11-92CF-BEBA0B47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87DAA-B593-4379-A3F4-C84F1A42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F42AD-0994-46F7-AB10-F1126E68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790EA-A30E-4636-8E4D-E52DD685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8C6D3-A08B-44C6-8978-3A6A7419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2EA22-10FA-4B0E-9623-954473A6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9C686-1A33-4A43-A046-FFC49F7E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B55A4-AE71-455B-AD8A-04031ADF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4B940-8BE6-46A2-AF1F-7E618544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EDDDEB-C794-4605-A13A-2628E610E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BA8E7-4470-4EC1-BDFA-F63EA412D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DD0A4-E6DB-44EA-A7ED-48AA4A1EF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4DA4B1-AA38-42E8-9A37-DDE44E45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F47EDD-3F0D-497C-AA4B-22A06073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2A9BD5-0C98-435C-B0F5-9FB579B7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387F9-8EAE-497A-AA3E-9F8EBD25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548AEA-6B52-4CAD-8024-3464F520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7D849E-9E55-45D6-951F-1C06D862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0B697-A3C1-443E-9738-0892680E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E19A4E-191A-45D2-B2EC-B4977C14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E93C-4D8D-4F91-8679-4A1A640E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422357-722D-4984-A2D7-7E9E9A00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2C58B3-3F1A-415F-B329-C2757DDEB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0445C2-2DB6-49B4-9E79-4384A38A6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322AC-782D-4CC6-8CBC-98B2A7C04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1FE36-6F31-4067-9E00-0FB30433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A83DD-B77F-42A2-B1A0-30E5E056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6DF7D-4CD2-4FD6-82D2-EC7A3865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F0F6F-F13E-4F7B-9A89-6964718D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5E87D-B3A9-47B9-8200-A6F1004F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E0686-8609-4B80-8A66-273EDB3E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7BF7-B4E3-44E8-A93B-4116C10E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3E3D3-B9EF-4DC2-9C67-E03E3B5F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E4860-B31E-480C-B805-2BB45E21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B96A5-E187-47BA-8C44-B1C51CE6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AD50A-BB28-4645-8B36-C6BF419CE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007FE-3122-4E64-966D-6F400634E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BB8A-B0EB-4CFD-8876-958BE8E0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2741-9EC4-413C-AAB1-E3337F1F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C575-3409-4E17-A240-FE75E95B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921F-9EBF-41A4-8255-5F28449E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B304-B9B7-45DA-8B53-3C8BEC1F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D686-2956-44C1-9FD9-25BBF6BA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9E93-5BFD-4131-A206-71D0D8C5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6FD7-E854-4228-AD9B-B7493815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4A26-F123-406D-9ECB-5A05CF54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D1F7-8495-43E4-93BC-4FA396B34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6EA4-FD3A-4BF6-80C6-C20F8C5D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846C-3998-4F6B-B673-821FD69E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1956-DAD6-4EB1-93E7-FFA762E2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7202-5509-4E46-A5B3-15CE39EB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9487-BDC0-4893-81DF-E355348E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71BB-6180-45B6-BCA4-409568C1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6CBC-3BB1-4856-A066-BFC14DE5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8633-A972-4B95-9C84-6E194090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C4A7-5DE4-4057-8BAB-95D0B283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C24A-54D5-4A2C-BD84-699EACC2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3557-22D3-4535-B3DC-8D0F97CBF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5AD3-149D-4ECD-B3BA-852514B5A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E56E8-1449-42BA-B16D-E253AF27B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2C828-4A4E-4E22-B74A-72402C28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B469C-ACF4-475F-B293-3C51CD34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B1F8D-0DAB-4D8B-A9B1-BA3BAFD2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86264-0437-434D-AD26-57F7341A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AB969-16A6-4F1F-9974-AFD6A659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299E7-3C66-4B51-87A8-CB9F604B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F9C93-2494-444D-AEF6-9AAA49F3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2D5BC-C9C0-40C9-9386-6761522B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18512-EA61-423A-8DF9-11CDE010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6D1F3-6E13-45E1-A0D8-55643C9F0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76289-55F2-40C8-9591-CC59975A8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E9976-BB24-4C65-992D-F66FA1A49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CAE6D-D5CA-45DD-9F3F-59F044F3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91D7F-264F-4A99-A55C-4B6F74E8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52411-4E79-4469-BEE0-D64E522B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7B3CA-6248-4385-ADA6-054B8167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35DAE-3302-43C3-95FF-8B4C8230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6E5B3-84F1-4633-9C92-CE196AEE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80C19-7F49-4D80-B392-B79C2409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133B8-28ED-4D17-A9B5-553D694E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FBA95-217E-4B48-AA80-D90C55D7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0376F-898B-4F33-BF5F-0A7C5344A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43382-E975-4B39-9876-CC3AECB61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28B63-B6B2-44C6-A0F6-6C75BEA51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D346C-40EA-4E41-81D6-AAEF604A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8E240-7167-4E13-8957-833B2174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E86FE-FA1C-4EF5-A2DC-E4A167F7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EB311-4327-4400-BD94-6193B1B9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F3922-C061-4698-9D08-A53892F2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9C20B-0403-46AD-BD06-E3D64F88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ABE51-C285-4FC9-9131-09CF4697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8DA9A-658A-459D-A400-3C063893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73E24-3299-422D-89D7-296198D3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5181A-FC8E-4C99-A40D-7E927A699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D6745-B753-43E3-BE70-5FF6CC297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90707-2933-4CA0-9CEA-7FC71411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37B59-0CD4-4D0A-BA3E-2A0D58BE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963E8-F98D-4A18-BF30-ADD335ED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50375-772D-4ED2-972C-2ED2E98D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3483C-0CE2-4F63-B30D-4B20C1CF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D0B47-1EB1-4BED-BCF4-277E7891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C6E13-337D-44BA-9624-B0162FB8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EC789-89FE-4979-B8CC-4C5CAB75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822DD-22BB-482B-9859-78C23665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16AD1-0AE6-4781-8DBD-127D2281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DE726-2AFF-4120-88A9-B965496E5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70A64-F67B-43A8-BC56-5B62BD025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C09E9-4448-4EE0-8BFE-E70DD14B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1F013-A299-4E35-B3F3-088974E8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6A8DA-9E93-45A5-903D-D5034F0C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740D4-4A14-481E-85BD-08A95DD7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FE43B-7C39-43A9-BEF2-A680C159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F0C0C-DCF9-4998-AF92-928AFF15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C8469-8B39-4A52-AD5D-FDFFD5B1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ACD27-2101-4A15-806D-A231ED82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93353-B89A-42D1-AE1F-6953B956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84BF9-8F31-42D9-9915-E93F885D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F0B06-D6AE-4E66-AF22-25965E4A1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9D6C6-9E6C-4D7F-95A9-75E854128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1D76A-E0DD-4370-963C-132787EAB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97D34-3BD4-42F6-9CB2-571194A5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4AC76-1D76-4F10-AD38-2A895317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A637F1-24CC-44A2-B12C-828C7CA6B5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06B221-2CF2-442F-990F-7A3B75A3BF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D51AEA-C02E-4A0C-93FD-0C028799A4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172661-EA71-4E89-B346-03FE37D7FA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FCB5A0-C693-41EA-9C83-594198A34E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8CAAB4-30D4-43C3-B3F2-C22ED6EE17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14C7F5-AE4A-41E1-AA40-23F62035C5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D8C783-119B-4E58-93E1-BEDFDB067C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04EDFF-B42F-4CFF-969D-F4B6EE6FFE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25AFA2-E362-4016-9AE1-C76A2B5A19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BF6B1F-2FAB-4071-9A55-D3DA9B221D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7" name="Content Placeholder 4" descr=""/>
          <p:cNvPicPr/>
          <p:nvPr/>
        </p:nvPicPr>
        <p:blipFill>
          <a:blip r:embed="rId1"/>
          <a:srcRect l="0" t="13341" r="0" b="13341"/>
          <a:stretch/>
        </p:blipFill>
        <p:spPr>
          <a:xfrm>
            <a:off x="-2549520" y="-838080"/>
            <a:ext cx="11887200" cy="7772400"/>
          </a:xfrm>
          <a:prstGeom prst="rect">
            <a:avLst/>
          </a:prstGeom>
          <a:ln w="0">
            <a:noFill/>
          </a:ln>
        </p:spPr>
      </p:pic>
      <p:sp>
        <p:nvSpPr>
          <p:cNvPr id="488" name="Title 1"/>
          <p:cNvSpPr/>
          <p:nvPr/>
        </p:nvSpPr>
        <p:spPr>
          <a:xfrm>
            <a:off x="114480" y="185760"/>
            <a:ext cx="8864280" cy="1096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alibri"/>
              </a:rPr>
              <a:t>Limitations of Single-Basket Trad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alibri"/>
              </a:rPr>
              <a:t>Lessons from the Montreal Protocol for Climate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Picture 7" descr=""/>
          <p:cNvPicPr/>
          <p:nvPr/>
        </p:nvPicPr>
        <p:blipFill>
          <a:blip r:embed="rId2"/>
          <a:stretch/>
        </p:blipFill>
        <p:spPr>
          <a:xfrm>
            <a:off x="52560" y="5504040"/>
            <a:ext cx="1353960" cy="1353960"/>
          </a:xfrm>
          <a:prstGeom prst="rect">
            <a:avLst/>
          </a:prstGeom>
          <a:ln w="0">
            <a:noFill/>
          </a:ln>
        </p:spPr>
      </p:pic>
      <p:sp>
        <p:nvSpPr>
          <p:cNvPr id="490" name="TextBox 9"/>
          <p:cNvSpPr/>
          <p:nvPr/>
        </p:nvSpPr>
        <p:spPr>
          <a:xfrm>
            <a:off x="2333160" y="1257480"/>
            <a:ext cx="4833360" cy="11912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John S. Dani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National Oceanic and Atmospheric Adminis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Chemical Sciences Div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Boulder, Colorado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TextBox 10"/>
          <p:cNvSpPr/>
          <p:nvPr/>
        </p:nvSpPr>
        <p:spPr>
          <a:xfrm>
            <a:off x="1720800" y="5921280"/>
            <a:ext cx="7616880" cy="916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mitations of Single-Basket Trading: Lessons from the Montreal Protocol for Climate Policy, Daniel, Solomon, Sanford, McFarland, Fuglestvedt, and Friedlingstein, Climatic Change, 2012 (online 2011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19" descr=""/>
          <p:cNvPicPr/>
          <p:nvPr/>
        </p:nvPicPr>
        <p:blipFill>
          <a:blip r:embed="rId1"/>
          <a:stretch/>
        </p:blipFill>
        <p:spPr>
          <a:xfrm>
            <a:off x="-3201840" y="-1668600"/>
            <a:ext cx="10972800" cy="1097280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46280" y="-3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yoto Protoco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ingle Basket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7" name="Group 20"/>
          <p:cNvGrpSpPr/>
          <p:nvPr/>
        </p:nvGrpSpPr>
        <p:grpSpPr>
          <a:xfrm>
            <a:off x="564480" y="1417680"/>
            <a:ext cx="3390120" cy="2572560"/>
            <a:chOff x="564480" y="1417680"/>
            <a:chExt cx="3390120" cy="2572560"/>
          </a:xfrm>
        </p:grpSpPr>
        <p:sp>
          <p:nvSpPr>
            <p:cNvPr id="528" name="TextBox 4"/>
            <p:cNvSpPr/>
            <p:nvPr/>
          </p:nvSpPr>
          <p:spPr>
            <a:xfrm rot="16380000">
              <a:off x="2411280" y="290412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PFC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TextBox 5"/>
            <p:cNvSpPr/>
            <p:nvPr/>
          </p:nvSpPr>
          <p:spPr>
            <a:xfrm>
              <a:off x="564480" y="3143520"/>
              <a:ext cx="637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CO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TextBox 6"/>
            <p:cNvSpPr/>
            <p:nvPr/>
          </p:nvSpPr>
          <p:spPr>
            <a:xfrm>
              <a:off x="970560" y="1762920"/>
              <a:ext cx="62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CH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TextBox 7"/>
            <p:cNvSpPr/>
            <p:nvPr/>
          </p:nvSpPr>
          <p:spPr>
            <a:xfrm>
              <a:off x="1569600" y="3480120"/>
              <a:ext cx="677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N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2</a:t>
              </a: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TextBox 8"/>
            <p:cNvSpPr/>
            <p:nvPr/>
          </p:nvSpPr>
          <p:spPr>
            <a:xfrm rot="16800000">
              <a:off x="3260520" y="3213720"/>
              <a:ext cx="79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HFC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TextBox 9"/>
            <p:cNvSpPr/>
            <p:nvPr/>
          </p:nvSpPr>
          <p:spPr>
            <a:xfrm>
              <a:off x="1694520" y="1417680"/>
              <a:ext cx="55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SF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19" descr=""/>
          <p:cNvPicPr/>
          <p:nvPr/>
        </p:nvPicPr>
        <p:blipFill>
          <a:blip r:embed="rId1"/>
          <a:stretch/>
        </p:blipFill>
        <p:spPr>
          <a:xfrm>
            <a:off x="-3201840" y="-1668600"/>
            <a:ext cx="10972800" cy="1097280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46280" y="-3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yoto Protoco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ingle Basket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6" name="Group 20"/>
          <p:cNvGrpSpPr/>
          <p:nvPr/>
        </p:nvGrpSpPr>
        <p:grpSpPr>
          <a:xfrm>
            <a:off x="564480" y="1417680"/>
            <a:ext cx="3390120" cy="2572560"/>
            <a:chOff x="564480" y="1417680"/>
            <a:chExt cx="3390120" cy="2572560"/>
          </a:xfrm>
        </p:grpSpPr>
        <p:sp>
          <p:nvSpPr>
            <p:cNvPr id="537" name="TextBox 4"/>
            <p:cNvSpPr/>
            <p:nvPr/>
          </p:nvSpPr>
          <p:spPr>
            <a:xfrm rot="16380000">
              <a:off x="2411280" y="290412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PFC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TextBox 5"/>
            <p:cNvSpPr/>
            <p:nvPr/>
          </p:nvSpPr>
          <p:spPr>
            <a:xfrm>
              <a:off x="564480" y="3143520"/>
              <a:ext cx="637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CO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TextBox 6"/>
            <p:cNvSpPr/>
            <p:nvPr/>
          </p:nvSpPr>
          <p:spPr>
            <a:xfrm>
              <a:off x="970560" y="1762920"/>
              <a:ext cx="62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CH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TextBox 7"/>
            <p:cNvSpPr/>
            <p:nvPr/>
          </p:nvSpPr>
          <p:spPr>
            <a:xfrm>
              <a:off x="1569600" y="3480120"/>
              <a:ext cx="677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N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2</a:t>
              </a: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TextBox 8"/>
            <p:cNvSpPr/>
            <p:nvPr/>
          </p:nvSpPr>
          <p:spPr>
            <a:xfrm rot="16800000">
              <a:off x="3260520" y="3213720"/>
              <a:ext cx="79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HFC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TextBox 9"/>
            <p:cNvSpPr/>
            <p:nvPr/>
          </p:nvSpPr>
          <p:spPr>
            <a:xfrm>
              <a:off x="1694520" y="1417680"/>
              <a:ext cx="55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SF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3" name="Chart 25" descr=""/>
          <p:cNvPicPr/>
          <p:nvPr/>
        </p:nvPicPr>
        <p:blipFill>
          <a:blip r:embed="rId2"/>
          <a:stretch/>
        </p:blipFill>
        <p:spPr>
          <a:xfrm>
            <a:off x="4267080" y="2567160"/>
            <a:ext cx="4559400" cy="3327120"/>
          </a:xfrm>
          <a:prstGeom prst="rect">
            <a:avLst/>
          </a:prstGeom>
          <a:ln w="0">
            <a:noFill/>
          </a:ln>
        </p:spPr>
      </p:pic>
      <p:sp>
        <p:nvSpPr>
          <p:cNvPr id="544" name="TextBox 27"/>
          <p:cNvSpPr/>
          <p:nvPr/>
        </p:nvSpPr>
        <p:spPr>
          <a:xfrm>
            <a:off x="6070320" y="236844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0 Radiative Forc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9" descr=""/>
          <p:cNvPicPr/>
          <p:nvPr/>
        </p:nvPicPr>
        <p:blipFill>
          <a:blip r:embed="rId1"/>
          <a:stretch/>
        </p:blipFill>
        <p:spPr>
          <a:xfrm>
            <a:off x="-3201840" y="-1668600"/>
            <a:ext cx="10972800" cy="1097280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46280" y="-3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yoto Protoco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ingle Basket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7" name="Group 20"/>
          <p:cNvGrpSpPr/>
          <p:nvPr/>
        </p:nvGrpSpPr>
        <p:grpSpPr>
          <a:xfrm>
            <a:off x="564480" y="1417680"/>
            <a:ext cx="3390120" cy="2572560"/>
            <a:chOff x="564480" y="1417680"/>
            <a:chExt cx="3390120" cy="2572560"/>
          </a:xfrm>
        </p:grpSpPr>
        <p:sp>
          <p:nvSpPr>
            <p:cNvPr id="548" name="TextBox 4"/>
            <p:cNvSpPr/>
            <p:nvPr/>
          </p:nvSpPr>
          <p:spPr>
            <a:xfrm rot="16380000">
              <a:off x="2411280" y="290412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PFC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TextBox 5"/>
            <p:cNvSpPr/>
            <p:nvPr/>
          </p:nvSpPr>
          <p:spPr>
            <a:xfrm>
              <a:off x="564480" y="3143520"/>
              <a:ext cx="637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CO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TextBox 6"/>
            <p:cNvSpPr/>
            <p:nvPr/>
          </p:nvSpPr>
          <p:spPr>
            <a:xfrm>
              <a:off x="970560" y="1762920"/>
              <a:ext cx="62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CH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TextBox 7"/>
            <p:cNvSpPr/>
            <p:nvPr/>
          </p:nvSpPr>
          <p:spPr>
            <a:xfrm>
              <a:off x="1569600" y="3480120"/>
              <a:ext cx="677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N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2</a:t>
              </a: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TextBox 8"/>
            <p:cNvSpPr/>
            <p:nvPr/>
          </p:nvSpPr>
          <p:spPr>
            <a:xfrm rot="16800000">
              <a:off x="3260520" y="3213720"/>
              <a:ext cx="79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HFC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TextBox 9"/>
            <p:cNvSpPr/>
            <p:nvPr/>
          </p:nvSpPr>
          <p:spPr>
            <a:xfrm>
              <a:off x="1694520" y="1417680"/>
              <a:ext cx="55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SF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4" name="Chart 25" descr=""/>
          <p:cNvPicPr/>
          <p:nvPr/>
        </p:nvPicPr>
        <p:blipFill>
          <a:blip r:embed="rId2"/>
          <a:stretch/>
        </p:blipFill>
        <p:spPr>
          <a:xfrm>
            <a:off x="4267080" y="2567160"/>
            <a:ext cx="4559400" cy="3327120"/>
          </a:xfrm>
          <a:prstGeom prst="rect">
            <a:avLst/>
          </a:prstGeom>
          <a:ln w="0">
            <a:noFill/>
          </a:ln>
        </p:spPr>
      </p:pic>
      <p:sp>
        <p:nvSpPr>
          <p:cNvPr id="555" name="Oval 26"/>
          <p:cNvSpPr/>
          <p:nvPr/>
        </p:nvSpPr>
        <p:spPr>
          <a:xfrm>
            <a:off x="4470480" y="4280040"/>
            <a:ext cx="4673520" cy="723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Box 27"/>
          <p:cNvSpPr/>
          <p:nvPr/>
        </p:nvSpPr>
        <p:spPr>
          <a:xfrm>
            <a:off x="6070320" y="236844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0 Radiative Forc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/C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Impact on Climat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(RCP4.5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Picture 5" descr="idl.ps"/>
          <p:cNvPicPr/>
          <p:nvPr/>
        </p:nvPicPr>
        <p:blipFill>
          <a:blip r:embed="rId1"/>
          <a:stretch/>
        </p:blipFill>
        <p:spPr>
          <a:xfrm>
            <a:off x="38160" y="162576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mpact of a Trade to All C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Emiss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0" name="Picture 4" descr="idl.ps"/>
          <p:cNvPicPr/>
          <p:nvPr/>
        </p:nvPicPr>
        <p:blipFill>
          <a:blip r:embed="rId1"/>
          <a:stretch/>
        </p:blipFill>
        <p:spPr>
          <a:xfrm>
            <a:off x="38160" y="162576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561" name="TextBox 2"/>
          <p:cNvSpPr/>
          <p:nvPr/>
        </p:nvSpPr>
        <p:spPr>
          <a:xfrm>
            <a:off x="7592760" y="4013280"/>
            <a:ext cx="816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ll 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2" name="Straight Arrow Connector 5"/>
          <p:cNvCxnSpPr/>
          <p:nvPr/>
        </p:nvCxnSpPr>
        <p:spPr>
          <a:xfrm flipV="1">
            <a:off x="7911720" y="3619080"/>
            <a:ext cx="13320" cy="4197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4" descr="idl.ps"/>
          <p:cNvPicPr/>
          <p:nvPr/>
        </p:nvPicPr>
        <p:blipFill>
          <a:blip r:embed="rId1"/>
          <a:stretch/>
        </p:blipFill>
        <p:spPr>
          <a:xfrm>
            <a:off x="38160" y="162576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564" name="Title 1"/>
          <p:cNvSpPr/>
          <p:nvPr/>
        </p:nvSpPr>
        <p:spPr>
          <a:xfrm>
            <a:off x="469800" y="6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mpact of a Trade to All C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Emiss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Box 5"/>
          <p:cNvSpPr/>
          <p:nvPr/>
        </p:nvSpPr>
        <p:spPr>
          <a:xfrm>
            <a:off x="6807240" y="2082960"/>
            <a:ext cx="825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All C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6" name="Straight Arrow Connector 6"/>
          <p:cNvCxnSpPr/>
          <p:nvPr/>
        </p:nvCxnSpPr>
        <p:spPr>
          <a:xfrm>
            <a:off x="7574040" y="2355840"/>
            <a:ext cx="326160" cy="1864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mbiguity of Single Bask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Picture 3" descr="idl.ps"/>
          <p:cNvPicPr/>
          <p:nvPr/>
        </p:nvPicPr>
        <p:blipFill>
          <a:blip r:embed="rId1"/>
          <a:stretch/>
        </p:blipFill>
        <p:spPr>
          <a:xfrm>
            <a:off x="38160" y="162576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mplications for HF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0" name="Picture 7" descr=""/>
          <p:cNvPicPr/>
          <p:nvPr/>
        </p:nvPicPr>
        <p:blipFill>
          <a:blip r:embed="rId1"/>
          <a:stretch/>
        </p:blipFill>
        <p:spPr>
          <a:xfrm>
            <a:off x="399960" y="1574640"/>
            <a:ext cx="4152960" cy="4572000"/>
          </a:xfrm>
          <a:prstGeom prst="rect">
            <a:avLst/>
          </a:prstGeom>
          <a:ln w="0">
            <a:noFill/>
          </a:ln>
        </p:spPr>
      </p:pic>
      <p:sp>
        <p:nvSpPr>
          <p:cNvPr id="571" name="TextBox 8"/>
          <p:cNvSpPr/>
          <p:nvPr/>
        </p:nvSpPr>
        <p:spPr>
          <a:xfrm>
            <a:off x="1996560" y="5218200"/>
            <a:ext cx="225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elders et al, PNAS,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mplications for HF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Picture 7" descr=""/>
          <p:cNvPicPr/>
          <p:nvPr/>
        </p:nvPicPr>
        <p:blipFill>
          <a:blip r:embed="rId1"/>
          <a:stretch/>
        </p:blipFill>
        <p:spPr>
          <a:xfrm>
            <a:off x="399960" y="1574640"/>
            <a:ext cx="4152960" cy="4572000"/>
          </a:xfrm>
          <a:prstGeom prst="rect">
            <a:avLst/>
          </a:prstGeom>
          <a:ln w="0">
            <a:noFill/>
          </a:ln>
        </p:spPr>
      </p:pic>
      <p:sp>
        <p:nvSpPr>
          <p:cNvPr id="574" name="TextBox 8"/>
          <p:cNvSpPr/>
          <p:nvPr/>
        </p:nvSpPr>
        <p:spPr>
          <a:xfrm>
            <a:off x="1996560" y="5218200"/>
            <a:ext cx="225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elders et al, PNAS,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5" name="Chart 14" descr=""/>
          <p:cNvPicPr/>
          <p:nvPr/>
        </p:nvPicPr>
        <p:blipFill>
          <a:blip r:embed="rId2"/>
          <a:stretch/>
        </p:blipFill>
        <p:spPr>
          <a:xfrm>
            <a:off x="4462560" y="2981160"/>
            <a:ext cx="4584600" cy="3170520"/>
          </a:xfrm>
          <a:prstGeom prst="rect">
            <a:avLst/>
          </a:prstGeom>
          <a:ln w="0">
            <a:noFill/>
          </a:ln>
        </p:spPr>
      </p:pic>
      <p:sp>
        <p:nvSpPr>
          <p:cNvPr id="576" name="TextBox 15"/>
          <p:cNvSpPr/>
          <p:nvPr/>
        </p:nvSpPr>
        <p:spPr>
          <a:xfrm>
            <a:off x="8610480" y="48132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Right Arrow 16"/>
          <p:cNvSpPr/>
          <p:nvPr/>
        </p:nvSpPr>
        <p:spPr>
          <a:xfrm>
            <a:off x="8567640" y="4889520"/>
            <a:ext cx="152640" cy="2682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Box 17"/>
          <p:cNvSpPr/>
          <p:nvPr/>
        </p:nvSpPr>
        <p:spPr>
          <a:xfrm>
            <a:off x="6268680" y="2351160"/>
            <a:ext cx="27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iative Forcing Chan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m 2010 to 2050 (RCP8.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mplications for HF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8"/>
          <p:cNvSpPr/>
          <p:nvPr/>
        </p:nvSpPr>
        <p:spPr>
          <a:xfrm>
            <a:off x="2376360" y="5218200"/>
            <a:ext cx="18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elders, PNAS,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Rectangle 2"/>
          <p:cNvSpPr/>
          <p:nvPr/>
        </p:nvSpPr>
        <p:spPr>
          <a:xfrm>
            <a:off x="-317520" y="1600200"/>
            <a:ext cx="5168880" cy="43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Picture 7" descr=""/>
          <p:cNvPicPr/>
          <p:nvPr/>
        </p:nvPicPr>
        <p:blipFill>
          <a:blip r:embed="rId1"/>
          <a:stretch/>
        </p:blipFill>
        <p:spPr>
          <a:xfrm>
            <a:off x="399960" y="1574640"/>
            <a:ext cx="4152960" cy="4572000"/>
          </a:xfrm>
          <a:prstGeom prst="rect">
            <a:avLst/>
          </a:prstGeom>
          <a:ln w="0">
            <a:noFill/>
          </a:ln>
        </p:spPr>
      </p:pic>
      <p:sp>
        <p:nvSpPr>
          <p:cNvPr id="583" name="TextBox 12"/>
          <p:cNvSpPr/>
          <p:nvPr/>
        </p:nvSpPr>
        <p:spPr>
          <a:xfrm>
            <a:off x="1397160" y="309240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his can all be avoi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traight Connector 18"/>
          <p:cNvSpPr/>
          <p:nvPr/>
        </p:nvSpPr>
        <p:spPr>
          <a:xfrm flipH="1" flipV="1">
            <a:off x="3086280" y="3568320"/>
            <a:ext cx="482400" cy="190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Content Placeholder 4" descr=""/>
          <p:cNvPicPr/>
          <p:nvPr/>
        </p:nvPicPr>
        <p:blipFill>
          <a:blip r:embed="rId1"/>
          <a:srcRect l="0" t="13341" r="0" b="13341"/>
          <a:stretch/>
        </p:blipFill>
        <p:spPr>
          <a:xfrm>
            <a:off x="-2549520" y="-838080"/>
            <a:ext cx="11887200" cy="7772400"/>
          </a:xfrm>
          <a:prstGeom prst="rect">
            <a:avLst/>
          </a:prstGeom>
          <a:ln w="0">
            <a:noFill/>
          </a:ln>
        </p:spPr>
      </p:pic>
      <p:sp>
        <p:nvSpPr>
          <p:cNvPr id="494" name="Title 1"/>
          <p:cNvSpPr/>
          <p:nvPr/>
        </p:nvSpPr>
        <p:spPr>
          <a:xfrm>
            <a:off x="114480" y="185760"/>
            <a:ext cx="8864280" cy="1096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alibri"/>
              </a:rPr>
              <a:t>Limitations of Single-Basket Trad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alibri"/>
              </a:rPr>
              <a:t>Lessons from the Montreal Protocol for Climate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5" name="Picture 7" descr=""/>
          <p:cNvPicPr/>
          <p:nvPr/>
        </p:nvPicPr>
        <p:blipFill>
          <a:blip r:embed="rId2"/>
          <a:stretch/>
        </p:blipFill>
        <p:spPr>
          <a:xfrm>
            <a:off x="52560" y="5504040"/>
            <a:ext cx="1353960" cy="1353960"/>
          </a:xfrm>
          <a:prstGeom prst="rect">
            <a:avLst/>
          </a:prstGeom>
          <a:ln w="0">
            <a:noFill/>
          </a:ln>
        </p:spPr>
      </p:pic>
      <p:sp>
        <p:nvSpPr>
          <p:cNvPr id="496" name="TextBox 2"/>
          <p:cNvSpPr/>
          <p:nvPr/>
        </p:nvSpPr>
        <p:spPr>
          <a:xfrm>
            <a:off x="2754360" y="4245120"/>
            <a:ext cx="4244760" cy="1373760"/>
          </a:xfrm>
          <a:prstGeom prst="rect">
            <a:avLst/>
          </a:prstGeom>
          <a:solidFill>
            <a:srgbClr val="bfbfb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alibri"/>
              </a:rPr>
              <a:t>Montreal Protocol Suc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alibri"/>
              </a:rPr>
              <a:t>A Lesson for Climate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alibri"/>
              </a:rPr>
              <a:t>Implications for HFC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9"/>
          <p:cNvSpPr/>
          <p:nvPr/>
        </p:nvSpPr>
        <p:spPr>
          <a:xfrm>
            <a:off x="2333160" y="1257480"/>
            <a:ext cx="4833360" cy="11912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John S. Dani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National Oceanic and Atmospheric Adminis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Chemical Sciences Div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Boulder, Colorado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TextBox 10"/>
          <p:cNvSpPr/>
          <p:nvPr/>
        </p:nvSpPr>
        <p:spPr>
          <a:xfrm>
            <a:off x="1720800" y="5921280"/>
            <a:ext cx="7616880" cy="916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mitations of Single-Basket Trading: Lessons from the Montreal Protocol for Climate Policy, Daniel, Solomon, Sanford, McFarland, Fuglestvedt, and Friedlingstein, Climatic Change, 2012 (online 2011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mplications for HF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8"/>
          <p:cNvSpPr/>
          <p:nvPr/>
        </p:nvSpPr>
        <p:spPr>
          <a:xfrm>
            <a:off x="2376360" y="5218200"/>
            <a:ext cx="18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elders, PNAS,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7" name="Group 3" descr=""/>
          <p:cNvPicPr/>
          <p:nvPr/>
        </p:nvPicPr>
        <p:blipFill>
          <a:blip r:embed="rId1"/>
          <a:stretch/>
        </p:blipFill>
        <p:spPr>
          <a:xfrm>
            <a:off x="-328680" y="1494000"/>
            <a:ext cx="9539280" cy="45828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7" descr=""/>
          <p:cNvPicPr/>
          <p:nvPr/>
        </p:nvPicPr>
        <p:blipFill>
          <a:blip r:embed="rId2"/>
          <a:stretch/>
        </p:blipFill>
        <p:spPr>
          <a:xfrm>
            <a:off x="399960" y="1574640"/>
            <a:ext cx="4152960" cy="4572000"/>
          </a:xfrm>
          <a:prstGeom prst="rect">
            <a:avLst/>
          </a:prstGeom>
          <a:ln w="0">
            <a:noFill/>
          </a:ln>
        </p:spPr>
      </p:pic>
      <p:sp>
        <p:nvSpPr>
          <p:cNvPr id="589" name="Oval 4"/>
          <p:cNvSpPr/>
          <p:nvPr/>
        </p:nvSpPr>
        <p:spPr>
          <a:xfrm>
            <a:off x="7149960" y="1828800"/>
            <a:ext cx="1994040" cy="1320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Box 5"/>
          <p:cNvSpPr/>
          <p:nvPr/>
        </p:nvSpPr>
        <p:spPr>
          <a:xfrm>
            <a:off x="6390000" y="4227480"/>
            <a:ext cx="251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otent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Long-term penal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1" name="Straight Arrow Connector 10"/>
          <p:cNvCxnSpPr/>
          <p:nvPr/>
        </p:nvCxnSpPr>
        <p:spPr>
          <a:xfrm flipV="1">
            <a:off x="7709040" y="2552400"/>
            <a:ext cx="978480" cy="1675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2" name="TextBox 12"/>
          <p:cNvSpPr/>
          <p:nvPr/>
        </p:nvSpPr>
        <p:spPr>
          <a:xfrm>
            <a:off x="1397160" y="309240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his can all be avoi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traight Connector 18"/>
          <p:cNvSpPr/>
          <p:nvPr/>
        </p:nvSpPr>
        <p:spPr>
          <a:xfrm flipH="1" flipV="1">
            <a:off x="3086280" y="3568320"/>
            <a:ext cx="482400" cy="190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Up-Down Arrow 19"/>
          <p:cNvSpPr/>
          <p:nvPr/>
        </p:nvSpPr>
        <p:spPr>
          <a:xfrm>
            <a:off x="8686800" y="2286000"/>
            <a:ext cx="139680" cy="266760"/>
          </a:xfrm>
          <a:prstGeom prst="upDownArrow">
            <a:avLst>
              <a:gd name="adj1" fmla="val 50000"/>
              <a:gd name="adj2" fmla="val 5001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96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 and Ozone Deple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6" name="Picture 3" descr=""/>
          <p:cNvPicPr/>
          <p:nvPr/>
        </p:nvPicPr>
        <p:blipFill>
          <a:blip r:embed="rId1"/>
          <a:stretch/>
        </p:blipFill>
        <p:spPr>
          <a:xfrm>
            <a:off x="892080" y="2133720"/>
            <a:ext cx="7794720" cy="4251240"/>
          </a:xfrm>
          <a:prstGeom prst="rect">
            <a:avLst/>
          </a:prstGeom>
          <a:ln w="0">
            <a:noFill/>
          </a:ln>
        </p:spPr>
      </p:pic>
      <p:sp>
        <p:nvSpPr>
          <p:cNvPr id="597" name="TextBox 4"/>
          <p:cNvSpPr/>
          <p:nvPr/>
        </p:nvSpPr>
        <p:spPr>
          <a:xfrm>
            <a:off x="6633360" y="641988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vishankara et al., 20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-5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04920" y="120600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Montreal Protocol successfully implemented a multi-basket approach to deal with the international problem of stratospheric ozone deple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alibri"/>
              </a:rPr>
              <a:t>A single-basket approach, as used in the Kyoto Protocol, can lead to some level of ambiguity in the climate impact of regul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regulation on some group of gases (e.g., HFCs) has the inadvertent affect of delaying C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regulation, this will have multi-century climate implic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treal Protoco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ultiple Basket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Box 2"/>
          <p:cNvSpPr/>
          <p:nvPr/>
        </p:nvSpPr>
        <p:spPr>
          <a:xfrm>
            <a:off x="266760" y="1765440"/>
            <a:ext cx="887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s of gases controlled separately (e.g., CFCs, HCFCs, halons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treal Protoco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ultiple Basket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Box 2"/>
          <p:cNvSpPr/>
          <p:nvPr/>
        </p:nvSpPr>
        <p:spPr>
          <a:xfrm>
            <a:off x="266760" y="1765440"/>
            <a:ext cx="8877240" cy="14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s of gases controlled separately (e.g., CFCs, HCFCs, halons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“trading” among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treal Protoco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ultiple Basket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2"/>
          <p:cNvSpPr/>
          <p:nvPr/>
        </p:nvSpPr>
        <p:spPr>
          <a:xfrm>
            <a:off x="266760" y="1765440"/>
            <a:ext cx="887724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s of gases controlled separately (e.g., CFCs, HCFCs, halons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“trading” among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successfu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Picture 3" descr=""/>
          <p:cNvPicPr/>
          <p:nvPr/>
        </p:nvPicPr>
        <p:blipFill>
          <a:blip r:embed="rId1"/>
          <a:stretch/>
        </p:blipFill>
        <p:spPr>
          <a:xfrm>
            <a:off x="4673520" y="2387520"/>
            <a:ext cx="3932280" cy="4124520"/>
          </a:xfrm>
          <a:prstGeom prst="rect">
            <a:avLst/>
          </a:prstGeom>
          <a:ln w="0">
            <a:noFill/>
          </a:ln>
        </p:spPr>
      </p:pic>
      <p:sp>
        <p:nvSpPr>
          <p:cNvPr id="506" name="TextBox 4"/>
          <p:cNvSpPr/>
          <p:nvPr/>
        </p:nvSpPr>
        <p:spPr>
          <a:xfrm>
            <a:off x="5370480" y="2703600"/>
            <a:ext cx="199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dapted fr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elders et al, PNAS, 200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Box 6"/>
          <p:cNvSpPr/>
          <p:nvPr/>
        </p:nvSpPr>
        <p:spPr>
          <a:xfrm>
            <a:off x="8019720" y="4851360"/>
            <a:ext cx="1188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Meas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Suc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7"/>
          <p:cNvSpPr/>
          <p:nvPr/>
        </p:nvSpPr>
        <p:spPr>
          <a:xfrm rot="18878400">
            <a:off x="6990840" y="394308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58ed5"/>
                </a:solidFill>
                <a:latin typeface="Calibri"/>
              </a:rPr>
              <a:t>No Protoc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Up-Down Arrow 5"/>
          <p:cNvSpPr/>
          <p:nvPr/>
        </p:nvSpPr>
        <p:spPr>
          <a:xfrm>
            <a:off x="7696080" y="4546440"/>
            <a:ext cx="432000" cy="1295640"/>
          </a:xfrm>
          <a:prstGeom prst="upDownArrow">
            <a:avLst>
              <a:gd name="adj1" fmla="val 50000"/>
              <a:gd name="adj2" fmla="val 49986"/>
            </a:avLst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treal Protoco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ultiple Basket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Box 2"/>
          <p:cNvSpPr/>
          <p:nvPr/>
        </p:nvSpPr>
        <p:spPr>
          <a:xfrm>
            <a:off x="266760" y="1765440"/>
            <a:ext cx="88772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s of gases controlled separately (e.g., CFCs, HCFCs, halons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“trading” among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successfu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FCs/HCFCs Illustr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2" name="Picture 3" descr=""/>
          <p:cNvPicPr/>
          <p:nvPr/>
        </p:nvPicPr>
        <p:blipFill>
          <a:blip r:embed="rId1"/>
          <a:stretch/>
        </p:blipFill>
        <p:spPr>
          <a:xfrm>
            <a:off x="4673520" y="2387520"/>
            <a:ext cx="3932280" cy="4124520"/>
          </a:xfrm>
          <a:prstGeom prst="rect">
            <a:avLst/>
          </a:prstGeom>
          <a:ln w="0">
            <a:noFill/>
          </a:ln>
        </p:spPr>
      </p:pic>
      <p:sp>
        <p:nvSpPr>
          <p:cNvPr id="513" name="TextBox 4"/>
          <p:cNvSpPr/>
          <p:nvPr/>
        </p:nvSpPr>
        <p:spPr>
          <a:xfrm>
            <a:off x="5370480" y="2703600"/>
            <a:ext cx="199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dapted fr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elders et al, PNAS, 200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Box 6"/>
          <p:cNvSpPr/>
          <p:nvPr/>
        </p:nvSpPr>
        <p:spPr>
          <a:xfrm>
            <a:off x="8019720" y="4851360"/>
            <a:ext cx="1188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Meas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Suc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Box 7"/>
          <p:cNvSpPr/>
          <p:nvPr/>
        </p:nvSpPr>
        <p:spPr>
          <a:xfrm>
            <a:off x="6318000" y="413388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58ed5"/>
                </a:solidFill>
                <a:latin typeface="Calibri"/>
              </a:rPr>
              <a:t>No Protoc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Up-Down Arrow 5"/>
          <p:cNvSpPr/>
          <p:nvPr/>
        </p:nvSpPr>
        <p:spPr>
          <a:xfrm>
            <a:off x="7696080" y="4546440"/>
            <a:ext cx="432000" cy="1295640"/>
          </a:xfrm>
          <a:prstGeom prst="upDownArrow">
            <a:avLst>
              <a:gd name="adj1" fmla="val 50000"/>
              <a:gd name="adj2" fmla="val 49986"/>
            </a:avLst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7936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FC/HCFC Contribution to 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Deple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Picture 5" descr="idl.ps"/>
          <p:cNvPicPr/>
          <p:nvPr/>
        </p:nvPicPr>
        <p:blipFill>
          <a:blip r:embed="rId1"/>
          <a:stretch/>
        </p:blipFill>
        <p:spPr>
          <a:xfrm>
            <a:off x="1041480" y="1176480"/>
            <a:ext cx="7315200" cy="5421240"/>
          </a:xfrm>
          <a:prstGeom prst="rect">
            <a:avLst/>
          </a:prstGeom>
          <a:ln w="0">
            <a:noFill/>
          </a:ln>
        </p:spPr>
      </p:pic>
      <p:sp>
        <p:nvSpPr>
          <p:cNvPr id="519" name="Left-Right Arrow 2"/>
          <p:cNvSpPr/>
          <p:nvPr/>
        </p:nvSpPr>
        <p:spPr>
          <a:xfrm>
            <a:off x="4051440" y="2502000"/>
            <a:ext cx="3632040" cy="635040"/>
          </a:xfrm>
          <a:prstGeom prst="leftRightArrow">
            <a:avLst>
              <a:gd name="adj1" fmla="val 50000"/>
              <a:gd name="adj2" fmla="val 49992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j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Left-Right Arrow 4"/>
          <p:cNvSpPr/>
          <p:nvPr/>
        </p:nvSpPr>
        <p:spPr>
          <a:xfrm>
            <a:off x="2133720" y="2502000"/>
            <a:ext cx="1917720" cy="635040"/>
          </a:xfrm>
          <a:prstGeom prst="left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s - b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 of a Trade to HCF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Picture 3" descr="idl.ps"/>
          <p:cNvPicPr/>
          <p:nvPr/>
        </p:nvPicPr>
        <p:blipFill>
          <a:blip r:embed="rId1"/>
          <a:stretch/>
        </p:blipFill>
        <p:spPr>
          <a:xfrm>
            <a:off x="1041480" y="1182600"/>
            <a:ext cx="73152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ngle-Basket Range of 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Deple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4" name="Picture 3" descr="idl.ps"/>
          <p:cNvPicPr/>
          <p:nvPr/>
        </p:nvPicPr>
        <p:blipFill>
          <a:blip r:embed="rId1"/>
          <a:stretch/>
        </p:blipFill>
        <p:spPr>
          <a:xfrm>
            <a:off x="1041480" y="1182600"/>
            <a:ext cx="73152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2:54:02Z</dcterms:created>
  <dc:creator>John Daniel</dc:creator>
  <dc:description/>
  <dc:language>en-US</dc:language>
  <cp:lastModifiedBy>John Daniel</cp:lastModifiedBy>
  <dcterms:modified xsi:type="dcterms:W3CDTF">2012-03-29T21:11:55Z</dcterms:modified>
  <cp:revision>119</cp:revision>
  <dc:subject/>
  <dc:title>Limitations of Single-Basekt Trading: Lessons from the Montreal Protocol for Climate Policy </dc:title>
</cp:coreProperties>
</file>