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50B35-AD87-46C2-A33C-AE27B3CF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6034D-3206-4450-8201-B27C853B0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FA1F3-9AE4-443E-A844-7F57B97AB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s begin in about 20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0AB48-ED89-47CC-AECA-6EA314A4D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GWP-weighted emission level is prescribed for every year, depending on how trading occurs,  the range of T increases by 2400 will be 2-4C, with the range continuing to exp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495B3-FAE7-40F4-B226-E0703A65B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 of the particular control strategy to its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E0A89-497C-4684-9F0A-D45B1BBC1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mention advantage of HFC phaseout in terms of avoiding future forcing – and in a multi-basket approach, you know what you will 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point out issu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7D7E9-1535-4B29-B514-9A7453095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groups diff phaseout sche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s of Gases within a group could be traded with reductions of other gases in the s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584D0-14A6-426F-9B5D-5A8DB8D04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2E598-808D-4DA2-BFD9-EF7FC7066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use CFCs and HCFCs to explore the hypothetical impacts of a different control strategy – one where CFC and HCFC production could be tra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022F3-062F-4D02-AC81-9965E823E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is with equiv eff strat chlorine or EESC, which is a metric that relates to the amount of chlorine and bromine available to destroy strat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, when MP controls went into force, the ODP-weighted emission were kept identical to those used to generate this curve, but all emissions were traded to HCFC emissions, with no CFC emiss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2E8E6-A2DE-49EC-AEFF-908AA60B0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relate ss ODPs to time-dependent OD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C8D9B-5318-4E96-AFA3-79736E586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phaseout leads to not much spread in future pos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0C560-938C-409E-B69B-167827B8C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5A94C-777D-4E79-9362-566156EA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1925-39CF-4411-8BF5-8BB5545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68D5B-8BE4-405B-87D9-0B74539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C079C-61CE-4E62-A5C9-AF1A488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08BF-4AC0-4506-AFA6-642F5E5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4460-0235-4766-935D-E688C0A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934E-1BFA-4CBB-8D89-5D6B228E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2D12-427C-4806-A275-7CF7A35B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BF4C-48B6-44C5-88A7-B9D08D0B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25F3-61EC-4CA9-A3AD-9D32D682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61325-308D-4780-91CD-E7EBBDF9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B9071-F6A2-4A54-B49A-95BC981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9449-47CF-4BE5-9A1D-02D7F4BA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FFFC9-17F4-482D-BCB0-2D90D4B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48B27-F51F-449D-A5AD-F8CB4AB9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5E2CA-6B43-483F-9731-9A061DD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7D0E-B69B-4750-853D-4766FCB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100F-A235-4476-8392-C25B7DC3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40E84-D6D4-4A38-BA53-13D5203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D288D-644A-48FB-B697-958A3072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2C37B-5115-4062-94C2-BD0BA586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1EEB-BE7A-4830-8681-741D1856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4BF03-C52A-4B4C-ACD1-90CED80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632EB-211F-4719-BC7B-F8C85EFA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538AE-0AFB-4495-962E-CAA45784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8BDF3-E9F9-4C2D-99D3-4386210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5E27F-B53F-45CC-AFC9-EF0FBC7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69CC8-8B66-45C4-AE47-2BB3806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D9DCD-B89C-4E7D-8BA3-32FDB67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A91AD-E5A5-4456-B8FA-CF89B75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C7F-DA41-45A3-BAB5-5270A1AF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4F9C-4AC8-4213-8A70-AB086E3D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598AA-9F7C-4923-8F87-3FAB4FA4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270BC-ED50-4C76-967B-A87199F6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79D32-B21C-4F95-87E0-C0AAC837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C7742-7753-4B31-9380-DF237A6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D0D69-48C2-4945-B217-8FC87D4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A85E-9AC9-4DA0-89F9-E9AA63B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C61F4-76F1-42B1-84D3-B12F5EA4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E4A7D-C6AD-47BE-9472-0DFEA9A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D0AC4-F576-42E6-B6E1-641570B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B53-3C5E-4A92-81D7-785C6E92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EE742-9E1D-4188-A291-23D4251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0BAB2-DA92-477A-B00D-90BE01F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980C2-2996-419D-A712-76359A7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2970-9B9D-4ADE-B69F-BBAC4079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EF4D8-879B-4B53-9D0A-06060F07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499-9A49-43F4-B417-352E24C0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DD8-3C76-4F2A-97E2-23FCE6F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38D-8B6B-4BD4-A1FF-D2ED1BE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C53-A2EF-46EF-86EE-53B2AFE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C15-6E3A-4E4E-AF45-DA5275C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DE5-3419-46EA-9838-C3A62B02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69E-A254-49F7-AB36-2E01416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D60-F235-43A5-974E-6B9FA99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2F4-024F-4B95-A662-A97078C4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7DA-5C66-4BD2-914C-6B58D06C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D1E3-F625-481B-853D-56E60F33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791F-635C-42F9-A18A-CB26391D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C84B-F337-4DE3-8CB2-1F7E9463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19E-7726-44C9-991F-5D83F7C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455-DB91-42E6-A8DA-857479E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C492-D801-484A-B27B-E1879D1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431-94F7-4B87-B965-062ED1B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B5BD-8E4C-41AD-AC24-83E2764E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C277-2E8B-466A-9E75-57B9924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9227-C644-4A6C-8D97-6853DA6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97D1-50D1-4B33-9631-6C1A8AF7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BB67-551D-4F8C-A587-6183058F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B869-84F7-4E4D-8762-DAEEFAD4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4F9F-FF0F-4971-B69C-AA9E2E1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596F-9A1E-492C-B2A8-6525D9B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F216-75CA-47F2-8FCB-491F5AB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A24B-4E0E-4005-BC99-F2FF14D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D58E-58F8-43AE-8C4F-36F5C28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D2FA-26AB-4BF5-8773-07F0738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5095-5480-4D95-8D2C-5419C0B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3E5C-E4E3-43AA-8447-7D76242D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C0CC-7C35-4580-82FC-D01248B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FF03-A022-4E97-87E1-00169286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A979-B02B-4D29-AC15-954C1DAF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90E1-D02C-42F4-820C-D079EC04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FB10-39DE-4990-9AB2-827EBF36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E0CB-D6B1-4758-B855-7097F5F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F268-AAD7-4258-9EEE-9D2F158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1E85-B742-4971-8F88-164A8B6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B32B-3DAA-4787-9E82-B1101F89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8EAC-C435-412F-8B71-C01DE51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FA91-ADC1-42C5-A638-B6B4FF7E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BF3A-1305-4A5C-B2E2-994635A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78D5-342F-4229-952A-CB51692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85DF-A679-4CF4-AC1C-D26F9D6C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E7DD-ECCD-41A0-8671-0693CC5E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979B-0E3D-46A1-AB85-B510E07C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36D1-9AC5-4AFF-BB6F-E3C0D80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2FC6A-AE7A-4637-95F5-5A3B59DE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40A0-63FC-4622-B2A7-BD061F91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DDF7-D4A9-45C7-8F8D-E01F079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AE83-0195-4A1C-B049-F9CFED5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1284-6E05-433B-B523-C00674BB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CEC4E-C35D-42BA-AD25-1A2465A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20DE2-46A3-43E9-8C2E-5D56154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04D0-0253-40C0-B732-84570F4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F7AF-C397-423D-B4C4-09917699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C5E1-F9AA-49AD-8631-80D62C57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1F8C-6C11-449C-BF31-37C31E5A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B4E1-D1C5-4739-895F-414529D7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F417D-B199-40E4-809B-9A4E7349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8701-DEB1-4233-876D-B8DD186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9463-890F-4D52-98B2-08C7B77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7D45-E7B5-410C-8B3D-A7C60AC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02F5-2968-4A1F-8412-DF3B319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C5EB-8436-4FC4-9E21-BA16E9A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0647-FF3C-415B-85EF-1D1DFCB7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BBCA-2487-4A23-83F9-54EC396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E2A83-8B41-42E8-BAC9-9806568E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19EF-B397-4DB1-B665-BF2A36FB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D390-4C88-464A-B78F-628ACEC2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2F41-5355-4184-9DE2-4F228C4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8F85-9805-4B54-87F1-F0A1245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3842-4CFE-46DD-B189-22FC21E1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3CE0C-25B3-484B-91D0-8475ED0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E55F-29A5-4E68-8B9B-C902C0B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B327-6412-4713-BEFE-96645A20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9104-A4EE-43B9-9328-35A770DF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177D4-6552-4C54-B8AD-AF4D823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30363-F549-47F5-AD39-B0A005C7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1BACE-0322-465F-B185-F0CD561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A751-CE16-485C-92FC-5B0D844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66EF-0195-4E35-BC6F-2D7C9F7A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C789-7077-4D6F-88B8-B646A26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98D0A-9D49-46E0-BC3D-5DEC8071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47431-8A73-4D24-B9E5-6E282C759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6C5D6-C9B8-45A8-9131-276821090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3F58-B406-417A-9CAB-26B938618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2D58A-6DA9-45B3-961F-065323ED6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56C1E-90DA-492A-8137-D727263AEB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364E7-3E3B-437E-AA6F-94C053A914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DDD65-06CD-4245-9743-20591DDE6E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14245-D7BC-41A3-B704-D3B5635BB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D8896-F6F3-4097-8534-51B3B8D62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7B35A-E7A8-4F18-B4F0-922FB9FFD7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6"/>
          <p:cNvSpPr/>
          <p:nvPr/>
        </p:nvSpPr>
        <p:spPr>
          <a:xfrm>
            <a:off x="-18000" y="6540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April 2012, Bonn, 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D1C6B-CA29-4B83-824F-B337EC3483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2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37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-3201840" y="-1668600"/>
            <a:ext cx="10972800" cy="109728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yoto Protoc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ing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564480" y="1417680"/>
            <a:ext cx="3390120" cy="2572560"/>
            <a:chOff x="564480" y="1417680"/>
            <a:chExt cx="3390120" cy="2572560"/>
          </a:xfrm>
        </p:grpSpPr>
        <p:sp>
          <p:nvSpPr>
            <p:cNvPr id="548" name="TextBox 4"/>
            <p:cNvSpPr/>
            <p:nvPr/>
          </p:nvSpPr>
          <p:spPr>
            <a:xfrm rot="16380000">
              <a:off x="2411280" y="2904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P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5"/>
            <p:cNvSpPr/>
            <p:nvPr/>
          </p:nvSpPr>
          <p:spPr>
            <a:xfrm>
              <a:off x="564480" y="314352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O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6"/>
            <p:cNvSpPr/>
            <p:nvPr/>
          </p:nvSpPr>
          <p:spPr>
            <a:xfrm>
              <a:off x="970560" y="17629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7"/>
            <p:cNvSpPr/>
            <p:nvPr/>
          </p:nvSpPr>
          <p:spPr>
            <a:xfrm>
              <a:off x="1569600" y="3480120"/>
              <a:ext cx="67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8"/>
            <p:cNvSpPr/>
            <p:nvPr/>
          </p:nvSpPr>
          <p:spPr>
            <a:xfrm rot="16800000">
              <a:off x="3260520" y="32137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HFC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9"/>
            <p:cNvSpPr/>
            <p:nvPr/>
          </p:nvSpPr>
          <p:spPr>
            <a:xfrm>
              <a:off x="1694520" y="141768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SF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Chart 25" descr=""/>
          <p:cNvPicPr/>
          <p:nvPr/>
        </p:nvPicPr>
        <p:blipFill>
          <a:blip r:embed="rId2"/>
          <a:stretch/>
        </p:blipFill>
        <p:spPr>
          <a:xfrm>
            <a:off x="4267080" y="2567160"/>
            <a:ext cx="4559400" cy="3327120"/>
          </a:xfrm>
          <a:prstGeom prst="rect">
            <a:avLst/>
          </a:prstGeom>
          <a:ln w="0">
            <a:noFill/>
          </a:ln>
        </p:spPr>
      </p:pic>
      <p:sp>
        <p:nvSpPr>
          <p:cNvPr id="555" name="Oval 26"/>
          <p:cNvSpPr/>
          <p:nvPr/>
        </p:nvSpPr>
        <p:spPr>
          <a:xfrm>
            <a:off x="4470480" y="4280040"/>
            <a:ext cx="4673520" cy="72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6070320" y="23684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 Radiative Fo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mpact on Clim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CP4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7592760" y="4013280"/>
            <a:ext cx="81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2" name="Straight Arrow Connector 5"/>
          <p:cNvCxnSpPr/>
          <p:nvPr/>
        </p:nvCxnSpPr>
        <p:spPr>
          <a:xfrm flipV="1">
            <a:off x="7911720" y="3619080"/>
            <a:ext cx="13320" cy="41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469800" y="6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act of a Trade to All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807240" y="2082960"/>
            <a:ext cx="82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ll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Straight Arrow Connector 6"/>
          <p:cNvCxnSpPr/>
          <p:nvPr/>
        </p:nvCxnSpPr>
        <p:spPr>
          <a:xfrm>
            <a:off x="7574040" y="2355840"/>
            <a:ext cx="326160" cy="186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biguity of Single Bas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3" descr="idl.ps"/>
          <p:cNvPicPr/>
          <p:nvPr/>
        </p:nvPicPr>
        <p:blipFill>
          <a:blip r:embed="rId1"/>
          <a:stretch/>
        </p:blipFill>
        <p:spPr>
          <a:xfrm>
            <a:off x="38160" y="16257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1996560" y="52182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 et al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Chart 14" descr=""/>
          <p:cNvPicPr/>
          <p:nvPr/>
        </p:nvPicPr>
        <p:blipFill>
          <a:blip r:embed="rId2"/>
          <a:stretch/>
        </p:blipFill>
        <p:spPr>
          <a:xfrm>
            <a:off x="4462560" y="2981160"/>
            <a:ext cx="4584600" cy="3170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5"/>
          <p:cNvSpPr/>
          <p:nvPr/>
        </p:nvSpPr>
        <p:spPr>
          <a:xfrm>
            <a:off x="8610480" y="4813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ight Arrow 16"/>
          <p:cNvSpPr/>
          <p:nvPr/>
        </p:nvSpPr>
        <p:spPr>
          <a:xfrm>
            <a:off x="8567640" y="4889520"/>
            <a:ext cx="152640" cy="268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6268680" y="235116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ve Forc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0 to 2050 (RCP8.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-317520" y="1600200"/>
            <a:ext cx="516888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4" descr="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-2549520" y="-838080"/>
            <a:ext cx="11887200" cy="777240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114480" y="185760"/>
            <a:ext cx="8864280" cy="109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imitations of Single-Basket Tr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Lessons from the Montreal Protocol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2"/>
          <a:stretch/>
        </p:blipFill>
        <p:spPr>
          <a:xfrm>
            <a:off x="52560" y="5504040"/>
            <a:ext cx="1353960" cy="135396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2754360" y="4245120"/>
            <a:ext cx="4244760" cy="137376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Montreal Protoco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A Lesson for Climat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Implications for HF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333160" y="1257480"/>
            <a:ext cx="4833360" cy="119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ohn S. 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National Oceanic and Atmospheric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Chemical Sciences Di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Boulder, Colorado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1720800" y="5921280"/>
            <a:ext cx="7616880" cy="916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ations of Single-Basket Trading: Lessons from the Montreal Protocol for Climate Policy, Daniel, Solomon, Sanford, McFarland, Fuglestvedt, and Friedlingstein, Climatic Change, 2012 (online 201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lications for H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2376360" y="5218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lders, PNAS,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1"/>
          <a:stretch/>
        </p:blipFill>
        <p:spPr>
          <a:xfrm>
            <a:off x="-328680" y="1494000"/>
            <a:ext cx="9539280" cy="4582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399960" y="1574640"/>
            <a:ext cx="415296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Oval 4"/>
          <p:cNvSpPr/>
          <p:nvPr/>
        </p:nvSpPr>
        <p:spPr>
          <a:xfrm>
            <a:off x="7149960" y="1828800"/>
            <a:ext cx="1994040" cy="1320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390000" y="422748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-term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1" name="Straight Arrow Connector 10"/>
          <p:cNvCxnSpPr/>
          <p:nvPr/>
        </p:nvCxnSpPr>
        <p:spPr>
          <a:xfrm flipV="1">
            <a:off x="7709040" y="2552400"/>
            <a:ext cx="978480" cy="16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TextBox 12"/>
          <p:cNvSpPr/>
          <p:nvPr/>
        </p:nvSpPr>
        <p:spPr>
          <a:xfrm>
            <a:off x="1397160" y="3092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s can all be avo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8"/>
          <p:cNvSpPr/>
          <p:nvPr/>
        </p:nvSpPr>
        <p:spPr>
          <a:xfrm flipH="1" flipV="1">
            <a:off x="3086280" y="3568320"/>
            <a:ext cx="482400" cy="19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Up-Down Arrow 19"/>
          <p:cNvSpPr/>
          <p:nvPr/>
        </p:nvSpPr>
        <p:spPr>
          <a:xfrm>
            <a:off x="8686800" y="2286000"/>
            <a:ext cx="139680" cy="266760"/>
          </a:xfrm>
          <a:prstGeom prst="up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6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and 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794720" cy="4251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6633360" y="64198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vishankara et al.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5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206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ntreal Protocol successfully implemented a multi-basket approach to deal with the international problem of stratospheric ozone deple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A single-basket approach, as used in the Kyoto Protocol, can lead to some level of ambiguity in the climate impact of regu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regulation on some group of gases (e.g., HFCs) has the inadvertent affect of delaying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gulation, this will have multi-century climate impli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66760" y="176544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66760" y="1765440"/>
            <a:ext cx="887724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66760" y="1765440"/>
            <a:ext cx="88772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7"/>
          <p:cNvSpPr/>
          <p:nvPr/>
        </p:nvSpPr>
        <p:spPr>
          <a:xfrm rot="18878400">
            <a:off x="6990840" y="3943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treal Protoc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Baske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266760" y="1765440"/>
            <a:ext cx="88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gases controlled separately (e.g., CFCs, HCFCs, halon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trading” amo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uccess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Cs/HCFCs Illus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4673520" y="2387520"/>
            <a:ext cx="3932280" cy="41245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4"/>
          <p:cNvSpPr/>
          <p:nvPr/>
        </p:nvSpPr>
        <p:spPr>
          <a:xfrm>
            <a:off x="5370480" y="27036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lders et al, PNAS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8019720" y="4851360"/>
            <a:ext cx="11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a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6318000" y="4133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o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Up-Down Arrow 5"/>
          <p:cNvSpPr/>
          <p:nvPr/>
        </p:nvSpPr>
        <p:spPr>
          <a:xfrm>
            <a:off x="7696080" y="4546440"/>
            <a:ext cx="432000" cy="12956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FC/HCFC Contribution to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5" descr="idl.ps"/>
          <p:cNvPicPr/>
          <p:nvPr/>
        </p:nvPicPr>
        <p:blipFill>
          <a:blip r:embed="rId1"/>
          <a:stretch/>
        </p:blipFill>
        <p:spPr>
          <a:xfrm>
            <a:off x="1041480" y="1176480"/>
            <a:ext cx="7315200" cy="5421240"/>
          </a:xfrm>
          <a:prstGeom prst="rect">
            <a:avLst/>
          </a:prstGeom>
          <a:ln w="0">
            <a:noFill/>
          </a:ln>
        </p:spPr>
      </p:pic>
      <p:sp>
        <p:nvSpPr>
          <p:cNvPr id="519" name="Left-Right Arrow 2"/>
          <p:cNvSpPr/>
          <p:nvPr/>
        </p:nvSpPr>
        <p:spPr>
          <a:xfrm>
            <a:off x="4051440" y="2502000"/>
            <a:ext cx="3632040" cy="635040"/>
          </a:xfrm>
          <a:prstGeom prst="left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eft-Right Arrow 4"/>
          <p:cNvSpPr/>
          <p:nvPr/>
        </p:nvSpPr>
        <p:spPr>
          <a:xfrm>
            <a:off x="2133720" y="2502000"/>
            <a:ext cx="1917720" cy="635040"/>
          </a:xfrm>
          <a:prstGeom prst="left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 - b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 Trade to HCF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gle-Basket Range of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epl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idl.ps"/>
          <p:cNvPicPr/>
          <p:nvPr/>
        </p:nvPicPr>
        <p:blipFill>
          <a:blip r:embed="rId1"/>
          <a:stretch/>
        </p:blipFill>
        <p:spPr>
          <a:xfrm>
            <a:off x="1041480" y="1182600"/>
            <a:ext cx="7315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4:02Z</dcterms:created>
  <dc:creator>John Daniel</dc:creator>
  <dc:description/>
  <dc:language>en-US</dc:language>
  <cp:lastModifiedBy>John Daniel</cp:lastModifiedBy>
  <dcterms:modified xsi:type="dcterms:W3CDTF">2012-03-29T21:11:55Z</dcterms:modified>
  <cp:revision>119</cp:revision>
  <dc:subject/>
  <dc:title>Limitations of Single-Basekt Trading: Lessons from the Montreal Protocol for Climate Policy </dc:title>
</cp:coreProperties>
</file>