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2"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dt" idx="19"/>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Img"/>
          </p:nvPr>
        </p:nvSpPr>
        <p:spPr>
          <a:xfrm>
            <a:off x="918720" y="746280"/>
            <a:ext cx="496260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295" name="PlaceHolder 4"/>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6" name="PlaceHolder 5"/>
          <p:cNvSpPr>
            <a:spLocks noGrp="1"/>
          </p:cNvSpPr>
          <p:nvPr>
            <p:ph type="ftr" idx="20"/>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97" name="PlaceHolder 6"/>
          <p:cNvSpPr>
            <a:spLocks noGrp="1"/>
          </p:cNvSpPr>
          <p:nvPr>
            <p:ph type="sldNum" idx="21"/>
          </p:nvPr>
        </p:nvSpPr>
        <p:spPr>
          <a:xfrm>
            <a:off x="3849840" y="9429840"/>
            <a:ext cx="2946240" cy="496800"/>
          </a:xfrm>
          <a:prstGeom prst="rect">
            <a:avLst/>
          </a:prstGeom>
          <a:noFill/>
          <a:ln w="0">
            <a:noFill/>
          </a:ln>
        </p:spPr>
        <p:txBody>
          <a:bodyPr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C051C5-2C7B-4E43-8BE7-B514E3D79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D69C4D-673D-4E6B-9CCD-2FB986D5E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9080" y="746280"/>
            <a:ext cx="4962600" cy="3720960"/>
          </a:xfrm>
          <a:prstGeom prst="rect">
            <a:avLst/>
          </a:prstGeom>
          <a:ln w="0">
            <a:noFill/>
          </a:ln>
        </p:spPr>
      </p:sp>
      <p:sp>
        <p:nvSpPr>
          <p:cNvPr id="66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Much of the analysis contained in this presentation is the initial findings from a project currently underway by a number of UK research institutes including Oxford and Reading Universities, the MOHC and Tau Scientific.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D4160C-A01F-4303-A5F7-0A91C05AD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9080" y="746280"/>
            <a:ext cx="4962600" cy="3720960"/>
          </a:xfrm>
          <a:prstGeom prst="rect">
            <a:avLst/>
          </a:prstGeom>
          <a:ln w="0">
            <a:noFill/>
          </a:ln>
        </p:spPr>
      </p:sp>
      <p:sp>
        <p:nvSpPr>
          <p:cNvPr id="69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mpact of time horizon/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73B8E1-9EF9-4548-A966-820680C0D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9080" y="746280"/>
            <a:ext cx="4962600" cy="3720960"/>
          </a:xfrm>
          <a:prstGeom prst="rect">
            <a:avLst/>
          </a:prstGeom>
          <a:ln w="0">
            <a:noFill/>
          </a:ln>
        </p:spPr>
      </p:sp>
      <p:sp>
        <p:nvSpPr>
          <p:cNvPr id="69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absolute level of emissions falls in terms of CO2e but the baseline also falls (GTP100 leads to 15% decrease in baseline for global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However, relative changes could lead to improvements or deteriorations in CO2e performance relative to 199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29B15F-1158-46E4-B795-1BFC9EA74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9080" y="746280"/>
            <a:ext cx="4962600" cy="3720960"/>
          </a:xfrm>
          <a:prstGeom prst="rect">
            <a:avLst/>
          </a:prstGeom>
          <a:ln w="0">
            <a:noFill/>
          </a:ln>
        </p:spPr>
      </p:sp>
      <p:sp>
        <p:nvSpPr>
          <p:cNvPr id="701"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hange from 1990 to 2008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Note that emissions in CO2e is lower for all using GTP100 as a result of lower weighting for non-CO2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ADEB14-D7D2-4224-9EF2-FA1AA25DA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9080" y="746280"/>
            <a:ext cx="4962600" cy="3720960"/>
          </a:xfrm>
          <a:prstGeom prst="rect">
            <a:avLst/>
          </a:prstGeom>
          <a:ln w="0">
            <a:noFill/>
          </a:ln>
        </p:spPr>
      </p:sp>
      <p:sp>
        <p:nvSpPr>
          <p:cNvPr id="70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9080" y="746280"/>
            <a:ext cx="4962600" cy="3720960"/>
          </a:xfrm>
          <a:prstGeom prst="rect">
            <a:avLst/>
          </a:prstGeom>
          <a:ln w="0">
            <a:noFill/>
          </a:ln>
        </p:spPr>
      </p:sp>
      <p:sp>
        <p:nvSpPr>
          <p:cNvPr id="706"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AEF353-4AD1-40FF-954D-AAC8FA0647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AD01E1-DF3C-4365-8CEB-DCD57B77C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9080" y="746280"/>
            <a:ext cx="4962600" cy="3720960"/>
          </a:xfrm>
          <a:prstGeom prst="rect">
            <a:avLst/>
          </a:prstGeom>
          <a:ln w="0">
            <a:noFill/>
          </a:ln>
        </p:spPr>
      </p:sp>
      <p:sp>
        <p:nvSpPr>
          <p:cNvPr id="71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9080" y="746280"/>
            <a:ext cx="4962600" cy="3720960"/>
          </a:xfrm>
          <a:prstGeom prst="rect">
            <a:avLst/>
          </a:prstGeom>
          <a:ln w="0">
            <a:noFill/>
          </a:ln>
        </p:spPr>
      </p:sp>
      <p:sp>
        <p:nvSpPr>
          <p:cNvPr id="71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 implications and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oice of time horizon has greater impact than choice of metric/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known benefits and impacts. Final point is just a question for the audience.  Not suggesting that we provide an answer!</a:t>
            </a:r>
            <a:endParaRPr b="0" lang="en-US" sz="1200" spc="-1" strike="noStrike">
              <a:solidFill>
                <a:srgbClr val="000000"/>
              </a:solidFill>
              <a:latin typeface="Arial"/>
            </a:endParaRPr>
          </a:p>
        </p:txBody>
      </p:sp>
      <p:sp>
        <p:nvSpPr>
          <p:cNvPr id="7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C734D9-AD5B-4D25-8DFF-E7BCEED77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9080" y="746280"/>
            <a:ext cx="4962600" cy="3720960"/>
          </a:xfrm>
          <a:prstGeom prst="rect">
            <a:avLst/>
          </a:prstGeom>
          <a:ln w="0">
            <a:noFill/>
          </a:ln>
        </p:spPr>
      </p:sp>
      <p:sp>
        <p:nvSpPr>
          <p:cNvPr id="670"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Jan has mentioned, the closer you get to a more relevant metric, the larger the uncertainties be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 to uncertainties in our scientific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impact of uncertainties on the use of metrics.</a:t>
            </a:r>
            <a:endParaRPr b="0" lang="en-US" sz="1200" spc="-1" strike="noStrike">
              <a:solidFill>
                <a:srgbClr val="000000"/>
              </a:solidFill>
              <a:latin typeface="Arial"/>
            </a:endParaRPr>
          </a:p>
        </p:txBody>
      </p:sp>
      <p:sp>
        <p:nvSpPr>
          <p:cNvPr id="6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2B7832-3385-4A8D-9C5A-BE6F0AF1C2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C0B849-3922-4398-9F19-01B29386F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9080" y="746280"/>
            <a:ext cx="4962600" cy="3720960"/>
          </a:xfrm>
          <a:prstGeom prst="rect">
            <a:avLst/>
          </a:prstGeom>
          <a:ln w="0">
            <a:noFill/>
          </a:ln>
        </p:spPr>
      </p:sp>
      <p:sp>
        <p:nvSpPr>
          <p:cNvPr id="67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25C60A-FB8F-434E-9E8A-C3628377E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9080" y="746280"/>
            <a:ext cx="4962600" cy="3720960"/>
          </a:xfrm>
          <a:prstGeom prst="rect">
            <a:avLst/>
          </a:prstGeom>
          <a:ln w="0">
            <a:noFill/>
          </a:ln>
        </p:spPr>
      </p:sp>
      <p:sp>
        <p:nvSpPr>
          <p:cNvPr id="677"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C91DA8-0DB6-4738-9528-57C8EDFE7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9080" y="746280"/>
            <a:ext cx="4962600" cy="3720960"/>
          </a:xfrm>
          <a:prstGeom prst="rect">
            <a:avLst/>
          </a:prstGeom>
          <a:ln w="0">
            <a:noFill/>
          </a:ln>
        </p:spPr>
      </p:sp>
      <p:sp>
        <p:nvSpPr>
          <p:cNvPr id="68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D38A8C-A22C-4C3D-80A0-C951D268A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9080" y="746280"/>
            <a:ext cx="4962600" cy="3720960"/>
          </a:xfrm>
          <a:prstGeom prst="rect">
            <a:avLst/>
          </a:prstGeom>
          <a:ln w="0">
            <a:noFill/>
          </a:ln>
        </p:spPr>
      </p:sp>
      <p:sp>
        <p:nvSpPr>
          <p:cNvPr id="683"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9080" y="746280"/>
            <a:ext cx="4962600" cy="3720960"/>
          </a:xfrm>
          <a:prstGeom prst="rect">
            <a:avLst/>
          </a:prstGeom>
          <a:ln w="0">
            <a:noFill/>
          </a:ln>
        </p:spPr>
      </p:sp>
      <p:sp>
        <p:nvSpPr>
          <p:cNvPr id="68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6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1A804E-D3F5-4F52-A06B-E78573468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9080" y="746280"/>
            <a:ext cx="4962600" cy="3720960"/>
          </a:xfrm>
          <a:prstGeom prst="rect">
            <a:avLst/>
          </a:prstGeom>
          <a:ln w="0">
            <a:noFill/>
          </a:ln>
        </p:spPr>
      </p:sp>
      <p:sp>
        <p:nvSpPr>
          <p:cNvPr id="688"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170029-474E-401F-A858-CDADAA409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8343B7-D00E-4207-9F57-51FD5620E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9080" y="746280"/>
            <a:ext cx="4962600" cy="3720960"/>
          </a:xfrm>
          <a:prstGeom prst="rect">
            <a:avLst/>
          </a:prstGeom>
          <a:ln w="0">
            <a:noFill/>
          </a:ln>
        </p:spPr>
      </p:sp>
      <p:sp>
        <p:nvSpPr>
          <p:cNvPr id="69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GTP has been raised, interested in implications.  Not considering a move from GWP as the full range of impacts (including economics and political) have to been explo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59C76-BFFE-4ABF-8F33-ECC7BE110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FC472-0E53-431F-9D72-1AEFBDD71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7684E-BFFE-4815-A455-DB90A3F7E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39A8B-EE7D-4B4F-94E4-ECCC2D171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86CAE-3877-4F70-AD75-08CF4DAAD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3"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388C1-8A9A-4859-B2BF-208C4C6D9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5"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7A131-6C4A-4731-BA1A-80E0273E1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7"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D39FF-4D16-4221-B5AD-16738288E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D3392-D1BC-421B-A046-01C7EE7B4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456F5-56F4-4DA3-950E-A1DBB608C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5C9D3-5B5B-4175-B802-67358924F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3770C-B576-4F9A-B170-3504F59E0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6E02D-47D7-4730-8958-5EA09B5FA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4C16F-2333-4228-BCD2-C9D50E3D3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4AB7F-BFC3-43BC-9609-0738B0974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87670-3D3D-4021-8803-3E983096C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9CA1A-48BD-477D-951A-EDBAD5462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FAF379-537F-4CD7-A89B-BF050AD570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5BDA1E-C163-41DE-8572-FD96371D3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A9D0DB-697B-4E4F-8565-5048EBE32E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A93A8-19A2-4495-9C30-9E410A0F5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4E12F-B617-4473-B964-4420E70C86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16EB3-DC96-495C-B9A0-E2D85D154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D65231-F472-454F-9396-2257A5C67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25A08-53B7-4F51-8E6F-EB86C5549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4612D-C3B2-4E84-BB58-1AC3B23A6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1AD4D-D1A9-4AB3-8EE8-D90E289FD0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CFD7F-2F3E-48E2-A0A6-7DB7A04FF4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6687B5-32AA-47DC-954A-A232DDF0CE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A23FBB-51E4-456F-9268-7106DC9044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4BAE9B-ED67-424C-B1C9-9D94B5F819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2"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990CB5-A2C0-4E98-8C02-FCF41B4613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CC7BB2-7C2A-41E3-B8FE-5F1E25876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86EE3-749D-4517-8A71-C03AE9838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91C762-65A1-4E6E-B5E4-8969C54A3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D1138A-0B22-4669-B4EF-89CFC1A3C7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2A404A-4E32-4BBE-9B4E-2BB21BB22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9217D-7DF9-4B8E-BF44-55A2E53DA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D7BEE-8322-4671-A368-D583E59424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921D5-6413-4803-8277-1ED9CE528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3"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262643-171E-4638-B675-1C675515B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B08BDD-B12D-487E-B507-50D9CCBBCA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1"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D398F2-0D97-4CE8-A1DA-AAE13E48A4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8FD9E2-B2D8-49B4-8E79-A9B445A247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41B20-112F-4BE2-8166-84B5F25D0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53DEA6-05B3-4F9A-B9EC-CCB4DE92F6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85A2E-7E60-4380-98F4-5B3FB9A5B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9A8723-EB72-4F54-A03A-6784213D88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ABD528-3C83-49E8-9590-2722D2FEC3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F781CF-2E42-4DD3-A9DB-20F0200A99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9734E-C158-4EF2-A367-9634797B1B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0872B-83E8-48BD-B745-EDC55F8FB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FCC3C-682F-4BC1-97DD-099156205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CBE0E-4F8A-431C-B834-563E3B344D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F2F245-9503-42DF-B6A4-09BFF1FA2D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BA05B-AA4B-49DB-9989-B26234198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62F982-AF18-4D98-9EEE-343F24A1E8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7D2038-E367-4C47-BE34-2AFB75CD43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6"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5710B7-4FC6-41F5-A9FA-D1C66A8FC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8"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4E4CA0-C9E9-407E-A72E-C968F94BA5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94F98E-1FD3-48D7-BE79-7D34E3F466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8F791D-5B36-47C3-9E7F-52B91C1867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5D5A1E-7329-404A-A9BC-878149227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4C815-0C2D-43B2-93ED-63D921BEC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70C64-629E-471D-9C5D-D7467B190A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6C569-9810-423C-9049-79BB80D60B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B9EE8-2DCA-4403-BDFD-A33467AE8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7"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F1C5A2-9E40-4FA3-A3E1-F017272142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807CD3-69B3-4C1E-B62F-FB1542193D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5"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3E8B1B-4380-440A-9820-E43DAD4E53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CC6FB-30DA-4D3A-88B2-557145F09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FB6FF-4CAC-44B5-96F8-D086EB965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8"/>
          <p:cNvGrpSpPr/>
          <p:nvPr/>
        </p:nvGrpSpPr>
        <p:grpSpPr>
          <a:xfrm>
            <a:off x="2808360" y="6426360"/>
            <a:ext cx="1665360" cy="358560"/>
            <a:chOff x="2808360" y="6426360"/>
            <a:chExt cx="1665360" cy="358560"/>
          </a:xfrm>
        </p:grpSpPr>
        <p:pic>
          <p:nvPicPr>
            <p:cNvPr id="1" name="Picture 11" descr="2012-Logo.wmf"/>
            <p:cNvPicPr/>
            <p:nvPr/>
          </p:nvPicPr>
          <p:blipFill>
            <a:blip r:embed="rId2"/>
            <a:srcRect l="0" t="0" r="0" b="53901"/>
            <a:stretch/>
          </p:blipFill>
          <p:spPr>
            <a:xfrm>
              <a:off x="2808360" y="6426360"/>
              <a:ext cx="1077840" cy="358560"/>
            </a:xfrm>
            <a:prstGeom prst="rect">
              <a:avLst/>
            </a:prstGeom>
            <a:ln w="0">
              <a:noFill/>
            </a:ln>
          </p:spPr>
        </p:pic>
        <p:pic>
          <p:nvPicPr>
            <p:cNvPr id="2" name="Picture 11" descr="2012-Logo.wmf"/>
            <p:cNvPicPr/>
            <p:nvPr/>
          </p:nvPicPr>
          <p:blipFill>
            <a:blip r:embed="rId3"/>
            <a:srcRect l="0" t="46150" r="0" b="5544"/>
            <a:stretch/>
          </p:blipFill>
          <p:spPr>
            <a:xfrm>
              <a:off x="3878280" y="6443640"/>
              <a:ext cx="595440" cy="206280"/>
            </a:xfrm>
            <a:prstGeom prst="rect">
              <a:avLst/>
            </a:prstGeom>
            <a:ln w="0">
              <a:noFill/>
            </a:ln>
          </p:spPr>
        </p:pic>
      </p:grpSp>
      <p:sp>
        <p:nvSpPr>
          <p:cNvPr id="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6"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7"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0930-54A5-49E5-B581-00F4E7352E5E}"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5"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47"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48"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092E-2E4F-4970-9AF9-4F6D3048FFF0}"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49"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0" name="Picture 14" descr="fke3b.jpg"/>
          <p:cNvPicPr/>
          <p:nvPr/>
        </p:nvPicPr>
        <p:blipFill>
          <a:blip r:embed="rId2"/>
          <a:stretch/>
        </p:blipFill>
        <p:spPr>
          <a:xfrm>
            <a:off x="-1141560" y="2386080"/>
            <a:ext cx="428760" cy="228600"/>
          </a:xfrm>
          <a:prstGeom prst="rect">
            <a:avLst/>
          </a:prstGeom>
          <a:ln w="0">
            <a:noFill/>
          </a:ln>
        </p:spPr>
      </p:pic>
      <p:sp>
        <p:nvSpPr>
          <p:cNvPr id="51"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Picture 2" descr=""/>
          <p:cNvPicPr/>
          <p:nvPr/>
        </p:nvPicPr>
        <p:blipFill>
          <a:blip r:embed="rId3"/>
          <a:stretch/>
        </p:blipFill>
        <p:spPr>
          <a:xfrm>
            <a:off x="-558720" y="2384280"/>
            <a:ext cx="447480" cy="228600"/>
          </a:xfrm>
          <a:prstGeom prst="rect">
            <a:avLst/>
          </a:prstGeom>
          <a:ln w="0">
            <a:noFill/>
          </a:ln>
        </p:spPr>
      </p:pic>
      <p:sp>
        <p:nvSpPr>
          <p:cNvPr id="54"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57" name="Group 28"/>
          <p:cNvGrpSpPr/>
          <p:nvPr/>
        </p:nvGrpSpPr>
        <p:grpSpPr>
          <a:xfrm>
            <a:off x="254160" y="6208560"/>
            <a:ext cx="4219560" cy="576360"/>
            <a:chOff x="254160" y="6208560"/>
            <a:chExt cx="4219560" cy="576360"/>
          </a:xfrm>
        </p:grpSpPr>
        <p:grpSp>
          <p:nvGrpSpPr>
            <p:cNvPr id="58" name="Group 29"/>
            <p:cNvGrpSpPr/>
            <p:nvPr/>
          </p:nvGrpSpPr>
          <p:grpSpPr>
            <a:xfrm>
              <a:off x="2808360" y="6426360"/>
              <a:ext cx="1665360" cy="358560"/>
              <a:chOff x="2808360" y="6426360"/>
              <a:chExt cx="1665360" cy="358560"/>
            </a:xfrm>
          </p:grpSpPr>
          <p:pic>
            <p:nvPicPr>
              <p:cNvPr id="59"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0"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1"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99"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0"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101"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102"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6D1E-581D-4B44-95F5-362914FD5297}"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03"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04"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05" name="Picture 14" descr="fke3b.jpg"/>
          <p:cNvPicPr/>
          <p:nvPr/>
        </p:nvPicPr>
        <p:blipFill>
          <a:blip r:embed="rId2"/>
          <a:stretch/>
        </p:blipFill>
        <p:spPr>
          <a:xfrm>
            <a:off x="-1141560" y="2386080"/>
            <a:ext cx="428760" cy="228600"/>
          </a:xfrm>
          <a:prstGeom prst="rect">
            <a:avLst/>
          </a:prstGeom>
          <a:ln w="0">
            <a:noFill/>
          </a:ln>
        </p:spPr>
      </p:pic>
      <p:sp>
        <p:nvSpPr>
          <p:cNvPr id="106"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Picture 2" descr=""/>
          <p:cNvPicPr/>
          <p:nvPr/>
        </p:nvPicPr>
        <p:blipFill>
          <a:blip r:embed="rId3"/>
          <a:stretch/>
        </p:blipFill>
        <p:spPr>
          <a:xfrm>
            <a:off x="-558720" y="2384280"/>
            <a:ext cx="447480" cy="228600"/>
          </a:xfrm>
          <a:prstGeom prst="rect">
            <a:avLst/>
          </a:prstGeom>
          <a:ln w="0">
            <a:noFill/>
          </a:ln>
        </p:spPr>
      </p:pic>
      <p:sp>
        <p:nvSpPr>
          <p:cNvPr id="109"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Group 28"/>
          <p:cNvGrpSpPr/>
          <p:nvPr/>
        </p:nvGrpSpPr>
        <p:grpSpPr>
          <a:xfrm>
            <a:off x="254160" y="6208560"/>
            <a:ext cx="4219560" cy="576360"/>
            <a:chOff x="254160" y="6208560"/>
            <a:chExt cx="4219560" cy="576360"/>
          </a:xfrm>
        </p:grpSpPr>
        <p:grpSp>
          <p:nvGrpSpPr>
            <p:cNvPr id="112" name="Group 29"/>
            <p:cNvGrpSpPr/>
            <p:nvPr/>
          </p:nvGrpSpPr>
          <p:grpSpPr>
            <a:xfrm>
              <a:off x="2808360" y="6426360"/>
              <a:ext cx="1665360" cy="358560"/>
              <a:chOff x="2808360" y="6426360"/>
              <a:chExt cx="1665360" cy="358560"/>
            </a:xfrm>
          </p:grpSpPr>
          <p:pic>
            <p:nvPicPr>
              <p:cNvPr id="113"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14"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15"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Group 41"/>
          <p:cNvGrpSpPr/>
          <p:nvPr/>
        </p:nvGrpSpPr>
        <p:grpSpPr>
          <a:xfrm>
            <a:off x="6491160" y="685800"/>
            <a:ext cx="2293920" cy="487440"/>
            <a:chOff x="6491160" y="685800"/>
            <a:chExt cx="2293920" cy="487440"/>
          </a:xfrm>
        </p:grpSpPr>
        <p:pic>
          <p:nvPicPr>
            <p:cNvPr id="1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55"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5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5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8"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159"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160"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F1E3-46CE-458F-8786-123E21DFFD60}"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198" name="Group 9"/>
          <p:cNvGrpSpPr/>
          <p:nvPr/>
        </p:nvGrpSpPr>
        <p:grpSpPr>
          <a:xfrm>
            <a:off x="6491160" y="685800"/>
            <a:ext cx="2293920" cy="487440"/>
            <a:chOff x="6491160" y="685800"/>
            <a:chExt cx="2293920" cy="487440"/>
          </a:xfrm>
        </p:grpSpPr>
        <p:pic>
          <p:nvPicPr>
            <p:cNvPr id="199"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0"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01"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02" name="Picture 17" descr="LogoUK"/>
          <p:cNvPicPr/>
          <p:nvPr/>
        </p:nvPicPr>
        <p:blipFill>
          <a:blip r:embed="rId5"/>
          <a:srcRect l="9515" t="0" r="0" b="0"/>
          <a:stretch/>
        </p:blipFill>
        <p:spPr>
          <a:xfrm>
            <a:off x="177840" y="225360"/>
            <a:ext cx="3852720" cy="996840"/>
          </a:xfrm>
          <a:prstGeom prst="rect">
            <a:avLst/>
          </a:prstGeom>
          <a:ln w="0">
            <a:noFill/>
          </a:ln>
        </p:spPr>
      </p:pic>
      <p:sp>
        <p:nvSpPr>
          <p:cNvPr id="20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0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5"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06"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07"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0A32-B517-4D25-A4AB-093A1FB640A8}"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Group 9"/>
          <p:cNvGrpSpPr/>
          <p:nvPr/>
        </p:nvGrpSpPr>
        <p:grpSpPr>
          <a:xfrm>
            <a:off x="6491160" y="685800"/>
            <a:ext cx="2293920" cy="487440"/>
            <a:chOff x="6491160" y="685800"/>
            <a:chExt cx="2293920" cy="487440"/>
          </a:xfrm>
        </p:grpSpPr>
        <p:pic>
          <p:nvPicPr>
            <p:cNvPr id="245"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46"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47" name="Picture 12" descr="streg"/>
          <p:cNvPicPr/>
          <p:nvPr/>
        </p:nvPicPr>
        <p:blipFill>
          <a:blip r:embed="rId4"/>
          <a:stretch/>
        </p:blipFill>
        <p:spPr>
          <a:xfrm>
            <a:off x="1149480" y="1434960"/>
            <a:ext cx="7669080" cy="24120"/>
          </a:xfrm>
          <a:prstGeom prst="rect">
            <a:avLst/>
          </a:prstGeom>
          <a:ln w="0">
            <a:noFill/>
          </a:ln>
        </p:spPr>
      </p:pic>
      <p:sp>
        <p:nvSpPr>
          <p:cNvPr id="248"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49" name="Picture 15" descr="LogoUK"/>
          <p:cNvPicPr/>
          <p:nvPr/>
        </p:nvPicPr>
        <p:blipFill>
          <a:blip r:embed="rId5"/>
          <a:srcRect l="9515" t="0" r="0" b="0"/>
          <a:stretch/>
        </p:blipFill>
        <p:spPr>
          <a:xfrm>
            <a:off x="177840" y="225360"/>
            <a:ext cx="3852720" cy="996840"/>
          </a:xfrm>
          <a:prstGeom prst="rect">
            <a:avLst/>
          </a:prstGeom>
          <a:ln w="0">
            <a:noFill/>
          </a:ln>
        </p:spPr>
      </p:pic>
      <p:sp>
        <p:nvSpPr>
          <p:cNvPr id="25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5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2"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53"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54"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49C2-7393-4F62-9961-F292391CE234}"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172880" y="2204640"/>
            <a:ext cx="6854760" cy="417996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Uncertainties in implementation of common metrics</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Jolene Cook, 3 April 2012, Bonn</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09f"/>
                </a:solidFill>
                <a:latin typeface="Arial"/>
              </a:rPr>
              <a:t>With thanks to: Chris Huntingford (CEH), Laila Gohar (Met Office Hadley Centre), Nick Howarth (Oxford Univ.), Myles Allen (Oxford Univ.), Alex Lorenz (Oxford Univ.), Keith Shine (Reading Univ.), Bill Collins (Met Office Hadley Centre), Jason Lowe (Met Office Hadley Centre), David Lee (Tau Scientific)</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4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44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aphicFrame>
        <p:nvGraphicFramePr>
          <p:cNvPr id="447"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WP1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P1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6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8,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12,200 </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 15,10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448" name="TextBox 79"/>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Fuglestvedt </a:t>
            </a:r>
            <a:r>
              <a:rPr b="0" i="1" lang="en-GB" sz="1400" spc="-1" strike="noStrike">
                <a:solidFill>
                  <a:srgbClr val="000000"/>
                </a:solidFill>
                <a:latin typeface="Arial"/>
              </a:rPr>
              <a:t>et al.</a:t>
            </a:r>
            <a:r>
              <a:rPr b="0" lang="en-GB" sz="1400" spc="-1" strike="noStrike">
                <a:solidFill>
                  <a:srgbClr val="000000"/>
                </a:solidFill>
                <a:latin typeface="Arial"/>
              </a:rPr>
              <a:t> 201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178"/>
          <p:cNvGrpSpPr/>
          <p:nvPr/>
        </p:nvGrpSpPr>
        <p:grpSpPr>
          <a:xfrm>
            <a:off x="900000" y="549360"/>
            <a:ext cx="10872720" cy="5630400"/>
            <a:chOff x="900000" y="549360"/>
            <a:chExt cx="10872720" cy="5630400"/>
          </a:xfrm>
        </p:grpSpPr>
        <p:grpSp>
          <p:nvGrpSpPr>
            <p:cNvPr id="450" name="Group 4"/>
            <p:cNvGrpSpPr/>
            <p:nvPr/>
          </p:nvGrpSpPr>
          <p:grpSpPr>
            <a:xfrm>
              <a:off x="2124000" y="549360"/>
              <a:ext cx="9648720" cy="5630400"/>
              <a:chOff x="2124000" y="549360"/>
              <a:chExt cx="9648720" cy="5630400"/>
            </a:xfrm>
          </p:grpSpPr>
          <p:sp>
            <p:nvSpPr>
              <p:cNvPr id="451" name="AutoShape 3"/>
              <p:cNvSpPr/>
              <p:nvPr/>
            </p:nvSpPr>
            <p:spPr>
              <a:xfrm>
                <a:off x="2124000" y="549360"/>
                <a:ext cx="9645480" cy="56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5"/>
              <p:cNvSpPr/>
              <p:nvPr/>
            </p:nvSpPr>
            <p:spPr>
              <a:xfrm>
                <a:off x="2127240" y="552600"/>
                <a:ext cx="9645480" cy="562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6"/>
              <p:cNvSpPr/>
              <p:nvPr/>
            </p:nvSpPr>
            <p:spPr>
              <a:xfrm>
                <a:off x="3327840" y="1101600"/>
                <a:ext cx="8082720" cy="427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7"/>
              <p:cNvSpPr/>
              <p:nvPr/>
            </p:nvSpPr>
            <p:spPr>
              <a:xfrm>
                <a:off x="3481920" y="2824560"/>
                <a:ext cx="7769880" cy="2549880"/>
              </a:xfrm>
              <a:custGeom>
                <a:avLst/>
                <a:gdLst>
                  <a:gd name="textAreaLeft" fmla="*/ 0 w 7769880"/>
                  <a:gd name="textAreaRight" fmla="*/ 7770240 w 7769880"/>
                  <a:gd name="textAreaTop" fmla="*/ 0 h 2549880"/>
                  <a:gd name="textAreaBottom" fmla="*/ 2550240 h 2549880"/>
                </a:gdLst>
                <a:ahLst/>
                <a:rect l="textAreaLeft" t="textAreaTop" r="textAreaRight" b="textAreaBottom"/>
                <a:pathLst>
                  <a:path w="4640" h="1523">
                    <a:moveTo>
                      <a:pt x="0" y="339"/>
                    </a:moveTo>
                    <a:lnTo>
                      <a:pt x="120" y="339"/>
                    </a:lnTo>
                    <a:lnTo>
                      <a:pt x="120" y="1523"/>
                    </a:lnTo>
                    <a:lnTo>
                      <a:pt x="0" y="1523"/>
                    </a:lnTo>
                    <a:lnTo>
                      <a:pt x="0" y="339"/>
                    </a:lnTo>
                    <a:close/>
                    <a:moveTo>
                      <a:pt x="300" y="0"/>
                    </a:moveTo>
                    <a:lnTo>
                      <a:pt x="420" y="0"/>
                    </a:lnTo>
                    <a:lnTo>
                      <a:pt x="420" y="1523"/>
                    </a:lnTo>
                    <a:lnTo>
                      <a:pt x="300" y="1523"/>
                    </a:lnTo>
                    <a:lnTo>
                      <a:pt x="300" y="0"/>
                    </a:lnTo>
                    <a:close/>
                    <a:moveTo>
                      <a:pt x="601" y="339"/>
                    </a:moveTo>
                    <a:lnTo>
                      <a:pt x="721" y="339"/>
                    </a:lnTo>
                    <a:lnTo>
                      <a:pt x="721" y="1523"/>
                    </a:lnTo>
                    <a:lnTo>
                      <a:pt x="601" y="1523"/>
                    </a:lnTo>
                    <a:lnTo>
                      <a:pt x="601" y="339"/>
                    </a:lnTo>
                    <a:close/>
                    <a:moveTo>
                      <a:pt x="905" y="0"/>
                    </a:moveTo>
                    <a:lnTo>
                      <a:pt x="1025" y="0"/>
                    </a:lnTo>
                    <a:lnTo>
                      <a:pt x="1025" y="1523"/>
                    </a:lnTo>
                    <a:lnTo>
                      <a:pt x="905" y="1523"/>
                    </a:lnTo>
                    <a:lnTo>
                      <a:pt x="905" y="0"/>
                    </a:lnTo>
                    <a:close/>
                    <a:moveTo>
                      <a:pt x="1806" y="862"/>
                    </a:moveTo>
                    <a:lnTo>
                      <a:pt x="1929" y="862"/>
                    </a:lnTo>
                    <a:lnTo>
                      <a:pt x="1929" y="1523"/>
                    </a:lnTo>
                    <a:lnTo>
                      <a:pt x="1806" y="1523"/>
                    </a:lnTo>
                    <a:lnTo>
                      <a:pt x="1806" y="862"/>
                    </a:lnTo>
                    <a:close/>
                    <a:moveTo>
                      <a:pt x="2110" y="887"/>
                    </a:moveTo>
                    <a:lnTo>
                      <a:pt x="2230" y="887"/>
                    </a:lnTo>
                    <a:lnTo>
                      <a:pt x="2230" y="1523"/>
                    </a:lnTo>
                    <a:lnTo>
                      <a:pt x="2110" y="1523"/>
                    </a:lnTo>
                    <a:lnTo>
                      <a:pt x="2110" y="887"/>
                    </a:lnTo>
                    <a:close/>
                    <a:moveTo>
                      <a:pt x="2410" y="862"/>
                    </a:moveTo>
                    <a:lnTo>
                      <a:pt x="2530" y="862"/>
                    </a:lnTo>
                    <a:lnTo>
                      <a:pt x="2530" y="1523"/>
                    </a:lnTo>
                    <a:lnTo>
                      <a:pt x="2410" y="1523"/>
                    </a:lnTo>
                    <a:lnTo>
                      <a:pt x="2410" y="862"/>
                    </a:lnTo>
                    <a:close/>
                    <a:moveTo>
                      <a:pt x="2710" y="887"/>
                    </a:moveTo>
                    <a:lnTo>
                      <a:pt x="2830" y="887"/>
                    </a:lnTo>
                    <a:lnTo>
                      <a:pt x="2830" y="1523"/>
                    </a:lnTo>
                    <a:lnTo>
                      <a:pt x="2710" y="1523"/>
                    </a:lnTo>
                    <a:lnTo>
                      <a:pt x="2710" y="887"/>
                    </a:lnTo>
                    <a:close/>
                    <a:moveTo>
                      <a:pt x="3615" y="1000"/>
                    </a:moveTo>
                    <a:lnTo>
                      <a:pt x="3735" y="1000"/>
                    </a:lnTo>
                    <a:lnTo>
                      <a:pt x="3735" y="1523"/>
                    </a:lnTo>
                    <a:lnTo>
                      <a:pt x="3615" y="1523"/>
                    </a:lnTo>
                    <a:lnTo>
                      <a:pt x="3615" y="1000"/>
                    </a:lnTo>
                    <a:close/>
                    <a:moveTo>
                      <a:pt x="3915" y="633"/>
                    </a:moveTo>
                    <a:lnTo>
                      <a:pt x="4035" y="633"/>
                    </a:lnTo>
                    <a:lnTo>
                      <a:pt x="4035" y="1523"/>
                    </a:lnTo>
                    <a:lnTo>
                      <a:pt x="3915" y="1523"/>
                    </a:lnTo>
                    <a:lnTo>
                      <a:pt x="3915" y="633"/>
                    </a:lnTo>
                    <a:close/>
                    <a:moveTo>
                      <a:pt x="4219" y="1000"/>
                    </a:moveTo>
                    <a:lnTo>
                      <a:pt x="4339" y="1000"/>
                    </a:lnTo>
                    <a:lnTo>
                      <a:pt x="4339" y="1523"/>
                    </a:lnTo>
                    <a:lnTo>
                      <a:pt x="4219" y="1523"/>
                    </a:lnTo>
                    <a:lnTo>
                      <a:pt x="4219" y="1000"/>
                    </a:lnTo>
                    <a:close/>
                    <a:moveTo>
                      <a:pt x="4520" y="633"/>
                    </a:moveTo>
                    <a:lnTo>
                      <a:pt x="4640" y="633"/>
                    </a:lnTo>
                    <a:lnTo>
                      <a:pt x="4640" y="1523"/>
                    </a:lnTo>
                    <a:lnTo>
                      <a:pt x="4520" y="1523"/>
                    </a:lnTo>
                    <a:lnTo>
                      <a:pt x="4520" y="633"/>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8"/>
              <p:cNvSpPr/>
              <p:nvPr/>
            </p:nvSpPr>
            <p:spPr>
              <a:xfrm>
                <a:off x="3481920" y="2280600"/>
                <a:ext cx="7769880" cy="2217960"/>
              </a:xfrm>
              <a:custGeom>
                <a:avLst/>
                <a:gdLst>
                  <a:gd name="textAreaLeft" fmla="*/ 0 w 7769880"/>
                  <a:gd name="textAreaRight" fmla="*/ 7770240 w 7769880"/>
                  <a:gd name="textAreaTop" fmla="*/ 0 h 2217960"/>
                  <a:gd name="textAreaBottom" fmla="*/ 2217960 h 2217960"/>
                </a:gdLst>
                <a:ahLst/>
                <a:rect l="textAreaLeft" t="textAreaTop" r="textAreaRight" b="textAreaBottom"/>
                <a:pathLst>
                  <a:path w="4640" h="1325">
                    <a:moveTo>
                      <a:pt x="0" y="381"/>
                    </a:moveTo>
                    <a:lnTo>
                      <a:pt x="120" y="381"/>
                    </a:lnTo>
                    <a:lnTo>
                      <a:pt x="120" y="664"/>
                    </a:lnTo>
                    <a:lnTo>
                      <a:pt x="0" y="664"/>
                    </a:lnTo>
                    <a:lnTo>
                      <a:pt x="0" y="381"/>
                    </a:lnTo>
                    <a:close/>
                    <a:moveTo>
                      <a:pt x="300" y="0"/>
                    </a:moveTo>
                    <a:lnTo>
                      <a:pt x="420" y="0"/>
                    </a:lnTo>
                    <a:lnTo>
                      <a:pt x="420" y="325"/>
                    </a:lnTo>
                    <a:lnTo>
                      <a:pt x="300" y="325"/>
                    </a:lnTo>
                    <a:lnTo>
                      <a:pt x="300" y="0"/>
                    </a:lnTo>
                    <a:close/>
                    <a:moveTo>
                      <a:pt x="601" y="611"/>
                    </a:moveTo>
                    <a:lnTo>
                      <a:pt x="721" y="611"/>
                    </a:lnTo>
                    <a:lnTo>
                      <a:pt x="721" y="664"/>
                    </a:lnTo>
                    <a:lnTo>
                      <a:pt x="601" y="664"/>
                    </a:lnTo>
                    <a:lnTo>
                      <a:pt x="601" y="611"/>
                    </a:lnTo>
                    <a:close/>
                    <a:moveTo>
                      <a:pt x="905" y="261"/>
                    </a:moveTo>
                    <a:lnTo>
                      <a:pt x="1025" y="261"/>
                    </a:lnTo>
                    <a:lnTo>
                      <a:pt x="1025" y="325"/>
                    </a:lnTo>
                    <a:lnTo>
                      <a:pt x="905" y="325"/>
                    </a:lnTo>
                    <a:lnTo>
                      <a:pt x="905" y="261"/>
                    </a:lnTo>
                    <a:close/>
                    <a:moveTo>
                      <a:pt x="1806" y="1081"/>
                    </a:moveTo>
                    <a:lnTo>
                      <a:pt x="1929" y="1081"/>
                    </a:lnTo>
                    <a:lnTo>
                      <a:pt x="1929" y="1187"/>
                    </a:lnTo>
                    <a:lnTo>
                      <a:pt x="1806" y="1187"/>
                    </a:lnTo>
                    <a:lnTo>
                      <a:pt x="1806" y="1081"/>
                    </a:lnTo>
                    <a:close/>
                    <a:moveTo>
                      <a:pt x="2110" y="1124"/>
                    </a:moveTo>
                    <a:lnTo>
                      <a:pt x="2230" y="1124"/>
                    </a:lnTo>
                    <a:lnTo>
                      <a:pt x="2230" y="1212"/>
                    </a:lnTo>
                    <a:lnTo>
                      <a:pt x="2110" y="1212"/>
                    </a:lnTo>
                    <a:lnTo>
                      <a:pt x="2110" y="1124"/>
                    </a:lnTo>
                    <a:close/>
                    <a:moveTo>
                      <a:pt x="2410" y="1166"/>
                    </a:moveTo>
                    <a:lnTo>
                      <a:pt x="2530" y="1166"/>
                    </a:lnTo>
                    <a:lnTo>
                      <a:pt x="2530" y="1187"/>
                    </a:lnTo>
                    <a:lnTo>
                      <a:pt x="2410" y="1187"/>
                    </a:lnTo>
                    <a:lnTo>
                      <a:pt x="2410" y="1166"/>
                    </a:lnTo>
                    <a:close/>
                    <a:moveTo>
                      <a:pt x="2710" y="1198"/>
                    </a:moveTo>
                    <a:lnTo>
                      <a:pt x="2830" y="1198"/>
                    </a:lnTo>
                    <a:lnTo>
                      <a:pt x="2830" y="1212"/>
                    </a:lnTo>
                    <a:lnTo>
                      <a:pt x="2710" y="1212"/>
                    </a:lnTo>
                    <a:lnTo>
                      <a:pt x="2710" y="1198"/>
                    </a:lnTo>
                    <a:close/>
                    <a:moveTo>
                      <a:pt x="3615" y="1148"/>
                    </a:moveTo>
                    <a:lnTo>
                      <a:pt x="3735" y="1148"/>
                    </a:lnTo>
                    <a:lnTo>
                      <a:pt x="3735" y="1325"/>
                    </a:lnTo>
                    <a:lnTo>
                      <a:pt x="3615" y="1325"/>
                    </a:lnTo>
                    <a:lnTo>
                      <a:pt x="3615" y="1148"/>
                    </a:lnTo>
                    <a:close/>
                    <a:moveTo>
                      <a:pt x="3915" y="721"/>
                    </a:moveTo>
                    <a:lnTo>
                      <a:pt x="4035" y="721"/>
                    </a:lnTo>
                    <a:lnTo>
                      <a:pt x="4035" y="958"/>
                    </a:lnTo>
                    <a:lnTo>
                      <a:pt x="3915" y="958"/>
                    </a:lnTo>
                    <a:lnTo>
                      <a:pt x="3915" y="721"/>
                    </a:lnTo>
                    <a:close/>
                    <a:moveTo>
                      <a:pt x="4219" y="1290"/>
                    </a:moveTo>
                    <a:lnTo>
                      <a:pt x="4339" y="1290"/>
                    </a:lnTo>
                    <a:lnTo>
                      <a:pt x="4339" y="1325"/>
                    </a:lnTo>
                    <a:lnTo>
                      <a:pt x="4219" y="1325"/>
                    </a:lnTo>
                    <a:lnTo>
                      <a:pt x="4219" y="1290"/>
                    </a:lnTo>
                    <a:close/>
                    <a:moveTo>
                      <a:pt x="4520" y="912"/>
                    </a:moveTo>
                    <a:lnTo>
                      <a:pt x="4640" y="912"/>
                    </a:lnTo>
                    <a:lnTo>
                      <a:pt x="4640" y="958"/>
                    </a:lnTo>
                    <a:lnTo>
                      <a:pt x="4520" y="958"/>
                    </a:lnTo>
                    <a:lnTo>
                      <a:pt x="4520" y="912"/>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9"/>
              <p:cNvSpPr/>
              <p:nvPr/>
            </p:nvSpPr>
            <p:spPr>
              <a:xfrm>
                <a:off x="3481920" y="2042640"/>
                <a:ext cx="7769880" cy="2397600"/>
              </a:xfrm>
              <a:custGeom>
                <a:avLst/>
                <a:gdLst>
                  <a:gd name="textAreaLeft" fmla="*/ 0 w 7769880"/>
                  <a:gd name="textAreaRight" fmla="*/ 7770240 w 7769880"/>
                  <a:gd name="textAreaTop" fmla="*/ 0 h 2397600"/>
                  <a:gd name="textAreaBottom" fmla="*/ 2397960 h 2397600"/>
                </a:gdLst>
                <a:ahLst/>
                <a:rect l="textAreaLeft" t="textAreaTop" r="textAreaRight" b="textAreaBottom"/>
                <a:pathLst>
                  <a:path w="4640" h="1432">
                    <a:moveTo>
                      <a:pt x="0" y="396"/>
                    </a:moveTo>
                    <a:lnTo>
                      <a:pt x="120" y="396"/>
                    </a:lnTo>
                    <a:lnTo>
                      <a:pt x="120" y="523"/>
                    </a:lnTo>
                    <a:lnTo>
                      <a:pt x="0" y="523"/>
                    </a:lnTo>
                    <a:lnTo>
                      <a:pt x="0" y="396"/>
                    </a:lnTo>
                    <a:close/>
                    <a:moveTo>
                      <a:pt x="300" y="0"/>
                    </a:moveTo>
                    <a:lnTo>
                      <a:pt x="420" y="0"/>
                    </a:lnTo>
                    <a:lnTo>
                      <a:pt x="420" y="142"/>
                    </a:lnTo>
                    <a:lnTo>
                      <a:pt x="300" y="142"/>
                    </a:lnTo>
                    <a:lnTo>
                      <a:pt x="300" y="0"/>
                    </a:lnTo>
                    <a:close/>
                    <a:moveTo>
                      <a:pt x="601" y="644"/>
                    </a:moveTo>
                    <a:lnTo>
                      <a:pt x="721" y="644"/>
                    </a:lnTo>
                    <a:lnTo>
                      <a:pt x="721" y="753"/>
                    </a:lnTo>
                    <a:lnTo>
                      <a:pt x="601" y="753"/>
                    </a:lnTo>
                    <a:lnTo>
                      <a:pt x="601" y="644"/>
                    </a:lnTo>
                    <a:close/>
                    <a:moveTo>
                      <a:pt x="905" y="283"/>
                    </a:moveTo>
                    <a:lnTo>
                      <a:pt x="1025" y="283"/>
                    </a:lnTo>
                    <a:lnTo>
                      <a:pt x="1025" y="403"/>
                    </a:lnTo>
                    <a:lnTo>
                      <a:pt x="905" y="403"/>
                    </a:lnTo>
                    <a:lnTo>
                      <a:pt x="905" y="283"/>
                    </a:lnTo>
                    <a:close/>
                    <a:moveTo>
                      <a:pt x="1806" y="1174"/>
                    </a:moveTo>
                    <a:lnTo>
                      <a:pt x="1929" y="1174"/>
                    </a:lnTo>
                    <a:lnTo>
                      <a:pt x="1929" y="1223"/>
                    </a:lnTo>
                    <a:lnTo>
                      <a:pt x="1806" y="1223"/>
                    </a:lnTo>
                    <a:lnTo>
                      <a:pt x="1806" y="1174"/>
                    </a:lnTo>
                    <a:close/>
                    <a:moveTo>
                      <a:pt x="2110" y="1227"/>
                    </a:moveTo>
                    <a:lnTo>
                      <a:pt x="2230" y="1227"/>
                    </a:lnTo>
                    <a:lnTo>
                      <a:pt x="2230" y="1266"/>
                    </a:lnTo>
                    <a:lnTo>
                      <a:pt x="2110" y="1266"/>
                    </a:lnTo>
                    <a:lnTo>
                      <a:pt x="2110" y="1227"/>
                    </a:lnTo>
                    <a:close/>
                    <a:moveTo>
                      <a:pt x="2410" y="1266"/>
                    </a:moveTo>
                    <a:lnTo>
                      <a:pt x="2530" y="1266"/>
                    </a:lnTo>
                    <a:lnTo>
                      <a:pt x="2530" y="1308"/>
                    </a:lnTo>
                    <a:lnTo>
                      <a:pt x="2410" y="1308"/>
                    </a:lnTo>
                    <a:lnTo>
                      <a:pt x="2410" y="1266"/>
                    </a:lnTo>
                    <a:close/>
                    <a:moveTo>
                      <a:pt x="2710" y="1301"/>
                    </a:moveTo>
                    <a:lnTo>
                      <a:pt x="2830" y="1301"/>
                    </a:lnTo>
                    <a:lnTo>
                      <a:pt x="2830" y="1340"/>
                    </a:lnTo>
                    <a:lnTo>
                      <a:pt x="2710" y="1340"/>
                    </a:lnTo>
                    <a:lnTo>
                      <a:pt x="2710" y="1301"/>
                    </a:lnTo>
                    <a:close/>
                    <a:moveTo>
                      <a:pt x="3615" y="1216"/>
                    </a:moveTo>
                    <a:lnTo>
                      <a:pt x="3735" y="1216"/>
                    </a:lnTo>
                    <a:lnTo>
                      <a:pt x="3735" y="1290"/>
                    </a:lnTo>
                    <a:lnTo>
                      <a:pt x="3615" y="1290"/>
                    </a:lnTo>
                    <a:lnTo>
                      <a:pt x="3615" y="1216"/>
                    </a:lnTo>
                    <a:close/>
                    <a:moveTo>
                      <a:pt x="3915" y="764"/>
                    </a:moveTo>
                    <a:lnTo>
                      <a:pt x="4035" y="764"/>
                    </a:lnTo>
                    <a:lnTo>
                      <a:pt x="4035" y="863"/>
                    </a:lnTo>
                    <a:lnTo>
                      <a:pt x="3915" y="863"/>
                    </a:lnTo>
                    <a:lnTo>
                      <a:pt x="3915" y="764"/>
                    </a:lnTo>
                    <a:close/>
                    <a:moveTo>
                      <a:pt x="4219" y="1372"/>
                    </a:moveTo>
                    <a:lnTo>
                      <a:pt x="4339" y="1372"/>
                    </a:lnTo>
                    <a:lnTo>
                      <a:pt x="4339" y="1432"/>
                    </a:lnTo>
                    <a:lnTo>
                      <a:pt x="4219" y="1432"/>
                    </a:lnTo>
                    <a:lnTo>
                      <a:pt x="4219" y="1372"/>
                    </a:lnTo>
                    <a:close/>
                    <a:moveTo>
                      <a:pt x="4520" y="972"/>
                    </a:moveTo>
                    <a:lnTo>
                      <a:pt x="4640" y="972"/>
                    </a:lnTo>
                    <a:lnTo>
                      <a:pt x="4640" y="1054"/>
                    </a:lnTo>
                    <a:lnTo>
                      <a:pt x="4520" y="1054"/>
                    </a:lnTo>
                    <a:lnTo>
                      <a:pt x="4520" y="97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0"/>
              <p:cNvSpPr/>
              <p:nvPr/>
            </p:nvSpPr>
            <p:spPr>
              <a:xfrm>
                <a:off x="3481920" y="1978920"/>
                <a:ext cx="7769880" cy="2360160"/>
              </a:xfrm>
              <a:custGeom>
                <a:avLst/>
                <a:gdLst>
                  <a:gd name="textAreaLeft" fmla="*/ 0 w 7769880"/>
                  <a:gd name="textAreaRight" fmla="*/ 7770240 w 7769880"/>
                  <a:gd name="textAreaTop" fmla="*/ 0 h 2360160"/>
                  <a:gd name="textAreaBottom" fmla="*/ 2360520 h 2360160"/>
                </a:gdLst>
                <a:ahLst/>
                <a:rect l="textAreaLeft" t="textAreaTop" r="textAreaRight" b="textAreaBottom"/>
                <a:pathLst>
                  <a:path w="4640" h="1410">
                    <a:moveTo>
                      <a:pt x="0" y="424"/>
                    </a:moveTo>
                    <a:lnTo>
                      <a:pt x="120" y="424"/>
                    </a:lnTo>
                    <a:lnTo>
                      <a:pt x="120" y="434"/>
                    </a:lnTo>
                    <a:lnTo>
                      <a:pt x="0" y="434"/>
                    </a:lnTo>
                    <a:lnTo>
                      <a:pt x="0" y="424"/>
                    </a:lnTo>
                    <a:close/>
                    <a:moveTo>
                      <a:pt x="300" y="0"/>
                    </a:moveTo>
                    <a:lnTo>
                      <a:pt x="420" y="0"/>
                    </a:lnTo>
                    <a:lnTo>
                      <a:pt x="420" y="38"/>
                    </a:lnTo>
                    <a:lnTo>
                      <a:pt x="300" y="38"/>
                    </a:lnTo>
                    <a:lnTo>
                      <a:pt x="300" y="0"/>
                    </a:lnTo>
                    <a:close/>
                    <a:moveTo>
                      <a:pt x="601" y="667"/>
                    </a:moveTo>
                    <a:lnTo>
                      <a:pt x="721" y="667"/>
                    </a:lnTo>
                    <a:lnTo>
                      <a:pt x="721" y="682"/>
                    </a:lnTo>
                    <a:lnTo>
                      <a:pt x="601" y="682"/>
                    </a:lnTo>
                    <a:lnTo>
                      <a:pt x="601" y="667"/>
                    </a:lnTo>
                    <a:close/>
                    <a:moveTo>
                      <a:pt x="905" y="289"/>
                    </a:moveTo>
                    <a:lnTo>
                      <a:pt x="1025" y="289"/>
                    </a:lnTo>
                    <a:lnTo>
                      <a:pt x="1025" y="321"/>
                    </a:lnTo>
                    <a:lnTo>
                      <a:pt x="905" y="321"/>
                    </a:lnTo>
                    <a:lnTo>
                      <a:pt x="905" y="289"/>
                    </a:lnTo>
                    <a:close/>
                    <a:moveTo>
                      <a:pt x="1806" y="1201"/>
                    </a:moveTo>
                    <a:lnTo>
                      <a:pt x="1929" y="1201"/>
                    </a:lnTo>
                    <a:lnTo>
                      <a:pt x="1929" y="1212"/>
                    </a:lnTo>
                    <a:lnTo>
                      <a:pt x="1806" y="1212"/>
                    </a:lnTo>
                    <a:lnTo>
                      <a:pt x="1806" y="1201"/>
                    </a:lnTo>
                    <a:close/>
                    <a:moveTo>
                      <a:pt x="2110" y="1240"/>
                    </a:moveTo>
                    <a:lnTo>
                      <a:pt x="2230" y="1240"/>
                    </a:lnTo>
                    <a:lnTo>
                      <a:pt x="2230" y="1265"/>
                    </a:lnTo>
                    <a:lnTo>
                      <a:pt x="2110" y="1265"/>
                    </a:lnTo>
                    <a:lnTo>
                      <a:pt x="2110" y="1240"/>
                    </a:lnTo>
                    <a:close/>
                    <a:moveTo>
                      <a:pt x="2410" y="1289"/>
                    </a:moveTo>
                    <a:lnTo>
                      <a:pt x="2530" y="1289"/>
                    </a:lnTo>
                    <a:lnTo>
                      <a:pt x="2530" y="1304"/>
                    </a:lnTo>
                    <a:lnTo>
                      <a:pt x="2410" y="1304"/>
                    </a:lnTo>
                    <a:lnTo>
                      <a:pt x="2410" y="1289"/>
                    </a:lnTo>
                    <a:close/>
                    <a:moveTo>
                      <a:pt x="2710" y="1325"/>
                    </a:moveTo>
                    <a:lnTo>
                      <a:pt x="2830" y="1325"/>
                    </a:lnTo>
                    <a:lnTo>
                      <a:pt x="2830" y="1339"/>
                    </a:lnTo>
                    <a:lnTo>
                      <a:pt x="2710" y="1339"/>
                    </a:lnTo>
                    <a:lnTo>
                      <a:pt x="2710" y="1325"/>
                    </a:lnTo>
                    <a:close/>
                    <a:moveTo>
                      <a:pt x="3615" y="1251"/>
                    </a:moveTo>
                    <a:lnTo>
                      <a:pt x="3735" y="1251"/>
                    </a:lnTo>
                    <a:lnTo>
                      <a:pt x="3735" y="1254"/>
                    </a:lnTo>
                    <a:lnTo>
                      <a:pt x="3615" y="1254"/>
                    </a:lnTo>
                    <a:lnTo>
                      <a:pt x="3615" y="1251"/>
                    </a:lnTo>
                    <a:close/>
                    <a:moveTo>
                      <a:pt x="3915" y="791"/>
                    </a:moveTo>
                    <a:lnTo>
                      <a:pt x="4035" y="791"/>
                    </a:lnTo>
                    <a:lnTo>
                      <a:pt x="4035" y="802"/>
                    </a:lnTo>
                    <a:lnTo>
                      <a:pt x="3915" y="802"/>
                    </a:lnTo>
                    <a:lnTo>
                      <a:pt x="3915" y="791"/>
                    </a:lnTo>
                    <a:close/>
                    <a:moveTo>
                      <a:pt x="4219" y="1403"/>
                    </a:moveTo>
                    <a:lnTo>
                      <a:pt x="4339" y="1403"/>
                    </a:lnTo>
                    <a:lnTo>
                      <a:pt x="4339" y="1410"/>
                    </a:lnTo>
                    <a:lnTo>
                      <a:pt x="4219" y="1410"/>
                    </a:lnTo>
                    <a:lnTo>
                      <a:pt x="4219" y="1403"/>
                    </a:lnTo>
                    <a:close/>
                    <a:moveTo>
                      <a:pt x="4520" y="993"/>
                    </a:moveTo>
                    <a:lnTo>
                      <a:pt x="4640" y="993"/>
                    </a:lnTo>
                    <a:lnTo>
                      <a:pt x="4640" y="1010"/>
                    </a:lnTo>
                    <a:lnTo>
                      <a:pt x="4520" y="1010"/>
                    </a:lnTo>
                    <a:lnTo>
                      <a:pt x="4520" y="993"/>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11"/>
              <p:cNvSpPr/>
              <p:nvPr/>
            </p:nvSpPr>
            <p:spPr>
              <a:xfrm>
                <a:off x="3327840" y="1105200"/>
                <a:ext cx="6120" cy="42660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
              <p:cNvSpPr/>
              <p:nvPr/>
            </p:nvSpPr>
            <p:spPr>
              <a:xfrm>
                <a:off x="3289320" y="1101600"/>
                <a:ext cx="41760" cy="4272840"/>
              </a:xfrm>
              <a:custGeom>
                <a:avLst/>
                <a:gdLst>
                  <a:gd name="textAreaLeft" fmla="*/ 0 w 41760"/>
                  <a:gd name="textAreaRight" fmla="*/ 42120 w 41760"/>
                  <a:gd name="textAreaTop" fmla="*/ 0 h 4272840"/>
                  <a:gd name="textAreaBottom" fmla="*/ 4273200 h 4272840"/>
                </a:gdLst>
                <a:ahLst/>
                <a:rect l="textAreaLeft" t="textAreaTop" r="textAreaRight" b="textAreaBottom"/>
                <a:pathLst>
                  <a:path w="25" h="2552">
                    <a:moveTo>
                      <a:pt x="0" y="2549"/>
                    </a:moveTo>
                    <a:lnTo>
                      <a:pt x="25" y="2549"/>
                    </a:lnTo>
                    <a:lnTo>
                      <a:pt x="25" y="2552"/>
                    </a:lnTo>
                    <a:lnTo>
                      <a:pt x="0" y="2552"/>
                    </a:lnTo>
                    <a:lnTo>
                      <a:pt x="0" y="2549"/>
                    </a:lnTo>
                    <a:close/>
                    <a:moveTo>
                      <a:pt x="0" y="2124"/>
                    </a:moveTo>
                    <a:lnTo>
                      <a:pt x="25" y="2124"/>
                    </a:lnTo>
                    <a:lnTo>
                      <a:pt x="25" y="2128"/>
                    </a:lnTo>
                    <a:lnTo>
                      <a:pt x="0" y="2128"/>
                    </a:lnTo>
                    <a:lnTo>
                      <a:pt x="0" y="2124"/>
                    </a:lnTo>
                    <a:close/>
                    <a:moveTo>
                      <a:pt x="0" y="1700"/>
                    </a:moveTo>
                    <a:lnTo>
                      <a:pt x="25" y="1700"/>
                    </a:lnTo>
                    <a:lnTo>
                      <a:pt x="25" y="1704"/>
                    </a:lnTo>
                    <a:lnTo>
                      <a:pt x="0" y="1704"/>
                    </a:lnTo>
                    <a:lnTo>
                      <a:pt x="0" y="1700"/>
                    </a:lnTo>
                    <a:close/>
                    <a:moveTo>
                      <a:pt x="0" y="1273"/>
                    </a:moveTo>
                    <a:lnTo>
                      <a:pt x="25" y="1273"/>
                    </a:lnTo>
                    <a:lnTo>
                      <a:pt x="25" y="1276"/>
                    </a:lnTo>
                    <a:lnTo>
                      <a:pt x="0" y="1276"/>
                    </a:lnTo>
                    <a:lnTo>
                      <a:pt x="0" y="1273"/>
                    </a:lnTo>
                    <a:close/>
                    <a:moveTo>
                      <a:pt x="0" y="849"/>
                    </a:moveTo>
                    <a:lnTo>
                      <a:pt x="25" y="849"/>
                    </a:lnTo>
                    <a:lnTo>
                      <a:pt x="25" y="852"/>
                    </a:lnTo>
                    <a:lnTo>
                      <a:pt x="0" y="852"/>
                    </a:lnTo>
                    <a:lnTo>
                      <a:pt x="0" y="849"/>
                    </a:lnTo>
                    <a:close/>
                    <a:moveTo>
                      <a:pt x="0" y="425"/>
                    </a:moveTo>
                    <a:lnTo>
                      <a:pt x="25" y="425"/>
                    </a:lnTo>
                    <a:lnTo>
                      <a:pt x="25" y="428"/>
                    </a:lnTo>
                    <a:lnTo>
                      <a:pt x="0" y="428"/>
                    </a:lnTo>
                    <a:lnTo>
                      <a:pt x="0" y="425"/>
                    </a:lnTo>
                    <a:close/>
                    <a:moveTo>
                      <a:pt x="0" y="0"/>
                    </a:moveTo>
                    <a:lnTo>
                      <a:pt x="25" y="0"/>
                    </a:lnTo>
                    <a:lnTo>
                      <a:pt x="25" y="4"/>
                    </a:lnTo>
                    <a:lnTo>
                      <a:pt x="0" y="4"/>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3"/>
              <p:cNvSpPr/>
              <p:nvPr/>
            </p:nvSpPr>
            <p:spPr>
              <a:xfrm>
                <a:off x="3331080" y="5369400"/>
                <a:ext cx="8071560" cy="5040"/>
              </a:xfrm>
              <a:prstGeom prst="rect">
                <a:avLst/>
              </a:prstGeom>
              <a:solidFill>
                <a:srgbClr val="868686"/>
              </a:solidFill>
              <a:ln w="0">
                <a:solidFill>
                  <a:srgbClr val="868686"/>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1" name="Freeform 14"/>
              <p:cNvSpPr/>
              <p:nvPr/>
            </p:nvSpPr>
            <p:spPr>
              <a:xfrm>
                <a:off x="3327840" y="5371200"/>
                <a:ext cx="8077680" cy="41760"/>
              </a:xfrm>
              <a:custGeom>
                <a:avLst/>
                <a:gdLst>
                  <a:gd name="textAreaLeft" fmla="*/ 0 w 8077680"/>
                  <a:gd name="textAreaRight" fmla="*/ 8078040 w 8077680"/>
                  <a:gd name="textAreaTop" fmla="*/ 0 h 41760"/>
                  <a:gd name="textAreaBottom" fmla="*/ 42120 h 41760"/>
                </a:gdLst>
                <a:ahLst/>
                <a:rect l="textAreaLeft" t="textAreaTop" r="textAreaRight" b="textAreaBottom"/>
                <a:pathLst>
                  <a:path w="4824" h="25">
                    <a:moveTo>
                      <a:pt x="4" y="0"/>
                    </a:moveTo>
                    <a:lnTo>
                      <a:pt x="4" y="25"/>
                    </a:lnTo>
                    <a:lnTo>
                      <a:pt x="0" y="25"/>
                    </a:lnTo>
                    <a:lnTo>
                      <a:pt x="0" y="0"/>
                    </a:lnTo>
                    <a:lnTo>
                      <a:pt x="4" y="0"/>
                    </a:lnTo>
                    <a:close/>
                    <a:moveTo>
                      <a:pt x="304" y="0"/>
                    </a:moveTo>
                    <a:lnTo>
                      <a:pt x="304" y="25"/>
                    </a:lnTo>
                    <a:lnTo>
                      <a:pt x="300" y="25"/>
                    </a:lnTo>
                    <a:lnTo>
                      <a:pt x="300" y="0"/>
                    </a:lnTo>
                    <a:lnTo>
                      <a:pt x="304" y="0"/>
                    </a:lnTo>
                    <a:close/>
                    <a:moveTo>
                      <a:pt x="604" y="0"/>
                    </a:moveTo>
                    <a:lnTo>
                      <a:pt x="604" y="25"/>
                    </a:lnTo>
                    <a:lnTo>
                      <a:pt x="601" y="25"/>
                    </a:lnTo>
                    <a:lnTo>
                      <a:pt x="601" y="0"/>
                    </a:lnTo>
                    <a:lnTo>
                      <a:pt x="604" y="0"/>
                    </a:lnTo>
                    <a:close/>
                    <a:moveTo>
                      <a:pt x="905" y="0"/>
                    </a:moveTo>
                    <a:lnTo>
                      <a:pt x="905" y="25"/>
                    </a:lnTo>
                    <a:lnTo>
                      <a:pt x="901" y="25"/>
                    </a:lnTo>
                    <a:lnTo>
                      <a:pt x="901" y="0"/>
                    </a:lnTo>
                    <a:lnTo>
                      <a:pt x="905" y="0"/>
                    </a:lnTo>
                    <a:close/>
                    <a:moveTo>
                      <a:pt x="1209" y="0"/>
                    </a:moveTo>
                    <a:lnTo>
                      <a:pt x="1209" y="25"/>
                    </a:lnTo>
                    <a:lnTo>
                      <a:pt x="1205" y="25"/>
                    </a:lnTo>
                    <a:lnTo>
                      <a:pt x="1205" y="0"/>
                    </a:lnTo>
                    <a:lnTo>
                      <a:pt x="1209" y="0"/>
                    </a:lnTo>
                    <a:close/>
                    <a:moveTo>
                      <a:pt x="1509" y="0"/>
                    </a:moveTo>
                    <a:lnTo>
                      <a:pt x="1509" y="25"/>
                    </a:lnTo>
                    <a:lnTo>
                      <a:pt x="1505" y="25"/>
                    </a:lnTo>
                    <a:lnTo>
                      <a:pt x="1505" y="0"/>
                    </a:lnTo>
                    <a:lnTo>
                      <a:pt x="1509" y="0"/>
                    </a:lnTo>
                    <a:close/>
                    <a:moveTo>
                      <a:pt x="1809" y="0"/>
                    </a:moveTo>
                    <a:lnTo>
                      <a:pt x="1809" y="25"/>
                    </a:lnTo>
                    <a:lnTo>
                      <a:pt x="1806" y="25"/>
                    </a:lnTo>
                    <a:lnTo>
                      <a:pt x="1806" y="0"/>
                    </a:lnTo>
                    <a:lnTo>
                      <a:pt x="1809" y="0"/>
                    </a:lnTo>
                    <a:close/>
                    <a:moveTo>
                      <a:pt x="2113" y="0"/>
                    </a:moveTo>
                    <a:lnTo>
                      <a:pt x="2113" y="25"/>
                    </a:lnTo>
                    <a:lnTo>
                      <a:pt x="2110" y="25"/>
                    </a:lnTo>
                    <a:lnTo>
                      <a:pt x="2110" y="0"/>
                    </a:lnTo>
                    <a:lnTo>
                      <a:pt x="2113" y="0"/>
                    </a:lnTo>
                    <a:close/>
                    <a:moveTo>
                      <a:pt x="2414" y="0"/>
                    </a:moveTo>
                    <a:lnTo>
                      <a:pt x="2414" y="25"/>
                    </a:lnTo>
                    <a:lnTo>
                      <a:pt x="2410" y="25"/>
                    </a:lnTo>
                    <a:lnTo>
                      <a:pt x="2410" y="0"/>
                    </a:lnTo>
                    <a:lnTo>
                      <a:pt x="2414" y="0"/>
                    </a:lnTo>
                    <a:close/>
                    <a:moveTo>
                      <a:pt x="2714" y="0"/>
                    </a:moveTo>
                    <a:lnTo>
                      <a:pt x="2714" y="25"/>
                    </a:lnTo>
                    <a:lnTo>
                      <a:pt x="2710" y="25"/>
                    </a:lnTo>
                    <a:lnTo>
                      <a:pt x="2710" y="0"/>
                    </a:lnTo>
                    <a:lnTo>
                      <a:pt x="2714" y="0"/>
                    </a:lnTo>
                    <a:close/>
                    <a:moveTo>
                      <a:pt x="3014" y="0"/>
                    </a:moveTo>
                    <a:lnTo>
                      <a:pt x="3014" y="25"/>
                    </a:lnTo>
                    <a:lnTo>
                      <a:pt x="3011" y="25"/>
                    </a:lnTo>
                    <a:lnTo>
                      <a:pt x="3011" y="0"/>
                    </a:lnTo>
                    <a:lnTo>
                      <a:pt x="3014" y="0"/>
                    </a:lnTo>
                    <a:close/>
                    <a:moveTo>
                      <a:pt x="3318" y="0"/>
                    </a:moveTo>
                    <a:lnTo>
                      <a:pt x="3318" y="25"/>
                    </a:lnTo>
                    <a:lnTo>
                      <a:pt x="3315" y="25"/>
                    </a:lnTo>
                    <a:lnTo>
                      <a:pt x="3315" y="0"/>
                    </a:lnTo>
                    <a:lnTo>
                      <a:pt x="3318" y="0"/>
                    </a:lnTo>
                    <a:close/>
                    <a:moveTo>
                      <a:pt x="3619" y="0"/>
                    </a:moveTo>
                    <a:lnTo>
                      <a:pt x="3619" y="25"/>
                    </a:lnTo>
                    <a:lnTo>
                      <a:pt x="3615" y="25"/>
                    </a:lnTo>
                    <a:lnTo>
                      <a:pt x="3615" y="0"/>
                    </a:lnTo>
                    <a:lnTo>
                      <a:pt x="3619" y="0"/>
                    </a:lnTo>
                    <a:close/>
                    <a:moveTo>
                      <a:pt x="3919" y="0"/>
                    </a:moveTo>
                    <a:lnTo>
                      <a:pt x="3919" y="25"/>
                    </a:lnTo>
                    <a:lnTo>
                      <a:pt x="3915" y="25"/>
                    </a:lnTo>
                    <a:lnTo>
                      <a:pt x="3915" y="0"/>
                    </a:lnTo>
                    <a:lnTo>
                      <a:pt x="3919" y="0"/>
                    </a:lnTo>
                    <a:close/>
                    <a:moveTo>
                      <a:pt x="4223" y="0"/>
                    </a:moveTo>
                    <a:lnTo>
                      <a:pt x="4223" y="25"/>
                    </a:lnTo>
                    <a:lnTo>
                      <a:pt x="4219" y="25"/>
                    </a:lnTo>
                    <a:lnTo>
                      <a:pt x="4219" y="0"/>
                    </a:lnTo>
                    <a:lnTo>
                      <a:pt x="4223" y="0"/>
                    </a:lnTo>
                    <a:close/>
                    <a:moveTo>
                      <a:pt x="4523" y="0"/>
                    </a:moveTo>
                    <a:lnTo>
                      <a:pt x="4523" y="25"/>
                    </a:lnTo>
                    <a:lnTo>
                      <a:pt x="4520" y="25"/>
                    </a:lnTo>
                    <a:lnTo>
                      <a:pt x="4520" y="0"/>
                    </a:lnTo>
                    <a:lnTo>
                      <a:pt x="4523" y="0"/>
                    </a:lnTo>
                    <a:close/>
                    <a:moveTo>
                      <a:pt x="4824" y="0"/>
                    </a:moveTo>
                    <a:lnTo>
                      <a:pt x="4824" y="25"/>
                    </a:lnTo>
                    <a:lnTo>
                      <a:pt x="4820" y="25"/>
                    </a:lnTo>
                    <a:lnTo>
                      <a:pt x="4820" y="0"/>
                    </a:lnTo>
                    <a:lnTo>
                      <a:pt x="4824" y="0"/>
                    </a:lnTo>
                    <a:close/>
                  </a:path>
                </a:pathLst>
              </a:custGeom>
              <a:solidFill>
                <a:srgbClr val="868686"/>
              </a:solidFill>
              <a:ln w="0">
                <a:solidFill>
                  <a:srgbClr val="868686"/>
                </a:solid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62" name="Rectangle 15"/>
              <p:cNvSpPr/>
              <p:nvPr/>
            </p:nvSpPr>
            <p:spPr>
              <a:xfrm>
                <a:off x="3192840" y="529740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000000"/>
                  </a:solidFill>
                  <a:latin typeface="Arial"/>
                </a:endParaRPr>
              </a:p>
            </p:txBody>
          </p:sp>
          <p:sp>
            <p:nvSpPr>
              <p:cNvPr id="463" name="Rectangle 16"/>
              <p:cNvSpPr/>
              <p:nvPr/>
            </p:nvSpPr>
            <p:spPr>
              <a:xfrm>
                <a:off x="3133800" y="458604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Arial"/>
                </a:endParaRPr>
              </a:p>
            </p:txBody>
          </p:sp>
          <p:sp>
            <p:nvSpPr>
              <p:cNvPr id="464" name="Rectangle 17"/>
              <p:cNvSpPr/>
              <p:nvPr/>
            </p:nvSpPr>
            <p:spPr>
              <a:xfrm>
                <a:off x="3133800" y="38743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Arial"/>
                </a:endParaRPr>
              </a:p>
            </p:txBody>
          </p:sp>
          <p:sp>
            <p:nvSpPr>
              <p:cNvPr id="465" name="Rectangle 18"/>
              <p:cNvSpPr/>
              <p:nvPr/>
            </p:nvSpPr>
            <p:spPr>
              <a:xfrm>
                <a:off x="3133800" y="31626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a:t>
                </a:r>
                <a:endParaRPr b="0" lang="en-US" sz="900" spc="-1" strike="noStrike">
                  <a:solidFill>
                    <a:srgbClr val="000000"/>
                  </a:solidFill>
                  <a:latin typeface="Arial"/>
                </a:endParaRPr>
              </a:p>
            </p:txBody>
          </p:sp>
          <p:sp>
            <p:nvSpPr>
              <p:cNvPr id="466" name="Rectangle 19"/>
              <p:cNvSpPr/>
              <p:nvPr/>
            </p:nvSpPr>
            <p:spPr>
              <a:xfrm>
                <a:off x="3133800" y="24508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0</a:t>
                </a:r>
                <a:endParaRPr b="0" lang="en-US" sz="900" spc="-1" strike="noStrike">
                  <a:solidFill>
                    <a:srgbClr val="000000"/>
                  </a:solidFill>
                  <a:latin typeface="Arial"/>
                </a:endParaRPr>
              </a:p>
            </p:txBody>
          </p:sp>
          <p:sp>
            <p:nvSpPr>
              <p:cNvPr id="467" name="Rectangle 20"/>
              <p:cNvSpPr/>
              <p:nvPr/>
            </p:nvSpPr>
            <p:spPr>
              <a:xfrm>
                <a:off x="3133800" y="17395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0</a:t>
                </a:r>
                <a:endParaRPr b="0" lang="en-US" sz="900" spc="-1" strike="noStrike">
                  <a:solidFill>
                    <a:srgbClr val="000000"/>
                  </a:solidFill>
                  <a:latin typeface="Arial"/>
                </a:endParaRPr>
              </a:p>
            </p:txBody>
          </p:sp>
          <p:sp>
            <p:nvSpPr>
              <p:cNvPr id="468" name="Rectangle 21"/>
              <p:cNvSpPr/>
              <p:nvPr/>
            </p:nvSpPr>
            <p:spPr>
              <a:xfrm>
                <a:off x="3133800" y="10278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60</a:t>
                </a:r>
                <a:endParaRPr b="0" lang="en-US" sz="900" spc="-1" strike="noStrike">
                  <a:solidFill>
                    <a:srgbClr val="000000"/>
                  </a:solidFill>
                  <a:latin typeface="Arial"/>
                </a:endParaRPr>
              </a:p>
            </p:txBody>
          </p:sp>
          <p:sp>
            <p:nvSpPr>
              <p:cNvPr id="469" name="Rectangle 22"/>
              <p:cNvSpPr/>
              <p:nvPr/>
            </p:nvSpPr>
            <p:spPr>
              <a:xfrm>
                <a:off x="342000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0" name="Rectangle 23"/>
              <p:cNvSpPr/>
              <p:nvPr/>
            </p:nvSpPr>
            <p:spPr>
              <a:xfrm>
                <a:off x="3925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1" name="Rectangle 24"/>
              <p:cNvSpPr/>
              <p:nvPr/>
            </p:nvSpPr>
            <p:spPr>
              <a:xfrm>
                <a:off x="4429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2" name="Rectangle 25"/>
              <p:cNvSpPr/>
              <p:nvPr/>
            </p:nvSpPr>
            <p:spPr>
              <a:xfrm>
                <a:off x="4933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3" name="Rectangle 26"/>
              <p:cNvSpPr/>
              <p:nvPr/>
            </p:nvSpPr>
            <p:spPr>
              <a:xfrm>
                <a:off x="65239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4" name="Rectangle 27"/>
              <p:cNvSpPr/>
              <p:nvPr/>
            </p:nvSpPr>
            <p:spPr>
              <a:xfrm>
                <a:off x="7029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5" name="Rectangle 28"/>
              <p:cNvSpPr/>
              <p:nvPr/>
            </p:nvSpPr>
            <p:spPr>
              <a:xfrm>
                <a:off x="753444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6" name="Rectangle 29"/>
              <p:cNvSpPr/>
              <p:nvPr/>
            </p:nvSpPr>
            <p:spPr>
              <a:xfrm>
                <a:off x="8037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7" name="Rectangle 30"/>
              <p:cNvSpPr/>
              <p:nvPr/>
            </p:nvSpPr>
            <p:spPr>
              <a:xfrm>
                <a:off x="955188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8" name="Rectangle 31"/>
              <p:cNvSpPr/>
              <p:nvPr/>
            </p:nvSpPr>
            <p:spPr>
              <a:xfrm>
                <a:off x="10057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9" name="Rectangle 32"/>
              <p:cNvSpPr/>
              <p:nvPr/>
            </p:nvSpPr>
            <p:spPr>
              <a:xfrm>
                <a:off x="10561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80" name="Rectangle 33"/>
              <p:cNvSpPr/>
              <p:nvPr/>
            </p:nvSpPr>
            <p:spPr>
              <a:xfrm>
                <a:off x="110671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81" name="Rectangle 38"/>
              <p:cNvSpPr/>
              <p:nvPr/>
            </p:nvSpPr>
            <p:spPr>
              <a:xfrm>
                <a:off x="6009120" y="1133640"/>
                <a:ext cx="83520" cy="81720"/>
              </a:xfrm>
              <a:prstGeom prst="rect">
                <a:avLst/>
              </a:prstGeom>
              <a:solidFill>
                <a:srgbClr val="f7964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2" name="Rectangle 39"/>
              <p:cNvSpPr/>
              <p:nvPr/>
            </p:nvSpPr>
            <p:spPr>
              <a:xfrm>
                <a:off x="6170760" y="1081440"/>
                <a:ext cx="35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igh F</a:t>
                </a:r>
                <a:endParaRPr b="0" lang="en-US" sz="1100" spc="-1" strike="noStrike">
                  <a:solidFill>
                    <a:srgbClr val="000000"/>
                  </a:solidFill>
                  <a:latin typeface="Arial"/>
                </a:endParaRPr>
              </a:p>
            </p:txBody>
          </p:sp>
          <p:sp>
            <p:nvSpPr>
              <p:cNvPr id="483" name="Rectangle 41"/>
              <p:cNvSpPr/>
              <p:nvPr/>
            </p:nvSpPr>
            <p:spPr>
              <a:xfrm>
                <a:off x="6565320" y="108144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ases</a:t>
                </a:r>
                <a:endParaRPr b="0" lang="en-US" sz="1100" spc="-1" strike="noStrike">
                  <a:solidFill>
                    <a:srgbClr val="000000"/>
                  </a:solidFill>
                  <a:latin typeface="Arial"/>
                </a:endParaRPr>
              </a:p>
            </p:txBody>
          </p:sp>
          <p:sp>
            <p:nvSpPr>
              <p:cNvPr id="484" name="Rectangle 42"/>
              <p:cNvSpPr/>
              <p:nvPr/>
            </p:nvSpPr>
            <p:spPr>
              <a:xfrm>
                <a:off x="6009120" y="1376280"/>
                <a:ext cx="83520" cy="81720"/>
              </a:xfrm>
              <a:prstGeom prst="rect">
                <a:avLst/>
              </a:prstGeom>
              <a:solidFill>
                <a:srgbClr val="d2dc0c"/>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5" name="Rectangle 43"/>
              <p:cNvSpPr/>
              <p:nvPr/>
            </p:nvSpPr>
            <p:spPr>
              <a:xfrm>
                <a:off x="6166440" y="1324440"/>
                <a:ext cx="25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2O</a:t>
                </a:r>
                <a:endParaRPr b="0" lang="en-US" sz="1100" spc="-1" strike="noStrike">
                  <a:solidFill>
                    <a:srgbClr val="000000"/>
                  </a:solidFill>
                  <a:latin typeface="Arial"/>
                </a:endParaRPr>
              </a:p>
            </p:txBody>
          </p:sp>
          <p:sp>
            <p:nvSpPr>
              <p:cNvPr id="486" name="Rectangle 44"/>
              <p:cNvSpPr/>
              <p:nvPr/>
            </p:nvSpPr>
            <p:spPr>
              <a:xfrm>
                <a:off x="6009120" y="1619280"/>
                <a:ext cx="83520" cy="81720"/>
              </a:xfrm>
              <a:prstGeom prst="rect">
                <a:avLst/>
              </a:prstGeom>
              <a:solidFill>
                <a:srgbClr val="d810bb"/>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7" name="Rectangle 45"/>
              <p:cNvSpPr/>
              <p:nvPr/>
            </p:nvSpPr>
            <p:spPr>
              <a:xfrm>
                <a:off x="6166800" y="1567080"/>
                <a:ext cx="26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4 </a:t>
                </a:r>
                <a:endParaRPr b="0" lang="en-US" sz="1100" spc="-1" strike="noStrike">
                  <a:solidFill>
                    <a:srgbClr val="000000"/>
                  </a:solidFill>
                  <a:latin typeface="Arial"/>
                </a:endParaRPr>
              </a:p>
            </p:txBody>
          </p:sp>
          <p:sp>
            <p:nvSpPr>
              <p:cNvPr id="488" name="Rectangle 46"/>
              <p:cNvSpPr/>
              <p:nvPr/>
            </p:nvSpPr>
            <p:spPr>
              <a:xfrm>
                <a:off x="6009120" y="1860120"/>
                <a:ext cx="83520" cy="83520"/>
              </a:xfrm>
              <a:prstGeom prst="rect">
                <a:avLst/>
              </a:prstGeom>
              <a:solidFill>
                <a:srgbClr val="4f81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89" name="Rectangle 47"/>
              <p:cNvSpPr/>
              <p:nvPr/>
            </p:nvSpPr>
            <p:spPr>
              <a:xfrm>
                <a:off x="6164640" y="1808280"/>
                <a:ext cx="24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2</a:t>
                </a:r>
                <a:endParaRPr b="0" lang="en-US" sz="1100" spc="-1" strike="noStrike">
                  <a:solidFill>
                    <a:srgbClr val="000000"/>
                  </a:solidFill>
                  <a:latin typeface="Arial"/>
                </a:endParaRPr>
              </a:p>
            </p:txBody>
          </p:sp>
          <p:sp>
            <p:nvSpPr>
              <p:cNvPr id="490" name="Rectangle 66"/>
              <p:cNvSpPr/>
              <p:nvPr/>
            </p:nvSpPr>
            <p:spPr>
              <a:xfrm>
                <a:off x="358920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491" name="Rectangle 68"/>
              <p:cNvSpPr/>
              <p:nvPr/>
            </p:nvSpPr>
            <p:spPr>
              <a:xfrm>
                <a:off x="460728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492" name="Rectangle 40"/>
            <p:cNvSpPr/>
            <p:nvPr/>
          </p:nvSpPr>
          <p:spPr>
            <a:xfrm>
              <a:off x="900000" y="3012120"/>
              <a:ext cx="1910160" cy="586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a:t>
              </a:r>
              <a:endParaRPr b="0" lang="en-US" sz="1800" spc="-1" strike="noStrike">
                <a:solidFill>
                  <a:srgbClr val="000000"/>
                </a:solidFill>
                <a:latin typeface="Arial"/>
              </a:endParaRPr>
            </a:p>
          </p:txBody>
        </p:sp>
        <p:sp>
          <p:nvSpPr>
            <p:cNvPr id="493" name="Rectangle 177"/>
            <p:cNvSpPr/>
            <p:nvPr/>
          </p:nvSpPr>
          <p:spPr>
            <a:xfrm>
              <a:off x="5361120" y="2676600"/>
              <a:ext cx="6220080" cy="2886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Pladsholder til dato 3"/>
          <p:cNvSpPr/>
          <p:nvPr/>
        </p:nvSpPr>
        <p:spPr>
          <a:xfrm>
            <a:off x="7524720" y="6459480"/>
            <a:ext cx="126036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95" name="Pladsholder til sidefod 4"/>
          <p:cNvSpPr/>
          <p:nvPr/>
        </p:nvSpPr>
        <p:spPr>
          <a:xfrm>
            <a:off x="4500720" y="6478560"/>
            <a:ext cx="324000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96" name="PlaceHolder 1"/>
          <p:cNvSpPr>
            <a:spLocks noGrp="1"/>
          </p:cNvSpPr>
          <p:nvPr>
            <p:ph type="title"/>
          </p:nvPr>
        </p:nvSpPr>
        <p:spPr>
          <a:xfrm>
            <a:off x="718920" y="25992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97" name="TextBox 179"/>
          <p:cNvSpPr/>
          <p:nvPr/>
        </p:nvSpPr>
        <p:spPr>
          <a:xfrm>
            <a:off x="3332520" y="573264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WP100</a:t>
            </a:r>
            <a:endParaRPr b="0" lang="en-US" sz="1600" spc="-1" strike="noStrike">
              <a:solidFill>
                <a:srgbClr val="000000"/>
              </a:solidFill>
              <a:latin typeface="Arial"/>
            </a:endParaRPr>
          </a:p>
        </p:txBody>
      </p:sp>
      <p:sp>
        <p:nvSpPr>
          <p:cNvPr id="498" name="TextBox 180"/>
          <p:cNvSpPr/>
          <p:nvPr/>
        </p:nvSpPr>
        <p:spPr>
          <a:xfrm>
            <a:off x="4377960" y="573264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TP1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4"/>
          <p:cNvGrpSpPr/>
          <p:nvPr/>
        </p:nvGrpSpPr>
        <p:grpSpPr>
          <a:xfrm>
            <a:off x="0" y="1268280"/>
            <a:ext cx="9144000" cy="4969080"/>
            <a:chOff x="0" y="1268280"/>
            <a:chExt cx="9144000" cy="4969080"/>
          </a:xfrm>
        </p:grpSpPr>
        <p:sp>
          <p:nvSpPr>
            <p:cNvPr id="500" name="AutoShape 3"/>
            <p:cNvSpPr/>
            <p:nvPr/>
          </p:nvSpPr>
          <p:spPr>
            <a:xfrm>
              <a:off x="0" y="1268280"/>
              <a:ext cx="9144000" cy="496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Rectangle 6"/>
            <p:cNvSpPr/>
            <p:nvPr/>
          </p:nvSpPr>
          <p:spPr>
            <a:xfrm>
              <a:off x="917640" y="1374840"/>
              <a:ext cx="7935840" cy="428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7"/>
            <p:cNvSpPr/>
            <p:nvPr/>
          </p:nvSpPr>
          <p:spPr>
            <a:xfrm>
              <a:off x="1022400" y="2865960"/>
              <a:ext cx="7721640" cy="2786760"/>
            </a:xfrm>
            <a:custGeom>
              <a:avLst/>
              <a:gdLst>
                <a:gd name="textAreaLeft" fmla="*/ 0 w 7721640"/>
                <a:gd name="textAreaRight" fmla="*/ 7722000 w 7721640"/>
                <a:gd name="textAreaTop" fmla="*/ 0 h 2786760"/>
                <a:gd name="textAreaBottom" fmla="*/ 2786760 h 2786760"/>
              </a:gdLst>
              <a:ahLst/>
              <a:rect l="textAreaLeft" t="textAreaTop" r="textAreaRight" b="textAreaBottom"/>
              <a:pathLst>
                <a:path w="4864" h="1908">
                  <a:moveTo>
                    <a:pt x="0" y="1291"/>
                  </a:moveTo>
                  <a:lnTo>
                    <a:pt x="90" y="1291"/>
                  </a:lnTo>
                  <a:lnTo>
                    <a:pt x="90" y="1908"/>
                  </a:lnTo>
                  <a:lnTo>
                    <a:pt x="0" y="1908"/>
                  </a:lnTo>
                  <a:lnTo>
                    <a:pt x="0" y="1291"/>
                  </a:lnTo>
                  <a:close/>
                  <a:moveTo>
                    <a:pt x="228" y="0"/>
                  </a:moveTo>
                  <a:lnTo>
                    <a:pt x="319" y="0"/>
                  </a:lnTo>
                  <a:lnTo>
                    <a:pt x="319" y="1908"/>
                  </a:lnTo>
                  <a:lnTo>
                    <a:pt x="228" y="1908"/>
                  </a:lnTo>
                  <a:lnTo>
                    <a:pt x="228" y="0"/>
                  </a:lnTo>
                  <a:close/>
                  <a:moveTo>
                    <a:pt x="454" y="1291"/>
                  </a:moveTo>
                  <a:lnTo>
                    <a:pt x="545" y="1291"/>
                  </a:lnTo>
                  <a:lnTo>
                    <a:pt x="545" y="1908"/>
                  </a:lnTo>
                  <a:lnTo>
                    <a:pt x="454" y="1908"/>
                  </a:lnTo>
                  <a:lnTo>
                    <a:pt x="454" y="1291"/>
                  </a:lnTo>
                  <a:close/>
                  <a:moveTo>
                    <a:pt x="682" y="0"/>
                  </a:moveTo>
                  <a:lnTo>
                    <a:pt x="773" y="0"/>
                  </a:lnTo>
                  <a:lnTo>
                    <a:pt x="773" y="1908"/>
                  </a:lnTo>
                  <a:lnTo>
                    <a:pt x="682" y="1908"/>
                  </a:lnTo>
                  <a:lnTo>
                    <a:pt x="682" y="0"/>
                  </a:lnTo>
                  <a:close/>
                  <a:moveTo>
                    <a:pt x="1365" y="667"/>
                  </a:moveTo>
                  <a:lnTo>
                    <a:pt x="1456" y="667"/>
                  </a:lnTo>
                  <a:lnTo>
                    <a:pt x="1456" y="1908"/>
                  </a:lnTo>
                  <a:lnTo>
                    <a:pt x="1365" y="1908"/>
                  </a:lnTo>
                  <a:lnTo>
                    <a:pt x="1365" y="667"/>
                  </a:lnTo>
                  <a:close/>
                  <a:moveTo>
                    <a:pt x="1591" y="564"/>
                  </a:moveTo>
                  <a:lnTo>
                    <a:pt x="1682" y="564"/>
                  </a:lnTo>
                  <a:lnTo>
                    <a:pt x="1682" y="1908"/>
                  </a:lnTo>
                  <a:lnTo>
                    <a:pt x="1591" y="1908"/>
                  </a:lnTo>
                  <a:lnTo>
                    <a:pt x="1591" y="564"/>
                  </a:lnTo>
                  <a:close/>
                  <a:moveTo>
                    <a:pt x="1819" y="667"/>
                  </a:moveTo>
                  <a:lnTo>
                    <a:pt x="1910" y="667"/>
                  </a:lnTo>
                  <a:lnTo>
                    <a:pt x="1910" y="1908"/>
                  </a:lnTo>
                  <a:lnTo>
                    <a:pt x="1819" y="1908"/>
                  </a:lnTo>
                  <a:lnTo>
                    <a:pt x="1819" y="667"/>
                  </a:lnTo>
                  <a:close/>
                  <a:moveTo>
                    <a:pt x="2045" y="564"/>
                  </a:moveTo>
                  <a:lnTo>
                    <a:pt x="2136" y="564"/>
                  </a:lnTo>
                  <a:lnTo>
                    <a:pt x="2136" y="1908"/>
                  </a:lnTo>
                  <a:lnTo>
                    <a:pt x="2045" y="1908"/>
                  </a:lnTo>
                  <a:lnTo>
                    <a:pt x="2045" y="564"/>
                  </a:lnTo>
                  <a:close/>
                  <a:moveTo>
                    <a:pt x="2728" y="805"/>
                  </a:moveTo>
                  <a:lnTo>
                    <a:pt x="2819" y="805"/>
                  </a:lnTo>
                  <a:lnTo>
                    <a:pt x="2819" y="1908"/>
                  </a:lnTo>
                  <a:lnTo>
                    <a:pt x="2728" y="1908"/>
                  </a:lnTo>
                  <a:lnTo>
                    <a:pt x="2728" y="805"/>
                  </a:lnTo>
                  <a:close/>
                  <a:moveTo>
                    <a:pt x="2953" y="868"/>
                  </a:moveTo>
                  <a:lnTo>
                    <a:pt x="3044" y="868"/>
                  </a:lnTo>
                  <a:lnTo>
                    <a:pt x="3044" y="1908"/>
                  </a:lnTo>
                  <a:lnTo>
                    <a:pt x="2953" y="1908"/>
                  </a:lnTo>
                  <a:lnTo>
                    <a:pt x="2953" y="868"/>
                  </a:lnTo>
                  <a:close/>
                  <a:moveTo>
                    <a:pt x="3182" y="805"/>
                  </a:moveTo>
                  <a:lnTo>
                    <a:pt x="3273" y="805"/>
                  </a:lnTo>
                  <a:lnTo>
                    <a:pt x="3273" y="1908"/>
                  </a:lnTo>
                  <a:lnTo>
                    <a:pt x="3182" y="1908"/>
                  </a:lnTo>
                  <a:lnTo>
                    <a:pt x="3182" y="805"/>
                  </a:lnTo>
                  <a:close/>
                  <a:moveTo>
                    <a:pt x="3407" y="868"/>
                  </a:moveTo>
                  <a:lnTo>
                    <a:pt x="3498" y="868"/>
                  </a:lnTo>
                  <a:lnTo>
                    <a:pt x="3498" y="1908"/>
                  </a:lnTo>
                  <a:lnTo>
                    <a:pt x="3407" y="1908"/>
                  </a:lnTo>
                  <a:lnTo>
                    <a:pt x="3407" y="868"/>
                  </a:lnTo>
                  <a:close/>
                  <a:moveTo>
                    <a:pt x="4090" y="1632"/>
                  </a:moveTo>
                  <a:lnTo>
                    <a:pt x="4181" y="1632"/>
                  </a:lnTo>
                  <a:lnTo>
                    <a:pt x="4181" y="1908"/>
                  </a:lnTo>
                  <a:lnTo>
                    <a:pt x="4090" y="1908"/>
                  </a:lnTo>
                  <a:lnTo>
                    <a:pt x="4090" y="1632"/>
                  </a:lnTo>
                  <a:close/>
                  <a:moveTo>
                    <a:pt x="4316" y="1698"/>
                  </a:moveTo>
                  <a:lnTo>
                    <a:pt x="4407" y="1698"/>
                  </a:lnTo>
                  <a:lnTo>
                    <a:pt x="4407" y="1908"/>
                  </a:lnTo>
                  <a:lnTo>
                    <a:pt x="4316" y="1908"/>
                  </a:lnTo>
                  <a:lnTo>
                    <a:pt x="4316" y="1698"/>
                  </a:lnTo>
                  <a:close/>
                  <a:moveTo>
                    <a:pt x="4544" y="1632"/>
                  </a:moveTo>
                  <a:lnTo>
                    <a:pt x="4635" y="1632"/>
                  </a:lnTo>
                  <a:lnTo>
                    <a:pt x="4635" y="1908"/>
                  </a:lnTo>
                  <a:lnTo>
                    <a:pt x="4544" y="1908"/>
                  </a:lnTo>
                  <a:lnTo>
                    <a:pt x="4544" y="1632"/>
                  </a:lnTo>
                  <a:close/>
                  <a:moveTo>
                    <a:pt x="4773" y="1698"/>
                  </a:moveTo>
                  <a:lnTo>
                    <a:pt x="4864" y="1698"/>
                  </a:lnTo>
                  <a:lnTo>
                    <a:pt x="4864" y="1908"/>
                  </a:lnTo>
                  <a:lnTo>
                    <a:pt x="4773" y="1908"/>
                  </a:lnTo>
                  <a:lnTo>
                    <a:pt x="4773" y="1698"/>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
            <p:cNvSpPr/>
            <p:nvPr/>
          </p:nvSpPr>
          <p:spPr>
            <a:xfrm>
              <a:off x="1022400" y="2322720"/>
              <a:ext cx="7721640" cy="3023280"/>
            </a:xfrm>
            <a:custGeom>
              <a:avLst/>
              <a:gdLst>
                <a:gd name="textAreaLeft" fmla="*/ 0 w 7721640"/>
                <a:gd name="textAreaRight" fmla="*/ 7722000 w 7721640"/>
                <a:gd name="textAreaTop" fmla="*/ 0 h 3023280"/>
                <a:gd name="textAreaBottom" fmla="*/ 3023640 h 3023280"/>
              </a:gdLst>
              <a:ahLst/>
              <a:rect l="textAreaLeft" t="textAreaTop" r="textAreaRight" b="textAreaBottom"/>
              <a:pathLst>
                <a:path w="4864" h="2070">
                  <a:moveTo>
                    <a:pt x="0" y="1415"/>
                  </a:moveTo>
                  <a:lnTo>
                    <a:pt x="90" y="1415"/>
                  </a:lnTo>
                  <a:lnTo>
                    <a:pt x="90" y="1663"/>
                  </a:lnTo>
                  <a:lnTo>
                    <a:pt x="0" y="1663"/>
                  </a:lnTo>
                  <a:lnTo>
                    <a:pt x="0" y="1415"/>
                  </a:lnTo>
                  <a:close/>
                  <a:moveTo>
                    <a:pt x="228" y="0"/>
                  </a:moveTo>
                  <a:lnTo>
                    <a:pt x="319" y="0"/>
                  </a:lnTo>
                  <a:lnTo>
                    <a:pt x="319" y="372"/>
                  </a:lnTo>
                  <a:lnTo>
                    <a:pt x="228" y="372"/>
                  </a:lnTo>
                  <a:lnTo>
                    <a:pt x="228" y="0"/>
                  </a:lnTo>
                  <a:close/>
                  <a:moveTo>
                    <a:pt x="454" y="1616"/>
                  </a:moveTo>
                  <a:lnTo>
                    <a:pt x="545" y="1616"/>
                  </a:lnTo>
                  <a:lnTo>
                    <a:pt x="545" y="1663"/>
                  </a:lnTo>
                  <a:lnTo>
                    <a:pt x="454" y="1663"/>
                  </a:lnTo>
                  <a:lnTo>
                    <a:pt x="454" y="1616"/>
                  </a:lnTo>
                  <a:close/>
                  <a:moveTo>
                    <a:pt x="682" y="303"/>
                  </a:moveTo>
                  <a:lnTo>
                    <a:pt x="773" y="303"/>
                  </a:lnTo>
                  <a:lnTo>
                    <a:pt x="773" y="372"/>
                  </a:lnTo>
                  <a:lnTo>
                    <a:pt x="682" y="372"/>
                  </a:lnTo>
                  <a:lnTo>
                    <a:pt x="682" y="303"/>
                  </a:lnTo>
                  <a:close/>
                  <a:moveTo>
                    <a:pt x="1365" y="886"/>
                  </a:moveTo>
                  <a:lnTo>
                    <a:pt x="1456" y="886"/>
                  </a:lnTo>
                  <a:lnTo>
                    <a:pt x="1456" y="1039"/>
                  </a:lnTo>
                  <a:lnTo>
                    <a:pt x="1365" y="1039"/>
                  </a:lnTo>
                  <a:lnTo>
                    <a:pt x="1365" y="886"/>
                  </a:lnTo>
                  <a:close/>
                  <a:moveTo>
                    <a:pt x="1591" y="805"/>
                  </a:moveTo>
                  <a:lnTo>
                    <a:pt x="1682" y="805"/>
                  </a:lnTo>
                  <a:lnTo>
                    <a:pt x="1682" y="936"/>
                  </a:lnTo>
                  <a:lnTo>
                    <a:pt x="1591" y="936"/>
                  </a:lnTo>
                  <a:lnTo>
                    <a:pt x="1591" y="805"/>
                  </a:lnTo>
                  <a:close/>
                  <a:moveTo>
                    <a:pt x="1819" y="1011"/>
                  </a:moveTo>
                  <a:lnTo>
                    <a:pt x="1910" y="1011"/>
                  </a:lnTo>
                  <a:lnTo>
                    <a:pt x="1910" y="1039"/>
                  </a:lnTo>
                  <a:lnTo>
                    <a:pt x="1819" y="1039"/>
                  </a:lnTo>
                  <a:lnTo>
                    <a:pt x="1819" y="1011"/>
                  </a:lnTo>
                  <a:close/>
                  <a:moveTo>
                    <a:pt x="2045" y="911"/>
                  </a:moveTo>
                  <a:lnTo>
                    <a:pt x="2136" y="911"/>
                  </a:lnTo>
                  <a:lnTo>
                    <a:pt x="2136" y="936"/>
                  </a:lnTo>
                  <a:lnTo>
                    <a:pt x="2045" y="936"/>
                  </a:lnTo>
                  <a:lnTo>
                    <a:pt x="2045" y="911"/>
                  </a:lnTo>
                  <a:close/>
                  <a:moveTo>
                    <a:pt x="2728" y="1002"/>
                  </a:moveTo>
                  <a:lnTo>
                    <a:pt x="2819" y="1002"/>
                  </a:lnTo>
                  <a:lnTo>
                    <a:pt x="2819" y="1177"/>
                  </a:lnTo>
                  <a:lnTo>
                    <a:pt x="2728" y="1177"/>
                  </a:lnTo>
                  <a:lnTo>
                    <a:pt x="2728" y="1002"/>
                  </a:lnTo>
                  <a:close/>
                  <a:moveTo>
                    <a:pt x="2953" y="1112"/>
                  </a:moveTo>
                  <a:lnTo>
                    <a:pt x="3044" y="1112"/>
                  </a:lnTo>
                  <a:lnTo>
                    <a:pt x="3044" y="1240"/>
                  </a:lnTo>
                  <a:lnTo>
                    <a:pt x="2953" y="1240"/>
                  </a:lnTo>
                  <a:lnTo>
                    <a:pt x="2953" y="1112"/>
                  </a:lnTo>
                  <a:close/>
                  <a:moveTo>
                    <a:pt x="3182" y="1143"/>
                  </a:moveTo>
                  <a:lnTo>
                    <a:pt x="3273" y="1143"/>
                  </a:lnTo>
                  <a:lnTo>
                    <a:pt x="3273" y="1177"/>
                  </a:lnTo>
                  <a:lnTo>
                    <a:pt x="3182" y="1177"/>
                  </a:lnTo>
                  <a:lnTo>
                    <a:pt x="3182" y="1143"/>
                  </a:lnTo>
                  <a:close/>
                  <a:moveTo>
                    <a:pt x="3407" y="1215"/>
                  </a:moveTo>
                  <a:lnTo>
                    <a:pt x="3498" y="1215"/>
                  </a:lnTo>
                  <a:lnTo>
                    <a:pt x="3498" y="1240"/>
                  </a:lnTo>
                  <a:lnTo>
                    <a:pt x="3407" y="1240"/>
                  </a:lnTo>
                  <a:lnTo>
                    <a:pt x="3407" y="1215"/>
                  </a:lnTo>
                  <a:close/>
                  <a:moveTo>
                    <a:pt x="4090" y="1929"/>
                  </a:moveTo>
                  <a:lnTo>
                    <a:pt x="4181" y="1929"/>
                  </a:lnTo>
                  <a:lnTo>
                    <a:pt x="4181" y="2004"/>
                  </a:lnTo>
                  <a:lnTo>
                    <a:pt x="4090" y="2004"/>
                  </a:lnTo>
                  <a:lnTo>
                    <a:pt x="4090" y="1929"/>
                  </a:lnTo>
                  <a:close/>
                  <a:moveTo>
                    <a:pt x="4316" y="1967"/>
                  </a:moveTo>
                  <a:lnTo>
                    <a:pt x="4407" y="1967"/>
                  </a:lnTo>
                  <a:lnTo>
                    <a:pt x="4407" y="2070"/>
                  </a:lnTo>
                  <a:lnTo>
                    <a:pt x="4316" y="2070"/>
                  </a:lnTo>
                  <a:lnTo>
                    <a:pt x="4316" y="1967"/>
                  </a:lnTo>
                  <a:close/>
                  <a:moveTo>
                    <a:pt x="4544" y="1992"/>
                  </a:moveTo>
                  <a:lnTo>
                    <a:pt x="4635" y="1992"/>
                  </a:lnTo>
                  <a:lnTo>
                    <a:pt x="4635" y="2004"/>
                  </a:lnTo>
                  <a:lnTo>
                    <a:pt x="4544" y="2004"/>
                  </a:lnTo>
                  <a:lnTo>
                    <a:pt x="4544" y="1992"/>
                  </a:lnTo>
                  <a:close/>
                  <a:moveTo>
                    <a:pt x="4773" y="2051"/>
                  </a:moveTo>
                  <a:lnTo>
                    <a:pt x="4864" y="2051"/>
                  </a:lnTo>
                  <a:lnTo>
                    <a:pt x="4864" y="2070"/>
                  </a:lnTo>
                  <a:lnTo>
                    <a:pt x="4773" y="2070"/>
                  </a:lnTo>
                  <a:lnTo>
                    <a:pt x="4773" y="2051"/>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9"/>
            <p:cNvSpPr/>
            <p:nvPr/>
          </p:nvSpPr>
          <p:spPr>
            <a:xfrm>
              <a:off x="1022400" y="2125440"/>
              <a:ext cx="7721640" cy="3192840"/>
            </a:xfrm>
            <a:custGeom>
              <a:avLst/>
              <a:gdLst>
                <a:gd name="textAreaLeft" fmla="*/ 0 w 7721640"/>
                <a:gd name="textAreaRight" fmla="*/ 7722000 w 7721640"/>
                <a:gd name="textAreaTop" fmla="*/ 0 h 3192840"/>
                <a:gd name="textAreaBottom" fmla="*/ 3193200 h 3192840"/>
              </a:gdLst>
              <a:ahLst/>
              <a:rect l="textAreaLeft" t="textAreaTop" r="textAreaRight" b="textAreaBottom"/>
              <a:pathLst>
                <a:path w="4864" h="2186">
                  <a:moveTo>
                    <a:pt x="0" y="1466"/>
                  </a:moveTo>
                  <a:lnTo>
                    <a:pt x="90" y="1466"/>
                  </a:lnTo>
                  <a:lnTo>
                    <a:pt x="90" y="1550"/>
                  </a:lnTo>
                  <a:lnTo>
                    <a:pt x="0" y="1550"/>
                  </a:lnTo>
                  <a:lnTo>
                    <a:pt x="0" y="1466"/>
                  </a:lnTo>
                  <a:close/>
                  <a:moveTo>
                    <a:pt x="228" y="0"/>
                  </a:moveTo>
                  <a:lnTo>
                    <a:pt x="319" y="0"/>
                  </a:lnTo>
                  <a:lnTo>
                    <a:pt x="319" y="135"/>
                  </a:lnTo>
                  <a:lnTo>
                    <a:pt x="228" y="135"/>
                  </a:lnTo>
                  <a:lnTo>
                    <a:pt x="228" y="0"/>
                  </a:lnTo>
                  <a:close/>
                  <a:moveTo>
                    <a:pt x="454" y="1679"/>
                  </a:moveTo>
                  <a:lnTo>
                    <a:pt x="545" y="1679"/>
                  </a:lnTo>
                  <a:lnTo>
                    <a:pt x="545" y="1751"/>
                  </a:lnTo>
                  <a:lnTo>
                    <a:pt x="454" y="1751"/>
                  </a:lnTo>
                  <a:lnTo>
                    <a:pt x="454" y="1679"/>
                  </a:lnTo>
                  <a:close/>
                  <a:moveTo>
                    <a:pt x="682" y="323"/>
                  </a:moveTo>
                  <a:lnTo>
                    <a:pt x="773" y="323"/>
                  </a:lnTo>
                  <a:lnTo>
                    <a:pt x="773" y="438"/>
                  </a:lnTo>
                  <a:lnTo>
                    <a:pt x="682" y="438"/>
                  </a:lnTo>
                  <a:lnTo>
                    <a:pt x="682" y="323"/>
                  </a:lnTo>
                  <a:close/>
                  <a:moveTo>
                    <a:pt x="1365" y="940"/>
                  </a:moveTo>
                  <a:lnTo>
                    <a:pt x="1456" y="940"/>
                  </a:lnTo>
                  <a:lnTo>
                    <a:pt x="1456" y="1021"/>
                  </a:lnTo>
                  <a:lnTo>
                    <a:pt x="1365" y="1021"/>
                  </a:lnTo>
                  <a:lnTo>
                    <a:pt x="1365" y="940"/>
                  </a:lnTo>
                  <a:close/>
                  <a:moveTo>
                    <a:pt x="1591" y="861"/>
                  </a:moveTo>
                  <a:lnTo>
                    <a:pt x="1682" y="861"/>
                  </a:lnTo>
                  <a:lnTo>
                    <a:pt x="1682" y="940"/>
                  </a:lnTo>
                  <a:lnTo>
                    <a:pt x="1591" y="940"/>
                  </a:lnTo>
                  <a:lnTo>
                    <a:pt x="1591" y="861"/>
                  </a:lnTo>
                  <a:close/>
                  <a:moveTo>
                    <a:pt x="1819" y="1077"/>
                  </a:moveTo>
                  <a:lnTo>
                    <a:pt x="1910" y="1077"/>
                  </a:lnTo>
                  <a:lnTo>
                    <a:pt x="1910" y="1146"/>
                  </a:lnTo>
                  <a:lnTo>
                    <a:pt x="1819" y="1146"/>
                  </a:lnTo>
                  <a:lnTo>
                    <a:pt x="1819" y="1077"/>
                  </a:lnTo>
                  <a:close/>
                  <a:moveTo>
                    <a:pt x="2045" y="980"/>
                  </a:moveTo>
                  <a:lnTo>
                    <a:pt x="2136" y="980"/>
                  </a:lnTo>
                  <a:lnTo>
                    <a:pt x="2136" y="1046"/>
                  </a:lnTo>
                  <a:lnTo>
                    <a:pt x="2045" y="1046"/>
                  </a:lnTo>
                  <a:lnTo>
                    <a:pt x="2045" y="980"/>
                  </a:lnTo>
                  <a:close/>
                  <a:moveTo>
                    <a:pt x="2728" y="1030"/>
                  </a:moveTo>
                  <a:lnTo>
                    <a:pt x="2819" y="1030"/>
                  </a:lnTo>
                  <a:lnTo>
                    <a:pt x="2819" y="1137"/>
                  </a:lnTo>
                  <a:lnTo>
                    <a:pt x="2728" y="1137"/>
                  </a:lnTo>
                  <a:lnTo>
                    <a:pt x="2728" y="1030"/>
                  </a:lnTo>
                  <a:close/>
                  <a:moveTo>
                    <a:pt x="2953" y="1159"/>
                  </a:moveTo>
                  <a:lnTo>
                    <a:pt x="3044" y="1159"/>
                  </a:lnTo>
                  <a:lnTo>
                    <a:pt x="3044" y="1247"/>
                  </a:lnTo>
                  <a:lnTo>
                    <a:pt x="2953" y="1247"/>
                  </a:lnTo>
                  <a:lnTo>
                    <a:pt x="2953" y="1159"/>
                  </a:lnTo>
                  <a:close/>
                  <a:moveTo>
                    <a:pt x="3182" y="1187"/>
                  </a:moveTo>
                  <a:lnTo>
                    <a:pt x="3273" y="1187"/>
                  </a:lnTo>
                  <a:lnTo>
                    <a:pt x="3273" y="1278"/>
                  </a:lnTo>
                  <a:lnTo>
                    <a:pt x="3182" y="1278"/>
                  </a:lnTo>
                  <a:lnTo>
                    <a:pt x="3182" y="1187"/>
                  </a:lnTo>
                  <a:close/>
                  <a:moveTo>
                    <a:pt x="3407" y="1275"/>
                  </a:moveTo>
                  <a:lnTo>
                    <a:pt x="3498" y="1275"/>
                  </a:lnTo>
                  <a:lnTo>
                    <a:pt x="3498" y="1350"/>
                  </a:lnTo>
                  <a:lnTo>
                    <a:pt x="3407" y="1350"/>
                  </a:lnTo>
                  <a:lnTo>
                    <a:pt x="3407" y="1275"/>
                  </a:lnTo>
                  <a:close/>
                  <a:moveTo>
                    <a:pt x="4090" y="2023"/>
                  </a:moveTo>
                  <a:lnTo>
                    <a:pt x="4181" y="2023"/>
                  </a:lnTo>
                  <a:lnTo>
                    <a:pt x="4181" y="2064"/>
                  </a:lnTo>
                  <a:lnTo>
                    <a:pt x="4090" y="2064"/>
                  </a:lnTo>
                  <a:lnTo>
                    <a:pt x="4090" y="2023"/>
                  </a:lnTo>
                  <a:close/>
                  <a:moveTo>
                    <a:pt x="4316" y="2055"/>
                  </a:moveTo>
                  <a:lnTo>
                    <a:pt x="4407" y="2055"/>
                  </a:lnTo>
                  <a:lnTo>
                    <a:pt x="4407" y="2102"/>
                  </a:lnTo>
                  <a:lnTo>
                    <a:pt x="4316" y="2102"/>
                  </a:lnTo>
                  <a:lnTo>
                    <a:pt x="4316" y="2055"/>
                  </a:lnTo>
                  <a:close/>
                  <a:moveTo>
                    <a:pt x="4544" y="2092"/>
                  </a:moveTo>
                  <a:lnTo>
                    <a:pt x="4635" y="2092"/>
                  </a:lnTo>
                  <a:lnTo>
                    <a:pt x="4635" y="2127"/>
                  </a:lnTo>
                  <a:lnTo>
                    <a:pt x="4544" y="2127"/>
                  </a:lnTo>
                  <a:lnTo>
                    <a:pt x="4544" y="2092"/>
                  </a:lnTo>
                  <a:close/>
                  <a:moveTo>
                    <a:pt x="4773" y="2145"/>
                  </a:moveTo>
                  <a:lnTo>
                    <a:pt x="4864" y="2145"/>
                  </a:lnTo>
                  <a:lnTo>
                    <a:pt x="4864" y="2186"/>
                  </a:lnTo>
                  <a:lnTo>
                    <a:pt x="4773" y="2186"/>
                  </a:lnTo>
                  <a:lnTo>
                    <a:pt x="4773" y="2145"/>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10"/>
            <p:cNvSpPr/>
            <p:nvPr/>
          </p:nvSpPr>
          <p:spPr>
            <a:xfrm>
              <a:off x="1022400" y="2052360"/>
              <a:ext cx="7721640" cy="3205800"/>
            </a:xfrm>
            <a:custGeom>
              <a:avLst/>
              <a:gdLst>
                <a:gd name="textAreaLeft" fmla="*/ 0 w 7721640"/>
                <a:gd name="textAreaRight" fmla="*/ 7722000 w 7721640"/>
                <a:gd name="textAreaTop" fmla="*/ 0 h 3205800"/>
                <a:gd name="textAreaBottom" fmla="*/ 3206160 h 3205800"/>
              </a:gdLst>
              <a:ahLst/>
              <a:rect l="textAreaLeft" t="textAreaTop" r="textAreaRight" b="textAreaBottom"/>
              <a:pathLst>
                <a:path w="4864" h="2195">
                  <a:moveTo>
                    <a:pt x="0" y="1513"/>
                  </a:moveTo>
                  <a:lnTo>
                    <a:pt x="90" y="1513"/>
                  </a:lnTo>
                  <a:lnTo>
                    <a:pt x="90" y="1516"/>
                  </a:lnTo>
                  <a:lnTo>
                    <a:pt x="0" y="1516"/>
                  </a:lnTo>
                  <a:lnTo>
                    <a:pt x="0" y="1513"/>
                  </a:lnTo>
                  <a:close/>
                  <a:moveTo>
                    <a:pt x="228" y="0"/>
                  </a:moveTo>
                  <a:lnTo>
                    <a:pt x="319" y="0"/>
                  </a:lnTo>
                  <a:lnTo>
                    <a:pt x="319" y="50"/>
                  </a:lnTo>
                  <a:lnTo>
                    <a:pt x="228" y="50"/>
                  </a:lnTo>
                  <a:lnTo>
                    <a:pt x="228" y="0"/>
                  </a:lnTo>
                  <a:close/>
                  <a:moveTo>
                    <a:pt x="454" y="1726"/>
                  </a:moveTo>
                  <a:lnTo>
                    <a:pt x="545" y="1726"/>
                  </a:lnTo>
                  <a:lnTo>
                    <a:pt x="545" y="1729"/>
                  </a:lnTo>
                  <a:lnTo>
                    <a:pt x="454" y="1729"/>
                  </a:lnTo>
                  <a:lnTo>
                    <a:pt x="454" y="1726"/>
                  </a:lnTo>
                  <a:close/>
                  <a:moveTo>
                    <a:pt x="682" y="304"/>
                  </a:moveTo>
                  <a:lnTo>
                    <a:pt x="773" y="304"/>
                  </a:lnTo>
                  <a:lnTo>
                    <a:pt x="773" y="373"/>
                  </a:lnTo>
                  <a:lnTo>
                    <a:pt x="682" y="373"/>
                  </a:lnTo>
                  <a:lnTo>
                    <a:pt x="682" y="304"/>
                  </a:lnTo>
                  <a:close/>
                  <a:moveTo>
                    <a:pt x="1365" y="968"/>
                  </a:moveTo>
                  <a:lnTo>
                    <a:pt x="1456" y="968"/>
                  </a:lnTo>
                  <a:lnTo>
                    <a:pt x="1456" y="990"/>
                  </a:lnTo>
                  <a:lnTo>
                    <a:pt x="1365" y="990"/>
                  </a:lnTo>
                  <a:lnTo>
                    <a:pt x="1365" y="968"/>
                  </a:lnTo>
                  <a:close/>
                  <a:moveTo>
                    <a:pt x="1591" y="839"/>
                  </a:moveTo>
                  <a:lnTo>
                    <a:pt x="1682" y="839"/>
                  </a:lnTo>
                  <a:lnTo>
                    <a:pt x="1682" y="911"/>
                  </a:lnTo>
                  <a:lnTo>
                    <a:pt x="1591" y="911"/>
                  </a:lnTo>
                  <a:lnTo>
                    <a:pt x="1591" y="839"/>
                  </a:lnTo>
                  <a:close/>
                  <a:moveTo>
                    <a:pt x="1819" y="1096"/>
                  </a:moveTo>
                  <a:lnTo>
                    <a:pt x="1910" y="1096"/>
                  </a:lnTo>
                  <a:lnTo>
                    <a:pt x="1910" y="1127"/>
                  </a:lnTo>
                  <a:lnTo>
                    <a:pt x="1819" y="1127"/>
                  </a:lnTo>
                  <a:lnTo>
                    <a:pt x="1819" y="1096"/>
                  </a:lnTo>
                  <a:close/>
                  <a:moveTo>
                    <a:pt x="2045" y="990"/>
                  </a:moveTo>
                  <a:lnTo>
                    <a:pt x="2136" y="990"/>
                  </a:lnTo>
                  <a:lnTo>
                    <a:pt x="2136" y="1030"/>
                  </a:lnTo>
                  <a:lnTo>
                    <a:pt x="2045" y="1030"/>
                  </a:lnTo>
                  <a:lnTo>
                    <a:pt x="2045" y="990"/>
                  </a:lnTo>
                  <a:close/>
                  <a:moveTo>
                    <a:pt x="2728" y="1068"/>
                  </a:moveTo>
                  <a:lnTo>
                    <a:pt x="2819" y="1068"/>
                  </a:lnTo>
                  <a:lnTo>
                    <a:pt x="2819" y="1080"/>
                  </a:lnTo>
                  <a:lnTo>
                    <a:pt x="2728" y="1080"/>
                  </a:lnTo>
                  <a:lnTo>
                    <a:pt x="2728" y="1068"/>
                  </a:lnTo>
                  <a:close/>
                  <a:moveTo>
                    <a:pt x="2953" y="1184"/>
                  </a:moveTo>
                  <a:lnTo>
                    <a:pt x="3044" y="1184"/>
                  </a:lnTo>
                  <a:lnTo>
                    <a:pt x="3044" y="1209"/>
                  </a:lnTo>
                  <a:lnTo>
                    <a:pt x="2953" y="1209"/>
                  </a:lnTo>
                  <a:lnTo>
                    <a:pt x="2953" y="1184"/>
                  </a:lnTo>
                  <a:close/>
                  <a:moveTo>
                    <a:pt x="3182" y="1221"/>
                  </a:moveTo>
                  <a:lnTo>
                    <a:pt x="3273" y="1221"/>
                  </a:lnTo>
                  <a:lnTo>
                    <a:pt x="3273" y="1237"/>
                  </a:lnTo>
                  <a:lnTo>
                    <a:pt x="3182" y="1237"/>
                  </a:lnTo>
                  <a:lnTo>
                    <a:pt x="3182" y="1221"/>
                  </a:lnTo>
                  <a:close/>
                  <a:moveTo>
                    <a:pt x="3407" y="1309"/>
                  </a:moveTo>
                  <a:lnTo>
                    <a:pt x="3498" y="1309"/>
                  </a:lnTo>
                  <a:lnTo>
                    <a:pt x="3498" y="1325"/>
                  </a:lnTo>
                  <a:lnTo>
                    <a:pt x="3407" y="1325"/>
                  </a:lnTo>
                  <a:lnTo>
                    <a:pt x="3407" y="1309"/>
                  </a:lnTo>
                  <a:close/>
                  <a:moveTo>
                    <a:pt x="4090" y="2070"/>
                  </a:moveTo>
                  <a:lnTo>
                    <a:pt x="4181" y="2070"/>
                  </a:lnTo>
                  <a:lnTo>
                    <a:pt x="4181" y="2073"/>
                  </a:lnTo>
                  <a:lnTo>
                    <a:pt x="4090" y="2073"/>
                  </a:lnTo>
                  <a:lnTo>
                    <a:pt x="4090" y="2070"/>
                  </a:lnTo>
                  <a:close/>
                  <a:moveTo>
                    <a:pt x="4316" y="2101"/>
                  </a:moveTo>
                  <a:lnTo>
                    <a:pt x="4407" y="2101"/>
                  </a:lnTo>
                  <a:lnTo>
                    <a:pt x="4407" y="2105"/>
                  </a:lnTo>
                  <a:lnTo>
                    <a:pt x="4316" y="2105"/>
                  </a:lnTo>
                  <a:lnTo>
                    <a:pt x="4316" y="2101"/>
                  </a:lnTo>
                  <a:close/>
                  <a:moveTo>
                    <a:pt x="4544" y="2139"/>
                  </a:moveTo>
                  <a:lnTo>
                    <a:pt x="4635" y="2139"/>
                  </a:lnTo>
                  <a:lnTo>
                    <a:pt x="4635" y="2142"/>
                  </a:lnTo>
                  <a:lnTo>
                    <a:pt x="4544" y="2142"/>
                  </a:lnTo>
                  <a:lnTo>
                    <a:pt x="4544" y="2139"/>
                  </a:lnTo>
                  <a:close/>
                  <a:moveTo>
                    <a:pt x="4773" y="2192"/>
                  </a:moveTo>
                  <a:lnTo>
                    <a:pt x="4864" y="2192"/>
                  </a:lnTo>
                  <a:lnTo>
                    <a:pt x="4864" y="2195"/>
                  </a:lnTo>
                  <a:lnTo>
                    <a:pt x="4773" y="2195"/>
                  </a:lnTo>
                  <a:lnTo>
                    <a:pt x="4773" y="2192"/>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11"/>
            <p:cNvSpPr/>
            <p:nvPr/>
          </p:nvSpPr>
          <p:spPr>
            <a:xfrm>
              <a:off x="912960" y="1373040"/>
              <a:ext cx="4680" cy="4276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12"/>
            <p:cNvSpPr/>
            <p:nvPr/>
          </p:nvSpPr>
          <p:spPr>
            <a:xfrm>
              <a:off x="870120" y="1370520"/>
              <a:ext cx="44280" cy="4282200"/>
            </a:xfrm>
            <a:custGeom>
              <a:avLst/>
              <a:gdLst>
                <a:gd name="textAreaLeft" fmla="*/ 0 w 44280"/>
                <a:gd name="textAreaRight" fmla="*/ 44640 w 44280"/>
                <a:gd name="textAreaTop" fmla="*/ 0 h 4282200"/>
                <a:gd name="textAreaBottom" fmla="*/ 4282560 h 4282200"/>
              </a:gdLst>
              <a:ahLst/>
              <a:rect l="textAreaLeft" t="textAreaTop" r="textAreaRight" b="textAreaBottom"/>
              <a:pathLst>
                <a:path w="28" h="2932">
                  <a:moveTo>
                    <a:pt x="0" y="2929"/>
                  </a:moveTo>
                  <a:lnTo>
                    <a:pt x="28" y="2929"/>
                  </a:lnTo>
                  <a:lnTo>
                    <a:pt x="28" y="2932"/>
                  </a:lnTo>
                  <a:lnTo>
                    <a:pt x="0" y="2932"/>
                  </a:lnTo>
                  <a:lnTo>
                    <a:pt x="0" y="2929"/>
                  </a:lnTo>
                  <a:close/>
                  <a:moveTo>
                    <a:pt x="0" y="2440"/>
                  </a:moveTo>
                  <a:lnTo>
                    <a:pt x="28" y="2440"/>
                  </a:lnTo>
                  <a:lnTo>
                    <a:pt x="28" y="2443"/>
                  </a:lnTo>
                  <a:lnTo>
                    <a:pt x="0" y="2443"/>
                  </a:lnTo>
                  <a:lnTo>
                    <a:pt x="0" y="2440"/>
                  </a:lnTo>
                  <a:close/>
                  <a:moveTo>
                    <a:pt x="0" y="1955"/>
                  </a:moveTo>
                  <a:lnTo>
                    <a:pt x="28" y="1955"/>
                  </a:lnTo>
                  <a:lnTo>
                    <a:pt x="28" y="1958"/>
                  </a:lnTo>
                  <a:lnTo>
                    <a:pt x="0" y="1958"/>
                  </a:lnTo>
                  <a:lnTo>
                    <a:pt x="0" y="1955"/>
                  </a:lnTo>
                  <a:close/>
                  <a:moveTo>
                    <a:pt x="0" y="1466"/>
                  </a:moveTo>
                  <a:lnTo>
                    <a:pt x="28" y="1466"/>
                  </a:lnTo>
                  <a:lnTo>
                    <a:pt x="28" y="1469"/>
                  </a:lnTo>
                  <a:lnTo>
                    <a:pt x="0" y="1469"/>
                  </a:lnTo>
                  <a:lnTo>
                    <a:pt x="0" y="1466"/>
                  </a:lnTo>
                  <a:close/>
                  <a:moveTo>
                    <a:pt x="0" y="977"/>
                  </a:moveTo>
                  <a:lnTo>
                    <a:pt x="28" y="977"/>
                  </a:lnTo>
                  <a:lnTo>
                    <a:pt x="28" y="980"/>
                  </a:lnTo>
                  <a:lnTo>
                    <a:pt x="0" y="980"/>
                  </a:lnTo>
                  <a:lnTo>
                    <a:pt x="0" y="977"/>
                  </a:lnTo>
                  <a:close/>
                  <a:moveTo>
                    <a:pt x="0" y="489"/>
                  </a:moveTo>
                  <a:lnTo>
                    <a:pt x="28" y="489"/>
                  </a:lnTo>
                  <a:lnTo>
                    <a:pt x="28" y="492"/>
                  </a:lnTo>
                  <a:lnTo>
                    <a:pt x="0" y="492"/>
                  </a:lnTo>
                  <a:lnTo>
                    <a:pt x="0" y="489"/>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13"/>
            <p:cNvSpPr/>
            <p:nvPr/>
          </p:nvSpPr>
          <p:spPr>
            <a:xfrm>
              <a:off x="914400" y="5648760"/>
              <a:ext cx="7935840" cy="3960"/>
            </a:xfrm>
            <a:prstGeom prst="rect">
              <a:avLst/>
            </a:prstGeom>
            <a:solidFill>
              <a:srgbClr val="868686"/>
            </a:solidFill>
            <a:ln w="0">
              <a:solidFill>
                <a:srgbClr val="868686"/>
              </a:solid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09" name="Freeform 14"/>
            <p:cNvSpPr/>
            <p:nvPr/>
          </p:nvSpPr>
          <p:spPr>
            <a:xfrm>
              <a:off x="912960" y="5649840"/>
              <a:ext cx="7940520" cy="41040"/>
            </a:xfrm>
            <a:custGeom>
              <a:avLst/>
              <a:gdLst>
                <a:gd name="textAreaLeft" fmla="*/ 0 w 7940520"/>
                <a:gd name="textAreaRight" fmla="*/ 7940880 w 7940520"/>
                <a:gd name="textAreaTop" fmla="*/ 0 h 41040"/>
                <a:gd name="textAreaBottom" fmla="*/ 41040 h 41040"/>
              </a:gdLst>
              <a:ahLst/>
              <a:rect l="textAreaLeft" t="textAreaTop" r="textAreaRight" b="textAreaBottom"/>
              <a:pathLst>
                <a:path w="5002" h="28">
                  <a:moveTo>
                    <a:pt x="3" y="0"/>
                  </a:moveTo>
                  <a:lnTo>
                    <a:pt x="3" y="28"/>
                  </a:lnTo>
                  <a:lnTo>
                    <a:pt x="0" y="28"/>
                  </a:lnTo>
                  <a:lnTo>
                    <a:pt x="0" y="0"/>
                  </a:lnTo>
                  <a:lnTo>
                    <a:pt x="3" y="0"/>
                  </a:lnTo>
                  <a:close/>
                  <a:moveTo>
                    <a:pt x="232" y="0"/>
                  </a:moveTo>
                  <a:lnTo>
                    <a:pt x="232" y="28"/>
                  </a:lnTo>
                  <a:lnTo>
                    <a:pt x="228" y="28"/>
                  </a:lnTo>
                  <a:lnTo>
                    <a:pt x="228" y="0"/>
                  </a:lnTo>
                  <a:lnTo>
                    <a:pt x="232" y="0"/>
                  </a:lnTo>
                  <a:close/>
                  <a:moveTo>
                    <a:pt x="457" y="0"/>
                  </a:moveTo>
                  <a:lnTo>
                    <a:pt x="457" y="28"/>
                  </a:lnTo>
                  <a:lnTo>
                    <a:pt x="454" y="28"/>
                  </a:lnTo>
                  <a:lnTo>
                    <a:pt x="454" y="0"/>
                  </a:lnTo>
                  <a:lnTo>
                    <a:pt x="457" y="0"/>
                  </a:lnTo>
                  <a:close/>
                  <a:moveTo>
                    <a:pt x="686" y="0"/>
                  </a:moveTo>
                  <a:lnTo>
                    <a:pt x="686" y="28"/>
                  </a:lnTo>
                  <a:lnTo>
                    <a:pt x="683" y="28"/>
                  </a:lnTo>
                  <a:lnTo>
                    <a:pt x="683" y="0"/>
                  </a:lnTo>
                  <a:lnTo>
                    <a:pt x="686" y="0"/>
                  </a:lnTo>
                  <a:close/>
                  <a:moveTo>
                    <a:pt x="911" y="0"/>
                  </a:moveTo>
                  <a:lnTo>
                    <a:pt x="911" y="28"/>
                  </a:lnTo>
                  <a:lnTo>
                    <a:pt x="908" y="28"/>
                  </a:lnTo>
                  <a:lnTo>
                    <a:pt x="908" y="0"/>
                  </a:lnTo>
                  <a:lnTo>
                    <a:pt x="911" y="0"/>
                  </a:lnTo>
                  <a:close/>
                  <a:moveTo>
                    <a:pt x="1140" y="0"/>
                  </a:moveTo>
                  <a:lnTo>
                    <a:pt x="1140" y="28"/>
                  </a:lnTo>
                  <a:lnTo>
                    <a:pt x="1137" y="28"/>
                  </a:lnTo>
                  <a:lnTo>
                    <a:pt x="1137" y="0"/>
                  </a:lnTo>
                  <a:lnTo>
                    <a:pt x="1140" y="0"/>
                  </a:lnTo>
                  <a:close/>
                  <a:moveTo>
                    <a:pt x="1365" y="0"/>
                  </a:moveTo>
                  <a:lnTo>
                    <a:pt x="1365" y="28"/>
                  </a:lnTo>
                  <a:lnTo>
                    <a:pt x="1362" y="28"/>
                  </a:lnTo>
                  <a:lnTo>
                    <a:pt x="1362" y="0"/>
                  </a:lnTo>
                  <a:lnTo>
                    <a:pt x="1365" y="0"/>
                  </a:lnTo>
                  <a:close/>
                  <a:moveTo>
                    <a:pt x="1594" y="0"/>
                  </a:moveTo>
                  <a:lnTo>
                    <a:pt x="1594" y="28"/>
                  </a:lnTo>
                  <a:lnTo>
                    <a:pt x="1591" y="28"/>
                  </a:lnTo>
                  <a:lnTo>
                    <a:pt x="1591" y="0"/>
                  </a:lnTo>
                  <a:lnTo>
                    <a:pt x="1594" y="0"/>
                  </a:lnTo>
                  <a:close/>
                  <a:moveTo>
                    <a:pt x="1820" y="0"/>
                  </a:moveTo>
                  <a:lnTo>
                    <a:pt x="1820" y="28"/>
                  </a:lnTo>
                  <a:lnTo>
                    <a:pt x="1816" y="28"/>
                  </a:lnTo>
                  <a:lnTo>
                    <a:pt x="1816" y="0"/>
                  </a:lnTo>
                  <a:lnTo>
                    <a:pt x="1820" y="0"/>
                  </a:lnTo>
                  <a:close/>
                  <a:moveTo>
                    <a:pt x="2048" y="0"/>
                  </a:moveTo>
                  <a:lnTo>
                    <a:pt x="2048" y="28"/>
                  </a:lnTo>
                  <a:lnTo>
                    <a:pt x="2045" y="28"/>
                  </a:lnTo>
                  <a:lnTo>
                    <a:pt x="2045" y="0"/>
                  </a:lnTo>
                  <a:lnTo>
                    <a:pt x="2048" y="0"/>
                  </a:lnTo>
                  <a:close/>
                  <a:moveTo>
                    <a:pt x="2274" y="0"/>
                  </a:moveTo>
                  <a:lnTo>
                    <a:pt x="2274" y="28"/>
                  </a:lnTo>
                  <a:lnTo>
                    <a:pt x="2271" y="28"/>
                  </a:lnTo>
                  <a:lnTo>
                    <a:pt x="2271" y="0"/>
                  </a:lnTo>
                  <a:lnTo>
                    <a:pt x="2274" y="0"/>
                  </a:lnTo>
                  <a:close/>
                  <a:moveTo>
                    <a:pt x="2502" y="0"/>
                  </a:moveTo>
                  <a:lnTo>
                    <a:pt x="2502" y="28"/>
                  </a:lnTo>
                  <a:lnTo>
                    <a:pt x="2499" y="28"/>
                  </a:lnTo>
                  <a:lnTo>
                    <a:pt x="2499" y="0"/>
                  </a:lnTo>
                  <a:lnTo>
                    <a:pt x="2502" y="0"/>
                  </a:lnTo>
                  <a:close/>
                  <a:moveTo>
                    <a:pt x="2731" y="0"/>
                  </a:moveTo>
                  <a:lnTo>
                    <a:pt x="2731" y="28"/>
                  </a:lnTo>
                  <a:lnTo>
                    <a:pt x="2728" y="28"/>
                  </a:lnTo>
                  <a:lnTo>
                    <a:pt x="2728" y="0"/>
                  </a:lnTo>
                  <a:lnTo>
                    <a:pt x="2731" y="0"/>
                  </a:lnTo>
                  <a:close/>
                  <a:moveTo>
                    <a:pt x="2956" y="0"/>
                  </a:moveTo>
                  <a:lnTo>
                    <a:pt x="2956" y="28"/>
                  </a:lnTo>
                  <a:lnTo>
                    <a:pt x="2953" y="28"/>
                  </a:lnTo>
                  <a:lnTo>
                    <a:pt x="2953" y="0"/>
                  </a:lnTo>
                  <a:lnTo>
                    <a:pt x="2956" y="0"/>
                  </a:lnTo>
                  <a:close/>
                  <a:moveTo>
                    <a:pt x="3185" y="0"/>
                  </a:moveTo>
                  <a:lnTo>
                    <a:pt x="3185" y="28"/>
                  </a:lnTo>
                  <a:lnTo>
                    <a:pt x="3182" y="28"/>
                  </a:lnTo>
                  <a:lnTo>
                    <a:pt x="3182" y="0"/>
                  </a:lnTo>
                  <a:lnTo>
                    <a:pt x="3185" y="0"/>
                  </a:lnTo>
                  <a:close/>
                  <a:moveTo>
                    <a:pt x="3411" y="0"/>
                  </a:moveTo>
                  <a:lnTo>
                    <a:pt x="3411" y="28"/>
                  </a:lnTo>
                  <a:lnTo>
                    <a:pt x="3407" y="28"/>
                  </a:lnTo>
                  <a:lnTo>
                    <a:pt x="3407" y="0"/>
                  </a:lnTo>
                  <a:lnTo>
                    <a:pt x="3411" y="0"/>
                  </a:lnTo>
                  <a:close/>
                  <a:moveTo>
                    <a:pt x="3639" y="0"/>
                  </a:moveTo>
                  <a:lnTo>
                    <a:pt x="3639" y="28"/>
                  </a:lnTo>
                  <a:lnTo>
                    <a:pt x="3636" y="28"/>
                  </a:lnTo>
                  <a:lnTo>
                    <a:pt x="3636" y="0"/>
                  </a:lnTo>
                  <a:lnTo>
                    <a:pt x="3639" y="0"/>
                  </a:lnTo>
                  <a:close/>
                  <a:moveTo>
                    <a:pt x="3865" y="0"/>
                  </a:moveTo>
                  <a:lnTo>
                    <a:pt x="3865" y="28"/>
                  </a:lnTo>
                  <a:lnTo>
                    <a:pt x="3862" y="28"/>
                  </a:lnTo>
                  <a:lnTo>
                    <a:pt x="3862" y="0"/>
                  </a:lnTo>
                  <a:lnTo>
                    <a:pt x="3865" y="0"/>
                  </a:lnTo>
                  <a:close/>
                  <a:moveTo>
                    <a:pt x="4093" y="0"/>
                  </a:moveTo>
                  <a:lnTo>
                    <a:pt x="4093" y="28"/>
                  </a:lnTo>
                  <a:lnTo>
                    <a:pt x="4090" y="28"/>
                  </a:lnTo>
                  <a:lnTo>
                    <a:pt x="4090" y="0"/>
                  </a:lnTo>
                  <a:lnTo>
                    <a:pt x="4093" y="0"/>
                  </a:lnTo>
                  <a:close/>
                  <a:moveTo>
                    <a:pt x="4319" y="0"/>
                  </a:moveTo>
                  <a:lnTo>
                    <a:pt x="4319" y="28"/>
                  </a:lnTo>
                  <a:lnTo>
                    <a:pt x="4316" y="28"/>
                  </a:lnTo>
                  <a:lnTo>
                    <a:pt x="4316" y="0"/>
                  </a:lnTo>
                  <a:lnTo>
                    <a:pt x="4319" y="0"/>
                  </a:lnTo>
                  <a:close/>
                  <a:moveTo>
                    <a:pt x="4548" y="0"/>
                  </a:moveTo>
                  <a:lnTo>
                    <a:pt x="4548" y="28"/>
                  </a:lnTo>
                  <a:lnTo>
                    <a:pt x="4544" y="28"/>
                  </a:lnTo>
                  <a:lnTo>
                    <a:pt x="4544" y="0"/>
                  </a:lnTo>
                  <a:lnTo>
                    <a:pt x="4548" y="0"/>
                  </a:lnTo>
                  <a:close/>
                  <a:moveTo>
                    <a:pt x="4773" y="0"/>
                  </a:moveTo>
                  <a:lnTo>
                    <a:pt x="4773" y="28"/>
                  </a:lnTo>
                  <a:lnTo>
                    <a:pt x="4770" y="28"/>
                  </a:lnTo>
                  <a:lnTo>
                    <a:pt x="4770" y="0"/>
                  </a:lnTo>
                  <a:lnTo>
                    <a:pt x="4773" y="0"/>
                  </a:lnTo>
                  <a:close/>
                  <a:moveTo>
                    <a:pt x="5002" y="0"/>
                  </a:moveTo>
                  <a:lnTo>
                    <a:pt x="5002" y="28"/>
                  </a:lnTo>
                  <a:lnTo>
                    <a:pt x="4999" y="28"/>
                  </a:lnTo>
                  <a:lnTo>
                    <a:pt x="4999" y="0"/>
                  </a:lnTo>
                  <a:lnTo>
                    <a:pt x="5002" y="0"/>
                  </a:lnTo>
                  <a:close/>
                </a:path>
              </a:pathLst>
            </a:custGeom>
            <a:solidFill>
              <a:srgbClr val="868686"/>
            </a:solidFill>
            <a:ln w="0">
              <a:solidFill>
                <a:srgbClr val="868686"/>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0" name="Rectangle 15"/>
            <p:cNvSpPr/>
            <p:nvPr/>
          </p:nvSpPr>
          <p:spPr>
            <a:xfrm>
              <a:off x="734040" y="55724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p:txBody>
        </p:sp>
        <p:sp>
          <p:nvSpPr>
            <p:cNvPr id="511" name="Rectangle 16"/>
            <p:cNvSpPr/>
            <p:nvPr/>
          </p:nvSpPr>
          <p:spPr>
            <a:xfrm>
              <a:off x="734040" y="48596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p:txBody>
        </p:sp>
        <p:sp>
          <p:nvSpPr>
            <p:cNvPr id="512" name="Rectangle 17"/>
            <p:cNvSpPr/>
            <p:nvPr/>
          </p:nvSpPr>
          <p:spPr>
            <a:xfrm>
              <a:off x="734040" y="41468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p:txBody>
        </p:sp>
        <p:sp>
          <p:nvSpPr>
            <p:cNvPr id="513" name="Rectangle 18"/>
            <p:cNvSpPr/>
            <p:nvPr/>
          </p:nvSpPr>
          <p:spPr>
            <a:xfrm>
              <a:off x="734040" y="34344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p:txBody>
        </p:sp>
        <p:sp>
          <p:nvSpPr>
            <p:cNvPr id="514" name="Rectangle 19"/>
            <p:cNvSpPr/>
            <p:nvPr/>
          </p:nvSpPr>
          <p:spPr>
            <a:xfrm>
              <a:off x="734040" y="27216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p:txBody>
        </p:sp>
        <p:sp>
          <p:nvSpPr>
            <p:cNvPr id="515" name="Rectangle 20"/>
            <p:cNvSpPr/>
            <p:nvPr/>
          </p:nvSpPr>
          <p:spPr>
            <a:xfrm>
              <a:off x="645120" y="200880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p:txBody>
        </p:sp>
        <p:sp>
          <p:nvSpPr>
            <p:cNvPr id="516" name="Rectangle 21"/>
            <p:cNvSpPr/>
            <p:nvPr/>
          </p:nvSpPr>
          <p:spPr>
            <a:xfrm>
              <a:off x="645120" y="129708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p:txBody>
        </p:sp>
        <p:sp>
          <p:nvSpPr>
            <p:cNvPr id="517" name="Rectangle 22"/>
            <p:cNvSpPr/>
            <p:nvPr/>
          </p:nvSpPr>
          <p:spPr>
            <a:xfrm>
              <a:off x="990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18" name="Rectangle 23"/>
            <p:cNvSpPr/>
            <p:nvPr/>
          </p:nvSpPr>
          <p:spPr>
            <a:xfrm>
              <a:off x="135144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19" name="Rectangle 24"/>
            <p:cNvSpPr/>
            <p:nvPr/>
          </p:nvSpPr>
          <p:spPr>
            <a:xfrm>
              <a:off x="17118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0" name="Rectangle 25"/>
            <p:cNvSpPr/>
            <p:nvPr/>
          </p:nvSpPr>
          <p:spPr>
            <a:xfrm>
              <a:off x="20721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1" name="Rectangle 26"/>
            <p:cNvSpPr/>
            <p:nvPr/>
          </p:nvSpPr>
          <p:spPr>
            <a:xfrm>
              <a:off x="3154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2" name="Rectangle 27"/>
            <p:cNvSpPr/>
            <p:nvPr/>
          </p:nvSpPr>
          <p:spPr>
            <a:xfrm>
              <a:off x="35154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3" name="Rectangle 28"/>
            <p:cNvSpPr/>
            <p:nvPr/>
          </p:nvSpPr>
          <p:spPr>
            <a:xfrm>
              <a:off x="38757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4" name="Rectangle 29"/>
            <p:cNvSpPr/>
            <p:nvPr/>
          </p:nvSpPr>
          <p:spPr>
            <a:xfrm>
              <a:off x="42361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5" name="Rectangle 30"/>
            <p:cNvSpPr/>
            <p:nvPr/>
          </p:nvSpPr>
          <p:spPr>
            <a:xfrm>
              <a:off x="53179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6" name="Rectangle 31"/>
            <p:cNvSpPr/>
            <p:nvPr/>
          </p:nvSpPr>
          <p:spPr>
            <a:xfrm>
              <a:off x="56790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7" name="Rectangle 32"/>
            <p:cNvSpPr/>
            <p:nvPr/>
          </p:nvSpPr>
          <p:spPr>
            <a:xfrm>
              <a:off x="6039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8" name="Rectangle 33"/>
            <p:cNvSpPr/>
            <p:nvPr/>
          </p:nvSpPr>
          <p:spPr>
            <a:xfrm>
              <a:off x="63997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9" name="Rectangle 34"/>
            <p:cNvSpPr/>
            <p:nvPr/>
          </p:nvSpPr>
          <p:spPr>
            <a:xfrm>
              <a:off x="74826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0" name="Rectangle 35"/>
            <p:cNvSpPr/>
            <p:nvPr/>
          </p:nvSpPr>
          <p:spPr>
            <a:xfrm>
              <a:off x="78429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31" name="Rectangle 36"/>
            <p:cNvSpPr/>
            <p:nvPr/>
          </p:nvSpPr>
          <p:spPr>
            <a:xfrm>
              <a:off x="8203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2" name="Rectangle 37"/>
            <p:cNvSpPr/>
            <p:nvPr/>
          </p:nvSpPr>
          <p:spPr>
            <a:xfrm>
              <a:off x="856368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pic>
          <p:nvPicPr>
            <p:cNvPr id="533" name="Rectangle 40" descr=""/>
            <p:cNvPicPr/>
            <p:nvPr/>
          </p:nvPicPr>
          <p:blipFill>
            <a:blip r:embed="rId1"/>
            <a:stretch/>
          </p:blipFill>
          <p:spPr>
            <a:xfrm>
              <a:off x="244440" y="1596600"/>
              <a:ext cx="360360" cy="3785760"/>
            </a:xfrm>
            <a:prstGeom prst="rect">
              <a:avLst/>
            </a:prstGeom>
            <a:ln w="0">
              <a:noFill/>
            </a:ln>
          </p:spPr>
        </p:pic>
        <p:sp>
          <p:nvSpPr>
            <p:cNvPr id="534" name="Rectangle 42"/>
            <p:cNvSpPr/>
            <p:nvPr/>
          </p:nvSpPr>
          <p:spPr>
            <a:xfrm>
              <a:off x="8028000" y="1722240"/>
              <a:ext cx="84240" cy="73080"/>
            </a:xfrm>
            <a:prstGeom prst="rect">
              <a:avLst/>
            </a:prstGeom>
            <a:solidFill>
              <a:srgbClr val="f7964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5" name="Rectangle 43"/>
            <p:cNvSpPr/>
            <p:nvPr/>
          </p:nvSpPr>
          <p:spPr>
            <a:xfrm>
              <a:off x="8144280" y="165348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536" name="Rectangle 46"/>
            <p:cNvSpPr/>
            <p:nvPr/>
          </p:nvSpPr>
          <p:spPr>
            <a:xfrm>
              <a:off x="8028000" y="1942920"/>
              <a:ext cx="84240" cy="77400"/>
            </a:xfrm>
            <a:prstGeom prst="rect">
              <a:avLst/>
            </a:prstGeom>
            <a:solidFill>
              <a:srgbClr val="d2dc0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7" name="Rectangle 47"/>
            <p:cNvSpPr/>
            <p:nvPr/>
          </p:nvSpPr>
          <p:spPr>
            <a:xfrm>
              <a:off x="8146800" y="187560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538" name="Rectangle 48"/>
            <p:cNvSpPr/>
            <p:nvPr/>
          </p:nvSpPr>
          <p:spPr>
            <a:xfrm>
              <a:off x="8028000" y="2166480"/>
              <a:ext cx="84240" cy="77400"/>
            </a:xfrm>
            <a:prstGeom prst="rect">
              <a:avLst/>
            </a:prstGeom>
            <a:solidFill>
              <a:srgbClr val="d810b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9" name="Rectangle 49"/>
            <p:cNvSpPr/>
            <p:nvPr/>
          </p:nvSpPr>
          <p:spPr>
            <a:xfrm>
              <a:off x="8147880" y="2100600"/>
              <a:ext cx="2980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540" name="Rectangle 50"/>
            <p:cNvSpPr/>
            <p:nvPr/>
          </p:nvSpPr>
          <p:spPr>
            <a:xfrm>
              <a:off x="8028000" y="2391480"/>
              <a:ext cx="84240" cy="72720"/>
            </a:xfrm>
            <a:prstGeom prst="rect">
              <a:avLst/>
            </a:prstGeom>
            <a:solidFill>
              <a:srgbClr val="4f81b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1" name="Rectangle 51"/>
            <p:cNvSpPr/>
            <p:nvPr/>
          </p:nvSpPr>
          <p:spPr>
            <a:xfrm>
              <a:off x="8147160" y="232272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542" name="Rectangle 68"/>
            <p:cNvSpPr/>
            <p:nvPr/>
          </p:nvSpPr>
          <p:spPr>
            <a:xfrm>
              <a:off x="531792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3" name="Rectangle 70"/>
            <p:cNvSpPr/>
            <p:nvPr/>
          </p:nvSpPr>
          <p:spPr>
            <a:xfrm>
              <a:off x="604980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4" name="Rectangle 72"/>
            <p:cNvSpPr/>
            <p:nvPr/>
          </p:nvSpPr>
          <p:spPr>
            <a:xfrm>
              <a:off x="99180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5" name="Rectangle 74"/>
            <p:cNvSpPr/>
            <p:nvPr/>
          </p:nvSpPr>
          <p:spPr>
            <a:xfrm>
              <a:off x="170136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3%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6" name="Rectangle 76"/>
            <p:cNvSpPr/>
            <p:nvPr/>
          </p:nvSpPr>
          <p:spPr>
            <a:xfrm>
              <a:off x="3184920" y="2962440"/>
              <a:ext cx="535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7" name="Rectangle 78"/>
            <p:cNvSpPr/>
            <p:nvPr/>
          </p:nvSpPr>
          <p:spPr>
            <a:xfrm>
              <a:off x="3871080" y="2962440"/>
              <a:ext cx="58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8" name="Rectangle 80"/>
            <p:cNvSpPr/>
            <p:nvPr/>
          </p:nvSpPr>
          <p:spPr>
            <a:xfrm>
              <a:off x="2212920" y="1770480"/>
              <a:ext cx="1655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rger increase</a:t>
              </a:r>
              <a:endParaRPr b="0" lang="en-US" sz="1600" spc="-1" strike="noStrike">
                <a:solidFill>
                  <a:srgbClr val="000000"/>
                </a:solidFill>
                <a:latin typeface="Arial"/>
              </a:endParaRPr>
            </a:p>
          </p:txBody>
        </p:sp>
        <p:sp>
          <p:nvSpPr>
            <p:cNvPr id="549" name="Rectangle 83"/>
            <p:cNvSpPr/>
            <p:nvPr/>
          </p:nvSpPr>
          <p:spPr>
            <a:xfrm>
              <a:off x="2901960" y="2684880"/>
              <a:ext cx="1871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550" name="Rectangle 85"/>
            <p:cNvSpPr/>
            <p:nvPr/>
          </p:nvSpPr>
          <p:spPr>
            <a:xfrm>
              <a:off x="5216400" y="3057480"/>
              <a:ext cx="1513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sp>
          <p:nvSpPr>
            <p:cNvPr id="551" name="Rectangle 91"/>
            <p:cNvSpPr/>
            <p:nvPr/>
          </p:nvSpPr>
          <p:spPr>
            <a:xfrm>
              <a:off x="7291440" y="4447800"/>
              <a:ext cx="1674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onger decrease</a:t>
              </a:r>
              <a:endParaRPr b="0" lang="en-US" sz="1600" spc="-1" strike="noStrike">
                <a:solidFill>
                  <a:srgbClr val="000000"/>
                </a:solidFill>
                <a:latin typeface="Arial"/>
              </a:endParaRPr>
            </a:p>
          </p:txBody>
        </p:sp>
        <p:sp>
          <p:nvSpPr>
            <p:cNvPr id="552" name="Rectangle 93"/>
            <p:cNvSpPr/>
            <p:nvPr/>
          </p:nvSpPr>
          <p:spPr>
            <a:xfrm>
              <a:off x="7488000" y="4751640"/>
              <a:ext cx="53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53" name="Rectangle 95"/>
            <p:cNvSpPr/>
            <p:nvPr/>
          </p:nvSpPr>
          <p:spPr>
            <a:xfrm>
              <a:off x="8247960" y="4751640"/>
              <a:ext cx="479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554"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55"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
        <p:nvSpPr>
          <p:cNvPr id="556" name="TextBox 102"/>
          <p:cNvSpPr/>
          <p:nvPr/>
        </p:nvSpPr>
        <p:spPr>
          <a:xfrm>
            <a:off x="1125360" y="6051600"/>
            <a:ext cx="10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557" name="TextBox 103"/>
          <p:cNvSpPr/>
          <p:nvPr/>
        </p:nvSpPr>
        <p:spPr>
          <a:xfrm>
            <a:off x="329724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558" name="TextBox 104"/>
          <p:cNvSpPr/>
          <p:nvPr/>
        </p:nvSpPr>
        <p:spPr>
          <a:xfrm>
            <a:off x="54673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559" name="TextBox 105"/>
          <p:cNvSpPr/>
          <p:nvPr/>
        </p:nvSpPr>
        <p:spPr>
          <a:xfrm>
            <a:off x="76471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560" name="Group 109"/>
          <p:cNvGrpSpPr/>
          <p:nvPr/>
        </p:nvGrpSpPr>
        <p:grpSpPr>
          <a:xfrm>
            <a:off x="1007280" y="5805360"/>
            <a:ext cx="1254600" cy="276480"/>
            <a:chOff x="1007280" y="5805360"/>
            <a:chExt cx="1254600" cy="276480"/>
          </a:xfrm>
        </p:grpSpPr>
        <p:sp>
          <p:nvSpPr>
            <p:cNvPr id="561" name="TextBox 106"/>
            <p:cNvSpPr/>
            <p:nvPr/>
          </p:nvSpPr>
          <p:spPr>
            <a:xfrm>
              <a:off x="100728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2" name="TextBox 108"/>
            <p:cNvSpPr/>
            <p:nvPr/>
          </p:nvSpPr>
          <p:spPr>
            <a:xfrm>
              <a:off x="176724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3" name="Group 110"/>
          <p:cNvGrpSpPr/>
          <p:nvPr/>
        </p:nvGrpSpPr>
        <p:grpSpPr>
          <a:xfrm>
            <a:off x="3175920" y="5805360"/>
            <a:ext cx="1254240" cy="276480"/>
            <a:chOff x="3175920" y="5805360"/>
            <a:chExt cx="1254240" cy="276480"/>
          </a:xfrm>
        </p:grpSpPr>
        <p:sp>
          <p:nvSpPr>
            <p:cNvPr id="564" name="TextBox 111"/>
            <p:cNvSpPr/>
            <p:nvPr/>
          </p:nvSpPr>
          <p:spPr>
            <a:xfrm>
              <a:off x="31759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5" name="TextBox 112"/>
            <p:cNvSpPr/>
            <p:nvPr/>
          </p:nvSpPr>
          <p:spPr>
            <a:xfrm>
              <a:off x="393552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6" name="Group 113"/>
          <p:cNvGrpSpPr/>
          <p:nvPr/>
        </p:nvGrpSpPr>
        <p:grpSpPr>
          <a:xfrm>
            <a:off x="5347440" y="5805360"/>
            <a:ext cx="1254600" cy="276480"/>
            <a:chOff x="5347440" y="5805360"/>
            <a:chExt cx="1254600" cy="276480"/>
          </a:xfrm>
        </p:grpSpPr>
        <p:sp>
          <p:nvSpPr>
            <p:cNvPr id="567" name="TextBox 114"/>
            <p:cNvSpPr/>
            <p:nvPr/>
          </p:nvSpPr>
          <p:spPr>
            <a:xfrm>
              <a:off x="534744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8" name="TextBox 115"/>
            <p:cNvSpPr/>
            <p:nvPr/>
          </p:nvSpPr>
          <p:spPr>
            <a:xfrm>
              <a:off x="610740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9" name="Group 116"/>
          <p:cNvGrpSpPr/>
          <p:nvPr/>
        </p:nvGrpSpPr>
        <p:grpSpPr>
          <a:xfrm>
            <a:off x="7517520" y="5805360"/>
            <a:ext cx="1254600" cy="276480"/>
            <a:chOff x="7517520" y="5805360"/>
            <a:chExt cx="1254600" cy="276480"/>
          </a:xfrm>
        </p:grpSpPr>
        <p:sp>
          <p:nvSpPr>
            <p:cNvPr id="570" name="TextBox 117"/>
            <p:cNvSpPr/>
            <p:nvPr/>
          </p:nvSpPr>
          <p:spPr>
            <a:xfrm>
              <a:off x="75175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71" name="TextBox 118"/>
            <p:cNvSpPr/>
            <p:nvPr/>
          </p:nvSpPr>
          <p:spPr>
            <a:xfrm>
              <a:off x="827748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sp>
        <p:nvSpPr>
          <p:cNvPr id="57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57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Policy goals, e.g. 2°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7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4"/>
          <p:cNvGrpSpPr/>
          <p:nvPr/>
        </p:nvGrpSpPr>
        <p:grpSpPr>
          <a:xfrm>
            <a:off x="1403280" y="1773360"/>
            <a:ext cx="6433920" cy="4190760"/>
            <a:chOff x="1403280" y="1773360"/>
            <a:chExt cx="6433920" cy="4190760"/>
          </a:xfrm>
        </p:grpSpPr>
        <p:sp>
          <p:nvSpPr>
            <p:cNvPr id="578" name="Rectangle 5"/>
            <p:cNvSpPr/>
            <p:nvPr/>
          </p:nvSpPr>
          <p:spPr>
            <a:xfrm>
              <a:off x="1476360" y="1773360"/>
              <a:ext cx="6325920" cy="4038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utoShape 3"/>
            <p:cNvSpPr/>
            <p:nvPr/>
          </p:nvSpPr>
          <p:spPr>
            <a:xfrm>
              <a:off x="1403280" y="1828800"/>
              <a:ext cx="6433920" cy="413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6"/>
            <p:cNvSpPr/>
            <p:nvPr/>
          </p:nvSpPr>
          <p:spPr>
            <a:xfrm>
              <a:off x="2195280" y="2019240"/>
              <a:ext cx="1800" cy="312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7"/>
            <p:cNvSpPr/>
            <p:nvPr/>
          </p:nvSpPr>
          <p:spPr>
            <a:xfrm>
              <a:off x="2141280" y="514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Line 8"/>
            <p:cNvSpPr/>
            <p:nvPr/>
          </p:nvSpPr>
          <p:spPr>
            <a:xfrm>
              <a:off x="2141280" y="47592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Line 9"/>
            <p:cNvSpPr/>
            <p:nvPr/>
          </p:nvSpPr>
          <p:spPr>
            <a:xfrm>
              <a:off x="2141280" y="436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Line 10"/>
            <p:cNvSpPr/>
            <p:nvPr/>
          </p:nvSpPr>
          <p:spPr>
            <a:xfrm>
              <a:off x="2141280" y="397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Line 11"/>
            <p:cNvSpPr/>
            <p:nvPr/>
          </p:nvSpPr>
          <p:spPr>
            <a:xfrm>
              <a:off x="2141280" y="35877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Line 12"/>
            <p:cNvSpPr/>
            <p:nvPr/>
          </p:nvSpPr>
          <p:spPr>
            <a:xfrm>
              <a:off x="2141280" y="319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7" name="Line 13"/>
            <p:cNvSpPr/>
            <p:nvPr/>
          </p:nvSpPr>
          <p:spPr>
            <a:xfrm>
              <a:off x="2141280" y="28036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Line 14"/>
            <p:cNvSpPr/>
            <p:nvPr/>
          </p:nvSpPr>
          <p:spPr>
            <a:xfrm>
              <a:off x="2141280" y="2406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Line 15"/>
            <p:cNvSpPr/>
            <p:nvPr/>
          </p:nvSpPr>
          <p:spPr>
            <a:xfrm>
              <a:off x="2141280" y="201924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Line 16"/>
            <p:cNvSpPr/>
            <p:nvPr/>
          </p:nvSpPr>
          <p:spPr>
            <a:xfrm>
              <a:off x="2195280" y="5145120"/>
              <a:ext cx="505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Line 17"/>
            <p:cNvSpPr/>
            <p:nvPr/>
          </p:nvSpPr>
          <p:spPr>
            <a:xfrm flipV="1">
              <a:off x="219528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2" name="Line 18"/>
            <p:cNvSpPr/>
            <p:nvPr/>
          </p:nvSpPr>
          <p:spPr>
            <a:xfrm flipV="1">
              <a:off x="32050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3" name="Line 19"/>
            <p:cNvSpPr/>
            <p:nvPr/>
          </p:nvSpPr>
          <p:spPr>
            <a:xfrm flipV="1">
              <a:off x="42145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4" name="Line 20"/>
            <p:cNvSpPr/>
            <p:nvPr/>
          </p:nvSpPr>
          <p:spPr>
            <a:xfrm flipV="1">
              <a:off x="52354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5" name="Line 21"/>
            <p:cNvSpPr/>
            <p:nvPr/>
          </p:nvSpPr>
          <p:spPr>
            <a:xfrm flipV="1">
              <a:off x="62449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6" name="Line 22"/>
            <p:cNvSpPr/>
            <p:nvPr/>
          </p:nvSpPr>
          <p:spPr>
            <a:xfrm flipV="1">
              <a:off x="725472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7" name="Freeform 23"/>
            <p:cNvSpPr/>
            <p:nvPr/>
          </p:nvSpPr>
          <p:spPr>
            <a:xfrm>
              <a:off x="2400120" y="2332080"/>
              <a:ext cx="804960" cy="1836720"/>
            </a:xfrm>
            <a:custGeom>
              <a:avLst/>
              <a:gdLst>
                <a:gd name="textAreaLeft" fmla="*/ 0 w 804960"/>
                <a:gd name="textAreaRight" fmla="*/ 805320 w 804960"/>
                <a:gd name="textAreaTop" fmla="*/ 0 h 1836720"/>
                <a:gd name="textAreaBottom" fmla="*/ 1837080 h 1836720"/>
              </a:gdLst>
              <a:ahLst/>
              <a:rect l="textAreaLeft" t="textAreaTop" r="textAreaRight" b="textAreaBottom"/>
              <a:pathLst>
                <a:path w="507" h="1157">
                  <a:moveTo>
                    <a:pt x="0" y="0"/>
                  </a:moveTo>
                  <a:lnTo>
                    <a:pt x="27" y="74"/>
                  </a:lnTo>
                  <a:lnTo>
                    <a:pt x="47" y="149"/>
                  </a:lnTo>
                  <a:lnTo>
                    <a:pt x="81" y="304"/>
                  </a:lnTo>
                  <a:lnTo>
                    <a:pt x="101" y="467"/>
                  </a:lnTo>
                  <a:lnTo>
                    <a:pt x="128" y="622"/>
                  </a:lnTo>
                  <a:lnTo>
                    <a:pt x="142" y="703"/>
                  </a:lnTo>
                  <a:lnTo>
                    <a:pt x="169" y="778"/>
                  </a:lnTo>
                  <a:lnTo>
                    <a:pt x="196" y="852"/>
                  </a:lnTo>
                  <a:lnTo>
                    <a:pt x="237" y="920"/>
                  </a:lnTo>
                  <a:lnTo>
                    <a:pt x="284" y="988"/>
                  </a:lnTo>
                  <a:lnTo>
                    <a:pt x="345" y="1048"/>
                  </a:lnTo>
                  <a:lnTo>
                    <a:pt x="419" y="1103"/>
                  </a:lnTo>
                  <a:lnTo>
                    <a:pt x="507" y="1157"/>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24"/>
            <p:cNvSpPr/>
            <p:nvPr/>
          </p:nvSpPr>
          <p:spPr>
            <a:xfrm>
              <a:off x="3205080" y="4168800"/>
              <a:ext cx="4049640" cy="676080"/>
            </a:xfrm>
            <a:custGeom>
              <a:avLst/>
              <a:gdLst>
                <a:gd name="textAreaLeft" fmla="*/ 0 w 4049640"/>
                <a:gd name="textAreaRight" fmla="*/ 4050000 w 4049640"/>
                <a:gd name="textAreaTop" fmla="*/ 0 h 676080"/>
                <a:gd name="textAreaBottom" fmla="*/ 676440 h 676080"/>
              </a:gdLst>
              <a:ahLst/>
              <a:rect l="textAreaLeft" t="textAreaTop" r="textAreaRight" b="textAreaBottom"/>
              <a:pathLst>
                <a:path w="2551" h="426">
                  <a:moveTo>
                    <a:pt x="0" y="0"/>
                  </a:moveTo>
                  <a:lnTo>
                    <a:pt x="102" y="47"/>
                  </a:lnTo>
                  <a:lnTo>
                    <a:pt x="223" y="88"/>
                  </a:lnTo>
                  <a:lnTo>
                    <a:pt x="352" y="121"/>
                  </a:lnTo>
                  <a:lnTo>
                    <a:pt x="494" y="155"/>
                  </a:lnTo>
                  <a:lnTo>
                    <a:pt x="643" y="189"/>
                  </a:lnTo>
                  <a:lnTo>
                    <a:pt x="805" y="216"/>
                  </a:lnTo>
                  <a:lnTo>
                    <a:pt x="975" y="237"/>
                  </a:lnTo>
                  <a:lnTo>
                    <a:pt x="1150" y="257"/>
                  </a:lnTo>
                  <a:lnTo>
                    <a:pt x="1502" y="297"/>
                  </a:lnTo>
                  <a:lnTo>
                    <a:pt x="1868" y="338"/>
                  </a:lnTo>
                  <a:lnTo>
                    <a:pt x="2220" y="379"/>
                  </a:lnTo>
                  <a:lnTo>
                    <a:pt x="2389" y="399"/>
                  </a:lnTo>
                  <a:lnTo>
                    <a:pt x="2551" y="426"/>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25"/>
            <p:cNvSpPr/>
            <p:nvPr/>
          </p:nvSpPr>
          <p:spPr>
            <a:xfrm>
              <a:off x="2400120" y="2922480"/>
              <a:ext cx="299880" cy="1751040"/>
            </a:xfrm>
            <a:custGeom>
              <a:avLst/>
              <a:gdLst>
                <a:gd name="textAreaLeft" fmla="*/ 0 w 299880"/>
                <a:gd name="textAreaRight" fmla="*/ 300240 w 299880"/>
                <a:gd name="textAreaTop" fmla="*/ 0 h 1751040"/>
                <a:gd name="textAreaBottom" fmla="*/ 1751400 h 1751040"/>
              </a:gdLst>
              <a:ahLst/>
              <a:rect l="textAreaLeft" t="textAreaTop" r="textAreaRight" b="textAreaBottom"/>
              <a:pathLst>
                <a:path w="189" h="1103">
                  <a:moveTo>
                    <a:pt x="0" y="0"/>
                  </a:moveTo>
                  <a:lnTo>
                    <a:pt x="20" y="142"/>
                  </a:lnTo>
                  <a:lnTo>
                    <a:pt x="47" y="298"/>
                  </a:lnTo>
                  <a:lnTo>
                    <a:pt x="67" y="453"/>
                  </a:lnTo>
                  <a:lnTo>
                    <a:pt x="88" y="609"/>
                  </a:lnTo>
                  <a:lnTo>
                    <a:pt x="108" y="758"/>
                  </a:lnTo>
                  <a:lnTo>
                    <a:pt x="135" y="893"/>
                  </a:lnTo>
                  <a:lnTo>
                    <a:pt x="149" y="954"/>
                  </a:lnTo>
                  <a:lnTo>
                    <a:pt x="162" y="1008"/>
                  </a:lnTo>
                  <a:lnTo>
                    <a:pt x="176" y="1055"/>
                  </a:lnTo>
                  <a:lnTo>
                    <a:pt x="189" y="1103"/>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26"/>
            <p:cNvSpPr/>
            <p:nvPr/>
          </p:nvSpPr>
          <p:spPr>
            <a:xfrm>
              <a:off x="2700000" y="4673520"/>
              <a:ext cx="505080" cy="311040"/>
            </a:xfrm>
            <a:custGeom>
              <a:avLst/>
              <a:gdLst>
                <a:gd name="textAreaLeft" fmla="*/ 0 w 505080"/>
                <a:gd name="textAreaRight" fmla="*/ 505440 w 505080"/>
                <a:gd name="textAreaTop" fmla="*/ 0 h 311040"/>
                <a:gd name="textAreaBottom" fmla="*/ 311400 h 311040"/>
              </a:gdLst>
              <a:ahLst/>
              <a:rect l="textAreaLeft" t="textAreaTop" r="textAreaRight" b="textAreaBottom"/>
              <a:pathLst>
                <a:path w="318" h="196">
                  <a:moveTo>
                    <a:pt x="0" y="0"/>
                  </a:moveTo>
                  <a:lnTo>
                    <a:pt x="27" y="54"/>
                  </a:lnTo>
                  <a:lnTo>
                    <a:pt x="68" y="94"/>
                  </a:lnTo>
                  <a:lnTo>
                    <a:pt x="108" y="122"/>
                  </a:lnTo>
                  <a:lnTo>
                    <a:pt x="156" y="142"/>
                  </a:lnTo>
                  <a:lnTo>
                    <a:pt x="196" y="155"/>
                  </a:lnTo>
                  <a:lnTo>
                    <a:pt x="244" y="169"/>
                  </a:lnTo>
                  <a:lnTo>
                    <a:pt x="284" y="182"/>
                  </a:lnTo>
                  <a:lnTo>
                    <a:pt x="318" y="196"/>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27"/>
            <p:cNvSpPr/>
            <p:nvPr/>
          </p:nvSpPr>
          <p:spPr>
            <a:xfrm>
              <a:off x="2030040" y="5049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02" name="Rectangle 28"/>
            <p:cNvSpPr/>
            <p:nvPr/>
          </p:nvSpPr>
          <p:spPr>
            <a:xfrm>
              <a:off x="1949760" y="46623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03" name="Rectangle 29"/>
            <p:cNvSpPr/>
            <p:nvPr/>
          </p:nvSpPr>
          <p:spPr>
            <a:xfrm>
              <a:off x="1949760" y="42656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04" name="Rectangle 30"/>
            <p:cNvSpPr/>
            <p:nvPr/>
          </p:nvSpPr>
          <p:spPr>
            <a:xfrm>
              <a:off x="1949760" y="38782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05" name="Rectangle 31"/>
            <p:cNvSpPr/>
            <p:nvPr/>
          </p:nvSpPr>
          <p:spPr>
            <a:xfrm>
              <a:off x="1949760" y="3490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06" name="Rectangle 32"/>
            <p:cNvSpPr/>
            <p:nvPr/>
          </p:nvSpPr>
          <p:spPr>
            <a:xfrm>
              <a:off x="1949760" y="3093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07" name="Rectangle 33"/>
            <p:cNvSpPr/>
            <p:nvPr/>
          </p:nvSpPr>
          <p:spPr>
            <a:xfrm>
              <a:off x="1949760" y="2706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08" name="Rectangle 34"/>
            <p:cNvSpPr/>
            <p:nvPr/>
          </p:nvSpPr>
          <p:spPr>
            <a:xfrm>
              <a:off x="1949760" y="23097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09" name="Rectangle 35"/>
            <p:cNvSpPr/>
            <p:nvPr/>
          </p:nvSpPr>
          <p:spPr>
            <a:xfrm>
              <a:off x="1949760" y="19242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80</a:t>
              </a:r>
              <a:endParaRPr b="0" lang="en-US" sz="1300" spc="-1" strike="noStrike">
                <a:solidFill>
                  <a:srgbClr val="000000"/>
                </a:solidFill>
                <a:latin typeface="Arial"/>
              </a:endParaRPr>
            </a:p>
          </p:txBody>
        </p:sp>
        <p:sp>
          <p:nvSpPr>
            <p:cNvPr id="610" name="Rectangle 36"/>
            <p:cNvSpPr/>
            <p:nvPr/>
          </p:nvSpPr>
          <p:spPr>
            <a:xfrm>
              <a:off x="2201400" y="53071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11" name="Rectangle 37"/>
            <p:cNvSpPr/>
            <p:nvPr/>
          </p:nvSpPr>
          <p:spPr>
            <a:xfrm>
              <a:off x="31280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a:t>
              </a:r>
              <a:endParaRPr b="0" lang="en-US" sz="1300" spc="-1" strike="noStrike">
                <a:solidFill>
                  <a:srgbClr val="000000"/>
                </a:solidFill>
                <a:latin typeface="Arial"/>
              </a:endParaRPr>
            </a:p>
          </p:txBody>
        </p:sp>
        <p:sp>
          <p:nvSpPr>
            <p:cNvPr id="612" name="Rectangle 38"/>
            <p:cNvSpPr/>
            <p:nvPr/>
          </p:nvSpPr>
          <p:spPr>
            <a:xfrm>
              <a:off x="41374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a:t>
              </a:r>
              <a:endParaRPr b="0" lang="en-US" sz="1300" spc="-1" strike="noStrike">
                <a:solidFill>
                  <a:srgbClr val="000000"/>
                </a:solidFill>
                <a:latin typeface="Arial"/>
              </a:endParaRPr>
            </a:p>
          </p:txBody>
        </p:sp>
        <p:sp>
          <p:nvSpPr>
            <p:cNvPr id="613" name="Rectangle 39"/>
            <p:cNvSpPr/>
            <p:nvPr/>
          </p:nvSpPr>
          <p:spPr>
            <a:xfrm>
              <a:off x="51566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0</a:t>
              </a:r>
              <a:endParaRPr b="0" lang="en-US" sz="1300" spc="-1" strike="noStrike">
                <a:solidFill>
                  <a:srgbClr val="000000"/>
                </a:solidFill>
                <a:latin typeface="Arial"/>
              </a:endParaRPr>
            </a:p>
          </p:txBody>
        </p:sp>
        <p:sp>
          <p:nvSpPr>
            <p:cNvPr id="614" name="Rectangle 40"/>
            <p:cNvSpPr/>
            <p:nvPr/>
          </p:nvSpPr>
          <p:spPr>
            <a:xfrm>
              <a:off x="61664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0</a:t>
              </a:r>
              <a:endParaRPr b="0" lang="en-US" sz="1300" spc="-1" strike="noStrike">
                <a:solidFill>
                  <a:srgbClr val="000000"/>
                </a:solidFill>
                <a:latin typeface="Arial"/>
              </a:endParaRPr>
            </a:p>
          </p:txBody>
        </p:sp>
        <p:sp>
          <p:nvSpPr>
            <p:cNvPr id="615" name="Rectangle 41"/>
            <p:cNvSpPr/>
            <p:nvPr/>
          </p:nvSpPr>
          <p:spPr>
            <a:xfrm>
              <a:off x="71758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0</a:t>
              </a:r>
              <a:endParaRPr b="0" lang="en-US" sz="1300" spc="-1" strike="noStrike">
                <a:solidFill>
                  <a:srgbClr val="000000"/>
                </a:solidFill>
                <a:latin typeface="Arial"/>
              </a:endParaRPr>
            </a:p>
          </p:txBody>
        </p:sp>
        <p:sp>
          <p:nvSpPr>
            <p:cNvPr id="616" name="Rectangle 42"/>
            <p:cNvSpPr/>
            <p:nvPr/>
          </p:nvSpPr>
          <p:spPr>
            <a:xfrm>
              <a:off x="3814920" y="5510160"/>
              <a:ext cx="1969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 Horizon (years)</a:t>
              </a:r>
              <a:endParaRPr b="0" lang="en-US" sz="1800" spc="-1" strike="noStrike">
                <a:solidFill>
                  <a:srgbClr val="000000"/>
                </a:solidFill>
                <a:latin typeface="Arial"/>
              </a:endParaRPr>
            </a:p>
          </p:txBody>
        </p:sp>
        <p:sp>
          <p:nvSpPr>
            <p:cNvPr id="617" name="Rectangle 43"/>
            <p:cNvSpPr/>
            <p:nvPr/>
          </p:nvSpPr>
          <p:spPr>
            <a:xfrm rot="16200000">
              <a:off x="1014120" y="337392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tric value</a:t>
              </a:r>
              <a:endParaRPr b="0" lang="en-US" sz="1800" spc="-1" strike="noStrike">
                <a:solidFill>
                  <a:srgbClr val="000000"/>
                </a:solidFill>
                <a:latin typeface="Arial"/>
              </a:endParaRPr>
            </a:p>
          </p:txBody>
        </p:sp>
        <p:sp>
          <p:nvSpPr>
            <p:cNvPr id="618" name="Line 44"/>
            <p:cNvSpPr/>
            <p:nvPr/>
          </p:nvSpPr>
          <p:spPr>
            <a:xfrm>
              <a:off x="6532560" y="2284560"/>
              <a:ext cx="258480" cy="1440"/>
            </a:xfrm>
            <a:prstGeom prst="line">
              <a:avLst/>
            </a:prstGeom>
            <a:ln w="2844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Rectangle 45"/>
            <p:cNvSpPr/>
            <p:nvPr/>
          </p:nvSpPr>
          <p:spPr>
            <a:xfrm>
              <a:off x="6888600" y="2187720"/>
              <a:ext cx="36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WP</a:t>
              </a:r>
              <a:endParaRPr b="0" lang="en-US" sz="1400" spc="-1" strike="noStrike">
                <a:solidFill>
                  <a:srgbClr val="000000"/>
                </a:solidFill>
                <a:latin typeface="Arial"/>
              </a:endParaRPr>
            </a:p>
          </p:txBody>
        </p:sp>
        <p:sp>
          <p:nvSpPr>
            <p:cNvPr id="620" name="Line 46"/>
            <p:cNvSpPr/>
            <p:nvPr/>
          </p:nvSpPr>
          <p:spPr>
            <a:xfrm>
              <a:off x="6541920" y="2581200"/>
              <a:ext cx="258840" cy="1800"/>
            </a:xfrm>
            <a:prstGeom prst="line">
              <a:avLst/>
            </a:prstGeom>
            <a:ln w="2844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Rectangle 47"/>
            <p:cNvSpPr/>
            <p:nvPr/>
          </p:nvSpPr>
          <p:spPr>
            <a:xfrm>
              <a:off x="6895800" y="2484360"/>
              <a:ext cx="29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TP</a:t>
              </a:r>
              <a:endParaRPr b="0" lang="en-US" sz="1400" spc="-1" strike="noStrike">
                <a:solidFill>
                  <a:srgbClr val="000000"/>
                </a:solidFill>
                <a:latin typeface="Arial"/>
              </a:endParaRPr>
            </a:p>
          </p:txBody>
        </p:sp>
      </p:grpSp>
      <p:sp>
        <p:nvSpPr>
          <p:cNvPr id="62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br>
              <a:rPr sz="3200"/>
            </a:br>
            <a:r>
              <a:rPr b="1" lang="en-GB" sz="3200" spc="-1" strike="noStrike">
                <a:solidFill>
                  <a:srgbClr val="55809f"/>
                </a:solidFill>
                <a:latin typeface="Arial"/>
              </a:rPr>
              <a:t>e.g. methane</a:t>
            </a:r>
            <a:endParaRPr b="1" lang="en-US" sz="3200" spc="-1" strike="noStrike">
              <a:solidFill>
                <a:srgbClr val="55809f"/>
              </a:solidFill>
              <a:latin typeface="Arial"/>
            </a:endParaRPr>
          </a:p>
        </p:txBody>
      </p:sp>
      <p:sp>
        <p:nvSpPr>
          <p:cNvPr id="623" name="Date Placeholder 52"/>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24" name="Footer Placeholder 53"/>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625" name="TextBox 4"/>
          <p:cNvSpPr/>
          <p:nvPr/>
        </p:nvSpPr>
        <p:spPr>
          <a:xfrm>
            <a:off x="4572000" y="5929200"/>
            <a:ext cx="4392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source: IPCC, 2007; Fuglestvedt, et al. 20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627"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pSp>
        <p:nvGrpSpPr>
          <p:cNvPr id="628" name="Group 4"/>
          <p:cNvGrpSpPr/>
          <p:nvPr/>
        </p:nvGrpSpPr>
        <p:grpSpPr>
          <a:xfrm>
            <a:off x="1504440" y="1241280"/>
            <a:ext cx="6541560" cy="4407120"/>
            <a:chOff x="1504440" y="1241280"/>
            <a:chExt cx="6541560" cy="4407120"/>
          </a:xfrm>
        </p:grpSpPr>
        <p:sp>
          <p:nvSpPr>
            <p:cNvPr id="629" name="Rectangle 6"/>
            <p:cNvSpPr/>
            <p:nvPr/>
          </p:nvSpPr>
          <p:spPr>
            <a:xfrm>
              <a:off x="1745280" y="1514520"/>
              <a:ext cx="6136920" cy="38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7"/>
            <p:cNvSpPr/>
            <p:nvPr/>
          </p:nvSpPr>
          <p:spPr>
            <a:xfrm>
              <a:off x="2109960" y="3411000"/>
              <a:ext cx="5401080" cy="1991520"/>
            </a:xfrm>
            <a:custGeom>
              <a:avLst/>
              <a:gdLst>
                <a:gd name="textAreaLeft" fmla="*/ 0 w 5401080"/>
                <a:gd name="textAreaRight" fmla="*/ 5401440 w 5401080"/>
                <a:gd name="textAreaTop" fmla="*/ 0 h 1991520"/>
                <a:gd name="textAreaBottom" fmla="*/ 1991880 h 1991520"/>
              </a:gdLst>
              <a:ahLst/>
              <a:rect l="textAreaLeft" t="textAreaTop" r="textAreaRight" b="textAreaBottom"/>
              <a:pathLst>
                <a:path w="4207" h="1370">
                  <a:moveTo>
                    <a:pt x="0" y="0"/>
                  </a:moveTo>
                  <a:lnTo>
                    <a:pt x="384" y="0"/>
                  </a:lnTo>
                  <a:lnTo>
                    <a:pt x="384" y="1370"/>
                  </a:lnTo>
                  <a:lnTo>
                    <a:pt x="0" y="1370"/>
                  </a:lnTo>
                  <a:lnTo>
                    <a:pt x="0" y="0"/>
                  </a:lnTo>
                  <a:close/>
                  <a:moveTo>
                    <a:pt x="953" y="0"/>
                  </a:moveTo>
                  <a:lnTo>
                    <a:pt x="1337" y="0"/>
                  </a:lnTo>
                  <a:lnTo>
                    <a:pt x="1337" y="1370"/>
                  </a:lnTo>
                  <a:lnTo>
                    <a:pt x="953" y="1370"/>
                  </a:lnTo>
                  <a:lnTo>
                    <a:pt x="953" y="0"/>
                  </a:lnTo>
                  <a:close/>
                  <a:moveTo>
                    <a:pt x="2864" y="0"/>
                  </a:moveTo>
                  <a:lnTo>
                    <a:pt x="3249" y="0"/>
                  </a:lnTo>
                  <a:lnTo>
                    <a:pt x="3249" y="1370"/>
                  </a:lnTo>
                  <a:lnTo>
                    <a:pt x="2864" y="1370"/>
                  </a:lnTo>
                  <a:lnTo>
                    <a:pt x="2864" y="0"/>
                  </a:lnTo>
                  <a:close/>
                  <a:moveTo>
                    <a:pt x="3823" y="0"/>
                  </a:moveTo>
                  <a:lnTo>
                    <a:pt x="4207" y="0"/>
                  </a:lnTo>
                  <a:lnTo>
                    <a:pt x="4207" y="1370"/>
                  </a:lnTo>
                  <a:lnTo>
                    <a:pt x="3823" y="1370"/>
                  </a:lnTo>
                  <a:lnTo>
                    <a:pt x="3823" y="0"/>
                  </a:lnTo>
                  <a:close/>
                </a:path>
              </a:pathLst>
            </a:custGeom>
            <a:solidFill>
              <a:srgbClr val="4f81bd"/>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Freeform 8"/>
            <p:cNvSpPr/>
            <p:nvPr/>
          </p:nvSpPr>
          <p:spPr>
            <a:xfrm>
              <a:off x="2109960" y="1957680"/>
              <a:ext cx="5401080" cy="1452960"/>
            </a:xfrm>
            <a:custGeom>
              <a:avLst/>
              <a:gdLst>
                <a:gd name="textAreaLeft" fmla="*/ 0 w 5401080"/>
                <a:gd name="textAreaRight" fmla="*/ 5401440 w 5401080"/>
                <a:gd name="textAreaTop" fmla="*/ 0 h 1452960"/>
                <a:gd name="textAreaBottom" fmla="*/ 1453320 h 1452960"/>
              </a:gdLst>
              <a:ahLst/>
              <a:rect l="textAreaLeft" t="textAreaTop" r="textAreaRight" b="textAreaBottom"/>
              <a:pathLst>
                <a:path w="4207" h="1000">
                  <a:moveTo>
                    <a:pt x="0" y="0"/>
                  </a:moveTo>
                  <a:lnTo>
                    <a:pt x="384" y="0"/>
                  </a:lnTo>
                  <a:lnTo>
                    <a:pt x="384" y="1000"/>
                  </a:lnTo>
                  <a:lnTo>
                    <a:pt x="0" y="1000"/>
                  </a:lnTo>
                  <a:lnTo>
                    <a:pt x="0" y="0"/>
                  </a:lnTo>
                  <a:close/>
                  <a:moveTo>
                    <a:pt x="953" y="711"/>
                  </a:moveTo>
                  <a:lnTo>
                    <a:pt x="1337" y="711"/>
                  </a:lnTo>
                  <a:lnTo>
                    <a:pt x="1337" y="1000"/>
                  </a:lnTo>
                  <a:lnTo>
                    <a:pt x="953" y="1000"/>
                  </a:lnTo>
                  <a:lnTo>
                    <a:pt x="953" y="711"/>
                  </a:lnTo>
                  <a:close/>
                  <a:moveTo>
                    <a:pt x="2864" y="211"/>
                  </a:moveTo>
                  <a:lnTo>
                    <a:pt x="3249" y="211"/>
                  </a:lnTo>
                  <a:lnTo>
                    <a:pt x="3249" y="1000"/>
                  </a:lnTo>
                  <a:lnTo>
                    <a:pt x="2864" y="1000"/>
                  </a:lnTo>
                  <a:lnTo>
                    <a:pt x="2864" y="211"/>
                  </a:lnTo>
                  <a:close/>
                  <a:moveTo>
                    <a:pt x="3823" y="943"/>
                  </a:moveTo>
                  <a:lnTo>
                    <a:pt x="4207" y="943"/>
                  </a:lnTo>
                  <a:lnTo>
                    <a:pt x="4207" y="1000"/>
                  </a:lnTo>
                  <a:lnTo>
                    <a:pt x="3823" y="1000"/>
                  </a:lnTo>
                  <a:lnTo>
                    <a:pt x="3823" y="943"/>
                  </a:lnTo>
                  <a:close/>
                </a:path>
              </a:pathLst>
            </a:custGeom>
            <a:solidFill>
              <a:srgbClr val="d810bb"/>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2" name="Freeform 9"/>
            <p:cNvSpPr/>
            <p:nvPr/>
          </p:nvSpPr>
          <p:spPr>
            <a:xfrm>
              <a:off x="2109960" y="1788840"/>
              <a:ext cx="5401080" cy="1539000"/>
            </a:xfrm>
            <a:custGeom>
              <a:avLst/>
              <a:gdLst>
                <a:gd name="textAreaLeft" fmla="*/ 0 w 5401080"/>
                <a:gd name="textAreaRight" fmla="*/ 5401440 w 5401080"/>
                <a:gd name="textAreaTop" fmla="*/ 0 h 1539000"/>
                <a:gd name="textAreaBottom" fmla="*/ 1539360 h 1539000"/>
              </a:gdLst>
              <a:ahLst/>
              <a:rect l="textAreaLeft" t="textAreaTop" r="textAreaRight" b="textAreaBottom"/>
              <a:pathLst>
                <a:path w="4207" h="1059">
                  <a:moveTo>
                    <a:pt x="0" y="0"/>
                  </a:moveTo>
                  <a:lnTo>
                    <a:pt x="384" y="0"/>
                  </a:lnTo>
                  <a:lnTo>
                    <a:pt x="384" y="116"/>
                  </a:lnTo>
                  <a:lnTo>
                    <a:pt x="0" y="116"/>
                  </a:lnTo>
                  <a:lnTo>
                    <a:pt x="0" y="0"/>
                  </a:lnTo>
                  <a:close/>
                  <a:moveTo>
                    <a:pt x="953" y="700"/>
                  </a:moveTo>
                  <a:lnTo>
                    <a:pt x="1337" y="700"/>
                  </a:lnTo>
                  <a:lnTo>
                    <a:pt x="1337" y="827"/>
                  </a:lnTo>
                  <a:lnTo>
                    <a:pt x="953" y="827"/>
                  </a:lnTo>
                  <a:lnTo>
                    <a:pt x="953" y="700"/>
                  </a:lnTo>
                  <a:close/>
                  <a:moveTo>
                    <a:pt x="2864" y="200"/>
                  </a:moveTo>
                  <a:lnTo>
                    <a:pt x="3249" y="200"/>
                  </a:lnTo>
                  <a:lnTo>
                    <a:pt x="3249" y="327"/>
                  </a:lnTo>
                  <a:lnTo>
                    <a:pt x="2864" y="327"/>
                  </a:lnTo>
                  <a:lnTo>
                    <a:pt x="2864" y="200"/>
                  </a:lnTo>
                  <a:close/>
                  <a:moveTo>
                    <a:pt x="3823" y="953"/>
                  </a:moveTo>
                  <a:lnTo>
                    <a:pt x="4207" y="953"/>
                  </a:lnTo>
                  <a:lnTo>
                    <a:pt x="4207" y="1059"/>
                  </a:lnTo>
                  <a:lnTo>
                    <a:pt x="3823" y="1059"/>
                  </a:lnTo>
                  <a:lnTo>
                    <a:pt x="3823" y="953"/>
                  </a:lnTo>
                  <a:close/>
                </a:path>
              </a:pathLst>
            </a:custGeom>
            <a:solidFill>
              <a:srgbClr val="d2dc0c"/>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Freeform 10"/>
            <p:cNvSpPr/>
            <p:nvPr/>
          </p:nvSpPr>
          <p:spPr>
            <a:xfrm>
              <a:off x="2109960" y="1720800"/>
              <a:ext cx="5401080" cy="1453320"/>
            </a:xfrm>
            <a:custGeom>
              <a:avLst/>
              <a:gdLst>
                <a:gd name="textAreaLeft" fmla="*/ 0 w 5401080"/>
                <a:gd name="textAreaRight" fmla="*/ 5401440 w 5401080"/>
                <a:gd name="textAreaTop" fmla="*/ 0 h 1453320"/>
                <a:gd name="textAreaBottom" fmla="*/ 1453680 h 1453320"/>
              </a:gdLst>
              <a:ahLst/>
              <a:rect l="textAreaLeft" t="textAreaTop" r="textAreaRight" b="textAreaBottom"/>
              <a:pathLst>
                <a:path w="4207" h="1000">
                  <a:moveTo>
                    <a:pt x="0" y="0"/>
                  </a:moveTo>
                  <a:lnTo>
                    <a:pt x="384" y="0"/>
                  </a:lnTo>
                  <a:lnTo>
                    <a:pt x="384" y="47"/>
                  </a:lnTo>
                  <a:lnTo>
                    <a:pt x="0" y="47"/>
                  </a:lnTo>
                  <a:lnTo>
                    <a:pt x="0" y="0"/>
                  </a:lnTo>
                  <a:close/>
                  <a:moveTo>
                    <a:pt x="953" y="711"/>
                  </a:moveTo>
                  <a:lnTo>
                    <a:pt x="1337" y="711"/>
                  </a:lnTo>
                  <a:lnTo>
                    <a:pt x="1337" y="747"/>
                  </a:lnTo>
                  <a:lnTo>
                    <a:pt x="953" y="747"/>
                  </a:lnTo>
                  <a:lnTo>
                    <a:pt x="953" y="711"/>
                  </a:lnTo>
                  <a:close/>
                  <a:moveTo>
                    <a:pt x="2864" y="210"/>
                  </a:moveTo>
                  <a:lnTo>
                    <a:pt x="3249" y="210"/>
                  </a:lnTo>
                  <a:lnTo>
                    <a:pt x="3249" y="247"/>
                  </a:lnTo>
                  <a:lnTo>
                    <a:pt x="2864" y="247"/>
                  </a:lnTo>
                  <a:lnTo>
                    <a:pt x="2864" y="210"/>
                  </a:lnTo>
                  <a:close/>
                  <a:moveTo>
                    <a:pt x="3823" y="969"/>
                  </a:moveTo>
                  <a:lnTo>
                    <a:pt x="4207" y="969"/>
                  </a:lnTo>
                  <a:lnTo>
                    <a:pt x="4207" y="1000"/>
                  </a:lnTo>
                  <a:lnTo>
                    <a:pt x="3823" y="1000"/>
                  </a:lnTo>
                  <a:lnTo>
                    <a:pt x="3823" y="969"/>
                  </a:lnTo>
                  <a:close/>
                </a:path>
              </a:pathLst>
            </a:custGeom>
            <a:solidFill>
              <a:srgbClr val="f7964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Rectangle 11"/>
            <p:cNvSpPr/>
            <p:nvPr/>
          </p:nvSpPr>
          <p:spPr>
            <a:xfrm>
              <a:off x="1738800" y="1517400"/>
              <a:ext cx="6120" cy="3880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12"/>
            <p:cNvSpPr/>
            <p:nvPr/>
          </p:nvSpPr>
          <p:spPr>
            <a:xfrm>
              <a:off x="1701720" y="1514520"/>
              <a:ext cx="39600" cy="3888000"/>
            </a:xfrm>
            <a:custGeom>
              <a:avLst/>
              <a:gdLst>
                <a:gd name="textAreaLeft" fmla="*/ 0 w 39600"/>
                <a:gd name="textAreaRight" fmla="*/ 39960 w 39600"/>
                <a:gd name="textAreaTop" fmla="*/ 0 h 3888000"/>
                <a:gd name="textAreaBottom" fmla="*/ 3888360 h 3888000"/>
              </a:gdLst>
              <a:ahLst/>
              <a:rect l="textAreaLeft" t="textAreaTop" r="textAreaRight" b="textAreaBottom"/>
              <a:pathLst>
                <a:path w="31" h="2675">
                  <a:moveTo>
                    <a:pt x="0" y="2669"/>
                  </a:moveTo>
                  <a:lnTo>
                    <a:pt x="31" y="2669"/>
                  </a:lnTo>
                  <a:lnTo>
                    <a:pt x="31" y="2675"/>
                  </a:lnTo>
                  <a:lnTo>
                    <a:pt x="0" y="2675"/>
                  </a:lnTo>
                  <a:lnTo>
                    <a:pt x="0" y="2669"/>
                  </a:lnTo>
                  <a:close/>
                  <a:moveTo>
                    <a:pt x="0" y="2290"/>
                  </a:moveTo>
                  <a:lnTo>
                    <a:pt x="31" y="2290"/>
                  </a:lnTo>
                  <a:lnTo>
                    <a:pt x="31" y="2295"/>
                  </a:lnTo>
                  <a:lnTo>
                    <a:pt x="0" y="2295"/>
                  </a:lnTo>
                  <a:lnTo>
                    <a:pt x="0" y="2290"/>
                  </a:lnTo>
                  <a:close/>
                  <a:moveTo>
                    <a:pt x="0" y="1906"/>
                  </a:moveTo>
                  <a:lnTo>
                    <a:pt x="31" y="1906"/>
                  </a:lnTo>
                  <a:lnTo>
                    <a:pt x="31" y="1911"/>
                  </a:lnTo>
                  <a:lnTo>
                    <a:pt x="0" y="1911"/>
                  </a:lnTo>
                  <a:lnTo>
                    <a:pt x="0" y="1906"/>
                  </a:lnTo>
                  <a:close/>
                  <a:moveTo>
                    <a:pt x="0" y="1527"/>
                  </a:moveTo>
                  <a:lnTo>
                    <a:pt x="31" y="1527"/>
                  </a:lnTo>
                  <a:lnTo>
                    <a:pt x="31" y="1532"/>
                  </a:lnTo>
                  <a:lnTo>
                    <a:pt x="0" y="1532"/>
                  </a:lnTo>
                  <a:lnTo>
                    <a:pt x="0" y="1527"/>
                  </a:lnTo>
                  <a:close/>
                  <a:moveTo>
                    <a:pt x="0" y="1142"/>
                  </a:moveTo>
                  <a:lnTo>
                    <a:pt x="31" y="1142"/>
                  </a:lnTo>
                  <a:lnTo>
                    <a:pt x="31" y="1147"/>
                  </a:lnTo>
                  <a:lnTo>
                    <a:pt x="0" y="1147"/>
                  </a:lnTo>
                  <a:lnTo>
                    <a:pt x="0" y="1142"/>
                  </a:lnTo>
                  <a:close/>
                  <a:moveTo>
                    <a:pt x="0" y="763"/>
                  </a:moveTo>
                  <a:lnTo>
                    <a:pt x="31" y="763"/>
                  </a:lnTo>
                  <a:lnTo>
                    <a:pt x="31" y="768"/>
                  </a:lnTo>
                  <a:lnTo>
                    <a:pt x="0" y="768"/>
                  </a:lnTo>
                  <a:lnTo>
                    <a:pt x="0" y="763"/>
                  </a:lnTo>
                  <a:close/>
                  <a:moveTo>
                    <a:pt x="0" y="379"/>
                  </a:moveTo>
                  <a:lnTo>
                    <a:pt x="31" y="379"/>
                  </a:lnTo>
                  <a:lnTo>
                    <a:pt x="31" y="384"/>
                  </a:lnTo>
                  <a:lnTo>
                    <a:pt x="0" y="384"/>
                  </a:lnTo>
                  <a:lnTo>
                    <a:pt x="0" y="379"/>
                  </a:lnTo>
                  <a:close/>
                  <a:moveTo>
                    <a:pt x="0" y="0"/>
                  </a:moveTo>
                  <a:lnTo>
                    <a:pt x="31" y="0"/>
                  </a:lnTo>
                  <a:lnTo>
                    <a:pt x="31" y="5"/>
                  </a:lnTo>
                  <a:lnTo>
                    <a:pt x="0" y="5"/>
                  </a:lnTo>
                  <a:lnTo>
                    <a:pt x="0" y="0"/>
                  </a:lnTo>
                  <a:close/>
                </a:path>
              </a:pathLst>
            </a:custGeom>
            <a:solidFill>
              <a:srgbClr val="868686"/>
            </a:solidFill>
            <a:ln w="0">
              <a:solidFill>
                <a:srgbClr val="868686"/>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Rectangle 13"/>
            <p:cNvSpPr/>
            <p:nvPr/>
          </p:nvSpPr>
          <p:spPr>
            <a:xfrm>
              <a:off x="1741320" y="5393880"/>
              <a:ext cx="6138000" cy="8640"/>
            </a:xfrm>
            <a:prstGeom prst="rect">
              <a:avLst/>
            </a:prstGeom>
            <a:solidFill>
              <a:srgbClr val="868686"/>
            </a:solidFill>
            <a:ln w="0">
              <a:solidFill>
                <a:srgbClr val="868686"/>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37" name="Freeform 14"/>
            <p:cNvSpPr/>
            <p:nvPr/>
          </p:nvSpPr>
          <p:spPr>
            <a:xfrm>
              <a:off x="1738800" y="5398200"/>
              <a:ext cx="6143400" cy="53640"/>
            </a:xfrm>
            <a:custGeom>
              <a:avLst/>
              <a:gdLst>
                <a:gd name="textAreaLeft" fmla="*/ 0 w 6143400"/>
                <a:gd name="textAreaRight" fmla="*/ 6143760 w 6143400"/>
                <a:gd name="textAreaTop" fmla="*/ 0 h 53640"/>
                <a:gd name="textAreaBottom" fmla="*/ 54000 h 53640"/>
              </a:gdLst>
              <a:ahLst/>
              <a:rect l="textAreaLeft" t="textAreaTop" r="textAreaRight" b="textAreaBottom"/>
              <a:pathLst>
                <a:path w="4785" h="37">
                  <a:moveTo>
                    <a:pt x="5" y="0"/>
                  </a:moveTo>
                  <a:lnTo>
                    <a:pt x="5" y="37"/>
                  </a:lnTo>
                  <a:lnTo>
                    <a:pt x="0" y="37"/>
                  </a:lnTo>
                  <a:lnTo>
                    <a:pt x="0" y="0"/>
                  </a:lnTo>
                  <a:lnTo>
                    <a:pt x="5" y="0"/>
                  </a:lnTo>
                  <a:close/>
                  <a:moveTo>
                    <a:pt x="963" y="0"/>
                  </a:moveTo>
                  <a:lnTo>
                    <a:pt x="963" y="37"/>
                  </a:lnTo>
                  <a:lnTo>
                    <a:pt x="958" y="37"/>
                  </a:lnTo>
                  <a:lnTo>
                    <a:pt x="958" y="0"/>
                  </a:lnTo>
                  <a:lnTo>
                    <a:pt x="963" y="0"/>
                  </a:lnTo>
                  <a:close/>
                  <a:moveTo>
                    <a:pt x="1916" y="0"/>
                  </a:moveTo>
                  <a:lnTo>
                    <a:pt x="1916" y="37"/>
                  </a:lnTo>
                  <a:lnTo>
                    <a:pt x="1911" y="37"/>
                  </a:lnTo>
                  <a:lnTo>
                    <a:pt x="1911" y="0"/>
                  </a:lnTo>
                  <a:lnTo>
                    <a:pt x="1916" y="0"/>
                  </a:lnTo>
                  <a:close/>
                  <a:moveTo>
                    <a:pt x="2874" y="0"/>
                  </a:moveTo>
                  <a:lnTo>
                    <a:pt x="2874" y="37"/>
                  </a:lnTo>
                  <a:lnTo>
                    <a:pt x="2869" y="37"/>
                  </a:lnTo>
                  <a:lnTo>
                    <a:pt x="2869" y="0"/>
                  </a:lnTo>
                  <a:lnTo>
                    <a:pt x="2874" y="0"/>
                  </a:lnTo>
                  <a:close/>
                  <a:moveTo>
                    <a:pt x="3827" y="0"/>
                  </a:moveTo>
                  <a:lnTo>
                    <a:pt x="3827" y="37"/>
                  </a:lnTo>
                  <a:lnTo>
                    <a:pt x="3822" y="37"/>
                  </a:lnTo>
                  <a:lnTo>
                    <a:pt x="3822" y="0"/>
                  </a:lnTo>
                  <a:lnTo>
                    <a:pt x="3827" y="0"/>
                  </a:lnTo>
                  <a:close/>
                  <a:moveTo>
                    <a:pt x="4785" y="0"/>
                  </a:moveTo>
                  <a:lnTo>
                    <a:pt x="4785" y="37"/>
                  </a:lnTo>
                  <a:lnTo>
                    <a:pt x="4780" y="37"/>
                  </a:lnTo>
                  <a:lnTo>
                    <a:pt x="4780" y="0"/>
                  </a:lnTo>
                  <a:lnTo>
                    <a:pt x="4785" y="0"/>
                  </a:lnTo>
                  <a:close/>
                </a:path>
              </a:pathLst>
            </a:custGeom>
            <a:solidFill>
              <a:srgbClr val="868686"/>
            </a:solidFill>
            <a:ln w="0">
              <a:solidFill>
                <a:srgbClr val="868686"/>
              </a:solidFill>
            </a:ln>
          </p:spPr>
          <p:style>
            <a:lnRef idx="0"/>
            <a:fillRef idx="0"/>
            <a:effectRef idx="0"/>
            <a:fontRef idx="minor"/>
          </p:style>
          <p:txBody>
            <a:bodyPr tIns="8280" bIns="8280" anchor="t">
              <a:noAutofit/>
            </a:bodyPr>
            <a:p>
              <a:endParaRPr b="0" lang="en-US" sz="1800" spc="-1" strike="noStrike">
                <a:solidFill>
                  <a:srgbClr val="000000"/>
                </a:solidFill>
                <a:latin typeface="Arial"/>
              </a:endParaRPr>
            </a:p>
          </p:txBody>
        </p:sp>
        <p:sp>
          <p:nvSpPr>
            <p:cNvPr id="638" name="Rectangle 15"/>
            <p:cNvSpPr/>
            <p:nvPr/>
          </p:nvSpPr>
          <p:spPr>
            <a:xfrm>
              <a:off x="1580040" y="530064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39" name="Rectangle 16"/>
            <p:cNvSpPr/>
            <p:nvPr/>
          </p:nvSpPr>
          <p:spPr>
            <a:xfrm>
              <a:off x="1504440" y="47469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40" name="Rectangle 17"/>
            <p:cNvSpPr/>
            <p:nvPr/>
          </p:nvSpPr>
          <p:spPr>
            <a:xfrm>
              <a:off x="1504440" y="41914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41" name="Rectangle 18"/>
            <p:cNvSpPr/>
            <p:nvPr/>
          </p:nvSpPr>
          <p:spPr>
            <a:xfrm>
              <a:off x="1504440" y="3637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42" name="Rectangle 19"/>
            <p:cNvSpPr/>
            <p:nvPr/>
          </p:nvSpPr>
          <p:spPr>
            <a:xfrm>
              <a:off x="1504440" y="3082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43" name="Rectangle 20"/>
            <p:cNvSpPr/>
            <p:nvPr/>
          </p:nvSpPr>
          <p:spPr>
            <a:xfrm>
              <a:off x="1504440" y="25290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44" name="Rectangle 21"/>
            <p:cNvSpPr/>
            <p:nvPr/>
          </p:nvSpPr>
          <p:spPr>
            <a:xfrm>
              <a:off x="1504440" y="19735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45" name="Rectangle 22"/>
            <p:cNvSpPr/>
            <p:nvPr/>
          </p:nvSpPr>
          <p:spPr>
            <a:xfrm>
              <a:off x="1504440" y="1419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46" name="Rectangle 23"/>
            <p:cNvSpPr/>
            <p:nvPr/>
          </p:nvSpPr>
          <p:spPr>
            <a:xfrm>
              <a:off x="197748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7" name="Rectangle 24"/>
            <p:cNvSpPr/>
            <p:nvPr/>
          </p:nvSpPr>
          <p:spPr>
            <a:xfrm>
              <a:off x="315792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48" name="Rectangle 25"/>
            <p:cNvSpPr/>
            <p:nvPr/>
          </p:nvSpPr>
          <p:spPr>
            <a:xfrm>
              <a:off x="565092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9" name="Rectangle 26"/>
            <p:cNvSpPr/>
            <p:nvPr/>
          </p:nvSpPr>
          <p:spPr>
            <a:xfrm>
              <a:off x="680400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50" name="Rectangle 30"/>
            <p:cNvSpPr/>
            <p:nvPr/>
          </p:nvSpPr>
          <p:spPr>
            <a:xfrm>
              <a:off x="7061760" y="1303560"/>
              <a:ext cx="87120" cy="100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31"/>
            <p:cNvSpPr/>
            <p:nvPr/>
          </p:nvSpPr>
          <p:spPr>
            <a:xfrm>
              <a:off x="7094160" y="1241280"/>
              <a:ext cx="95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 F gases</a:t>
              </a:r>
              <a:endParaRPr b="0" lang="en-US" sz="1500" spc="-1" strike="noStrike">
                <a:solidFill>
                  <a:srgbClr val="000000"/>
                </a:solidFill>
                <a:latin typeface="Arial"/>
              </a:endParaRPr>
            </a:p>
          </p:txBody>
        </p:sp>
        <p:sp>
          <p:nvSpPr>
            <p:cNvPr id="652" name="Rectangle 32"/>
            <p:cNvSpPr/>
            <p:nvPr/>
          </p:nvSpPr>
          <p:spPr>
            <a:xfrm>
              <a:off x="7061760" y="1603080"/>
              <a:ext cx="87120" cy="9864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Rectangle 33"/>
            <p:cNvSpPr/>
            <p:nvPr/>
          </p:nvSpPr>
          <p:spPr>
            <a:xfrm>
              <a:off x="7160400" y="153756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654" name="Rectangle 34"/>
            <p:cNvSpPr/>
            <p:nvPr/>
          </p:nvSpPr>
          <p:spPr>
            <a:xfrm>
              <a:off x="7061760" y="1893600"/>
              <a:ext cx="8712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Rectangle 35"/>
            <p:cNvSpPr/>
            <p:nvPr/>
          </p:nvSpPr>
          <p:spPr>
            <a:xfrm>
              <a:off x="7162200" y="183240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656" name="Rectangle 36"/>
            <p:cNvSpPr/>
            <p:nvPr/>
          </p:nvSpPr>
          <p:spPr>
            <a:xfrm>
              <a:off x="7061760" y="2191680"/>
              <a:ext cx="8712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37"/>
            <p:cNvSpPr/>
            <p:nvPr/>
          </p:nvSpPr>
          <p:spPr>
            <a:xfrm>
              <a:off x="7160400" y="21279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grpSp>
      <p:sp>
        <p:nvSpPr>
          <p:cNvPr id="658"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endParaRPr b="1" lang="en-US" sz="3200" spc="-1" strike="noStrike">
              <a:solidFill>
                <a:srgbClr val="55809f"/>
              </a:solidFill>
              <a:latin typeface="Arial"/>
            </a:endParaRPr>
          </a:p>
        </p:txBody>
      </p:sp>
      <p:pic>
        <p:nvPicPr>
          <p:cNvPr id="659" name="TextBox 66" descr=""/>
          <p:cNvPicPr/>
          <p:nvPr/>
        </p:nvPicPr>
        <p:blipFill>
          <a:blip r:embed="rId1"/>
          <a:stretch/>
        </p:blipFill>
        <p:spPr>
          <a:xfrm>
            <a:off x="822240" y="1481040"/>
            <a:ext cx="470160" cy="3969000"/>
          </a:xfrm>
          <a:prstGeom prst="rect">
            <a:avLst/>
          </a:prstGeom>
          <a:ln w="0">
            <a:noFill/>
          </a:ln>
        </p:spPr>
      </p:pic>
      <p:sp>
        <p:nvSpPr>
          <p:cNvPr id="660" name="TextBox 67"/>
          <p:cNvSpPr/>
          <p:nvPr/>
        </p:nvSpPr>
        <p:spPr>
          <a:xfrm>
            <a:off x="2484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WP</a:t>
            </a:r>
            <a:endParaRPr b="0" lang="en-US" sz="2400" spc="-1" strike="noStrike">
              <a:solidFill>
                <a:srgbClr val="000000"/>
              </a:solidFill>
              <a:latin typeface="Arial"/>
            </a:endParaRPr>
          </a:p>
        </p:txBody>
      </p:sp>
      <p:sp>
        <p:nvSpPr>
          <p:cNvPr id="661" name="TextBox 68"/>
          <p:cNvSpPr/>
          <p:nvPr/>
        </p:nvSpPr>
        <p:spPr>
          <a:xfrm>
            <a:off x="6156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Conclusions</a:t>
            </a:r>
            <a:endParaRPr b="1" lang="en-US" sz="3200" spc="-1" strike="noStrike">
              <a:solidFill>
                <a:srgbClr val="55809f"/>
              </a:solidFill>
              <a:latin typeface="Arial"/>
            </a:endParaRPr>
          </a:p>
        </p:txBody>
      </p:sp>
      <p:sp>
        <p:nvSpPr>
          <p:cNvPr id="663" name=""/>
          <p:cNvSpPr txBox="1"/>
          <p:nvPr/>
        </p:nvSpPr>
        <p:spPr>
          <a:xfrm>
            <a:off x="718920" y="1557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GWP and GTP require value choice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sensitivity to choice of time horizon.</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to consult IPCC Fifth Assessment Report related to status of scientific findings related to metrics </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step: consider economic implication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value in changing metric when impact on other areas unknown?</a:t>
            </a:r>
            <a:endParaRPr b="0" lang="en-US" sz="2000" spc="-1" strike="noStrike">
              <a:solidFill>
                <a:srgbClr val="000000"/>
              </a:solidFill>
              <a:latin typeface="Arial"/>
            </a:endParaRPr>
          </a:p>
        </p:txBody>
      </p:sp>
      <p:sp>
        <p:nvSpPr>
          <p:cNvPr id="664"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65"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Uncertainties in current knowledge and use of metrics</a:t>
            </a:r>
            <a:endParaRPr b="1" lang="en-US" sz="3200" spc="-1" strike="noStrike">
              <a:solidFill>
                <a:srgbClr val="55809f"/>
              </a:solidFill>
              <a:latin typeface="Arial"/>
            </a:endParaRPr>
          </a:p>
        </p:txBody>
      </p:sp>
      <p:sp>
        <p:nvSpPr>
          <p:cNvPr id="300" name="PlaceHolder 2"/>
          <p:cNvSpPr>
            <a:spLocks noGrp="1"/>
          </p:cNvSpPr>
          <p:nvPr>
            <p:ph/>
          </p:nvPr>
        </p:nvSpPr>
        <p:spPr>
          <a:xfrm>
            <a:off x="718920" y="1881360"/>
            <a:ext cx="8065800" cy="4068720"/>
          </a:xfrm>
          <a:prstGeom prst="rect">
            <a:avLst/>
          </a:prstGeom>
          <a:noFill/>
          <a:ln w="0">
            <a:noFill/>
          </a:ln>
        </p:spPr>
        <p:txBody>
          <a:bodyPr lIns="0" rIns="0" tIns="0" bIns="0" anchor="t">
            <a:normAutofit fontScale="99000"/>
          </a:bodyPr>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limate sensitivity, radiative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mpact of different lifetimes, choice of time horizon, relationship with end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hoice of discount rate, potential for perverse incentives</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t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winners and losers, ease of communication, stability</a:t>
            </a:r>
            <a:endParaRPr b="0" lang="en-US" sz="1800" spc="-1" strike="noStrike">
              <a:solidFill>
                <a:srgbClr val="000000"/>
              </a:solidFill>
              <a:latin typeface="Arial"/>
            </a:endParaRPr>
          </a:p>
          <a:p>
            <a:pPr marL="352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5"/>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2" name="Footer Placeholder 6"/>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4"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5"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06"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goals, e.g. 2</a:t>
            </a:r>
            <a:r>
              <a:rPr b="0" lang="en-GB" sz="2000" spc="-1" strike="noStrike">
                <a:solidFill>
                  <a:srgbClr val="000000"/>
                </a:solidFill>
                <a:latin typeface="Arial"/>
                <a:ea typeface="Arial"/>
              </a:rPr>
              <a:t>°C, emission trading, reporting and monitor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8"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2"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6"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7"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br>
              <a:rPr sz="3200"/>
            </a:br>
            <a:r>
              <a:rPr b="1" lang="en-GB" sz="2400" spc="-1" strike="noStrike">
                <a:solidFill>
                  <a:srgbClr val="55809f"/>
                </a:solidFill>
                <a:latin typeface="Arial"/>
              </a:rPr>
              <a:t>updating GWP values</a:t>
            </a:r>
            <a:endParaRPr b="1" lang="en-US" sz="2400" spc="-1" strike="noStrike">
              <a:solidFill>
                <a:srgbClr val="55809f"/>
              </a:solidFill>
              <a:latin typeface="Arial"/>
            </a:endParaRPr>
          </a:p>
        </p:txBody>
      </p:sp>
      <p:graphicFrame>
        <p:nvGraphicFramePr>
          <p:cNvPr id="318"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SA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AR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7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9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0 – 9,2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9,81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319" name="TextBox 8"/>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4"/>
          <p:cNvGrpSpPr/>
          <p:nvPr/>
        </p:nvGrpSpPr>
        <p:grpSpPr>
          <a:xfrm>
            <a:off x="2340000" y="487440"/>
            <a:ext cx="9411840" cy="5671800"/>
            <a:chOff x="2340000" y="487440"/>
            <a:chExt cx="9411840" cy="5671800"/>
          </a:xfrm>
        </p:grpSpPr>
        <p:sp>
          <p:nvSpPr>
            <p:cNvPr id="321" name="AutoShape 3"/>
            <p:cNvSpPr/>
            <p:nvPr/>
          </p:nvSpPr>
          <p:spPr>
            <a:xfrm>
              <a:off x="2340000" y="487440"/>
              <a:ext cx="9411840" cy="567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6"/>
            <p:cNvSpPr/>
            <p:nvPr/>
          </p:nvSpPr>
          <p:spPr>
            <a:xfrm>
              <a:off x="3348000" y="1091880"/>
              <a:ext cx="8130960" cy="429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7"/>
            <p:cNvSpPr/>
            <p:nvPr/>
          </p:nvSpPr>
          <p:spPr>
            <a:xfrm>
              <a:off x="3501360" y="2820960"/>
              <a:ext cx="7817040" cy="2557080"/>
            </a:xfrm>
            <a:custGeom>
              <a:avLst/>
              <a:gdLst>
                <a:gd name="textAreaLeft" fmla="*/ 0 w 7817040"/>
                <a:gd name="textAreaRight" fmla="*/ 7817400 w 7817040"/>
                <a:gd name="textAreaTop" fmla="*/ 0 h 2557080"/>
                <a:gd name="textAreaBottom" fmla="*/ 2557080 h 2557080"/>
              </a:gdLst>
              <a:ahLst/>
              <a:rect l="textAreaLeft" t="textAreaTop" r="textAreaRight" b="textAreaBottom"/>
              <a:pathLst>
                <a:path w="4784" h="1565">
                  <a:moveTo>
                    <a:pt x="0" y="349"/>
                  </a:moveTo>
                  <a:lnTo>
                    <a:pt x="124" y="349"/>
                  </a:lnTo>
                  <a:lnTo>
                    <a:pt x="124" y="1565"/>
                  </a:lnTo>
                  <a:lnTo>
                    <a:pt x="0" y="1565"/>
                  </a:lnTo>
                  <a:lnTo>
                    <a:pt x="0" y="349"/>
                  </a:lnTo>
                  <a:close/>
                  <a:moveTo>
                    <a:pt x="312" y="0"/>
                  </a:moveTo>
                  <a:lnTo>
                    <a:pt x="435" y="0"/>
                  </a:lnTo>
                  <a:lnTo>
                    <a:pt x="435" y="1565"/>
                  </a:lnTo>
                  <a:lnTo>
                    <a:pt x="312" y="1565"/>
                  </a:lnTo>
                  <a:lnTo>
                    <a:pt x="312" y="0"/>
                  </a:lnTo>
                  <a:close/>
                  <a:moveTo>
                    <a:pt x="619" y="349"/>
                  </a:moveTo>
                  <a:lnTo>
                    <a:pt x="747" y="349"/>
                  </a:lnTo>
                  <a:lnTo>
                    <a:pt x="747" y="1565"/>
                  </a:lnTo>
                  <a:lnTo>
                    <a:pt x="619" y="1565"/>
                  </a:lnTo>
                  <a:lnTo>
                    <a:pt x="619" y="349"/>
                  </a:lnTo>
                  <a:close/>
                  <a:moveTo>
                    <a:pt x="931" y="0"/>
                  </a:moveTo>
                  <a:lnTo>
                    <a:pt x="1055" y="0"/>
                  </a:lnTo>
                  <a:lnTo>
                    <a:pt x="1055" y="1565"/>
                  </a:lnTo>
                  <a:lnTo>
                    <a:pt x="931" y="1565"/>
                  </a:lnTo>
                  <a:lnTo>
                    <a:pt x="931" y="0"/>
                  </a:lnTo>
                  <a:close/>
                  <a:moveTo>
                    <a:pt x="1865" y="885"/>
                  </a:moveTo>
                  <a:lnTo>
                    <a:pt x="1989" y="885"/>
                  </a:lnTo>
                  <a:lnTo>
                    <a:pt x="1989" y="1565"/>
                  </a:lnTo>
                  <a:lnTo>
                    <a:pt x="1865" y="1565"/>
                  </a:lnTo>
                  <a:lnTo>
                    <a:pt x="1865" y="885"/>
                  </a:lnTo>
                  <a:close/>
                  <a:moveTo>
                    <a:pt x="2176" y="912"/>
                  </a:moveTo>
                  <a:lnTo>
                    <a:pt x="2300" y="912"/>
                  </a:lnTo>
                  <a:lnTo>
                    <a:pt x="2300" y="1565"/>
                  </a:lnTo>
                  <a:lnTo>
                    <a:pt x="2176" y="1565"/>
                  </a:lnTo>
                  <a:lnTo>
                    <a:pt x="2176" y="912"/>
                  </a:lnTo>
                  <a:close/>
                  <a:moveTo>
                    <a:pt x="2484" y="885"/>
                  </a:moveTo>
                  <a:lnTo>
                    <a:pt x="2608" y="885"/>
                  </a:lnTo>
                  <a:lnTo>
                    <a:pt x="2608" y="1565"/>
                  </a:lnTo>
                  <a:lnTo>
                    <a:pt x="2484" y="1565"/>
                  </a:lnTo>
                  <a:lnTo>
                    <a:pt x="2484" y="885"/>
                  </a:lnTo>
                  <a:close/>
                  <a:moveTo>
                    <a:pt x="2796" y="912"/>
                  </a:moveTo>
                  <a:lnTo>
                    <a:pt x="2919" y="912"/>
                  </a:lnTo>
                  <a:lnTo>
                    <a:pt x="2919" y="1565"/>
                  </a:lnTo>
                  <a:lnTo>
                    <a:pt x="2796" y="1565"/>
                  </a:lnTo>
                  <a:lnTo>
                    <a:pt x="2796" y="912"/>
                  </a:lnTo>
                  <a:close/>
                  <a:moveTo>
                    <a:pt x="3730" y="1028"/>
                  </a:moveTo>
                  <a:lnTo>
                    <a:pt x="3854" y="1028"/>
                  </a:lnTo>
                  <a:lnTo>
                    <a:pt x="3854" y="1565"/>
                  </a:lnTo>
                  <a:lnTo>
                    <a:pt x="3730" y="1565"/>
                  </a:lnTo>
                  <a:lnTo>
                    <a:pt x="3730" y="1028"/>
                  </a:lnTo>
                  <a:close/>
                  <a:moveTo>
                    <a:pt x="4038" y="649"/>
                  </a:moveTo>
                  <a:lnTo>
                    <a:pt x="4162" y="649"/>
                  </a:lnTo>
                  <a:lnTo>
                    <a:pt x="4162" y="1565"/>
                  </a:lnTo>
                  <a:lnTo>
                    <a:pt x="4038" y="1565"/>
                  </a:lnTo>
                  <a:lnTo>
                    <a:pt x="4038" y="649"/>
                  </a:lnTo>
                  <a:close/>
                  <a:moveTo>
                    <a:pt x="4349" y="1028"/>
                  </a:moveTo>
                  <a:lnTo>
                    <a:pt x="4473" y="1028"/>
                  </a:lnTo>
                  <a:lnTo>
                    <a:pt x="4473" y="1565"/>
                  </a:lnTo>
                  <a:lnTo>
                    <a:pt x="4349" y="1565"/>
                  </a:lnTo>
                  <a:lnTo>
                    <a:pt x="4349" y="1028"/>
                  </a:lnTo>
                  <a:close/>
                  <a:moveTo>
                    <a:pt x="4661" y="649"/>
                  </a:moveTo>
                  <a:lnTo>
                    <a:pt x="4784" y="649"/>
                  </a:lnTo>
                  <a:lnTo>
                    <a:pt x="4784" y="1565"/>
                  </a:lnTo>
                  <a:lnTo>
                    <a:pt x="4661" y="1565"/>
                  </a:lnTo>
                  <a:lnTo>
                    <a:pt x="4661" y="649"/>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8"/>
            <p:cNvSpPr/>
            <p:nvPr/>
          </p:nvSpPr>
          <p:spPr>
            <a:xfrm>
              <a:off x="3501360" y="2170440"/>
              <a:ext cx="7817040" cy="2329920"/>
            </a:xfrm>
            <a:custGeom>
              <a:avLst/>
              <a:gdLst>
                <a:gd name="textAreaLeft" fmla="*/ 0 w 7817040"/>
                <a:gd name="textAreaRight" fmla="*/ 7817400 w 7817040"/>
                <a:gd name="textAreaTop" fmla="*/ 0 h 2329920"/>
                <a:gd name="textAreaBottom" fmla="*/ 2330280 h 2329920"/>
              </a:gdLst>
              <a:ahLst/>
              <a:rect l="textAreaLeft" t="textAreaTop" r="textAreaRight" b="textAreaBottom"/>
              <a:pathLst>
                <a:path w="4784" h="1426">
                  <a:moveTo>
                    <a:pt x="0" y="454"/>
                  </a:moveTo>
                  <a:lnTo>
                    <a:pt x="124" y="454"/>
                  </a:lnTo>
                  <a:lnTo>
                    <a:pt x="124" y="747"/>
                  </a:lnTo>
                  <a:lnTo>
                    <a:pt x="0" y="747"/>
                  </a:lnTo>
                  <a:lnTo>
                    <a:pt x="0" y="454"/>
                  </a:lnTo>
                  <a:close/>
                  <a:moveTo>
                    <a:pt x="312" y="64"/>
                  </a:moveTo>
                  <a:lnTo>
                    <a:pt x="435" y="64"/>
                  </a:lnTo>
                  <a:lnTo>
                    <a:pt x="435" y="398"/>
                  </a:lnTo>
                  <a:lnTo>
                    <a:pt x="312" y="398"/>
                  </a:lnTo>
                  <a:lnTo>
                    <a:pt x="312" y="64"/>
                  </a:lnTo>
                  <a:close/>
                  <a:moveTo>
                    <a:pt x="619" y="402"/>
                  </a:moveTo>
                  <a:lnTo>
                    <a:pt x="747" y="402"/>
                  </a:lnTo>
                  <a:lnTo>
                    <a:pt x="747" y="747"/>
                  </a:lnTo>
                  <a:lnTo>
                    <a:pt x="619" y="747"/>
                  </a:lnTo>
                  <a:lnTo>
                    <a:pt x="619" y="402"/>
                  </a:lnTo>
                  <a:close/>
                  <a:moveTo>
                    <a:pt x="931" y="0"/>
                  </a:moveTo>
                  <a:lnTo>
                    <a:pt x="1055" y="0"/>
                  </a:lnTo>
                  <a:lnTo>
                    <a:pt x="1055" y="398"/>
                  </a:lnTo>
                  <a:lnTo>
                    <a:pt x="931" y="398"/>
                  </a:lnTo>
                  <a:lnTo>
                    <a:pt x="931" y="0"/>
                  </a:lnTo>
                  <a:close/>
                  <a:moveTo>
                    <a:pt x="1865" y="1175"/>
                  </a:moveTo>
                  <a:lnTo>
                    <a:pt x="1989" y="1175"/>
                  </a:lnTo>
                  <a:lnTo>
                    <a:pt x="1989" y="1283"/>
                  </a:lnTo>
                  <a:lnTo>
                    <a:pt x="1865" y="1283"/>
                  </a:lnTo>
                  <a:lnTo>
                    <a:pt x="1865" y="1175"/>
                  </a:lnTo>
                  <a:close/>
                  <a:moveTo>
                    <a:pt x="2176" y="1220"/>
                  </a:moveTo>
                  <a:lnTo>
                    <a:pt x="2300" y="1220"/>
                  </a:lnTo>
                  <a:lnTo>
                    <a:pt x="2300" y="1310"/>
                  </a:lnTo>
                  <a:lnTo>
                    <a:pt x="2176" y="1310"/>
                  </a:lnTo>
                  <a:lnTo>
                    <a:pt x="2176" y="1220"/>
                  </a:lnTo>
                  <a:close/>
                  <a:moveTo>
                    <a:pt x="2484" y="1156"/>
                  </a:moveTo>
                  <a:lnTo>
                    <a:pt x="2608" y="1156"/>
                  </a:lnTo>
                  <a:lnTo>
                    <a:pt x="2608" y="1283"/>
                  </a:lnTo>
                  <a:lnTo>
                    <a:pt x="2484" y="1283"/>
                  </a:lnTo>
                  <a:lnTo>
                    <a:pt x="2484" y="1156"/>
                  </a:lnTo>
                  <a:close/>
                  <a:moveTo>
                    <a:pt x="2796" y="1205"/>
                  </a:moveTo>
                  <a:lnTo>
                    <a:pt x="2919" y="1205"/>
                  </a:lnTo>
                  <a:lnTo>
                    <a:pt x="2919" y="1310"/>
                  </a:lnTo>
                  <a:lnTo>
                    <a:pt x="2796" y="1310"/>
                  </a:lnTo>
                  <a:lnTo>
                    <a:pt x="2796" y="1205"/>
                  </a:lnTo>
                  <a:close/>
                  <a:moveTo>
                    <a:pt x="3730" y="1242"/>
                  </a:moveTo>
                  <a:lnTo>
                    <a:pt x="3854" y="1242"/>
                  </a:lnTo>
                  <a:lnTo>
                    <a:pt x="3854" y="1426"/>
                  </a:lnTo>
                  <a:lnTo>
                    <a:pt x="3730" y="1426"/>
                  </a:lnTo>
                  <a:lnTo>
                    <a:pt x="3730" y="1242"/>
                  </a:lnTo>
                  <a:close/>
                  <a:moveTo>
                    <a:pt x="4038" y="803"/>
                  </a:moveTo>
                  <a:lnTo>
                    <a:pt x="4162" y="803"/>
                  </a:lnTo>
                  <a:lnTo>
                    <a:pt x="4162" y="1047"/>
                  </a:lnTo>
                  <a:lnTo>
                    <a:pt x="4038" y="1047"/>
                  </a:lnTo>
                  <a:lnTo>
                    <a:pt x="4038" y="803"/>
                  </a:lnTo>
                  <a:close/>
                  <a:moveTo>
                    <a:pt x="4349" y="1208"/>
                  </a:moveTo>
                  <a:lnTo>
                    <a:pt x="4473" y="1208"/>
                  </a:lnTo>
                  <a:lnTo>
                    <a:pt x="4473" y="1426"/>
                  </a:lnTo>
                  <a:lnTo>
                    <a:pt x="4349" y="1426"/>
                  </a:lnTo>
                  <a:lnTo>
                    <a:pt x="4349" y="1208"/>
                  </a:lnTo>
                  <a:close/>
                  <a:moveTo>
                    <a:pt x="4661" y="758"/>
                  </a:moveTo>
                  <a:lnTo>
                    <a:pt x="4784" y="758"/>
                  </a:lnTo>
                  <a:lnTo>
                    <a:pt x="4784" y="1047"/>
                  </a:lnTo>
                  <a:lnTo>
                    <a:pt x="4661" y="1047"/>
                  </a:lnTo>
                  <a:lnTo>
                    <a:pt x="4661" y="75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9"/>
            <p:cNvSpPr/>
            <p:nvPr/>
          </p:nvSpPr>
          <p:spPr>
            <a:xfrm>
              <a:off x="3501360" y="1943280"/>
              <a:ext cx="7817040" cy="2256840"/>
            </a:xfrm>
            <a:custGeom>
              <a:avLst/>
              <a:gdLst>
                <a:gd name="textAreaLeft" fmla="*/ 0 w 7817040"/>
                <a:gd name="textAreaRight" fmla="*/ 7817400 w 7817040"/>
                <a:gd name="textAreaTop" fmla="*/ 0 h 2256840"/>
                <a:gd name="textAreaBottom" fmla="*/ 2257200 h 2256840"/>
              </a:gdLst>
              <a:ahLst/>
              <a:rect l="textAreaLeft" t="textAreaTop" r="textAreaRight" b="textAreaBottom"/>
              <a:pathLst>
                <a:path w="4784" h="1381">
                  <a:moveTo>
                    <a:pt x="0" y="466"/>
                  </a:moveTo>
                  <a:lnTo>
                    <a:pt x="124" y="466"/>
                  </a:lnTo>
                  <a:lnTo>
                    <a:pt x="124" y="593"/>
                  </a:lnTo>
                  <a:lnTo>
                    <a:pt x="0" y="593"/>
                  </a:lnTo>
                  <a:lnTo>
                    <a:pt x="0" y="466"/>
                  </a:lnTo>
                  <a:close/>
                  <a:moveTo>
                    <a:pt x="312" y="56"/>
                  </a:moveTo>
                  <a:lnTo>
                    <a:pt x="435" y="56"/>
                  </a:lnTo>
                  <a:lnTo>
                    <a:pt x="435" y="203"/>
                  </a:lnTo>
                  <a:lnTo>
                    <a:pt x="312" y="203"/>
                  </a:lnTo>
                  <a:lnTo>
                    <a:pt x="312" y="56"/>
                  </a:lnTo>
                  <a:close/>
                  <a:moveTo>
                    <a:pt x="619" y="413"/>
                  </a:moveTo>
                  <a:lnTo>
                    <a:pt x="747" y="413"/>
                  </a:lnTo>
                  <a:lnTo>
                    <a:pt x="747" y="541"/>
                  </a:lnTo>
                  <a:lnTo>
                    <a:pt x="619" y="541"/>
                  </a:lnTo>
                  <a:lnTo>
                    <a:pt x="619" y="413"/>
                  </a:lnTo>
                  <a:close/>
                  <a:moveTo>
                    <a:pt x="931" y="0"/>
                  </a:moveTo>
                  <a:lnTo>
                    <a:pt x="1055" y="0"/>
                  </a:lnTo>
                  <a:lnTo>
                    <a:pt x="1055" y="139"/>
                  </a:lnTo>
                  <a:lnTo>
                    <a:pt x="931" y="139"/>
                  </a:lnTo>
                  <a:lnTo>
                    <a:pt x="931" y="0"/>
                  </a:lnTo>
                  <a:close/>
                  <a:moveTo>
                    <a:pt x="1865" y="1261"/>
                  </a:moveTo>
                  <a:lnTo>
                    <a:pt x="1989" y="1261"/>
                  </a:lnTo>
                  <a:lnTo>
                    <a:pt x="1989" y="1314"/>
                  </a:lnTo>
                  <a:lnTo>
                    <a:pt x="1865" y="1314"/>
                  </a:lnTo>
                  <a:lnTo>
                    <a:pt x="1865" y="1261"/>
                  </a:lnTo>
                  <a:close/>
                  <a:moveTo>
                    <a:pt x="2176" y="1317"/>
                  </a:moveTo>
                  <a:lnTo>
                    <a:pt x="2300" y="1317"/>
                  </a:lnTo>
                  <a:lnTo>
                    <a:pt x="2300" y="1359"/>
                  </a:lnTo>
                  <a:lnTo>
                    <a:pt x="2176" y="1359"/>
                  </a:lnTo>
                  <a:lnTo>
                    <a:pt x="2176" y="1317"/>
                  </a:lnTo>
                  <a:close/>
                  <a:moveTo>
                    <a:pt x="2484" y="1242"/>
                  </a:moveTo>
                  <a:lnTo>
                    <a:pt x="2608" y="1242"/>
                  </a:lnTo>
                  <a:lnTo>
                    <a:pt x="2608" y="1295"/>
                  </a:lnTo>
                  <a:lnTo>
                    <a:pt x="2484" y="1295"/>
                  </a:lnTo>
                  <a:lnTo>
                    <a:pt x="2484" y="1242"/>
                  </a:lnTo>
                  <a:close/>
                  <a:moveTo>
                    <a:pt x="2796" y="1302"/>
                  </a:moveTo>
                  <a:lnTo>
                    <a:pt x="2919" y="1302"/>
                  </a:lnTo>
                  <a:lnTo>
                    <a:pt x="2919" y="1344"/>
                  </a:lnTo>
                  <a:lnTo>
                    <a:pt x="2796" y="1344"/>
                  </a:lnTo>
                  <a:lnTo>
                    <a:pt x="2796" y="1302"/>
                  </a:lnTo>
                  <a:close/>
                  <a:moveTo>
                    <a:pt x="3730" y="1306"/>
                  </a:moveTo>
                  <a:lnTo>
                    <a:pt x="3854" y="1306"/>
                  </a:lnTo>
                  <a:lnTo>
                    <a:pt x="3854" y="1381"/>
                  </a:lnTo>
                  <a:lnTo>
                    <a:pt x="3730" y="1381"/>
                  </a:lnTo>
                  <a:lnTo>
                    <a:pt x="3730" y="1306"/>
                  </a:lnTo>
                  <a:close/>
                  <a:moveTo>
                    <a:pt x="4038" y="845"/>
                  </a:moveTo>
                  <a:lnTo>
                    <a:pt x="4162" y="845"/>
                  </a:lnTo>
                  <a:lnTo>
                    <a:pt x="4162" y="942"/>
                  </a:lnTo>
                  <a:lnTo>
                    <a:pt x="4038" y="942"/>
                  </a:lnTo>
                  <a:lnTo>
                    <a:pt x="4038" y="845"/>
                  </a:lnTo>
                  <a:close/>
                  <a:moveTo>
                    <a:pt x="4349" y="1272"/>
                  </a:moveTo>
                  <a:lnTo>
                    <a:pt x="4473" y="1272"/>
                  </a:lnTo>
                  <a:lnTo>
                    <a:pt x="4473" y="1347"/>
                  </a:lnTo>
                  <a:lnTo>
                    <a:pt x="4349" y="1347"/>
                  </a:lnTo>
                  <a:lnTo>
                    <a:pt x="4349" y="1272"/>
                  </a:lnTo>
                  <a:close/>
                  <a:moveTo>
                    <a:pt x="4661" y="799"/>
                  </a:moveTo>
                  <a:lnTo>
                    <a:pt x="4784" y="799"/>
                  </a:lnTo>
                  <a:lnTo>
                    <a:pt x="4784" y="897"/>
                  </a:lnTo>
                  <a:lnTo>
                    <a:pt x="4661" y="897"/>
                  </a:lnTo>
                  <a:lnTo>
                    <a:pt x="4661" y="799"/>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0"/>
            <p:cNvSpPr/>
            <p:nvPr/>
          </p:nvSpPr>
          <p:spPr>
            <a:xfrm>
              <a:off x="3501360" y="1876320"/>
              <a:ext cx="7817040" cy="2219400"/>
            </a:xfrm>
            <a:custGeom>
              <a:avLst/>
              <a:gdLst>
                <a:gd name="textAreaLeft" fmla="*/ 0 w 7817040"/>
                <a:gd name="textAreaRight" fmla="*/ 7817400 w 7817040"/>
                <a:gd name="textAreaTop" fmla="*/ 0 h 2219400"/>
                <a:gd name="textAreaBottom" fmla="*/ 2219760 h 2219400"/>
              </a:gdLst>
              <a:ahLst/>
              <a:rect l="textAreaLeft" t="textAreaTop" r="textAreaRight" b="textAreaBottom"/>
              <a:pathLst>
                <a:path w="4784" h="1358">
                  <a:moveTo>
                    <a:pt x="0" y="492"/>
                  </a:moveTo>
                  <a:lnTo>
                    <a:pt x="124" y="492"/>
                  </a:lnTo>
                  <a:lnTo>
                    <a:pt x="124" y="507"/>
                  </a:lnTo>
                  <a:lnTo>
                    <a:pt x="0" y="507"/>
                  </a:lnTo>
                  <a:lnTo>
                    <a:pt x="0" y="492"/>
                  </a:lnTo>
                  <a:close/>
                  <a:moveTo>
                    <a:pt x="312" y="60"/>
                  </a:moveTo>
                  <a:lnTo>
                    <a:pt x="435" y="60"/>
                  </a:lnTo>
                  <a:lnTo>
                    <a:pt x="435" y="97"/>
                  </a:lnTo>
                  <a:lnTo>
                    <a:pt x="312" y="97"/>
                  </a:lnTo>
                  <a:lnTo>
                    <a:pt x="312" y="60"/>
                  </a:lnTo>
                  <a:close/>
                  <a:moveTo>
                    <a:pt x="619" y="446"/>
                  </a:moveTo>
                  <a:lnTo>
                    <a:pt x="747" y="446"/>
                  </a:lnTo>
                  <a:lnTo>
                    <a:pt x="747" y="454"/>
                  </a:lnTo>
                  <a:lnTo>
                    <a:pt x="619" y="454"/>
                  </a:lnTo>
                  <a:lnTo>
                    <a:pt x="619" y="446"/>
                  </a:lnTo>
                  <a:close/>
                  <a:moveTo>
                    <a:pt x="931" y="0"/>
                  </a:moveTo>
                  <a:lnTo>
                    <a:pt x="1055" y="0"/>
                  </a:lnTo>
                  <a:lnTo>
                    <a:pt x="1055" y="41"/>
                  </a:lnTo>
                  <a:lnTo>
                    <a:pt x="931" y="41"/>
                  </a:lnTo>
                  <a:lnTo>
                    <a:pt x="931" y="0"/>
                  </a:lnTo>
                  <a:close/>
                  <a:moveTo>
                    <a:pt x="1865" y="1295"/>
                  </a:moveTo>
                  <a:lnTo>
                    <a:pt x="1989" y="1295"/>
                  </a:lnTo>
                  <a:lnTo>
                    <a:pt x="1989" y="1302"/>
                  </a:lnTo>
                  <a:lnTo>
                    <a:pt x="1865" y="1302"/>
                  </a:lnTo>
                  <a:lnTo>
                    <a:pt x="1865" y="1295"/>
                  </a:lnTo>
                  <a:close/>
                  <a:moveTo>
                    <a:pt x="2176" y="1332"/>
                  </a:moveTo>
                  <a:lnTo>
                    <a:pt x="2300" y="1332"/>
                  </a:lnTo>
                  <a:lnTo>
                    <a:pt x="2300" y="1358"/>
                  </a:lnTo>
                  <a:lnTo>
                    <a:pt x="2176" y="1358"/>
                  </a:lnTo>
                  <a:lnTo>
                    <a:pt x="2176" y="1332"/>
                  </a:lnTo>
                  <a:close/>
                  <a:moveTo>
                    <a:pt x="2484" y="1276"/>
                  </a:moveTo>
                  <a:lnTo>
                    <a:pt x="2608" y="1276"/>
                  </a:lnTo>
                  <a:lnTo>
                    <a:pt x="2608" y="1283"/>
                  </a:lnTo>
                  <a:lnTo>
                    <a:pt x="2484" y="1283"/>
                  </a:lnTo>
                  <a:lnTo>
                    <a:pt x="2484" y="1276"/>
                  </a:lnTo>
                  <a:close/>
                  <a:moveTo>
                    <a:pt x="2796" y="1317"/>
                  </a:moveTo>
                  <a:lnTo>
                    <a:pt x="2919" y="1317"/>
                  </a:lnTo>
                  <a:lnTo>
                    <a:pt x="2919" y="1343"/>
                  </a:lnTo>
                  <a:lnTo>
                    <a:pt x="2796" y="1343"/>
                  </a:lnTo>
                  <a:lnTo>
                    <a:pt x="2796" y="1317"/>
                  </a:lnTo>
                  <a:close/>
                  <a:moveTo>
                    <a:pt x="3730" y="1343"/>
                  </a:moveTo>
                  <a:lnTo>
                    <a:pt x="3854" y="1343"/>
                  </a:lnTo>
                  <a:lnTo>
                    <a:pt x="3854" y="1347"/>
                  </a:lnTo>
                  <a:lnTo>
                    <a:pt x="3730" y="1347"/>
                  </a:lnTo>
                  <a:lnTo>
                    <a:pt x="3730" y="1343"/>
                  </a:lnTo>
                  <a:close/>
                  <a:moveTo>
                    <a:pt x="4038" y="871"/>
                  </a:moveTo>
                  <a:lnTo>
                    <a:pt x="4162" y="871"/>
                  </a:lnTo>
                  <a:lnTo>
                    <a:pt x="4162" y="886"/>
                  </a:lnTo>
                  <a:lnTo>
                    <a:pt x="4038" y="886"/>
                  </a:lnTo>
                  <a:lnTo>
                    <a:pt x="4038" y="871"/>
                  </a:lnTo>
                  <a:close/>
                  <a:moveTo>
                    <a:pt x="4349" y="1310"/>
                  </a:moveTo>
                  <a:lnTo>
                    <a:pt x="4473" y="1310"/>
                  </a:lnTo>
                  <a:lnTo>
                    <a:pt x="4473" y="1313"/>
                  </a:lnTo>
                  <a:lnTo>
                    <a:pt x="4349" y="1313"/>
                  </a:lnTo>
                  <a:lnTo>
                    <a:pt x="4349" y="1310"/>
                  </a:lnTo>
                  <a:close/>
                  <a:moveTo>
                    <a:pt x="4661" y="829"/>
                  </a:moveTo>
                  <a:lnTo>
                    <a:pt x="4784" y="829"/>
                  </a:lnTo>
                  <a:lnTo>
                    <a:pt x="4784" y="840"/>
                  </a:lnTo>
                  <a:lnTo>
                    <a:pt x="4661" y="840"/>
                  </a:lnTo>
                  <a:lnTo>
                    <a:pt x="4661" y="82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11"/>
            <p:cNvSpPr/>
            <p:nvPr/>
          </p:nvSpPr>
          <p:spPr>
            <a:xfrm>
              <a:off x="3348000" y="1093680"/>
              <a:ext cx="6120" cy="42814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2"/>
            <p:cNvSpPr/>
            <p:nvPr/>
          </p:nvSpPr>
          <p:spPr>
            <a:xfrm>
              <a:off x="3295800" y="1091880"/>
              <a:ext cx="55440" cy="4286160"/>
            </a:xfrm>
            <a:custGeom>
              <a:avLst/>
              <a:gdLst>
                <a:gd name="textAreaLeft" fmla="*/ 0 w 55440"/>
                <a:gd name="textAreaRight" fmla="*/ 55800 w 55440"/>
                <a:gd name="textAreaTop" fmla="*/ 0 h 4286160"/>
                <a:gd name="textAreaBottom" fmla="*/ 4286160 h 4286160"/>
              </a:gdLst>
              <a:ahLst/>
              <a:rect l="textAreaLeft" t="textAreaTop" r="textAreaRight" b="textAreaBottom"/>
              <a:pathLst>
                <a:path w="34" h="2623">
                  <a:moveTo>
                    <a:pt x="0" y="2619"/>
                  </a:moveTo>
                  <a:lnTo>
                    <a:pt x="34" y="2619"/>
                  </a:lnTo>
                  <a:lnTo>
                    <a:pt x="34" y="2623"/>
                  </a:lnTo>
                  <a:lnTo>
                    <a:pt x="0" y="2623"/>
                  </a:lnTo>
                  <a:lnTo>
                    <a:pt x="0" y="2619"/>
                  </a:lnTo>
                  <a:close/>
                  <a:moveTo>
                    <a:pt x="0" y="2184"/>
                  </a:moveTo>
                  <a:lnTo>
                    <a:pt x="34" y="2184"/>
                  </a:lnTo>
                  <a:lnTo>
                    <a:pt x="34" y="2187"/>
                  </a:lnTo>
                  <a:lnTo>
                    <a:pt x="0" y="2187"/>
                  </a:lnTo>
                  <a:lnTo>
                    <a:pt x="0" y="2184"/>
                  </a:lnTo>
                  <a:close/>
                  <a:moveTo>
                    <a:pt x="0" y="1748"/>
                  </a:moveTo>
                  <a:lnTo>
                    <a:pt x="34" y="1748"/>
                  </a:lnTo>
                  <a:lnTo>
                    <a:pt x="34" y="1752"/>
                  </a:lnTo>
                  <a:lnTo>
                    <a:pt x="0" y="1752"/>
                  </a:lnTo>
                  <a:lnTo>
                    <a:pt x="0" y="1748"/>
                  </a:lnTo>
                  <a:close/>
                  <a:moveTo>
                    <a:pt x="0" y="1309"/>
                  </a:moveTo>
                  <a:lnTo>
                    <a:pt x="34" y="1309"/>
                  </a:lnTo>
                  <a:lnTo>
                    <a:pt x="34" y="1313"/>
                  </a:lnTo>
                  <a:lnTo>
                    <a:pt x="0" y="1313"/>
                  </a:lnTo>
                  <a:lnTo>
                    <a:pt x="0" y="1309"/>
                  </a:lnTo>
                  <a:close/>
                  <a:moveTo>
                    <a:pt x="0" y="874"/>
                  </a:moveTo>
                  <a:lnTo>
                    <a:pt x="34" y="874"/>
                  </a:lnTo>
                  <a:lnTo>
                    <a:pt x="34" y="878"/>
                  </a:lnTo>
                  <a:lnTo>
                    <a:pt x="0" y="878"/>
                  </a:lnTo>
                  <a:lnTo>
                    <a:pt x="0" y="874"/>
                  </a:lnTo>
                  <a:close/>
                  <a:moveTo>
                    <a:pt x="0" y="435"/>
                  </a:moveTo>
                  <a:lnTo>
                    <a:pt x="34" y="435"/>
                  </a:lnTo>
                  <a:lnTo>
                    <a:pt x="34" y="439"/>
                  </a:lnTo>
                  <a:lnTo>
                    <a:pt x="0" y="439"/>
                  </a:lnTo>
                  <a:lnTo>
                    <a:pt x="0" y="435"/>
                  </a:lnTo>
                  <a:close/>
                  <a:moveTo>
                    <a:pt x="0" y="0"/>
                  </a:moveTo>
                  <a:lnTo>
                    <a:pt x="34" y="0"/>
                  </a:lnTo>
                  <a:lnTo>
                    <a:pt x="34"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3351600" y="5371920"/>
              <a:ext cx="8117640" cy="6120"/>
            </a:xfrm>
            <a:prstGeom prst="rect">
              <a:avLst/>
            </a:prstGeom>
            <a:solidFill>
              <a:srgbClr val="868686"/>
            </a:solidFill>
            <a:ln w="0">
              <a:solidFill>
                <a:srgbClr val="868686"/>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0" name="Freeform 14"/>
            <p:cNvSpPr/>
            <p:nvPr/>
          </p:nvSpPr>
          <p:spPr>
            <a:xfrm>
              <a:off x="3348000" y="5375160"/>
              <a:ext cx="8124480" cy="53640"/>
            </a:xfrm>
            <a:custGeom>
              <a:avLst/>
              <a:gdLst>
                <a:gd name="textAreaLeft" fmla="*/ 0 w 8124480"/>
                <a:gd name="textAreaRight" fmla="*/ 8124840 w 8124480"/>
                <a:gd name="textAreaTop" fmla="*/ 0 h 53640"/>
                <a:gd name="textAreaBottom" fmla="*/ 54000 h 53640"/>
              </a:gdLst>
              <a:ahLst/>
              <a:rect l="textAreaLeft" t="textAreaTop" r="textAreaRight" b="textAreaBottom"/>
              <a:pathLst>
                <a:path w="4972" h="33">
                  <a:moveTo>
                    <a:pt x="4" y="0"/>
                  </a:moveTo>
                  <a:lnTo>
                    <a:pt x="4" y="33"/>
                  </a:lnTo>
                  <a:lnTo>
                    <a:pt x="0" y="33"/>
                  </a:lnTo>
                  <a:lnTo>
                    <a:pt x="0" y="0"/>
                  </a:lnTo>
                  <a:lnTo>
                    <a:pt x="4" y="0"/>
                  </a:lnTo>
                  <a:close/>
                  <a:moveTo>
                    <a:pt x="312" y="0"/>
                  </a:moveTo>
                  <a:lnTo>
                    <a:pt x="312" y="33"/>
                  </a:lnTo>
                  <a:lnTo>
                    <a:pt x="308" y="33"/>
                  </a:lnTo>
                  <a:lnTo>
                    <a:pt x="308" y="0"/>
                  </a:lnTo>
                  <a:lnTo>
                    <a:pt x="312" y="0"/>
                  </a:lnTo>
                  <a:close/>
                  <a:moveTo>
                    <a:pt x="623" y="0"/>
                  </a:moveTo>
                  <a:lnTo>
                    <a:pt x="623" y="33"/>
                  </a:lnTo>
                  <a:lnTo>
                    <a:pt x="619" y="33"/>
                  </a:lnTo>
                  <a:lnTo>
                    <a:pt x="619" y="0"/>
                  </a:lnTo>
                  <a:lnTo>
                    <a:pt x="623" y="0"/>
                  </a:lnTo>
                  <a:close/>
                  <a:moveTo>
                    <a:pt x="935" y="0"/>
                  </a:moveTo>
                  <a:lnTo>
                    <a:pt x="935" y="33"/>
                  </a:lnTo>
                  <a:lnTo>
                    <a:pt x="931" y="33"/>
                  </a:lnTo>
                  <a:lnTo>
                    <a:pt x="931" y="0"/>
                  </a:lnTo>
                  <a:lnTo>
                    <a:pt x="935" y="0"/>
                  </a:lnTo>
                  <a:close/>
                  <a:moveTo>
                    <a:pt x="1246" y="0"/>
                  </a:moveTo>
                  <a:lnTo>
                    <a:pt x="1246" y="33"/>
                  </a:lnTo>
                  <a:lnTo>
                    <a:pt x="1242" y="33"/>
                  </a:lnTo>
                  <a:lnTo>
                    <a:pt x="1242" y="0"/>
                  </a:lnTo>
                  <a:lnTo>
                    <a:pt x="1246" y="0"/>
                  </a:lnTo>
                  <a:close/>
                  <a:moveTo>
                    <a:pt x="1558" y="0"/>
                  </a:moveTo>
                  <a:lnTo>
                    <a:pt x="1558" y="33"/>
                  </a:lnTo>
                  <a:lnTo>
                    <a:pt x="1554" y="33"/>
                  </a:lnTo>
                  <a:lnTo>
                    <a:pt x="1554" y="0"/>
                  </a:lnTo>
                  <a:lnTo>
                    <a:pt x="1558" y="0"/>
                  </a:lnTo>
                  <a:close/>
                  <a:moveTo>
                    <a:pt x="1865" y="0"/>
                  </a:moveTo>
                  <a:lnTo>
                    <a:pt x="1865" y="33"/>
                  </a:lnTo>
                  <a:lnTo>
                    <a:pt x="1861" y="33"/>
                  </a:lnTo>
                  <a:lnTo>
                    <a:pt x="1861" y="0"/>
                  </a:lnTo>
                  <a:lnTo>
                    <a:pt x="1865" y="0"/>
                  </a:lnTo>
                  <a:close/>
                  <a:moveTo>
                    <a:pt x="2177" y="0"/>
                  </a:moveTo>
                  <a:lnTo>
                    <a:pt x="2177" y="33"/>
                  </a:lnTo>
                  <a:lnTo>
                    <a:pt x="2173" y="33"/>
                  </a:lnTo>
                  <a:lnTo>
                    <a:pt x="2173" y="0"/>
                  </a:lnTo>
                  <a:lnTo>
                    <a:pt x="2177" y="0"/>
                  </a:lnTo>
                  <a:close/>
                  <a:moveTo>
                    <a:pt x="2488" y="0"/>
                  </a:moveTo>
                  <a:lnTo>
                    <a:pt x="2488" y="33"/>
                  </a:lnTo>
                  <a:lnTo>
                    <a:pt x="2484" y="33"/>
                  </a:lnTo>
                  <a:lnTo>
                    <a:pt x="2484" y="0"/>
                  </a:lnTo>
                  <a:lnTo>
                    <a:pt x="2488" y="0"/>
                  </a:lnTo>
                  <a:close/>
                  <a:moveTo>
                    <a:pt x="2800" y="0"/>
                  </a:moveTo>
                  <a:lnTo>
                    <a:pt x="2800" y="33"/>
                  </a:lnTo>
                  <a:lnTo>
                    <a:pt x="2796" y="33"/>
                  </a:lnTo>
                  <a:lnTo>
                    <a:pt x="2796" y="0"/>
                  </a:lnTo>
                  <a:lnTo>
                    <a:pt x="2800" y="0"/>
                  </a:lnTo>
                  <a:close/>
                  <a:moveTo>
                    <a:pt x="3111" y="0"/>
                  </a:moveTo>
                  <a:lnTo>
                    <a:pt x="3111" y="33"/>
                  </a:lnTo>
                  <a:lnTo>
                    <a:pt x="3107" y="33"/>
                  </a:lnTo>
                  <a:lnTo>
                    <a:pt x="3107" y="0"/>
                  </a:lnTo>
                  <a:lnTo>
                    <a:pt x="3111" y="0"/>
                  </a:lnTo>
                  <a:close/>
                  <a:moveTo>
                    <a:pt x="3419" y="0"/>
                  </a:moveTo>
                  <a:lnTo>
                    <a:pt x="3419" y="33"/>
                  </a:lnTo>
                  <a:lnTo>
                    <a:pt x="3415" y="33"/>
                  </a:lnTo>
                  <a:lnTo>
                    <a:pt x="3415" y="0"/>
                  </a:lnTo>
                  <a:lnTo>
                    <a:pt x="3419" y="0"/>
                  </a:lnTo>
                  <a:close/>
                  <a:moveTo>
                    <a:pt x="3730" y="0"/>
                  </a:moveTo>
                  <a:lnTo>
                    <a:pt x="3730" y="33"/>
                  </a:lnTo>
                  <a:lnTo>
                    <a:pt x="3726" y="33"/>
                  </a:lnTo>
                  <a:lnTo>
                    <a:pt x="3726" y="0"/>
                  </a:lnTo>
                  <a:lnTo>
                    <a:pt x="3730" y="0"/>
                  </a:lnTo>
                  <a:close/>
                  <a:moveTo>
                    <a:pt x="4042" y="0"/>
                  </a:moveTo>
                  <a:lnTo>
                    <a:pt x="4042" y="33"/>
                  </a:lnTo>
                  <a:lnTo>
                    <a:pt x="4038" y="33"/>
                  </a:lnTo>
                  <a:lnTo>
                    <a:pt x="4038" y="0"/>
                  </a:lnTo>
                  <a:lnTo>
                    <a:pt x="4042" y="0"/>
                  </a:lnTo>
                  <a:close/>
                  <a:moveTo>
                    <a:pt x="4353" y="0"/>
                  </a:moveTo>
                  <a:lnTo>
                    <a:pt x="4353" y="33"/>
                  </a:lnTo>
                  <a:lnTo>
                    <a:pt x="4349" y="33"/>
                  </a:lnTo>
                  <a:lnTo>
                    <a:pt x="4349" y="0"/>
                  </a:lnTo>
                  <a:lnTo>
                    <a:pt x="4353" y="0"/>
                  </a:lnTo>
                  <a:close/>
                  <a:moveTo>
                    <a:pt x="4665" y="0"/>
                  </a:moveTo>
                  <a:lnTo>
                    <a:pt x="4665" y="33"/>
                  </a:lnTo>
                  <a:lnTo>
                    <a:pt x="4661" y="33"/>
                  </a:lnTo>
                  <a:lnTo>
                    <a:pt x="4661" y="0"/>
                  </a:lnTo>
                  <a:lnTo>
                    <a:pt x="4665" y="0"/>
                  </a:lnTo>
                  <a:close/>
                  <a:moveTo>
                    <a:pt x="4972" y="0"/>
                  </a:moveTo>
                  <a:lnTo>
                    <a:pt x="4972" y="33"/>
                  </a:lnTo>
                  <a:lnTo>
                    <a:pt x="4968" y="33"/>
                  </a:lnTo>
                  <a:lnTo>
                    <a:pt x="4968" y="0"/>
                  </a:lnTo>
                  <a:lnTo>
                    <a:pt x="4972" y="0"/>
                  </a:lnTo>
                  <a:close/>
                </a:path>
              </a:pathLst>
            </a:custGeom>
            <a:solidFill>
              <a:srgbClr val="868686"/>
            </a:solidFill>
            <a:ln w="0">
              <a:solidFill>
                <a:srgbClr val="868686"/>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1" name="Rectangle 15"/>
            <p:cNvSpPr/>
            <p:nvPr/>
          </p:nvSpPr>
          <p:spPr>
            <a:xfrm>
              <a:off x="3155760" y="5265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332" name="Rectangle 16"/>
            <p:cNvSpPr/>
            <p:nvPr/>
          </p:nvSpPr>
          <p:spPr>
            <a:xfrm>
              <a:off x="3072960" y="4552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333" name="Rectangle 17"/>
            <p:cNvSpPr/>
            <p:nvPr/>
          </p:nvSpPr>
          <p:spPr>
            <a:xfrm>
              <a:off x="3072960" y="3838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334" name="Rectangle 18"/>
            <p:cNvSpPr/>
            <p:nvPr/>
          </p:nvSpPr>
          <p:spPr>
            <a:xfrm>
              <a:off x="3072960" y="3124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335" name="Rectangle 19"/>
            <p:cNvSpPr/>
            <p:nvPr/>
          </p:nvSpPr>
          <p:spPr>
            <a:xfrm>
              <a:off x="3072960" y="24105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336" name="Rectangle 20"/>
            <p:cNvSpPr/>
            <p:nvPr/>
          </p:nvSpPr>
          <p:spPr>
            <a:xfrm>
              <a:off x="3072960" y="16963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337" name="Rectangle 21"/>
            <p:cNvSpPr/>
            <p:nvPr/>
          </p:nvSpPr>
          <p:spPr>
            <a:xfrm>
              <a:off x="3072960" y="9824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338" name="Rectangle 22"/>
            <p:cNvSpPr/>
            <p:nvPr/>
          </p:nvSpPr>
          <p:spPr>
            <a:xfrm>
              <a:off x="3495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39" name="Rectangle 23"/>
            <p:cNvSpPr/>
            <p:nvPr/>
          </p:nvSpPr>
          <p:spPr>
            <a:xfrm>
              <a:off x="40042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0" name="Rectangle 24"/>
            <p:cNvSpPr/>
            <p:nvPr/>
          </p:nvSpPr>
          <p:spPr>
            <a:xfrm>
              <a:off x="4512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1" name="Rectangle 25"/>
            <p:cNvSpPr/>
            <p:nvPr/>
          </p:nvSpPr>
          <p:spPr>
            <a:xfrm>
              <a:off x="5019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2" name="Rectangle 26"/>
            <p:cNvSpPr/>
            <p:nvPr/>
          </p:nvSpPr>
          <p:spPr>
            <a:xfrm>
              <a:off x="65419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3" name="Rectangle 27"/>
            <p:cNvSpPr/>
            <p:nvPr/>
          </p:nvSpPr>
          <p:spPr>
            <a:xfrm>
              <a:off x="7050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4" name="Rectangle 28"/>
            <p:cNvSpPr/>
            <p:nvPr/>
          </p:nvSpPr>
          <p:spPr>
            <a:xfrm>
              <a:off x="755820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5" name="Rectangle 29"/>
            <p:cNvSpPr/>
            <p:nvPr/>
          </p:nvSpPr>
          <p:spPr>
            <a:xfrm>
              <a:off x="80665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6" name="Rectangle 30"/>
            <p:cNvSpPr/>
            <p:nvPr/>
          </p:nvSpPr>
          <p:spPr>
            <a:xfrm>
              <a:off x="95893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7" name="Rectangle 31"/>
            <p:cNvSpPr/>
            <p:nvPr/>
          </p:nvSpPr>
          <p:spPr>
            <a:xfrm>
              <a:off x="10095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8" name="Rectangle 32"/>
            <p:cNvSpPr/>
            <p:nvPr/>
          </p:nvSpPr>
          <p:spPr>
            <a:xfrm>
              <a:off x="10605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9" name="Rectangle 33"/>
            <p:cNvSpPr/>
            <p:nvPr/>
          </p:nvSpPr>
          <p:spPr>
            <a:xfrm>
              <a:off x="111124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50" name="Rectangle 39"/>
            <p:cNvSpPr/>
            <p:nvPr/>
          </p:nvSpPr>
          <p:spPr>
            <a:xfrm>
              <a:off x="5993640" y="1201320"/>
              <a:ext cx="110880" cy="109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40"/>
            <p:cNvSpPr/>
            <p:nvPr/>
          </p:nvSpPr>
          <p:spPr>
            <a:xfrm>
              <a:off x="6204240" y="1124640"/>
              <a:ext cx="35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a:t>
              </a:r>
              <a:endParaRPr b="0" lang="en-US" sz="1500" spc="-1" strike="noStrike">
                <a:solidFill>
                  <a:srgbClr val="000000"/>
                </a:solidFill>
                <a:latin typeface="Arial"/>
              </a:endParaRPr>
            </a:p>
          </p:txBody>
        </p:sp>
        <p:sp>
          <p:nvSpPr>
            <p:cNvPr id="352" name="Rectangle 41"/>
            <p:cNvSpPr/>
            <p:nvPr/>
          </p:nvSpPr>
          <p:spPr>
            <a:xfrm>
              <a:off x="5993640" y="1506960"/>
              <a:ext cx="110880" cy="11736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2"/>
            <p:cNvSpPr/>
            <p:nvPr/>
          </p:nvSpPr>
          <p:spPr>
            <a:xfrm>
              <a:off x="6161760" y="1435320"/>
              <a:ext cx="3052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
              </a:r>
              <a:r>
                <a:rPr b="0" lang="en-US" sz="1500" spc="-1" strike="noStrike" baseline="-25000">
                  <a:solidFill>
                    <a:srgbClr val="000000"/>
                  </a:solidFill>
                  <a:latin typeface="Calibri"/>
                </a:rPr>
                <a:t>2</a:t>
              </a:r>
              <a:r>
                <a:rPr b="0" lang="en-US" sz="1500" spc="-1" strike="noStrike">
                  <a:solidFill>
                    <a:srgbClr val="000000"/>
                  </a:solidFill>
                  <a:latin typeface="Calibri"/>
                </a:rPr>
                <a:t>O</a:t>
              </a:r>
              <a:endParaRPr b="0" lang="en-US" sz="1500" spc="-1" strike="noStrike">
                <a:solidFill>
                  <a:srgbClr val="000000"/>
                </a:solidFill>
                <a:latin typeface="Arial"/>
              </a:endParaRPr>
            </a:p>
          </p:txBody>
        </p:sp>
        <p:sp>
          <p:nvSpPr>
            <p:cNvPr id="354" name="Rectangle 43"/>
            <p:cNvSpPr/>
            <p:nvPr/>
          </p:nvSpPr>
          <p:spPr>
            <a:xfrm>
              <a:off x="5993640" y="1820520"/>
              <a:ext cx="110880" cy="11592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44"/>
            <p:cNvSpPr/>
            <p:nvPr/>
          </p:nvSpPr>
          <p:spPr>
            <a:xfrm>
              <a:off x="6162120" y="174708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356" name="Rectangle 45"/>
            <p:cNvSpPr/>
            <p:nvPr/>
          </p:nvSpPr>
          <p:spPr>
            <a:xfrm>
              <a:off x="5993640" y="2133000"/>
              <a:ext cx="110880" cy="11052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46"/>
            <p:cNvSpPr/>
            <p:nvPr/>
          </p:nvSpPr>
          <p:spPr>
            <a:xfrm>
              <a:off x="6161040" y="20577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sp>
          <p:nvSpPr>
            <p:cNvPr id="358" name="Rectangle 47"/>
            <p:cNvSpPr/>
            <p:nvPr/>
          </p:nvSpPr>
          <p:spPr>
            <a:xfrm>
              <a:off x="3684600" y="5759280"/>
              <a:ext cx="375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R</a:t>
              </a:r>
              <a:endParaRPr b="0" lang="en-US" sz="1800" spc="-1" strike="noStrike">
                <a:solidFill>
                  <a:srgbClr val="000000"/>
                </a:solidFill>
                <a:latin typeface="Arial"/>
              </a:endParaRPr>
            </a:p>
          </p:txBody>
        </p:sp>
        <p:sp>
          <p:nvSpPr>
            <p:cNvPr id="359" name="Rectangle 49"/>
            <p:cNvSpPr/>
            <p:nvPr/>
          </p:nvSpPr>
          <p:spPr>
            <a:xfrm>
              <a:off x="4697280" y="5747760"/>
              <a:ext cx="38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R4</a:t>
              </a:r>
              <a:endParaRPr b="0" lang="en-US" sz="1800" spc="-1" strike="noStrike">
                <a:solidFill>
                  <a:srgbClr val="000000"/>
                </a:solidFill>
                <a:latin typeface="Arial"/>
              </a:endParaRPr>
            </a:p>
          </p:txBody>
        </p:sp>
        <p:sp>
          <p:nvSpPr>
            <p:cNvPr id="360" name="Rectangle 70"/>
            <p:cNvSpPr/>
            <p:nvPr/>
          </p:nvSpPr>
          <p:spPr>
            <a:xfrm>
              <a:off x="345060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4%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61" name="Rectangle 72"/>
            <p:cNvSpPr/>
            <p:nvPr/>
          </p:nvSpPr>
          <p:spPr>
            <a:xfrm>
              <a:off x="447048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2%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362"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63"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64"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sp>
        <p:nvSpPr>
          <p:cNvPr id="365" name="Rectangle 192"/>
          <p:cNvSpPr/>
          <p:nvPr/>
        </p:nvSpPr>
        <p:spPr>
          <a:xfrm>
            <a:off x="5487840" y="2852640"/>
            <a:ext cx="6077160" cy="2808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0"/>
          <p:cNvSpPr/>
          <p:nvPr/>
        </p:nvSpPr>
        <p:spPr>
          <a:xfrm>
            <a:off x="900000" y="3011400"/>
            <a:ext cx="1909800" cy="860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 (GWP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grpSp>
        <p:nvGrpSpPr>
          <p:cNvPr id="368" name="Group 4"/>
          <p:cNvGrpSpPr/>
          <p:nvPr/>
        </p:nvGrpSpPr>
        <p:grpSpPr>
          <a:xfrm>
            <a:off x="662040" y="933480"/>
            <a:ext cx="8331840" cy="5383080"/>
            <a:chOff x="662040" y="933480"/>
            <a:chExt cx="8331840" cy="5383080"/>
          </a:xfrm>
        </p:grpSpPr>
        <p:sp>
          <p:nvSpPr>
            <p:cNvPr id="369" name="Freeform 7"/>
            <p:cNvSpPr/>
            <p:nvPr/>
          </p:nvSpPr>
          <p:spPr>
            <a:xfrm>
              <a:off x="1008000" y="2635200"/>
              <a:ext cx="7707240" cy="3005280"/>
            </a:xfrm>
            <a:custGeom>
              <a:avLst/>
              <a:gdLst>
                <a:gd name="textAreaLeft" fmla="*/ 0 w 7707240"/>
                <a:gd name="textAreaRight" fmla="*/ 7707600 w 7707240"/>
                <a:gd name="textAreaTop" fmla="*/ 0 h 3005280"/>
                <a:gd name="textAreaBottom" fmla="*/ 3005640 h 3005280"/>
              </a:gdLst>
              <a:ahLst/>
              <a:rect l="textAreaLeft" t="textAreaTop" r="textAreaRight" b="textAreaBottom"/>
              <a:pathLst>
                <a:path w="4855" h="1893">
                  <a:moveTo>
                    <a:pt x="0" y="1282"/>
                  </a:moveTo>
                  <a:lnTo>
                    <a:pt x="90" y="1282"/>
                  </a:lnTo>
                  <a:lnTo>
                    <a:pt x="90" y="1893"/>
                  </a:lnTo>
                  <a:lnTo>
                    <a:pt x="0" y="1893"/>
                  </a:lnTo>
                  <a:lnTo>
                    <a:pt x="0" y="1282"/>
                  </a:lnTo>
                  <a:close/>
                  <a:moveTo>
                    <a:pt x="224" y="0"/>
                  </a:moveTo>
                  <a:lnTo>
                    <a:pt x="318" y="0"/>
                  </a:lnTo>
                  <a:lnTo>
                    <a:pt x="318" y="1893"/>
                  </a:lnTo>
                  <a:lnTo>
                    <a:pt x="224" y="1893"/>
                  </a:lnTo>
                  <a:lnTo>
                    <a:pt x="224" y="0"/>
                  </a:lnTo>
                  <a:close/>
                  <a:moveTo>
                    <a:pt x="452" y="1282"/>
                  </a:moveTo>
                  <a:lnTo>
                    <a:pt x="542" y="1282"/>
                  </a:lnTo>
                  <a:lnTo>
                    <a:pt x="542" y="1893"/>
                  </a:lnTo>
                  <a:lnTo>
                    <a:pt x="452" y="1893"/>
                  </a:lnTo>
                  <a:lnTo>
                    <a:pt x="452" y="1282"/>
                  </a:lnTo>
                  <a:close/>
                  <a:moveTo>
                    <a:pt x="679" y="0"/>
                  </a:moveTo>
                  <a:lnTo>
                    <a:pt x="770" y="0"/>
                  </a:lnTo>
                  <a:lnTo>
                    <a:pt x="770" y="1893"/>
                  </a:lnTo>
                  <a:lnTo>
                    <a:pt x="679" y="1893"/>
                  </a:lnTo>
                  <a:lnTo>
                    <a:pt x="679" y="0"/>
                  </a:lnTo>
                  <a:close/>
                  <a:moveTo>
                    <a:pt x="1359" y="664"/>
                  </a:moveTo>
                  <a:lnTo>
                    <a:pt x="1453" y="664"/>
                  </a:lnTo>
                  <a:lnTo>
                    <a:pt x="1453" y="1893"/>
                  </a:lnTo>
                  <a:lnTo>
                    <a:pt x="1359" y="1893"/>
                  </a:lnTo>
                  <a:lnTo>
                    <a:pt x="1359" y="664"/>
                  </a:lnTo>
                  <a:close/>
                  <a:moveTo>
                    <a:pt x="1587" y="561"/>
                  </a:moveTo>
                  <a:lnTo>
                    <a:pt x="1677" y="561"/>
                  </a:lnTo>
                  <a:lnTo>
                    <a:pt x="1677" y="1893"/>
                  </a:lnTo>
                  <a:lnTo>
                    <a:pt x="1587" y="1893"/>
                  </a:lnTo>
                  <a:lnTo>
                    <a:pt x="1587" y="561"/>
                  </a:lnTo>
                  <a:close/>
                  <a:moveTo>
                    <a:pt x="1815" y="664"/>
                  </a:moveTo>
                  <a:lnTo>
                    <a:pt x="1905" y="664"/>
                  </a:lnTo>
                  <a:lnTo>
                    <a:pt x="1905" y="1893"/>
                  </a:lnTo>
                  <a:lnTo>
                    <a:pt x="1815" y="1893"/>
                  </a:lnTo>
                  <a:lnTo>
                    <a:pt x="1815" y="664"/>
                  </a:lnTo>
                  <a:close/>
                  <a:moveTo>
                    <a:pt x="2042" y="561"/>
                  </a:moveTo>
                  <a:lnTo>
                    <a:pt x="2133" y="561"/>
                  </a:lnTo>
                  <a:lnTo>
                    <a:pt x="2133" y="1893"/>
                  </a:lnTo>
                  <a:lnTo>
                    <a:pt x="2042" y="1893"/>
                  </a:lnTo>
                  <a:lnTo>
                    <a:pt x="2042" y="561"/>
                  </a:lnTo>
                  <a:close/>
                  <a:moveTo>
                    <a:pt x="2722" y="798"/>
                  </a:moveTo>
                  <a:lnTo>
                    <a:pt x="2813" y="798"/>
                  </a:lnTo>
                  <a:lnTo>
                    <a:pt x="2813" y="1893"/>
                  </a:lnTo>
                  <a:lnTo>
                    <a:pt x="2722" y="1893"/>
                  </a:lnTo>
                  <a:lnTo>
                    <a:pt x="2722" y="798"/>
                  </a:lnTo>
                  <a:close/>
                  <a:moveTo>
                    <a:pt x="2950" y="861"/>
                  </a:moveTo>
                  <a:lnTo>
                    <a:pt x="3040" y="861"/>
                  </a:lnTo>
                  <a:lnTo>
                    <a:pt x="3040" y="1893"/>
                  </a:lnTo>
                  <a:lnTo>
                    <a:pt x="2950" y="1893"/>
                  </a:lnTo>
                  <a:lnTo>
                    <a:pt x="2950" y="861"/>
                  </a:lnTo>
                  <a:close/>
                  <a:moveTo>
                    <a:pt x="3178" y="798"/>
                  </a:moveTo>
                  <a:lnTo>
                    <a:pt x="3268" y="798"/>
                  </a:lnTo>
                  <a:lnTo>
                    <a:pt x="3268" y="1893"/>
                  </a:lnTo>
                  <a:lnTo>
                    <a:pt x="3178" y="1893"/>
                  </a:lnTo>
                  <a:lnTo>
                    <a:pt x="3178" y="798"/>
                  </a:lnTo>
                  <a:close/>
                  <a:moveTo>
                    <a:pt x="3405" y="861"/>
                  </a:moveTo>
                  <a:lnTo>
                    <a:pt x="3496" y="861"/>
                  </a:lnTo>
                  <a:lnTo>
                    <a:pt x="3496" y="1893"/>
                  </a:lnTo>
                  <a:lnTo>
                    <a:pt x="3405" y="1893"/>
                  </a:lnTo>
                  <a:lnTo>
                    <a:pt x="3405" y="861"/>
                  </a:lnTo>
                  <a:close/>
                  <a:moveTo>
                    <a:pt x="4085" y="1622"/>
                  </a:moveTo>
                  <a:lnTo>
                    <a:pt x="4175" y="1622"/>
                  </a:lnTo>
                  <a:lnTo>
                    <a:pt x="4175" y="1893"/>
                  </a:lnTo>
                  <a:lnTo>
                    <a:pt x="4085" y="1893"/>
                  </a:lnTo>
                  <a:lnTo>
                    <a:pt x="4085" y="1622"/>
                  </a:lnTo>
                  <a:close/>
                  <a:moveTo>
                    <a:pt x="4313" y="1687"/>
                  </a:moveTo>
                  <a:lnTo>
                    <a:pt x="4403" y="1687"/>
                  </a:lnTo>
                  <a:lnTo>
                    <a:pt x="4403" y="1893"/>
                  </a:lnTo>
                  <a:lnTo>
                    <a:pt x="4313" y="1893"/>
                  </a:lnTo>
                  <a:lnTo>
                    <a:pt x="4313" y="1687"/>
                  </a:lnTo>
                  <a:close/>
                  <a:moveTo>
                    <a:pt x="4540" y="1622"/>
                  </a:moveTo>
                  <a:lnTo>
                    <a:pt x="4631" y="1622"/>
                  </a:lnTo>
                  <a:lnTo>
                    <a:pt x="4631" y="1893"/>
                  </a:lnTo>
                  <a:lnTo>
                    <a:pt x="4540" y="1893"/>
                  </a:lnTo>
                  <a:lnTo>
                    <a:pt x="4540" y="1622"/>
                  </a:lnTo>
                  <a:close/>
                  <a:moveTo>
                    <a:pt x="4765" y="1687"/>
                  </a:moveTo>
                  <a:lnTo>
                    <a:pt x="4855" y="1687"/>
                  </a:lnTo>
                  <a:lnTo>
                    <a:pt x="4855" y="1893"/>
                  </a:lnTo>
                  <a:lnTo>
                    <a:pt x="4765" y="1893"/>
                  </a:lnTo>
                  <a:lnTo>
                    <a:pt x="4765" y="1687"/>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
            <p:cNvSpPr/>
            <p:nvPr/>
          </p:nvSpPr>
          <p:spPr>
            <a:xfrm>
              <a:off x="1008000" y="1932120"/>
              <a:ext cx="7707240" cy="3381480"/>
            </a:xfrm>
            <a:custGeom>
              <a:avLst/>
              <a:gdLst>
                <a:gd name="textAreaLeft" fmla="*/ 0 w 7707240"/>
                <a:gd name="textAreaRight" fmla="*/ 7707600 w 7707240"/>
                <a:gd name="textAreaTop" fmla="*/ 0 h 3381480"/>
                <a:gd name="textAreaBottom" fmla="*/ 3381840 h 3381480"/>
              </a:gdLst>
              <a:ahLst/>
              <a:rect l="textAreaLeft" t="textAreaTop" r="textAreaRight" b="textAreaBottom"/>
              <a:pathLst>
                <a:path w="4855" h="2130">
                  <a:moveTo>
                    <a:pt x="0" y="1478"/>
                  </a:moveTo>
                  <a:lnTo>
                    <a:pt x="90" y="1478"/>
                  </a:lnTo>
                  <a:lnTo>
                    <a:pt x="90" y="1725"/>
                  </a:lnTo>
                  <a:lnTo>
                    <a:pt x="0" y="1725"/>
                  </a:lnTo>
                  <a:lnTo>
                    <a:pt x="0" y="1478"/>
                  </a:lnTo>
                  <a:close/>
                  <a:moveTo>
                    <a:pt x="224" y="72"/>
                  </a:moveTo>
                  <a:lnTo>
                    <a:pt x="318" y="72"/>
                  </a:lnTo>
                  <a:lnTo>
                    <a:pt x="318" y="443"/>
                  </a:lnTo>
                  <a:lnTo>
                    <a:pt x="224" y="443"/>
                  </a:lnTo>
                  <a:lnTo>
                    <a:pt x="224" y="72"/>
                  </a:lnTo>
                  <a:close/>
                  <a:moveTo>
                    <a:pt x="452" y="1432"/>
                  </a:moveTo>
                  <a:lnTo>
                    <a:pt x="542" y="1432"/>
                  </a:lnTo>
                  <a:lnTo>
                    <a:pt x="542" y="1725"/>
                  </a:lnTo>
                  <a:lnTo>
                    <a:pt x="452" y="1725"/>
                  </a:lnTo>
                  <a:lnTo>
                    <a:pt x="452" y="1432"/>
                  </a:lnTo>
                  <a:close/>
                  <a:moveTo>
                    <a:pt x="679" y="0"/>
                  </a:moveTo>
                  <a:lnTo>
                    <a:pt x="770" y="0"/>
                  </a:lnTo>
                  <a:lnTo>
                    <a:pt x="770" y="443"/>
                  </a:lnTo>
                  <a:lnTo>
                    <a:pt x="679" y="443"/>
                  </a:lnTo>
                  <a:lnTo>
                    <a:pt x="679" y="0"/>
                  </a:lnTo>
                  <a:close/>
                  <a:moveTo>
                    <a:pt x="1359" y="951"/>
                  </a:moveTo>
                  <a:lnTo>
                    <a:pt x="1453" y="951"/>
                  </a:lnTo>
                  <a:lnTo>
                    <a:pt x="1453" y="1107"/>
                  </a:lnTo>
                  <a:lnTo>
                    <a:pt x="1359" y="1107"/>
                  </a:lnTo>
                  <a:lnTo>
                    <a:pt x="1359" y="951"/>
                  </a:lnTo>
                  <a:close/>
                  <a:moveTo>
                    <a:pt x="1587" y="870"/>
                  </a:moveTo>
                  <a:lnTo>
                    <a:pt x="1677" y="870"/>
                  </a:lnTo>
                  <a:lnTo>
                    <a:pt x="1677" y="1004"/>
                  </a:lnTo>
                  <a:lnTo>
                    <a:pt x="1587" y="1004"/>
                  </a:lnTo>
                  <a:lnTo>
                    <a:pt x="1587" y="870"/>
                  </a:lnTo>
                  <a:close/>
                  <a:moveTo>
                    <a:pt x="1815" y="923"/>
                  </a:moveTo>
                  <a:lnTo>
                    <a:pt x="1905" y="923"/>
                  </a:lnTo>
                  <a:lnTo>
                    <a:pt x="1905" y="1107"/>
                  </a:lnTo>
                  <a:lnTo>
                    <a:pt x="1815" y="1107"/>
                  </a:lnTo>
                  <a:lnTo>
                    <a:pt x="1815" y="923"/>
                  </a:lnTo>
                  <a:close/>
                  <a:moveTo>
                    <a:pt x="2042" y="845"/>
                  </a:moveTo>
                  <a:lnTo>
                    <a:pt x="2133" y="845"/>
                  </a:lnTo>
                  <a:lnTo>
                    <a:pt x="2133" y="1004"/>
                  </a:lnTo>
                  <a:lnTo>
                    <a:pt x="2042" y="1004"/>
                  </a:lnTo>
                  <a:lnTo>
                    <a:pt x="2042" y="845"/>
                  </a:lnTo>
                  <a:close/>
                  <a:moveTo>
                    <a:pt x="2722" y="1067"/>
                  </a:moveTo>
                  <a:lnTo>
                    <a:pt x="2813" y="1067"/>
                  </a:lnTo>
                  <a:lnTo>
                    <a:pt x="2813" y="1241"/>
                  </a:lnTo>
                  <a:lnTo>
                    <a:pt x="2722" y="1241"/>
                  </a:lnTo>
                  <a:lnTo>
                    <a:pt x="2722" y="1067"/>
                  </a:lnTo>
                  <a:close/>
                  <a:moveTo>
                    <a:pt x="2950" y="1176"/>
                  </a:moveTo>
                  <a:lnTo>
                    <a:pt x="3040" y="1176"/>
                  </a:lnTo>
                  <a:lnTo>
                    <a:pt x="3040" y="1304"/>
                  </a:lnTo>
                  <a:lnTo>
                    <a:pt x="2950" y="1304"/>
                  </a:lnTo>
                  <a:lnTo>
                    <a:pt x="2950" y="1176"/>
                  </a:lnTo>
                  <a:close/>
                  <a:moveTo>
                    <a:pt x="3178" y="1036"/>
                  </a:moveTo>
                  <a:lnTo>
                    <a:pt x="3268" y="1036"/>
                  </a:lnTo>
                  <a:lnTo>
                    <a:pt x="3268" y="1241"/>
                  </a:lnTo>
                  <a:lnTo>
                    <a:pt x="3178" y="1241"/>
                  </a:lnTo>
                  <a:lnTo>
                    <a:pt x="3178" y="1036"/>
                  </a:lnTo>
                  <a:close/>
                  <a:moveTo>
                    <a:pt x="3405" y="1154"/>
                  </a:moveTo>
                  <a:lnTo>
                    <a:pt x="3496" y="1154"/>
                  </a:lnTo>
                  <a:lnTo>
                    <a:pt x="3496" y="1304"/>
                  </a:lnTo>
                  <a:lnTo>
                    <a:pt x="3405" y="1304"/>
                  </a:lnTo>
                  <a:lnTo>
                    <a:pt x="3405" y="1154"/>
                  </a:lnTo>
                  <a:close/>
                  <a:moveTo>
                    <a:pt x="4085" y="1987"/>
                  </a:moveTo>
                  <a:lnTo>
                    <a:pt x="4175" y="1987"/>
                  </a:lnTo>
                  <a:lnTo>
                    <a:pt x="4175" y="2065"/>
                  </a:lnTo>
                  <a:lnTo>
                    <a:pt x="4085" y="2065"/>
                  </a:lnTo>
                  <a:lnTo>
                    <a:pt x="4085" y="1987"/>
                  </a:lnTo>
                  <a:close/>
                  <a:moveTo>
                    <a:pt x="4313" y="2027"/>
                  </a:moveTo>
                  <a:lnTo>
                    <a:pt x="4403" y="2027"/>
                  </a:lnTo>
                  <a:lnTo>
                    <a:pt x="4403" y="2130"/>
                  </a:lnTo>
                  <a:lnTo>
                    <a:pt x="4313" y="2130"/>
                  </a:lnTo>
                  <a:lnTo>
                    <a:pt x="4313" y="2027"/>
                  </a:lnTo>
                  <a:close/>
                  <a:moveTo>
                    <a:pt x="4540" y="1974"/>
                  </a:moveTo>
                  <a:lnTo>
                    <a:pt x="4631" y="1974"/>
                  </a:lnTo>
                  <a:lnTo>
                    <a:pt x="4631" y="2065"/>
                  </a:lnTo>
                  <a:lnTo>
                    <a:pt x="4540" y="2065"/>
                  </a:lnTo>
                  <a:lnTo>
                    <a:pt x="4540" y="1974"/>
                  </a:lnTo>
                  <a:close/>
                  <a:moveTo>
                    <a:pt x="4765" y="2008"/>
                  </a:moveTo>
                  <a:lnTo>
                    <a:pt x="4855" y="2008"/>
                  </a:lnTo>
                  <a:lnTo>
                    <a:pt x="4855" y="2130"/>
                  </a:lnTo>
                  <a:lnTo>
                    <a:pt x="4765" y="2130"/>
                  </a:lnTo>
                  <a:lnTo>
                    <a:pt x="4765" y="200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9"/>
            <p:cNvSpPr/>
            <p:nvPr/>
          </p:nvSpPr>
          <p:spPr>
            <a:xfrm>
              <a:off x="1008000" y="1730520"/>
              <a:ext cx="7707240" cy="3419280"/>
            </a:xfrm>
            <a:custGeom>
              <a:avLst/>
              <a:gdLst>
                <a:gd name="textAreaLeft" fmla="*/ 0 w 7707240"/>
                <a:gd name="textAreaRight" fmla="*/ 7707600 w 7707240"/>
                <a:gd name="textAreaTop" fmla="*/ 0 h 3419280"/>
                <a:gd name="textAreaBottom" fmla="*/ 3419640 h 3419280"/>
              </a:gdLst>
              <a:ahLst/>
              <a:rect l="textAreaLeft" t="textAreaTop" r="textAreaRight" b="textAreaBottom"/>
              <a:pathLst>
                <a:path w="4855" h="2154">
                  <a:moveTo>
                    <a:pt x="0" y="1524"/>
                  </a:moveTo>
                  <a:lnTo>
                    <a:pt x="90" y="1524"/>
                  </a:lnTo>
                  <a:lnTo>
                    <a:pt x="90" y="1605"/>
                  </a:lnTo>
                  <a:lnTo>
                    <a:pt x="0" y="1605"/>
                  </a:lnTo>
                  <a:lnTo>
                    <a:pt x="0" y="1524"/>
                  </a:lnTo>
                  <a:close/>
                  <a:moveTo>
                    <a:pt x="224" y="65"/>
                  </a:moveTo>
                  <a:lnTo>
                    <a:pt x="318" y="65"/>
                  </a:lnTo>
                  <a:lnTo>
                    <a:pt x="318" y="199"/>
                  </a:lnTo>
                  <a:lnTo>
                    <a:pt x="224" y="199"/>
                  </a:lnTo>
                  <a:lnTo>
                    <a:pt x="224" y="65"/>
                  </a:lnTo>
                  <a:close/>
                  <a:moveTo>
                    <a:pt x="452" y="1481"/>
                  </a:moveTo>
                  <a:lnTo>
                    <a:pt x="542" y="1481"/>
                  </a:lnTo>
                  <a:lnTo>
                    <a:pt x="542" y="1559"/>
                  </a:lnTo>
                  <a:lnTo>
                    <a:pt x="452" y="1559"/>
                  </a:lnTo>
                  <a:lnTo>
                    <a:pt x="452" y="1481"/>
                  </a:lnTo>
                  <a:close/>
                  <a:moveTo>
                    <a:pt x="679" y="0"/>
                  </a:moveTo>
                  <a:lnTo>
                    <a:pt x="770" y="0"/>
                  </a:lnTo>
                  <a:lnTo>
                    <a:pt x="770" y="127"/>
                  </a:lnTo>
                  <a:lnTo>
                    <a:pt x="679" y="127"/>
                  </a:lnTo>
                  <a:lnTo>
                    <a:pt x="679" y="0"/>
                  </a:lnTo>
                  <a:close/>
                  <a:moveTo>
                    <a:pt x="1359" y="997"/>
                  </a:moveTo>
                  <a:lnTo>
                    <a:pt x="1453" y="997"/>
                  </a:lnTo>
                  <a:lnTo>
                    <a:pt x="1453" y="1078"/>
                  </a:lnTo>
                  <a:lnTo>
                    <a:pt x="1359" y="1078"/>
                  </a:lnTo>
                  <a:lnTo>
                    <a:pt x="1359" y="997"/>
                  </a:lnTo>
                  <a:close/>
                  <a:moveTo>
                    <a:pt x="1587" y="919"/>
                  </a:moveTo>
                  <a:lnTo>
                    <a:pt x="1677" y="919"/>
                  </a:lnTo>
                  <a:lnTo>
                    <a:pt x="1677" y="997"/>
                  </a:lnTo>
                  <a:lnTo>
                    <a:pt x="1587" y="997"/>
                  </a:lnTo>
                  <a:lnTo>
                    <a:pt x="1587" y="919"/>
                  </a:lnTo>
                  <a:close/>
                  <a:moveTo>
                    <a:pt x="1815" y="972"/>
                  </a:moveTo>
                  <a:lnTo>
                    <a:pt x="1905" y="972"/>
                  </a:lnTo>
                  <a:lnTo>
                    <a:pt x="1905" y="1050"/>
                  </a:lnTo>
                  <a:lnTo>
                    <a:pt x="1815" y="1050"/>
                  </a:lnTo>
                  <a:lnTo>
                    <a:pt x="1815" y="972"/>
                  </a:lnTo>
                  <a:close/>
                  <a:moveTo>
                    <a:pt x="2042" y="898"/>
                  </a:moveTo>
                  <a:lnTo>
                    <a:pt x="2133" y="898"/>
                  </a:lnTo>
                  <a:lnTo>
                    <a:pt x="2133" y="972"/>
                  </a:lnTo>
                  <a:lnTo>
                    <a:pt x="2042" y="972"/>
                  </a:lnTo>
                  <a:lnTo>
                    <a:pt x="2042" y="898"/>
                  </a:lnTo>
                  <a:close/>
                  <a:moveTo>
                    <a:pt x="2722" y="1088"/>
                  </a:moveTo>
                  <a:lnTo>
                    <a:pt x="2813" y="1088"/>
                  </a:lnTo>
                  <a:lnTo>
                    <a:pt x="2813" y="1194"/>
                  </a:lnTo>
                  <a:lnTo>
                    <a:pt x="2722" y="1194"/>
                  </a:lnTo>
                  <a:lnTo>
                    <a:pt x="2722" y="1088"/>
                  </a:lnTo>
                  <a:close/>
                  <a:moveTo>
                    <a:pt x="2950" y="1219"/>
                  </a:moveTo>
                  <a:lnTo>
                    <a:pt x="3040" y="1219"/>
                  </a:lnTo>
                  <a:lnTo>
                    <a:pt x="3040" y="1303"/>
                  </a:lnTo>
                  <a:lnTo>
                    <a:pt x="2950" y="1303"/>
                  </a:lnTo>
                  <a:lnTo>
                    <a:pt x="2950" y="1219"/>
                  </a:lnTo>
                  <a:close/>
                  <a:moveTo>
                    <a:pt x="3178" y="1060"/>
                  </a:moveTo>
                  <a:lnTo>
                    <a:pt x="3268" y="1060"/>
                  </a:lnTo>
                  <a:lnTo>
                    <a:pt x="3268" y="1163"/>
                  </a:lnTo>
                  <a:lnTo>
                    <a:pt x="3178" y="1163"/>
                  </a:lnTo>
                  <a:lnTo>
                    <a:pt x="3178" y="1060"/>
                  </a:lnTo>
                  <a:close/>
                  <a:moveTo>
                    <a:pt x="3405" y="1197"/>
                  </a:moveTo>
                  <a:lnTo>
                    <a:pt x="3496" y="1197"/>
                  </a:lnTo>
                  <a:lnTo>
                    <a:pt x="3496" y="1281"/>
                  </a:lnTo>
                  <a:lnTo>
                    <a:pt x="3405" y="1281"/>
                  </a:lnTo>
                  <a:lnTo>
                    <a:pt x="3405" y="1197"/>
                  </a:lnTo>
                  <a:close/>
                  <a:moveTo>
                    <a:pt x="4085" y="2076"/>
                  </a:moveTo>
                  <a:lnTo>
                    <a:pt x="4175" y="2076"/>
                  </a:lnTo>
                  <a:lnTo>
                    <a:pt x="4175" y="2114"/>
                  </a:lnTo>
                  <a:lnTo>
                    <a:pt x="4085" y="2114"/>
                  </a:lnTo>
                  <a:lnTo>
                    <a:pt x="4085" y="2076"/>
                  </a:lnTo>
                  <a:close/>
                  <a:moveTo>
                    <a:pt x="4313" y="2107"/>
                  </a:moveTo>
                  <a:lnTo>
                    <a:pt x="4403" y="2107"/>
                  </a:lnTo>
                  <a:lnTo>
                    <a:pt x="4403" y="2154"/>
                  </a:lnTo>
                  <a:lnTo>
                    <a:pt x="4313" y="2154"/>
                  </a:lnTo>
                  <a:lnTo>
                    <a:pt x="4313" y="2107"/>
                  </a:lnTo>
                  <a:close/>
                  <a:moveTo>
                    <a:pt x="4540" y="2064"/>
                  </a:moveTo>
                  <a:lnTo>
                    <a:pt x="4631" y="2064"/>
                  </a:lnTo>
                  <a:lnTo>
                    <a:pt x="4631" y="2101"/>
                  </a:lnTo>
                  <a:lnTo>
                    <a:pt x="4540" y="2101"/>
                  </a:lnTo>
                  <a:lnTo>
                    <a:pt x="4540" y="2064"/>
                  </a:lnTo>
                  <a:close/>
                  <a:moveTo>
                    <a:pt x="4765" y="2092"/>
                  </a:moveTo>
                  <a:lnTo>
                    <a:pt x="4855" y="2092"/>
                  </a:lnTo>
                  <a:lnTo>
                    <a:pt x="4855" y="2135"/>
                  </a:lnTo>
                  <a:lnTo>
                    <a:pt x="4765" y="2135"/>
                  </a:lnTo>
                  <a:lnTo>
                    <a:pt x="4765" y="209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
            <p:cNvSpPr/>
            <p:nvPr/>
          </p:nvSpPr>
          <p:spPr>
            <a:xfrm>
              <a:off x="1008000" y="1650960"/>
              <a:ext cx="7707240" cy="3424320"/>
            </a:xfrm>
            <a:custGeom>
              <a:avLst/>
              <a:gdLst>
                <a:gd name="textAreaLeft" fmla="*/ 0 w 7707240"/>
                <a:gd name="textAreaRight" fmla="*/ 7707600 w 7707240"/>
                <a:gd name="textAreaTop" fmla="*/ 0 h 3424320"/>
                <a:gd name="textAreaBottom" fmla="*/ 3424680 h 3424320"/>
              </a:gdLst>
              <a:ahLst/>
              <a:rect l="textAreaLeft" t="textAreaTop" r="textAreaRight" b="textAreaBottom"/>
              <a:pathLst>
                <a:path w="4855" h="2157">
                  <a:moveTo>
                    <a:pt x="0" y="1571"/>
                  </a:moveTo>
                  <a:lnTo>
                    <a:pt x="90" y="1571"/>
                  </a:lnTo>
                  <a:lnTo>
                    <a:pt x="90" y="1574"/>
                  </a:lnTo>
                  <a:lnTo>
                    <a:pt x="0" y="1574"/>
                  </a:lnTo>
                  <a:lnTo>
                    <a:pt x="0" y="1571"/>
                  </a:lnTo>
                  <a:close/>
                  <a:moveTo>
                    <a:pt x="224" y="65"/>
                  </a:moveTo>
                  <a:lnTo>
                    <a:pt x="318" y="65"/>
                  </a:lnTo>
                  <a:lnTo>
                    <a:pt x="318" y="115"/>
                  </a:lnTo>
                  <a:lnTo>
                    <a:pt x="224" y="115"/>
                  </a:lnTo>
                  <a:lnTo>
                    <a:pt x="224" y="65"/>
                  </a:lnTo>
                  <a:close/>
                  <a:moveTo>
                    <a:pt x="452" y="1528"/>
                  </a:moveTo>
                  <a:lnTo>
                    <a:pt x="542" y="1528"/>
                  </a:lnTo>
                  <a:lnTo>
                    <a:pt x="542" y="1531"/>
                  </a:lnTo>
                  <a:lnTo>
                    <a:pt x="452" y="1531"/>
                  </a:lnTo>
                  <a:lnTo>
                    <a:pt x="452" y="1528"/>
                  </a:lnTo>
                  <a:close/>
                  <a:moveTo>
                    <a:pt x="679" y="0"/>
                  </a:moveTo>
                  <a:lnTo>
                    <a:pt x="770" y="0"/>
                  </a:lnTo>
                  <a:lnTo>
                    <a:pt x="770" y="50"/>
                  </a:lnTo>
                  <a:lnTo>
                    <a:pt x="679" y="50"/>
                  </a:lnTo>
                  <a:lnTo>
                    <a:pt x="679" y="0"/>
                  </a:lnTo>
                  <a:close/>
                  <a:moveTo>
                    <a:pt x="1359" y="1025"/>
                  </a:moveTo>
                  <a:lnTo>
                    <a:pt x="1453" y="1025"/>
                  </a:lnTo>
                  <a:lnTo>
                    <a:pt x="1453" y="1047"/>
                  </a:lnTo>
                  <a:lnTo>
                    <a:pt x="1359" y="1047"/>
                  </a:lnTo>
                  <a:lnTo>
                    <a:pt x="1359" y="1025"/>
                  </a:lnTo>
                  <a:close/>
                  <a:moveTo>
                    <a:pt x="1587" y="901"/>
                  </a:moveTo>
                  <a:lnTo>
                    <a:pt x="1677" y="901"/>
                  </a:lnTo>
                  <a:lnTo>
                    <a:pt x="1677" y="969"/>
                  </a:lnTo>
                  <a:lnTo>
                    <a:pt x="1587" y="969"/>
                  </a:lnTo>
                  <a:lnTo>
                    <a:pt x="1587" y="901"/>
                  </a:lnTo>
                  <a:close/>
                  <a:moveTo>
                    <a:pt x="1815" y="1007"/>
                  </a:moveTo>
                  <a:lnTo>
                    <a:pt x="1905" y="1007"/>
                  </a:lnTo>
                  <a:lnTo>
                    <a:pt x="1905" y="1022"/>
                  </a:lnTo>
                  <a:lnTo>
                    <a:pt x="1815" y="1022"/>
                  </a:lnTo>
                  <a:lnTo>
                    <a:pt x="1815" y="1007"/>
                  </a:lnTo>
                  <a:close/>
                  <a:moveTo>
                    <a:pt x="2042" y="879"/>
                  </a:moveTo>
                  <a:lnTo>
                    <a:pt x="2133" y="879"/>
                  </a:lnTo>
                  <a:lnTo>
                    <a:pt x="2133" y="948"/>
                  </a:lnTo>
                  <a:lnTo>
                    <a:pt x="2042" y="948"/>
                  </a:lnTo>
                  <a:lnTo>
                    <a:pt x="2042" y="879"/>
                  </a:lnTo>
                  <a:close/>
                  <a:moveTo>
                    <a:pt x="2722" y="1125"/>
                  </a:moveTo>
                  <a:lnTo>
                    <a:pt x="2813" y="1125"/>
                  </a:lnTo>
                  <a:lnTo>
                    <a:pt x="2813" y="1138"/>
                  </a:lnTo>
                  <a:lnTo>
                    <a:pt x="2722" y="1138"/>
                  </a:lnTo>
                  <a:lnTo>
                    <a:pt x="2722" y="1125"/>
                  </a:lnTo>
                  <a:close/>
                  <a:moveTo>
                    <a:pt x="2950" y="1241"/>
                  </a:moveTo>
                  <a:lnTo>
                    <a:pt x="3040" y="1241"/>
                  </a:lnTo>
                  <a:lnTo>
                    <a:pt x="3040" y="1269"/>
                  </a:lnTo>
                  <a:lnTo>
                    <a:pt x="2950" y="1269"/>
                  </a:lnTo>
                  <a:lnTo>
                    <a:pt x="2950" y="1241"/>
                  </a:lnTo>
                  <a:close/>
                  <a:moveTo>
                    <a:pt x="3178" y="1097"/>
                  </a:moveTo>
                  <a:lnTo>
                    <a:pt x="3268" y="1097"/>
                  </a:lnTo>
                  <a:lnTo>
                    <a:pt x="3268" y="1110"/>
                  </a:lnTo>
                  <a:lnTo>
                    <a:pt x="3178" y="1110"/>
                  </a:lnTo>
                  <a:lnTo>
                    <a:pt x="3178" y="1097"/>
                  </a:lnTo>
                  <a:close/>
                  <a:moveTo>
                    <a:pt x="3405" y="1219"/>
                  </a:moveTo>
                  <a:lnTo>
                    <a:pt x="3496" y="1219"/>
                  </a:lnTo>
                  <a:lnTo>
                    <a:pt x="3496" y="1247"/>
                  </a:lnTo>
                  <a:lnTo>
                    <a:pt x="3405" y="1247"/>
                  </a:lnTo>
                  <a:lnTo>
                    <a:pt x="3405" y="1219"/>
                  </a:lnTo>
                  <a:close/>
                  <a:moveTo>
                    <a:pt x="4085" y="2123"/>
                  </a:moveTo>
                  <a:lnTo>
                    <a:pt x="4175" y="2123"/>
                  </a:lnTo>
                  <a:lnTo>
                    <a:pt x="4175" y="2126"/>
                  </a:lnTo>
                  <a:lnTo>
                    <a:pt x="4085" y="2126"/>
                  </a:lnTo>
                  <a:lnTo>
                    <a:pt x="4085" y="2123"/>
                  </a:lnTo>
                  <a:close/>
                  <a:moveTo>
                    <a:pt x="4313" y="2154"/>
                  </a:moveTo>
                  <a:lnTo>
                    <a:pt x="4403" y="2154"/>
                  </a:lnTo>
                  <a:lnTo>
                    <a:pt x="4403" y="2157"/>
                  </a:lnTo>
                  <a:lnTo>
                    <a:pt x="4313" y="2157"/>
                  </a:lnTo>
                  <a:lnTo>
                    <a:pt x="4313" y="2154"/>
                  </a:lnTo>
                  <a:close/>
                  <a:moveTo>
                    <a:pt x="4540" y="2111"/>
                  </a:moveTo>
                  <a:lnTo>
                    <a:pt x="4631" y="2111"/>
                  </a:lnTo>
                  <a:lnTo>
                    <a:pt x="4631" y="2114"/>
                  </a:lnTo>
                  <a:lnTo>
                    <a:pt x="4540" y="2114"/>
                  </a:lnTo>
                  <a:lnTo>
                    <a:pt x="4540" y="2111"/>
                  </a:lnTo>
                  <a:close/>
                  <a:moveTo>
                    <a:pt x="4765" y="2139"/>
                  </a:moveTo>
                  <a:lnTo>
                    <a:pt x="4855" y="2139"/>
                  </a:lnTo>
                  <a:lnTo>
                    <a:pt x="4855" y="2142"/>
                  </a:lnTo>
                  <a:lnTo>
                    <a:pt x="4765" y="2142"/>
                  </a:lnTo>
                  <a:lnTo>
                    <a:pt x="4765" y="213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Rectangle 11"/>
            <p:cNvSpPr/>
            <p:nvPr/>
          </p:nvSpPr>
          <p:spPr>
            <a:xfrm>
              <a:off x="893880" y="1023840"/>
              <a:ext cx="4680" cy="46180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2"/>
            <p:cNvSpPr/>
            <p:nvPr/>
          </p:nvSpPr>
          <p:spPr>
            <a:xfrm>
              <a:off x="851040" y="1022400"/>
              <a:ext cx="44280" cy="4622760"/>
            </a:xfrm>
            <a:custGeom>
              <a:avLst/>
              <a:gdLst>
                <a:gd name="textAreaLeft" fmla="*/ 0 w 44280"/>
                <a:gd name="textAreaRight" fmla="*/ 44640 w 44280"/>
                <a:gd name="textAreaTop" fmla="*/ 0 h 4622760"/>
                <a:gd name="textAreaBottom" fmla="*/ 4623120 h 4622760"/>
              </a:gdLst>
              <a:ahLst/>
              <a:rect l="textAreaLeft" t="textAreaTop" r="textAreaRight" b="textAreaBottom"/>
              <a:pathLst>
                <a:path w="28" h="2912">
                  <a:moveTo>
                    <a:pt x="0" y="2909"/>
                  </a:moveTo>
                  <a:lnTo>
                    <a:pt x="28" y="2909"/>
                  </a:lnTo>
                  <a:lnTo>
                    <a:pt x="28" y="2912"/>
                  </a:lnTo>
                  <a:lnTo>
                    <a:pt x="0" y="2912"/>
                  </a:lnTo>
                  <a:lnTo>
                    <a:pt x="0" y="2909"/>
                  </a:lnTo>
                  <a:close/>
                  <a:moveTo>
                    <a:pt x="0" y="2422"/>
                  </a:moveTo>
                  <a:lnTo>
                    <a:pt x="28" y="2422"/>
                  </a:lnTo>
                  <a:lnTo>
                    <a:pt x="28" y="2426"/>
                  </a:lnTo>
                  <a:lnTo>
                    <a:pt x="0" y="2426"/>
                  </a:lnTo>
                  <a:lnTo>
                    <a:pt x="0" y="2422"/>
                  </a:lnTo>
                  <a:close/>
                  <a:moveTo>
                    <a:pt x="0" y="1939"/>
                  </a:moveTo>
                  <a:lnTo>
                    <a:pt x="28" y="1939"/>
                  </a:lnTo>
                  <a:lnTo>
                    <a:pt x="28" y="1942"/>
                  </a:lnTo>
                  <a:lnTo>
                    <a:pt x="0" y="1942"/>
                  </a:lnTo>
                  <a:lnTo>
                    <a:pt x="0" y="1939"/>
                  </a:lnTo>
                  <a:close/>
                  <a:moveTo>
                    <a:pt x="0" y="1453"/>
                  </a:moveTo>
                  <a:lnTo>
                    <a:pt x="28" y="1453"/>
                  </a:lnTo>
                  <a:lnTo>
                    <a:pt x="28" y="1456"/>
                  </a:lnTo>
                  <a:lnTo>
                    <a:pt x="0" y="1456"/>
                  </a:lnTo>
                  <a:lnTo>
                    <a:pt x="0" y="1453"/>
                  </a:lnTo>
                  <a:close/>
                  <a:moveTo>
                    <a:pt x="0" y="969"/>
                  </a:moveTo>
                  <a:lnTo>
                    <a:pt x="28" y="969"/>
                  </a:lnTo>
                  <a:lnTo>
                    <a:pt x="28" y="972"/>
                  </a:lnTo>
                  <a:lnTo>
                    <a:pt x="0" y="972"/>
                  </a:lnTo>
                  <a:lnTo>
                    <a:pt x="0" y="969"/>
                  </a:lnTo>
                  <a:close/>
                  <a:moveTo>
                    <a:pt x="0" y="483"/>
                  </a:moveTo>
                  <a:lnTo>
                    <a:pt x="28" y="483"/>
                  </a:lnTo>
                  <a:lnTo>
                    <a:pt x="28" y="486"/>
                  </a:lnTo>
                  <a:lnTo>
                    <a:pt x="0" y="486"/>
                  </a:lnTo>
                  <a:lnTo>
                    <a:pt x="0" y="483"/>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13"/>
            <p:cNvSpPr/>
            <p:nvPr/>
          </p:nvSpPr>
          <p:spPr>
            <a:xfrm>
              <a:off x="895320" y="5640480"/>
              <a:ext cx="7931160" cy="4680"/>
            </a:xfrm>
            <a:prstGeom prst="rect">
              <a:avLst/>
            </a:prstGeom>
            <a:solidFill>
              <a:srgbClr val="868686"/>
            </a:solidFill>
            <a:ln w="0">
              <a:solidFill>
                <a:srgbClr val="868686"/>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Freeform 14"/>
            <p:cNvSpPr/>
            <p:nvPr/>
          </p:nvSpPr>
          <p:spPr>
            <a:xfrm>
              <a:off x="893880" y="5641920"/>
              <a:ext cx="7935840" cy="39960"/>
            </a:xfrm>
            <a:custGeom>
              <a:avLst/>
              <a:gdLst>
                <a:gd name="textAreaLeft" fmla="*/ 0 w 7935840"/>
                <a:gd name="textAreaRight" fmla="*/ 7936200 w 7935840"/>
                <a:gd name="textAreaTop" fmla="*/ 0 h 39960"/>
                <a:gd name="textAreaBottom" fmla="*/ 40320 h 39960"/>
              </a:gdLst>
              <a:ahLst/>
              <a:rect l="textAreaLeft" t="textAreaTop" r="textAreaRight" b="textAreaBottom"/>
              <a:pathLst>
                <a:path w="4999" h="25">
                  <a:moveTo>
                    <a:pt x="3" y="0"/>
                  </a:moveTo>
                  <a:lnTo>
                    <a:pt x="3" y="25"/>
                  </a:lnTo>
                  <a:lnTo>
                    <a:pt x="0" y="25"/>
                  </a:lnTo>
                  <a:lnTo>
                    <a:pt x="0" y="0"/>
                  </a:lnTo>
                  <a:lnTo>
                    <a:pt x="3" y="0"/>
                  </a:lnTo>
                  <a:close/>
                  <a:moveTo>
                    <a:pt x="231" y="0"/>
                  </a:moveTo>
                  <a:lnTo>
                    <a:pt x="231" y="25"/>
                  </a:lnTo>
                  <a:lnTo>
                    <a:pt x="228" y="25"/>
                  </a:lnTo>
                  <a:lnTo>
                    <a:pt x="228" y="0"/>
                  </a:lnTo>
                  <a:lnTo>
                    <a:pt x="231" y="0"/>
                  </a:lnTo>
                  <a:close/>
                  <a:moveTo>
                    <a:pt x="458" y="0"/>
                  </a:moveTo>
                  <a:lnTo>
                    <a:pt x="458" y="25"/>
                  </a:lnTo>
                  <a:lnTo>
                    <a:pt x="455" y="25"/>
                  </a:lnTo>
                  <a:lnTo>
                    <a:pt x="455" y="0"/>
                  </a:lnTo>
                  <a:lnTo>
                    <a:pt x="458" y="0"/>
                  </a:lnTo>
                  <a:close/>
                  <a:moveTo>
                    <a:pt x="686" y="0"/>
                  </a:moveTo>
                  <a:lnTo>
                    <a:pt x="686" y="25"/>
                  </a:lnTo>
                  <a:lnTo>
                    <a:pt x="683" y="25"/>
                  </a:lnTo>
                  <a:lnTo>
                    <a:pt x="683" y="0"/>
                  </a:lnTo>
                  <a:lnTo>
                    <a:pt x="686" y="0"/>
                  </a:lnTo>
                  <a:close/>
                  <a:moveTo>
                    <a:pt x="911" y="0"/>
                  </a:moveTo>
                  <a:lnTo>
                    <a:pt x="911" y="25"/>
                  </a:lnTo>
                  <a:lnTo>
                    <a:pt x="907" y="25"/>
                  </a:lnTo>
                  <a:lnTo>
                    <a:pt x="907" y="0"/>
                  </a:lnTo>
                  <a:lnTo>
                    <a:pt x="911" y="0"/>
                  </a:lnTo>
                  <a:close/>
                  <a:moveTo>
                    <a:pt x="1138" y="0"/>
                  </a:moveTo>
                  <a:lnTo>
                    <a:pt x="1138" y="25"/>
                  </a:lnTo>
                  <a:lnTo>
                    <a:pt x="1135" y="25"/>
                  </a:lnTo>
                  <a:lnTo>
                    <a:pt x="1135" y="0"/>
                  </a:lnTo>
                  <a:lnTo>
                    <a:pt x="1138" y="0"/>
                  </a:lnTo>
                  <a:close/>
                  <a:moveTo>
                    <a:pt x="1366" y="0"/>
                  </a:moveTo>
                  <a:lnTo>
                    <a:pt x="1366" y="25"/>
                  </a:lnTo>
                  <a:lnTo>
                    <a:pt x="1363" y="25"/>
                  </a:lnTo>
                  <a:lnTo>
                    <a:pt x="1363" y="0"/>
                  </a:lnTo>
                  <a:lnTo>
                    <a:pt x="1366" y="0"/>
                  </a:lnTo>
                  <a:close/>
                  <a:moveTo>
                    <a:pt x="1594" y="0"/>
                  </a:moveTo>
                  <a:lnTo>
                    <a:pt x="1594" y="25"/>
                  </a:lnTo>
                  <a:lnTo>
                    <a:pt x="1590" y="25"/>
                  </a:lnTo>
                  <a:lnTo>
                    <a:pt x="1590" y="0"/>
                  </a:lnTo>
                  <a:lnTo>
                    <a:pt x="1594" y="0"/>
                  </a:lnTo>
                  <a:close/>
                  <a:moveTo>
                    <a:pt x="1821" y="0"/>
                  </a:moveTo>
                  <a:lnTo>
                    <a:pt x="1821" y="25"/>
                  </a:lnTo>
                  <a:lnTo>
                    <a:pt x="1818" y="25"/>
                  </a:lnTo>
                  <a:lnTo>
                    <a:pt x="1818" y="0"/>
                  </a:lnTo>
                  <a:lnTo>
                    <a:pt x="1821" y="0"/>
                  </a:lnTo>
                  <a:close/>
                  <a:moveTo>
                    <a:pt x="2046" y="0"/>
                  </a:moveTo>
                  <a:lnTo>
                    <a:pt x="2046" y="25"/>
                  </a:lnTo>
                  <a:lnTo>
                    <a:pt x="2043" y="25"/>
                  </a:lnTo>
                  <a:lnTo>
                    <a:pt x="2043" y="0"/>
                  </a:lnTo>
                  <a:lnTo>
                    <a:pt x="2046" y="0"/>
                  </a:lnTo>
                  <a:close/>
                  <a:moveTo>
                    <a:pt x="2273" y="0"/>
                  </a:moveTo>
                  <a:lnTo>
                    <a:pt x="2273" y="25"/>
                  </a:lnTo>
                  <a:lnTo>
                    <a:pt x="2270" y="25"/>
                  </a:lnTo>
                  <a:lnTo>
                    <a:pt x="2270" y="0"/>
                  </a:lnTo>
                  <a:lnTo>
                    <a:pt x="2273" y="0"/>
                  </a:lnTo>
                  <a:close/>
                  <a:moveTo>
                    <a:pt x="2501" y="0"/>
                  </a:moveTo>
                  <a:lnTo>
                    <a:pt x="2501" y="25"/>
                  </a:lnTo>
                  <a:lnTo>
                    <a:pt x="2498" y="25"/>
                  </a:lnTo>
                  <a:lnTo>
                    <a:pt x="2498" y="0"/>
                  </a:lnTo>
                  <a:lnTo>
                    <a:pt x="2501" y="0"/>
                  </a:lnTo>
                  <a:close/>
                  <a:moveTo>
                    <a:pt x="2729" y="0"/>
                  </a:moveTo>
                  <a:lnTo>
                    <a:pt x="2729" y="25"/>
                  </a:lnTo>
                  <a:lnTo>
                    <a:pt x="2726" y="25"/>
                  </a:lnTo>
                  <a:lnTo>
                    <a:pt x="2726" y="0"/>
                  </a:lnTo>
                  <a:lnTo>
                    <a:pt x="2729" y="0"/>
                  </a:lnTo>
                  <a:close/>
                  <a:moveTo>
                    <a:pt x="2956" y="0"/>
                  </a:moveTo>
                  <a:lnTo>
                    <a:pt x="2956" y="25"/>
                  </a:lnTo>
                  <a:lnTo>
                    <a:pt x="2953" y="25"/>
                  </a:lnTo>
                  <a:lnTo>
                    <a:pt x="2953" y="0"/>
                  </a:lnTo>
                  <a:lnTo>
                    <a:pt x="2956" y="0"/>
                  </a:lnTo>
                  <a:close/>
                  <a:moveTo>
                    <a:pt x="3181" y="0"/>
                  </a:moveTo>
                  <a:lnTo>
                    <a:pt x="3181" y="25"/>
                  </a:lnTo>
                  <a:lnTo>
                    <a:pt x="3178" y="25"/>
                  </a:lnTo>
                  <a:lnTo>
                    <a:pt x="3178" y="0"/>
                  </a:lnTo>
                  <a:lnTo>
                    <a:pt x="3181" y="0"/>
                  </a:lnTo>
                  <a:close/>
                  <a:moveTo>
                    <a:pt x="3409" y="0"/>
                  </a:moveTo>
                  <a:lnTo>
                    <a:pt x="3409" y="25"/>
                  </a:lnTo>
                  <a:lnTo>
                    <a:pt x="3405" y="25"/>
                  </a:lnTo>
                  <a:lnTo>
                    <a:pt x="3405" y="0"/>
                  </a:lnTo>
                  <a:lnTo>
                    <a:pt x="3409" y="0"/>
                  </a:lnTo>
                  <a:close/>
                  <a:moveTo>
                    <a:pt x="3636" y="0"/>
                  </a:moveTo>
                  <a:lnTo>
                    <a:pt x="3636" y="25"/>
                  </a:lnTo>
                  <a:lnTo>
                    <a:pt x="3633" y="25"/>
                  </a:lnTo>
                  <a:lnTo>
                    <a:pt x="3633" y="0"/>
                  </a:lnTo>
                  <a:lnTo>
                    <a:pt x="3636" y="0"/>
                  </a:lnTo>
                  <a:close/>
                  <a:moveTo>
                    <a:pt x="3864" y="0"/>
                  </a:moveTo>
                  <a:lnTo>
                    <a:pt x="3864" y="25"/>
                  </a:lnTo>
                  <a:lnTo>
                    <a:pt x="3861" y="25"/>
                  </a:lnTo>
                  <a:lnTo>
                    <a:pt x="3861" y="0"/>
                  </a:lnTo>
                  <a:lnTo>
                    <a:pt x="3864" y="0"/>
                  </a:lnTo>
                  <a:close/>
                  <a:moveTo>
                    <a:pt x="4092" y="0"/>
                  </a:moveTo>
                  <a:lnTo>
                    <a:pt x="4092" y="25"/>
                  </a:lnTo>
                  <a:lnTo>
                    <a:pt x="4088" y="25"/>
                  </a:lnTo>
                  <a:lnTo>
                    <a:pt x="4088" y="0"/>
                  </a:lnTo>
                  <a:lnTo>
                    <a:pt x="4092" y="0"/>
                  </a:lnTo>
                  <a:close/>
                  <a:moveTo>
                    <a:pt x="4316" y="0"/>
                  </a:moveTo>
                  <a:lnTo>
                    <a:pt x="4316" y="25"/>
                  </a:lnTo>
                  <a:lnTo>
                    <a:pt x="4313" y="25"/>
                  </a:lnTo>
                  <a:lnTo>
                    <a:pt x="4313" y="0"/>
                  </a:lnTo>
                  <a:lnTo>
                    <a:pt x="4316" y="0"/>
                  </a:lnTo>
                  <a:close/>
                  <a:moveTo>
                    <a:pt x="4544" y="0"/>
                  </a:moveTo>
                  <a:lnTo>
                    <a:pt x="4544" y="25"/>
                  </a:lnTo>
                  <a:lnTo>
                    <a:pt x="4541" y="25"/>
                  </a:lnTo>
                  <a:lnTo>
                    <a:pt x="4541" y="0"/>
                  </a:lnTo>
                  <a:lnTo>
                    <a:pt x="4544" y="0"/>
                  </a:lnTo>
                  <a:close/>
                  <a:moveTo>
                    <a:pt x="4771" y="0"/>
                  </a:moveTo>
                  <a:lnTo>
                    <a:pt x="4771" y="25"/>
                  </a:lnTo>
                  <a:lnTo>
                    <a:pt x="4768" y="25"/>
                  </a:lnTo>
                  <a:lnTo>
                    <a:pt x="4768" y="0"/>
                  </a:lnTo>
                  <a:lnTo>
                    <a:pt x="4771" y="0"/>
                  </a:lnTo>
                  <a:close/>
                  <a:moveTo>
                    <a:pt x="4999" y="0"/>
                  </a:moveTo>
                  <a:lnTo>
                    <a:pt x="4999" y="25"/>
                  </a:lnTo>
                  <a:lnTo>
                    <a:pt x="4996" y="25"/>
                  </a:lnTo>
                  <a:lnTo>
                    <a:pt x="4996" y="0"/>
                  </a:lnTo>
                  <a:lnTo>
                    <a:pt x="4999" y="0"/>
                  </a:lnTo>
                  <a:close/>
                </a:path>
              </a:pathLst>
            </a:custGeom>
            <a:solidFill>
              <a:srgbClr val="868686"/>
            </a:solidFill>
            <a:ln w="0">
              <a:solidFill>
                <a:srgbClr val="868686"/>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77" name="Rectangle 15"/>
            <p:cNvSpPr/>
            <p:nvPr/>
          </p:nvSpPr>
          <p:spPr>
            <a:xfrm>
              <a:off x="732960" y="555300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p:txBody>
        </p:sp>
        <p:sp>
          <p:nvSpPr>
            <p:cNvPr id="378" name="Rectangle 16"/>
            <p:cNvSpPr/>
            <p:nvPr/>
          </p:nvSpPr>
          <p:spPr>
            <a:xfrm>
              <a:off x="732960" y="478332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0" lang="en-US" sz="1100" spc="-1" strike="noStrike">
                <a:solidFill>
                  <a:srgbClr val="000000"/>
                </a:solidFill>
                <a:latin typeface="Arial"/>
              </a:endParaRPr>
            </a:p>
          </p:txBody>
        </p:sp>
        <p:sp>
          <p:nvSpPr>
            <p:cNvPr id="379" name="Rectangle 17"/>
            <p:cNvSpPr/>
            <p:nvPr/>
          </p:nvSpPr>
          <p:spPr>
            <a:xfrm>
              <a:off x="732960" y="401328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p:txBody>
        </p:sp>
        <p:sp>
          <p:nvSpPr>
            <p:cNvPr id="380" name="Rectangle 18"/>
            <p:cNvSpPr/>
            <p:nvPr/>
          </p:nvSpPr>
          <p:spPr>
            <a:xfrm>
              <a:off x="732960" y="324324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p:txBody>
        </p:sp>
        <p:sp>
          <p:nvSpPr>
            <p:cNvPr id="381" name="Rectangle 19"/>
            <p:cNvSpPr/>
            <p:nvPr/>
          </p:nvSpPr>
          <p:spPr>
            <a:xfrm>
              <a:off x="732960" y="247356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p:txBody>
        </p:sp>
        <p:sp>
          <p:nvSpPr>
            <p:cNvPr id="382" name="Rectangle 20"/>
            <p:cNvSpPr/>
            <p:nvPr/>
          </p:nvSpPr>
          <p:spPr>
            <a:xfrm>
              <a:off x="662040" y="170352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p:txBody>
        </p:sp>
        <p:sp>
          <p:nvSpPr>
            <p:cNvPr id="383" name="Rectangle 21"/>
            <p:cNvSpPr/>
            <p:nvPr/>
          </p:nvSpPr>
          <p:spPr>
            <a:xfrm>
              <a:off x="662040" y="93348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p:txBody>
        </p:sp>
        <p:sp>
          <p:nvSpPr>
            <p:cNvPr id="384" name="Rectangle 22"/>
            <p:cNvSpPr/>
            <p:nvPr/>
          </p:nvSpPr>
          <p:spPr>
            <a:xfrm>
              <a:off x="9702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5" name="Rectangle 23"/>
            <p:cNvSpPr/>
            <p:nvPr/>
          </p:nvSpPr>
          <p:spPr>
            <a:xfrm>
              <a:off x="13305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6" name="Rectangle 24"/>
            <p:cNvSpPr/>
            <p:nvPr/>
          </p:nvSpPr>
          <p:spPr>
            <a:xfrm>
              <a:off x="16909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7" name="Rectangle 25"/>
            <p:cNvSpPr/>
            <p:nvPr/>
          </p:nvSpPr>
          <p:spPr>
            <a:xfrm>
              <a:off x="20512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8" name="Rectangle 26"/>
            <p:cNvSpPr/>
            <p:nvPr/>
          </p:nvSpPr>
          <p:spPr>
            <a:xfrm>
              <a:off x="31323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9" name="Rectangle 27"/>
            <p:cNvSpPr/>
            <p:nvPr/>
          </p:nvSpPr>
          <p:spPr>
            <a:xfrm>
              <a:off x="34927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0" name="Rectangle 28"/>
            <p:cNvSpPr/>
            <p:nvPr/>
          </p:nvSpPr>
          <p:spPr>
            <a:xfrm>
              <a:off x="38530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1" name="Rectangle 29"/>
            <p:cNvSpPr/>
            <p:nvPr/>
          </p:nvSpPr>
          <p:spPr>
            <a:xfrm>
              <a:off x="42134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2" name="Rectangle 30"/>
            <p:cNvSpPr/>
            <p:nvPr/>
          </p:nvSpPr>
          <p:spPr>
            <a:xfrm>
              <a:off x="52945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3" name="Rectangle 31"/>
            <p:cNvSpPr/>
            <p:nvPr/>
          </p:nvSpPr>
          <p:spPr>
            <a:xfrm>
              <a:off x="56548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4" name="Rectangle 32"/>
            <p:cNvSpPr/>
            <p:nvPr/>
          </p:nvSpPr>
          <p:spPr>
            <a:xfrm>
              <a:off x="60152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5" name="Rectangle 33"/>
            <p:cNvSpPr/>
            <p:nvPr/>
          </p:nvSpPr>
          <p:spPr>
            <a:xfrm>
              <a:off x="63756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6" name="Rectangle 34"/>
            <p:cNvSpPr/>
            <p:nvPr/>
          </p:nvSpPr>
          <p:spPr>
            <a:xfrm>
              <a:off x="74566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7" name="Rectangle 35"/>
            <p:cNvSpPr/>
            <p:nvPr/>
          </p:nvSpPr>
          <p:spPr>
            <a:xfrm>
              <a:off x="78170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8" name="Rectangle 36"/>
            <p:cNvSpPr/>
            <p:nvPr/>
          </p:nvSpPr>
          <p:spPr>
            <a:xfrm>
              <a:off x="81774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9" name="Rectangle 37"/>
            <p:cNvSpPr/>
            <p:nvPr/>
          </p:nvSpPr>
          <p:spPr>
            <a:xfrm>
              <a:off x="85377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400" name="Rectangle 41"/>
            <p:cNvSpPr/>
            <p:nvPr/>
          </p:nvSpPr>
          <p:spPr>
            <a:xfrm>
              <a:off x="7956720" y="1120680"/>
              <a:ext cx="102960" cy="10008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42"/>
            <p:cNvSpPr/>
            <p:nvPr/>
          </p:nvSpPr>
          <p:spPr>
            <a:xfrm>
              <a:off x="8104680" y="105264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402" name="Rectangle 43"/>
            <p:cNvSpPr/>
            <p:nvPr/>
          </p:nvSpPr>
          <p:spPr>
            <a:xfrm>
              <a:off x="7956720" y="1513080"/>
              <a:ext cx="102960" cy="9828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44"/>
            <p:cNvSpPr/>
            <p:nvPr/>
          </p:nvSpPr>
          <p:spPr>
            <a:xfrm>
              <a:off x="8107200" y="144468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404" name="Rectangle 45"/>
            <p:cNvSpPr/>
            <p:nvPr/>
          </p:nvSpPr>
          <p:spPr>
            <a:xfrm>
              <a:off x="7956720" y="1903320"/>
              <a:ext cx="10296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46"/>
            <p:cNvSpPr/>
            <p:nvPr/>
          </p:nvSpPr>
          <p:spPr>
            <a:xfrm>
              <a:off x="8108280" y="1835280"/>
              <a:ext cx="2584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endParaRPr b="0" lang="en-US" sz="1400" spc="-1" strike="noStrike">
                <a:solidFill>
                  <a:srgbClr val="000000"/>
                </a:solidFill>
                <a:latin typeface="Arial"/>
              </a:endParaRPr>
            </a:p>
          </p:txBody>
        </p:sp>
        <p:sp>
          <p:nvSpPr>
            <p:cNvPr id="406" name="Rectangle 47"/>
            <p:cNvSpPr/>
            <p:nvPr/>
          </p:nvSpPr>
          <p:spPr>
            <a:xfrm>
              <a:off x="7956720" y="2293920"/>
              <a:ext cx="10296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48"/>
            <p:cNvSpPr/>
            <p:nvPr/>
          </p:nvSpPr>
          <p:spPr>
            <a:xfrm>
              <a:off x="8107560" y="222588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408" name="Rectangle 72"/>
            <p:cNvSpPr/>
            <p:nvPr/>
          </p:nvSpPr>
          <p:spPr>
            <a:xfrm>
              <a:off x="7527960" y="6040440"/>
              <a:ext cx="36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409" name="Rectangle 73"/>
            <p:cNvSpPr/>
            <p:nvPr/>
          </p:nvSpPr>
          <p:spPr>
            <a:xfrm>
              <a:off x="97488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0" name="Rectangle 75"/>
            <p:cNvSpPr/>
            <p:nvPr/>
          </p:nvSpPr>
          <p:spPr>
            <a:xfrm>
              <a:off x="169740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1" name="Rectangle 77"/>
            <p:cNvSpPr/>
            <p:nvPr/>
          </p:nvSpPr>
          <p:spPr>
            <a:xfrm>
              <a:off x="317052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2" name="Rectangle 79"/>
            <p:cNvSpPr/>
            <p:nvPr/>
          </p:nvSpPr>
          <p:spPr>
            <a:xfrm>
              <a:off x="387540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3" name="Rectangle 81"/>
            <p:cNvSpPr/>
            <p:nvPr/>
          </p:nvSpPr>
          <p:spPr>
            <a:xfrm>
              <a:off x="532188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4" name="Rectangle 83"/>
            <p:cNvSpPr/>
            <p:nvPr/>
          </p:nvSpPr>
          <p:spPr>
            <a:xfrm>
              <a:off x="603936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5" name="Rectangle 85"/>
            <p:cNvSpPr/>
            <p:nvPr/>
          </p:nvSpPr>
          <p:spPr>
            <a:xfrm>
              <a:off x="747288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6" name="Rectangle 87"/>
            <p:cNvSpPr/>
            <p:nvPr/>
          </p:nvSpPr>
          <p:spPr>
            <a:xfrm>
              <a:off x="819684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7" name="Rectangle 89"/>
            <p:cNvSpPr/>
            <p:nvPr/>
          </p:nvSpPr>
          <p:spPr>
            <a:xfrm>
              <a:off x="3340800" y="2319480"/>
              <a:ext cx="890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change</a:t>
              </a:r>
              <a:endParaRPr b="0" lang="en-US" sz="1600" spc="-1" strike="noStrike">
                <a:solidFill>
                  <a:srgbClr val="000000"/>
                </a:solidFill>
                <a:latin typeface="Arial"/>
              </a:endParaRPr>
            </a:p>
          </p:txBody>
        </p:sp>
        <p:sp>
          <p:nvSpPr>
            <p:cNvPr id="418" name="Rectangle 90"/>
            <p:cNvSpPr/>
            <p:nvPr/>
          </p:nvSpPr>
          <p:spPr>
            <a:xfrm>
              <a:off x="2482920" y="1311480"/>
              <a:ext cx="2089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419" name="Rectangle 92"/>
            <p:cNvSpPr/>
            <p:nvPr/>
          </p:nvSpPr>
          <p:spPr>
            <a:xfrm>
              <a:off x="5115240" y="271008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significant effect</a:t>
              </a:r>
              <a:endParaRPr b="0" lang="en-US" sz="1600" spc="-1" strike="noStrike">
                <a:solidFill>
                  <a:srgbClr val="000000"/>
                </a:solidFill>
                <a:latin typeface="Arial"/>
              </a:endParaRPr>
            </a:p>
          </p:txBody>
        </p:sp>
        <p:sp>
          <p:nvSpPr>
            <p:cNvPr id="420" name="Rectangle 97"/>
            <p:cNvSpPr/>
            <p:nvPr/>
          </p:nvSpPr>
          <p:spPr>
            <a:xfrm>
              <a:off x="7385760" y="4248360"/>
              <a:ext cx="1434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grpSp>
      <p:sp>
        <p:nvSpPr>
          <p:cNvPr id="421"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22"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pic>
        <p:nvPicPr>
          <p:cNvPr id="423" name="Rectangle 40" descr=""/>
          <p:cNvPicPr/>
          <p:nvPr/>
        </p:nvPicPr>
        <p:blipFill>
          <a:blip r:embed="rId1"/>
          <a:stretch/>
        </p:blipFill>
        <p:spPr>
          <a:xfrm>
            <a:off x="244440" y="1189080"/>
            <a:ext cx="365040" cy="4121280"/>
          </a:xfrm>
          <a:prstGeom prst="rect">
            <a:avLst/>
          </a:prstGeom>
          <a:ln w="0">
            <a:noFill/>
          </a:ln>
        </p:spPr>
      </p:pic>
      <p:sp>
        <p:nvSpPr>
          <p:cNvPr id="424" name="TextBox 150"/>
          <p:cNvSpPr/>
          <p:nvPr/>
        </p:nvSpPr>
        <p:spPr>
          <a:xfrm>
            <a:off x="1214280" y="60832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425" name="TextBox 151"/>
          <p:cNvSpPr/>
          <p:nvPr/>
        </p:nvSpPr>
        <p:spPr>
          <a:xfrm>
            <a:off x="5534640" y="60832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426" name="TextBox 152"/>
          <p:cNvSpPr/>
          <p:nvPr/>
        </p:nvSpPr>
        <p:spPr>
          <a:xfrm>
            <a:off x="3446280" y="60832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427" name="TextBox 153"/>
          <p:cNvSpPr/>
          <p:nvPr/>
        </p:nvSpPr>
        <p:spPr>
          <a:xfrm>
            <a:off x="7702920" y="6083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428" name="Group 156"/>
          <p:cNvGrpSpPr/>
          <p:nvPr/>
        </p:nvGrpSpPr>
        <p:grpSpPr>
          <a:xfrm>
            <a:off x="1010160" y="5848200"/>
            <a:ext cx="1208880" cy="276480"/>
            <a:chOff x="1010160" y="5848200"/>
            <a:chExt cx="1208880" cy="276480"/>
          </a:xfrm>
        </p:grpSpPr>
        <p:sp>
          <p:nvSpPr>
            <p:cNvPr id="429" name="TextBox 154"/>
            <p:cNvSpPr/>
            <p:nvPr/>
          </p:nvSpPr>
          <p:spPr>
            <a:xfrm>
              <a:off x="101016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0" name="TextBox 155"/>
            <p:cNvSpPr/>
            <p:nvPr/>
          </p:nvSpPr>
          <p:spPr>
            <a:xfrm>
              <a:off x="17409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1" name="Group 157"/>
          <p:cNvGrpSpPr/>
          <p:nvPr/>
        </p:nvGrpSpPr>
        <p:grpSpPr>
          <a:xfrm>
            <a:off x="3178800" y="5848200"/>
            <a:ext cx="1207440" cy="276480"/>
            <a:chOff x="3178800" y="5848200"/>
            <a:chExt cx="1207440" cy="276480"/>
          </a:xfrm>
        </p:grpSpPr>
        <p:sp>
          <p:nvSpPr>
            <p:cNvPr id="432" name="TextBox 158"/>
            <p:cNvSpPr/>
            <p:nvPr/>
          </p:nvSpPr>
          <p:spPr>
            <a:xfrm>
              <a:off x="31788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3" name="TextBox 159"/>
            <p:cNvSpPr/>
            <p:nvPr/>
          </p:nvSpPr>
          <p:spPr>
            <a:xfrm>
              <a:off x="39081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4" name="Group 160"/>
          <p:cNvGrpSpPr/>
          <p:nvPr/>
        </p:nvGrpSpPr>
        <p:grpSpPr>
          <a:xfrm>
            <a:off x="5350320" y="5848200"/>
            <a:ext cx="1207440" cy="276480"/>
            <a:chOff x="5350320" y="5848200"/>
            <a:chExt cx="1207440" cy="276480"/>
          </a:xfrm>
        </p:grpSpPr>
        <p:sp>
          <p:nvSpPr>
            <p:cNvPr id="435" name="TextBox 161"/>
            <p:cNvSpPr/>
            <p:nvPr/>
          </p:nvSpPr>
          <p:spPr>
            <a:xfrm>
              <a:off x="535032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6" name="TextBox 162"/>
            <p:cNvSpPr/>
            <p:nvPr/>
          </p:nvSpPr>
          <p:spPr>
            <a:xfrm>
              <a:off x="607968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7" name="Group 163"/>
          <p:cNvGrpSpPr/>
          <p:nvPr/>
        </p:nvGrpSpPr>
        <p:grpSpPr>
          <a:xfrm>
            <a:off x="7509600" y="5848200"/>
            <a:ext cx="1208520" cy="276480"/>
            <a:chOff x="7509600" y="5848200"/>
            <a:chExt cx="1208520" cy="276480"/>
          </a:xfrm>
        </p:grpSpPr>
        <p:sp>
          <p:nvSpPr>
            <p:cNvPr id="438" name="TextBox 164"/>
            <p:cNvSpPr/>
            <p:nvPr/>
          </p:nvSpPr>
          <p:spPr>
            <a:xfrm>
              <a:off x="75096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9" name="TextBox 165"/>
            <p:cNvSpPr/>
            <p:nvPr/>
          </p:nvSpPr>
          <p:spPr>
            <a:xfrm>
              <a:off x="824004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41"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4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44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
  <dc:description/>
  <dc:language>en-US</dc:language>
  <cp:lastModifiedBy>Jolene Cook</cp:lastModifiedBy>
  <dcterms:modified xsi:type="dcterms:W3CDTF">2012-03-30T10:37:49Z</dcterms:modified>
  <cp:revision>149</cp:revision>
  <dc:subject/>
  <dc:title/>
</cp:coreProperties>
</file>