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Lucida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Lucid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Lucida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Lucida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Lucid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Lucida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Lucida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Lucida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Lucida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Lucida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Lucida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Untitled"/>
          <p:cNvPicPr/>
          <p:nvPr/>
        </p:nvPicPr>
        <p:blipFill>
          <a:blip r:embed="rId2"/>
          <a:stretch/>
        </p:blipFill>
        <p:spPr>
          <a:xfrm>
            <a:off x="0" y="3284640"/>
            <a:ext cx="9144000" cy="115236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2195640" y="6093000"/>
            <a:ext cx="475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Lucida Sans"/>
              </a:rPr>
              <a:t>Click to edit the title text format</a:t>
            </a:r>
            <a:endParaRPr b="0" lang="en-US" sz="3600" spc="-1" strike="noStrike">
              <a:solidFill>
                <a:srgbClr val="008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ff99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Lucida San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8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Untitled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0" y="580536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Lucida Sans"/>
              </a:rPr>
              <a:t>Click to edit the title text format</a:t>
            </a:r>
            <a:endParaRPr b="0" lang="en-US" sz="3600" spc="-1" strike="noStrike">
              <a:solidFill>
                <a:srgbClr val="008000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ff99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Lucida San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8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Untitled"/>
          <p:cNvPicPr/>
          <p:nvPr/>
        </p:nvPicPr>
        <p:blipFill>
          <a:blip r:embed="rId2"/>
          <a:stretch/>
        </p:blipFill>
        <p:spPr>
          <a:xfrm>
            <a:off x="0" y="2924280"/>
            <a:ext cx="9144000" cy="10522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31640" y="907920"/>
            <a:ext cx="64767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Lucida Sans"/>
              </a:rPr>
              <a:t>Click to edit the title text format</a:t>
            </a:r>
            <a:endParaRPr b="0" lang="en-US" sz="3600" spc="-1" strike="noStrike">
              <a:solidFill>
                <a:srgbClr val="008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1268280"/>
            <a:ext cx="7772400" cy="18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Lucida Sans"/>
              </a:rPr>
              <a:t> </a:t>
            </a:r>
            <a:r>
              <a:rPr b="0" lang="en-US" sz="3600" spc="-1" strike="noStrike">
                <a:solidFill>
                  <a:srgbClr val="008000"/>
                </a:solidFill>
                <a:latin typeface="Lucida Sans Unicode"/>
                <a:ea typeface="HGP創英角ﾎﾟｯﾌﾟ体"/>
              </a:rPr>
              <a:t>Climate Change Regime</a:t>
            </a:r>
            <a:br>
              <a:rPr sz="3600"/>
            </a:br>
            <a:r>
              <a:rPr b="0" lang="en-US" sz="3600" spc="-1" strike="noStrike">
                <a:solidFill>
                  <a:srgbClr val="008000"/>
                </a:solidFill>
                <a:latin typeface="Lucida Sans Unicode"/>
                <a:ea typeface="HGP創英角ﾎﾟｯﾌﾟ体"/>
              </a:rPr>
              <a:t>and Its Implications to </a:t>
            </a:r>
            <a:br>
              <a:rPr sz="3600"/>
            </a:br>
            <a:r>
              <a:rPr b="0" lang="en-US" sz="3600" spc="-1" strike="noStrike">
                <a:solidFill>
                  <a:srgbClr val="008000"/>
                </a:solidFill>
                <a:latin typeface="Lucida Sans Unicode"/>
                <a:ea typeface="HGP創英角ﾎﾟｯﾌﾟ体"/>
              </a:rPr>
              <a:t>Forest Management</a:t>
            </a:r>
            <a:endParaRPr b="0" lang="en-US" sz="3600" spc="-1" strike="noStrike">
              <a:solidFill>
                <a:srgbClr val="008000"/>
              </a:solidFill>
              <a:latin typeface="Lucida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403280" y="4652640"/>
            <a:ext cx="6400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7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atoshi Akahori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7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Forestry Agency, JAPAN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7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7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ug 22 2008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7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Lucida Sans"/>
              </a:rPr>
              <a:t>Role of Forest Management in the Climate Change Regime</a:t>
            </a:r>
            <a:endParaRPr b="0" lang="en-US" sz="3200" spc="-1" strike="noStrike">
              <a:solidFill>
                <a:srgbClr val="008000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UNFCCC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rticle2: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How Forest Management could contribute to ‘Ultimate Objective’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rticle 4.1(d)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ustainable forest management identified as part of commitmen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Kyoto Protocol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rticle2.1(a)(ⅱ)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Required to implement further policies and measures on SFM to achieve emission reduction  commitments under Article3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87280" y="2492280"/>
            <a:ext cx="432000" cy="409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187280" y="3451320"/>
            <a:ext cx="432000" cy="409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187280" y="4941720"/>
            <a:ext cx="432000" cy="4096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468360" y="189000"/>
            <a:ext cx="1146240" cy="1224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0" y="1413000"/>
            <a:ext cx="8675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8000"/>
                </a:solidFill>
                <a:latin typeface="Lucida Sans"/>
              </a:rPr>
              <a:t>　　　　</a:t>
            </a:r>
            <a:r>
              <a:rPr b="0" lang="en-US" sz="3600" spc="-1" strike="noStrike">
                <a:solidFill>
                  <a:srgbClr val="008000"/>
                </a:solidFill>
                <a:latin typeface="Lucida Sans"/>
              </a:rPr>
              <a:t>ARD and FM</a:t>
            </a:r>
            <a:endParaRPr b="0" lang="en-US" sz="3600" spc="-1" strike="noStrike">
              <a:solidFill>
                <a:srgbClr val="008000"/>
              </a:solidFill>
              <a:latin typeface="Lucida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urrent rules agreed at Marrakech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rt.3.3: ARD Mandatory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rt.3.4: FM voluntary, G-N, activity-based approach with cap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rovided incentives for SFM, enhancing contribution to mitigation benefit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ssues realized through implementation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Build on Kyoto, or.....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00000" y="3716280"/>
            <a:ext cx="432000" cy="409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900000" y="4653000"/>
            <a:ext cx="432000" cy="409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900000" y="5157720"/>
            <a:ext cx="432000" cy="4096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468360" y="189000"/>
            <a:ext cx="1146240" cy="1224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1413000"/>
            <a:ext cx="8675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Lucida Sans"/>
              </a:rPr>
              <a:t>Time-frame Perspective</a:t>
            </a:r>
            <a:endParaRPr b="0" lang="en-US" sz="3600" spc="-1" strike="noStrike">
              <a:solidFill>
                <a:srgbClr val="008000"/>
              </a:solidFill>
              <a:latin typeface="Lucida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mmitment Period relatively short-term (for foresters) but need to have long-term perspective for mitiga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ame goes for mitigation benefit in forest secto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Font typeface="Lucida Sans"/>
              <a:buChar char="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IPCC AR4 : mitigation benefit through SFM in the long-term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latively longer rotation period with forest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0years : Tropical Zone (fast-growing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50years : Temperate Zon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00years or more : Boreal Zone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orest policy and measures with longer-time perspective, difficulty in dealing with quick changes 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95280" y="4797360"/>
            <a:ext cx="431640" cy="409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1146240" cy="1224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1413000"/>
            <a:ext cx="8675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0" y="2421000"/>
            <a:ext cx="5076720" cy="3601800"/>
            <a:chOff x="0" y="2421000"/>
            <a:chExt cx="5076720" cy="360180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0" y="2421000"/>
              <a:ext cx="5076720" cy="36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724320" y="4696920"/>
              <a:ext cx="296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198520" y="4651200"/>
            <a:ext cx="106560" cy="7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62160" y="4651200"/>
            <a:ext cx="108000" cy="7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48120" y="4651200"/>
            <a:ext cx="108000" cy="7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44880" y="4651200"/>
            <a:ext cx="106560" cy="7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19680" y="4651200"/>
            <a:ext cx="108000" cy="7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73320" y="4535640"/>
            <a:ext cx="108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9280" y="4535640"/>
            <a:ext cx="1062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44880" y="4535640"/>
            <a:ext cx="10656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5661000"/>
            <a:ext cx="56167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FFPRI (Forestry and Forest Products Research Institute, Jap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19280" y="333360"/>
            <a:ext cx="7149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Lucida Sans"/>
              </a:rPr>
              <a:t>SFM and Carbon Seques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1146240" cy="1224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24000" y="5948280"/>
            <a:ext cx="5976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ssions and removals by above- and belowground biomass p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WP not inclu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Theoretically, SFM would lead to eithe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99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Normal Forest (with artificial regeneration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99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Extreme Stage (with natural regeneration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854600" y="2636640"/>
            <a:ext cx="403848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In the long-run, growth (=sequestration) would be diminished even with proper management scheme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99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Removals per year is assumed to decrease in most of the AnnexⅠ countries in coming 20-30 years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1413000"/>
            <a:ext cx="8675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4716360" y="2637000"/>
            <a:ext cx="432000" cy="4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Lucida Sans"/>
              </a:rPr>
              <a:t>Expectation for the future framework</a:t>
            </a:r>
            <a:endParaRPr b="0" lang="en-US" sz="3200" spc="-1" strike="noStrike">
              <a:solidFill>
                <a:srgbClr val="008000"/>
              </a:solidFill>
              <a:latin typeface="Lucida San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1146240" cy="1224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1413000"/>
            <a:ext cx="8675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Forest carbon sink would…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e properly recognized as climate change polic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ntinue to contribute to climate change mitiga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e properly accounted for, not benefiting/penalizing certain type/age structure of fores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ncentive would continue to be provided to SFM to realize the potential of the sector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900000" y="2170080"/>
            <a:ext cx="432000" cy="4096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900000" y="2587680"/>
            <a:ext cx="432000" cy="4096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900000" y="3357720"/>
            <a:ext cx="432000" cy="4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484360" y="1916280"/>
            <a:ext cx="404352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9T14:13:59Z</dcterms:created>
  <dc:creator>塚田直子</dc:creator>
  <dc:description/>
  <dc:language>en-US</dc:language>
  <cp:lastModifiedBy>Golinski</cp:lastModifiedBy>
  <dcterms:modified xsi:type="dcterms:W3CDTF">2008-08-22T10:30:31Z</dcterms:modified>
  <cp:revision>115</cp:revision>
  <dc:subject/>
  <dc:title>Climate Change Regime</dc:title>
</cp:coreProperties>
</file>