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30C1-31AF-4C78-9CC2-0F137758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4BB7-C4C9-4EF8-ADA7-1BB74421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879C-D507-4614-BDD6-12EC88A0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251E-B167-4328-AF18-5F61BF06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2061-C237-489B-B042-45E3649E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8767-CB37-43C4-8953-4D377CC8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176F-E426-492C-898F-D1F74692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73E-F4CD-4D53-8DE9-424AD68D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2F7E-25E4-4F71-9505-66C758E2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3117-30B3-4CF9-893F-EB65198C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ECE7-027F-457A-87DE-2ACEC48F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89BD-CF75-4113-A9A1-977E2D93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5A94-1BB2-44B4-ADE6-B4BC2C88D2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al for a templ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80880" y="2362320"/>
          <a:ext cx="8458200" cy="4100400"/>
        </p:xfrm>
        <a:graphic>
          <a:graphicData uri="http://schemas.openxmlformats.org/drawingml/2006/table">
            <a:tbl>
              <a:tblPr/>
              <a:tblGrid>
                <a:gridCol w="1524240"/>
                <a:gridCol w="1066680"/>
                <a:gridCol w="1066680"/>
                <a:gridCol w="1067040"/>
                <a:gridCol w="990360"/>
                <a:gridCol w="914400"/>
                <a:gridCol w="914400"/>
                <a:gridCol w="9144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issions (G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issions (Gg CO2-eq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u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icul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LUC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80880" y="1523880"/>
            <a:ext cx="44960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: WM, WAM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ear: 2005, 2010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7:24:53Z</dcterms:created>
  <dc:creator>UNFCCC</dc:creator>
  <dc:description/>
  <cp:keywords>emission projections</cp:keywords>
  <dc:language>en-US</dc:language>
  <cp:lastModifiedBy>camenen</cp:lastModifiedBy>
  <dcterms:modified xsi:type="dcterms:W3CDTF">2004-09-09T12:06:49Z</dcterms:modified>
  <cp:revision>2</cp:revision>
  <dc:subject/>
  <dc:title>Proposal for a template</dc:title>
</cp:coreProperties>
</file>