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6E6-6FA1-4483-AB52-8DFDB8B775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erage GDP grows</a:t>
            </a: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99-2034 is 5.5%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7C3-9A84-475B-9E7A-3F302B2D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F17-AF52-4B2C-AD46-3301949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11F-DC51-4C81-89BF-FC6DEEB4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BE4-624D-4018-A09A-A8B2BA6A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57B-8B18-4F1D-9739-559FF44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945-1425-4D6A-887C-3555F55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7F4-C909-4D75-9CFA-BEBB51C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268-0EE5-4186-897E-BA8F5A2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446-C7F3-436B-9852-53CFB96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1E9-6BD1-46C4-AE53-CFF72E6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5FD-C34B-451B-A70D-F392E90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D1B-06BE-4BA2-92CC-0B32641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289-2EFE-44B1-9E14-0E96A65BC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Experience with GHG emission projections for energy sector in LATVIA</a:t>
            </a:r>
            <a:endParaRPr b="1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54097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Verdana"/>
              </a:rPr>
              <a:t>Workshop on emissions projec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6-8 September 2004, UNFCCC Secretariat, Bonn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581280"/>
            <a:ext cx="441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Janis Re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Latvian Investment and Development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History of MARKAL use for emission projections in energy sector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Started in 1995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2nd National Communication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3rd National Communication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Projections for SO2, VOC, N</a:t>
            </a:r>
            <a:r>
              <a:rPr b="0" lang="lv-LV" sz="3200" spc="-1" strike="noStrike">
                <a:solidFill>
                  <a:srgbClr val="3399ff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and now …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Modelling approach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Bottom-up rich technology optimization model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Spread of action between supply and demand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Emissions taxes and constraints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Estimate system costs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Sensitivity analyses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verview of model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228600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seful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352680"/>
            <a:ext cx="228600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mary f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828800"/>
            <a:ext cx="2286000" cy="1905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nu of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724280"/>
            <a:ext cx="228600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362320"/>
            <a:ext cx="2286000" cy="7617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timal least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x of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981080"/>
            <a:ext cx="9144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743200" y="3352320"/>
            <a:ext cx="8380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7432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00600" y="37335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ssues (1)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Reporting</a:t>
            </a:r>
            <a:endParaRPr b="0" lang="en-US" sz="28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Generic tables (results, assumptions etc.)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Problems</a:t>
            </a:r>
            <a:endParaRPr b="0" lang="en-US" sz="28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Emission factors for new fuels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Energy useful demand projections (how to link with macroeconomic forecast)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Possibility to deal with uncertainty with stochastic analyzes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Discrepancy between structure of energy balance and inventory (ex. off-road)</a:t>
            </a:r>
            <a:endParaRPr b="0" lang="en-US" sz="2400" spc="-1" strike="noStrike">
              <a:solidFill>
                <a:srgbClr val="33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ssues (2)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Notwithstanding </a:t>
            </a:r>
            <a:r>
              <a:rPr b="0" lang="lv-LV" sz="3200" spc="-1" strike="noStrike">
                <a:solidFill>
                  <a:srgbClr val="3399ff"/>
                </a:solidFill>
                <a:latin typeface="Verdana"/>
              </a:rPr>
              <a:t>to</a:t>
            </a: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 resent development in CC policy field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National system isn’t yet established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Lack of coordination between involved institutions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ff"/>
                </a:solidFill>
                <a:latin typeface="Verdana"/>
              </a:rPr>
              <a:t>Lack of financial capacity</a:t>
            </a:r>
            <a:endParaRPr b="0" lang="en-US" sz="3200" spc="-1" strike="noStrike">
              <a:solidFill>
                <a:srgbClr val="33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GHG emission forecast in energy sector Gg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3059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orecast of GDP</a:t>
            </a:r>
            <a:endParaRPr b="1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706320"/>
            <a:ext cx="883944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2 emissions in energy sector, Gg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ifferent growth rates for useful energy demand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7890" r="0" b="0"/>
          <a:stretch/>
        </p:blipFill>
        <p:spPr>
          <a:xfrm>
            <a:off x="0" y="838080"/>
            <a:ext cx="8077320" cy="52833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2971800" y="5715000"/>
            <a:ext cx="6053760" cy="965160"/>
            <a:chOff x="2971800" y="5715000"/>
            <a:chExt cx="6053760" cy="965160"/>
          </a:xfrm>
        </p:grpSpPr>
        <p:sp>
          <p:nvSpPr>
            <p:cNvPr id="76" name=""/>
            <p:cNvSpPr/>
            <p:nvPr/>
          </p:nvSpPr>
          <p:spPr>
            <a:xfrm>
              <a:off x="2971800" y="5715000"/>
              <a:ext cx="22957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7520" y="5715000"/>
              <a:ext cx="28274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nual growth of (1999-203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95320" y="5715000"/>
              <a:ext cx="9302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1800" y="5971320"/>
              <a:ext cx="2295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n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67520" y="5971320"/>
              <a:ext cx="9129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80840" y="5971320"/>
              <a:ext cx="91440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95240" y="5971320"/>
              <a:ext cx="91440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10000" y="5971320"/>
              <a:ext cx="92880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6172200"/>
              <a:ext cx="22957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ful energy de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67520" y="6172200"/>
              <a:ext cx="91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2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80840" y="6172200"/>
              <a:ext cx="9144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95240" y="6172200"/>
              <a:ext cx="9144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000" y="6172200"/>
              <a:ext cx="9288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1800" y="6428520"/>
              <a:ext cx="22957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icity 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67520" y="6428520"/>
              <a:ext cx="91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80840" y="6428520"/>
              <a:ext cx="9144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95240" y="6428520"/>
              <a:ext cx="9144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10000" y="6428520"/>
              <a:ext cx="92880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5:40:29Z</dcterms:created>
  <dc:creator>Janis Rekis</dc:creator>
  <dc:description/>
  <cp:keywords>loggings</cp:keywords>
  <dc:language>en-US</dc:language>
  <cp:lastModifiedBy>camenen</cp:lastModifiedBy>
  <dcterms:modified xsi:type="dcterms:W3CDTF">2004-09-07T06:49:39Z</dcterms:modified>
  <cp:revision>69</cp:revision>
  <dc:subject/>
  <dc:title>Experience with GHG emission projections for energy sector in LATVIA</dc:title>
</cp:coreProperties>
</file>