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5413" cy="69040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FE4-98E2-484C-874D-1F0B83CE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480" y="610920"/>
            <a:ext cx="8740800" cy="1150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480" y="1988640"/>
            <a:ext cx="8740800" cy="197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1480" y="4155480"/>
            <a:ext cx="8740800" cy="197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E14A-95A2-4CAB-9DA9-CA6971C0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1480" y="610920"/>
            <a:ext cx="8740800" cy="1150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1480" y="1988640"/>
            <a:ext cx="4265280" cy="197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0240" y="1988640"/>
            <a:ext cx="4265280" cy="197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1480" y="4155480"/>
            <a:ext cx="4265280" cy="197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0240" y="4155480"/>
            <a:ext cx="4265280" cy="197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AFB-BBC0-49E2-B456-BA39DB26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1480" y="610920"/>
            <a:ext cx="8740800" cy="1150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1480" y="1988640"/>
            <a:ext cx="2814120" cy="197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6720" y="1988640"/>
            <a:ext cx="2814120" cy="197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1960" y="1988640"/>
            <a:ext cx="2814120" cy="197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1480" y="4155480"/>
            <a:ext cx="2814120" cy="197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6720" y="4155480"/>
            <a:ext cx="2814120" cy="197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1960" y="4155480"/>
            <a:ext cx="2814120" cy="197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5EC8-4015-4F00-8497-B59554EE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480" y="610920"/>
            <a:ext cx="8740800" cy="1150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1480" y="1988640"/>
            <a:ext cx="87408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6DEA-A35C-434C-B200-47BB020F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480" y="610920"/>
            <a:ext cx="8740800" cy="1150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1480" y="1988640"/>
            <a:ext cx="8740800" cy="41482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904-2543-4C49-B94F-174ED66D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480" y="610920"/>
            <a:ext cx="8740800" cy="1150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480" y="1988640"/>
            <a:ext cx="4265280" cy="41482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0240" y="1988640"/>
            <a:ext cx="4265280" cy="41482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9F92-9927-44D2-AD5B-36848878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1480" y="610920"/>
            <a:ext cx="8740800" cy="1150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B7E-E93C-4D0A-81C3-7AB3398D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1480" y="610920"/>
            <a:ext cx="874080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DBF-15F1-4305-AA22-206D372F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480" y="610920"/>
            <a:ext cx="8740800" cy="1150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1480" y="1988640"/>
            <a:ext cx="4265280" cy="197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0240" y="1988640"/>
            <a:ext cx="4265280" cy="41482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1480" y="4155480"/>
            <a:ext cx="4265280" cy="197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A9B7-A08F-4BF2-839F-D7E0DAC2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480" y="610920"/>
            <a:ext cx="8740800" cy="1150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480" y="1988640"/>
            <a:ext cx="4265280" cy="41482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0240" y="1988640"/>
            <a:ext cx="4265280" cy="197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0240" y="4155480"/>
            <a:ext cx="4265280" cy="197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E3E-412C-469A-AC35-129F8237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480" y="610920"/>
            <a:ext cx="8740800" cy="1150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480" y="1988640"/>
            <a:ext cx="4265280" cy="197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0240" y="1988640"/>
            <a:ext cx="4265280" cy="197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1480" y="4155480"/>
            <a:ext cx="8740800" cy="197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B94-9F0D-4DD5-838C-B0C4AFB5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480" y="610920"/>
            <a:ext cx="8740800" cy="1150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480" y="1988640"/>
            <a:ext cx="8740800" cy="41482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 fontScale="97000"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360" indent="-2984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0160" indent="-2386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7560" indent="-2383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4600" indent="-23832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4600" indent="-23832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4600" indent="-23832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92800"/>
            <a:ext cx="2143080" cy="455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lstStyle>
            <a:lvl1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3240" y="6292800"/>
            <a:ext cx="3257280" cy="455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lstStyle>
            <a:lvl1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68840" y="6292800"/>
            <a:ext cx="2143080" cy="455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3AD16C34-5A74-4F9C-83D1-AB336C02BF70}" type="slidenum"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283760" cy="68580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ECONOT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8753400" cy="21938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EXPERIENCE IN BELGIUM :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ENERGY DEMAND MODELLING WITH </a:t>
            </a:r>
            <a:br>
              <a:rPr sz="3200"/>
            </a:b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fr-FR" sz="3200" spc="-1" strike="noStrike" u="sng">
                <a:solidFill>
                  <a:srgbClr val="ff0000"/>
                </a:solidFill>
                <a:uFillTx/>
                <a:latin typeface="Times New Roman"/>
              </a:rPr>
              <a:t>EPM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fr-FR" sz="3200" spc="-1" strike="noStrike" u="sng">
                <a:solidFill>
                  <a:srgbClr val="0066ff"/>
                </a:solidFill>
                <a:uFillTx/>
                <a:latin typeface="Times New Roman"/>
              </a:rPr>
              <a:t>BOTTOM-UP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41520" y="594360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NFCCC Workshop on GHG Emission Proje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onn, 6-8 September 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94240" y="4241880"/>
            <a:ext cx="46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rancis ALTDORFER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ECONOT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1480" y="2301480"/>
            <a:ext cx="8740800" cy="1150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fr-FR" sz="3700" spc="-1" strike="noStrike">
                <a:solidFill>
                  <a:srgbClr val="ff0000"/>
                </a:solidFill>
                <a:latin typeface="Times New Roman"/>
              </a:rPr>
              <a:t>MAIN FEATURES OF EP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20800" y="1434960"/>
            <a:ext cx="883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PM is a simulation model allowing to calculat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0066ff"/>
                </a:solidFill>
                <a:uFillTx/>
                <a:latin typeface="Times New Roman"/>
              </a:rPr>
              <a:t>business-as-usua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cenarios (unchanged policy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0066ff"/>
                </a:solidFill>
                <a:uFillTx/>
                <a:latin typeface="Times New Roman"/>
              </a:rPr>
              <a:t>technical and economic potentia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reducing emission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0066ff"/>
                </a:solidFill>
                <a:uFillTx/>
                <a:latin typeface="Times New Roman"/>
              </a:rPr>
              <a:t>emission reduction cost curv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to simulate emission reduction scen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198108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ff"/>
                </a:solidFill>
                <a:uFillTx/>
                <a:latin typeface="Times New Roman"/>
              </a:rPr>
              <a:t>Essential characteristic of the model 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high disaggregation level of emission sourc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1003320"/>
            <a:ext cx="89280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ff"/>
                </a:solidFill>
                <a:uFillTx/>
                <a:latin typeface="Times New Roman"/>
              </a:rPr>
              <a:t>Objectives of the disaggregation</a:t>
            </a:r>
            <a:r>
              <a:rPr b="0" lang="en-GB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ke into account structural effects within the sect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better take into account the available field information (on plant closures, new investments…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take into account mitigation measures specific to particular sour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609480"/>
            <a:ext cx="883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7760" indent="-21477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47760" indent="-21477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ff"/>
                </a:solidFill>
                <a:uFillTx/>
                <a:latin typeface="Times New Roman"/>
              </a:rPr>
              <a:t>Disaggregation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47760" indent="-21477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47760" indent="-21477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47760" indent="-21477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47760" indent="-21477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± 70 among the most energy intensive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47760" indent="-21477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47760" indent="-21477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iron &amp; stee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0 activities (sinter production, blast furnace, oxygen steel, hot rolling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47760" indent="-21477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47760" indent="-21477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himi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± 20 activities (ethylene, chlorine, vinyl chloride, ammonia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47760" indent="-21477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4800" y="787320"/>
            <a:ext cx="9067680" cy="53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cific module for calculating the heat load of building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4 representative model-dwellings, with dimensioning and thermal characteristic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formance de 15 heat production, distribution and emission system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nitary hot wat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0 specific electricity usages (cooking, refrigerators, washing machines, dryers…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3880" y="990720"/>
            <a:ext cx="7086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Tertiary s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0 sub-sectors, grouped in 8 categori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nks, insuranc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alth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ublic administ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lture, sports &amp; lea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838080"/>
            <a:ext cx="9068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cific module for the detailed modelling of road transport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0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11 categories of veh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0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3 types of driving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0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3 types de fu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0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0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distribution of cars by ag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20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emission levels of the regulation in force when first put on the 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990720"/>
            <a:ext cx="868680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ff"/>
                </a:solidFill>
                <a:uFillTx/>
                <a:latin typeface="Times New Roman"/>
              </a:rPr>
              <a:t>Emission reduction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Technical potentia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maximum penetration of each mitigation m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Economic potentia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fraction of technical potential for which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ginal cost &lt; Marginal cost cei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49160" y="1579680"/>
            <a:ext cx="8805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persion in cos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rom one site to another is taken into accou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bability law around the mean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=&gt; Avoids an “all-or-nothing” effect on the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netration of meas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7880" y="1363680"/>
            <a:ext cx="89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66ff"/>
                </a:solidFill>
                <a:latin typeface="Times New Roman"/>
              </a:rPr>
              <a:t>EPM (Emission Projection Model)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7880" y="2371680"/>
            <a:ext cx="9021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veloped by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CONOTE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n the framework of studies for Belgian public author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s been used for the 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ational Communication, in conjunction with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ERM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croeconomic model (of the Federal Planning Bureau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062240" y="1940040"/>
            <a:ext cx="2087640" cy="733320"/>
          </a:xfrm>
          <a:prstGeom prst="rect">
            <a:avLst/>
          </a:prstGeom>
          <a:solidFill>
            <a:srgbClr val="d5d8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echno-economic databas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 mitigation meas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7880" y="2084400"/>
            <a:ext cx="2160720" cy="1372680"/>
          </a:xfrm>
          <a:prstGeom prst="rect">
            <a:avLst/>
          </a:prstGeom>
          <a:solidFill>
            <a:srgbClr val="d5d8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Base year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tailed energy bal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ivity variab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ission fa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7880" y="3956040"/>
            <a:ext cx="2160720" cy="1372680"/>
          </a:xfrm>
          <a:prstGeom prst="rect">
            <a:avLst/>
          </a:prstGeom>
          <a:solidFill>
            <a:srgbClr val="d5d8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Evolution of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ivity lev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pecific energy consum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uel market sh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ission fa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62240" y="3379680"/>
            <a:ext cx="2087640" cy="520200"/>
          </a:xfrm>
          <a:prstGeom prst="rect">
            <a:avLst/>
          </a:prstGeom>
          <a:solidFill>
            <a:srgbClr val="b7dde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siness-as-usual scenario (BAU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18240" y="3379680"/>
            <a:ext cx="2232360" cy="520200"/>
          </a:xfrm>
          <a:prstGeom prst="rect">
            <a:avLst/>
          </a:prstGeom>
          <a:solidFill>
            <a:srgbClr val="b7dde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mission reduction sce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38600" y="2732040"/>
            <a:ext cx="5745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38600" y="4603680"/>
            <a:ext cx="5745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13160" y="3811680"/>
            <a:ext cx="0" cy="79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13160" y="3811680"/>
            <a:ext cx="6490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62240" y="4603680"/>
            <a:ext cx="2087640" cy="1585800"/>
          </a:xfrm>
          <a:prstGeom prst="rect">
            <a:avLst/>
          </a:prstGeom>
          <a:solidFill>
            <a:srgbClr val="edc1a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cenario hypothes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ergy p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iling on marginal reduction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count r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49880" y="3668760"/>
            <a:ext cx="1368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49880" y="2444760"/>
            <a:ext cx="646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49880" y="5468760"/>
            <a:ext cx="647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97520" y="3811680"/>
            <a:ext cx="0" cy="1657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44840" y="860400"/>
            <a:ext cx="46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66ff"/>
                </a:solidFill>
                <a:uFillTx/>
                <a:latin typeface="Times New Roman"/>
              </a:rPr>
              <a:t>EPM </a:t>
            </a:r>
            <a:r>
              <a:rPr b="0" lang="en-GB" sz="3200" spc="-1" strike="noStrike" u="sng">
                <a:solidFill>
                  <a:srgbClr val="0066ff"/>
                </a:solidFill>
                <a:uFillTx/>
                <a:latin typeface="Times New Roman"/>
              </a:rPr>
              <a:t>scenario</a:t>
            </a:r>
            <a:r>
              <a:rPr b="0" lang="fr-FR" sz="3200" spc="-1" strike="noStrike" u="sng">
                <a:solidFill>
                  <a:srgbClr val="0066ff"/>
                </a:solidFill>
                <a:uFillTx/>
                <a:latin typeface="Times New Roman"/>
              </a:rPr>
              <a:t> </a:t>
            </a:r>
            <a:r>
              <a:rPr b="0" lang="en-GB" sz="3200" spc="-1" strike="noStrike" u="sng">
                <a:solidFill>
                  <a:srgbClr val="0066ff"/>
                </a:solidFill>
                <a:uFillTx/>
                <a:latin typeface="Times New Roman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13160" y="3524400"/>
            <a:ext cx="6490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13160" y="2732040"/>
            <a:ext cx="0" cy="792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97520" y="3811680"/>
            <a:ext cx="7207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97520" y="3524400"/>
            <a:ext cx="7207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97520" y="2443320"/>
            <a:ext cx="0" cy="10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93880" y="1147680"/>
            <a:ext cx="86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Other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lti-pollutant (CO2, CH4, N2O, HFCs, PFCs, SF6, SO2, NOx, VO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elling at regional and national level with same approach and common or harmonized hypotheses (has been applied for : Belgium, Wallonia, region of Brussels-Capital, Luxembou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5108400"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/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49160" y="1652760"/>
            <a:ext cx="8856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sibility to calculate the impact on the reduction potential of measures such a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8760" indent="-30636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xes, subsi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8760" indent="-30636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8760" indent="-30636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fficiency improvement objectives (e.g. voluntary agree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8760" indent="-30636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sy updating in case of a modification of key variables (industry sector evolution, technological evolution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3120" indent="-30816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38240" y="1076400"/>
            <a:ext cx="842472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y exogenous data nee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=&gt; large database, with permanent improvement proc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to test the sensitivity to numerous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macroeconomic framework, coupling made with macroeconomic model 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HERM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case of 3rd National Communic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2280" y="1076400"/>
            <a:ext cx="331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66ff"/>
                </a:solidFill>
                <a:uFillTx/>
                <a:latin typeface="Times New Roman"/>
              </a:rPr>
              <a:t>New </a:t>
            </a:r>
            <a:r>
              <a:rPr b="0" lang="en-GB" sz="3200" spc="-1" strike="noStrike" u="sng">
                <a:solidFill>
                  <a:srgbClr val="0066ff"/>
                </a:solidFill>
                <a:uFillTx/>
                <a:latin typeface="Times New Roman"/>
              </a:rPr>
              <a:t>develop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7880" y="2155680"/>
            <a:ext cx="9001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ganisation of the transfer of the model to the administration of the Walloon Region (to allow it to make simulations by itsel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upling to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reenMo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macroeconomic general equilibrium model of the University of Brussels (Prof. Bay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1480" y="2301480"/>
            <a:ext cx="8740800" cy="1150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fr-FR" sz="3300" spc="-1" strike="noStrike">
                <a:solidFill>
                  <a:srgbClr val="ff0000"/>
                </a:solidFill>
                <a:latin typeface="Times New Roman"/>
              </a:rPr>
              <a:t>SOME CHALLENGES FOR </a:t>
            </a:r>
            <a:br>
              <a:rPr sz="3300"/>
            </a:br>
            <a:r>
              <a:rPr b="1" lang="fr-FR" sz="3300" spc="-1" strike="noStrike">
                <a:solidFill>
                  <a:srgbClr val="ff0000"/>
                </a:solidFill>
                <a:latin typeface="Times New Roman"/>
              </a:rPr>
              <a:t>GHG EMISSION MODELL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35040" y="1434960"/>
            <a:ext cx="9331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Size of the reduction potential with negative cost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arriers to "rational decision making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makes it more difficult to assess the impact of policies, in particular of economic instruments (taxation…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4800" y="1292400"/>
            <a:ext cx="9237600" cy="46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P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quantifis potentials with negative c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entative solution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higher discount rates, to reflect the short payback-times required by 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roduce adjustment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duce the weight of energy costs in objectiv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20800" y="1147680"/>
            <a:ext cx="8785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Link between bottom-up and macroeconomic mod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th approaches are complement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difficulty stems in particular from the different disaggregation leve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 mentioned above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EP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has been linked wit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ERM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reenM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7880" y="1147680"/>
            <a:ext cx="928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Projections of HFCs, PFCs and SF6 e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elgian National Communication did not comprise such projections. This is a relatively new are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nce then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CONOTE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has carried out these projections for the Federal Department of the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1480" y="2301480"/>
            <a:ext cx="8740800" cy="1150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fr-FR" sz="3700" spc="-1" strike="noStrike">
                <a:solidFill>
                  <a:srgbClr val="ff0000"/>
                </a:solidFill>
                <a:latin typeface="Times New Roman"/>
              </a:rPr>
              <a:t>METHODOLOGICAL APPROACH</a:t>
            </a:r>
            <a:br>
              <a:rPr sz="3700"/>
            </a:br>
            <a:r>
              <a:rPr b="1" lang="fr-FR" sz="3700" spc="-1" strike="noStrike">
                <a:solidFill>
                  <a:srgbClr val="0066ff"/>
                </a:solidFill>
                <a:latin typeface="Times New Roman"/>
              </a:rPr>
              <a:t>SOME KEY ISSU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1363680"/>
            <a:ext cx="902160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66ff"/>
                </a:solidFill>
                <a:latin typeface="Times New Roman"/>
              </a:rPr>
              <a:t>Difficulties faced for F-gases 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number of gases and mixtures of gases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variety of emission sour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ct that emissions often arise from stocks of gases accumulated in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hortage of data on stocks, loss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pecific model development has been carried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480" y="610920"/>
            <a:ext cx="8740800" cy="1150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fr-FR" sz="4000" spc="-1" strike="noStrike" u="sng">
                <a:solidFill>
                  <a:srgbClr val="0066ff"/>
                </a:solidFill>
                <a:uFillTx/>
                <a:latin typeface="Times New Roman"/>
              </a:rPr>
              <a:t>Observation No.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9160" y="1795320"/>
            <a:ext cx="882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In Belgium, a crucial role is to be played by energy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demand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manag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9160" y="3235320"/>
            <a:ext cx="8929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large share of electricity production is covered by nuclear energy (56% in 2002) and natural gas (23%), while the potential for renewable electricity production is smal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fore the options for GHG emission reduction in the energy transformation sector are lim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480" y="610920"/>
            <a:ext cx="8740800" cy="1150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fr-FR" sz="4000" spc="-1" strike="noStrike" u="sng">
                <a:solidFill>
                  <a:srgbClr val="0066ff"/>
                </a:solidFill>
                <a:uFillTx/>
                <a:latin typeface="Times New Roman"/>
              </a:rPr>
              <a:t>Observation No.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9160" y="1795320"/>
            <a:ext cx="882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here is no simple relationship between the economic activity of a sector and its emission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9160" y="3235320"/>
            <a:ext cx="8929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ortance of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ructural effec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thin a same sector (iron &amp; steel, non metallic minerals…), the intensity of CO2 emissions may easily vary by a factor of 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1520" y="716040"/>
            <a:ext cx="989496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0160" y="840960"/>
            <a:ext cx="8740800" cy="1150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fr-FR" sz="4000" spc="-1" strike="noStrike" u="sng">
                <a:solidFill>
                  <a:srgbClr val="0066ff"/>
                </a:solidFill>
                <a:uFillTx/>
                <a:latin typeface="Times New Roman"/>
              </a:rPr>
              <a:t>Observation No.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0800" y="2058840"/>
            <a:ext cx="88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here is a substantial emission reduction potential with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egative costs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0800" y="3811680"/>
            <a:ext cx="9204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confirmed by over 50 audits carried out by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CONOTE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n large industrial sites in all kinds of se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860400"/>
            <a:ext cx="924084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9400" y="1053720"/>
            <a:ext cx="8740800" cy="1150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GB" sz="4000" spc="-1" strike="noStrike" u="sng">
                <a:solidFill>
                  <a:srgbClr val="0066ff"/>
                </a:solidFill>
                <a:uFillTx/>
                <a:latin typeface="Times New Roman"/>
              </a:rPr>
              <a:t>Methodological consequences</a:t>
            </a:r>
            <a:r>
              <a:rPr b="0" lang="fr-FR" sz="4000" spc="-1" strike="noStrike" u="sng">
                <a:solidFill>
                  <a:srgbClr val="0066ff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7880" y="3076560"/>
            <a:ext cx="92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ed to be as as close as possible to th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hysical rea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: a (very) disaggregated bottom-up type of model, activity variables in physical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7880" y="4676760"/>
            <a:ext cx="89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ulation rather than optimisation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ther a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sensitivity analys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o a set of hypotheses than a representation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ptimal sol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7880" y="2371680"/>
            <a:ext cx="92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ed to focus on energy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demand modell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rancis Altdorfer</dc:creator>
  <dc:description/>
  <cp:keywords>emission projections</cp:keywords>
  <dc:language>en-US</dc:language>
  <cp:lastModifiedBy>camenen</cp:lastModifiedBy>
  <cp:lastPrinted>2001-03-01T22:53:25Z</cp:lastPrinted>
  <dcterms:modified xsi:type="dcterms:W3CDTF">2004-09-03T15:19:01Z</dcterms:modified>
  <cp:revision>563</cp:revision>
  <dc:subject/>
  <dc:title>Experience in Belgium: Energy demand modelling with the EPM bottom-up mod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19754220</vt:r8>
  </property>
  <property fmtid="{D5CDD505-2E9C-101B-9397-08002B2CF9AE}" pid="3" name="_AuthorEmail">
    <vt:lpwstr>francis.altdorfer@econotec.be</vt:lpwstr>
  </property>
  <property fmtid="{D5CDD505-2E9C-101B-9397-08002B2CF9AE}" pid="4" name="_AuthorEmailDisplayName">
    <vt:lpwstr>Francis ALTDORFER</vt:lpwstr>
  </property>
  <property fmtid="{D5CDD505-2E9C-101B-9397-08002B2CF9AE}" pid="5" name="_EmailSubject">
    <vt:lpwstr>RE : UNFCCC workshop on GHG emission projections</vt:lpwstr>
  </property>
</Properties>
</file>