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3AE-C296-4B1F-8F6A-B9DE573B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76A-E9CE-4546-AD23-13ECC5E6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AC8-13A5-4E83-8125-8922E03A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D83-EBF0-4746-917E-B98AB5C8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D54-5F11-4B3C-BA94-D4AC5722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A4D-B8FA-452F-9EF1-E62CA80B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8F5-6794-4D25-8735-57561345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410-44C3-4EC1-9663-266C089C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5B7-B271-4141-B815-F500370A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A0F-79E8-4465-9CEC-EBE5813A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2D6-E4C8-4603-BD2E-11BCC5F3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AF6-19AF-4903-8031-D44FC05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BAE9-6CE7-4460-9E2E-4FDDAD7479A7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9144000" cy="6400800"/>
            <a:chOff x="0" y="152280"/>
            <a:chExt cx="9144000" cy="64008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798720" y="6002280"/>
              <a:ext cx="147672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8229600" y="6246720"/>
              <a:ext cx="422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533520" y="152280"/>
              <a:ext cx="114300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Greenhouse gas emission scenarios for agriculture in Fin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914400"/>
            <a:ext cx="7391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UNFCCC Workshop on Emissions Projections from Annex I Parties, 6-8.9.2004, Wissenschaftszentrum, Bonn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4267080"/>
            <a:ext cx="6934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Paula Perälä, Heikki Leht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MTT Agrifood Research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56272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aula.perala@mtt.fi;heikki.lehtonen@mtt.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152280"/>
            <a:ext cx="9144000" cy="6400800"/>
            <a:chOff x="0" y="152280"/>
            <a:chExt cx="9144000" cy="64008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798720" y="6002280"/>
              <a:ext cx="147672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8229600" y="6246720"/>
              <a:ext cx="422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533520" y="152280"/>
              <a:ext cx="114300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143000"/>
            <a:ext cx="815328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Previous agricultural scenarios developed in 2001, presented in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Finland´s Third National Communication Under The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United Nations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Framework Convention on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No major changes in agricultural policy since the previous emission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Development of emissions in line with the previously projeted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Process of updating previous scenarios is under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52280"/>
            <a:ext cx="9144000" cy="6400800"/>
            <a:chOff x="0" y="152280"/>
            <a:chExt cx="9144000" cy="64008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798720" y="6002280"/>
              <a:ext cx="147672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8229600" y="6246720"/>
              <a:ext cx="422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533520" y="152280"/>
              <a:ext cx="114300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Updating of agricultural </a:t>
            </a:r>
            <a:br>
              <a:rPr sz="2800"/>
            </a:b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emission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Implementation and review of National Climat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New reporting guidelines for Land Use, Land-Use Change and Forestry-&gt; CO</a:t>
            </a:r>
            <a:r>
              <a:rPr b="1" lang="fi-F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emissions from agricultural soils currently included under Agriculture but are now to be reported under Land Use, Land-Use Change and Fore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Coordination:  Ministry of Agriculture and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Calculations:  MTT Agrifood Research Finland, Economic Research, Environment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With Measures-scenario, With Additional Measures-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Emission scenarios up to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74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Methodology for creating </a:t>
            </a:r>
            <a:br>
              <a:rPr sz="2800"/>
            </a:b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agricultural emission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licy scenari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With measures, base scenario: Follows Agenda 2000 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With additional measures, CAP reform-scenario: Follows the EU agricultural policy reform agreed in Jun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 u="sng">
                <a:solidFill>
                  <a:srgbClr val="000000"/>
                </a:solidFill>
                <a:uFillTx/>
                <a:latin typeface="Times New Roman"/>
              </a:rPr>
              <a:t>Emission scenarios-combination of two mod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MTT Agrifood Research Finland, Economic Research: The agricultural sector model DREMFIA-&gt; dynamic recursive optimisation model simulating changes in agricultural production and pr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MTT Agrifood Research Finland: Model used for estimating annual greenhouse gas emissions in Finland-&gt; emissions reported to the UNFCCC and European Commission in national greenhouse gas 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152280"/>
            <a:ext cx="9144000" cy="6400800"/>
            <a:chOff x="0" y="152280"/>
            <a:chExt cx="9144000" cy="64008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3798720" y="6002280"/>
              <a:ext cx="147672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8229600" y="6246720"/>
              <a:ext cx="422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533520" y="152280"/>
              <a:ext cx="1143000" cy="5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atial price equilibrium model drives changes in production 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The agricultural sector model DREMFIA</a:t>
            </a: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ynamic, recursive optimisation model (maximises consumer and producer surplus)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includes 18 production region, most important products, includes 18 different dairy products, excludes horticulture, sheep and ho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(activity data for the greenhouse gas emission scenarios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land use, animal production, use of feed, fertilisation, crop yield response; milk yield response; farm investments; endogenous domestic product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ogenous input prices; absolute production volume is uncertain, but changes between the outcomes of policy scenarios are more rob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152280"/>
            <a:ext cx="9144000" cy="6400800"/>
            <a:chOff x="0" y="152280"/>
            <a:chExt cx="9144000" cy="64008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798720" y="6002280"/>
              <a:ext cx="147672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8229600" y="6246720"/>
              <a:ext cx="422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533520" y="152280"/>
              <a:ext cx="1143000" cy="5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4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Model for calculating </a:t>
            </a:r>
            <a:br>
              <a:rPr sz="2800"/>
            </a:b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agricultural emission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Excel-spreadsheet model developed at VTT Technical Research Centre of Finland, under further development at MTT Agrifood Research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Currently includes CH</a:t>
            </a:r>
            <a:r>
              <a:rPr b="1" lang="fi-FI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emissions from enteric fermentation,  CH</a:t>
            </a:r>
            <a:r>
              <a:rPr b="1" lang="fi-FI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and N</a:t>
            </a:r>
            <a:r>
              <a:rPr b="1" lang="fi-F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O emissions from  manure management and N</a:t>
            </a:r>
            <a:r>
              <a:rPr b="1" lang="fi-F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O emissions from agricultual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Emissions are calculated according to IPCC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Uses the results of the DREMFIA-model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152280"/>
            <a:ext cx="9144000" cy="6400800"/>
            <a:chOff x="0" y="152280"/>
            <a:chExt cx="9144000" cy="64008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3798720" y="6002280"/>
              <a:ext cx="147672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8229600" y="6246720"/>
              <a:ext cx="422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533520" y="152280"/>
              <a:ext cx="1143000" cy="5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4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Model for calculating </a:t>
            </a:r>
            <a:br>
              <a:rPr sz="2800"/>
            </a:b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agricultural emission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Main drivers are animal numbers, milk production per dairy cow, the amount of syhthetic fertiliser sold annually and crop y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IPCC default emission factor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Expert judgement and linear interpolation/extra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used for estimating the development of some parameters, eg. animal numbers not included into DREMFIA-model, development of animal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152280"/>
            <a:ext cx="9144000" cy="6400800"/>
            <a:chOff x="0" y="152280"/>
            <a:chExt cx="9144000" cy="64008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3798720" y="6002280"/>
              <a:ext cx="147672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8229600" y="6246720"/>
              <a:ext cx="422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533520" y="152280"/>
              <a:ext cx="1143000" cy="5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74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Furth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Models should be developed further in order to better fit together, eg. all the most important animal categories and crop species should be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Process for calculating emission scenarios should be included into the National System for making greenhouse gas inven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Models should be further developed in order to calculate  projected CO</a:t>
            </a:r>
            <a:r>
              <a:rPr b="1" lang="fi-F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emissions from agricultural soils according to new IPCC guidelines for Land Use, Land-Use Change and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Use of these scenarios for the purposes of follow up implementation of National Climat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152280"/>
            <a:ext cx="9144000" cy="6400800"/>
            <a:chOff x="0" y="152280"/>
            <a:chExt cx="9144000" cy="64008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798720" y="6002280"/>
              <a:ext cx="147672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8229600" y="6246720"/>
              <a:ext cx="422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33520" y="152280"/>
              <a:ext cx="1143000" cy="5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6:31:42Z</dcterms:created>
  <dc:creator>Paula Perälä, Heikki Lehtonen</dc:creator>
  <dc:description/>
  <cp:keywords>emission projections</cp:keywords>
  <dc:language>en-US</dc:language>
  <cp:lastModifiedBy>camenen</cp:lastModifiedBy>
  <dcterms:modified xsi:type="dcterms:W3CDTF">2004-09-03T15:15:18Z</dcterms:modified>
  <cp:revision>33</cp:revision>
  <dc:subject/>
  <dc:title>Greenhouse gas emission scenarios for agriculture in Finland</dc:title>
</cp:coreProperties>
</file>