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08D-E88B-4B03-8FD2-92210137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D7A-7E4C-4343-AEE6-0A26A825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1920" y="38390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FB9-80D4-4AD1-B066-4E17E80C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3920" y="13712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7480" y="13712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3920" y="38390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7480" y="38390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28D-504D-446E-83CD-22EDC788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DAF7-BACB-411A-B1DA-C678F47B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250D-71E8-498F-A830-A94532DC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EC48-ACBF-444B-9B59-13A9B6D2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7BE2-4608-4B59-B759-62BE45BA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A233-A050-4E7D-9EC1-36D68DAA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186840"/>
            <a:ext cx="844416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7804-D783-4830-BCDD-BF6F27FA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5580-B31D-4199-9B1D-10984307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0A8-75C7-4373-BA19-09889499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1920" y="38390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0100-77B2-4E9C-A322-CEB5F112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545E-CB90-4C62-818B-C8F92F12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3246-B90C-4FF3-99F6-CCA9E0E2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1920" y="38390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E48C-53DB-4628-8E91-F6D21B18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3920" y="13712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97480" y="13712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3920" y="38390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97480" y="38390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6B8A-0EEF-4654-80DF-347070E5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C7F-65CB-482A-ACE7-9805101B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87C-2AD0-47AD-8A68-5F6C40CB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087-7732-4ACC-8021-B78B0924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86840"/>
            <a:ext cx="844416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94B-2972-41A4-B391-49AB097D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070-5613-4B30-AFAE-78CEDD9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1920" y="38390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13A-5300-4DAC-99F6-D0C9A3A9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3712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9F4-588B-4146-B544-63C4402E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84320" y="5824440"/>
            <a:ext cx="772920" cy="538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140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5712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7232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F7AEE9-9E0C-4C74-B052-63AD4B00D49F}" type="slidenum">
              <a:rPr b="0" lang="fr-FR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43560" y="6248520"/>
            <a:ext cx="1186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284651"/>
                </a:solidFill>
                <a:latin typeface="Palatino"/>
              </a:rPr>
              <a:t>Federal</a:t>
            </a:r>
            <a:br>
              <a:rPr sz="900"/>
            </a:br>
            <a:r>
              <a:rPr b="0" lang="fr-FR" sz="900" spc="-1" strike="noStrike">
                <a:solidFill>
                  <a:srgbClr val="284651"/>
                </a:solidFill>
                <a:latin typeface="Palatino"/>
              </a:rPr>
              <a:t>Planning Burea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500" spc="-1" strike="noStrike">
                <a:solidFill>
                  <a:srgbClr val="cc6600"/>
                </a:solidFill>
                <a:latin typeface="Palatino"/>
              </a:rPr>
              <a:t>Economic analyses and forecast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0960" y="5486400"/>
            <a:ext cx="1230480" cy="857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94D3DC-F525-421D-8B78-CA5DEE71BE9D}" type="slidenum">
              <a:rPr b="0" lang="fr-FR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6240" y="6248520"/>
            <a:ext cx="1780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284651"/>
                </a:solidFill>
                <a:latin typeface="Palatino"/>
              </a:rPr>
              <a:t>Federal</a:t>
            </a:r>
            <a:br>
              <a:rPr sz="1400"/>
            </a:br>
            <a:r>
              <a:rPr b="0" lang="fr-FR" sz="1400" spc="-1" strike="noStrike">
                <a:solidFill>
                  <a:srgbClr val="284651"/>
                </a:solidFill>
                <a:latin typeface="Palatino"/>
              </a:rPr>
              <a:t>Planning Bur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cc6600"/>
                </a:solidFill>
                <a:latin typeface="Palatino"/>
              </a:rPr>
              <a:t>Economic analyses and foreca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3962520" y="2987640"/>
            <a:ext cx="47498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33440" algn="ctr"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752480" algn="ctr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7524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7524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62520" y="2254320"/>
            <a:ext cx="474984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    </a:t>
            </a: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METHODOLOGY OF EMISSIONS PROJECTIONS  </a:t>
            </a:r>
            <a:br>
              <a:rPr sz="2400"/>
            </a:b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FOR BELGIUM      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(Third national communication, April 2002)</a:t>
            </a:r>
            <a:endParaRPr b="0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22720" y="4835880"/>
            <a:ext cx="4640400" cy="15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8502480" y="5102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edium term projec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Combination of Macro and Micro approach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tep 1: Identification of economically profitable energy savings potentials: microeconomic level (more than 100 measures identified for industry, services, households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edium term projec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Combination of Macro and Micro approach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tep 1: Identification of economically profitable energy savings potentials: microeconomic level (more than 100 measures identified for industry, services, households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tep 2: Translation of this microeconomic information  at the macroeconomic level: direct consequences for the energy coefficients, the energy costs, the employment,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edium term projec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Combination of Macro and Micro approach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tep 1: Identification of economically profitable energy savings potentials: microeconomic level (more than 100 measures identified for industry, services, households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tep 2: Translation of this microeconomic information  at the macroeconomic level: direct consequences for the energy coefficients, the energy costs, the employment,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imulation of the macroeconomic level with the new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edium term projec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Combination of Macro and Micro approach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tep 1: Identification of economically profitable energy savings potentials: microeconomic level (more than 100 measures identified for industry, services, households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tep 2: Translation of this microeconomic information  at the macroeconomic level: direct consequences for the energy coefficients, the energy costs, the employment,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imulation of the macroeconomic level with the new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But: -BAU scenarios not necessarily the same in the two lev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 Identification of energy savings potentials can be    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ntroversial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2680" y="188640"/>
            <a:ext cx="8229600" cy="8874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Scenarios presented: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I. Baseline scenario= « With measures » scenar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2320" y="1341000"/>
            <a:ext cx="404028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his scenario only takes into account firmly decided meas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- GDP average increase: 2.4% during the period 2001-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- moderate increase of energy needs (evolution of energy needs in industry rather low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88800" y="3827520"/>
            <a:ext cx="3511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Decrease of energy consump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per euro of GDP (chart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3960" y="4491000"/>
            <a:ext cx="3630960" cy="13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- However: increase (even if limited)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of CO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emissions: the Kyoto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requirement is not achieved 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(chart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45040" y="1125360"/>
            <a:ext cx="4747680" cy="2595240"/>
            <a:chOff x="4145040" y="1125360"/>
            <a:chExt cx="4747680" cy="2595240"/>
          </a:xfrm>
        </p:grpSpPr>
        <p:graphicFrame>
          <p:nvGraphicFramePr>
            <p:cNvPr id="136" name=""/>
            <p:cNvGraphicFramePr/>
            <p:nvPr/>
          </p:nvGraphicFramePr>
          <p:xfrm>
            <a:off x="4145040" y="1196640"/>
            <a:ext cx="4747680" cy="25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45040" y="1196640"/>
                      <a:ext cx="4747680" cy="25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5203080" y="1125360"/>
              <a:ext cx="2868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ergy consumption per euro of G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140360" y="3645000"/>
            <a:ext cx="4752360" cy="2447640"/>
            <a:chOff x="4140360" y="3645000"/>
            <a:chExt cx="4752360" cy="2447640"/>
          </a:xfrm>
        </p:grpSpPr>
        <p:graphicFrame>
          <p:nvGraphicFramePr>
            <p:cNvPr id="140" name=""/>
            <p:cNvGraphicFramePr/>
            <p:nvPr/>
          </p:nvGraphicFramePr>
          <p:xfrm>
            <a:off x="4140360" y="3716640"/>
            <a:ext cx="4752360" cy="237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40360" y="3716640"/>
                      <a:ext cx="4752360" cy="23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5966640" y="3645000"/>
              <a:ext cx="1148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emi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43800" cy="95544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cenarios presented: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. « With additional measures » scenario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A. Introduction of  a CO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ta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85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ntroduction of a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ax: 1.3 €/ton of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in t; 11.5 €/ton of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in t+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imultaneous reduction of other taxes (social security contribution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o negative effect on GDP grow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light positive effect for 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ignificant impact on energy demand and on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emissions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however not sufficient for Kyoto targe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48320" y="1628640"/>
          <a:ext cx="438768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28640"/>
                    <a:ext cx="438768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cenarios presented: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. « With additional measures » scenario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B. Effects of non-fiscal measu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40878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icro economic evaluation of energy savings potential (use of a specific model:EP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ncorporation of microeconomic information into the macro mod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ositive effects on GDP growth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mployment gai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crease of energy consumptions: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-4.4 % in t+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mportant impact on CO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emiss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7.5 Million of tons avoided)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716360" y="1328760"/>
          <a:ext cx="4272120" cy="39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328760"/>
                    <a:ext cx="427212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Remaining probl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ensitivity analysis: choice of hypotheses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ata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mbination of the mod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71640" y="3169080"/>
            <a:ext cx="3456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END                 </a:t>
            </a:r>
            <a:endParaRPr b="0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122720" y="5302080"/>
            <a:ext cx="4640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Branches conside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48040" cy="472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bran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gricul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anufacturing indust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65200" indent="-18108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termediary go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5200" indent="-18108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quipment go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65200" indent="-18108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nsumption go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ransports and communi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rade, lodging and cate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redit and insura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Health c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Other market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General government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Other non market services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90680" y="1371240"/>
            <a:ext cx="3848040" cy="472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Further disaggregation for the next Communi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Transports and communications disaggregated 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ailroad trans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Urban and road trans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Water and air trans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uxiliary transport activities  and commun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USE OF MODELS FOR MEDIUM AND LONG TERM PROJ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edium term projections: combination of a macro-sectoral econometric  model (HERMES) and of a technico-economic simulation model (EP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Long term projections: use of a long term multi-period energy technology optimisation model (MARKAL) and of an applied general equilibrium model (GEM-E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jections computed for the periods 2000-2010 (medium term instruments) and 2010-2020 (long term instr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scenario with meas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scenario with additional meas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..NO scenario wthout meas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Inputs/ outputs of the mod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nternational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9640" indent="-3394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volution of external 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9640" indent="-3394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rices of commodities (of which energy produc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9640" indent="-3394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9640" indent="-3394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change r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ational poli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9640" indent="-3394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iscal poli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9640" indent="-3394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ocial poli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9640" indent="-3394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thers (labour market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thers (demography, average temperature, structure of electricity production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edium term projec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acroeconomic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806560" y="1371600"/>
            <a:ext cx="312444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National macro-sectoral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HER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429000"/>
            <a:ext cx="2514600" cy="1371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Energy 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balance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BELG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429000"/>
            <a:ext cx="2057400" cy="12952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Energy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GHG emi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5257800"/>
            <a:ext cx="304812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Total GHG Emis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3429000"/>
            <a:ext cx="3645000" cy="12952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Other GHG Emissions 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 (Industrial processes,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agriculture, waste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94920" y="2514600"/>
            <a:ext cx="304812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514600"/>
            <a:ext cx="175248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724280"/>
            <a:ext cx="1752480" cy="533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95520" y="4724280"/>
            <a:ext cx="1295640" cy="533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ain characteristics of the macroeconomic mod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lass of macro-econometric models  based on time se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Keynesian mechanisms; behaviour of agents based on microeconomic foundations ; Top-down  approach (but: macro totals = sum of sectoral figures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Geographical coverage:  Belgium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4500 equations, of which 450 regressions (ECM)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600 exogeneous variab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16 Branches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4  Production factor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15 Consumption categories  (+ 3 subdivis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5 institutional sector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8 Energy Product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Energy products and GHG gase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I. Energy produ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nergy produ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olid fuels: coal, cok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quid fuels: crude oil, motor spirit, diesel oil, residual fuel oil, naphtas and kerose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Gases: natural gas, coke-oven gas,blas-furnace g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new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mputation of energy consumption per branch and agent (households, firms, public administratio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utput: Coherent energy balances based on Eurostat methodology; calculation for each year of the projec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43200" y="1447920"/>
            <a:ext cx="1828800" cy="45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2760" y="1447920"/>
            <a:ext cx="1828800" cy="45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02320" y="1447920"/>
            <a:ext cx="2362320" cy="45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Energy products and GHG gase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II. GHG g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0940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.Energy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uel Combust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nergy Industrie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CH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N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dustry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CH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N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ranspor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CH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N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ther Sector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CH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N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ugitive Emission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. Industrial Processes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dustry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CH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N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,HFC, SF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nergy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. Agricultur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N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. Was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CH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N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l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CH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, N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,HFC, SF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3680" indent="0">
              <a:spcBef>
                <a:spcPts val="788"/>
              </a:spcBef>
              <a:buNone/>
              <a:tabLst>
                <a:tab algn="l" pos="0"/>
                <a:tab algn="l" pos="247644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5562720"/>
            <a:ext cx="8534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232240"/>
            <a:ext cx="8534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889520"/>
            <a:ext cx="8534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708360"/>
            <a:ext cx="8534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Outputs of the macroeconomic mod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GDP and components (consumption, investments, external trade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ctivity per branch (production, value added, investmen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our demand per categ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sts and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ectoral accounts (households, firms, rest of the world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etailed public fina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nergy balances, based on Eurostat method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5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GHG emissions: given according to the GHG inventory classification,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bu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…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Outputs of the macroeconomic mod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r energy related CO2 emissions: differences between our starting points and the latest available inventory due to methodological problem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r other GHG emissions: same starting points, in the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86840"/>
            <a:ext cx="8444160" cy="955800"/>
          </a:xfrm>
          <a:prstGeom prst="rect">
            <a:avLst/>
          </a:prstGeom>
          <a:gradFill rotWithShape="0">
            <a:gsLst>
              <a:gs pos="0">
                <a:srgbClr val="df500e"/>
              </a:gs>
              <a:gs pos="100000">
                <a:srgbClr val="f4cab6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edium term projec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icroeconomic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Use of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EPM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model: Energy/ Emission Projection Model (developed by ECONOTE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Bottom up simulation model (and multi-pollutant) covering a time horizon of 10-15 yea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etailed description of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ndustry: 90 activiti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sidential sector: 14 kinds of housing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Tertiary sector: 30 sub-sectors for energy consum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Transport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alculation of emission reduction cost cu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39:39Z</dcterms:created>
  <dc:creator>F. Bossier</dc:creator>
  <dc:description/>
  <cp:keywords>emission projections</cp:keywords>
  <dc:language>en-US</dc:language>
  <cp:lastModifiedBy>camenen</cp:lastModifiedBy>
  <cp:lastPrinted>1999-06-08T11:54:28Z</cp:lastPrinted>
  <dcterms:modified xsi:type="dcterms:W3CDTF">2004-09-03T15:08:35Z</dcterms:modified>
  <cp:revision>150</cp:revision>
  <dc:subject/>
  <dc:title>Methodology of emissions projections for Belgium (Third national communication, April 2002)</dc:title>
</cp:coreProperties>
</file>