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144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8970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424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700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9144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424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700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970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58000"/>
            <a:chOff x="0" y="0"/>
            <a:chExt cx="914724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506520" y="0"/>
              <a:ext cx="377640" cy="10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6689880" y="6372360"/>
              <a:ext cx="218736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568440" y="6438960"/>
              <a:ext cx="23328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506520" y="6729480"/>
              <a:ext cx="371520" cy="1285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219320"/>
              <a:ext cx="91472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246720"/>
              <a:ext cx="91472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500040" y="0"/>
              <a:ext cx="38556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500040" y="6729480"/>
              <a:ext cx="385560" cy="1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561960" y="6438960"/>
              <a:ext cx="233280" cy="2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8"/>
            <a:stretch/>
          </p:blipFill>
          <p:spPr>
            <a:xfrm>
              <a:off x="6683400" y="6372360"/>
              <a:ext cx="219240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9"/>
            <a:stretch/>
          </p:blipFill>
          <p:spPr>
            <a:xfrm>
              <a:off x="0" y="1204920"/>
              <a:ext cx="9144000" cy="505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"/>
          <p:cNvSpPr/>
          <p:nvPr/>
        </p:nvSpPr>
        <p:spPr>
          <a:xfrm>
            <a:off x="5410080" y="5943600"/>
            <a:ext cx="32767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6-08. 09. 2004 | Folie </a:t>
            </a:r>
            <a:fld id="{873A660A-9511-4573-807C-B392586DC6BE}" type="slidenum">
              <a:rPr b="0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UNFCCC Workshop on emissions projections: Austrian approa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1523880"/>
            <a:ext cx="4398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rea Ede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challenge (1): institutional arrangement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jections should cover the whole econo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etence/responsibilities are spread over various minis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or energy projections / transport projections / agricultural proje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odel purposes differ wide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ferent institutions are inv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ults of various studies can not be directly used for emissions calcu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daptations are necessary for use as basis for emissions calculation but not always possi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ustrian approach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mweltbundesamt establishes catalogue of requirements and specifications for proj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o ensure that projections can be used for emissions calcu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o ensure results are meeting requirements of UNFCCC and EU guideli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o ensure consistent and comprehensive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rawback: not applicable when studies are already finished or models can not be changed according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y to involve all relevant keyplayers and stakehol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dvantage (1): model results are accepted countrywi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dvantage (2): best practice to establish proje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rawback (1): major administrative eff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rawback (2): not all sectors are equally represented by stakehold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Challenge (2): methodological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jections should be ideally consistent with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ctoral emissions from the latest available invento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Quantified effect of policies and measures (4N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jections should be designed to be able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et principles: Transparency, Comparability, Completeness, Consistency, Accuracy (TCCC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ive a complete overview of the countries future emissions situ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is favours top down, macro economic approa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 detailed enough for the evaluation of the effects of policies and meas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is favours bottom up (engineering) approa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o not contradict the results of the invento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trict inventory regime does not always allow to use the best available new data and ins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ojection models have to use e.g. emission factors at other aggregation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413000"/>
            <a:ext cx="8569440" cy="432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ustrian approach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322360" y="1562040"/>
            <a:ext cx="5305680" cy="2386080"/>
            <a:chOff x="2322360" y="1562040"/>
            <a:chExt cx="5305680" cy="2386080"/>
          </a:xfrm>
        </p:grpSpPr>
        <p:cxnSp>
          <p:nvCxnSpPr>
            <p:cNvPr id="65" name="_s63498"/>
            <p:cNvCxnSpPr/>
            <p:nvPr/>
          </p:nvCxnSpPr>
          <p:spPr>
            <a:xfrm flipH="1" flipV="1" rot="5400000">
              <a:off x="5680440" y="2108520"/>
              <a:ext cx="444960" cy="1865880"/>
            </a:xfrm>
            <a:prstGeom prst="bentConnector3">
              <a:avLst>
                <a:gd name="adj1" fmla="val 256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63499"/>
            <p:cNvCxnSpPr>
              <a:stCxn id="67" idx="0"/>
              <a:endCxn id="68" idx="2"/>
            </p:cNvCxnSpPr>
            <p:nvPr/>
          </p:nvCxnSpPr>
          <p:spPr>
            <a:xfrm flipH="1" flipV="1" rot="5400000">
              <a:off x="4690800" y="3220560"/>
              <a:ext cx="559800" cy="10080"/>
            </a:xfrm>
            <a:prstGeom prst="bentConnector3">
              <a:avLst>
                <a:gd name="adj1" fmla="val 20398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9" name="_s63500"/>
            <p:cNvCxnSpPr/>
            <p:nvPr/>
          </p:nvCxnSpPr>
          <p:spPr>
            <a:xfrm flipV="1" rot="16200000">
              <a:off x="3843000" y="2117160"/>
              <a:ext cx="444960" cy="1848600"/>
            </a:xfrm>
            <a:prstGeom prst="bentConnector3">
              <a:avLst>
                <a:gd name="adj1" fmla="val 256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63501"/>
            <p:cNvCxnSpPr>
              <a:stCxn id="71" idx="0"/>
              <a:endCxn id="72" idx="2"/>
            </p:cNvCxnSpPr>
            <p:nvPr/>
          </p:nvCxnSpPr>
          <p:spPr>
            <a:xfrm flipV="1" rot="16200000">
              <a:off x="5669280" y="1344600"/>
              <a:ext cx="489600" cy="183744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73" name="_s63502"/>
            <p:cNvCxnSpPr>
              <a:stCxn id="68" idx="0"/>
              <a:endCxn id="72" idx="2"/>
            </p:cNvCxnSpPr>
            <p:nvPr/>
          </p:nvCxnSpPr>
          <p:spPr>
            <a:xfrm flipH="1" flipV="1" rot="5400000">
              <a:off x="4740120" y="2253240"/>
              <a:ext cx="489600" cy="2088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74" name="_s63503"/>
            <p:cNvCxnSpPr>
              <a:stCxn id="75" idx="0"/>
              <a:endCxn id="72" idx="2"/>
            </p:cNvCxnSpPr>
            <p:nvPr/>
          </p:nvCxnSpPr>
          <p:spPr>
            <a:xfrm flipH="1" flipV="1" rot="5400000">
              <a:off x="3812040" y="1324440"/>
              <a:ext cx="489600" cy="187848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2" name="_s63504"/>
            <p:cNvSpPr/>
            <p:nvPr/>
          </p:nvSpPr>
          <p:spPr>
            <a:xfrm>
              <a:off x="4170240" y="1562040"/>
              <a:ext cx="1649520" cy="457200"/>
            </a:xfrm>
            <a:prstGeom prst="roundRect">
              <a:avLst>
                <a:gd name="adj" fmla="val 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Macroecomic scenar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(WIFO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63505"/>
            <p:cNvSpPr/>
            <p:nvPr/>
          </p:nvSpPr>
          <p:spPr>
            <a:xfrm>
              <a:off x="2322360" y="2508120"/>
              <a:ext cx="1592280" cy="438120"/>
            </a:xfrm>
            <a:prstGeom prst="roundRect">
              <a:avLst>
                <a:gd name="adj" fmla="val 208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Energy scenarios (WIFO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63506"/>
            <p:cNvSpPr/>
            <p:nvPr/>
          </p:nvSpPr>
          <p:spPr>
            <a:xfrm>
              <a:off x="4179960" y="2508120"/>
              <a:ext cx="1590480" cy="438120"/>
            </a:xfrm>
            <a:prstGeom prst="roundRect">
              <a:avLst>
                <a:gd name="adj" fmla="val 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Transport scenarios        (TU Graz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63507"/>
            <p:cNvSpPr/>
            <p:nvPr/>
          </p:nvSpPr>
          <p:spPr>
            <a:xfrm>
              <a:off x="6037200" y="2508120"/>
              <a:ext cx="1590840" cy="438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Scenarios  for agriculture, waste, etc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63508"/>
            <p:cNvSpPr/>
            <p:nvPr/>
          </p:nvSpPr>
          <p:spPr>
            <a:xfrm>
              <a:off x="4170240" y="3505320"/>
              <a:ext cx="1590840" cy="438120"/>
            </a:xfrm>
            <a:prstGeom prst="roundRect">
              <a:avLst>
                <a:gd name="adj" fmla="val 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63509"/>
            <p:cNvSpPr/>
            <p:nvPr/>
          </p:nvSpPr>
          <p:spPr>
            <a:xfrm>
              <a:off x="4170240" y="3505320"/>
              <a:ext cx="1590840" cy="438120"/>
            </a:xfrm>
            <a:prstGeom prst="roundRect">
              <a:avLst>
                <a:gd name="adj" fmla="val 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Emissionszenari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63510"/>
            <p:cNvSpPr/>
            <p:nvPr/>
          </p:nvSpPr>
          <p:spPr>
            <a:xfrm>
              <a:off x="4168800" y="3505320"/>
              <a:ext cx="1592280" cy="442800"/>
            </a:xfrm>
            <a:prstGeom prst="roundRect">
              <a:avLst>
                <a:gd name="adj" fmla="val 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Emissions projections (Umweltbundesamt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844720" y="1771560"/>
              <a:ext cx="1152720" cy="6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00920" y="1700280"/>
              <a:ext cx="8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51280" y="2708280"/>
              <a:ext cx="433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5915160" y="1557360"/>
            <a:ext cx="291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p-dow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scenarios on future economic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94720" y="299736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inly bottom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9520" y="256536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p-dow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320" y="3716280"/>
            <a:ext cx="2067480" cy="276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tom up plausibility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618920" y="2997360"/>
            <a:ext cx="1152360" cy="649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4365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8680" y="5025960"/>
            <a:ext cx="35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for estimating effect of policies and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4522680"/>
            <a:ext cx="145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69200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79760" y="4619520"/>
            <a:ext cx="1206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vent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(Umweltbundesam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39337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4076640"/>
            <a:ext cx="33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: same team for inventories and pro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07672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7120" y="400536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gineering know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5516640"/>
            <a:ext cx="453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players participate in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ustrian approach for sensitivity analysis/uncertain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727360" y="4619520"/>
            <a:ext cx="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1546200"/>
            <a:ext cx="273708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0480" y="1546200"/>
            <a:ext cx="273708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266840" y="2122200"/>
            <a:ext cx="1440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266840" y="2482920"/>
            <a:ext cx="1511280" cy="358560"/>
          </a:xfrm>
          <a:prstGeom prst="line">
            <a:avLst/>
          </a:prstGeom>
          <a:ln w="38160">
            <a:solidFill>
              <a:srgbClr val="00a3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66840" y="2841480"/>
            <a:ext cx="158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90480" y="2841480"/>
            <a:ext cx="576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35200" y="3370320"/>
            <a:ext cx="673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221760" y="2293200"/>
            <a:ext cx="130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BIP, Energy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98080" y="295416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Basisja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06840" y="1906560"/>
            <a:ext cx="4730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46160" y="1951200"/>
            <a:ext cx="2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62120" y="2841480"/>
            <a:ext cx="585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10440" y="2887560"/>
            <a:ext cx="38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59000" y="2593800"/>
            <a:ext cx="62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nv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67480" y="2593800"/>
            <a:ext cx="46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wis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1546200"/>
            <a:ext cx="273672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3280" y="1546200"/>
            <a:ext cx="273672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680160" y="211788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0160" y="2838600"/>
            <a:ext cx="158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09960" y="295416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Basisja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8320" y="194796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108280" y="288288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47520" y="1658880"/>
            <a:ext cx="96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Conv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58840" y="165888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is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488440" y="2449440"/>
            <a:ext cx="29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Zi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3840" y="2549520"/>
            <a:ext cx="73080" cy="71280"/>
          </a:xfrm>
          <a:custGeom>
            <a:avLst/>
            <a:gdLst/>
            <a:ahLst/>
            <a:rect l="l" t="t" r="r" b="b"/>
            <a:pathLst>
              <a:path w="90" h="91">
                <a:moveTo>
                  <a:pt x="44" y="0"/>
                </a:moveTo>
                <a:lnTo>
                  <a:pt x="36" y="0"/>
                </a:lnTo>
                <a:lnTo>
                  <a:pt x="27" y="2"/>
                </a:lnTo>
                <a:lnTo>
                  <a:pt x="19" y="8"/>
                </a:lnTo>
                <a:lnTo>
                  <a:pt x="13" y="12"/>
                </a:lnTo>
                <a:lnTo>
                  <a:pt x="8" y="20"/>
                </a:lnTo>
                <a:lnTo>
                  <a:pt x="4" y="27"/>
                </a:lnTo>
                <a:lnTo>
                  <a:pt x="0" y="35"/>
                </a:lnTo>
                <a:lnTo>
                  <a:pt x="0" y="45"/>
                </a:lnTo>
                <a:lnTo>
                  <a:pt x="0" y="54"/>
                </a:lnTo>
                <a:lnTo>
                  <a:pt x="4" y="62"/>
                </a:lnTo>
                <a:lnTo>
                  <a:pt x="8" y="70"/>
                </a:lnTo>
                <a:lnTo>
                  <a:pt x="13" y="77"/>
                </a:lnTo>
                <a:lnTo>
                  <a:pt x="19" y="83"/>
                </a:lnTo>
                <a:lnTo>
                  <a:pt x="27" y="87"/>
                </a:lnTo>
                <a:lnTo>
                  <a:pt x="36" y="89"/>
                </a:lnTo>
                <a:lnTo>
                  <a:pt x="44" y="91"/>
                </a:lnTo>
                <a:lnTo>
                  <a:pt x="54" y="89"/>
                </a:lnTo>
                <a:lnTo>
                  <a:pt x="61" y="87"/>
                </a:lnTo>
                <a:lnTo>
                  <a:pt x="69" y="83"/>
                </a:lnTo>
                <a:lnTo>
                  <a:pt x="77" y="77"/>
                </a:lnTo>
                <a:lnTo>
                  <a:pt x="82" y="70"/>
                </a:lnTo>
                <a:lnTo>
                  <a:pt x="86" y="62"/>
                </a:lnTo>
                <a:lnTo>
                  <a:pt x="88" y="54"/>
                </a:lnTo>
                <a:lnTo>
                  <a:pt x="90" y="45"/>
                </a:lnTo>
                <a:lnTo>
                  <a:pt x="88" y="35"/>
                </a:lnTo>
                <a:lnTo>
                  <a:pt x="86" y="27"/>
                </a:lnTo>
                <a:lnTo>
                  <a:pt x="82" y="20"/>
                </a:lnTo>
                <a:lnTo>
                  <a:pt x="77" y="12"/>
                </a:lnTo>
                <a:lnTo>
                  <a:pt x="69" y="8"/>
                </a:lnTo>
                <a:lnTo>
                  <a:pt x="61" y="2"/>
                </a:lnTo>
                <a:lnTo>
                  <a:pt x="5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6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13840" y="2549520"/>
            <a:ext cx="73080" cy="71280"/>
          </a:xfrm>
          <a:custGeom>
            <a:avLst/>
            <a:gdLst/>
            <a:ahLst/>
            <a:rect l="l" t="t" r="r" b="b"/>
            <a:pathLst>
              <a:path w="90" h="91">
                <a:moveTo>
                  <a:pt x="44" y="0"/>
                </a:moveTo>
                <a:lnTo>
                  <a:pt x="36" y="0"/>
                </a:lnTo>
                <a:lnTo>
                  <a:pt x="27" y="2"/>
                </a:lnTo>
                <a:lnTo>
                  <a:pt x="19" y="8"/>
                </a:lnTo>
                <a:lnTo>
                  <a:pt x="13" y="12"/>
                </a:lnTo>
                <a:lnTo>
                  <a:pt x="8" y="20"/>
                </a:lnTo>
                <a:lnTo>
                  <a:pt x="4" y="27"/>
                </a:lnTo>
                <a:lnTo>
                  <a:pt x="0" y="35"/>
                </a:lnTo>
                <a:lnTo>
                  <a:pt x="0" y="45"/>
                </a:lnTo>
                <a:lnTo>
                  <a:pt x="0" y="54"/>
                </a:lnTo>
                <a:lnTo>
                  <a:pt x="4" y="62"/>
                </a:lnTo>
                <a:lnTo>
                  <a:pt x="8" y="70"/>
                </a:lnTo>
                <a:lnTo>
                  <a:pt x="13" y="77"/>
                </a:lnTo>
                <a:lnTo>
                  <a:pt x="19" y="83"/>
                </a:lnTo>
                <a:lnTo>
                  <a:pt x="27" y="87"/>
                </a:lnTo>
                <a:lnTo>
                  <a:pt x="36" y="89"/>
                </a:lnTo>
                <a:lnTo>
                  <a:pt x="44" y="91"/>
                </a:lnTo>
                <a:lnTo>
                  <a:pt x="54" y="89"/>
                </a:lnTo>
                <a:lnTo>
                  <a:pt x="61" y="87"/>
                </a:lnTo>
                <a:lnTo>
                  <a:pt x="69" y="83"/>
                </a:lnTo>
                <a:lnTo>
                  <a:pt x="77" y="77"/>
                </a:lnTo>
                <a:lnTo>
                  <a:pt x="82" y="70"/>
                </a:lnTo>
                <a:lnTo>
                  <a:pt x="86" y="62"/>
                </a:lnTo>
                <a:lnTo>
                  <a:pt x="88" y="54"/>
                </a:lnTo>
                <a:lnTo>
                  <a:pt x="90" y="45"/>
                </a:lnTo>
                <a:lnTo>
                  <a:pt x="88" y="35"/>
                </a:lnTo>
                <a:lnTo>
                  <a:pt x="86" y="27"/>
                </a:lnTo>
                <a:lnTo>
                  <a:pt x="82" y="20"/>
                </a:lnTo>
                <a:lnTo>
                  <a:pt x="77" y="12"/>
                </a:lnTo>
                <a:lnTo>
                  <a:pt x="69" y="8"/>
                </a:lnTo>
                <a:lnTo>
                  <a:pt x="61" y="2"/>
                </a:lnTo>
                <a:lnTo>
                  <a:pt x="54" y="0"/>
                </a:lnTo>
                <a:lnTo>
                  <a:pt x="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081840" y="283824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0480" y="1546200"/>
            <a:ext cx="273708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0480" y="1546200"/>
            <a:ext cx="273708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266840" y="2122200"/>
            <a:ext cx="1440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266840" y="2482920"/>
            <a:ext cx="1511280" cy="358560"/>
          </a:xfrm>
          <a:prstGeom prst="line">
            <a:avLst/>
          </a:prstGeom>
          <a:ln w="38160">
            <a:solidFill>
              <a:srgbClr val="00a3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66840" y="2841480"/>
            <a:ext cx="158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90480" y="2841480"/>
            <a:ext cx="576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98080" y="295416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Basisja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6840" y="1906560"/>
            <a:ext cx="4730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46160" y="1951200"/>
            <a:ext cx="2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62120" y="2841480"/>
            <a:ext cx="585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10440" y="2887560"/>
            <a:ext cx="38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59000" y="2593800"/>
            <a:ext cx="62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nv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67480" y="2593800"/>
            <a:ext cx="46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wis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83280" y="1546200"/>
            <a:ext cx="273672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83280" y="1546200"/>
            <a:ext cx="273672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680160" y="211788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80160" y="2838600"/>
            <a:ext cx="158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5425200" y="2305080"/>
            <a:ext cx="83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09960" y="295416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Basisja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48320" y="194796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08280" y="288288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47520" y="1658880"/>
            <a:ext cx="96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Conv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8840" y="165888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is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88440" y="2449440"/>
            <a:ext cx="29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Zi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13840" y="2549520"/>
            <a:ext cx="73080" cy="71280"/>
          </a:xfrm>
          <a:custGeom>
            <a:avLst/>
            <a:gdLst/>
            <a:ahLst/>
            <a:rect l="l" t="t" r="r" b="b"/>
            <a:pathLst>
              <a:path w="90" h="91">
                <a:moveTo>
                  <a:pt x="44" y="0"/>
                </a:moveTo>
                <a:lnTo>
                  <a:pt x="36" y="0"/>
                </a:lnTo>
                <a:lnTo>
                  <a:pt x="27" y="2"/>
                </a:lnTo>
                <a:lnTo>
                  <a:pt x="19" y="8"/>
                </a:lnTo>
                <a:lnTo>
                  <a:pt x="13" y="12"/>
                </a:lnTo>
                <a:lnTo>
                  <a:pt x="8" y="20"/>
                </a:lnTo>
                <a:lnTo>
                  <a:pt x="4" y="27"/>
                </a:lnTo>
                <a:lnTo>
                  <a:pt x="0" y="35"/>
                </a:lnTo>
                <a:lnTo>
                  <a:pt x="0" y="45"/>
                </a:lnTo>
                <a:lnTo>
                  <a:pt x="0" y="54"/>
                </a:lnTo>
                <a:lnTo>
                  <a:pt x="4" y="62"/>
                </a:lnTo>
                <a:lnTo>
                  <a:pt x="8" y="70"/>
                </a:lnTo>
                <a:lnTo>
                  <a:pt x="13" y="77"/>
                </a:lnTo>
                <a:lnTo>
                  <a:pt x="19" y="83"/>
                </a:lnTo>
                <a:lnTo>
                  <a:pt x="27" y="87"/>
                </a:lnTo>
                <a:lnTo>
                  <a:pt x="36" y="89"/>
                </a:lnTo>
                <a:lnTo>
                  <a:pt x="44" y="91"/>
                </a:lnTo>
                <a:lnTo>
                  <a:pt x="54" y="89"/>
                </a:lnTo>
                <a:lnTo>
                  <a:pt x="61" y="87"/>
                </a:lnTo>
                <a:lnTo>
                  <a:pt x="69" y="83"/>
                </a:lnTo>
                <a:lnTo>
                  <a:pt x="77" y="77"/>
                </a:lnTo>
                <a:lnTo>
                  <a:pt x="82" y="70"/>
                </a:lnTo>
                <a:lnTo>
                  <a:pt x="86" y="62"/>
                </a:lnTo>
                <a:lnTo>
                  <a:pt x="88" y="54"/>
                </a:lnTo>
                <a:lnTo>
                  <a:pt x="90" y="45"/>
                </a:lnTo>
                <a:lnTo>
                  <a:pt x="88" y="35"/>
                </a:lnTo>
                <a:lnTo>
                  <a:pt x="86" y="27"/>
                </a:lnTo>
                <a:lnTo>
                  <a:pt x="82" y="20"/>
                </a:lnTo>
                <a:lnTo>
                  <a:pt x="77" y="12"/>
                </a:lnTo>
                <a:lnTo>
                  <a:pt x="69" y="8"/>
                </a:lnTo>
                <a:lnTo>
                  <a:pt x="61" y="2"/>
                </a:lnTo>
                <a:lnTo>
                  <a:pt x="5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6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13840" y="2549520"/>
            <a:ext cx="73080" cy="71280"/>
          </a:xfrm>
          <a:custGeom>
            <a:avLst/>
            <a:gdLst/>
            <a:ahLst/>
            <a:rect l="l" t="t" r="r" b="b"/>
            <a:pathLst>
              <a:path w="90" h="91">
                <a:moveTo>
                  <a:pt x="44" y="0"/>
                </a:moveTo>
                <a:lnTo>
                  <a:pt x="36" y="0"/>
                </a:lnTo>
                <a:lnTo>
                  <a:pt x="27" y="2"/>
                </a:lnTo>
                <a:lnTo>
                  <a:pt x="19" y="8"/>
                </a:lnTo>
                <a:lnTo>
                  <a:pt x="13" y="12"/>
                </a:lnTo>
                <a:lnTo>
                  <a:pt x="8" y="20"/>
                </a:lnTo>
                <a:lnTo>
                  <a:pt x="4" y="27"/>
                </a:lnTo>
                <a:lnTo>
                  <a:pt x="0" y="35"/>
                </a:lnTo>
                <a:lnTo>
                  <a:pt x="0" y="45"/>
                </a:lnTo>
                <a:lnTo>
                  <a:pt x="0" y="54"/>
                </a:lnTo>
                <a:lnTo>
                  <a:pt x="4" y="62"/>
                </a:lnTo>
                <a:lnTo>
                  <a:pt x="8" y="70"/>
                </a:lnTo>
                <a:lnTo>
                  <a:pt x="13" y="77"/>
                </a:lnTo>
                <a:lnTo>
                  <a:pt x="19" y="83"/>
                </a:lnTo>
                <a:lnTo>
                  <a:pt x="27" y="87"/>
                </a:lnTo>
                <a:lnTo>
                  <a:pt x="36" y="89"/>
                </a:lnTo>
                <a:lnTo>
                  <a:pt x="44" y="91"/>
                </a:lnTo>
                <a:lnTo>
                  <a:pt x="54" y="89"/>
                </a:lnTo>
                <a:lnTo>
                  <a:pt x="61" y="87"/>
                </a:lnTo>
                <a:lnTo>
                  <a:pt x="69" y="83"/>
                </a:lnTo>
                <a:lnTo>
                  <a:pt x="77" y="77"/>
                </a:lnTo>
                <a:lnTo>
                  <a:pt x="82" y="70"/>
                </a:lnTo>
                <a:lnTo>
                  <a:pt x="86" y="62"/>
                </a:lnTo>
                <a:lnTo>
                  <a:pt x="88" y="54"/>
                </a:lnTo>
                <a:lnTo>
                  <a:pt x="90" y="45"/>
                </a:lnTo>
                <a:lnTo>
                  <a:pt x="88" y="35"/>
                </a:lnTo>
                <a:lnTo>
                  <a:pt x="86" y="27"/>
                </a:lnTo>
                <a:lnTo>
                  <a:pt x="82" y="20"/>
                </a:lnTo>
                <a:lnTo>
                  <a:pt x="77" y="12"/>
                </a:lnTo>
                <a:lnTo>
                  <a:pt x="69" y="8"/>
                </a:lnTo>
                <a:lnTo>
                  <a:pt x="61" y="2"/>
                </a:lnTo>
                <a:lnTo>
                  <a:pt x="54" y="0"/>
                </a:lnTo>
                <a:lnTo>
                  <a:pt x="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81840" y="283824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0480" y="1546200"/>
            <a:ext cx="279900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480" y="1546200"/>
            <a:ext cx="279900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90480" y="2841480"/>
            <a:ext cx="576360" cy="43344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76840" y="2954160"/>
            <a:ext cx="81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Base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6840" y="1906560"/>
            <a:ext cx="4730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62120" y="1773360"/>
            <a:ext cx="70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optim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62120" y="2841480"/>
            <a:ext cx="585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67080" y="2852640"/>
            <a:ext cx="79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essim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1557360"/>
            <a:ext cx="273708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83280" y="1546200"/>
            <a:ext cx="273672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59040" y="3332160"/>
            <a:ext cx="3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86920" y="2954160"/>
            <a:ext cx="81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Base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35520" y="194796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03480" y="285264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04120" y="16588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084720" y="2852640"/>
            <a:ext cx="574920" cy="432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82160" y="1700280"/>
            <a:ext cx="173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limate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3860640"/>
            <a:ext cx="8496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croeconomic model (3 scenarios on future econom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nventional wisdom (main scenario), optimistic and pessimistic (uncertain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Uncertainty of the future developments which can not be influenced (or only marginal) by climate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nergy, transport, waste and agriculture projections ideally use same economic parameters (BIP, prices, etc.) for calc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Variation of parameters within the constraints of the economic model, or other essential parameters as appropr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2060640"/>
            <a:ext cx="1943280" cy="431640"/>
          </a:xfrm>
          <a:prstGeom prst="rightArrow">
            <a:avLst>
              <a:gd name="adj1" fmla="val 50000"/>
              <a:gd name="adj2" fmla="val 1125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4589000">
            <a:off x="7199640" y="1591200"/>
            <a:ext cx="504720" cy="1729080"/>
          </a:xfrm>
          <a:prstGeom prst="triangle">
            <a:avLst>
              <a:gd name="adj" fmla="val 50000"/>
            </a:avLst>
          </a:prstGeom>
          <a:solidFill>
            <a:srgbClr val="bbe0e3">
              <a:alpha val="42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453800">
            <a:off x="7309440" y="1918440"/>
            <a:ext cx="432000" cy="1725480"/>
          </a:xfrm>
          <a:prstGeom prst="triangle">
            <a:avLst>
              <a:gd name="adj" fmla="val 22912"/>
            </a:avLst>
          </a:prstGeom>
          <a:solidFill>
            <a:srgbClr val="bbe0e3">
              <a:alpha val="42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5325800">
            <a:off x="1744560" y="1687320"/>
            <a:ext cx="800280" cy="1819080"/>
          </a:xfrm>
          <a:prstGeom prst="triangle">
            <a:avLst>
              <a:gd name="adj" fmla="val 45444"/>
            </a:avLst>
          </a:prstGeom>
          <a:solidFill>
            <a:srgbClr val="bbe0e3">
              <a:alpha val="42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80160" y="2838600"/>
            <a:ext cx="1584360" cy="144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680160" y="2117880"/>
            <a:ext cx="1440000" cy="7207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66840" y="2349000"/>
            <a:ext cx="1792440" cy="4921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9400" y="2781360"/>
            <a:ext cx="2314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ith measures (w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ith additional measures (w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2480" y="2484360"/>
            <a:ext cx="12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nventional wis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02480" y="3068640"/>
            <a:ext cx="70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optim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96160" y="1773360"/>
            <a:ext cx="79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essim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ank you for your attentio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6:12:30Z</dcterms:created>
  <dc:creator>Andrea Edelmann</dc:creator>
  <dc:description/>
  <cp:keywords>loggings</cp:keywords>
  <dc:language>en-US</dc:language>
  <cp:lastModifiedBy>camenen</cp:lastModifiedBy>
  <cp:lastPrinted>2003-10-02T17:50:24Z</cp:lastPrinted>
  <dcterms:modified xsi:type="dcterms:W3CDTF">2004-09-07T06:35:21Z</dcterms:modified>
  <cp:revision>39</cp:revision>
  <dc:subject/>
  <dc:title>UNFCCC Workshop on emissions projections: Austrian approa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50916257</vt:r8>
  </property>
  <property fmtid="{D5CDD505-2E9C-101B-9397-08002B2CF9AE}" pid="3" name="_AuthorEmail">
    <vt:lpwstr>andrea.edelmann@umweltbundesamt.at</vt:lpwstr>
  </property>
  <property fmtid="{D5CDD505-2E9C-101B-9397-08002B2CF9AE}" pid="4" name="_AuthorEmailDisplayName">
    <vt:lpwstr>Edelmann Andrea</vt:lpwstr>
  </property>
  <property fmtid="{D5CDD505-2E9C-101B-9397-08002B2CF9AE}" pid="5" name="_EmailSubject">
    <vt:lpwstr/>
  </property>
  <property fmtid="{D5CDD505-2E9C-101B-9397-08002B2CF9AE}" pid="6" name="_PreviousAdHocReviewCycleID">
    <vt:r8>1975388638</vt:r8>
  </property>
</Properties>
</file>