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FAA8-0567-4572-BF1A-24AC6E319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erage: CO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 (also 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C08-ED44-40AB-B471-669444DA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784-9AEC-4782-8354-55141978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146-025D-403C-BB6A-30B954BE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0182-EEF0-4976-A53E-2BFC7C59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180-917B-403B-A68F-1891F9B4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65A-802B-4EC8-8956-15024C6A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ED7-3A6E-4B4A-A85A-6729A5B0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0F6E-4343-4305-807C-F9994313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863-BE0D-49CA-BF16-4EF454A4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636-3BAC-4D4E-A65B-9AF54AF2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3EE-7B44-42A6-97AF-9E19A32B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DA4-1CCD-4340-9792-9D1AB536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99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3399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3399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99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996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D1A6-9B39-43BF-AEFF-F7B1AE63768E}" type="slidenum">
              <a:rPr b="0" lang="en-US" sz="1400" spc="-1" strike="noStrike">
                <a:solidFill>
                  <a:srgbClr val="33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PA_C" descr=""/>
          <p:cNvPicPr/>
          <p:nvPr/>
        </p:nvPicPr>
        <p:blipFill>
          <a:blip r:embed="rId2"/>
          <a:stretch/>
        </p:blipFill>
        <p:spPr>
          <a:xfrm>
            <a:off x="7391520" y="5141880"/>
            <a:ext cx="1752480" cy="17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imes New Roman"/>
              </a:rPr>
              <a:t>US Approach for Projected Greenhouse Gas Emissions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Casey Delhotal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imes New Roman"/>
              </a:rPr>
              <a:t>Issues in the preparation of GHG projections for the energy, transport, industry and waste management sectors</a:t>
            </a:r>
            <a:endParaRPr b="0" lang="en-US" sz="2000" spc="-1" strike="noStrike">
              <a:solidFill>
                <a:srgbClr val="3399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imes New Roman"/>
              </a:rPr>
              <a:t>UNFCCC Workshop on Emissions Projections</a:t>
            </a:r>
            <a:endParaRPr b="0" lang="en-US" sz="2000" spc="-1" strike="noStrike">
              <a:solidFill>
                <a:srgbClr val="3399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Bonn, Germany Sept6-8, 2004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-8 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HFCs, PFCs, and SF6 from Industry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Activity </a:t>
            </a:r>
            <a:r>
              <a:rPr b="1" lang="en-US" sz="2800" spc="-1" strike="noStrike" baseline="10000">
                <a:solidFill>
                  <a:srgbClr val="3399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 Emission Factor = Emissions         (IPCC Good Practice Guidance)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Calculated by industrial usage (ex: emissions for the semiconductor industry)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Drivers or activity =  industrial production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Checked Against Chemical Sales Data (e.g., gas sales from AFEAS, RAND SF</a:t>
            </a:r>
            <a:r>
              <a:rPr b="0" lang="en-US" sz="2800" spc="-1" strike="noStrike" baseline="-25000">
                <a:solidFill>
                  <a:srgbClr val="339966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 survey)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-8 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ODS Substitutes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Detailed Yearly Market Data on Over 40 End-Uses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Car ACs, Retail Food, Appliance Foam …</a:t>
            </a:r>
            <a:endParaRPr b="0" lang="en-US" sz="24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Track Market as it Transitions from ODSs into HFCs and Other Options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Emissions from Leaks, Service, Disposal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Incorporate Technology Improvements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-8 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Vintaging Model Emission Profiles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Ref&amp;AC:  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leaks from use, servicing, disposal</a:t>
            </a:r>
            <a:endParaRPr b="0" lang="en-US" sz="2400" spc="-1" strike="noStrike">
              <a:solidFill>
                <a:srgbClr val="3399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Q is quantity of HFCs added in a given year</a:t>
            </a:r>
            <a:endParaRPr b="0" lang="en-US" sz="2400" spc="-1" strike="noStrike">
              <a:solidFill>
                <a:srgbClr val="339966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Fire Extinguishing:  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leaks/releases each year</a:t>
            </a:r>
            <a:endParaRPr b="0" lang="en-US" sz="2400" spc="-1" strike="noStrike">
              <a:solidFill>
                <a:srgbClr val="339966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Foams:  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manufacturing, use, disposal</a:t>
            </a:r>
            <a:endParaRPr b="0" lang="en-US" sz="2400" spc="-1" strike="noStrike">
              <a:solidFill>
                <a:srgbClr val="339966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Aerosols/MDIs:  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immediate emissions</a:t>
            </a:r>
            <a:endParaRPr b="0" lang="en-US" sz="2400" spc="-1" strike="noStrike">
              <a:solidFill>
                <a:srgbClr val="339966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Solvents:  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percentage leaked during first year (rest is recycled or disposed)</a:t>
            </a:r>
            <a:endParaRPr b="0" lang="en-US" sz="2400" spc="-1" strike="noStrike">
              <a:solidFill>
                <a:srgbClr val="339966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2057400"/>
          <a:ext cx="794700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947000" cy="1019160"/>
                  </a:xfrm>
                  <a:prstGeom prst="rect">
                    <a:avLst/>
                  </a:prstGeom>
                  <a:ln w="9360">
                    <a:solidFill>
                      <a:srgbClr val="3399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-8 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Policies and Measures for HFCs, PFCs and SF6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Significant New Alternatives Program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HFCs and PFCs associated with ODS substitutes</a:t>
            </a:r>
            <a:endParaRPr b="0" lang="en-US" sz="24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HFC-23 Partnership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Partnership with Aluminum Producers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Environmental Stewardship Initiative 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HFCs, PFCs and SF6 from semiconductor production, electric power systems, and magnesium production</a:t>
            </a:r>
            <a:endParaRPr b="0" lang="en-US" sz="2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-8 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Nitrous Oxide from Adipic and Nitric Acid Production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Drivers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99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imes New Roman"/>
              </a:rPr>
              <a:t>adipic = projections of nylon consumption</a:t>
            </a:r>
            <a:endParaRPr b="0" lang="en-US" sz="2000" spc="-1" strike="noStrike">
              <a:solidFill>
                <a:srgbClr val="3399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99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imes New Roman"/>
              </a:rPr>
              <a:t>nitric = projections of fertilizers, explosives and adipic acid consumption</a:t>
            </a:r>
            <a:endParaRPr b="0" lang="en-US" sz="20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Reductions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99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imes New Roman"/>
              </a:rPr>
              <a:t>adipic acid plants reduce emissions by 95 to 98 percent through installed abatement technologies</a:t>
            </a:r>
            <a:endParaRPr b="0" lang="en-US" sz="2000" spc="-1" strike="noStrike">
              <a:solidFill>
                <a:srgbClr val="3399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99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imes New Roman"/>
              </a:rPr>
              <a:t>nitric acid plants reduce emissions through Non-Selective Catalytic Reduction NOx control (98%).  Only at selected plants.</a:t>
            </a:r>
            <a:endParaRPr b="0" lang="en-US" sz="20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-8 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Uncertainties Affecting Projections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Technology Development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Regulatory or Statutory Changes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Energy Price Changes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Economic Growth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Weather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-8 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Overview of Projections Methodology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CO</a:t>
            </a:r>
            <a:r>
              <a:rPr b="0" lang="en-US" sz="2800" spc="-1" strike="noStrike" baseline="-25000">
                <a:solidFill>
                  <a:srgbClr val="3399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 emissions from energy, transportation and industry calculated using the National Energy Modeling System (NEMS) model.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Non-CO</a:t>
            </a:r>
            <a:r>
              <a:rPr b="0" lang="en-US" sz="2800" spc="-1" strike="noStrike" baseline="-25000">
                <a:solidFill>
                  <a:srgbClr val="3399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 emissions calculated separately.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Policies and measures in place as of July 1, 2001 modeled in baselines; future, potential policies not modeled.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-8 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NEMS_figure_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6477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66"/>
                </a:solidFill>
                <a:latin typeface="Times New Roman"/>
              </a:rPr>
              <a:t>http://www.eia.doe.gov/oiaf/aeo/overview/overview.html</a:t>
            </a:r>
            <a:endParaRPr b="0" lang="en-US" sz="12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National Energy Modeling Systems (NEMS)</a:t>
            </a:r>
            <a:endParaRPr b="0" lang="en-US" sz="32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-8 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Assumptions Used in NEMS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38080" y="1219320"/>
          <a:ext cx="76042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6042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-8 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Assumptions Used in NEMS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80880" y="1004760"/>
          <a:ext cx="8148600" cy="585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04760"/>
                    <a:ext cx="8148600" cy="58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-8 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Policy Coverage in NEMS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Impacts and costs of legislation and regulations adopted as of July 1, 2001, including: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99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imes New Roman"/>
              </a:rPr>
              <a:t>appliance and lighting efficiencies (Energy Star specifications)</a:t>
            </a:r>
            <a:endParaRPr b="0" lang="en-US" sz="2000" spc="-1" strike="noStrike">
              <a:solidFill>
                <a:srgbClr val="3399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99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imes New Roman"/>
              </a:rPr>
              <a:t>adoption of electric and alternative-fuel vehicles in accord with federal and state requirements.</a:t>
            </a:r>
            <a:endParaRPr b="0" lang="en-US" sz="2000" spc="-1" strike="noStrike">
              <a:solidFill>
                <a:srgbClr val="3399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99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imes New Roman"/>
              </a:rPr>
              <a:t>renewable fuel requirements, etc.</a:t>
            </a:r>
            <a:endParaRPr b="0" lang="en-US" sz="20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Impact of the President’s climate change initiative and the National Energy Policy NOT included in analysis.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-8 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Methane from Coal Mines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Projected coal production </a:t>
            </a:r>
            <a:r>
              <a:rPr b="1" lang="en-US" sz="2800" spc="-1" strike="noStrike" baseline="10000">
                <a:solidFill>
                  <a:srgbClr val="3399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 basin specific emission factor = emissions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Driver: coal production projections from NEMS/American Energy Outlook (AEO)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Projected reductions from voluntary program/EPAct Reductions subtracted from projections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-8 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Methane from Natural Gas Operations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Driver: NEMS natural gas projections for production, processing, and transmission &amp; distribution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ICF Inc.’s Natural Gas model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builds infrastructure to meet projected NG demand</a:t>
            </a:r>
            <a:endParaRPr b="0" lang="en-US" sz="2400" spc="-1" strike="noStrike">
              <a:solidFill>
                <a:srgbClr val="3399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emissions associated with fugitives and venting related to equipment used in the infrastructure</a:t>
            </a:r>
            <a:endParaRPr b="0" lang="en-US" sz="24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Projected reductions from voluntary program subtracted from projections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-8 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Times New Roman"/>
              </a:rPr>
              <a:t>Methane from Landfills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Driver: projected population and estimates of recycling and waste diverted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Landfill model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opening and closing of landfills to meet predicted waste disposal needs</a:t>
            </a:r>
            <a:endParaRPr b="0" lang="en-US" sz="2400" spc="-1" strike="noStrike">
              <a:solidFill>
                <a:srgbClr val="3399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emissions calculated using linear decay</a:t>
            </a:r>
            <a:endParaRPr b="0" lang="en-US" sz="24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Projected voluntary reductions/reductions due to Landfill Rule (VOC reductions) subtracted from projected baseline</a:t>
            </a: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-8 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14:43:03Z</dcterms:created>
  <dc:creator>Casey Delhotal</dc:creator>
  <dc:description/>
  <cp:keywords>emission projections</cp:keywords>
  <dc:language>en-US</dc:language>
  <cp:lastModifiedBy>camenen</cp:lastModifiedBy>
  <dcterms:modified xsi:type="dcterms:W3CDTF">2004-09-07T12:53:30Z</dcterms:modified>
  <cp:revision>34</cp:revision>
  <dc:subject/>
  <dc:title>US Approach for Projected Greenhouse Gas Emissions</dc:title>
</cp:coreProperties>
</file>