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7DA-A545-49EC-99F7-BC4EA9E1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328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ABA-CCAD-4EF6-AAEC-6CA70A8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328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8BC-F446-4132-A4F4-523AB2F8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7536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44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7328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7536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44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A7F-4D2F-4DD8-8481-1C6F0A2B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AEB5-DB13-42BA-ABA3-A93CF361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7328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FDB1-4C3A-434B-B75F-2A5A6E2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D570-BD3A-4A3C-9249-BDEA5DB8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78F0-A431-437A-AD61-F83EB01B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DD3D-1827-4C24-99D4-73A8BFB4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5F93-CCC6-4B9E-814B-010CCF65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7328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8F60-A9C7-4A11-B02D-9E8FB514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7328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723-3C1C-477A-9DCD-8DA67052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708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4394-2E0B-40F8-9E51-4AF3A72C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328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AD03-3BE4-4FA0-B0AC-FAF57BB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7328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1BC1-8E78-4BB3-ACBC-0FC193B4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7328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708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A5C7-39C3-4DB4-8A3B-1C64957A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7536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7744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7328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7536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7744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DB3-A91B-4133-9EE4-B1FDBD6F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388-E24E-4719-9010-9A381E1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208-EA58-4DAD-B6A4-F158AAF6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2CB-8459-44A0-A4B5-5D438D25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9C8-069C-42E0-9B2D-C89E5304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7328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12B-8882-4118-9120-252975FB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42D-325C-4F9A-98C4-09AD5688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32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328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382-A7A9-48B9-BF97-B3BFCD1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a64"/>
            </a:gs>
            <a:gs pos="100000">
              <a:srgbClr val="2e2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863440" y="6254640"/>
            <a:ext cx="354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JSI  Energy Efficiency Centre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2e2e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6440" y="1066680"/>
            <a:ext cx="8318520" cy="76320"/>
          </a:xfrm>
          <a:prstGeom prst="rect">
            <a:avLst/>
          </a:prstGeom>
          <a:solidFill>
            <a:srgbClr val="ff3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77328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58120" y="5265720"/>
            <a:ext cx="3178080" cy="3087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e2eb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19160" y="130320"/>
          <a:ext cx="555480" cy="70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130320"/>
                    <a:ext cx="5554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2DCB-5D58-4DA7-BD00-2B77FA39FF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a64"/>
            </a:gs>
            <a:gs pos="100000">
              <a:srgbClr val="2e2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2e2e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6440" y="1066680"/>
            <a:ext cx="8318520" cy="76320"/>
          </a:xfrm>
          <a:prstGeom prst="rect">
            <a:avLst/>
          </a:prstGeom>
          <a:solidFill>
            <a:srgbClr val="ff3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58120" y="5265720"/>
            <a:ext cx="3178080" cy="3087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e2eb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9160" y="130320"/>
          <a:ext cx="555480" cy="70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130320"/>
                    <a:ext cx="5554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01800" y="152280"/>
            <a:ext cx="49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df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efdf0"/>
                </a:solidFill>
                <a:latin typeface="Times New Roman"/>
              </a:rPr>
              <a:t>Jožef Stefan” Institut, Ljubljana, Slov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df0"/>
                </a:solidFill>
                <a:latin typeface="Times New Roman"/>
              </a:rPr>
              <a:t>Energy Efficiency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16002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5627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5"/>
          </p:nvPr>
        </p:nvSpPr>
        <p:spPr>
          <a:xfrm>
            <a:off x="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FC18-F3A5-4100-A8B1-18970531CC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a64"/>
            </a:gs>
            <a:gs pos="100000">
              <a:srgbClr val="2e2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09800"/>
            <a:ext cx="77724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p</a:t>
            </a: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i</a:t>
            </a: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c</a:t>
            </a: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 with energy-related GHG projectio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for Slovenia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e Merše M.Sc.</a:t>
            </a:r>
            <a:br>
              <a:rPr sz="2800"/>
            </a:b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ne.merse@ijs.si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54864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UNFCCC Workshop on emission projection, Bonn. 6-8 September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892840" y="2973240"/>
            <a:ext cx="577800" cy="3747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54720" y="4006800"/>
            <a:ext cx="625680" cy="357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87960" y="2146320"/>
            <a:ext cx="573120" cy="376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91040" y="5727600"/>
            <a:ext cx="574920" cy="374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1040" y="5214960"/>
            <a:ext cx="574920" cy="3747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91040" y="4689360"/>
            <a:ext cx="574920" cy="374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91040" y="3600360"/>
            <a:ext cx="576360" cy="3747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91040" y="4133880"/>
            <a:ext cx="574920" cy="374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01800" y="2487600"/>
            <a:ext cx="573120" cy="374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52520" y="2077920"/>
            <a:ext cx="0" cy="41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12960" y="2077920"/>
            <a:ext cx="0" cy="41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47800" y="2562120"/>
            <a:ext cx="57312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dustri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7800" y="3014640"/>
            <a:ext cx="573120" cy="35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dustri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ydro 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2160" y="3171960"/>
            <a:ext cx="2174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1480" y="2077920"/>
            <a:ext cx="0" cy="41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6480" y="3424320"/>
            <a:ext cx="574920" cy="35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d. he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6480" y="2944800"/>
            <a:ext cx="574920" cy="35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d. Elec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3120" y="2077920"/>
            <a:ext cx="0" cy="41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26240" y="4751280"/>
            <a:ext cx="573120" cy="35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43440" y="2077920"/>
            <a:ext cx="0" cy="41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06960" y="2208240"/>
            <a:ext cx="57312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85800" y="2257560"/>
            <a:ext cx="496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l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6240" y="5792760"/>
            <a:ext cx="573120" cy="3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n ener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6240" y="5292720"/>
            <a:ext cx="573120" cy="35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26240" y="3668760"/>
            <a:ext cx="566640" cy="3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26240" y="4211640"/>
            <a:ext cx="573120" cy="35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c. pro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amp; applia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95760" y="2077920"/>
            <a:ext cx="0" cy="41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7240" y="2077920"/>
            <a:ext cx="0" cy="41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6960" y="2077920"/>
            <a:ext cx="3240" cy="412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72120" y="3703680"/>
            <a:ext cx="572760" cy="35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2120" y="4248000"/>
            <a:ext cx="572760" cy="35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4920" y="4379760"/>
            <a:ext cx="2235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72120" y="4792680"/>
            <a:ext cx="572760" cy="35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26240" y="2508120"/>
            <a:ext cx="644400" cy="35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ctro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26200" y="4052880"/>
            <a:ext cx="684360" cy="35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alu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86680" y="2066760"/>
            <a:ext cx="0" cy="414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91400" y="2077920"/>
            <a:ext cx="3240" cy="412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2273400" y="1540440"/>
            <a:ext cx="8485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ctricity in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485880" y="1653120"/>
            <a:ext cx="64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4922280" y="1522800"/>
            <a:ext cx="882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w temp. he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2301480" y="1412280"/>
            <a:ext cx="1116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w temp. heat  in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593960" y="1457640"/>
            <a:ext cx="1023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ctricity 1-35k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3576960" y="1607400"/>
            <a:ext cx="727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strict he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5126040" y="1605600"/>
            <a:ext cx="734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cess he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2240" y="5967360"/>
            <a:ext cx="39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2240" y="5452920"/>
            <a:ext cx="39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2240" y="4940280"/>
            <a:ext cx="39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91400" y="4235400"/>
            <a:ext cx="336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7592400" y="1427040"/>
            <a:ext cx="1022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ue ad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6373080" y="1521000"/>
            <a:ext cx="808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630840" y="1519200"/>
            <a:ext cx="682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1, kt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24000" y="2077920"/>
            <a:ext cx="0" cy="41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15880" y="2179440"/>
            <a:ext cx="12888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26240" y="2114280"/>
            <a:ext cx="130320" cy="12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13320" y="3089160"/>
            <a:ext cx="5832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16520" y="3257640"/>
            <a:ext cx="1448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[mioSIT/1, mioSIT/kt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02400" y="352908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1640" y="3751200"/>
            <a:ext cx="104760" cy="163440"/>
          </a:xfrm>
          <a:custGeom>
            <a:avLst/>
            <a:gdLst/>
            <a:ahLst/>
            <a:rect l="l" t="t" r="r" b="b"/>
            <a:pathLst>
              <a:path w="66" h="103">
                <a:moveTo>
                  <a:pt x="0" y="0"/>
                </a:moveTo>
                <a:lnTo>
                  <a:pt x="32" y="12"/>
                </a:lnTo>
                <a:lnTo>
                  <a:pt x="65" y="0"/>
                </a:lnTo>
                <a:lnTo>
                  <a:pt x="32" y="10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40480" y="1235160"/>
            <a:ext cx="248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8600" y="1346040"/>
            <a:ext cx="84240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[TJ/1,TJ/kt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51680" y="206064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2360" y="2232000"/>
            <a:ext cx="104760" cy="162000"/>
          </a:xfrm>
          <a:custGeom>
            <a:avLst/>
            <a:gdLst/>
            <a:ahLst/>
            <a:rect l="l" t="t" r="r" b="b"/>
            <a:pathLst>
              <a:path w="66" h="102">
                <a:moveTo>
                  <a:pt x="0" y="0"/>
                </a:moveTo>
                <a:lnTo>
                  <a:pt x="32" y="12"/>
                </a:lnTo>
                <a:lnTo>
                  <a:pt x="65" y="0"/>
                </a:lnTo>
                <a:lnTo>
                  <a:pt x="32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61600" y="1544760"/>
            <a:ext cx="824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7953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9440" y="1954080"/>
            <a:ext cx="105120" cy="160560"/>
          </a:xfrm>
          <a:custGeom>
            <a:avLst/>
            <a:gdLst/>
            <a:ahLst/>
            <a:rect l="l" t="t" r="r" b="b"/>
            <a:pathLst>
              <a:path w="66" h="101">
                <a:moveTo>
                  <a:pt x="0" y="0"/>
                </a:moveTo>
                <a:lnTo>
                  <a:pt x="32" y="12"/>
                </a:lnTo>
                <a:lnTo>
                  <a:pt x="65" y="0"/>
                </a:lnTo>
                <a:lnTo>
                  <a:pt x="32" y="1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53480" y="1747800"/>
            <a:ext cx="824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98720" y="2114640"/>
            <a:ext cx="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271600"/>
            <a:ext cx="103320" cy="166680"/>
          </a:xfrm>
          <a:custGeom>
            <a:avLst/>
            <a:gdLst/>
            <a:ahLst/>
            <a:rect l="l" t="t" r="r" b="b"/>
            <a:pathLst>
              <a:path w="65" h="105">
                <a:moveTo>
                  <a:pt x="0" y="0"/>
                </a:moveTo>
                <a:lnTo>
                  <a:pt x="32" y="13"/>
                </a:lnTo>
                <a:lnTo>
                  <a:pt x="64" y="0"/>
                </a:lnTo>
                <a:lnTo>
                  <a:pt x="32" y="10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69120" y="2349360"/>
            <a:ext cx="920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Market sh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27400" y="2627280"/>
            <a:ext cx="144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76640" y="2720880"/>
            <a:ext cx="104760" cy="165240"/>
          </a:xfrm>
          <a:custGeom>
            <a:avLst/>
            <a:gdLst/>
            <a:ahLst/>
            <a:rect l="l" t="t" r="r" b="b"/>
            <a:pathLst>
              <a:path w="66" h="104">
                <a:moveTo>
                  <a:pt x="0" y="0"/>
                </a:moveTo>
                <a:lnTo>
                  <a:pt x="32" y="13"/>
                </a:lnTo>
                <a:lnTo>
                  <a:pt x="65" y="0"/>
                </a:lnTo>
                <a:lnTo>
                  <a:pt x="32" y="10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712960" y="310356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54280" y="303840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52840" y="3681360"/>
            <a:ext cx="385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021520" y="2138040"/>
            <a:ext cx="128880" cy="12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233680" y="2077920"/>
            <a:ext cx="3240" cy="412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4728960" y="1463040"/>
            <a:ext cx="1014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ctricity 110 k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86200" y="2332080"/>
            <a:ext cx="7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34160" y="3036960"/>
            <a:ext cx="5634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ctr. ar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urn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38720" y="3197160"/>
            <a:ext cx="5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106960" y="541188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37280" y="5477040"/>
            <a:ext cx="5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366880" y="5538960"/>
            <a:ext cx="4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95760" y="56055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2360" y="2781360"/>
            <a:ext cx="317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52840" y="3552840"/>
            <a:ext cx="181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8120" y="4449600"/>
            <a:ext cx="52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48120" y="4962600"/>
            <a:ext cx="6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352160" y="4962600"/>
            <a:ext cx="291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481040" y="5349960"/>
            <a:ext cx="434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4160" y="2652840"/>
            <a:ext cx="39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22360" y="2716200"/>
            <a:ext cx="52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13120" y="38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48120" y="3871800"/>
            <a:ext cx="26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0640" y="268776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5240" y="4254480"/>
            <a:ext cx="27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68640" y="676440"/>
            <a:ext cx="1423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NAL ENER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7440" y="676440"/>
            <a:ext cx="15602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SEFUL ENER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84800" y="647640"/>
            <a:ext cx="1238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46880" y="676440"/>
            <a:ext cx="136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6200" y="2460600"/>
            <a:ext cx="58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96120" y="319896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237280" y="2687760"/>
            <a:ext cx="5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37280" y="4322880"/>
            <a:ext cx="5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237280" y="3743280"/>
            <a:ext cx="5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06960" y="45133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06960" y="393696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473880" y="4362120"/>
            <a:ext cx="318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91440" y="3849840"/>
            <a:ext cx="40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366880" y="4898880"/>
            <a:ext cx="4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54280" y="3228840"/>
            <a:ext cx="155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43440" y="4449600"/>
            <a:ext cx="32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17680" y="3208320"/>
            <a:ext cx="3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353960" y="2652840"/>
            <a:ext cx="387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80680" y="2397240"/>
            <a:ext cx="272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81040" y="5925960"/>
            <a:ext cx="434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93680" y="2077920"/>
            <a:ext cx="0" cy="41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774720" y="1643760"/>
            <a:ext cx="654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ydro e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57880" y="2454120"/>
            <a:ext cx="1584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232416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26120" y="2684520"/>
            <a:ext cx="1728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97600" y="3224160"/>
            <a:ext cx="1728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32240" y="319104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61120" y="3548160"/>
            <a:ext cx="158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00480" y="451008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7880" y="4444920"/>
            <a:ext cx="1584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0800" y="431496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00480" y="393228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30800" y="3740040"/>
            <a:ext cx="1764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61120" y="4890960"/>
            <a:ext cx="1584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495936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0480" y="540864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27560" y="546732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61120" y="5530680"/>
            <a:ext cx="1584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9640" y="5597640"/>
            <a:ext cx="1728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0240" y="4937040"/>
            <a:ext cx="1728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0240" y="5451480"/>
            <a:ext cx="1728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0240" y="5961240"/>
            <a:ext cx="1728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3480" y="4933800"/>
            <a:ext cx="1728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86720" y="4357800"/>
            <a:ext cx="1260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6720" y="4232160"/>
            <a:ext cx="1260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6720" y="3844800"/>
            <a:ext cx="1260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6720" y="3198960"/>
            <a:ext cx="1260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0240" y="2676600"/>
            <a:ext cx="1260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80200" y="4253040"/>
            <a:ext cx="1296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0480" y="3863880"/>
            <a:ext cx="1440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5520" y="3676680"/>
            <a:ext cx="158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7000" y="3865680"/>
            <a:ext cx="158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38760" y="4444920"/>
            <a:ext cx="1404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3760" y="3032280"/>
            <a:ext cx="140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01800" y="264636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2711520"/>
            <a:ext cx="158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6840" y="3097080"/>
            <a:ext cx="1728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03600" y="3201840"/>
            <a:ext cx="1728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63600" y="592308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74920" y="2390760"/>
            <a:ext cx="1728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999360" y="1747080"/>
            <a:ext cx="450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1205640" y="1683360"/>
            <a:ext cx="5770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uels F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22400" y="2913120"/>
            <a:ext cx="296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,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15920" y="3546360"/>
            <a:ext cx="296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,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23640" y="2006640"/>
            <a:ext cx="296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,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79600" y="2079720"/>
            <a:ext cx="0" cy="41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290600" y="2181240"/>
            <a:ext cx="130320" cy="1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68440" y="284004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47840" y="2649600"/>
            <a:ext cx="1728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479600" y="2844720"/>
            <a:ext cx="26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1091880" y="3208320"/>
            <a:ext cx="655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81080" y="3203640"/>
            <a:ext cx="176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1059840" y="1678680"/>
            <a:ext cx="589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uels T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3602160"/>
            <a:ext cx="12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33560" y="3594240"/>
            <a:ext cx="1584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5440" y="3467160"/>
            <a:ext cx="3589200" cy="3016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476360" y="2206800"/>
            <a:ext cx="2725920" cy="1466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05440" y="2523960"/>
            <a:ext cx="753840" cy="290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03400" y="4257720"/>
            <a:ext cx="0" cy="167328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33840" y="4255920"/>
            <a:ext cx="0" cy="16765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03360" y="4672080"/>
            <a:ext cx="1120680" cy="55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01600" y="4950000"/>
            <a:ext cx="4003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104840" y="5635800"/>
            <a:ext cx="3920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0520" y="4838760"/>
            <a:ext cx="73800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32440" y="5964120"/>
            <a:ext cx="117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70320" y="4243320"/>
            <a:ext cx="0" cy="169236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30520" y="5073480"/>
            <a:ext cx="10015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22800" y="4799160"/>
            <a:ext cx="83880" cy="712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632160" y="4421160"/>
            <a:ext cx="72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2518920" y="4047840"/>
            <a:ext cx="134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HEAT 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913480" y="4872600"/>
            <a:ext cx="1788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03360" y="5335560"/>
            <a:ext cx="1120680" cy="584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630520" y="5522400"/>
            <a:ext cx="738000" cy="180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30520" y="5751360"/>
            <a:ext cx="1009440" cy="1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2972160" y="4175280"/>
            <a:ext cx="107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EM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873520" y="4863600"/>
            <a:ext cx="465120" cy="1194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879640" y="5554800"/>
            <a:ext cx="465120" cy="511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27480" y="5487840"/>
            <a:ext cx="83880" cy="7164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4280" y="3506760"/>
            <a:ext cx="1404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OIL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21240" y="5743440"/>
            <a:ext cx="20520" cy="14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19440" y="5062680"/>
            <a:ext cx="20520" cy="14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43280" y="5942160"/>
            <a:ext cx="233280" cy="21744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88400" y="6103800"/>
            <a:ext cx="718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41320" y="5143680"/>
            <a:ext cx="217440" cy="233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61960" y="3873600"/>
            <a:ext cx="1190880" cy="5508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is.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43280" y="4437000"/>
            <a:ext cx="234720" cy="217440"/>
          </a:xfrm>
          <a:prstGeom prst="down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30320" y="5146560"/>
            <a:ext cx="296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,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602160" y="4344840"/>
            <a:ext cx="58680" cy="6840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93680" y="4943520"/>
            <a:ext cx="20880" cy="14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93680" y="5629320"/>
            <a:ext cx="20880" cy="14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91080" y="2773440"/>
            <a:ext cx="12960" cy="12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8720" y="81360"/>
            <a:ext cx="77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 Industry - main drivers for projected GHG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" y="3471840"/>
            <a:ext cx="3589560" cy="30164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59000" y="4692600"/>
            <a:ext cx="417600" cy="1017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6238800"/>
            <a:ext cx="9748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a64"/>
            </a:gs>
            <a:gs pos="100000">
              <a:srgbClr val="2e2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deling of GHG mitigation measures - INDUSTRY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2920" y="1290600"/>
            <a:ext cx="78944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ogical progres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Current best available technologies (BA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IPPC requirement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BREFs,..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(on site energy efficiency improvment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crease of compressed air networks leakages,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verall decrease of energy intensity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0,5%/a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(M&amp;T,..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technolog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P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, VSD, 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el swit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enetration of </a:t>
            </a:r>
            <a:r>
              <a:rPr b="1" lang="sl-SI" sz="2800" spc="-1" strike="noStrike" u="sng">
                <a:solidFill>
                  <a:srgbClr val="ffff00"/>
                </a:solidFill>
                <a:uFillTx/>
                <a:latin typeface="Times New Roman"/>
              </a:rPr>
              <a:t>measu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en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islation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(IPPC, EU harmonization, etc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Cost benefit (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omic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signal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21600" y="5618160"/>
            <a:ext cx="206280" cy="985680"/>
          </a:xfrm>
          <a:custGeom>
            <a:avLst/>
            <a:gdLst>
              <a:gd name="textAreaLeft" fmla="*/ 0 w 206280"/>
              <a:gd name="textAreaRight" fmla="*/ 74520 w 206280"/>
              <a:gd name="textAreaTop" fmla="*/ 25560 h 985680"/>
              <a:gd name="textAreaBottom" fmla="*/ 96012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504280" y="5518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a64"/>
            </a:gs>
            <a:gs pos="100000">
              <a:srgbClr val="2e2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rket penetration model for energy efficient technologies (spreadsheet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20000" cy="5254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5102280" cy="2241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372420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a64"/>
            </a:gs>
            <a:gs pos="100000">
              <a:srgbClr val="2e2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deling </a:t>
            </a: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uture changes in the modal split of transpor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73280" y="12189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sector mod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n drivers -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ransport demand (volume)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62080" indent="-22860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enger-kilometers (p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62080" indent="-22860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n-kilometers (tk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39160" y="3809880"/>
            <a:ext cx="0" cy="2667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05240" y="3895560"/>
            <a:ext cx="17528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05240" y="4800600"/>
            <a:ext cx="17528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5240" y="5715000"/>
            <a:ext cx="17528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10360" y="480060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1880" y="5222880"/>
            <a:ext cx="13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58080" y="42768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58080" y="51814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58080" y="60958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15320" y="415296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15320" y="5067360"/>
            <a:ext cx="228600" cy="228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991120"/>
            <a:ext cx="228600" cy="228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785200">
            <a:off x="6861960" y="3512160"/>
            <a:ext cx="1170000" cy="368640"/>
          </a:xfrm>
          <a:prstGeom prst="rightArrow">
            <a:avLst>
              <a:gd name="adj1" fmla="val 50000"/>
              <a:gd name="adj2" fmla="val 79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15400" y="271980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rket shares = modal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94560" y="32155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77000" y="4867200"/>
            <a:ext cx="727200" cy="16081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28800" y="3098880"/>
            <a:ext cx="15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29120" y="3513240"/>
            <a:ext cx="511200" cy="26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85800" y="323748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mis.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78320" y="4257720"/>
            <a:ext cx="822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54560" y="3854520"/>
            <a:ext cx="0" cy="2666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08040" y="4262400"/>
            <a:ext cx="1511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98680" y="5376960"/>
            <a:ext cx="151128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19320" y="4645080"/>
            <a:ext cx="453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02040" y="5740560"/>
            <a:ext cx="417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32160" y="452916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40080" y="5619600"/>
            <a:ext cx="228600" cy="228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74720" y="3817800"/>
            <a:ext cx="0" cy="266724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9920" y="3836880"/>
            <a:ext cx="0" cy="266724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0600" y="3003840"/>
            <a:ext cx="15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4824360"/>
            <a:ext cx="4539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50840" y="5983200"/>
            <a:ext cx="4539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3560" y="5634000"/>
            <a:ext cx="750960" cy="0"/>
          </a:xfrm>
          <a:prstGeom prst="line">
            <a:avLst/>
          </a:prstGeom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71480" y="4556160"/>
            <a:ext cx="750960" cy="0"/>
          </a:xfrm>
          <a:prstGeom prst="line">
            <a:avLst/>
          </a:prstGeom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2720" y="3900600"/>
            <a:ext cx="511200" cy="26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10160" y="5202360"/>
            <a:ext cx="5983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18080" y="6091200"/>
            <a:ext cx="5983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77960" y="30690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oad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9160" y="3002040"/>
            <a:ext cx="1552320" cy="987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a64"/>
            </a:gs>
            <a:gs pos="100000">
              <a:srgbClr val="2e2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mpact of voluntary agreements ACE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144440"/>
            <a:ext cx="79660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parate model of passenger car stoc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1936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ficial database data, grouped by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952560" indent="-1890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el type (gasoline - w/w.o. catalytic conv., dies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1890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year of produc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19368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ture evolution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952560" indent="-1890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. of new and eliminated cars/yea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1890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pec. fuel consumption of new cars (agreement ACE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1890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ly mileage by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3681" t="0" r="0" b="0"/>
          <a:stretch/>
        </p:blipFill>
        <p:spPr>
          <a:xfrm>
            <a:off x="4035600" y="3621240"/>
            <a:ext cx="511776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rot="5400000">
            <a:off x="1530720" y="4263480"/>
            <a:ext cx="925560" cy="109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267520"/>
            <a:ext cx="40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Aggregated input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for REE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a64"/>
            </a:gs>
            <a:gs pos="100000">
              <a:srgbClr val="2e2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1960" y="1325520"/>
            <a:ext cx="8634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tom up – technology oriented approach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Enables consistent modeling of measures (without double-counting of saving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Costs calculation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macroeconomic effects, necessary founds, budget resources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intensive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linking of statistical data and practical experiences (on site informations, international practice,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d monitoring, new data for modeling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(E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Implementation uncertainty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ap between policy and measures implementation (forecasting of expected policy result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0:27:46Z</dcterms:created>
  <dc:creator>Stane Merše</dc:creator>
  <dc:description/>
  <cp:keywords>emission projections</cp:keywords>
  <dc:language>en-US</dc:language>
  <cp:lastModifiedBy>camenen</cp:lastModifiedBy>
  <cp:lastPrinted>2002-12-10T18:15:24Z</cp:lastPrinted>
  <dcterms:modified xsi:type="dcterms:W3CDTF">2004-09-07T13:11:29Z</dcterms:modified>
  <cp:revision>46</cp:revision>
  <dc:subject/>
  <dc:title>Experiences with energy-related GHG projections</dc:title>
</cp:coreProperties>
</file>