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EAC-96CA-4E7F-8E3A-06BADA4D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23A-B5A3-45F7-8377-1971BB42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06C-EC16-4BF1-8882-D896D810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B4C-52AC-40A3-9A03-BB6C49FC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039-E90D-4DB2-A122-4C38EEDA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4B5-1C14-47F6-B84F-6665068A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023-6AA3-4A32-8BCF-EA733FFC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C45A-AEF4-468A-92B0-EE8FD6DF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76F-5BF4-459A-93FF-AD16B5D4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053-1B04-4156-97D1-F9A85DCB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280-DFAB-40D6-B1C9-76904AD2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3B0-6E4C-4530-906E-EB3E5C69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C59D-8C4D-4D32-BA6D-6472B97A5AED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237360"/>
            <a:ext cx="9906120" cy="538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8000" y="44280"/>
            <a:ext cx="9453600" cy="666936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115920"/>
            <a:ext cx="9455040" cy="6669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4520" y="262080"/>
            <a:ext cx="9145440" cy="568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33339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kshop on Emissions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Bonn, Germa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eral and Cross-Cutting Issu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4643280"/>
            <a:ext cx="5835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akaaki 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nistry of the Environment,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8560" y="43920"/>
            <a:ext cx="8915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from non-energy sources, Ch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28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3.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5800" y="1844640"/>
            <a:ext cx="2229120" cy="15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5960" y="2373480"/>
            <a:ext cx="1327320" cy="512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95440" y="3357720"/>
            <a:ext cx="0" cy="1150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4520" y="4292640"/>
            <a:ext cx="352908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t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popul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201" idx="3"/>
            <a:endCxn id="197" idx="1"/>
          </p:cNvCxnSpPr>
          <p:nvPr/>
        </p:nvCxnSpPr>
        <p:spPr>
          <a:xfrm flipV="1">
            <a:off x="7762680" y="2630160"/>
            <a:ext cx="48492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02" name=""/>
          <p:cNvSpPr/>
          <p:nvPr/>
        </p:nvSpPr>
        <p:spPr>
          <a:xfrm>
            <a:off x="833400" y="5661000"/>
            <a:ext cx="872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明朝"/>
                <a:ea typeface="MS 明朝"/>
              </a:rPr>
              <a:t>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ion of waste generation is determined by the Cabinet separ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08160" y="1123920"/>
            <a:ext cx="4754880" cy="302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97240" y="1090440"/>
            <a:ext cx="1800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tion of w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24800" y="1090440"/>
            <a:ext cx="1486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29240" y="1628640"/>
            <a:ext cx="2160720" cy="2376720"/>
          </a:xfrm>
          <a:prstGeom prst="bracePair">
            <a:avLst>
              <a:gd name="adj" fmla="val 36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719440" y="2492280"/>
            <a:ext cx="217440" cy="217440"/>
            <a:chOff x="2719440" y="2492280"/>
            <a:chExt cx="217440" cy="217440"/>
          </a:xfrm>
        </p:grpSpPr>
        <p:sp>
          <p:nvSpPr>
            <p:cNvPr id="207" name=""/>
            <p:cNvSpPr/>
            <p:nvPr/>
          </p:nvSpPr>
          <p:spPr>
            <a:xfrm>
              <a:off x="2719440" y="2492280"/>
              <a:ext cx="2174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720520" y="24933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295800" y="1847880"/>
            <a:ext cx="172872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and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97240" y="3213000"/>
            <a:ext cx="1728720" cy="5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yc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81240" y="1628640"/>
            <a:ext cx="2160720" cy="2376720"/>
          </a:xfrm>
          <a:prstGeom prst="bracePair">
            <a:avLst>
              <a:gd name="adj" fmla="val 36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45240" y="1770120"/>
            <a:ext cx="172872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ustion at higher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45240" y="3139920"/>
            <a:ext cx="172872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of sew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241960" y="2779560"/>
            <a:ext cx="217440" cy="217800"/>
            <a:chOff x="5241960" y="2779560"/>
            <a:chExt cx="217440" cy="217800"/>
          </a:xfrm>
        </p:grpSpPr>
        <p:sp>
          <p:nvSpPr>
            <p:cNvPr id="215" name=""/>
            <p:cNvSpPr/>
            <p:nvPr/>
          </p:nvSpPr>
          <p:spPr>
            <a:xfrm>
              <a:off x="5241960" y="2779560"/>
              <a:ext cx="21744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243040" y="2780640"/>
              <a:ext cx="216000" cy="2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62E-73A3-400A-B0F1-C1C872DFCB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71520" y="324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068480" y="2708280"/>
            <a:ext cx="7772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3333cc"/>
                </a:solidFill>
                <a:latin typeface="Monotype Corsiva"/>
              </a:rPr>
              <a:t>Thank you 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6237360"/>
            <a:ext cx="9906120" cy="538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08000" y="44280"/>
            <a:ext cx="9453600" cy="666936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115920"/>
            <a:ext cx="9455040" cy="6669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7AB0-D908-4802-9F1A-E0E8F83214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451160"/>
            <a:ext cx="9086760" cy="4465440"/>
          </a:xfrm>
          <a:prstGeom prst="roundRect">
            <a:avLst>
              <a:gd name="adj" fmla="val 9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ctr">
            <a:spAutoFit/>
          </a:bodyPr>
          <a:p>
            <a:pPr marL="190440" indent="-19044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uideline for Measures to Prevent Global Warming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adopted in March, 2002, by the Cab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uideline describe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verall structure of policies and meas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Japan to achieve the reduction target in Kyoto Protocol, including the GHG emissions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ubmission of NC3 in accordance with the Guidel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y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on of the Guideline is currently underway;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pdated GHG emissions projection will be compri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”New Guideline for Measures to Prevent Global Warm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17720" y="287280"/>
            <a:ext cx="6008760" cy="981000"/>
          </a:xfrm>
          <a:prstGeom prst="horizontalScroll">
            <a:avLst>
              <a:gd name="adj" fmla="val 13708"/>
            </a:avLst>
          </a:prstGeom>
          <a:gradFill rotWithShape="0">
            <a:gsLst>
              <a:gs pos="0">
                <a:srgbClr val="2f755e"/>
              </a:gs>
              <a:gs pos="50000">
                <a:srgbClr val="66ffcc"/>
              </a:gs>
              <a:gs pos="100000">
                <a:srgbClr val="2f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of NC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F79-C879-4C57-817B-FA5DF67108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08160" y="1123920"/>
            <a:ext cx="4754880" cy="302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560" y="43920"/>
            <a:ext cx="8915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from energy sources </a:t>
            </a:r>
            <a:br>
              <a:rPr sz="28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1. Industrial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5800" y="1844640"/>
            <a:ext cx="2229120" cy="15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by each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97240" y="2131920"/>
            <a:ext cx="172872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aving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43440" y="2421000"/>
            <a:ext cx="17305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conver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74720" y="1090440"/>
            <a:ext cx="780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45240" y="1771560"/>
            <a:ext cx="1728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nergy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48480" y="3213000"/>
            <a:ext cx="17254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electri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5960" y="2373480"/>
            <a:ext cx="1327320" cy="512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95440" y="3357720"/>
            <a:ext cx="0" cy="1150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29240" y="1628640"/>
            <a:ext cx="2160720" cy="2376720"/>
          </a:xfrm>
          <a:prstGeom prst="bracePair">
            <a:avLst>
              <a:gd name="adj" fmla="val 36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5" idx="2"/>
            <a:endCxn id="60" idx="0"/>
          </p:cNvCxnSpPr>
          <p:nvPr/>
        </p:nvCxnSpPr>
        <p:spPr>
          <a:xfrm flipH="1">
            <a:off x="6598440" y="3860280"/>
            <a:ext cx="13320" cy="577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lg" type="stealth" w="med"/>
          </a:ln>
        </p:spPr>
      </p:cxnSp>
      <p:sp>
        <p:nvSpPr>
          <p:cNvPr id="60" name=""/>
          <p:cNvSpPr/>
          <p:nvPr/>
        </p:nvSpPr>
        <p:spPr>
          <a:xfrm>
            <a:off x="4980960" y="4437000"/>
            <a:ext cx="3236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industries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3400" y="5780160"/>
            <a:ext cx="872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明朝"/>
                <a:ea typeface="MS 明朝"/>
              </a:rPr>
              <a:t>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ion of economic growth is determined by the Cabinet separ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4520" y="4292640"/>
            <a:ext cx="352908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t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indust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720880" y="2492280"/>
            <a:ext cx="217440" cy="217440"/>
            <a:chOff x="2720880" y="2492280"/>
            <a:chExt cx="217440" cy="217440"/>
          </a:xfrm>
        </p:grpSpPr>
        <p:sp>
          <p:nvSpPr>
            <p:cNvPr id="64" name=""/>
            <p:cNvSpPr/>
            <p:nvPr/>
          </p:nvSpPr>
          <p:spPr>
            <a:xfrm>
              <a:off x="2720880" y="2492280"/>
              <a:ext cx="2174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721960" y="24933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241960" y="2492280"/>
            <a:ext cx="217440" cy="217440"/>
            <a:chOff x="5241960" y="2492280"/>
            <a:chExt cx="217440" cy="217440"/>
          </a:xfrm>
        </p:grpSpPr>
        <p:sp>
          <p:nvSpPr>
            <p:cNvPr id="67" name=""/>
            <p:cNvSpPr/>
            <p:nvPr/>
          </p:nvSpPr>
          <p:spPr>
            <a:xfrm>
              <a:off x="5241960" y="2492280"/>
              <a:ext cx="2174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5243040" y="24933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9" name=""/>
          <p:cNvCxnSpPr>
            <a:stCxn id="48" idx="3"/>
            <a:endCxn id="56" idx="1"/>
          </p:cNvCxnSpPr>
          <p:nvPr/>
        </p:nvCxnSpPr>
        <p:spPr>
          <a:xfrm flipV="1">
            <a:off x="7762680" y="2630160"/>
            <a:ext cx="48492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0" name=""/>
          <p:cNvSpPr/>
          <p:nvPr/>
        </p:nvSpPr>
        <p:spPr>
          <a:xfrm>
            <a:off x="3297240" y="1090440"/>
            <a:ext cx="1800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613-FF5B-4D36-86DD-DF04680F52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08160" y="1125360"/>
            <a:ext cx="4754880" cy="316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8560" y="43920"/>
            <a:ext cx="8915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from energy sources </a:t>
            </a:r>
            <a:br>
              <a:rPr sz="28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2. Transport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5800" y="1844640"/>
            <a:ext cx="2229120" cy="15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97240" y="335772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-dr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43440" y="1844640"/>
            <a:ext cx="17305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conver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io-ethan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97240" y="1090440"/>
            <a:ext cx="1800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720" y="1090440"/>
            <a:ext cx="780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48480" y="3213000"/>
            <a:ext cx="17254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electri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5960" y="2459160"/>
            <a:ext cx="1327320" cy="512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95440" y="3357720"/>
            <a:ext cx="0" cy="1150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29240" y="1628640"/>
            <a:ext cx="2160720" cy="2376720"/>
          </a:xfrm>
          <a:prstGeom prst="bracePair">
            <a:avLst>
              <a:gd name="adj" fmla="val 36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8" idx="2"/>
            <a:endCxn id="83" idx="0"/>
          </p:cNvCxnSpPr>
          <p:nvPr/>
        </p:nvCxnSpPr>
        <p:spPr>
          <a:xfrm flipH="1">
            <a:off x="6598440" y="3860280"/>
            <a:ext cx="13320" cy="577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lg" type="stealth" w="med"/>
          </a:ln>
        </p:spPr>
      </p:cxnSp>
      <p:sp>
        <p:nvSpPr>
          <p:cNvPr id="83" name=""/>
          <p:cNvSpPr/>
          <p:nvPr/>
        </p:nvSpPr>
        <p:spPr>
          <a:xfrm>
            <a:off x="4980960" y="4437000"/>
            <a:ext cx="3236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industries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3400" y="5780160"/>
            <a:ext cx="872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明朝"/>
                <a:ea typeface="MS 明朝"/>
              </a:rPr>
              <a:t>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G emission projection from transportation was estimated in NC3,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4520" y="4365720"/>
            <a:ext cx="352908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t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popul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720880" y="2492280"/>
            <a:ext cx="217440" cy="217440"/>
            <a:chOff x="2720880" y="2492280"/>
            <a:chExt cx="217440" cy="217440"/>
          </a:xfrm>
        </p:grpSpPr>
        <p:sp>
          <p:nvSpPr>
            <p:cNvPr id="87" name=""/>
            <p:cNvSpPr/>
            <p:nvPr/>
          </p:nvSpPr>
          <p:spPr>
            <a:xfrm>
              <a:off x="2720880" y="2492280"/>
              <a:ext cx="2174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721960" y="24933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" name=""/>
          <p:cNvCxnSpPr>
            <a:stCxn id="71" idx="3"/>
            <a:endCxn id="79" idx="1"/>
          </p:cNvCxnSpPr>
          <p:nvPr/>
        </p:nvCxnSpPr>
        <p:spPr>
          <a:xfrm>
            <a:off x="7762680" y="2709720"/>
            <a:ext cx="48492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90" name=""/>
          <p:cNvSpPr/>
          <p:nvPr/>
        </p:nvSpPr>
        <p:spPr>
          <a:xfrm>
            <a:off x="3297240" y="3790800"/>
            <a:ext cx="1728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al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97240" y="270972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ing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97240" y="206064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ation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97240" y="1700280"/>
            <a:ext cx="172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81240" y="1628640"/>
            <a:ext cx="2160720" cy="2592360"/>
          </a:xfrm>
          <a:prstGeom prst="bracePair">
            <a:avLst>
              <a:gd name="adj" fmla="val 36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41960" y="2779560"/>
            <a:ext cx="217440" cy="217800"/>
            <a:chOff x="5241960" y="2779560"/>
            <a:chExt cx="217440" cy="217800"/>
          </a:xfrm>
        </p:grpSpPr>
        <p:sp>
          <p:nvSpPr>
            <p:cNvPr id="96" name=""/>
            <p:cNvSpPr/>
            <p:nvPr/>
          </p:nvSpPr>
          <p:spPr>
            <a:xfrm>
              <a:off x="5241960" y="2779560"/>
              <a:ext cx="21744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243040" y="2780640"/>
              <a:ext cx="216000" cy="2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797-0EFF-4162-9B36-71A018DDC5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08160" y="1123920"/>
            <a:ext cx="4754880" cy="302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8560" y="43920"/>
            <a:ext cx="8915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from energy sources </a:t>
            </a:r>
            <a:br>
              <a:rPr sz="28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3. Commercial and oth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5800" y="1844640"/>
            <a:ext cx="2229120" cy="15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employees and floor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95800" y="1773360"/>
            <a:ext cx="172872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aving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43440" y="2494080"/>
            <a:ext cx="17305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conver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97240" y="1090440"/>
            <a:ext cx="1800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4720" y="1090440"/>
            <a:ext cx="780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45240" y="1771560"/>
            <a:ext cx="172872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lar power)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48480" y="3213000"/>
            <a:ext cx="17254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electri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5960" y="2373480"/>
            <a:ext cx="1327320" cy="512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95440" y="3357720"/>
            <a:ext cx="0" cy="1150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29240" y="1628640"/>
            <a:ext cx="2160720" cy="2376720"/>
          </a:xfrm>
          <a:prstGeom prst="bracePair">
            <a:avLst>
              <a:gd name="adj" fmla="val 36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6" idx="2"/>
            <a:endCxn id="111" idx="0"/>
          </p:cNvCxnSpPr>
          <p:nvPr/>
        </p:nvCxnSpPr>
        <p:spPr>
          <a:xfrm flipH="1">
            <a:off x="6598440" y="3860280"/>
            <a:ext cx="13320" cy="577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lg" type="stealth" w="med"/>
          </a:ln>
        </p:spPr>
      </p:cxnSp>
      <p:sp>
        <p:nvSpPr>
          <p:cNvPr id="111" name=""/>
          <p:cNvSpPr/>
          <p:nvPr/>
        </p:nvSpPr>
        <p:spPr>
          <a:xfrm>
            <a:off x="4980960" y="4437000"/>
            <a:ext cx="3236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industries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3400" y="5734080"/>
            <a:ext cx="872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明朝"/>
                <a:ea typeface="MS 明朝"/>
              </a:rPr>
              <a:t>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ology and assumptions were difficult to decide due to the lack of relevant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4520" y="4292640"/>
            <a:ext cx="3816360" cy="15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rate of floor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nd in building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19440" y="2492280"/>
            <a:ext cx="217440" cy="217440"/>
            <a:chOff x="2719440" y="2492280"/>
            <a:chExt cx="217440" cy="217440"/>
          </a:xfrm>
        </p:grpSpPr>
        <p:sp>
          <p:nvSpPr>
            <p:cNvPr id="115" name=""/>
            <p:cNvSpPr/>
            <p:nvPr/>
          </p:nvSpPr>
          <p:spPr>
            <a:xfrm>
              <a:off x="2719440" y="2492280"/>
              <a:ext cx="2174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720520" y="24933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7" name=""/>
          <p:cNvCxnSpPr>
            <a:stCxn id="98" idx="3"/>
            <a:endCxn id="107" idx="1"/>
          </p:cNvCxnSpPr>
          <p:nvPr/>
        </p:nvCxnSpPr>
        <p:spPr>
          <a:xfrm flipV="1">
            <a:off x="7762680" y="2630160"/>
            <a:ext cx="48492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8" name=""/>
          <p:cNvSpPr/>
          <p:nvPr/>
        </p:nvSpPr>
        <p:spPr>
          <a:xfrm>
            <a:off x="3295800" y="2568600"/>
            <a:ext cx="172872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lation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97240" y="3359160"/>
            <a:ext cx="1728720" cy="50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81240" y="1628640"/>
            <a:ext cx="2160720" cy="2376720"/>
          </a:xfrm>
          <a:prstGeom prst="bracePair">
            <a:avLst>
              <a:gd name="adj" fmla="val 36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241960" y="2779560"/>
            <a:ext cx="217440" cy="217800"/>
            <a:chOff x="5241960" y="2779560"/>
            <a:chExt cx="217440" cy="217800"/>
          </a:xfrm>
        </p:grpSpPr>
        <p:sp>
          <p:nvSpPr>
            <p:cNvPr id="122" name=""/>
            <p:cNvSpPr/>
            <p:nvPr/>
          </p:nvSpPr>
          <p:spPr>
            <a:xfrm>
              <a:off x="5241960" y="2779560"/>
              <a:ext cx="21744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5243040" y="2780640"/>
              <a:ext cx="216000" cy="2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775-819A-4E41-B30E-8D466F8850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08160" y="1123920"/>
            <a:ext cx="4754880" cy="302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8560" y="43920"/>
            <a:ext cx="8915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from energy sources </a:t>
            </a:r>
            <a:br>
              <a:rPr sz="28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4. Residential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5800" y="1844640"/>
            <a:ext cx="2229120" cy="15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household an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4720" y="1090440"/>
            <a:ext cx="780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48480" y="3213000"/>
            <a:ext cx="17254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electri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5960" y="2373480"/>
            <a:ext cx="1327320" cy="512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95440" y="3357720"/>
            <a:ext cx="0" cy="1150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29240" y="1628640"/>
            <a:ext cx="2160720" cy="2376720"/>
          </a:xfrm>
          <a:prstGeom prst="bracePair">
            <a:avLst>
              <a:gd name="adj" fmla="val 36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8" idx="2"/>
            <a:endCxn id="133" idx="0"/>
          </p:cNvCxnSpPr>
          <p:nvPr/>
        </p:nvCxnSpPr>
        <p:spPr>
          <a:xfrm flipH="1">
            <a:off x="6602040" y="3860280"/>
            <a:ext cx="10080" cy="577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lg" type="stealth" w="med"/>
          </a:ln>
        </p:spPr>
      </p:cxnSp>
      <p:sp>
        <p:nvSpPr>
          <p:cNvPr id="133" name=""/>
          <p:cNvSpPr/>
          <p:nvPr/>
        </p:nvSpPr>
        <p:spPr>
          <a:xfrm>
            <a:off x="4984200" y="4437000"/>
            <a:ext cx="3236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industries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3400" y="5661000"/>
            <a:ext cx="872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明朝"/>
                <a:ea typeface="MS 明朝"/>
              </a:rPr>
              <a:t>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ology and assumptions were difficult to decide due to the lack of relevant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4520" y="4292640"/>
            <a:ext cx="352908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house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nd in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nd in housing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719440" y="2492280"/>
            <a:ext cx="217440" cy="217440"/>
            <a:chOff x="2719440" y="2492280"/>
            <a:chExt cx="217440" cy="217440"/>
          </a:xfrm>
        </p:grpSpPr>
        <p:sp>
          <p:nvSpPr>
            <p:cNvPr id="137" name=""/>
            <p:cNvSpPr/>
            <p:nvPr/>
          </p:nvSpPr>
          <p:spPr>
            <a:xfrm>
              <a:off x="2719440" y="2492280"/>
              <a:ext cx="2174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720520" y="24933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9" name=""/>
          <p:cNvCxnSpPr>
            <a:stCxn id="124" idx="3"/>
            <a:endCxn id="129" idx="1"/>
          </p:cNvCxnSpPr>
          <p:nvPr/>
        </p:nvCxnSpPr>
        <p:spPr>
          <a:xfrm flipV="1">
            <a:off x="7762680" y="2630160"/>
            <a:ext cx="48492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40" name=""/>
          <p:cNvSpPr/>
          <p:nvPr/>
        </p:nvSpPr>
        <p:spPr>
          <a:xfrm>
            <a:off x="3295800" y="1773360"/>
            <a:ext cx="172872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aving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95800" y="2568600"/>
            <a:ext cx="172872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lation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97240" y="3359160"/>
            <a:ext cx="1728720" cy="50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81240" y="1628640"/>
            <a:ext cx="2160720" cy="2376720"/>
          </a:xfrm>
          <a:prstGeom prst="bracePair">
            <a:avLst>
              <a:gd name="adj" fmla="val 36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45240" y="1914480"/>
            <a:ext cx="172872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lar power)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97240" y="1090440"/>
            <a:ext cx="1800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241960" y="2779560"/>
            <a:ext cx="217440" cy="217800"/>
            <a:chOff x="5241960" y="2779560"/>
            <a:chExt cx="217440" cy="217800"/>
          </a:xfrm>
        </p:grpSpPr>
        <p:sp>
          <p:nvSpPr>
            <p:cNvPr id="147" name=""/>
            <p:cNvSpPr/>
            <p:nvPr/>
          </p:nvSpPr>
          <p:spPr>
            <a:xfrm>
              <a:off x="5241960" y="2779560"/>
              <a:ext cx="21744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243040" y="2780640"/>
              <a:ext cx="216000" cy="2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D45-D840-4A15-8EB9-AD42B556EA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024520" y="1123920"/>
            <a:ext cx="2738520" cy="302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8560" y="43920"/>
            <a:ext cx="8915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from energy sources </a:t>
            </a:r>
            <a:br>
              <a:rPr sz="28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5. Energy industries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5800" y="1844640"/>
            <a:ext cx="2229120" cy="15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for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27800" y="2421000"/>
            <a:ext cx="17301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po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59080" y="1090440"/>
            <a:ext cx="780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29240" y="1771560"/>
            <a:ext cx="1728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nergy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5960" y="2373480"/>
            <a:ext cx="1327320" cy="512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95440" y="3357720"/>
            <a:ext cx="0" cy="1150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13240" y="1628640"/>
            <a:ext cx="2160720" cy="2376720"/>
          </a:xfrm>
          <a:prstGeom prst="bracePair">
            <a:avLst>
              <a:gd name="adj" fmla="val 36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3400" y="5661000"/>
            <a:ext cx="8728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明朝"/>
                <a:ea typeface="MS 明朝"/>
              </a:rPr>
              <a:t>◆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ission from generation of electric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stimated using projected total electricity consumption from all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4520" y="4292640"/>
            <a:ext cx="453708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nd in electricity consum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each secto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944880" y="2492280"/>
            <a:ext cx="217440" cy="217440"/>
            <a:chOff x="3944880" y="2492280"/>
            <a:chExt cx="217440" cy="217440"/>
          </a:xfrm>
        </p:grpSpPr>
        <p:sp>
          <p:nvSpPr>
            <p:cNvPr id="161" name=""/>
            <p:cNvSpPr/>
            <p:nvPr/>
          </p:nvSpPr>
          <p:spPr>
            <a:xfrm>
              <a:off x="3944880" y="2492280"/>
              <a:ext cx="2174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945960" y="24933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3" name=""/>
          <p:cNvCxnSpPr>
            <a:stCxn id="149" idx="3"/>
            <a:endCxn id="155" idx="1"/>
          </p:cNvCxnSpPr>
          <p:nvPr/>
        </p:nvCxnSpPr>
        <p:spPr>
          <a:xfrm flipV="1">
            <a:off x="7762680" y="2630160"/>
            <a:ext cx="48492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4" name=""/>
          <p:cNvSpPr/>
          <p:nvPr/>
        </p:nvSpPr>
        <p:spPr>
          <a:xfrm>
            <a:off x="5529240" y="3213000"/>
            <a:ext cx="17305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942-C715-420A-9B3B-1DE01812EE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024520" y="1125360"/>
            <a:ext cx="2736720" cy="302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8560" y="43920"/>
            <a:ext cx="8915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from non-energy sources, Ch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28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1. Industri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5800" y="1844640"/>
            <a:ext cx="2229120" cy="15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by relevan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30680" y="3141720"/>
            <a:ext cx="17305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from exhaust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2920" y="1090440"/>
            <a:ext cx="253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32480" y="1916280"/>
            <a:ext cx="1728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mixed cement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5960" y="2373480"/>
            <a:ext cx="1327320" cy="512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95440" y="3357720"/>
            <a:ext cx="0" cy="1150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16480" y="1628640"/>
            <a:ext cx="2160720" cy="2376720"/>
          </a:xfrm>
          <a:prstGeom prst="bracePair">
            <a:avLst>
              <a:gd name="adj" fmla="val 36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4520" y="4292640"/>
            <a:ext cx="352908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t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indust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943440" y="2492280"/>
            <a:ext cx="217440" cy="217440"/>
            <a:chOff x="3943440" y="2492280"/>
            <a:chExt cx="217440" cy="217440"/>
          </a:xfrm>
        </p:grpSpPr>
        <p:sp>
          <p:nvSpPr>
            <p:cNvPr id="176" name=""/>
            <p:cNvSpPr/>
            <p:nvPr/>
          </p:nvSpPr>
          <p:spPr>
            <a:xfrm>
              <a:off x="3943440" y="2492280"/>
              <a:ext cx="2174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944520" y="24933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8" name=""/>
          <p:cNvCxnSpPr>
            <a:stCxn id="165" idx="3"/>
            <a:endCxn id="171" idx="1"/>
          </p:cNvCxnSpPr>
          <p:nvPr/>
        </p:nvCxnSpPr>
        <p:spPr>
          <a:xfrm flipV="1">
            <a:off x="7761240" y="2630160"/>
            <a:ext cx="48672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201-A9ED-4B67-BF27-D6707F8645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024520" y="1125360"/>
            <a:ext cx="2736720" cy="302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8560" y="43920"/>
            <a:ext cx="8915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from non-energy sources, Ch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28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2.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5800" y="1844640"/>
            <a:ext cx="2229120" cy="15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by crops and 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30680" y="2492280"/>
            <a:ext cx="17305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92920" y="1090440"/>
            <a:ext cx="253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32480" y="1700280"/>
            <a:ext cx="1728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mass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5960" y="2373480"/>
            <a:ext cx="1327320" cy="512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95440" y="3357720"/>
            <a:ext cx="0" cy="1150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16480" y="1628640"/>
            <a:ext cx="2160720" cy="2376720"/>
          </a:xfrm>
          <a:prstGeom prst="bracePair">
            <a:avLst>
              <a:gd name="adj" fmla="val 36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4520" y="4292640"/>
            <a:ext cx="352908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t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indust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943440" y="2492280"/>
            <a:ext cx="217440" cy="217440"/>
            <a:chOff x="3943440" y="2492280"/>
            <a:chExt cx="217440" cy="217440"/>
          </a:xfrm>
        </p:grpSpPr>
        <p:sp>
          <p:nvSpPr>
            <p:cNvPr id="190" name=""/>
            <p:cNvSpPr/>
            <p:nvPr/>
          </p:nvSpPr>
          <p:spPr>
            <a:xfrm>
              <a:off x="3943440" y="2492280"/>
              <a:ext cx="2174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944520" y="24933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2" name=""/>
          <p:cNvCxnSpPr>
            <a:stCxn id="179" idx="3"/>
            <a:endCxn id="185" idx="1"/>
          </p:cNvCxnSpPr>
          <p:nvPr/>
        </p:nvCxnSpPr>
        <p:spPr>
          <a:xfrm flipV="1">
            <a:off x="7761240" y="2630160"/>
            <a:ext cx="48672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93" name=""/>
          <p:cNvSpPr/>
          <p:nvPr/>
        </p:nvSpPr>
        <p:spPr>
          <a:xfrm>
            <a:off x="5529240" y="3284640"/>
            <a:ext cx="1728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of f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3400" y="5661000"/>
            <a:ext cx="872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明朝"/>
                <a:ea typeface="MS 明朝"/>
              </a:rPr>
              <a:t>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ion of crop and livestock production is determined by the Cabinet separ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11D-96E9-4DFA-802A-5DD6139DFF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04:45:58Z</dcterms:created>
  <dc:creator>Takaaki Ito</dc:creator>
  <dc:description/>
  <dc:language>en-US</dc:language>
  <cp:lastModifiedBy>camenen</cp:lastModifiedBy>
  <dcterms:modified xsi:type="dcterms:W3CDTF">2004-09-03T15:09:53Z</dcterms:modified>
  <cp:revision>469</cp:revision>
  <dc:subject/>
  <dc:title>General and Cross-Cutting Issues</dc:title>
</cp:coreProperties>
</file>