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A72-A2A8-44F9-B55E-6596EC96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690-B620-42E4-8E52-3AAB0E48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FCB-5AF0-47A3-B661-11A0967E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3C9-B8D0-4A3D-B957-3C908E55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0C7-BE2B-4B5C-8D0D-39D943C4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26A-8DF8-4925-B7EB-2AAFB885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903-B565-418A-BFE7-942FAEBE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20D-18A2-4B69-8ECE-A2145BCF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D5F-3AF6-4DB1-9FDE-15C346BD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115-E393-4C76-981B-B814AD31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37B-EC77-46DF-951C-DEA6B65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1DE-8159-44FC-81CE-79FD13B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971B-EEE6-4AA4-94A4-32D91466DE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4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4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3.wmf"/><Relationship Id="rId45" Type="http://schemas.openxmlformats.org/officeDocument/2006/relationships/image" Target="../media/image3.wmf"/><Relationship Id="rId46" Type="http://schemas.openxmlformats.org/officeDocument/2006/relationships/image" Target="../media/image3.wmf"/><Relationship Id="rId47" Type="http://schemas.openxmlformats.org/officeDocument/2006/relationships/image" Target="../media/image4.wmf"/><Relationship Id="rId48" Type="http://schemas.openxmlformats.org/officeDocument/2006/relationships/image" Target="../media/image5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5.wmf"/><Relationship Id="rId52" Type="http://schemas.openxmlformats.org/officeDocument/2006/relationships/image" Target="../media/image5.wmf"/><Relationship Id="rId53" Type="http://schemas.openxmlformats.org/officeDocument/2006/relationships/image" Target="../media/image5.wmf"/><Relationship Id="rId54" Type="http://schemas.openxmlformats.org/officeDocument/2006/relationships/image" Target="../media/image5.wmf"/><Relationship Id="rId55" Type="http://schemas.openxmlformats.org/officeDocument/2006/relationships/image" Target="../media/image5.wmf"/><Relationship Id="rId56" Type="http://schemas.openxmlformats.org/officeDocument/2006/relationships/image" Target="../media/image6.wmf"/><Relationship Id="rId57" Type="http://schemas.openxmlformats.org/officeDocument/2006/relationships/image" Target="../media/image3.wmf"/><Relationship Id="rId58" Type="http://schemas.openxmlformats.org/officeDocument/2006/relationships/image" Target="../media/image3.wmf"/><Relationship Id="rId59" Type="http://schemas.openxmlformats.org/officeDocument/2006/relationships/image" Target="../media/image3.wmf"/><Relationship Id="rId60" Type="http://schemas.openxmlformats.org/officeDocument/2006/relationships/image" Target="../media/image3.wmf"/><Relationship Id="rId61" Type="http://schemas.openxmlformats.org/officeDocument/2006/relationships/image" Target="../media/image3.wmf"/><Relationship Id="rId62" Type="http://schemas.openxmlformats.org/officeDocument/2006/relationships/image" Target="../media/image3.wmf"/><Relationship Id="rId63" Type="http://schemas.openxmlformats.org/officeDocument/2006/relationships/image" Target="../media/image3.wmf"/><Relationship Id="rId64" Type="http://schemas.openxmlformats.org/officeDocument/2006/relationships/image" Target="../media/image3.wmf"/><Relationship Id="rId65" Type="http://schemas.openxmlformats.org/officeDocument/2006/relationships/image" Target="../media/image7.wmf"/><Relationship Id="rId66" Type="http://schemas.openxmlformats.org/officeDocument/2006/relationships/image" Target="../media/image3.wmf"/><Relationship Id="rId67" Type="http://schemas.openxmlformats.org/officeDocument/2006/relationships/image" Target="../media/image3.wmf"/><Relationship Id="rId68" Type="http://schemas.openxmlformats.org/officeDocument/2006/relationships/image" Target="../media/image3.wmf"/><Relationship Id="rId69" Type="http://schemas.openxmlformats.org/officeDocument/2006/relationships/image" Target="../media/image3.wmf"/><Relationship Id="rId70" Type="http://schemas.openxmlformats.org/officeDocument/2006/relationships/image" Target="../media/image3.wmf"/><Relationship Id="rId71" Type="http://schemas.openxmlformats.org/officeDocument/2006/relationships/image" Target="../media/image3.wmf"/><Relationship Id="rId72" Type="http://schemas.openxmlformats.org/officeDocument/2006/relationships/image" Target="../media/image3.wmf"/><Relationship Id="rId73" Type="http://schemas.openxmlformats.org/officeDocument/2006/relationships/image" Target="../media/image3.wmf"/><Relationship Id="rId74" Type="http://schemas.openxmlformats.org/officeDocument/2006/relationships/image" Target="../media/image7.wmf"/><Relationship Id="rId75" Type="http://schemas.openxmlformats.org/officeDocument/2006/relationships/image" Target="../media/image3.wmf"/><Relationship Id="rId76" Type="http://schemas.openxmlformats.org/officeDocument/2006/relationships/image" Target="../media/image3.wmf"/><Relationship Id="rId77" Type="http://schemas.openxmlformats.org/officeDocument/2006/relationships/image" Target="../media/image3.wmf"/><Relationship Id="rId78" Type="http://schemas.openxmlformats.org/officeDocument/2006/relationships/image" Target="../media/image3.wmf"/><Relationship Id="rId79" Type="http://schemas.openxmlformats.org/officeDocument/2006/relationships/image" Target="../media/image3.wmf"/><Relationship Id="rId80" Type="http://schemas.openxmlformats.org/officeDocument/2006/relationships/image" Target="../media/image3.wmf"/><Relationship Id="rId81" Type="http://schemas.openxmlformats.org/officeDocument/2006/relationships/image" Target="../media/image3.wmf"/><Relationship Id="rId82" Type="http://schemas.openxmlformats.org/officeDocument/2006/relationships/image" Target="../media/image3.wmf"/><Relationship Id="rId83" Type="http://schemas.openxmlformats.org/officeDocument/2006/relationships/image" Target="../media/image7.wmf"/><Relationship Id="rId84" Type="http://schemas.openxmlformats.org/officeDocument/2006/relationships/image" Target="../media/image3.wmf"/><Relationship Id="rId85" Type="http://schemas.openxmlformats.org/officeDocument/2006/relationships/image" Target="../media/image3.wmf"/><Relationship Id="rId86" Type="http://schemas.openxmlformats.org/officeDocument/2006/relationships/image" Target="../media/image3.wmf"/><Relationship Id="rId87" Type="http://schemas.openxmlformats.org/officeDocument/2006/relationships/image" Target="../media/image3.wmf"/><Relationship Id="rId88" Type="http://schemas.openxmlformats.org/officeDocument/2006/relationships/image" Target="../media/image3.wmf"/><Relationship Id="rId89" Type="http://schemas.openxmlformats.org/officeDocument/2006/relationships/image" Target="../media/image3.wmf"/><Relationship Id="rId90" Type="http://schemas.openxmlformats.org/officeDocument/2006/relationships/image" Target="../media/image3.wmf"/><Relationship Id="rId91" Type="http://schemas.openxmlformats.org/officeDocument/2006/relationships/image" Target="../media/image3.wmf"/><Relationship Id="rId92" Type="http://schemas.openxmlformats.org/officeDocument/2006/relationships/image" Target="../media/image7.wmf"/><Relationship Id="rId93" Type="http://schemas.openxmlformats.org/officeDocument/2006/relationships/image" Target="../media/image3.wmf"/><Relationship Id="rId94" Type="http://schemas.openxmlformats.org/officeDocument/2006/relationships/image" Target="../media/image3.wmf"/><Relationship Id="rId95" Type="http://schemas.openxmlformats.org/officeDocument/2006/relationships/image" Target="../media/image3.wmf"/><Relationship Id="rId96" Type="http://schemas.openxmlformats.org/officeDocument/2006/relationships/image" Target="../media/image3.wmf"/><Relationship Id="rId97" Type="http://schemas.openxmlformats.org/officeDocument/2006/relationships/image" Target="../media/image3.wmf"/><Relationship Id="rId98" Type="http://schemas.openxmlformats.org/officeDocument/2006/relationships/image" Target="../media/image3.wmf"/><Relationship Id="rId99" Type="http://schemas.openxmlformats.org/officeDocument/2006/relationships/image" Target="../media/image3.wmf"/><Relationship Id="rId100" Type="http://schemas.openxmlformats.org/officeDocument/2006/relationships/image" Target="../media/image3.wmf"/><Relationship Id="rId101" Type="http://schemas.openxmlformats.org/officeDocument/2006/relationships/image" Target="../media/image7.wmf"/><Relationship Id="rId102" Type="http://schemas.openxmlformats.org/officeDocument/2006/relationships/image" Target="../media/image5.wmf"/><Relationship Id="rId103" Type="http://schemas.openxmlformats.org/officeDocument/2006/relationships/image" Target="../media/image5.wmf"/><Relationship Id="rId104" Type="http://schemas.openxmlformats.org/officeDocument/2006/relationships/image" Target="../media/image5.wmf"/><Relationship Id="rId105" Type="http://schemas.openxmlformats.org/officeDocument/2006/relationships/image" Target="../media/image5.wmf"/><Relationship Id="rId106" Type="http://schemas.openxmlformats.org/officeDocument/2006/relationships/image" Target="../media/image5.wmf"/><Relationship Id="rId107" Type="http://schemas.openxmlformats.org/officeDocument/2006/relationships/image" Target="../media/image5.wmf"/><Relationship Id="rId108" Type="http://schemas.openxmlformats.org/officeDocument/2006/relationships/image" Target="../media/image5.wmf"/><Relationship Id="rId109" Type="http://schemas.openxmlformats.org/officeDocument/2006/relationships/image" Target="../media/image5.wmf"/><Relationship Id="rId110" Type="http://schemas.openxmlformats.org/officeDocument/2006/relationships/image" Target="../media/image6.wmf"/><Relationship Id="rId111" Type="http://schemas.openxmlformats.org/officeDocument/2006/relationships/image" Target="../media/image3.wmf"/><Relationship Id="rId112" Type="http://schemas.openxmlformats.org/officeDocument/2006/relationships/image" Target="../media/image3.wmf"/><Relationship Id="rId113" Type="http://schemas.openxmlformats.org/officeDocument/2006/relationships/image" Target="../media/image3.wmf"/><Relationship Id="rId114" Type="http://schemas.openxmlformats.org/officeDocument/2006/relationships/image" Target="../media/image3.wmf"/><Relationship Id="rId115" Type="http://schemas.openxmlformats.org/officeDocument/2006/relationships/image" Target="../media/image3.wmf"/><Relationship Id="rId116" Type="http://schemas.openxmlformats.org/officeDocument/2006/relationships/image" Target="../media/image3.wmf"/><Relationship Id="rId117" Type="http://schemas.openxmlformats.org/officeDocument/2006/relationships/image" Target="../media/image3.wmf"/><Relationship Id="rId118" Type="http://schemas.openxmlformats.org/officeDocument/2006/relationships/image" Target="../media/image3.wmf"/><Relationship Id="rId119" Type="http://schemas.openxmlformats.org/officeDocument/2006/relationships/image" Target="../media/image8.wmf"/><Relationship Id="rId120" Type="http://schemas.openxmlformats.org/officeDocument/2006/relationships/image" Target="../media/image3.wmf"/><Relationship Id="rId121" Type="http://schemas.openxmlformats.org/officeDocument/2006/relationships/image" Target="../media/image3.wmf"/><Relationship Id="rId122" Type="http://schemas.openxmlformats.org/officeDocument/2006/relationships/image" Target="../media/image3.wmf"/><Relationship Id="rId123" Type="http://schemas.openxmlformats.org/officeDocument/2006/relationships/image" Target="../media/image3.wmf"/><Relationship Id="rId124" Type="http://schemas.openxmlformats.org/officeDocument/2006/relationships/image" Target="../media/image3.wmf"/><Relationship Id="rId125" Type="http://schemas.openxmlformats.org/officeDocument/2006/relationships/image" Target="../media/image3.wmf"/><Relationship Id="rId126" Type="http://schemas.openxmlformats.org/officeDocument/2006/relationships/image" Target="../media/image3.wmf"/><Relationship Id="rId127" Type="http://schemas.openxmlformats.org/officeDocument/2006/relationships/image" Target="../media/image3.wmf"/><Relationship Id="rId128" Type="http://schemas.openxmlformats.org/officeDocument/2006/relationships/image" Target="../media/image8.wmf"/><Relationship Id="rId129" Type="http://schemas.openxmlformats.org/officeDocument/2006/relationships/image" Target="../media/image3.wmf"/><Relationship Id="rId130" Type="http://schemas.openxmlformats.org/officeDocument/2006/relationships/image" Target="../media/image3.wmf"/><Relationship Id="rId131" Type="http://schemas.openxmlformats.org/officeDocument/2006/relationships/image" Target="../media/image3.wmf"/><Relationship Id="rId132" Type="http://schemas.openxmlformats.org/officeDocument/2006/relationships/image" Target="../media/image3.wmf"/><Relationship Id="rId133" Type="http://schemas.openxmlformats.org/officeDocument/2006/relationships/image" Target="../media/image3.wmf"/><Relationship Id="rId134" Type="http://schemas.openxmlformats.org/officeDocument/2006/relationships/image" Target="../media/image3.wmf"/><Relationship Id="rId135" Type="http://schemas.openxmlformats.org/officeDocument/2006/relationships/image" Target="../media/image3.wmf"/><Relationship Id="rId136" Type="http://schemas.openxmlformats.org/officeDocument/2006/relationships/image" Target="../media/image3.wmf"/><Relationship Id="rId137" Type="http://schemas.openxmlformats.org/officeDocument/2006/relationships/image" Target="../media/image8.wmf"/><Relationship Id="rId138" Type="http://schemas.openxmlformats.org/officeDocument/2006/relationships/image" Target="../media/image3.wmf"/><Relationship Id="rId139" Type="http://schemas.openxmlformats.org/officeDocument/2006/relationships/image" Target="../media/image3.wmf"/><Relationship Id="rId140" Type="http://schemas.openxmlformats.org/officeDocument/2006/relationships/image" Target="../media/image3.wmf"/><Relationship Id="rId141" Type="http://schemas.openxmlformats.org/officeDocument/2006/relationships/image" Target="../media/image3.wmf"/><Relationship Id="rId142" Type="http://schemas.openxmlformats.org/officeDocument/2006/relationships/image" Target="../media/image3.wmf"/><Relationship Id="rId143" Type="http://schemas.openxmlformats.org/officeDocument/2006/relationships/image" Target="../media/image3.wmf"/><Relationship Id="rId144" Type="http://schemas.openxmlformats.org/officeDocument/2006/relationships/image" Target="../media/image3.wmf"/><Relationship Id="rId145" Type="http://schemas.openxmlformats.org/officeDocument/2006/relationships/image" Target="../media/image3.wmf"/><Relationship Id="rId146" Type="http://schemas.openxmlformats.org/officeDocument/2006/relationships/image" Target="../media/image8.wmf"/><Relationship Id="rId147" Type="http://schemas.openxmlformats.org/officeDocument/2006/relationships/image" Target="../media/image3.wmf"/><Relationship Id="rId148" Type="http://schemas.openxmlformats.org/officeDocument/2006/relationships/image" Target="../media/image3.wmf"/><Relationship Id="rId149" Type="http://schemas.openxmlformats.org/officeDocument/2006/relationships/image" Target="../media/image3.wmf"/><Relationship Id="rId150" Type="http://schemas.openxmlformats.org/officeDocument/2006/relationships/image" Target="../media/image3.wmf"/><Relationship Id="rId151" Type="http://schemas.openxmlformats.org/officeDocument/2006/relationships/image" Target="../media/image3.wmf"/><Relationship Id="rId152" Type="http://schemas.openxmlformats.org/officeDocument/2006/relationships/image" Target="../media/image3.wmf"/><Relationship Id="rId153" Type="http://schemas.openxmlformats.org/officeDocument/2006/relationships/image" Target="../media/image3.wmf"/><Relationship Id="rId154" Type="http://schemas.openxmlformats.org/officeDocument/2006/relationships/image" Target="../media/image3.wmf"/><Relationship Id="rId155" Type="http://schemas.openxmlformats.org/officeDocument/2006/relationships/image" Target="../media/image8.wmf"/><Relationship Id="rId156" Type="http://schemas.openxmlformats.org/officeDocument/2006/relationships/image" Target="../media/image5.wmf"/><Relationship Id="rId157" Type="http://schemas.openxmlformats.org/officeDocument/2006/relationships/image" Target="../media/image5.wmf"/><Relationship Id="rId158" Type="http://schemas.openxmlformats.org/officeDocument/2006/relationships/image" Target="../media/image5.wmf"/><Relationship Id="rId159" Type="http://schemas.openxmlformats.org/officeDocument/2006/relationships/image" Target="../media/image5.wmf"/><Relationship Id="rId160" Type="http://schemas.openxmlformats.org/officeDocument/2006/relationships/image" Target="../media/image5.wmf"/><Relationship Id="rId161" Type="http://schemas.openxmlformats.org/officeDocument/2006/relationships/image" Target="../media/image5.wmf"/><Relationship Id="rId162" Type="http://schemas.openxmlformats.org/officeDocument/2006/relationships/image" Target="../media/image5.wmf"/><Relationship Id="rId163" Type="http://schemas.openxmlformats.org/officeDocument/2006/relationships/image" Target="../media/image5.wmf"/><Relationship Id="rId164" Type="http://schemas.openxmlformats.org/officeDocument/2006/relationships/image" Target="../media/image6.wmf"/><Relationship Id="rId165" Type="http://schemas.openxmlformats.org/officeDocument/2006/relationships/image" Target="../media/image3.wmf"/><Relationship Id="rId166" Type="http://schemas.openxmlformats.org/officeDocument/2006/relationships/image" Target="../media/image3.wmf"/><Relationship Id="rId167" Type="http://schemas.openxmlformats.org/officeDocument/2006/relationships/image" Target="../media/image3.wmf"/><Relationship Id="rId168" Type="http://schemas.openxmlformats.org/officeDocument/2006/relationships/image" Target="../media/image3.wmf"/><Relationship Id="rId169" Type="http://schemas.openxmlformats.org/officeDocument/2006/relationships/image" Target="../media/image3.wmf"/><Relationship Id="rId170" Type="http://schemas.openxmlformats.org/officeDocument/2006/relationships/image" Target="../media/image3.wmf"/><Relationship Id="rId171" Type="http://schemas.openxmlformats.org/officeDocument/2006/relationships/image" Target="../media/image3.wmf"/><Relationship Id="rId172" Type="http://schemas.openxmlformats.org/officeDocument/2006/relationships/image" Target="../media/image3.wmf"/><Relationship Id="rId173" Type="http://schemas.openxmlformats.org/officeDocument/2006/relationships/image" Target="../media/image7.wmf"/><Relationship Id="rId174" Type="http://schemas.openxmlformats.org/officeDocument/2006/relationships/image" Target="../media/image3.wmf"/><Relationship Id="rId175" Type="http://schemas.openxmlformats.org/officeDocument/2006/relationships/image" Target="../media/image3.wmf"/><Relationship Id="rId176" Type="http://schemas.openxmlformats.org/officeDocument/2006/relationships/image" Target="../media/image3.wmf"/><Relationship Id="rId177" Type="http://schemas.openxmlformats.org/officeDocument/2006/relationships/image" Target="../media/image3.wmf"/><Relationship Id="rId178" Type="http://schemas.openxmlformats.org/officeDocument/2006/relationships/image" Target="../media/image3.wmf"/><Relationship Id="rId179" Type="http://schemas.openxmlformats.org/officeDocument/2006/relationships/image" Target="../media/image3.wmf"/><Relationship Id="rId180" Type="http://schemas.openxmlformats.org/officeDocument/2006/relationships/image" Target="../media/image3.wmf"/><Relationship Id="rId181" Type="http://schemas.openxmlformats.org/officeDocument/2006/relationships/image" Target="../media/image3.wmf"/><Relationship Id="rId182" Type="http://schemas.openxmlformats.org/officeDocument/2006/relationships/image" Target="../media/image7.wmf"/><Relationship Id="rId183" Type="http://schemas.openxmlformats.org/officeDocument/2006/relationships/image" Target="../media/image3.wmf"/><Relationship Id="rId184" Type="http://schemas.openxmlformats.org/officeDocument/2006/relationships/image" Target="../media/image3.wmf"/><Relationship Id="rId185" Type="http://schemas.openxmlformats.org/officeDocument/2006/relationships/image" Target="../media/image3.wmf"/><Relationship Id="rId186" Type="http://schemas.openxmlformats.org/officeDocument/2006/relationships/image" Target="../media/image3.wmf"/><Relationship Id="rId187" Type="http://schemas.openxmlformats.org/officeDocument/2006/relationships/image" Target="../media/image3.wmf"/><Relationship Id="rId188" Type="http://schemas.openxmlformats.org/officeDocument/2006/relationships/image" Target="../media/image3.wmf"/><Relationship Id="rId189" Type="http://schemas.openxmlformats.org/officeDocument/2006/relationships/image" Target="../media/image3.wmf"/><Relationship Id="rId190" Type="http://schemas.openxmlformats.org/officeDocument/2006/relationships/image" Target="../media/image3.wmf"/><Relationship Id="rId191" Type="http://schemas.openxmlformats.org/officeDocument/2006/relationships/image" Target="../media/image7.wmf"/><Relationship Id="rId192" Type="http://schemas.openxmlformats.org/officeDocument/2006/relationships/image" Target="../media/image3.wmf"/><Relationship Id="rId193" Type="http://schemas.openxmlformats.org/officeDocument/2006/relationships/image" Target="../media/image3.wmf"/><Relationship Id="rId194" Type="http://schemas.openxmlformats.org/officeDocument/2006/relationships/image" Target="../media/image3.wmf"/><Relationship Id="rId195" Type="http://schemas.openxmlformats.org/officeDocument/2006/relationships/image" Target="../media/image3.wmf"/><Relationship Id="rId196" Type="http://schemas.openxmlformats.org/officeDocument/2006/relationships/image" Target="../media/image3.wmf"/><Relationship Id="rId197" Type="http://schemas.openxmlformats.org/officeDocument/2006/relationships/image" Target="../media/image3.wmf"/><Relationship Id="rId198" Type="http://schemas.openxmlformats.org/officeDocument/2006/relationships/image" Target="../media/image3.wmf"/><Relationship Id="rId199" Type="http://schemas.openxmlformats.org/officeDocument/2006/relationships/image" Target="../media/image3.wmf"/><Relationship Id="rId200" Type="http://schemas.openxmlformats.org/officeDocument/2006/relationships/image" Target="../media/image7.wmf"/><Relationship Id="rId201" Type="http://schemas.openxmlformats.org/officeDocument/2006/relationships/image" Target="../media/image3.wmf"/><Relationship Id="rId202" Type="http://schemas.openxmlformats.org/officeDocument/2006/relationships/image" Target="../media/image3.wmf"/><Relationship Id="rId203" Type="http://schemas.openxmlformats.org/officeDocument/2006/relationships/image" Target="../media/image3.wmf"/><Relationship Id="rId204" Type="http://schemas.openxmlformats.org/officeDocument/2006/relationships/image" Target="../media/image3.wmf"/><Relationship Id="rId205" Type="http://schemas.openxmlformats.org/officeDocument/2006/relationships/image" Target="../media/image3.wmf"/><Relationship Id="rId206" Type="http://schemas.openxmlformats.org/officeDocument/2006/relationships/image" Target="../media/image3.wmf"/><Relationship Id="rId207" Type="http://schemas.openxmlformats.org/officeDocument/2006/relationships/image" Target="../media/image3.wmf"/><Relationship Id="rId208" Type="http://schemas.openxmlformats.org/officeDocument/2006/relationships/image" Target="../media/image3.wmf"/><Relationship Id="rId209" Type="http://schemas.openxmlformats.org/officeDocument/2006/relationships/image" Target="../media/image7.wmf"/><Relationship Id="rId210" Type="http://schemas.openxmlformats.org/officeDocument/2006/relationships/image" Target="../media/image5.wmf"/><Relationship Id="rId211" Type="http://schemas.openxmlformats.org/officeDocument/2006/relationships/image" Target="../media/image5.wmf"/><Relationship Id="rId212" Type="http://schemas.openxmlformats.org/officeDocument/2006/relationships/image" Target="../media/image5.wmf"/><Relationship Id="rId213" Type="http://schemas.openxmlformats.org/officeDocument/2006/relationships/image" Target="../media/image5.wmf"/><Relationship Id="rId214" Type="http://schemas.openxmlformats.org/officeDocument/2006/relationships/image" Target="../media/image5.wmf"/><Relationship Id="rId215" Type="http://schemas.openxmlformats.org/officeDocument/2006/relationships/image" Target="../media/image5.wmf"/><Relationship Id="rId216" Type="http://schemas.openxmlformats.org/officeDocument/2006/relationships/image" Target="../media/image5.wmf"/><Relationship Id="rId217" Type="http://schemas.openxmlformats.org/officeDocument/2006/relationships/image" Target="../media/image5.wmf"/><Relationship Id="rId218" Type="http://schemas.openxmlformats.org/officeDocument/2006/relationships/image" Target="../media/image6.wmf"/><Relationship Id="rId2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523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Methodology to model the future energy scenario for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69280" y="3809880"/>
            <a:ext cx="32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ff99"/>
                </a:solidFill>
                <a:latin typeface="Times New Roman"/>
              </a:rPr>
              <a:t>Kejun JI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ff99"/>
                </a:solidFill>
                <a:latin typeface="Times New Roman"/>
              </a:rPr>
              <a:t>Kjiang@eri.org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ff99"/>
                </a:solidFill>
                <a:latin typeface="Times New Roman"/>
              </a:rPr>
              <a:t>Energy Research Institute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2578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Times New Roman"/>
                <a:ea typeface="MS Mincho"/>
              </a:rPr>
              <a:t>UNFCCC Workshop on emissions projections of Annex I Parties</a:t>
            </a:r>
            <a:br>
              <a:rPr sz="1800"/>
            </a:br>
            <a:r>
              <a:rPr b="1" lang="en-US" sz="1800" spc="-1" strike="noStrike">
                <a:solidFill>
                  <a:srgbClr val="ccff66"/>
                </a:solidFill>
                <a:latin typeface="Times New Roman"/>
                <a:ea typeface="MS Mincho"/>
              </a:rPr>
              <a:t>6-8 September 2004</a:t>
            </a:r>
            <a:br>
              <a:rPr sz="1800"/>
            </a:br>
            <a:r>
              <a:rPr b="1" lang="en-US" sz="1800" spc="-1" strike="noStrike">
                <a:solidFill>
                  <a:srgbClr val="ccff66"/>
                </a:solidFill>
                <a:latin typeface="Times New Roman"/>
                <a:ea typeface="MS Mincho"/>
              </a:rPr>
              <a:t>Wissenschaftszentrum Bo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5600" y="64008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imes New Roman"/>
              </a:rPr>
              <a:t>ERI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5600" y="64008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imes New Roman"/>
              </a:rPr>
              <a:t>ERI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6705720"/>
            <a:ext cx="12952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13D-35A2-4D7B-B638-D975D9D552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6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022800" cy="5340240"/>
          </a:xfrm>
          <a:prstGeom prst="rect">
            <a:avLst/>
          </a:prstGeom>
          <a:ln w="0">
            <a:noFill/>
          </a:ln>
        </p:spPr>
      </p:pic>
      <p:sp>
        <p:nvSpPr>
          <p:cNvPr id="3087" name=""/>
          <p:cNvSpPr/>
          <p:nvPr/>
        </p:nvSpPr>
        <p:spPr>
          <a:xfrm>
            <a:off x="1365120" y="380880"/>
            <a:ext cx="53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Identify efficiency promise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73F-3987-4344-BDCC-5D23BB0C4D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898200" y="65088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ERI: IPAC-AIM/Lo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1066680" y="1828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ottom-up model for 31 provinces in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9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ore than 500 large poin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cus on regi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63D-3548-415E-8945-281E1A89F3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"/>
          <p:cNvSpPr/>
          <p:nvPr/>
        </p:nvSpPr>
        <p:spPr>
          <a:xfrm>
            <a:off x="271440" y="193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2" name="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3093" name="STEEL2000" descr=""/>
            <p:cNvPicPr/>
            <p:nvPr/>
          </p:nvPicPr>
          <p:blipFill>
            <a:blip r:embed="rId1"/>
            <a:srcRect l="0" t="0" r="14561" b="10272"/>
            <a:stretch/>
          </p:blipFill>
          <p:spPr>
            <a:xfrm>
              <a:off x="52560" y="0"/>
              <a:ext cx="45194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4" name="POWER2000" descr=""/>
            <p:cNvPicPr/>
            <p:nvPr/>
          </p:nvPicPr>
          <p:blipFill>
            <a:blip r:embed="rId2"/>
            <a:srcRect l="0" t="9896" r="3048" b="4948"/>
            <a:stretch/>
          </p:blipFill>
          <p:spPr>
            <a:xfrm>
              <a:off x="4648320" y="76320"/>
              <a:ext cx="4495680" cy="30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5" name="CEMENT2000" descr=""/>
            <p:cNvPicPr/>
            <p:nvPr/>
          </p:nvPicPr>
          <p:blipFill>
            <a:blip r:embed="rId3"/>
            <a:srcRect l="3048" t="0" r="6097" b="0"/>
            <a:stretch/>
          </p:blipFill>
          <p:spPr>
            <a:xfrm>
              <a:off x="0" y="3124080"/>
              <a:ext cx="48006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6" name="NONFERR2000" descr=""/>
            <p:cNvPicPr/>
            <p:nvPr/>
          </p:nvPicPr>
          <p:blipFill>
            <a:blip r:embed="rId4"/>
            <a:srcRect l="5347" t="9427" r="13367" b="9427"/>
            <a:stretch/>
          </p:blipFill>
          <p:spPr>
            <a:xfrm>
              <a:off x="4724280" y="3375000"/>
              <a:ext cx="4419720" cy="31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5CE-DD6F-421C-9E5D-83C325DD4C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"/>
          <p:cNvSpPr/>
          <p:nvPr/>
        </p:nvSpPr>
        <p:spPr>
          <a:xfrm>
            <a:off x="898920" y="6508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ERI: IPAC-AIM/Transpor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066680" y="1828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Times New Roman"/>
              </a:rPr>
              <a:t>Application of IPAC-AIM/technology model for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Times New Roman"/>
              </a:rPr>
              <a:t>For China, Beijing(extra large city), Taiyuan(large city), and Langfang(small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E76-5957-4EDD-A6CF-F7F394E9D7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"/>
          <p:cNvSpPr/>
          <p:nvPr/>
        </p:nvSpPr>
        <p:spPr>
          <a:xfrm>
            <a:off x="900360" y="62856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SimSun"/>
              </a:rPr>
              <a:t>IPAC-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990720" y="165420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lnSpc>
                <a:spcPct val="100000"/>
              </a:lnSpc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Partial equilibriu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Global model:9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3 economic sector: industry, building and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Energy sources: coal,oil, natural gas, modern biomass, hydro, nuclear, unconventional oil, unconventional gas, wind and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Cover all emission source: energy activities, industrial process and land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Technology description: medium level cover around 40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Long-term analysis up to 2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9 gases:CO2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，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CH4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，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NOx, N2O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，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CO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，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SO2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，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HFC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，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PFC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，</a:t>
            </a:r>
            <a:r>
              <a:rPr b="0" lang="ja-JP" sz="2400" spc="-1" strike="noStrike">
                <a:solidFill>
                  <a:srgbClr val="ffff66"/>
                </a:solidFill>
                <a:latin typeface="Arial"/>
                <a:ea typeface="SimSun"/>
              </a:rPr>
              <a:t>SF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5F2-681C-496A-83C1-7D9DDDADAE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3" name="" descr=""/>
          <p:cNvPicPr/>
          <p:nvPr/>
        </p:nvPicPr>
        <p:blipFill>
          <a:blip r:embed="rId1"/>
          <a:stretch/>
        </p:blipFill>
        <p:spPr>
          <a:xfrm>
            <a:off x="1833480" y="204840"/>
            <a:ext cx="5477040" cy="6448320"/>
          </a:xfrm>
          <a:prstGeom prst="rect">
            <a:avLst/>
          </a:prstGeom>
          <a:ln w="0">
            <a:noFill/>
          </a:ln>
        </p:spPr>
      </p:pic>
      <p:sp>
        <p:nvSpPr>
          <p:cNvPr id="3104" name=""/>
          <p:cNvSpPr/>
          <p:nvPr/>
        </p:nvSpPr>
        <p:spPr>
          <a:xfrm>
            <a:off x="2133720" y="91440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AC-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5C8-C49A-4BBB-AE37-2BAC185A3B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"/>
          <p:cNvSpPr/>
          <p:nvPr/>
        </p:nvSpPr>
        <p:spPr>
          <a:xfrm>
            <a:off x="901800" y="65088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ERI: IPAC-S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1066680" y="18288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 CG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yna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2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nergy, economic activities and environment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p to 2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6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ACC-7248-49D3-A00C-716C24D2E9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"/>
          <p:cNvSpPr/>
          <p:nvPr/>
        </p:nvSpPr>
        <p:spPr>
          <a:xfrm>
            <a:off x="657360" y="241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dule of SG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9" name=""/>
          <p:cNvGraphicFramePr/>
          <p:nvPr/>
        </p:nvGraphicFramePr>
        <p:xfrm>
          <a:off x="593640" y="969840"/>
          <a:ext cx="7907400" cy="57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969840"/>
                    <a:ext cx="79074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219-C925-4008-A9C9-506AD35602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"/>
          <p:cNvSpPr/>
          <p:nvPr/>
        </p:nvSpPr>
        <p:spPr>
          <a:xfrm>
            <a:off x="762120" y="685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imes New Roman"/>
                <a:ea typeface="SimHei"/>
              </a:rPr>
              <a:t>Economy Target of China in 202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f03a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overnment Target: Overall wealthy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66"/>
                </a:solidFill>
                <a:latin typeface="Arial"/>
                <a:ea typeface="MS PGothic"/>
              </a:rPr>
              <a:t>On the basis of economy structure optimal and increasing profit, GDP will be four time in 2020 comparing with that in 2000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MS PGothic"/>
              </a:rPr>
              <a:t>，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  <a:ea typeface="MS PGothic"/>
              </a:rPr>
              <a:t>realize fundamental industrialization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MS PGothic"/>
              </a:rPr>
              <a:t>”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MS PGothic"/>
              </a:rPr>
              <a:t>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66"/>
                </a:solidFill>
                <a:latin typeface="Arial"/>
                <a:ea typeface="MS PGothic"/>
              </a:rPr>
              <a:t>Take a new way for industry development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MS PGothic"/>
              </a:rPr>
              <a:t>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MS PGothic"/>
              </a:rPr>
              <a:t>“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  <a:ea typeface="MS PGothic"/>
              </a:rPr>
              <a:t>continually increase ability for sustainable development”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MS PGothic"/>
              </a:rPr>
              <a:t>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D50-E612-4C0B-AE76-538EC2ED1B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3" name="" descr=""/>
          <p:cNvPicPr/>
          <p:nvPr/>
        </p:nvPicPr>
        <p:blipFill>
          <a:blip r:embed="rId1"/>
          <a:stretch/>
        </p:blipFill>
        <p:spPr>
          <a:xfrm>
            <a:off x="647640" y="1292400"/>
            <a:ext cx="7848720" cy="4273200"/>
          </a:xfrm>
          <a:prstGeom prst="rect">
            <a:avLst/>
          </a:prstGeom>
          <a:ln w="0">
            <a:noFill/>
          </a:ln>
        </p:spPr>
      </p:pic>
      <p:sp>
        <p:nvSpPr>
          <p:cNvPr id="3114" name=""/>
          <p:cNvSpPr/>
          <p:nvPr/>
        </p:nvSpPr>
        <p:spPr>
          <a:xfrm>
            <a:off x="747720" y="57456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  <a:ea typeface="SimSun"/>
              </a:rPr>
              <a:t>GDP 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678-23AF-4237-880A-F13C4EDA6A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76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3400" y="4221000"/>
            <a:ext cx="51818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0800" y="3170160"/>
            <a:ext cx="5137200" cy="793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20800" y="2178000"/>
            <a:ext cx="5137200" cy="717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20800" y="958680"/>
            <a:ext cx="51814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20800" y="806400"/>
            <a:ext cx="5181480" cy="5105520"/>
          </a:xfrm>
          <a:prstGeom prst="rect">
            <a:avLst/>
          </a:prstGeom>
          <a:noFill/>
          <a:ln w="22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3120" y="15084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99ff33"/>
                </a:solidFill>
                <a:latin typeface="Arial"/>
                <a:ea typeface="SimSun"/>
              </a:rPr>
              <a:t>Framework of </a:t>
            </a:r>
            <a:r>
              <a:rPr b="1" i="1" lang="en-US" sz="1800" spc="-1" strike="noStrike">
                <a:solidFill>
                  <a:srgbClr val="99ff33"/>
                </a:solidFill>
                <a:latin typeface="Arial"/>
                <a:ea typeface="SimSun"/>
              </a:rPr>
              <a:t>IP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5520" y="552600"/>
            <a:ext cx="80769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17760" y="64278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  <a:ea typeface="SimSun"/>
              </a:rPr>
              <a:t>ERI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17760" y="64278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  <a:ea typeface="SimSun"/>
              </a:rPr>
              <a:t>ERI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16680" y="6750000"/>
            <a:ext cx="129564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12720" y="1233360"/>
            <a:ext cx="1311480" cy="368280"/>
          </a:xfrm>
          <a:prstGeom prst="rect">
            <a:avLst/>
          </a:prstGeom>
          <a:solidFill>
            <a:srgbClr val="ff505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PAC-S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4419720"/>
            <a:ext cx="169236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PAC-AIM/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2240" y="2336760"/>
            <a:ext cx="17154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PAC-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3080" y="3352680"/>
            <a:ext cx="128556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PAC/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8680" y="2336760"/>
            <a:ext cx="150192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PAC-TI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3240" y="4419720"/>
            <a:ext cx="18054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PAC/AIM-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120" y="888840"/>
            <a:ext cx="235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Energy demand and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Price/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Economic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Medium/long-ter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03848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Medium/short ter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Technology 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Detailed technology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6120" y="4775040"/>
            <a:ext cx="235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Region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Medium/short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Energy demand and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Technology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1233360"/>
            <a:ext cx="1933200" cy="368280"/>
          </a:xfrm>
          <a:prstGeom prst="rect">
            <a:avLst/>
          </a:prstGeom>
          <a:solidFill>
            <a:srgbClr val="ff505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PAC-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04160" y="1981080"/>
            <a:ext cx="2354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Energy demand and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Full range e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Price, resource,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Medium-long ter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Economic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1200" y="762120"/>
            <a:ext cx="231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Environment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Pollutant e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Medium/long-ter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5040" y="3352680"/>
            <a:ext cx="2174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Technology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Environment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Technology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599840" y="4648320"/>
            <a:ext cx="304920" cy="22860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4572000"/>
            <a:ext cx="457200" cy="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415880" y="3627360"/>
            <a:ext cx="1905120" cy="7632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44120" y="2711520"/>
            <a:ext cx="228600" cy="7596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69120" y="2635200"/>
            <a:ext cx="838080" cy="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673680" y="1339560"/>
            <a:ext cx="533520" cy="7596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68520" y="1415880"/>
            <a:ext cx="914400" cy="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1949400"/>
            <a:ext cx="0" cy="228600"/>
          </a:xfrm>
          <a:prstGeom prst="line">
            <a:avLst/>
          </a:prstGeom>
          <a:ln w="47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6080" y="2941560"/>
            <a:ext cx="0" cy="228600"/>
          </a:xfrm>
          <a:prstGeom prst="line">
            <a:avLst/>
          </a:prstGeom>
          <a:ln w="47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9040" y="4068720"/>
            <a:ext cx="0" cy="228600"/>
          </a:xfrm>
          <a:prstGeom prst="line">
            <a:avLst/>
          </a:prstGeom>
          <a:ln w="47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02080" y="2941200"/>
            <a:ext cx="0" cy="228600"/>
          </a:xfrm>
          <a:prstGeom prst="line">
            <a:avLst/>
          </a:prstGeom>
          <a:ln w="47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15040" y="3992040"/>
            <a:ext cx="0" cy="228600"/>
          </a:xfrm>
          <a:prstGeom prst="line">
            <a:avLst/>
          </a:prstGeom>
          <a:ln w="47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302080" y="1949040"/>
            <a:ext cx="0" cy="228600"/>
          </a:xfrm>
          <a:prstGeom prst="line">
            <a:avLst/>
          </a:prstGeom>
          <a:ln w="47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3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5334120"/>
            <a:ext cx="1163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IM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2960" y="5334120"/>
            <a:ext cx="18219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PAC-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6120" y="2122560"/>
            <a:ext cx="2354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Energy demand and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Price/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SimSun"/>
              </a:rPr>
              <a:t>Medium/long-ter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800600"/>
            <a:ext cx="152640" cy="45720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5562720"/>
            <a:ext cx="533520" cy="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352680" y="4800600"/>
            <a:ext cx="152640" cy="533520"/>
          </a:xfrm>
          <a:prstGeom prst="line">
            <a:avLst/>
          </a:prstGeom>
          <a:ln w="442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B83-8B49-434C-BEEC-5B47BE940A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257720"/>
          </a:xfrm>
          <a:prstGeom prst="rect">
            <a:avLst/>
          </a:prstGeom>
          <a:ln w="0">
            <a:noFill/>
          </a:ln>
        </p:spPr>
      </p:pic>
      <p:sp>
        <p:nvSpPr>
          <p:cNvPr id="3116" name=""/>
          <p:cNvSpPr/>
          <p:nvPr/>
        </p:nvSpPr>
        <p:spPr>
          <a:xfrm>
            <a:off x="1066680" y="533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Average living area per capita, m</a:t>
            </a:r>
            <a:r>
              <a:rPr b="1" i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698-35C5-4E67-9A3F-7E73D231B1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7" name="" descr=""/>
          <p:cNvPicPr/>
          <p:nvPr/>
        </p:nvPicPr>
        <p:blipFill>
          <a:blip r:embed="rId1"/>
          <a:stretch/>
        </p:blipFill>
        <p:spPr>
          <a:xfrm>
            <a:off x="236520" y="838080"/>
            <a:ext cx="8907480" cy="5411880"/>
          </a:xfrm>
          <a:prstGeom prst="rect">
            <a:avLst/>
          </a:prstGeom>
          <a:ln w="0">
            <a:noFill/>
          </a:ln>
        </p:spPr>
      </p:pic>
      <p:sp>
        <p:nvSpPr>
          <p:cNvPr id="3118" name=""/>
          <p:cNvSpPr/>
          <p:nvPr/>
        </p:nvSpPr>
        <p:spPr>
          <a:xfrm>
            <a:off x="990720" y="990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Car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B18-5B18-4870-A6AC-8B4E96CE29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16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3CE-63E0-47DE-A94C-9904374B52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503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88F-A79F-4A09-89C9-51A647E17E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07732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FF3-A6BF-497D-AD45-61C3385E83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"/>
          <p:cNvSpPr/>
          <p:nvPr/>
        </p:nvSpPr>
        <p:spPr>
          <a:xfrm>
            <a:off x="771480" y="771480"/>
            <a:ext cx="7661160" cy="4930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2647800" y="1914480"/>
            <a:ext cx="5613480" cy="247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647800" y="3979800"/>
            <a:ext cx="561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647800" y="3570120"/>
            <a:ext cx="561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2647800" y="3160800"/>
            <a:ext cx="561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2647800" y="2733840"/>
            <a:ext cx="561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647800" y="2324160"/>
            <a:ext cx="561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2647800" y="1914480"/>
            <a:ext cx="561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2647800" y="1914480"/>
            <a:ext cx="5613480" cy="2475000"/>
          </a:xfrm>
          <a:prstGeom prst="rect">
            <a:avLst/>
          </a:prstGeom>
          <a:noFill/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2647800" y="1914480"/>
            <a:ext cx="1800" cy="247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562120" y="438948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2562120" y="397980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562120" y="357012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562120" y="316080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562120" y="273384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2562120" y="232416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2562120" y="191448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2647800" y="4389480"/>
            <a:ext cx="561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V="1">
            <a:off x="2647800" y="43894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V="1">
            <a:off x="4046400" y="43894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V="1">
            <a:off x="5462640" y="43894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6862680" y="43894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V="1">
            <a:off x="8261280" y="43894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V="1">
            <a:off x="3348000" y="3296880"/>
            <a:ext cx="1398600" cy="54612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V="1">
            <a:off x="4746600" y="2766600"/>
            <a:ext cx="1416240" cy="53028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V="1">
            <a:off x="6162840" y="2306160"/>
            <a:ext cx="1398600" cy="460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V="1">
            <a:off x="3348000" y="3381120"/>
            <a:ext cx="1398600" cy="461880"/>
          </a:xfrm>
          <a:prstGeom prst="line">
            <a:avLst/>
          </a:prstGeom>
          <a:ln w="176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V="1">
            <a:off x="4746600" y="2920680"/>
            <a:ext cx="1416240" cy="460440"/>
          </a:xfrm>
          <a:prstGeom prst="line">
            <a:avLst/>
          </a:prstGeom>
          <a:ln w="176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V="1">
            <a:off x="6162840" y="2528640"/>
            <a:ext cx="1398600" cy="392040"/>
          </a:xfrm>
          <a:prstGeom prst="line">
            <a:avLst/>
          </a:prstGeom>
          <a:ln w="176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V="1">
            <a:off x="3348000" y="3433680"/>
            <a:ext cx="1398600" cy="409680"/>
          </a:xfrm>
          <a:prstGeom prst="line">
            <a:avLst/>
          </a:prstGeom>
          <a:ln w="176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4746600" y="3024000"/>
            <a:ext cx="1416240" cy="409320"/>
          </a:xfrm>
          <a:prstGeom prst="line">
            <a:avLst/>
          </a:prstGeom>
          <a:ln w="176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6162840" y="2665080"/>
            <a:ext cx="1398600" cy="358920"/>
          </a:xfrm>
          <a:prstGeom prst="line">
            <a:avLst/>
          </a:prstGeom>
          <a:ln w="176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V="1">
            <a:off x="3348000" y="3535200"/>
            <a:ext cx="1398600" cy="3081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4746600" y="3160800"/>
            <a:ext cx="1416240" cy="37440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6162840" y="2801520"/>
            <a:ext cx="1398600" cy="35892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V="1">
            <a:off x="3348000" y="3586320"/>
            <a:ext cx="1398600" cy="25704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4746600" y="3296880"/>
            <a:ext cx="1416240" cy="28908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6162840" y="2955960"/>
            <a:ext cx="1398600" cy="34128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3348000" y="3689280"/>
            <a:ext cx="1398600" cy="154080"/>
          </a:xfrm>
          <a:prstGeom prst="line">
            <a:avLst/>
          </a:prstGeom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V="1">
            <a:off x="4746600" y="3466800"/>
            <a:ext cx="1416240" cy="222120"/>
          </a:xfrm>
          <a:prstGeom prst="line">
            <a:avLst/>
          </a:prstGeom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V="1">
            <a:off x="6162840" y="3211560"/>
            <a:ext cx="1398600" cy="255600"/>
          </a:xfrm>
          <a:prstGeom prst="line">
            <a:avLst/>
          </a:prstGeom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3295800" y="379080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3" y="0"/>
                </a:moveTo>
                <a:lnTo>
                  <a:pt x="65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695840" y="3244680"/>
            <a:ext cx="101520" cy="103320"/>
          </a:xfrm>
          <a:custGeom>
            <a:avLst/>
            <a:gdLst/>
            <a:ahLst/>
            <a:rect l="l" t="t" r="r" b="b"/>
            <a:pathLst>
              <a:path w="64" h="65">
                <a:moveTo>
                  <a:pt x="32" y="0"/>
                </a:moveTo>
                <a:lnTo>
                  <a:pt x="64" y="33"/>
                </a:lnTo>
                <a:lnTo>
                  <a:pt x="32" y="65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6111720" y="2716200"/>
            <a:ext cx="101880" cy="103320"/>
          </a:xfrm>
          <a:custGeom>
            <a:avLst/>
            <a:gdLst/>
            <a:ahLst/>
            <a:rect l="l" t="t" r="r" b="b"/>
            <a:pathLst>
              <a:path w="64" h="65">
                <a:moveTo>
                  <a:pt x="32" y="0"/>
                </a:moveTo>
                <a:lnTo>
                  <a:pt x="64" y="32"/>
                </a:lnTo>
                <a:lnTo>
                  <a:pt x="32" y="65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7510320" y="2255760"/>
            <a:ext cx="103320" cy="101520"/>
          </a:xfrm>
          <a:custGeom>
            <a:avLst/>
            <a:gdLst/>
            <a:ahLst/>
            <a:rect l="l" t="t" r="r" b="b"/>
            <a:pathLst>
              <a:path w="65" h="64">
                <a:moveTo>
                  <a:pt x="32" y="0"/>
                </a:moveTo>
                <a:lnTo>
                  <a:pt x="65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295800" y="3790800"/>
            <a:ext cx="102960" cy="103320"/>
          </a:xfrm>
          <a:prstGeom prst="rect">
            <a:avLst/>
          </a:prstGeom>
          <a:solidFill>
            <a:srgbClr val="ff00ff"/>
          </a:solidFill>
          <a:ln w="176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4695840" y="3330720"/>
            <a:ext cx="101520" cy="102960"/>
          </a:xfrm>
          <a:prstGeom prst="rect">
            <a:avLst/>
          </a:prstGeom>
          <a:solidFill>
            <a:srgbClr val="ff00ff"/>
          </a:solidFill>
          <a:ln w="176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111720" y="2870280"/>
            <a:ext cx="101880" cy="101520"/>
          </a:xfrm>
          <a:prstGeom prst="rect">
            <a:avLst/>
          </a:prstGeom>
          <a:solidFill>
            <a:srgbClr val="ff00ff"/>
          </a:solidFill>
          <a:ln w="176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7510320" y="2478240"/>
            <a:ext cx="103320" cy="101520"/>
          </a:xfrm>
          <a:prstGeom prst="rect">
            <a:avLst/>
          </a:prstGeom>
          <a:solidFill>
            <a:srgbClr val="ff00ff"/>
          </a:solidFill>
          <a:ln w="176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295800" y="379080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3" y="0"/>
                </a:moveTo>
                <a:lnTo>
                  <a:pt x="65" y="65"/>
                </a:lnTo>
                <a:lnTo>
                  <a:pt x="0" y="65"/>
                </a:lnTo>
                <a:lnTo>
                  <a:pt x="33" y="0"/>
                </a:lnTo>
                <a:close/>
              </a:path>
            </a:pathLst>
          </a:custGeom>
          <a:solidFill>
            <a:srgbClr val="ffff00"/>
          </a:solidFill>
          <a:ln w="17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4695840" y="3381480"/>
            <a:ext cx="101520" cy="102960"/>
          </a:xfrm>
          <a:custGeom>
            <a:avLst/>
            <a:gdLst/>
            <a:ahLst/>
            <a:rect l="l" t="t" r="r" b="b"/>
            <a:pathLst>
              <a:path w="64" h="65">
                <a:moveTo>
                  <a:pt x="32" y="0"/>
                </a:moveTo>
                <a:lnTo>
                  <a:pt x="64" y="65"/>
                </a:lnTo>
                <a:lnTo>
                  <a:pt x="0" y="65"/>
                </a:lnTo>
                <a:lnTo>
                  <a:pt x="32" y="0"/>
                </a:lnTo>
                <a:close/>
              </a:path>
            </a:pathLst>
          </a:custGeom>
          <a:solidFill>
            <a:srgbClr val="ffff00"/>
          </a:solidFill>
          <a:ln w="17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111720" y="2971800"/>
            <a:ext cx="101880" cy="103320"/>
          </a:xfrm>
          <a:custGeom>
            <a:avLst/>
            <a:gdLst/>
            <a:ahLst/>
            <a:rect l="l" t="t" r="r" b="b"/>
            <a:pathLst>
              <a:path w="64" h="65">
                <a:moveTo>
                  <a:pt x="32" y="0"/>
                </a:moveTo>
                <a:lnTo>
                  <a:pt x="64" y="65"/>
                </a:lnTo>
                <a:lnTo>
                  <a:pt x="0" y="65"/>
                </a:lnTo>
                <a:lnTo>
                  <a:pt x="32" y="0"/>
                </a:lnTo>
                <a:close/>
              </a:path>
            </a:pathLst>
          </a:custGeom>
          <a:solidFill>
            <a:srgbClr val="ffff00"/>
          </a:solidFill>
          <a:ln w="17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510320" y="2614680"/>
            <a:ext cx="103320" cy="101520"/>
          </a:xfrm>
          <a:custGeom>
            <a:avLst/>
            <a:gdLst/>
            <a:ahLst/>
            <a:rect l="l" t="t" r="r" b="b"/>
            <a:pathLst>
              <a:path w="65" h="64">
                <a:moveTo>
                  <a:pt x="32" y="0"/>
                </a:moveTo>
                <a:lnTo>
                  <a:pt x="65" y="64"/>
                </a:lnTo>
                <a:lnTo>
                  <a:pt x="0" y="64"/>
                </a:lnTo>
                <a:lnTo>
                  <a:pt x="32" y="0"/>
                </a:lnTo>
                <a:close/>
              </a:path>
            </a:pathLst>
          </a:custGeom>
          <a:solidFill>
            <a:srgbClr val="ffff00"/>
          </a:solidFill>
          <a:ln w="17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3279600" y="3774960"/>
            <a:ext cx="169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 flipV="1">
            <a:off x="3295440" y="3790800"/>
            <a:ext cx="52200" cy="525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3348000" y="3843360"/>
            <a:ext cx="5076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H="1">
            <a:off x="3295440" y="3843360"/>
            <a:ext cx="5220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3348000" y="3790800"/>
            <a:ext cx="50760" cy="525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678200" y="3467160"/>
            <a:ext cx="1699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H="1" flipV="1">
            <a:off x="4695480" y="3484080"/>
            <a:ext cx="5076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4746600" y="3535200"/>
            <a:ext cx="50760" cy="5112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4695480" y="3535200"/>
            <a:ext cx="50760" cy="5112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 flipV="1">
            <a:off x="4746600" y="3484080"/>
            <a:ext cx="5076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6094440" y="3092400"/>
            <a:ext cx="171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 flipH="1" flipV="1">
            <a:off x="6111720" y="3108240"/>
            <a:ext cx="51120" cy="525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6162840" y="3160800"/>
            <a:ext cx="5076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6111720" y="3160800"/>
            <a:ext cx="5112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6162840" y="3108240"/>
            <a:ext cx="50760" cy="525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493040" y="2733840"/>
            <a:ext cx="171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 flipV="1">
            <a:off x="7510320" y="2750760"/>
            <a:ext cx="5112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7561440" y="2801880"/>
            <a:ext cx="5220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510320" y="2801880"/>
            <a:ext cx="5112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V="1">
            <a:off x="7561440" y="2750760"/>
            <a:ext cx="52200" cy="50760"/>
          </a:xfrm>
          <a:prstGeom prst="line">
            <a:avLst/>
          </a:prstGeom>
          <a:ln w="176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3279600" y="3774960"/>
            <a:ext cx="169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 flipV="1">
            <a:off x="3295440" y="3790800"/>
            <a:ext cx="5220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3348000" y="3843360"/>
            <a:ext cx="5076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3295440" y="3843360"/>
            <a:ext cx="5220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V="1">
            <a:off x="3348000" y="3790800"/>
            <a:ext cx="5076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V="1">
            <a:off x="3348000" y="3790800"/>
            <a:ext cx="180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3348000" y="3843360"/>
            <a:ext cx="180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4678200" y="3517920"/>
            <a:ext cx="1699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 flipV="1">
            <a:off x="4695480" y="3535200"/>
            <a:ext cx="50760" cy="5112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4746600" y="3586320"/>
            <a:ext cx="50760" cy="522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4695480" y="3586320"/>
            <a:ext cx="50760" cy="522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V="1">
            <a:off x="4746600" y="3535200"/>
            <a:ext cx="50760" cy="5112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4746600" y="3535200"/>
            <a:ext cx="1440" cy="5112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4746600" y="3586320"/>
            <a:ext cx="1440" cy="522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6094440" y="3228840"/>
            <a:ext cx="171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 flipH="1" flipV="1">
            <a:off x="6111720" y="3244680"/>
            <a:ext cx="5112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6162840" y="3297240"/>
            <a:ext cx="5076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 flipH="1">
            <a:off x="6111720" y="3297240"/>
            <a:ext cx="5112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 flipV="1">
            <a:off x="6162840" y="3244680"/>
            <a:ext cx="5076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 flipV="1">
            <a:off x="6162840" y="3244680"/>
            <a:ext cx="144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6162840" y="3297240"/>
            <a:ext cx="144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493040" y="2887560"/>
            <a:ext cx="171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 flipH="1" flipV="1">
            <a:off x="7510320" y="2903400"/>
            <a:ext cx="5112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7561440" y="2955960"/>
            <a:ext cx="5220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 flipH="1">
            <a:off x="7510320" y="2955960"/>
            <a:ext cx="5112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 flipV="1">
            <a:off x="7561440" y="2903400"/>
            <a:ext cx="5220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 flipV="1">
            <a:off x="7561440" y="2903400"/>
            <a:ext cx="1440" cy="525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561440" y="2955960"/>
            <a:ext cx="1440" cy="5076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3295800" y="3790800"/>
            <a:ext cx="102960" cy="103320"/>
          </a:xfrm>
          <a:prstGeom prst="ellipse">
            <a:avLst/>
          </a:prstGeom>
          <a:solidFill>
            <a:srgbClr val="800000"/>
          </a:solidFill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4695840" y="3638520"/>
            <a:ext cx="101520" cy="101520"/>
          </a:xfrm>
          <a:prstGeom prst="ellipse">
            <a:avLst/>
          </a:prstGeom>
          <a:solidFill>
            <a:srgbClr val="800000"/>
          </a:solidFill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6111720" y="3416400"/>
            <a:ext cx="101880" cy="101520"/>
          </a:xfrm>
          <a:prstGeom prst="ellipse">
            <a:avLst/>
          </a:prstGeom>
          <a:solidFill>
            <a:srgbClr val="800000"/>
          </a:solidFill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510320" y="3160800"/>
            <a:ext cx="103320" cy="101520"/>
          </a:xfrm>
          <a:prstGeom prst="ellipse">
            <a:avLst/>
          </a:prstGeom>
          <a:solidFill>
            <a:srgbClr val="800000"/>
          </a:solidFill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909080" y="958680"/>
            <a:ext cx="5520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mary Energy Demand Scenar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2331720" y="4235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1504800" y="38257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1504800" y="341640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1504800" y="30067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1504800" y="257976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1504800" y="217008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1504800" y="176040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3095640" y="46274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4495680" y="46274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911560" y="46274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7310160" y="46274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0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211360" y="5087880"/>
            <a:ext cx="60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 rot="16200000">
            <a:off x="875160" y="2957400"/>
            <a:ext cx="6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t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771480" y="771480"/>
            <a:ext cx="7661160" cy="4930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E51-B6A9-4B8F-BDCD-9ADE61EE64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94960" y="650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Understand future energy: a multiple mod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82880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Times New Roman"/>
              </a:rPr>
              <a:t>IPAC-AIM/technology model: Bottom-up model for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Times New Roman"/>
              </a:rPr>
              <a:t>IPAC-emission model: glob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Times New Roman"/>
              </a:rPr>
              <a:t>IPAC-SGM: CG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Times New Roman"/>
              </a:rPr>
              <a:t>IPAC-Ele: power gener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Times New Roman"/>
              </a:rPr>
              <a:t>IPAC-AIM/trans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Times New Roman"/>
              </a:rPr>
              <a:t>IPAC-AIM/local: regional model for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251-8233-4B36-9C08-BE45857B8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2240" y="40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0840" y="65088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inkage in I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3160" y="5715000"/>
            <a:ext cx="27334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mmo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743200"/>
            <a:ext cx="1981080" cy="1922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SimSun"/>
              </a:rPr>
              <a:t>Bottom-up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SimSun"/>
              </a:rPr>
              <a:t>AIM/T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SimSu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SimSun"/>
              </a:rPr>
              <a:t>AIM/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2666880"/>
            <a:ext cx="1676520" cy="1557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SimSun"/>
              </a:rPr>
              <a:t>Top-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SimSun"/>
              </a:rPr>
              <a:t>S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SimSun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SimSun"/>
              </a:rPr>
              <a:t>I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9000" y="3352680"/>
            <a:ext cx="11120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SimSun"/>
              </a:rPr>
              <a:t>IPAC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146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  <a:ea typeface="SimSun"/>
              </a:rPr>
              <a:t>Technology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32880" y="213372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  <a:ea typeface="SimSun"/>
              </a:rPr>
              <a:t>Environment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  <a:ea typeface="SimSun"/>
              </a:rPr>
              <a:t>Energy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2320" y="3733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SimSun"/>
              </a:rPr>
              <a:t>s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599840" y="4495680"/>
            <a:ext cx="30492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371600" y="3733920"/>
            <a:ext cx="5335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276720"/>
            <a:ext cx="1371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19520" y="4267080"/>
            <a:ext cx="838080" cy="1447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191120" y="4114440"/>
            <a:ext cx="152280" cy="1600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419720" y="4267080"/>
            <a:ext cx="1600200" cy="1447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220968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  <a:ea typeface="SimSun"/>
              </a:rPr>
              <a:t>Energy and Emission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3124440" cy="622440"/>
          </a:xfrm>
          <a:custGeom>
            <a:avLst/>
            <a:gdLst/>
            <a:ahLst/>
            <a:rect l="l" t="t" r="r" b="b"/>
            <a:pathLst>
              <a:path w="1968" h="392">
                <a:moveTo>
                  <a:pt x="0" y="392"/>
                </a:moveTo>
                <a:cubicBezTo>
                  <a:pt x="316" y="204"/>
                  <a:pt x="632" y="16"/>
                  <a:pt x="960" y="8"/>
                </a:cubicBezTo>
                <a:cubicBezTo>
                  <a:pt x="1288" y="0"/>
                  <a:pt x="1628" y="172"/>
                  <a:pt x="1968" y="344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895480"/>
            <a:ext cx="380880" cy="381240"/>
          </a:xfrm>
          <a:prstGeom prst="upArrow">
            <a:avLst>
              <a:gd name="adj1" fmla="val 50000"/>
              <a:gd name="adj2" fmla="val 2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743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28195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SimSun"/>
              </a:rPr>
              <a:t>Dynamic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3276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SimSun"/>
              </a:rPr>
              <a:t>General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657600"/>
            <a:ext cx="121932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038480"/>
            <a:ext cx="106668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4800" y="180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99680" y="480060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ommon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egions/Beij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040" y="5105520"/>
            <a:ext cx="1383120" cy="45972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PAC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2960" y="5943600"/>
            <a:ext cx="1789920" cy="45972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PAC-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676160" y="4724280"/>
            <a:ext cx="53316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4800600"/>
            <a:ext cx="76212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638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70D-8B36-47FB-884E-BAB8826B0B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98200" y="65088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ERI: IPAC-AIM/Technolog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82880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ottom-up model for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6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east cost op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ore than 500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buClr>
                <a:srgbClr val="66ff33"/>
              </a:buClr>
              <a:buSzPct val="120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edium-term scenario(20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5B1-39A3-40F4-868C-A68A878F03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2960" y="1073160"/>
            <a:ext cx="1774800" cy="417600"/>
          </a:xfrm>
          <a:custGeom>
            <a:avLst/>
            <a:gdLst/>
            <a:ahLst/>
            <a:rect l="l" t="t" r="r" b="b"/>
            <a:pathLst>
              <a:path w="1118" h="263">
                <a:moveTo>
                  <a:pt x="134" y="0"/>
                </a:moveTo>
                <a:lnTo>
                  <a:pt x="120" y="1"/>
                </a:lnTo>
                <a:lnTo>
                  <a:pt x="107" y="3"/>
                </a:lnTo>
                <a:lnTo>
                  <a:pt x="94" y="6"/>
                </a:lnTo>
                <a:lnTo>
                  <a:pt x="82" y="11"/>
                </a:lnTo>
                <a:lnTo>
                  <a:pt x="70" y="16"/>
                </a:lnTo>
                <a:lnTo>
                  <a:pt x="59" y="23"/>
                </a:lnTo>
                <a:lnTo>
                  <a:pt x="49" y="31"/>
                </a:lnTo>
                <a:lnTo>
                  <a:pt x="39" y="39"/>
                </a:lnTo>
                <a:lnTo>
                  <a:pt x="31" y="49"/>
                </a:lnTo>
                <a:lnTo>
                  <a:pt x="23" y="59"/>
                </a:lnTo>
                <a:lnTo>
                  <a:pt x="16" y="70"/>
                </a:lnTo>
                <a:lnTo>
                  <a:pt x="11" y="82"/>
                </a:lnTo>
                <a:lnTo>
                  <a:pt x="6" y="94"/>
                </a:lnTo>
                <a:lnTo>
                  <a:pt x="3" y="107"/>
                </a:lnTo>
                <a:lnTo>
                  <a:pt x="1" y="120"/>
                </a:lnTo>
                <a:lnTo>
                  <a:pt x="0" y="134"/>
                </a:lnTo>
                <a:lnTo>
                  <a:pt x="0" y="129"/>
                </a:lnTo>
                <a:lnTo>
                  <a:pt x="1" y="143"/>
                </a:lnTo>
                <a:lnTo>
                  <a:pt x="3" y="156"/>
                </a:lnTo>
                <a:lnTo>
                  <a:pt x="6" y="169"/>
                </a:lnTo>
                <a:lnTo>
                  <a:pt x="11" y="181"/>
                </a:lnTo>
                <a:lnTo>
                  <a:pt x="16" y="193"/>
                </a:lnTo>
                <a:lnTo>
                  <a:pt x="23" y="204"/>
                </a:lnTo>
                <a:lnTo>
                  <a:pt x="31" y="214"/>
                </a:lnTo>
                <a:lnTo>
                  <a:pt x="39" y="224"/>
                </a:lnTo>
                <a:lnTo>
                  <a:pt x="49" y="232"/>
                </a:lnTo>
                <a:lnTo>
                  <a:pt x="59" y="240"/>
                </a:lnTo>
                <a:lnTo>
                  <a:pt x="70" y="247"/>
                </a:lnTo>
                <a:lnTo>
                  <a:pt x="82" y="253"/>
                </a:lnTo>
                <a:lnTo>
                  <a:pt x="94" y="257"/>
                </a:lnTo>
                <a:lnTo>
                  <a:pt x="107" y="260"/>
                </a:lnTo>
                <a:lnTo>
                  <a:pt x="120" y="262"/>
                </a:lnTo>
                <a:lnTo>
                  <a:pt x="134" y="263"/>
                </a:lnTo>
                <a:lnTo>
                  <a:pt x="984" y="263"/>
                </a:lnTo>
                <a:lnTo>
                  <a:pt x="998" y="262"/>
                </a:lnTo>
                <a:lnTo>
                  <a:pt x="1011" y="260"/>
                </a:lnTo>
                <a:lnTo>
                  <a:pt x="1024" y="257"/>
                </a:lnTo>
                <a:lnTo>
                  <a:pt x="1036" y="253"/>
                </a:lnTo>
                <a:lnTo>
                  <a:pt x="1048" y="247"/>
                </a:lnTo>
                <a:lnTo>
                  <a:pt x="1059" y="240"/>
                </a:lnTo>
                <a:lnTo>
                  <a:pt x="1069" y="232"/>
                </a:lnTo>
                <a:lnTo>
                  <a:pt x="1079" y="224"/>
                </a:lnTo>
                <a:lnTo>
                  <a:pt x="1087" y="214"/>
                </a:lnTo>
                <a:lnTo>
                  <a:pt x="1095" y="204"/>
                </a:lnTo>
                <a:lnTo>
                  <a:pt x="1102" y="193"/>
                </a:lnTo>
                <a:lnTo>
                  <a:pt x="1108" y="181"/>
                </a:lnTo>
                <a:lnTo>
                  <a:pt x="1112" y="169"/>
                </a:lnTo>
                <a:lnTo>
                  <a:pt x="1115" y="156"/>
                </a:lnTo>
                <a:lnTo>
                  <a:pt x="1117" y="143"/>
                </a:lnTo>
                <a:lnTo>
                  <a:pt x="1118" y="129"/>
                </a:lnTo>
                <a:lnTo>
                  <a:pt x="1118" y="134"/>
                </a:lnTo>
                <a:lnTo>
                  <a:pt x="1117" y="120"/>
                </a:lnTo>
                <a:lnTo>
                  <a:pt x="1115" y="107"/>
                </a:lnTo>
                <a:lnTo>
                  <a:pt x="1112" y="94"/>
                </a:lnTo>
                <a:lnTo>
                  <a:pt x="1108" y="82"/>
                </a:lnTo>
                <a:lnTo>
                  <a:pt x="1102" y="70"/>
                </a:lnTo>
                <a:lnTo>
                  <a:pt x="1095" y="59"/>
                </a:lnTo>
                <a:lnTo>
                  <a:pt x="1087" y="49"/>
                </a:lnTo>
                <a:lnTo>
                  <a:pt x="1079" y="39"/>
                </a:lnTo>
                <a:lnTo>
                  <a:pt x="1069" y="31"/>
                </a:lnTo>
                <a:lnTo>
                  <a:pt x="1059" y="23"/>
                </a:lnTo>
                <a:lnTo>
                  <a:pt x="1048" y="16"/>
                </a:lnTo>
                <a:lnTo>
                  <a:pt x="1036" y="11"/>
                </a:lnTo>
                <a:lnTo>
                  <a:pt x="1024" y="6"/>
                </a:lnTo>
                <a:lnTo>
                  <a:pt x="1011" y="3"/>
                </a:lnTo>
                <a:lnTo>
                  <a:pt x="998" y="1"/>
                </a:lnTo>
                <a:lnTo>
                  <a:pt x="984" y="0"/>
                </a:lnTo>
                <a:lnTo>
                  <a:pt x="134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62160" y="1079640"/>
            <a:ext cx="2503440" cy="417240"/>
          </a:xfrm>
          <a:custGeom>
            <a:avLst/>
            <a:gdLst/>
            <a:ahLst/>
            <a:rect l="l" t="t" r="r" b="b"/>
            <a:pathLst>
              <a:path w="1577" h="263">
                <a:moveTo>
                  <a:pt x="134" y="0"/>
                </a:moveTo>
                <a:lnTo>
                  <a:pt x="120" y="1"/>
                </a:lnTo>
                <a:lnTo>
                  <a:pt x="107" y="3"/>
                </a:lnTo>
                <a:lnTo>
                  <a:pt x="94" y="6"/>
                </a:lnTo>
                <a:lnTo>
                  <a:pt x="82" y="11"/>
                </a:lnTo>
                <a:lnTo>
                  <a:pt x="70" y="16"/>
                </a:lnTo>
                <a:lnTo>
                  <a:pt x="59" y="23"/>
                </a:lnTo>
                <a:lnTo>
                  <a:pt x="49" y="31"/>
                </a:lnTo>
                <a:lnTo>
                  <a:pt x="39" y="39"/>
                </a:lnTo>
                <a:lnTo>
                  <a:pt x="31" y="49"/>
                </a:lnTo>
                <a:lnTo>
                  <a:pt x="23" y="59"/>
                </a:lnTo>
                <a:lnTo>
                  <a:pt x="16" y="70"/>
                </a:lnTo>
                <a:lnTo>
                  <a:pt x="11" y="82"/>
                </a:lnTo>
                <a:lnTo>
                  <a:pt x="6" y="94"/>
                </a:lnTo>
                <a:lnTo>
                  <a:pt x="3" y="107"/>
                </a:lnTo>
                <a:lnTo>
                  <a:pt x="1" y="120"/>
                </a:lnTo>
                <a:lnTo>
                  <a:pt x="0" y="134"/>
                </a:lnTo>
                <a:lnTo>
                  <a:pt x="0" y="129"/>
                </a:lnTo>
                <a:lnTo>
                  <a:pt x="1" y="143"/>
                </a:lnTo>
                <a:lnTo>
                  <a:pt x="3" y="156"/>
                </a:lnTo>
                <a:lnTo>
                  <a:pt x="6" y="169"/>
                </a:lnTo>
                <a:lnTo>
                  <a:pt x="11" y="181"/>
                </a:lnTo>
                <a:lnTo>
                  <a:pt x="16" y="193"/>
                </a:lnTo>
                <a:lnTo>
                  <a:pt x="23" y="204"/>
                </a:lnTo>
                <a:lnTo>
                  <a:pt x="31" y="214"/>
                </a:lnTo>
                <a:lnTo>
                  <a:pt x="39" y="224"/>
                </a:lnTo>
                <a:lnTo>
                  <a:pt x="49" y="232"/>
                </a:lnTo>
                <a:lnTo>
                  <a:pt x="59" y="240"/>
                </a:lnTo>
                <a:lnTo>
                  <a:pt x="70" y="247"/>
                </a:lnTo>
                <a:lnTo>
                  <a:pt x="82" y="253"/>
                </a:lnTo>
                <a:lnTo>
                  <a:pt x="94" y="257"/>
                </a:lnTo>
                <a:lnTo>
                  <a:pt x="107" y="260"/>
                </a:lnTo>
                <a:lnTo>
                  <a:pt x="120" y="262"/>
                </a:lnTo>
                <a:lnTo>
                  <a:pt x="134" y="263"/>
                </a:lnTo>
                <a:lnTo>
                  <a:pt x="1443" y="263"/>
                </a:lnTo>
                <a:lnTo>
                  <a:pt x="1457" y="262"/>
                </a:lnTo>
                <a:lnTo>
                  <a:pt x="1470" y="260"/>
                </a:lnTo>
                <a:lnTo>
                  <a:pt x="1483" y="257"/>
                </a:lnTo>
                <a:lnTo>
                  <a:pt x="1495" y="253"/>
                </a:lnTo>
                <a:lnTo>
                  <a:pt x="1507" y="247"/>
                </a:lnTo>
                <a:lnTo>
                  <a:pt x="1518" y="240"/>
                </a:lnTo>
                <a:lnTo>
                  <a:pt x="1528" y="232"/>
                </a:lnTo>
                <a:lnTo>
                  <a:pt x="1538" y="224"/>
                </a:lnTo>
                <a:lnTo>
                  <a:pt x="1546" y="214"/>
                </a:lnTo>
                <a:lnTo>
                  <a:pt x="1554" y="204"/>
                </a:lnTo>
                <a:lnTo>
                  <a:pt x="1561" y="193"/>
                </a:lnTo>
                <a:lnTo>
                  <a:pt x="1567" y="181"/>
                </a:lnTo>
                <a:lnTo>
                  <a:pt x="1571" y="169"/>
                </a:lnTo>
                <a:lnTo>
                  <a:pt x="1574" y="156"/>
                </a:lnTo>
                <a:lnTo>
                  <a:pt x="1576" y="143"/>
                </a:lnTo>
                <a:lnTo>
                  <a:pt x="1577" y="129"/>
                </a:lnTo>
                <a:lnTo>
                  <a:pt x="1577" y="134"/>
                </a:lnTo>
                <a:lnTo>
                  <a:pt x="1576" y="120"/>
                </a:lnTo>
                <a:lnTo>
                  <a:pt x="1574" y="107"/>
                </a:lnTo>
                <a:lnTo>
                  <a:pt x="1571" y="94"/>
                </a:lnTo>
                <a:lnTo>
                  <a:pt x="1567" y="82"/>
                </a:lnTo>
                <a:lnTo>
                  <a:pt x="1561" y="70"/>
                </a:lnTo>
                <a:lnTo>
                  <a:pt x="1554" y="59"/>
                </a:lnTo>
                <a:lnTo>
                  <a:pt x="1546" y="49"/>
                </a:lnTo>
                <a:lnTo>
                  <a:pt x="1538" y="39"/>
                </a:lnTo>
                <a:lnTo>
                  <a:pt x="1528" y="31"/>
                </a:lnTo>
                <a:lnTo>
                  <a:pt x="1518" y="23"/>
                </a:lnTo>
                <a:lnTo>
                  <a:pt x="1507" y="16"/>
                </a:lnTo>
                <a:lnTo>
                  <a:pt x="1495" y="11"/>
                </a:lnTo>
                <a:lnTo>
                  <a:pt x="1483" y="6"/>
                </a:lnTo>
                <a:lnTo>
                  <a:pt x="1470" y="3"/>
                </a:lnTo>
                <a:lnTo>
                  <a:pt x="1457" y="1"/>
                </a:lnTo>
                <a:lnTo>
                  <a:pt x="1443" y="0"/>
                </a:lnTo>
                <a:lnTo>
                  <a:pt x="134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0280" y="1073160"/>
            <a:ext cx="2057400" cy="425520"/>
          </a:xfrm>
          <a:custGeom>
            <a:avLst/>
            <a:gdLst/>
            <a:ahLst/>
            <a:rect l="l" t="t" r="r" b="b"/>
            <a:pathLst>
              <a:path w="1296" h="268">
                <a:moveTo>
                  <a:pt x="134" y="0"/>
                </a:moveTo>
                <a:lnTo>
                  <a:pt x="120" y="1"/>
                </a:lnTo>
                <a:lnTo>
                  <a:pt x="107" y="3"/>
                </a:lnTo>
                <a:lnTo>
                  <a:pt x="94" y="6"/>
                </a:lnTo>
                <a:lnTo>
                  <a:pt x="82" y="11"/>
                </a:lnTo>
                <a:lnTo>
                  <a:pt x="70" y="16"/>
                </a:lnTo>
                <a:lnTo>
                  <a:pt x="59" y="23"/>
                </a:lnTo>
                <a:lnTo>
                  <a:pt x="49" y="31"/>
                </a:lnTo>
                <a:lnTo>
                  <a:pt x="39" y="39"/>
                </a:lnTo>
                <a:lnTo>
                  <a:pt x="31" y="49"/>
                </a:lnTo>
                <a:lnTo>
                  <a:pt x="23" y="59"/>
                </a:lnTo>
                <a:lnTo>
                  <a:pt x="16" y="70"/>
                </a:lnTo>
                <a:lnTo>
                  <a:pt x="11" y="82"/>
                </a:lnTo>
                <a:lnTo>
                  <a:pt x="6" y="94"/>
                </a:lnTo>
                <a:lnTo>
                  <a:pt x="3" y="107"/>
                </a:lnTo>
                <a:lnTo>
                  <a:pt x="1" y="120"/>
                </a:lnTo>
                <a:lnTo>
                  <a:pt x="0" y="134"/>
                </a:lnTo>
                <a:lnTo>
                  <a:pt x="0" y="134"/>
                </a:lnTo>
                <a:lnTo>
                  <a:pt x="1" y="148"/>
                </a:lnTo>
                <a:lnTo>
                  <a:pt x="3" y="161"/>
                </a:lnTo>
                <a:lnTo>
                  <a:pt x="6" y="174"/>
                </a:lnTo>
                <a:lnTo>
                  <a:pt x="11" y="186"/>
                </a:lnTo>
                <a:lnTo>
                  <a:pt x="16" y="198"/>
                </a:lnTo>
                <a:lnTo>
                  <a:pt x="23" y="209"/>
                </a:lnTo>
                <a:lnTo>
                  <a:pt x="31" y="219"/>
                </a:lnTo>
                <a:lnTo>
                  <a:pt x="39" y="229"/>
                </a:lnTo>
                <a:lnTo>
                  <a:pt x="49" y="237"/>
                </a:lnTo>
                <a:lnTo>
                  <a:pt x="59" y="245"/>
                </a:lnTo>
                <a:lnTo>
                  <a:pt x="70" y="252"/>
                </a:lnTo>
                <a:lnTo>
                  <a:pt x="82" y="258"/>
                </a:lnTo>
                <a:lnTo>
                  <a:pt x="94" y="262"/>
                </a:lnTo>
                <a:lnTo>
                  <a:pt x="107" y="265"/>
                </a:lnTo>
                <a:lnTo>
                  <a:pt x="120" y="267"/>
                </a:lnTo>
                <a:lnTo>
                  <a:pt x="134" y="268"/>
                </a:lnTo>
                <a:lnTo>
                  <a:pt x="1162" y="268"/>
                </a:lnTo>
                <a:lnTo>
                  <a:pt x="1176" y="267"/>
                </a:lnTo>
                <a:lnTo>
                  <a:pt x="1189" y="265"/>
                </a:lnTo>
                <a:lnTo>
                  <a:pt x="1202" y="262"/>
                </a:lnTo>
                <a:lnTo>
                  <a:pt x="1214" y="258"/>
                </a:lnTo>
                <a:lnTo>
                  <a:pt x="1226" y="252"/>
                </a:lnTo>
                <a:lnTo>
                  <a:pt x="1237" y="245"/>
                </a:lnTo>
                <a:lnTo>
                  <a:pt x="1247" y="237"/>
                </a:lnTo>
                <a:lnTo>
                  <a:pt x="1257" y="229"/>
                </a:lnTo>
                <a:lnTo>
                  <a:pt x="1265" y="219"/>
                </a:lnTo>
                <a:lnTo>
                  <a:pt x="1273" y="209"/>
                </a:lnTo>
                <a:lnTo>
                  <a:pt x="1280" y="198"/>
                </a:lnTo>
                <a:lnTo>
                  <a:pt x="1286" y="186"/>
                </a:lnTo>
                <a:lnTo>
                  <a:pt x="1290" y="174"/>
                </a:lnTo>
                <a:lnTo>
                  <a:pt x="1293" y="161"/>
                </a:lnTo>
                <a:lnTo>
                  <a:pt x="1295" y="148"/>
                </a:lnTo>
                <a:lnTo>
                  <a:pt x="1296" y="134"/>
                </a:lnTo>
                <a:lnTo>
                  <a:pt x="1296" y="134"/>
                </a:lnTo>
                <a:lnTo>
                  <a:pt x="1295" y="120"/>
                </a:lnTo>
                <a:lnTo>
                  <a:pt x="1293" y="107"/>
                </a:lnTo>
                <a:lnTo>
                  <a:pt x="1290" y="94"/>
                </a:lnTo>
                <a:lnTo>
                  <a:pt x="1286" y="82"/>
                </a:lnTo>
                <a:lnTo>
                  <a:pt x="1280" y="70"/>
                </a:lnTo>
                <a:lnTo>
                  <a:pt x="1273" y="59"/>
                </a:lnTo>
                <a:lnTo>
                  <a:pt x="1265" y="49"/>
                </a:lnTo>
                <a:lnTo>
                  <a:pt x="1257" y="39"/>
                </a:lnTo>
                <a:lnTo>
                  <a:pt x="1247" y="31"/>
                </a:lnTo>
                <a:lnTo>
                  <a:pt x="1237" y="23"/>
                </a:lnTo>
                <a:lnTo>
                  <a:pt x="1226" y="16"/>
                </a:lnTo>
                <a:lnTo>
                  <a:pt x="1214" y="11"/>
                </a:lnTo>
                <a:lnTo>
                  <a:pt x="1202" y="6"/>
                </a:lnTo>
                <a:lnTo>
                  <a:pt x="1189" y="3"/>
                </a:lnTo>
                <a:lnTo>
                  <a:pt x="1176" y="1"/>
                </a:lnTo>
                <a:lnTo>
                  <a:pt x="1162" y="0"/>
                </a:lnTo>
                <a:lnTo>
                  <a:pt x="134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004160" y="3689280"/>
            <a:ext cx="249120" cy="511200"/>
            <a:chOff x="7004160" y="3689280"/>
            <a:chExt cx="249120" cy="511200"/>
          </a:xfrm>
        </p:grpSpPr>
        <p:sp>
          <p:nvSpPr>
            <p:cNvPr id="134" name=""/>
            <p:cNvSpPr/>
            <p:nvPr/>
          </p:nvSpPr>
          <p:spPr>
            <a:xfrm>
              <a:off x="7004160" y="3689280"/>
              <a:ext cx="249120" cy="511200"/>
            </a:xfrm>
            <a:custGeom>
              <a:avLst/>
              <a:gdLst/>
              <a:ahLst/>
              <a:rect l="l" t="t" r="r" b="b"/>
              <a:pathLst>
                <a:path w="157" h="322">
                  <a:moveTo>
                    <a:pt x="31" y="321"/>
                  </a:moveTo>
                  <a:lnTo>
                    <a:pt x="31" y="123"/>
                  </a:lnTo>
                  <a:lnTo>
                    <a:pt x="0" y="123"/>
                  </a:lnTo>
                  <a:lnTo>
                    <a:pt x="78" y="0"/>
                  </a:lnTo>
                  <a:lnTo>
                    <a:pt x="157" y="120"/>
                  </a:lnTo>
                  <a:lnTo>
                    <a:pt x="126" y="120"/>
                  </a:lnTo>
                  <a:lnTo>
                    <a:pt x="126" y="322"/>
                  </a:lnTo>
                  <a:lnTo>
                    <a:pt x="31" y="32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4160" y="3689280"/>
              <a:ext cx="249120" cy="511200"/>
            </a:xfrm>
            <a:custGeom>
              <a:avLst/>
              <a:gdLst/>
              <a:ahLst/>
              <a:rect l="l" t="t" r="r" b="b"/>
              <a:pathLst>
                <a:path w="157" h="322">
                  <a:moveTo>
                    <a:pt x="31" y="321"/>
                  </a:moveTo>
                  <a:lnTo>
                    <a:pt x="31" y="123"/>
                  </a:lnTo>
                  <a:lnTo>
                    <a:pt x="0" y="123"/>
                  </a:lnTo>
                  <a:lnTo>
                    <a:pt x="78" y="0"/>
                  </a:lnTo>
                  <a:lnTo>
                    <a:pt x="157" y="120"/>
                  </a:lnTo>
                  <a:lnTo>
                    <a:pt x="126" y="120"/>
                  </a:lnTo>
                  <a:lnTo>
                    <a:pt x="126" y="322"/>
                  </a:lnTo>
                  <a:lnTo>
                    <a:pt x="31" y="321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205160" y="3664080"/>
            <a:ext cx="247680" cy="363240"/>
            <a:chOff x="4205160" y="3664080"/>
            <a:chExt cx="247680" cy="363240"/>
          </a:xfrm>
        </p:grpSpPr>
        <p:sp>
          <p:nvSpPr>
            <p:cNvPr id="137" name=""/>
            <p:cNvSpPr/>
            <p:nvPr/>
          </p:nvSpPr>
          <p:spPr>
            <a:xfrm>
              <a:off x="4205160" y="3664080"/>
              <a:ext cx="247680" cy="363240"/>
            </a:xfrm>
            <a:custGeom>
              <a:avLst/>
              <a:gdLst/>
              <a:ahLst/>
              <a:rect l="l" t="t" r="r" b="b"/>
              <a:pathLst>
                <a:path w="156" h="229">
                  <a:moveTo>
                    <a:pt x="31" y="228"/>
                  </a:moveTo>
                  <a:lnTo>
                    <a:pt x="31" y="87"/>
                  </a:lnTo>
                  <a:lnTo>
                    <a:pt x="0" y="87"/>
                  </a:lnTo>
                  <a:lnTo>
                    <a:pt x="78" y="0"/>
                  </a:lnTo>
                  <a:lnTo>
                    <a:pt x="156" y="85"/>
                  </a:lnTo>
                  <a:lnTo>
                    <a:pt x="125" y="85"/>
                  </a:lnTo>
                  <a:lnTo>
                    <a:pt x="125" y="229"/>
                  </a:lnTo>
                  <a:lnTo>
                    <a:pt x="31" y="2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05160" y="3664080"/>
              <a:ext cx="247680" cy="363240"/>
            </a:xfrm>
            <a:custGeom>
              <a:avLst/>
              <a:gdLst/>
              <a:ahLst/>
              <a:rect l="l" t="t" r="r" b="b"/>
              <a:pathLst>
                <a:path w="156" h="229">
                  <a:moveTo>
                    <a:pt x="31" y="228"/>
                  </a:moveTo>
                  <a:lnTo>
                    <a:pt x="31" y="87"/>
                  </a:lnTo>
                  <a:lnTo>
                    <a:pt x="0" y="87"/>
                  </a:lnTo>
                  <a:lnTo>
                    <a:pt x="78" y="0"/>
                  </a:lnTo>
                  <a:lnTo>
                    <a:pt x="156" y="85"/>
                  </a:lnTo>
                  <a:lnTo>
                    <a:pt x="125" y="85"/>
                  </a:lnTo>
                  <a:lnTo>
                    <a:pt x="125" y="229"/>
                  </a:lnTo>
                  <a:lnTo>
                    <a:pt x="31" y="228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28800" y="6178680"/>
            <a:ext cx="7316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40040" y="6189840"/>
            <a:ext cx="5371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折B"/>
                <a:ea typeface="SimSun"/>
              </a:rPr>
              <a:t>Structure of IPAC- AIM/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echnology mode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17720" y="1116000"/>
            <a:ext cx="869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8840" y="11304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57560" y="1116000"/>
            <a:ext cx="2320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15880" y="1130400"/>
            <a:ext cx="232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SimSun"/>
              </a:rPr>
              <a:t>Energy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62560" y="107316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1960" y="1087560"/>
            <a:ext cx="18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SimSun"/>
              </a:rPr>
              <a:t>Energ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5280" y="1905120"/>
            <a:ext cx="655560" cy="295200"/>
          </a:xfrm>
          <a:custGeom>
            <a:avLst/>
            <a:gdLst/>
            <a:ahLst/>
            <a:rect l="l" t="t" r="r" b="b"/>
            <a:pathLst>
              <a:path w="413" h="186">
                <a:moveTo>
                  <a:pt x="0" y="152"/>
                </a:moveTo>
                <a:lnTo>
                  <a:pt x="296" y="152"/>
                </a:lnTo>
                <a:lnTo>
                  <a:pt x="296" y="186"/>
                </a:lnTo>
                <a:lnTo>
                  <a:pt x="413" y="93"/>
                </a:lnTo>
                <a:lnTo>
                  <a:pt x="296" y="0"/>
                </a:lnTo>
                <a:lnTo>
                  <a:pt x="296" y="31"/>
                </a:lnTo>
                <a:lnTo>
                  <a:pt x="0" y="31"/>
                </a:lnTo>
                <a:lnTo>
                  <a:pt x="0" y="152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9000" y="1892160"/>
            <a:ext cx="655560" cy="295560"/>
          </a:xfrm>
          <a:custGeom>
            <a:avLst/>
            <a:gdLst/>
            <a:ahLst/>
            <a:rect l="l" t="t" r="r" b="b"/>
            <a:pathLst>
              <a:path w="413" h="186">
                <a:moveTo>
                  <a:pt x="0" y="152"/>
                </a:moveTo>
                <a:lnTo>
                  <a:pt x="296" y="152"/>
                </a:lnTo>
                <a:lnTo>
                  <a:pt x="296" y="186"/>
                </a:lnTo>
                <a:lnTo>
                  <a:pt x="413" y="93"/>
                </a:lnTo>
                <a:lnTo>
                  <a:pt x="296" y="0"/>
                </a:lnTo>
                <a:lnTo>
                  <a:pt x="296" y="31"/>
                </a:lnTo>
                <a:lnTo>
                  <a:pt x="0" y="31"/>
                </a:lnTo>
                <a:lnTo>
                  <a:pt x="0" y="152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38080" y="1600200"/>
            <a:ext cx="1476360" cy="1184400"/>
            <a:chOff x="838080" y="1600200"/>
            <a:chExt cx="1476360" cy="1184400"/>
          </a:xfrm>
        </p:grpSpPr>
        <p:sp>
          <p:nvSpPr>
            <p:cNvPr id="150" name=""/>
            <p:cNvSpPr/>
            <p:nvPr/>
          </p:nvSpPr>
          <p:spPr>
            <a:xfrm>
              <a:off x="838080" y="1600200"/>
              <a:ext cx="1476360" cy="1184400"/>
            </a:xfrm>
            <a:prstGeom prst="rect">
              <a:avLst/>
            </a:prstGeom>
            <a:solidFill>
              <a:srgbClr val="60efd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63520" y="1665360"/>
              <a:ext cx="3654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00240" y="1676520"/>
              <a:ext cx="36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i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63520" y="1882800"/>
              <a:ext cx="4939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00600" y="1893960"/>
              <a:ext cx="49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63520" y="2098800"/>
              <a:ext cx="4302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2400" y="2109960"/>
              <a:ext cx="43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G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63520" y="2316240"/>
              <a:ext cx="546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01680" y="2327400"/>
              <a:ext cx="5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ol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3520" y="2533680"/>
              <a:ext cx="10828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02760" y="2544840"/>
              <a:ext cx="1085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(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lectricity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43400" y="1530360"/>
            <a:ext cx="1814400" cy="1181160"/>
            <a:chOff x="3443400" y="1530360"/>
            <a:chExt cx="1814400" cy="1181160"/>
          </a:xfrm>
        </p:grpSpPr>
        <p:sp>
          <p:nvSpPr>
            <p:cNvPr id="162" name=""/>
            <p:cNvSpPr/>
            <p:nvPr/>
          </p:nvSpPr>
          <p:spPr>
            <a:xfrm>
              <a:off x="3443400" y="1530360"/>
              <a:ext cx="1814400" cy="1181160"/>
            </a:xfrm>
            <a:prstGeom prst="rect">
              <a:avLst/>
            </a:prstGeom>
            <a:solidFill>
              <a:srgbClr val="60efd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0600" y="1571760"/>
              <a:ext cx="6080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69840" y="1582560"/>
              <a:ext cx="60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oil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30600" y="1790640"/>
              <a:ext cx="15447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70920" y="1801800"/>
              <a:ext cx="154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ower gen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0600" y="2006640"/>
              <a:ext cx="11970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0200" y="2017800"/>
              <a:ext cx="11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last furna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0600" y="2224080"/>
              <a:ext cx="1365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9120" y="2235240"/>
              <a:ext cx="136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ir condition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30600" y="2441520"/>
              <a:ext cx="10652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0560" y="2452680"/>
              <a:ext cx="1067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utomobi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76800" y="1530360"/>
            <a:ext cx="2141640" cy="1181160"/>
            <a:chOff x="6076800" y="1530360"/>
            <a:chExt cx="2141640" cy="1181160"/>
          </a:xfrm>
        </p:grpSpPr>
        <p:sp>
          <p:nvSpPr>
            <p:cNvPr id="174" name=""/>
            <p:cNvSpPr/>
            <p:nvPr/>
          </p:nvSpPr>
          <p:spPr>
            <a:xfrm>
              <a:off x="6076800" y="1530360"/>
              <a:ext cx="2141640" cy="1181160"/>
            </a:xfrm>
            <a:prstGeom prst="rect">
              <a:avLst/>
            </a:prstGeom>
            <a:solidFill>
              <a:srgbClr val="60efd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3880" y="1585800"/>
              <a:ext cx="7570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12400" y="1596960"/>
              <a:ext cx="75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ea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3880" y="1805040"/>
              <a:ext cx="8110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11680" y="1816200"/>
              <a:ext cx="81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gh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73880" y="2021040"/>
              <a:ext cx="1271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12760" y="2031840"/>
              <a:ext cx="127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teel produc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73880" y="2238480"/>
              <a:ext cx="7477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12040" y="22496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ol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3880" y="2455920"/>
              <a:ext cx="13618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1320" y="2467080"/>
              <a:ext cx="136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port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76160" y="4425840"/>
            <a:ext cx="20797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9640" y="4433760"/>
            <a:ext cx="20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nergy Database for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67080" y="4425840"/>
            <a:ext cx="24051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98760" y="4433760"/>
            <a:ext cx="241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Technology Database for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148440" y="4735440"/>
            <a:ext cx="2173320" cy="1131840"/>
            <a:chOff x="6148440" y="4735440"/>
            <a:chExt cx="2173320" cy="1131840"/>
          </a:xfrm>
        </p:grpSpPr>
        <p:sp>
          <p:nvSpPr>
            <p:cNvPr id="190" name=""/>
            <p:cNvSpPr/>
            <p:nvPr/>
          </p:nvSpPr>
          <p:spPr>
            <a:xfrm>
              <a:off x="6148440" y="4735440"/>
              <a:ext cx="2173320" cy="1131840"/>
            </a:xfrm>
            <a:prstGeom prst="rect">
              <a:avLst/>
            </a:prstGeom>
            <a:solidFill>
              <a:srgbClr val="0051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6680" y="4741920"/>
              <a:ext cx="16318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840" y="4753080"/>
              <a:ext cx="163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Population growt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86680" y="4959360"/>
              <a:ext cx="15462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8800" y="4970520"/>
              <a:ext cx="15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Economic growt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86680" y="5176800"/>
              <a:ext cx="17269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480" y="5187960"/>
              <a:ext cx="173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Industrial structu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86680" y="5394240"/>
              <a:ext cx="9903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8080" y="540540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Employe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86680" y="5610240"/>
              <a:ext cx="8092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7000" y="5621400"/>
              <a:ext cx="81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Lifesty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76160" y="4735440"/>
            <a:ext cx="1944720" cy="1139760"/>
            <a:chOff x="776160" y="4735440"/>
            <a:chExt cx="1944720" cy="1139760"/>
          </a:xfrm>
        </p:grpSpPr>
        <p:sp>
          <p:nvSpPr>
            <p:cNvPr id="202" name=""/>
            <p:cNvSpPr/>
            <p:nvPr/>
          </p:nvSpPr>
          <p:spPr>
            <a:xfrm>
              <a:off x="776160" y="4735440"/>
              <a:ext cx="1944720" cy="1139760"/>
            </a:xfrm>
            <a:prstGeom prst="rect">
              <a:avLst/>
            </a:prstGeom>
            <a:solidFill>
              <a:srgbClr val="0051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6240" y="4824360"/>
              <a:ext cx="11019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6920" y="4835520"/>
              <a:ext cx="110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Energy ty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6240" y="5041800"/>
              <a:ext cx="11635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6560" y="505296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Energy pr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76240" y="5259240"/>
              <a:ext cx="16527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5120" y="5270400"/>
              <a:ext cx="16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Energy constrai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76240" y="5475240"/>
              <a:ext cx="17733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6920" y="5486400"/>
              <a:ext cx="17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CO2 emission fac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43400" y="4735440"/>
            <a:ext cx="2065320" cy="1131840"/>
            <a:chOff x="3443400" y="4735440"/>
            <a:chExt cx="2065320" cy="1131840"/>
          </a:xfrm>
        </p:grpSpPr>
        <p:sp>
          <p:nvSpPr>
            <p:cNvPr id="212" name=""/>
            <p:cNvSpPr/>
            <p:nvPr/>
          </p:nvSpPr>
          <p:spPr>
            <a:xfrm>
              <a:off x="3443400" y="4735440"/>
              <a:ext cx="2065320" cy="1131840"/>
            </a:xfrm>
            <a:prstGeom prst="rect">
              <a:avLst/>
            </a:prstGeom>
            <a:solidFill>
              <a:srgbClr val="0051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76600" y="4749840"/>
              <a:ext cx="15130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5480" y="4761000"/>
              <a:ext cx="1515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Technology pr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76600" y="4967280"/>
              <a:ext cx="18018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16920" y="4978440"/>
              <a:ext cx="180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Energy consump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76600" y="5184720"/>
              <a:ext cx="14400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14760" y="5195880"/>
              <a:ext cx="144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Service suppli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6600" y="5402160"/>
              <a:ext cx="5889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16200" y="5413320"/>
              <a:ext cx="58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76600" y="5619600"/>
              <a:ext cx="7984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18360" y="563076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- </a:t>
              </a:r>
              <a:r>
                <a:rPr b="1" lang="en-US" sz="1500" spc="-1" strike="noStrike">
                  <a:solidFill>
                    <a:srgbClr val="ffffd0"/>
                  </a:solidFill>
                  <a:latin typeface="Times New Roman"/>
                  <a:ea typeface="SimSun"/>
                </a:rPr>
                <a:t>Life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033960" y="4425840"/>
            <a:ext cx="26607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66360" y="4433760"/>
            <a:ext cx="118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ocio-econo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42840" y="443376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cenario for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033960" y="2978280"/>
            <a:ext cx="2201400" cy="563400"/>
            <a:chOff x="6033960" y="2978280"/>
            <a:chExt cx="2201400" cy="563400"/>
          </a:xfrm>
        </p:grpSpPr>
        <p:grpSp>
          <p:nvGrpSpPr>
            <p:cNvPr id="227" name=""/>
            <p:cNvGrpSpPr/>
            <p:nvPr/>
          </p:nvGrpSpPr>
          <p:grpSpPr>
            <a:xfrm>
              <a:off x="6033960" y="2978280"/>
              <a:ext cx="2170080" cy="563400"/>
              <a:chOff x="6033960" y="2978280"/>
              <a:chExt cx="2170080" cy="5634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6033960" y="2978280"/>
                <a:ext cx="2170080" cy="563400"/>
                <a:chOff x="6033960" y="2978280"/>
                <a:chExt cx="2170080" cy="56340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6033960" y="2978280"/>
                  <a:ext cx="2170080" cy="563400"/>
                  <a:chOff x="6033960" y="2978280"/>
                  <a:chExt cx="2170080" cy="5634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6033960" y="2978280"/>
                    <a:ext cx="2170080" cy="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033960" y="3538440"/>
                    <a:ext cx="21700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6033960" y="2979720"/>
                    <a:ext cx="11160" cy="5587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8191440" y="2979720"/>
                    <a:ext cx="12600" cy="5587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6045120" y="2979720"/>
                    <a:ext cx="21463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045120" y="3535200"/>
                    <a:ext cx="21463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045120" y="2982960"/>
                    <a:ext cx="11160" cy="552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180280" y="2982960"/>
                    <a:ext cx="11160" cy="552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6056280" y="2982960"/>
                    <a:ext cx="21240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056280" y="3532320"/>
                    <a:ext cx="2124000" cy="28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6056280" y="2986200"/>
                    <a:ext cx="11160" cy="5461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169120" y="2986200"/>
                    <a:ext cx="11160" cy="5461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6067440" y="2986200"/>
                    <a:ext cx="21016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6067440" y="3529080"/>
                    <a:ext cx="21016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067440" y="2989440"/>
                    <a:ext cx="11160" cy="5396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8320" y="2989440"/>
                    <a:ext cx="10800" cy="5396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6078600" y="2989440"/>
                    <a:ext cx="2079720" cy="288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078600" y="3525840"/>
                    <a:ext cx="207972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6078600" y="2992320"/>
                    <a:ext cx="11160" cy="53352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147160" y="2992320"/>
                    <a:ext cx="11160" cy="53352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089760" y="2992320"/>
                    <a:ext cx="20574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89760" y="3522600"/>
                    <a:ext cx="20574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089760" y="2995560"/>
                    <a:ext cx="11160" cy="5270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136000" y="2995560"/>
                    <a:ext cx="11160" cy="5270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100920" y="2995560"/>
                    <a:ext cx="2035080" cy="1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100920" y="3521160"/>
                    <a:ext cx="2035080" cy="144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00920" y="2997360"/>
                    <a:ext cx="10800" cy="523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8124840" y="2997360"/>
                    <a:ext cx="11160" cy="523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111720" y="2997360"/>
                    <a:ext cx="2013120" cy="288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111720" y="3517920"/>
                    <a:ext cx="201312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111720" y="3000240"/>
                    <a:ext cx="11160" cy="51768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8113680" y="3000240"/>
                    <a:ext cx="11160" cy="51768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122880" y="3000240"/>
                    <a:ext cx="199080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122880" y="3514680"/>
                    <a:ext cx="199080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122880" y="3003480"/>
                    <a:ext cx="12960" cy="51120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01080" y="3003480"/>
                    <a:ext cx="12600" cy="51120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135840" y="3003480"/>
                    <a:ext cx="196524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135840" y="3511440"/>
                    <a:ext cx="196524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135840" y="3006720"/>
                    <a:ext cx="10800" cy="50472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89920" y="3006720"/>
                    <a:ext cx="11160" cy="50472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146640" y="3006720"/>
                    <a:ext cx="194328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146640" y="3508200"/>
                    <a:ext cx="194328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146640" y="3009960"/>
                    <a:ext cx="11160" cy="498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8078760" y="3009960"/>
                    <a:ext cx="11160" cy="498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157800" y="3009960"/>
                    <a:ext cx="192096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157800" y="3505320"/>
                    <a:ext cx="1920960" cy="288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157800" y="3013200"/>
                    <a:ext cx="11160" cy="49212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8067600" y="3013200"/>
                    <a:ext cx="11160" cy="49212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168960" y="3013200"/>
                    <a:ext cx="1898640" cy="1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168960" y="3502080"/>
                    <a:ext cx="1898640" cy="32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168960" y="3014640"/>
                    <a:ext cx="1116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056440" y="3014640"/>
                    <a:ext cx="1116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180120" y="3014640"/>
                    <a:ext cx="1876320" cy="324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180120" y="3500280"/>
                    <a:ext cx="1876320" cy="18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180120" y="3017880"/>
                    <a:ext cx="11160" cy="4824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045280" y="3017880"/>
                    <a:ext cx="11160" cy="4824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6191280" y="3017880"/>
                    <a:ext cx="185400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191280" y="3497400"/>
                    <a:ext cx="1854000" cy="28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191280" y="3021120"/>
                    <a:ext cx="11160" cy="4762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034480" y="3021120"/>
                    <a:ext cx="10800" cy="4762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202440" y="3021120"/>
                    <a:ext cx="183204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202440" y="3494160"/>
                    <a:ext cx="183204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02440" y="3024360"/>
                    <a:ext cx="11160" cy="4698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023320" y="3024360"/>
                    <a:ext cx="11160" cy="4698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213600" y="3024360"/>
                    <a:ext cx="1809720" cy="288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213600" y="3490920"/>
                    <a:ext cx="180972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213600" y="3027240"/>
                    <a:ext cx="11160" cy="46368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8010360" y="3027240"/>
                    <a:ext cx="12960" cy="46368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224760" y="3027240"/>
                    <a:ext cx="178560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224760" y="3487680"/>
                    <a:ext cx="178560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224760" y="3030480"/>
                    <a:ext cx="12600" cy="45720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999560" y="3030480"/>
                    <a:ext cx="10800" cy="45720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237360" y="3030480"/>
                    <a:ext cx="1762200" cy="324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237360" y="3484440"/>
                    <a:ext cx="1762200" cy="324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6237360" y="3033720"/>
                    <a:ext cx="11160" cy="45072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988400" y="3033720"/>
                    <a:ext cx="11160" cy="45072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248520" y="3033720"/>
                    <a:ext cx="1739880" cy="14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248520" y="3481560"/>
                    <a:ext cx="1739880" cy="288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248520" y="3035160"/>
                    <a:ext cx="11160" cy="44640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77240" y="3035160"/>
                    <a:ext cx="11160" cy="44640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259680" y="3035160"/>
                    <a:ext cx="1717560" cy="324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259680" y="3479760"/>
                    <a:ext cx="1717560" cy="1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259680" y="3038400"/>
                    <a:ext cx="10800" cy="44136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966080" y="3038400"/>
                    <a:ext cx="11160" cy="44136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270480" y="3038400"/>
                    <a:ext cx="1695600" cy="3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270480" y="3476520"/>
                    <a:ext cx="1695600" cy="3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270480" y="3041640"/>
                    <a:ext cx="11160" cy="434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954920" y="3041640"/>
                    <a:ext cx="11160" cy="434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281640" y="3041640"/>
                    <a:ext cx="167328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81640" y="3473280"/>
                    <a:ext cx="167328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281640" y="3044880"/>
                    <a:ext cx="11160" cy="42840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7943760" y="3044880"/>
                    <a:ext cx="11160" cy="42840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292800" y="3044880"/>
                    <a:ext cx="165096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6292800" y="3470400"/>
                    <a:ext cx="1650960" cy="28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292800" y="3048120"/>
                    <a:ext cx="11160" cy="4222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7932600" y="3048120"/>
                    <a:ext cx="11160" cy="4222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303960" y="3048120"/>
                    <a:ext cx="1628640" cy="288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303960" y="3467160"/>
                    <a:ext cx="1628640" cy="324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303960" y="3051000"/>
                    <a:ext cx="11160" cy="41616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920000" y="3051000"/>
                    <a:ext cx="12600" cy="41616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315120" y="3051000"/>
                    <a:ext cx="1604880" cy="180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315120" y="3463920"/>
                    <a:ext cx="1604880" cy="32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315120" y="3052800"/>
                    <a:ext cx="1116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908840" y="3052800"/>
                    <a:ext cx="1116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326280" y="3052800"/>
                    <a:ext cx="158256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326280" y="3460680"/>
                    <a:ext cx="158256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326280" y="3056040"/>
                    <a:ext cx="1260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897680" y="3056040"/>
                    <a:ext cx="1116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338880" y="3056040"/>
                    <a:ext cx="1558800" cy="32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338880" y="3459240"/>
                    <a:ext cx="1558800" cy="14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338880" y="3059280"/>
                    <a:ext cx="11160" cy="3999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886880" y="3059280"/>
                    <a:ext cx="10800" cy="3999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350040" y="3059280"/>
                    <a:ext cx="1536840" cy="28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350040" y="3456000"/>
                    <a:ext cx="153684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350040" y="3062160"/>
                    <a:ext cx="11160" cy="3938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875720" y="3062160"/>
                    <a:ext cx="11160" cy="3938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361200" y="3062160"/>
                    <a:ext cx="151452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361200" y="3452760"/>
                    <a:ext cx="151452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361200" y="3065400"/>
                    <a:ext cx="11160" cy="38736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864560" y="3065400"/>
                    <a:ext cx="11160" cy="38736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372360" y="3065400"/>
                    <a:ext cx="1492200" cy="3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372360" y="3449520"/>
                    <a:ext cx="1492200" cy="3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372360" y="3068640"/>
                    <a:ext cx="10800" cy="3808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853400" y="3068640"/>
                    <a:ext cx="11160" cy="3808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383160" y="3068640"/>
                    <a:ext cx="1470240" cy="144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383160" y="3446640"/>
                    <a:ext cx="1470240" cy="288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383160" y="3070080"/>
                    <a:ext cx="11160" cy="37656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842240" y="3070080"/>
                    <a:ext cx="11160" cy="37656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394320" y="3070080"/>
                    <a:ext cx="144792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394320" y="3443400"/>
                    <a:ext cx="144792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394320" y="3073320"/>
                    <a:ext cx="11160" cy="37008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7829640" y="3073320"/>
                    <a:ext cx="12600" cy="37008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405480" y="3073320"/>
                    <a:ext cx="1424160" cy="324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405480" y="3440160"/>
                    <a:ext cx="1424160" cy="324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405480" y="3076560"/>
                    <a:ext cx="111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818480" y="3076560"/>
                    <a:ext cx="111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416640" y="3076560"/>
                    <a:ext cx="1401840" cy="324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416640" y="3438360"/>
                    <a:ext cx="1401840" cy="180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416640" y="3079800"/>
                    <a:ext cx="12600" cy="35856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807320" y="3079800"/>
                    <a:ext cx="11160" cy="35856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429240" y="3079800"/>
                    <a:ext cx="137808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429240" y="3435480"/>
                    <a:ext cx="1378080" cy="288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29240" y="3083040"/>
                    <a:ext cx="11160" cy="3524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796160" y="3083040"/>
                    <a:ext cx="11160" cy="3524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440400" y="3083040"/>
                    <a:ext cx="135576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440400" y="3432240"/>
                    <a:ext cx="135576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440400" y="3086280"/>
                    <a:ext cx="11160" cy="3459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785000" y="3086280"/>
                    <a:ext cx="11160" cy="3459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451560" y="3086280"/>
                    <a:ext cx="1333440" cy="28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451560" y="3429000"/>
                    <a:ext cx="133344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451560" y="3089160"/>
                    <a:ext cx="11160" cy="3398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773840" y="3089160"/>
                    <a:ext cx="11160" cy="3398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462720" y="3089160"/>
                    <a:ext cx="1311120" cy="1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462720" y="3425760"/>
                    <a:ext cx="1311120" cy="32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462720" y="3090960"/>
                    <a:ext cx="1116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63040" y="3090960"/>
                    <a:ext cx="1080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473880" y="3090960"/>
                    <a:ext cx="1289160" cy="324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473880" y="3422520"/>
                    <a:ext cx="1289160" cy="324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473880" y="3094200"/>
                    <a:ext cx="11160" cy="32832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7751880" y="3094200"/>
                    <a:ext cx="11160" cy="32832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485040" y="3094200"/>
                    <a:ext cx="1266840" cy="288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485040" y="3419640"/>
                    <a:ext cx="1266840" cy="288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485040" y="3097080"/>
                    <a:ext cx="11160" cy="32256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7738920" y="3097080"/>
                    <a:ext cx="12960" cy="32256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496200" y="3097080"/>
                    <a:ext cx="1242720" cy="324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496200" y="3417840"/>
                    <a:ext cx="1242720" cy="180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496200" y="3100320"/>
                    <a:ext cx="10800" cy="31752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728120" y="3100320"/>
                    <a:ext cx="10800" cy="31752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507000" y="3100320"/>
                    <a:ext cx="1221120" cy="32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507000" y="3414600"/>
                    <a:ext cx="1221120" cy="32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507000" y="3103560"/>
                    <a:ext cx="11160" cy="3110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7716960" y="3103560"/>
                    <a:ext cx="11160" cy="3110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518160" y="3103560"/>
                    <a:ext cx="119880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518160" y="3411360"/>
                    <a:ext cx="119880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518160" y="3106800"/>
                    <a:ext cx="12960" cy="30456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705800" y="3106800"/>
                    <a:ext cx="11160" cy="30456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531120" y="3106800"/>
                    <a:ext cx="1174680" cy="14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531120" y="3408480"/>
                    <a:ext cx="1174680" cy="2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531120" y="3108240"/>
                    <a:ext cx="10800" cy="300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694640" y="3108240"/>
                    <a:ext cx="11160" cy="300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541920" y="3108240"/>
                    <a:ext cx="1152720" cy="324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541920" y="3405240"/>
                    <a:ext cx="1152720" cy="324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541920" y="3111480"/>
                    <a:ext cx="1116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683480" y="3111480"/>
                    <a:ext cx="1116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553080" y="3111480"/>
                    <a:ext cx="113040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553080" y="3402000"/>
                    <a:ext cx="113040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553080" y="3114720"/>
                    <a:ext cx="111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672320" y="3114720"/>
                    <a:ext cx="111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564240" y="3114720"/>
                    <a:ext cx="1108080" cy="32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564240" y="3400560"/>
                    <a:ext cx="1108080" cy="14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564240" y="3117960"/>
                    <a:ext cx="11160" cy="2826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661160" y="3117960"/>
                    <a:ext cx="11160" cy="2826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575400" y="3117960"/>
                    <a:ext cx="108576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575400" y="3397320"/>
                    <a:ext cx="108576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575400" y="3121200"/>
                    <a:ext cx="11160" cy="2761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648560" y="3121200"/>
                    <a:ext cx="12600" cy="2761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6586560" y="3121200"/>
                    <a:ext cx="1062000" cy="288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586560" y="3394080"/>
                    <a:ext cx="106200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586560" y="3124080"/>
                    <a:ext cx="11160" cy="27000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637400" y="3124080"/>
                    <a:ext cx="11160" cy="27000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033960" y="2978280"/>
                  <a:ext cx="2170080" cy="563400"/>
                  <a:chOff x="6033960" y="2978280"/>
                  <a:chExt cx="2170080" cy="5634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6597720" y="3124080"/>
                    <a:ext cx="103968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597720" y="3390840"/>
                    <a:ext cx="103968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97720" y="3127320"/>
                    <a:ext cx="11160" cy="26352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626240" y="3127320"/>
                    <a:ext cx="11160" cy="26352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608880" y="3127320"/>
                    <a:ext cx="1017360" cy="180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608880" y="3387600"/>
                    <a:ext cx="1017360" cy="32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608880" y="3129120"/>
                    <a:ext cx="11160" cy="25848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615080" y="3129120"/>
                    <a:ext cx="11160" cy="25848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620040" y="3129120"/>
                    <a:ext cx="995040" cy="288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620040" y="3384720"/>
                    <a:ext cx="995040" cy="288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620040" y="3132000"/>
                    <a:ext cx="12600" cy="25272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604280" y="3132000"/>
                    <a:ext cx="10800" cy="25272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632640" y="3132000"/>
                    <a:ext cx="971640" cy="3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632640" y="3381480"/>
                    <a:ext cx="971640" cy="3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632640" y="3135240"/>
                    <a:ext cx="11160" cy="246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593120" y="3135240"/>
                    <a:ext cx="11160" cy="246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643800" y="3135240"/>
                    <a:ext cx="949320" cy="324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643800" y="3379680"/>
                    <a:ext cx="949320" cy="180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643800" y="3138480"/>
                    <a:ext cx="11160" cy="24120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581960" y="3138480"/>
                    <a:ext cx="11160" cy="24120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654960" y="3138480"/>
                    <a:ext cx="927000" cy="324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6654960" y="3376440"/>
                    <a:ext cx="927000" cy="324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654960" y="3141720"/>
                    <a:ext cx="10800" cy="23472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570800" y="3141720"/>
                    <a:ext cx="11160" cy="23472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665760" y="3141720"/>
                    <a:ext cx="905040" cy="324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665760" y="3373560"/>
                    <a:ext cx="905040" cy="288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665760" y="3144960"/>
                    <a:ext cx="11160" cy="22860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558200" y="3144960"/>
                    <a:ext cx="12600" cy="22860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676920" y="3144960"/>
                    <a:ext cx="881280" cy="144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676920" y="3370320"/>
                    <a:ext cx="881280" cy="324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676920" y="3146400"/>
                    <a:ext cx="11160" cy="22392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547040" y="3146400"/>
                    <a:ext cx="11160" cy="22392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688080" y="3146400"/>
                    <a:ext cx="858960" cy="32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688080" y="3367080"/>
                    <a:ext cx="858960" cy="32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688080" y="3149640"/>
                    <a:ext cx="11160" cy="2174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535880" y="3149640"/>
                    <a:ext cx="11160" cy="2174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699240" y="3149640"/>
                    <a:ext cx="836640" cy="324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699240" y="3363840"/>
                    <a:ext cx="836640" cy="324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699240" y="3152880"/>
                    <a:ext cx="11160" cy="21096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524720" y="3152880"/>
                    <a:ext cx="11160" cy="21096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710400" y="3152880"/>
                    <a:ext cx="814320" cy="324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710400" y="3360600"/>
                    <a:ext cx="814320" cy="324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710400" y="3156120"/>
                    <a:ext cx="11160" cy="20448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513560" y="3156120"/>
                    <a:ext cx="11160" cy="20448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721560" y="3156120"/>
                    <a:ext cx="792000" cy="288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721560" y="3359160"/>
                    <a:ext cx="792000" cy="144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721560" y="3159000"/>
                    <a:ext cx="12600" cy="20016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502400" y="3159000"/>
                    <a:ext cx="11160" cy="20016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734160" y="3159000"/>
                    <a:ext cx="768240" cy="324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734160" y="3355920"/>
                    <a:ext cx="768240" cy="324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34160" y="3162240"/>
                    <a:ext cx="11160" cy="19368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491240" y="3162240"/>
                    <a:ext cx="11160" cy="19368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745320" y="3162240"/>
                    <a:ext cx="745920" cy="180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745320" y="3352680"/>
                    <a:ext cx="745920" cy="324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745320" y="3164040"/>
                    <a:ext cx="11160" cy="18864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480440" y="3164040"/>
                    <a:ext cx="10800" cy="18864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756480" y="3164040"/>
                    <a:ext cx="723960" cy="288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756480" y="3349800"/>
                    <a:ext cx="723960" cy="288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756480" y="3166920"/>
                    <a:ext cx="11160" cy="18288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467480" y="3166920"/>
                    <a:ext cx="12960" cy="18288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767640" y="3166920"/>
                    <a:ext cx="699840" cy="32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6767640" y="3346560"/>
                    <a:ext cx="699840" cy="32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767640" y="3170160"/>
                    <a:ext cx="11160" cy="17640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456320" y="3170160"/>
                    <a:ext cx="11160" cy="17640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6778800" y="3170160"/>
                    <a:ext cx="677520" cy="324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778800" y="3343320"/>
                    <a:ext cx="677520" cy="324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778800" y="3173400"/>
                    <a:ext cx="10800" cy="16992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445520" y="3173400"/>
                    <a:ext cx="10800" cy="16992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6789600" y="3173400"/>
                    <a:ext cx="655920" cy="32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789600" y="3340080"/>
                    <a:ext cx="655920" cy="32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6789600" y="3176640"/>
                    <a:ext cx="11160" cy="1634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434360" y="3176640"/>
                    <a:ext cx="11160" cy="1634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6800760" y="3176640"/>
                    <a:ext cx="633600" cy="324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800760" y="3338640"/>
                    <a:ext cx="633600" cy="144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800760" y="3179880"/>
                    <a:ext cx="11160" cy="15876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423200" y="3179880"/>
                    <a:ext cx="11160" cy="15876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6811920" y="3179880"/>
                    <a:ext cx="611280" cy="288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6811920" y="3335400"/>
                    <a:ext cx="611280" cy="324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6811920" y="3182760"/>
                    <a:ext cx="12600" cy="15264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412040" y="3182760"/>
                    <a:ext cx="11160" cy="15264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6824520" y="3182760"/>
                    <a:ext cx="587520" cy="180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6824520" y="3332160"/>
                    <a:ext cx="587520" cy="324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6824520" y="3184560"/>
                    <a:ext cx="11160" cy="14760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400880" y="3184560"/>
                    <a:ext cx="11160" cy="14760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6835680" y="3184560"/>
                    <a:ext cx="565200" cy="324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6835680" y="3328920"/>
                    <a:ext cx="565200" cy="324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6835680" y="3187800"/>
                    <a:ext cx="11160" cy="14112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389720" y="3187800"/>
                    <a:ext cx="11160" cy="14112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6846840" y="3187800"/>
                    <a:ext cx="542880" cy="324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6846840" y="3325680"/>
                    <a:ext cx="542880" cy="324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6846840" y="3191040"/>
                    <a:ext cx="11160" cy="13464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77120" y="3191040"/>
                    <a:ext cx="12600" cy="13464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6858000" y="3191040"/>
                    <a:ext cx="519120" cy="288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858000" y="3322800"/>
                    <a:ext cx="519120" cy="288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6858000" y="3193920"/>
                    <a:ext cx="11160" cy="12888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365960" y="3193920"/>
                    <a:ext cx="11160" cy="12888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869160" y="3193920"/>
                    <a:ext cx="496800" cy="324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869160" y="3319560"/>
                    <a:ext cx="496800" cy="324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869160" y="3197160"/>
                    <a:ext cx="11160" cy="12240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354800" y="3197160"/>
                    <a:ext cx="11160" cy="12240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880320" y="3197160"/>
                    <a:ext cx="474480" cy="324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880320" y="3317760"/>
                    <a:ext cx="474480" cy="180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880320" y="3200400"/>
                    <a:ext cx="11160" cy="11736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7343640" y="3200400"/>
                    <a:ext cx="11160" cy="11736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891480" y="3200400"/>
                    <a:ext cx="452160" cy="144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891480" y="3314880"/>
                    <a:ext cx="452160" cy="288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6891480" y="3201840"/>
                    <a:ext cx="10800" cy="11304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332840" y="3201840"/>
                    <a:ext cx="10800" cy="11304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6902280" y="3201840"/>
                    <a:ext cx="430560" cy="324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902280" y="3311640"/>
                    <a:ext cx="430560" cy="324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902280" y="3205080"/>
                    <a:ext cx="11160" cy="10656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321680" y="3205080"/>
                    <a:ext cx="11160" cy="10656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913440" y="3205080"/>
                    <a:ext cx="408240" cy="324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913440" y="3308400"/>
                    <a:ext cx="408240" cy="324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913440" y="3208320"/>
                    <a:ext cx="12960" cy="10008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310520" y="3208320"/>
                    <a:ext cx="11160" cy="10008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926400" y="3208320"/>
                    <a:ext cx="384120" cy="324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926400" y="3305160"/>
                    <a:ext cx="384120" cy="324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926400" y="3211560"/>
                    <a:ext cx="10800" cy="9360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99360" y="3211560"/>
                    <a:ext cx="11160" cy="9360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937200" y="3211560"/>
                    <a:ext cx="362160" cy="324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937200" y="3301920"/>
                    <a:ext cx="362160" cy="324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937200" y="3214800"/>
                    <a:ext cx="11160" cy="8712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286760" y="3214800"/>
                    <a:ext cx="12600" cy="8712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948360" y="3214800"/>
                    <a:ext cx="338400" cy="324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948360" y="3298680"/>
                    <a:ext cx="338400" cy="324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948360" y="3218040"/>
                    <a:ext cx="11160" cy="8064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275600" y="3218040"/>
                    <a:ext cx="11160" cy="8064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6959520" y="3218040"/>
                    <a:ext cx="316080" cy="288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6959520" y="3297240"/>
                    <a:ext cx="316080" cy="144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6959520" y="3220920"/>
                    <a:ext cx="11160" cy="7632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264440" y="3220920"/>
                    <a:ext cx="11160" cy="7632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6970680" y="3220920"/>
                    <a:ext cx="293760" cy="180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970680" y="3294000"/>
                    <a:ext cx="293760" cy="324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970680" y="3222720"/>
                    <a:ext cx="11160" cy="7128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253280" y="3222720"/>
                    <a:ext cx="11160" cy="7128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981840" y="3222720"/>
                    <a:ext cx="271440" cy="324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6981840" y="3290760"/>
                    <a:ext cx="271440" cy="324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981840" y="3225960"/>
                    <a:ext cx="11160" cy="6480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7242120" y="3225960"/>
                    <a:ext cx="11160" cy="6480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993000" y="3225960"/>
                    <a:ext cx="249120" cy="288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993000" y="3287880"/>
                    <a:ext cx="249120" cy="288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993000" y="3228840"/>
                    <a:ext cx="11160" cy="5904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230960" y="3228840"/>
                    <a:ext cx="11160" cy="5904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7004160" y="3228840"/>
                    <a:ext cx="226800" cy="324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004160" y="3284640"/>
                    <a:ext cx="226800" cy="324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004160" y="3232080"/>
                    <a:ext cx="11160" cy="5256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219800" y="3232080"/>
                    <a:ext cx="11160" cy="5256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015320" y="3232080"/>
                    <a:ext cx="204480" cy="324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7015320" y="3281400"/>
                    <a:ext cx="204480" cy="324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015320" y="3235320"/>
                    <a:ext cx="12600" cy="4608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7209000" y="3235320"/>
                    <a:ext cx="10800" cy="4608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7027920" y="3235320"/>
                    <a:ext cx="181080" cy="324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7027920" y="3278160"/>
                    <a:ext cx="181080" cy="324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027920" y="3238560"/>
                    <a:ext cx="11160" cy="3960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7196040" y="3238560"/>
                    <a:ext cx="12960" cy="3960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039080" y="3238560"/>
                    <a:ext cx="156960" cy="144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039080" y="3276720"/>
                    <a:ext cx="156960" cy="144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039080" y="3240000"/>
                    <a:ext cx="11160" cy="3672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184880" y="3240000"/>
                    <a:ext cx="11160" cy="3672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050240" y="3240000"/>
                    <a:ext cx="134640" cy="3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050240" y="3273480"/>
                    <a:ext cx="134640" cy="3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050240" y="3243240"/>
                    <a:ext cx="10800" cy="30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7174080" y="3243240"/>
                    <a:ext cx="10800" cy="30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7061040" y="3243240"/>
                    <a:ext cx="113040" cy="324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7061040" y="3270240"/>
                    <a:ext cx="113040" cy="324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061040" y="3246480"/>
                    <a:ext cx="11160" cy="2376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162920" y="3246480"/>
                    <a:ext cx="11160" cy="2376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072200" y="3246480"/>
                    <a:ext cx="90720" cy="324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7072200" y="3267000"/>
                    <a:ext cx="90720" cy="324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072200" y="3249720"/>
                    <a:ext cx="11160" cy="1728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7151760" y="3249720"/>
                    <a:ext cx="11160" cy="1728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7083360" y="3249720"/>
                    <a:ext cx="68400" cy="324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7083360" y="3263760"/>
                    <a:ext cx="68400" cy="324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7083360" y="3252960"/>
                    <a:ext cx="11160" cy="1080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7140600" y="3252960"/>
                    <a:ext cx="11160" cy="1080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094520" y="3252960"/>
                    <a:ext cx="46080" cy="288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094520" y="3260880"/>
                    <a:ext cx="46080" cy="288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094520" y="3255840"/>
                    <a:ext cx="11160" cy="504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129440" y="3255840"/>
                    <a:ext cx="11160" cy="504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7105680" y="3255840"/>
                    <a:ext cx="23760" cy="180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105680" y="3259080"/>
                    <a:ext cx="23760" cy="180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105680" y="3257640"/>
                    <a:ext cx="1116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118280" y="3257640"/>
                    <a:ext cx="1116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116840" y="3257640"/>
                    <a:ext cx="144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033960" y="2978280"/>
                    <a:ext cx="216864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6" h="354">
                        <a:moveTo>
                          <a:pt x="169" y="0"/>
                        </a:moveTo>
                        <a:lnTo>
                          <a:pt x="154" y="0"/>
                        </a:lnTo>
                        <a:lnTo>
                          <a:pt x="139" y="3"/>
                        </a:lnTo>
                        <a:lnTo>
                          <a:pt x="108" y="11"/>
                        </a:lnTo>
                        <a:lnTo>
                          <a:pt x="53" y="41"/>
                        </a:lnTo>
                        <a:lnTo>
                          <a:pt x="15" y="84"/>
                        </a:lnTo>
                        <a:lnTo>
                          <a:pt x="5" y="108"/>
                        </a:lnTo>
                        <a:lnTo>
                          <a:pt x="0" y="133"/>
                        </a:lnTo>
                        <a:lnTo>
                          <a:pt x="0" y="221"/>
                        </a:lnTo>
                        <a:lnTo>
                          <a:pt x="14" y="269"/>
                        </a:lnTo>
                        <a:lnTo>
                          <a:pt x="53" y="312"/>
                        </a:lnTo>
                        <a:lnTo>
                          <a:pt x="107" y="342"/>
                        </a:lnTo>
                        <a:lnTo>
                          <a:pt x="137" y="350"/>
                        </a:lnTo>
                        <a:lnTo>
                          <a:pt x="169" y="354"/>
                        </a:lnTo>
                        <a:lnTo>
                          <a:pt x="1197" y="354"/>
                        </a:lnTo>
                        <a:lnTo>
                          <a:pt x="1258" y="343"/>
                        </a:lnTo>
                        <a:lnTo>
                          <a:pt x="1313" y="313"/>
                        </a:lnTo>
                        <a:lnTo>
                          <a:pt x="1351" y="270"/>
                        </a:lnTo>
                        <a:lnTo>
                          <a:pt x="1361" y="246"/>
                        </a:lnTo>
                        <a:lnTo>
                          <a:pt x="1366" y="221"/>
                        </a:lnTo>
                        <a:lnTo>
                          <a:pt x="1366" y="133"/>
                        </a:lnTo>
                        <a:lnTo>
                          <a:pt x="1366" y="121"/>
                        </a:lnTo>
                        <a:lnTo>
                          <a:pt x="1363" y="109"/>
                        </a:lnTo>
                        <a:lnTo>
                          <a:pt x="1352" y="85"/>
                        </a:lnTo>
                        <a:lnTo>
                          <a:pt x="1314" y="42"/>
                        </a:lnTo>
                        <a:lnTo>
                          <a:pt x="1260" y="12"/>
                        </a:lnTo>
                        <a:lnTo>
                          <a:pt x="1229" y="4"/>
                        </a:lnTo>
                        <a:lnTo>
                          <a:pt x="1197" y="0"/>
                        </a:lnTo>
                        <a:lnTo>
                          <a:pt x="169" y="0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033960" y="2978280"/>
                    <a:ext cx="216864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6" h="354">
                        <a:moveTo>
                          <a:pt x="169" y="0"/>
                        </a:moveTo>
                        <a:lnTo>
                          <a:pt x="154" y="0"/>
                        </a:lnTo>
                        <a:lnTo>
                          <a:pt x="139" y="3"/>
                        </a:lnTo>
                        <a:lnTo>
                          <a:pt x="108" y="11"/>
                        </a:lnTo>
                        <a:lnTo>
                          <a:pt x="53" y="41"/>
                        </a:lnTo>
                        <a:lnTo>
                          <a:pt x="15" y="84"/>
                        </a:lnTo>
                        <a:lnTo>
                          <a:pt x="5" y="108"/>
                        </a:lnTo>
                        <a:lnTo>
                          <a:pt x="0" y="133"/>
                        </a:lnTo>
                        <a:lnTo>
                          <a:pt x="0" y="221"/>
                        </a:lnTo>
                        <a:lnTo>
                          <a:pt x="14" y="269"/>
                        </a:lnTo>
                        <a:lnTo>
                          <a:pt x="53" y="312"/>
                        </a:lnTo>
                        <a:lnTo>
                          <a:pt x="107" y="342"/>
                        </a:lnTo>
                        <a:lnTo>
                          <a:pt x="137" y="350"/>
                        </a:lnTo>
                        <a:lnTo>
                          <a:pt x="169" y="354"/>
                        </a:lnTo>
                        <a:lnTo>
                          <a:pt x="1197" y="354"/>
                        </a:lnTo>
                        <a:lnTo>
                          <a:pt x="1258" y="343"/>
                        </a:lnTo>
                        <a:lnTo>
                          <a:pt x="1313" y="313"/>
                        </a:lnTo>
                        <a:lnTo>
                          <a:pt x="1351" y="270"/>
                        </a:lnTo>
                        <a:lnTo>
                          <a:pt x="1361" y="246"/>
                        </a:lnTo>
                        <a:lnTo>
                          <a:pt x="1366" y="221"/>
                        </a:lnTo>
                        <a:lnTo>
                          <a:pt x="1366" y="133"/>
                        </a:lnTo>
                        <a:lnTo>
                          <a:pt x="1366" y="121"/>
                        </a:lnTo>
                        <a:lnTo>
                          <a:pt x="1363" y="109"/>
                        </a:lnTo>
                        <a:lnTo>
                          <a:pt x="1352" y="85"/>
                        </a:lnTo>
                        <a:lnTo>
                          <a:pt x="1314" y="42"/>
                        </a:lnTo>
                        <a:lnTo>
                          <a:pt x="1260" y="12"/>
                        </a:lnTo>
                        <a:lnTo>
                          <a:pt x="1229" y="4"/>
                        </a:lnTo>
                        <a:lnTo>
                          <a:pt x="1197" y="0"/>
                        </a:lnTo>
                        <a:lnTo>
                          <a:pt x="1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033960" y="2978280"/>
                    <a:ext cx="2170080" cy="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033960" y="3538440"/>
                    <a:ext cx="21700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033960" y="2979720"/>
                    <a:ext cx="11160" cy="5587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8191440" y="2979720"/>
                    <a:ext cx="12600" cy="5587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6045120" y="2979720"/>
                    <a:ext cx="21463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045120" y="3535200"/>
                    <a:ext cx="21463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6045120" y="2982960"/>
                    <a:ext cx="11160" cy="552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8180280" y="2982960"/>
                    <a:ext cx="11160" cy="552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056280" y="2982960"/>
                    <a:ext cx="21240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6056280" y="3532320"/>
                    <a:ext cx="2124000" cy="28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6056280" y="2986200"/>
                    <a:ext cx="11160" cy="5461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8169120" y="2986200"/>
                    <a:ext cx="11160" cy="5461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6067440" y="2986200"/>
                    <a:ext cx="21016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6067440" y="2989440"/>
                  <a:ext cx="2101680" cy="542880"/>
                  <a:chOff x="6067440" y="2989440"/>
                  <a:chExt cx="2101680" cy="54288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6067440" y="3529080"/>
                    <a:ext cx="21016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6067440" y="2989440"/>
                    <a:ext cx="11160" cy="5396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8158320" y="2989440"/>
                    <a:ext cx="10800" cy="5396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078600" y="2989440"/>
                    <a:ext cx="2079720" cy="288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078600" y="3525840"/>
                    <a:ext cx="207972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078600" y="2992320"/>
                    <a:ext cx="11160" cy="53352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8147160" y="2992320"/>
                    <a:ext cx="11160" cy="53352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089760" y="2992320"/>
                    <a:ext cx="20574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089760" y="3522600"/>
                    <a:ext cx="20574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089760" y="2995560"/>
                    <a:ext cx="11160" cy="5270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8136000" y="2995560"/>
                    <a:ext cx="11160" cy="5270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100920" y="2995560"/>
                    <a:ext cx="2035080" cy="1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100920" y="3521160"/>
                    <a:ext cx="2035080" cy="144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100920" y="2997360"/>
                    <a:ext cx="10800" cy="523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8124840" y="2997360"/>
                    <a:ext cx="11160" cy="523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111720" y="2997360"/>
                    <a:ext cx="2013120" cy="288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111720" y="3517920"/>
                    <a:ext cx="201312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111720" y="3000240"/>
                    <a:ext cx="11160" cy="51768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8113680" y="3000240"/>
                    <a:ext cx="11160" cy="51768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122880" y="3000240"/>
                    <a:ext cx="199080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122880" y="3514680"/>
                    <a:ext cx="199080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122880" y="3003480"/>
                    <a:ext cx="12960" cy="51120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8101080" y="3003480"/>
                    <a:ext cx="12600" cy="51120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6135840" y="3003480"/>
                    <a:ext cx="196524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6135840" y="3511440"/>
                    <a:ext cx="196524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6135840" y="3006720"/>
                    <a:ext cx="10800" cy="50472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8089920" y="3006720"/>
                    <a:ext cx="11160" cy="50472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6146640" y="3006720"/>
                    <a:ext cx="194328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6146640" y="3508200"/>
                    <a:ext cx="194328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146640" y="3009960"/>
                    <a:ext cx="11160" cy="498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8078760" y="3009960"/>
                    <a:ext cx="11160" cy="498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157800" y="3009960"/>
                    <a:ext cx="192096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6157800" y="3505320"/>
                    <a:ext cx="1920960" cy="288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157800" y="3013200"/>
                    <a:ext cx="11160" cy="49212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8067600" y="3013200"/>
                    <a:ext cx="11160" cy="49212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168960" y="3013200"/>
                    <a:ext cx="1898640" cy="1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168960" y="3502080"/>
                    <a:ext cx="1898640" cy="32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168960" y="3014640"/>
                    <a:ext cx="1116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8056440" y="3014640"/>
                    <a:ext cx="1116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6180120" y="3014640"/>
                    <a:ext cx="1876320" cy="324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180120" y="3500280"/>
                    <a:ext cx="1876320" cy="18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180120" y="3017880"/>
                    <a:ext cx="11160" cy="4824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8045280" y="3017880"/>
                    <a:ext cx="11160" cy="4824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191280" y="3017880"/>
                    <a:ext cx="185400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191280" y="3497400"/>
                    <a:ext cx="1854000" cy="28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191280" y="3021120"/>
                    <a:ext cx="11160" cy="4762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8034480" y="3021120"/>
                    <a:ext cx="10800" cy="4762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202440" y="3021120"/>
                    <a:ext cx="183204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202440" y="3494160"/>
                    <a:ext cx="183204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202440" y="3024360"/>
                    <a:ext cx="11160" cy="4698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8023320" y="3024360"/>
                    <a:ext cx="11160" cy="4698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6213600" y="3024360"/>
                    <a:ext cx="1809720" cy="288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213600" y="3490920"/>
                    <a:ext cx="180972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213600" y="3027240"/>
                    <a:ext cx="11160" cy="46368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8010360" y="3027240"/>
                    <a:ext cx="12960" cy="46368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224760" y="3027240"/>
                    <a:ext cx="178560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224760" y="3487680"/>
                    <a:ext cx="178560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6224760" y="3030480"/>
                    <a:ext cx="12600" cy="45720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7999560" y="3030480"/>
                    <a:ext cx="10800" cy="45720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237360" y="3030480"/>
                    <a:ext cx="1762200" cy="324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237360" y="3484440"/>
                    <a:ext cx="1762200" cy="324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237360" y="3033720"/>
                    <a:ext cx="11160" cy="45072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7988400" y="3033720"/>
                    <a:ext cx="11160" cy="45072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248520" y="3033720"/>
                    <a:ext cx="1739880" cy="14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248520" y="3481560"/>
                    <a:ext cx="1739880" cy="288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248520" y="3035160"/>
                    <a:ext cx="11160" cy="44640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7977240" y="3035160"/>
                    <a:ext cx="11160" cy="44640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259680" y="3035160"/>
                    <a:ext cx="1717560" cy="324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259680" y="3479760"/>
                    <a:ext cx="1717560" cy="1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259680" y="3038400"/>
                    <a:ext cx="10800" cy="44136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7966080" y="3038400"/>
                    <a:ext cx="11160" cy="44136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270480" y="3038400"/>
                    <a:ext cx="1695600" cy="3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270480" y="3476520"/>
                    <a:ext cx="1695600" cy="3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270480" y="3041640"/>
                    <a:ext cx="11160" cy="434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954920" y="3041640"/>
                    <a:ext cx="11160" cy="434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281640" y="3041640"/>
                    <a:ext cx="167328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281640" y="3473280"/>
                    <a:ext cx="167328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281640" y="3044880"/>
                    <a:ext cx="11160" cy="42840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943760" y="3044880"/>
                    <a:ext cx="11160" cy="42840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292800" y="3044880"/>
                    <a:ext cx="165096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292800" y="3470400"/>
                    <a:ext cx="1650960" cy="28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292800" y="3048120"/>
                    <a:ext cx="11160" cy="4222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932600" y="3048120"/>
                    <a:ext cx="11160" cy="4222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303960" y="3048120"/>
                    <a:ext cx="1628640" cy="288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303960" y="3467160"/>
                    <a:ext cx="1628640" cy="324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303960" y="3051000"/>
                    <a:ext cx="11160" cy="41616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920000" y="3051000"/>
                    <a:ext cx="12600" cy="41616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15120" y="3051000"/>
                    <a:ext cx="1604880" cy="180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315120" y="3463920"/>
                    <a:ext cx="1604880" cy="32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315120" y="3052800"/>
                    <a:ext cx="1116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908840" y="3052800"/>
                    <a:ext cx="1116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326280" y="3052800"/>
                    <a:ext cx="158256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326280" y="3460680"/>
                    <a:ext cx="158256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326280" y="3056040"/>
                    <a:ext cx="1260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897680" y="3056040"/>
                    <a:ext cx="1116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338880" y="3056040"/>
                    <a:ext cx="1558800" cy="32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338880" y="3459240"/>
                    <a:ext cx="1558800" cy="14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338880" y="3059280"/>
                    <a:ext cx="11160" cy="3999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886880" y="3059280"/>
                    <a:ext cx="10800" cy="3999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350040" y="3059280"/>
                    <a:ext cx="1536840" cy="28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350040" y="3456000"/>
                    <a:ext cx="153684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6350040" y="3062160"/>
                    <a:ext cx="11160" cy="3938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7875720" y="3062160"/>
                    <a:ext cx="11160" cy="3938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361200" y="3062160"/>
                    <a:ext cx="151452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361200" y="3452760"/>
                    <a:ext cx="151452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361200" y="3065400"/>
                    <a:ext cx="11160" cy="38736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7864560" y="3065400"/>
                    <a:ext cx="11160" cy="38736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6372360" y="3065400"/>
                    <a:ext cx="1492200" cy="3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6372360" y="3449520"/>
                    <a:ext cx="1492200" cy="3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6372360" y="3068640"/>
                    <a:ext cx="10800" cy="3808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7853400" y="3068640"/>
                    <a:ext cx="11160" cy="3808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383160" y="3068640"/>
                    <a:ext cx="1470240" cy="144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383160" y="3446640"/>
                    <a:ext cx="1470240" cy="288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383160" y="3070080"/>
                    <a:ext cx="11160" cy="37656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7842240" y="3070080"/>
                    <a:ext cx="11160" cy="37656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394320" y="3070080"/>
                    <a:ext cx="144792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6394320" y="3443400"/>
                    <a:ext cx="144792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6394320" y="3073320"/>
                    <a:ext cx="11160" cy="37008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7829640" y="3073320"/>
                    <a:ext cx="12600" cy="37008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6405480" y="3073320"/>
                    <a:ext cx="1424160" cy="324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6405480" y="3440160"/>
                    <a:ext cx="1424160" cy="324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6405480" y="3076560"/>
                    <a:ext cx="111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7818480" y="3076560"/>
                    <a:ext cx="111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6416640" y="3076560"/>
                    <a:ext cx="1401840" cy="324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416640" y="3438360"/>
                    <a:ext cx="1401840" cy="180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416640" y="3079800"/>
                    <a:ext cx="12600" cy="35856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7807320" y="3079800"/>
                    <a:ext cx="11160" cy="35856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6429240" y="3079800"/>
                    <a:ext cx="137808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6429240" y="3435480"/>
                    <a:ext cx="1378080" cy="288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429240" y="3083040"/>
                    <a:ext cx="11160" cy="3524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7796160" y="3083040"/>
                    <a:ext cx="11160" cy="3524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6440400" y="3083040"/>
                    <a:ext cx="135576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6440400" y="3432240"/>
                    <a:ext cx="135576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440400" y="3086280"/>
                    <a:ext cx="11160" cy="3459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7785000" y="3086280"/>
                    <a:ext cx="11160" cy="3459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6451560" y="3086280"/>
                    <a:ext cx="1333440" cy="28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6451560" y="3429000"/>
                    <a:ext cx="133344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6451560" y="3089160"/>
                    <a:ext cx="11160" cy="3398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7773840" y="3089160"/>
                    <a:ext cx="11160" cy="3398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6462720" y="3089160"/>
                    <a:ext cx="1311120" cy="1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6462720" y="3425760"/>
                    <a:ext cx="1311120" cy="32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6462720" y="3090960"/>
                    <a:ext cx="1116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7763040" y="3090960"/>
                    <a:ext cx="1080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473880" y="3090960"/>
                    <a:ext cx="1289160" cy="324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473880" y="3422520"/>
                    <a:ext cx="1289160" cy="324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473880" y="3094200"/>
                    <a:ext cx="11160" cy="32832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7751880" y="3094200"/>
                    <a:ext cx="11160" cy="32832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485040" y="3094200"/>
                    <a:ext cx="1266840" cy="288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6485040" y="3419640"/>
                    <a:ext cx="1266840" cy="288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6485040" y="3097080"/>
                    <a:ext cx="11160" cy="32256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7738920" y="3097080"/>
                    <a:ext cx="12960" cy="32256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6496200" y="3097080"/>
                    <a:ext cx="1242720" cy="324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6496200" y="3417840"/>
                    <a:ext cx="1242720" cy="180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496200" y="3100320"/>
                    <a:ext cx="10800" cy="31752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7728120" y="3100320"/>
                    <a:ext cx="10800" cy="31752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507000" y="3100320"/>
                    <a:ext cx="1221120" cy="32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6507000" y="3414600"/>
                    <a:ext cx="1221120" cy="32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6507000" y="3103560"/>
                    <a:ext cx="11160" cy="3110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716960" y="3103560"/>
                    <a:ext cx="11160" cy="3110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6518160" y="3103560"/>
                    <a:ext cx="119880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518160" y="3411360"/>
                    <a:ext cx="119880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518160" y="3106800"/>
                    <a:ext cx="12960" cy="30456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705800" y="3106800"/>
                    <a:ext cx="11160" cy="30456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6531120" y="3106800"/>
                    <a:ext cx="1174680" cy="14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531120" y="3408480"/>
                    <a:ext cx="1174680" cy="2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6531120" y="3108240"/>
                    <a:ext cx="10800" cy="300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7694640" y="3108240"/>
                    <a:ext cx="11160" cy="300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541920" y="3108240"/>
                    <a:ext cx="1152720" cy="324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541920" y="3405240"/>
                    <a:ext cx="1152720" cy="324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541920" y="3111480"/>
                    <a:ext cx="1116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683480" y="3111480"/>
                    <a:ext cx="1116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6553080" y="3111480"/>
                    <a:ext cx="113040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6553080" y="3402000"/>
                    <a:ext cx="113040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6553080" y="3114720"/>
                    <a:ext cx="111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7672320" y="3114720"/>
                    <a:ext cx="111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6564240" y="3114720"/>
                    <a:ext cx="1108080" cy="32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6564240" y="3400560"/>
                    <a:ext cx="1108080" cy="14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6564240" y="3117960"/>
                    <a:ext cx="11160" cy="2826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7661160" y="3117960"/>
                    <a:ext cx="11160" cy="2826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6575400" y="3117960"/>
                    <a:ext cx="108576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6575400" y="3397320"/>
                    <a:ext cx="108576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6575400" y="3121200"/>
                    <a:ext cx="11160" cy="2761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7648560" y="3121200"/>
                    <a:ext cx="12600" cy="2761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586560" y="3121200"/>
                    <a:ext cx="1062000" cy="288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6586560" y="3394080"/>
                    <a:ext cx="106200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6586560" y="3124080"/>
                    <a:ext cx="11160" cy="27000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637400" y="3124080"/>
                    <a:ext cx="11160" cy="27000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597720" y="3124080"/>
                    <a:ext cx="103968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6597720" y="3390840"/>
                    <a:ext cx="103968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597720" y="3127320"/>
                    <a:ext cx="11160" cy="26352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7626240" y="3127320"/>
                    <a:ext cx="11160" cy="26352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608880" y="3127320"/>
                    <a:ext cx="1017360" cy="180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608880" y="3387600"/>
                    <a:ext cx="1017360" cy="32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608880" y="3129120"/>
                    <a:ext cx="11160" cy="25848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7615080" y="3129120"/>
                    <a:ext cx="11160" cy="25848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620040" y="3129120"/>
                    <a:ext cx="995040" cy="288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620040" y="3384720"/>
                    <a:ext cx="995040" cy="288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620040" y="3132000"/>
                    <a:ext cx="12600" cy="25272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7604280" y="3132000"/>
                    <a:ext cx="10800" cy="25272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632640" y="3132000"/>
                    <a:ext cx="971640" cy="3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2" name=""/>
                <p:cNvSpPr/>
                <p:nvPr/>
              </p:nvSpPr>
              <p:spPr>
                <a:xfrm>
                  <a:off x="6632640" y="3381480"/>
                  <a:ext cx="971640" cy="3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632640" y="3135240"/>
                  <a:ext cx="11160" cy="246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593120" y="3135240"/>
                  <a:ext cx="11160" cy="246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643800" y="3135240"/>
                  <a:ext cx="949320" cy="324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643800" y="3379680"/>
                  <a:ext cx="949320" cy="180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643800" y="3138480"/>
                  <a:ext cx="11160" cy="24120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581960" y="3138480"/>
                  <a:ext cx="11160" cy="24120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654960" y="3138480"/>
                  <a:ext cx="927000" cy="324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654960" y="3376440"/>
                  <a:ext cx="927000" cy="324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54960" y="3141720"/>
                  <a:ext cx="10800" cy="23472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70800" y="3141720"/>
                  <a:ext cx="11160" cy="23472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665760" y="3141720"/>
                  <a:ext cx="905040" cy="324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665760" y="3373560"/>
                  <a:ext cx="905040" cy="288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665760" y="3144960"/>
                  <a:ext cx="11160" cy="22860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558200" y="3144960"/>
                  <a:ext cx="12600" cy="22860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676920" y="3144960"/>
                  <a:ext cx="881280" cy="144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76920" y="3370320"/>
                  <a:ext cx="881280" cy="324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676920" y="3146400"/>
                  <a:ext cx="11160" cy="22392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547040" y="3146400"/>
                  <a:ext cx="11160" cy="22392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688080" y="3146400"/>
                  <a:ext cx="858960" cy="32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688080" y="3367080"/>
                  <a:ext cx="858960" cy="32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688080" y="3149640"/>
                  <a:ext cx="11160" cy="2174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535880" y="3149640"/>
                  <a:ext cx="11160" cy="2174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699240" y="3149640"/>
                  <a:ext cx="836640" cy="324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699240" y="3363840"/>
                  <a:ext cx="836640" cy="324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699240" y="3152880"/>
                  <a:ext cx="11160" cy="21096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524720" y="3152880"/>
                  <a:ext cx="11160" cy="21096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710400" y="3152880"/>
                  <a:ext cx="814320" cy="324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710400" y="3360600"/>
                  <a:ext cx="814320" cy="324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710400" y="3156120"/>
                  <a:ext cx="11160" cy="20448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513560" y="3156120"/>
                  <a:ext cx="11160" cy="20448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721560" y="3156120"/>
                  <a:ext cx="792000" cy="288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721560" y="3359160"/>
                  <a:ext cx="792000" cy="144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721560" y="3159000"/>
                  <a:ext cx="12600" cy="20016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502400" y="3159000"/>
                  <a:ext cx="11160" cy="20016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734160" y="3159000"/>
                  <a:ext cx="768240" cy="324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734160" y="3355920"/>
                  <a:ext cx="768240" cy="324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734160" y="3162240"/>
                  <a:ext cx="11160" cy="19368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491240" y="3162240"/>
                  <a:ext cx="11160" cy="19368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745320" y="3162240"/>
                  <a:ext cx="745920" cy="180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745320" y="3352680"/>
                  <a:ext cx="745920" cy="324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745320" y="3164040"/>
                  <a:ext cx="11160" cy="18864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7480440" y="3164040"/>
                  <a:ext cx="10800" cy="18864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756480" y="3164040"/>
                  <a:ext cx="723960" cy="288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756480" y="3349800"/>
                  <a:ext cx="723960" cy="288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756480" y="3166920"/>
                  <a:ext cx="11160" cy="18288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467480" y="3166920"/>
                  <a:ext cx="12960" cy="18288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767640" y="3166920"/>
                  <a:ext cx="699840" cy="32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767640" y="3346560"/>
                  <a:ext cx="699840" cy="32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767640" y="3170160"/>
                  <a:ext cx="11160" cy="17640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56320" y="3170160"/>
                  <a:ext cx="11160" cy="17640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778800" y="3170160"/>
                  <a:ext cx="677520" cy="324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778800" y="3343320"/>
                  <a:ext cx="677520" cy="324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778800" y="3173400"/>
                  <a:ext cx="10800" cy="16992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445520" y="3173400"/>
                  <a:ext cx="10800" cy="16992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789600" y="3173400"/>
                  <a:ext cx="655920" cy="32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789600" y="3340080"/>
                  <a:ext cx="655920" cy="32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789600" y="3176640"/>
                  <a:ext cx="11160" cy="1634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434360" y="3176640"/>
                  <a:ext cx="11160" cy="1634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800760" y="3176640"/>
                  <a:ext cx="633600" cy="324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800760" y="3338640"/>
                  <a:ext cx="633600" cy="144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800760" y="3179880"/>
                  <a:ext cx="11160" cy="15876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423200" y="3179880"/>
                  <a:ext cx="11160" cy="15876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811920" y="3179880"/>
                  <a:ext cx="611280" cy="288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811920" y="3335400"/>
                  <a:ext cx="611280" cy="324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811920" y="3182760"/>
                  <a:ext cx="12600" cy="15264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412040" y="3182760"/>
                  <a:ext cx="11160" cy="15264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824520" y="3182760"/>
                  <a:ext cx="587520" cy="180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824520" y="3332160"/>
                  <a:ext cx="587520" cy="324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824520" y="3184560"/>
                  <a:ext cx="11160" cy="14760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400880" y="3184560"/>
                  <a:ext cx="11160" cy="14760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835680" y="3184560"/>
                  <a:ext cx="565200" cy="324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835680" y="3328920"/>
                  <a:ext cx="565200" cy="324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835680" y="3187800"/>
                  <a:ext cx="11160" cy="14112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389720" y="3187800"/>
                  <a:ext cx="11160" cy="14112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846840" y="3187800"/>
                  <a:ext cx="542880" cy="324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846840" y="3325680"/>
                  <a:ext cx="542880" cy="324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846840" y="3191040"/>
                  <a:ext cx="11160" cy="13464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377120" y="3191040"/>
                  <a:ext cx="12600" cy="13464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858000" y="3191040"/>
                  <a:ext cx="519120" cy="288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858000" y="3322800"/>
                  <a:ext cx="519120" cy="288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858000" y="3193920"/>
                  <a:ext cx="11160" cy="12888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365960" y="3193920"/>
                  <a:ext cx="11160" cy="12888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69160" y="3193920"/>
                  <a:ext cx="496800" cy="324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869160" y="3319560"/>
                  <a:ext cx="496800" cy="324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869160" y="3197160"/>
                  <a:ext cx="11160" cy="12240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354800" y="3197160"/>
                  <a:ext cx="11160" cy="12240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880320" y="3197160"/>
                  <a:ext cx="474480" cy="324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880320" y="3317760"/>
                  <a:ext cx="474480" cy="180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6880320" y="3200400"/>
                  <a:ext cx="11160" cy="11736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343640" y="3200400"/>
                  <a:ext cx="11160" cy="11736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891480" y="3200400"/>
                  <a:ext cx="452160" cy="144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891480" y="3314880"/>
                  <a:ext cx="452160" cy="288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891480" y="3201840"/>
                  <a:ext cx="10800" cy="11304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332840" y="3201840"/>
                  <a:ext cx="10800" cy="11304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902280" y="3201840"/>
                  <a:ext cx="430560" cy="324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902280" y="3311640"/>
                  <a:ext cx="430560" cy="324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902280" y="3205080"/>
                  <a:ext cx="11160" cy="10656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321680" y="3205080"/>
                  <a:ext cx="11160" cy="10656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913440" y="3205080"/>
                  <a:ext cx="408240" cy="324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913440" y="3308400"/>
                  <a:ext cx="408240" cy="324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913440" y="3208320"/>
                  <a:ext cx="12960" cy="10008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310520" y="3208320"/>
                  <a:ext cx="11160" cy="10008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926400" y="3208320"/>
                  <a:ext cx="384120" cy="324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926400" y="3305160"/>
                  <a:ext cx="384120" cy="324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926400" y="3211560"/>
                  <a:ext cx="10800" cy="9360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299360" y="3211560"/>
                  <a:ext cx="11160" cy="9360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937200" y="3211560"/>
                  <a:ext cx="362160" cy="324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937200" y="3301920"/>
                  <a:ext cx="362160" cy="324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937200" y="3214800"/>
                  <a:ext cx="11160" cy="8712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286760" y="3214800"/>
                  <a:ext cx="12600" cy="8712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948360" y="3214800"/>
                  <a:ext cx="338400" cy="324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948360" y="3298680"/>
                  <a:ext cx="338400" cy="324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948360" y="3218040"/>
                  <a:ext cx="11160" cy="8064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275600" y="3218040"/>
                  <a:ext cx="11160" cy="8064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959520" y="3218040"/>
                  <a:ext cx="316080" cy="288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959520" y="3297240"/>
                  <a:ext cx="316080" cy="144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959520" y="3220920"/>
                  <a:ext cx="11160" cy="7632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264440" y="3220920"/>
                  <a:ext cx="11160" cy="7632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970680" y="3220920"/>
                  <a:ext cx="293760" cy="180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970680" y="3294000"/>
                  <a:ext cx="293760" cy="324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970680" y="3222720"/>
                  <a:ext cx="11160" cy="7128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253280" y="3222720"/>
                  <a:ext cx="11160" cy="7128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981840" y="3222720"/>
                  <a:ext cx="271440" cy="324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981840" y="3290760"/>
                  <a:ext cx="271440" cy="324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981840" y="3225960"/>
                  <a:ext cx="11160" cy="6480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242120" y="3225960"/>
                  <a:ext cx="11160" cy="6480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993000" y="3225960"/>
                  <a:ext cx="249120" cy="288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993000" y="3287880"/>
                  <a:ext cx="249120" cy="288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993000" y="3228840"/>
                  <a:ext cx="11160" cy="5904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230960" y="3228840"/>
                  <a:ext cx="11160" cy="5904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004160" y="3228840"/>
                  <a:ext cx="226800" cy="324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004160" y="3284640"/>
                  <a:ext cx="226800" cy="324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004160" y="3232080"/>
                  <a:ext cx="11160" cy="5256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219800" y="3232080"/>
                  <a:ext cx="11160" cy="5256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015320" y="3232080"/>
                  <a:ext cx="204480" cy="324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015320" y="3281400"/>
                  <a:ext cx="204480" cy="324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015320" y="3235320"/>
                  <a:ext cx="12600" cy="4608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209000" y="3235320"/>
                  <a:ext cx="10800" cy="4608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027920" y="3235320"/>
                  <a:ext cx="181080" cy="324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027920" y="3278160"/>
                  <a:ext cx="181080" cy="324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027920" y="3238560"/>
                  <a:ext cx="11160" cy="3960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196040" y="3238560"/>
                  <a:ext cx="12960" cy="3960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039080" y="3238560"/>
                  <a:ext cx="156960" cy="144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039080" y="3276720"/>
                  <a:ext cx="156960" cy="144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039080" y="3240000"/>
                  <a:ext cx="11160" cy="3672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184880" y="3240000"/>
                  <a:ext cx="11160" cy="3672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050240" y="3240000"/>
                  <a:ext cx="134640" cy="3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050240" y="3273480"/>
                  <a:ext cx="134640" cy="3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050240" y="3243240"/>
                  <a:ext cx="10800" cy="30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174080" y="3243240"/>
                  <a:ext cx="10800" cy="30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061040" y="3243240"/>
                  <a:ext cx="113040" cy="324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061040" y="3270240"/>
                  <a:ext cx="113040" cy="324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061040" y="3246480"/>
                  <a:ext cx="11160" cy="2376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162920" y="3246480"/>
                  <a:ext cx="11160" cy="2376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072200" y="3246480"/>
                  <a:ext cx="90720" cy="324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072200" y="3267000"/>
                  <a:ext cx="90720" cy="324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072200" y="3249720"/>
                  <a:ext cx="11160" cy="1728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151760" y="3249720"/>
                  <a:ext cx="11160" cy="1728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83360" y="3249720"/>
                  <a:ext cx="68400" cy="324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083360" y="3263760"/>
                  <a:ext cx="68400" cy="324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083360" y="3252960"/>
                  <a:ext cx="11160" cy="1080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140600" y="3252960"/>
                  <a:ext cx="11160" cy="1080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094520" y="3252960"/>
                  <a:ext cx="46080" cy="288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094520" y="3260880"/>
                  <a:ext cx="46080" cy="288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094520" y="3255840"/>
                  <a:ext cx="11160" cy="504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129440" y="3255840"/>
                  <a:ext cx="11160" cy="504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105680" y="3255840"/>
                  <a:ext cx="23760" cy="180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105680" y="3259080"/>
                  <a:ext cx="23760" cy="180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105680" y="3257640"/>
                  <a:ext cx="1116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118280" y="3257640"/>
                  <a:ext cx="1116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116840" y="3257640"/>
                  <a:ext cx="144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"/>
              <p:cNvSpPr/>
              <p:nvPr/>
            </p:nvSpPr>
            <p:spPr>
              <a:xfrm>
                <a:off x="6033960" y="2978280"/>
                <a:ext cx="2168640" cy="561960"/>
              </a:xfrm>
              <a:custGeom>
                <a:avLst/>
                <a:gdLst/>
                <a:ahLst/>
                <a:rect l="l" t="t" r="r" b="b"/>
                <a:pathLst>
                  <a:path w="1366" h="354">
                    <a:moveTo>
                      <a:pt x="169" y="0"/>
                    </a:moveTo>
                    <a:lnTo>
                      <a:pt x="154" y="0"/>
                    </a:lnTo>
                    <a:lnTo>
                      <a:pt x="139" y="3"/>
                    </a:lnTo>
                    <a:lnTo>
                      <a:pt x="108" y="11"/>
                    </a:lnTo>
                    <a:lnTo>
                      <a:pt x="53" y="41"/>
                    </a:lnTo>
                    <a:lnTo>
                      <a:pt x="15" y="84"/>
                    </a:lnTo>
                    <a:lnTo>
                      <a:pt x="5" y="108"/>
                    </a:lnTo>
                    <a:lnTo>
                      <a:pt x="0" y="133"/>
                    </a:lnTo>
                    <a:lnTo>
                      <a:pt x="0" y="221"/>
                    </a:lnTo>
                    <a:lnTo>
                      <a:pt x="14" y="269"/>
                    </a:lnTo>
                    <a:lnTo>
                      <a:pt x="53" y="312"/>
                    </a:lnTo>
                    <a:lnTo>
                      <a:pt x="107" y="342"/>
                    </a:lnTo>
                    <a:lnTo>
                      <a:pt x="137" y="350"/>
                    </a:lnTo>
                    <a:lnTo>
                      <a:pt x="169" y="354"/>
                    </a:lnTo>
                    <a:lnTo>
                      <a:pt x="1197" y="354"/>
                    </a:lnTo>
                    <a:lnTo>
                      <a:pt x="1258" y="343"/>
                    </a:lnTo>
                    <a:lnTo>
                      <a:pt x="1313" y="313"/>
                    </a:lnTo>
                    <a:lnTo>
                      <a:pt x="1351" y="270"/>
                    </a:lnTo>
                    <a:lnTo>
                      <a:pt x="1361" y="246"/>
                    </a:lnTo>
                    <a:lnTo>
                      <a:pt x="1366" y="221"/>
                    </a:lnTo>
                    <a:lnTo>
                      <a:pt x="1366" y="133"/>
                    </a:lnTo>
                    <a:lnTo>
                      <a:pt x="1366" y="121"/>
                    </a:lnTo>
                    <a:lnTo>
                      <a:pt x="1363" y="109"/>
                    </a:lnTo>
                    <a:lnTo>
                      <a:pt x="1352" y="85"/>
                    </a:lnTo>
                    <a:lnTo>
                      <a:pt x="1314" y="42"/>
                    </a:lnTo>
                    <a:lnTo>
                      <a:pt x="1260" y="12"/>
                    </a:lnTo>
                    <a:lnTo>
                      <a:pt x="1229" y="4"/>
                    </a:lnTo>
                    <a:lnTo>
                      <a:pt x="1197" y="0"/>
                    </a:lnTo>
                    <a:lnTo>
                      <a:pt x="169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6121440" y="3100320"/>
              <a:ext cx="20574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181920" y="3114720"/>
              <a:ext cx="2053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rvice Demand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3484440" y="2998800"/>
            <a:ext cx="1712880" cy="629280"/>
            <a:chOff x="3484440" y="2998800"/>
            <a:chExt cx="1712880" cy="629280"/>
          </a:xfrm>
        </p:grpSpPr>
        <p:grpSp>
          <p:nvGrpSpPr>
            <p:cNvPr id="1008" name=""/>
            <p:cNvGrpSpPr/>
            <p:nvPr/>
          </p:nvGrpSpPr>
          <p:grpSpPr>
            <a:xfrm>
              <a:off x="3484440" y="3025800"/>
              <a:ext cx="1712880" cy="563400"/>
              <a:chOff x="3484440" y="3025800"/>
              <a:chExt cx="1712880" cy="56340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3484440" y="3025800"/>
                <a:ext cx="1712880" cy="563400"/>
                <a:chOff x="3484440" y="3025800"/>
                <a:chExt cx="1712880" cy="563400"/>
              </a:xfrm>
            </p:grpSpPr>
            <p:grpSp>
              <p:nvGrpSpPr>
                <p:cNvPr id="1010" name=""/>
                <p:cNvGrpSpPr/>
                <p:nvPr/>
              </p:nvGrpSpPr>
              <p:grpSpPr>
                <a:xfrm>
                  <a:off x="3484440" y="3025800"/>
                  <a:ext cx="1712880" cy="563400"/>
                  <a:chOff x="3484440" y="3025800"/>
                  <a:chExt cx="1712880" cy="56340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3484440" y="3025800"/>
                    <a:ext cx="1712880" cy="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484440" y="3586320"/>
                    <a:ext cx="1712880" cy="28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484440" y="3027240"/>
                    <a:ext cx="7920" cy="5590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5187960" y="3027240"/>
                    <a:ext cx="9360" cy="5590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492360" y="3027240"/>
                    <a:ext cx="16956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492360" y="3583080"/>
                    <a:ext cx="16956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492360" y="3030480"/>
                    <a:ext cx="9720" cy="55260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178600" y="3030480"/>
                    <a:ext cx="9360" cy="55260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502080" y="3030480"/>
                    <a:ext cx="16765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502080" y="3579840"/>
                    <a:ext cx="16765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502080" y="3033720"/>
                    <a:ext cx="7920" cy="5461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5170320" y="3033720"/>
                    <a:ext cx="8280" cy="5461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510000" y="3033720"/>
                    <a:ext cx="16603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510000" y="3576600"/>
                    <a:ext cx="16603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510000" y="3036960"/>
                    <a:ext cx="9360" cy="5396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0960" y="3036960"/>
                    <a:ext cx="9360" cy="5396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519360" y="3036960"/>
                    <a:ext cx="16416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519360" y="3573360"/>
                    <a:ext cx="16416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519360" y="3040200"/>
                    <a:ext cx="9720" cy="53316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151600" y="3040200"/>
                    <a:ext cx="9360" cy="53316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29080" y="3040200"/>
                    <a:ext cx="1622520" cy="288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529080" y="3570120"/>
                    <a:ext cx="162252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529080" y="3043080"/>
                    <a:ext cx="7920" cy="5270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143680" y="3043080"/>
                    <a:ext cx="7920" cy="5270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537000" y="3043080"/>
                    <a:ext cx="1606680" cy="1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537000" y="3568680"/>
                    <a:ext cx="1606680" cy="144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3537000" y="3044880"/>
                    <a:ext cx="9360" cy="523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133960" y="3044880"/>
                    <a:ext cx="9720" cy="523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546360" y="3044880"/>
                    <a:ext cx="158760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546360" y="3565440"/>
                    <a:ext cx="158760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546360" y="3048120"/>
                    <a:ext cx="7920" cy="51732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5126040" y="3048120"/>
                    <a:ext cx="7920" cy="51732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3554280" y="3048120"/>
                    <a:ext cx="1571760" cy="28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554280" y="3562200"/>
                    <a:ext cx="157176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554280" y="3051000"/>
                    <a:ext cx="9720" cy="51120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5116680" y="3051000"/>
                    <a:ext cx="9360" cy="51120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564000" y="3051000"/>
                    <a:ext cx="155268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3564000" y="3559320"/>
                    <a:ext cx="1552680" cy="28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3564000" y="3054240"/>
                    <a:ext cx="9360" cy="5050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5106960" y="3054240"/>
                    <a:ext cx="9720" cy="5050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3573360" y="3054240"/>
                    <a:ext cx="153360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3573360" y="3556080"/>
                    <a:ext cx="153360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573360" y="3057480"/>
                    <a:ext cx="7920" cy="49860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5099040" y="3057480"/>
                    <a:ext cx="7920" cy="49860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81280" y="3057480"/>
                    <a:ext cx="151776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81280" y="3552840"/>
                    <a:ext cx="151776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3581280" y="3060720"/>
                    <a:ext cx="9720" cy="49212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089680" y="3060720"/>
                    <a:ext cx="9360" cy="49212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591000" y="3060720"/>
                    <a:ext cx="1498680" cy="1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3591000" y="3549600"/>
                    <a:ext cx="1498680" cy="32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591000" y="3062160"/>
                    <a:ext cx="792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079960" y="3062160"/>
                    <a:ext cx="972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3598920" y="3062160"/>
                    <a:ext cx="1481040" cy="324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598920" y="3548160"/>
                    <a:ext cx="1481040" cy="144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598920" y="3065400"/>
                    <a:ext cx="9360" cy="48276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072040" y="3065400"/>
                    <a:ext cx="7920" cy="48276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608280" y="3065400"/>
                    <a:ext cx="146376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608280" y="3544920"/>
                    <a:ext cx="146376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608280" y="3068640"/>
                    <a:ext cx="9720" cy="4762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062680" y="3068640"/>
                    <a:ext cx="9360" cy="4762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618000" y="3068640"/>
                    <a:ext cx="144468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618000" y="3541680"/>
                    <a:ext cx="144468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618000" y="3071880"/>
                    <a:ext cx="7920" cy="4698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054760" y="3071880"/>
                    <a:ext cx="7920" cy="4698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625920" y="3071880"/>
                    <a:ext cx="142884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625920" y="3538440"/>
                    <a:ext cx="142884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625920" y="3075120"/>
                    <a:ext cx="9360" cy="46332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5045040" y="3075120"/>
                    <a:ext cx="9720" cy="46332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635280" y="3075120"/>
                    <a:ext cx="1409760" cy="288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35280" y="3535200"/>
                    <a:ext cx="140976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635280" y="3078000"/>
                    <a:ext cx="9720" cy="45720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5035680" y="3078000"/>
                    <a:ext cx="9360" cy="45720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645000" y="3078000"/>
                    <a:ext cx="1390680" cy="324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645000" y="3532320"/>
                    <a:ext cx="1390680" cy="288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645000" y="3081240"/>
                    <a:ext cx="7920" cy="45108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27760" y="3081240"/>
                    <a:ext cx="7920" cy="45108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52920" y="3081240"/>
                    <a:ext cx="1374840" cy="180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52920" y="3529080"/>
                    <a:ext cx="1374840" cy="32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52920" y="3083040"/>
                    <a:ext cx="9360" cy="4460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5018040" y="3083040"/>
                    <a:ext cx="9720" cy="4460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662280" y="3083040"/>
                    <a:ext cx="1355760" cy="324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662280" y="3527280"/>
                    <a:ext cx="1355760" cy="1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662280" y="3086280"/>
                    <a:ext cx="7920" cy="4410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5008680" y="3086280"/>
                    <a:ext cx="9360" cy="4410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670200" y="3086280"/>
                    <a:ext cx="1338480" cy="2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670200" y="3524400"/>
                    <a:ext cx="1338480" cy="2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670200" y="3089160"/>
                    <a:ext cx="9720" cy="435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000760" y="3089160"/>
                    <a:ext cx="7920" cy="435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679920" y="3089160"/>
                    <a:ext cx="132084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679920" y="3521160"/>
                    <a:ext cx="132084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679920" y="3092400"/>
                    <a:ext cx="9360" cy="42876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991040" y="3092400"/>
                    <a:ext cx="9720" cy="42876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3689280" y="3092400"/>
                    <a:ext cx="130176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3689280" y="3517920"/>
                    <a:ext cx="130176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3689280" y="3095640"/>
                    <a:ext cx="7920" cy="4222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983120" y="3095640"/>
                    <a:ext cx="7920" cy="4222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3697200" y="3095640"/>
                    <a:ext cx="1285920" cy="324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697200" y="3514680"/>
                    <a:ext cx="1285920" cy="324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3697200" y="3098880"/>
                    <a:ext cx="9720" cy="41580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973760" y="3098880"/>
                    <a:ext cx="9360" cy="41580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3706920" y="3098880"/>
                    <a:ext cx="1266840" cy="14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3706920" y="3511440"/>
                    <a:ext cx="1266840" cy="32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06920" y="3100320"/>
                    <a:ext cx="792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964040" y="3100320"/>
                    <a:ext cx="972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3714840" y="3100320"/>
                    <a:ext cx="124920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714840" y="3508200"/>
                    <a:ext cx="124920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3714840" y="3103560"/>
                    <a:ext cx="936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956120" y="3103560"/>
                    <a:ext cx="792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724200" y="3103560"/>
                    <a:ext cx="1231920" cy="32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724200" y="3506760"/>
                    <a:ext cx="1231920" cy="14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724200" y="3106800"/>
                    <a:ext cx="9720" cy="3999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946760" y="3106800"/>
                    <a:ext cx="9360" cy="3999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733920" y="3106800"/>
                    <a:ext cx="121284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733920" y="3503520"/>
                    <a:ext cx="121284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33920" y="3110040"/>
                    <a:ext cx="7920" cy="3934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937040" y="3110040"/>
                    <a:ext cx="9720" cy="3934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3741840" y="3110040"/>
                    <a:ext cx="1195200" cy="288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3741840" y="3500280"/>
                    <a:ext cx="119520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741840" y="3112920"/>
                    <a:ext cx="9360" cy="38736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929120" y="3112920"/>
                    <a:ext cx="7920" cy="38736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3751200" y="3112920"/>
                    <a:ext cx="1177920" cy="3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3751200" y="3497400"/>
                    <a:ext cx="1177920" cy="28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3751200" y="3116160"/>
                    <a:ext cx="9720" cy="381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919760" y="3116160"/>
                    <a:ext cx="9360" cy="381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60920" y="3116160"/>
                    <a:ext cx="1158840" cy="18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3760920" y="3494160"/>
                    <a:ext cx="1158840" cy="324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3760920" y="3117960"/>
                    <a:ext cx="7920" cy="3762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11840" y="3117960"/>
                    <a:ext cx="7920" cy="3762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3768840" y="3117960"/>
                    <a:ext cx="114300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3768840" y="3490920"/>
                    <a:ext cx="114300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3768840" y="3121200"/>
                    <a:ext cx="9360" cy="36972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4902120" y="3121200"/>
                    <a:ext cx="9720" cy="36972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3778200" y="3121200"/>
                    <a:ext cx="1123920" cy="288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778200" y="3487680"/>
                    <a:ext cx="1123920" cy="324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3778200" y="3124080"/>
                    <a:ext cx="792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892760" y="3124080"/>
                    <a:ext cx="93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3786120" y="3124080"/>
                    <a:ext cx="1106640" cy="324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3786120" y="3486240"/>
                    <a:ext cx="1106640" cy="144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3786120" y="3127320"/>
                    <a:ext cx="9720" cy="35892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4884840" y="3127320"/>
                    <a:ext cx="7920" cy="35892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3795840" y="3127320"/>
                    <a:ext cx="108900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3795840" y="3483000"/>
                    <a:ext cx="108900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3795840" y="3130560"/>
                    <a:ext cx="9360" cy="3524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4875120" y="3130560"/>
                    <a:ext cx="9720" cy="3524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3805200" y="3130560"/>
                    <a:ext cx="106992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805200" y="3479760"/>
                    <a:ext cx="106992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805200" y="3133800"/>
                    <a:ext cx="7920" cy="3459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865760" y="3133800"/>
                    <a:ext cx="9360" cy="3459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3813120" y="3133800"/>
                    <a:ext cx="105264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3813120" y="3476520"/>
                    <a:ext cx="105264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3813120" y="3137040"/>
                    <a:ext cx="9720" cy="3394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857840" y="3137040"/>
                    <a:ext cx="7920" cy="3394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3822840" y="3137040"/>
                    <a:ext cx="1035000" cy="14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3822840" y="3473280"/>
                    <a:ext cx="1035000" cy="32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3822840" y="3138480"/>
                    <a:ext cx="792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848120" y="3138480"/>
                    <a:ext cx="972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3830760" y="3138480"/>
                    <a:ext cx="1017360" cy="324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830760" y="3470400"/>
                    <a:ext cx="1017360" cy="28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3830760" y="3141720"/>
                    <a:ext cx="9360" cy="3286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840200" y="3141720"/>
                    <a:ext cx="7920" cy="3286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3840120" y="3141720"/>
                    <a:ext cx="1000080" cy="324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3840120" y="3467160"/>
                    <a:ext cx="1000080" cy="324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840120" y="3144960"/>
                    <a:ext cx="9720" cy="32220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830840" y="3144960"/>
                    <a:ext cx="9360" cy="32220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3849840" y="3144960"/>
                    <a:ext cx="981000" cy="288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849840" y="3465360"/>
                    <a:ext cx="981000" cy="180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849840" y="3147840"/>
                    <a:ext cx="7920" cy="31752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4821120" y="3147840"/>
                    <a:ext cx="9720" cy="31752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857760" y="3147840"/>
                    <a:ext cx="963360" cy="32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857760" y="3462480"/>
                    <a:ext cx="963360" cy="288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857760" y="3151080"/>
                    <a:ext cx="9360" cy="31140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13200" y="3151080"/>
                    <a:ext cx="7920" cy="31140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867120" y="3151080"/>
                    <a:ext cx="94608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867120" y="3459240"/>
                    <a:ext cx="94608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867120" y="3154320"/>
                    <a:ext cx="9720" cy="30492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4803840" y="3154320"/>
                    <a:ext cx="9360" cy="30492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876840" y="3154320"/>
                    <a:ext cx="927000" cy="180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3876840" y="3456000"/>
                    <a:ext cx="927000" cy="3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3876840" y="3156120"/>
                    <a:ext cx="7920" cy="299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4794120" y="3156120"/>
                    <a:ext cx="9720" cy="299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3884760" y="3156120"/>
                    <a:ext cx="909360" cy="288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884760" y="3452760"/>
                    <a:ext cx="909360" cy="324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3884760" y="3159000"/>
                    <a:ext cx="936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786200" y="3159000"/>
                    <a:ext cx="792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894120" y="3159000"/>
                    <a:ext cx="89208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894120" y="3449520"/>
                    <a:ext cx="89208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894120" y="3162240"/>
                    <a:ext cx="792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4776840" y="3162240"/>
                    <a:ext cx="93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902040" y="3162240"/>
                    <a:ext cx="874800" cy="32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902040" y="3448080"/>
                    <a:ext cx="874800" cy="14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902040" y="3165480"/>
                    <a:ext cx="9720" cy="2826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4768920" y="3165480"/>
                    <a:ext cx="7920" cy="2826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911760" y="3165480"/>
                    <a:ext cx="85716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911760" y="3444840"/>
                    <a:ext cx="85716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911760" y="3168720"/>
                    <a:ext cx="9360" cy="2761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4759200" y="3168720"/>
                    <a:ext cx="9720" cy="2761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921120" y="3168720"/>
                    <a:ext cx="83808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921120" y="3441600"/>
                    <a:ext cx="83808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921120" y="3171960"/>
                    <a:ext cx="7920" cy="2696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4749840" y="3171960"/>
                    <a:ext cx="9360" cy="2696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1" name=""/>
                <p:cNvGrpSpPr/>
                <p:nvPr/>
              </p:nvGrpSpPr>
              <p:grpSpPr>
                <a:xfrm>
                  <a:off x="3484440" y="3025800"/>
                  <a:ext cx="1712880" cy="563400"/>
                  <a:chOff x="3484440" y="3025800"/>
                  <a:chExt cx="1712880" cy="563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3929040" y="3171960"/>
                    <a:ext cx="820800" cy="288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929040" y="3438360"/>
                    <a:ext cx="82080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929040" y="3174840"/>
                    <a:ext cx="9720" cy="26352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4741920" y="3174840"/>
                    <a:ext cx="7920" cy="26352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938760" y="3174840"/>
                    <a:ext cx="803160" cy="180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938760" y="3435480"/>
                    <a:ext cx="803160" cy="288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938760" y="3176640"/>
                    <a:ext cx="7920" cy="2588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4732200" y="3176640"/>
                    <a:ext cx="9720" cy="2588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946680" y="3176640"/>
                    <a:ext cx="785520" cy="324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946680" y="3432240"/>
                    <a:ext cx="785520" cy="324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946680" y="3179880"/>
                    <a:ext cx="9360" cy="25236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4722840" y="3179880"/>
                    <a:ext cx="9360" cy="25236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956040" y="3179880"/>
                    <a:ext cx="766800" cy="288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956040" y="3429000"/>
                    <a:ext cx="766800" cy="3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956040" y="3182760"/>
                    <a:ext cx="9360" cy="246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4714920" y="3182760"/>
                    <a:ext cx="7920" cy="246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65400" y="3182760"/>
                    <a:ext cx="749520" cy="324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65400" y="3427560"/>
                    <a:ext cx="749520" cy="144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65400" y="3186000"/>
                    <a:ext cx="8280" cy="24156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4705200" y="3186000"/>
                    <a:ext cx="9720" cy="24156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3973680" y="3186000"/>
                    <a:ext cx="731520" cy="324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973680" y="3424320"/>
                    <a:ext cx="731520" cy="324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3973680" y="3189240"/>
                    <a:ext cx="9360" cy="23508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697280" y="3189240"/>
                    <a:ext cx="7920" cy="23508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3983040" y="3189240"/>
                    <a:ext cx="714240" cy="324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3983040" y="3421080"/>
                    <a:ext cx="714240" cy="324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3983040" y="3192480"/>
                    <a:ext cx="9360" cy="22860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687920" y="3192480"/>
                    <a:ext cx="9360" cy="22860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3992400" y="3192480"/>
                    <a:ext cx="695520" cy="144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3992400" y="3417840"/>
                    <a:ext cx="695520" cy="324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3992400" y="3193920"/>
                    <a:ext cx="8280" cy="22392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678200" y="3193920"/>
                    <a:ext cx="9720" cy="22392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000680" y="3193920"/>
                    <a:ext cx="677520" cy="32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000680" y="3414600"/>
                    <a:ext cx="677520" cy="32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000680" y="3197160"/>
                    <a:ext cx="9360" cy="2174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670280" y="3197160"/>
                    <a:ext cx="7920" cy="2174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010040" y="3197160"/>
                    <a:ext cx="660240" cy="324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010040" y="3411360"/>
                    <a:ext cx="660240" cy="324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010040" y="3200400"/>
                    <a:ext cx="7920" cy="21096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660920" y="3200400"/>
                    <a:ext cx="9360" cy="21096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017960" y="3200400"/>
                    <a:ext cx="642960" cy="324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017960" y="3408480"/>
                    <a:ext cx="642960" cy="288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017960" y="3203640"/>
                    <a:ext cx="9360" cy="20484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51200" y="3203640"/>
                    <a:ext cx="9720" cy="20484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027320" y="3203640"/>
                    <a:ext cx="623880" cy="324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027320" y="3406680"/>
                    <a:ext cx="623880" cy="180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027320" y="3206880"/>
                    <a:ext cx="9720" cy="19980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643280" y="3206880"/>
                    <a:ext cx="7920" cy="19980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4037040" y="3206880"/>
                    <a:ext cx="606240" cy="288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4037040" y="3403440"/>
                    <a:ext cx="606240" cy="324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4037040" y="3209760"/>
                    <a:ext cx="7920" cy="19368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4633920" y="3209760"/>
                    <a:ext cx="9360" cy="19368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4044960" y="3209760"/>
                    <a:ext cx="588960" cy="180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4044960" y="3400560"/>
                    <a:ext cx="588960" cy="288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4044960" y="3211560"/>
                    <a:ext cx="9360" cy="18900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4626000" y="3211560"/>
                    <a:ext cx="7920" cy="18900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4054320" y="3211560"/>
                    <a:ext cx="571680" cy="324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4054320" y="3397320"/>
                    <a:ext cx="571680" cy="324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4054320" y="3214800"/>
                    <a:ext cx="7920" cy="18252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4616280" y="3214800"/>
                    <a:ext cx="9720" cy="18252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4062240" y="3214800"/>
                    <a:ext cx="554040" cy="32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4062240" y="3394080"/>
                    <a:ext cx="554040" cy="32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4062240" y="3218040"/>
                    <a:ext cx="9720" cy="1760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4606920" y="3218040"/>
                    <a:ext cx="9360" cy="1760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071960" y="3218040"/>
                    <a:ext cx="534960" cy="288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4071960" y="3390840"/>
                    <a:ext cx="534960" cy="324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4071960" y="3220920"/>
                    <a:ext cx="9360" cy="16992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4599000" y="3220920"/>
                    <a:ext cx="7920" cy="16992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4081320" y="3220920"/>
                    <a:ext cx="517680" cy="32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4081320" y="3387600"/>
                    <a:ext cx="517680" cy="32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4081320" y="3224160"/>
                    <a:ext cx="7920" cy="1634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4589640" y="3224160"/>
                    <a:ext cx="9360" cy="1634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4089240" y="3224160"/>
                    <a:ext cx="500400" cy="324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4089240" y="3386160"/>
                    <a:ext cx="500400" cy="144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4089240" y="3227400"/>
                    <a:ext cx="9720" cy="15876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4579920" y="3227400"/>
                    <a:ext cx="9720" cy="15876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4098960" y="3227400"/>
                    <a:ext cx="480960" cy="324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4098960" y="3382920"/>
                    <a:ext cx="480960" cy="324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098960" y="3230640"/>
                    <a:ext cx="9360" cy="15228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572000" y="3230640"/>
                    <a:ext cx="7920" cy="15228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108320" y="3230640"/>
                    <a:ext cx="463680" cy="144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4108320" y="3379680"/>
                    <a:ext cx="463680" cy="324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4108320" y="3232080"/>
                    <a:ext cx="7920" cy="14760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4562640" y="3232080"/>
                    <a:ext cx="9360" cy="14760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116240" y="3232080"/>
                    <a:ext cx="446400" cy="324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116240" y="3376440"/>
                    <a:ext cx="446400" cy="324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116240" y="3235320"/>
                    <a:ext cx="9720" cy="14112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554360" y="3235320"/>
                    <a:ext cx="8280" cy="14112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4125960" y="3235320"/>
                    <a:ext cx="428400" cy="324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4125960" y="3373560"/>
                    <a:ext cx="428400" cy="288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4125960" y="3238560"/>
                    <a:ext cx="7920" cy="13500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4545000" y="3238560"/>
                    <a:ext cx="9360" cy="13500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4133880" y="3238560"/>
                    <a:ext cx="411120" cy="324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4133880" y="3370320"/>
                    <a:ext cx="411120" cy="324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4133880" y="3241800"/>
                    <a:ext cx="9360" cy="12852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4535640" y="3241800"/>
                    <a:ext cx="9360" cy="12852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4143240" y="3241800"/>
                    <a:ext cx="392400" cy="288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4143240" y="3367080"/>
                    <a:ext cx="392400" cy="324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4143240" y="3244680"/>
                    <a:ext cx="9720" cy="12240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4527720" y="3244680"/>
                    <a:ext cx="7920" cy="12240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4152960" y="3244680"/>
                    <a:ext cx="374760" cy="324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4152960" y="3365640"/>
                    <a:ext cx="374760" cy="144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4152960" y="3247920"/>
                    <a:ext cx="7920" cy="11772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4518000" y="3247920"/>
                    <a:ext cx="9720" cy="11772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160880" y="3247920"/>
                    <a:ext cx="357120" cy="180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60880" y="3362400"/>
                    <a:ext cx="357120" cy="324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60880" y="3249720"/>
                    <a:ext cx="9360" cy="11268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4508640" y="3249720"/>
                    <a:ext cx="9360" cy="11268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4170240" y="3249720"/>
                    <a:ext cx="338400" cy="324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4170240" y="3359160"/>
                    <a:ext cx="338400" cy="324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170240" y="3252960"/>
                    <a:ext cx="7920" cy="10620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00720" y="3252960"/>
                    <a:ext cx="7920" cy="10620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178160" y="3252960"/>
                    <a:ext cx="322560" cy="288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4178160" y="3355920"/>
                    <a:ext cx="322560" cy="324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4178160" y="3255840"/>
                    <a:ext cx="9720" cy="10008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4491000" y="3255840"/>
                    <a:ext cx="9720" cy="10008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4187880" y="3255840"/>
                    <a:ext cx="303120" cy="324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4187880" y="3352680"/>
                    <a:ext cx="303120" cy="324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4187880" y="3259080"/>
                    <a:ext cx="9360" cy="9360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4483080" y="3259080"/>
                    <a:ext cx="7920" cy="9360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4197240" y="3259080"/>
                    <a:ext cx="285840" cy="324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197240" y="3349800"/>
                    <a:ext cx="285840" cy="288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197240" y="3262320"/>
                    <a:ext cx="7920" cy="8748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473720" y="3262320"/>
                    <a:ext cx="9360" cy="8748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4205160" y="3262320"/>
                    <a:ext cx="268560" cy="324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205160" y="3346560"/>
                    <a:ext cx="268560" cy="324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4205160" y="3265560"/>
                    <a:ext cx="9720" cy="8100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464000" y="3265560"/>
                    <a:ext cx="9720" cy="8100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214880" y="3265560"/>
                    <a:ext cx="249120" cy="324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4214880" y="3344760"/>
                    <a:ext cx="249120" cy="180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4214880" y="3268800"/>
                    <a:ext cx="9360" cy="7596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4456080" y="3268800"/>
                    <a:ext cx="7920" cy="7596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4224240" y="3268800"/>
                    <a:ext cx="231840" cy="144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4224240" y="3341520"/>
                    <a:ext cx="231840" cy="324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4224240" y="3270240"/>
                    <a:ext cx="7920" cy="7128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4446720" y="3270240"/>
                    <a:ext cx="9360" cy="7128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4232160" y="3270240"/>
                    <a:ext cx="214560" cy="324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4232160" y="3338640"/>
                    <a:ext cx="214560" cy="288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4232160" y="3273480"/>
                    <a:ext cx="9720" cy="6516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4437000" y="3273480"/>
                    <a:ext cx="9720" cy="6516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4241880" y="3273480"/>
                    <a:ext cx="195120" cy="324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4241880" y="3335400"/>
                    <a:ext cx="195120" cy="324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4241880" y="3276720"/>
                    <a:ext cx="7920" cy="5868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4429080" y="3276720"/>
                    <a:ext cx="7920" cy="5868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4249800" y="3276720"/>
                    <a:ext cx="179280" cy="288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4249800" y="3332160"/>
                    <a:ext cx="179280" cy="324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4249800" y="3279600"/>
                    <a:ext cx="9360" cy="5256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419720" y="3279600"/>
                    <a:ext cx="9360" cy="5256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259160" y="3279600"/>
                    <a:ext cx="160560" cy="324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4259160" y="3328920"/>
                    <a:ext cx="160560" cy="324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4259160" y="3282840"/>
                    <a:ext cx="9720" cy="4608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4411800" y="3282840"/>
                    <a:ext cx="7920" cy="4608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4268880" y="3282840"/>
                    <a:ext cx="142920" cy="324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268880" y="3325680"/>
                    <a:ext cx="142920" cy="324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268880" y="3286080"/>
                    <a:ext cx="7920" cy="3960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4402080" y="3286080"/>
                    <a:ext cx="9720" cy="3960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4276800" y="3286080"/>
                    <a:ext cx="125280" cy="180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4276800" y="3324240"/>
                    <a:ext cx="125280" cy="144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4276800" y="3287880"/>
                    <a:ext cx="9360" cy="3636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4392720" y="3287880"/>
                    <a:ext cx="9360" cy="3636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4286160" y="3287880"/>
                    <a:ext cx="106560" cy="288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286160" y="3321000"/>
                    <a:ext cx="106560" cy="3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4286160" y="3290760"/>
                    <a:ext cx="7920" cy="30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4384800" y="3290760"/>
                    <a:ext cx="7920" cy="30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4294080" y="3290760"/>
                    <a:ext cx="90720" cy="324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4294080" y="3317760"/>
                    <a:ext cx="90720" cy="324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4294080" y="3294000"/>
                    <a:ext cx="9720" cy="2376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4375080" y="3294000"/>
                    <a:ext cx="9720" cy="2376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4303800" y="3294000"/>
                    <a:ext cx="71280" cy="324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4303800" y="3314880"/>
                    <a:ext cx="71280" cy="288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4303800" y="3297240"/>
                    <a:ext cx="9360" cy="1764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4365720" y="3297240"/>
                    <a:ext cx="9360" cy="1764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4313160" y="3297240"/>
                    <a:ext cx="52560" cy="324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4313160" y="3311640"/>
                    <a:ext cx="52560" cy="324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4313160" y="3300480"/>
                    <a:ext cx="7920" cy="1116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4357800" y="3300480"/>
                    <a:ext cx="7920" cy="1116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4321080" y="3300480"/>
                    <a:ext cx="36720" cy="324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4321080" y="3308400"/>
                    <a:ext cx="36720" cy="324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4321080" y="3303720"/>
                    <a:ext cx="9720" cy="468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4348080" y="3303720"/>
                    <a:ext cx="9720" cy="468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330800" y="3303720"/>
                    <a:ext cx="1728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4330800" y="3306600"/>
                    <a:ext cx="17280" cy="180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4330800" y="3305160"/>
                    <a:ext cx="792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4340160" y="3305160"/>
                    <a:ext cx="792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4338720" y="3305160"/>
                    <a:ext cx="144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3484440" y="3025800"/>
                    <a:ext cx="171144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8" h="354">
                        <a:moveTo>
                          <a:pt x="134" y="0"/>
                        </a:moveTo>
                        <a:lnTo>
                          <a:pt x="122" y="0"/>
                        </a:lnTo>
                        <a:lnTo>
                          <a:pt x="110" y="3"/>
                        </a:lnTo>
                        <a:lnTo>
                          <a:pt x="85" y="11"/>
                        </a:lnTo>
                        <a:lnTo>
                          <a:pt x="42" y="41"/>
                        </a:lnTo>
                        <a:lnTo>
                          <a:pt x="12" y="84"/>
                        </a:lnTo>
                        <a:lnTo>
                          <a:pt x="4" y="108"/>
                        </a:lnTo>
                        <a:lnTo>
                          <a:pt x="0" y="133"/>
                        </a:lnTo>
                        <a:lnTo>
                          <a:pt x="0" y="221"/>
                        </a:lnTo>
                        <a:lnTo>
                          <a:pt x="11" y="269"/>
                        </a:lnTo>
                        <a:lnTo>
                          <a:pt x="42" y="312"/>
                        </a:lnTo>
                        <a:lnTo>
                          <a:pt x="84" y="342"/>
                        </a:lnTo>
                        <a:lnTo>
                          <a:pt x="108" y="350"/>
                        </a:lnTo>
                        <a:lnTo>
                          <a:pt x="134" y="354"/>
                        </a:lnTo>
                        <a:lnTo>
                          <a:pt x="944" y="354"/>
                        </a:lnTo>
                        <a:lnTo>
                          <a:pt x="993" y="343"/>
                        </a:lnTo>
                        <a:lnTo>
                          <a:pt x="1036" y="313"/>
                        </a:lnTo>
                        <a:lnTo>
                          <a:pt x="1066" y="270"/>
                        </a:lnTo>
                        <a:lnTo>
                          <a:pt x="1074" y="246"/>
                        </a:lnTo>
                        <a:lnTo>
                          <a:pt x="1078" y="221"/>
                        </a:lnTo>
                        <a:lnTo>
                          <a:pt x="1078" y="133"/>
                        </a:lnTo>
                        <a:lnTo>
                          <a:pt x="1078" y="121"/>
                        </a:lnTo>
                        <a:lnTo>
                          <a:pt x="1075" y="109"/>
                        </a:lnTo>
                        <a:lnTo>
                          <a:pt x="1067" y="85"/>
                        </a:lnTo>
                        <a:lnTo>
                          <a:pt x="1037" y="42"/>
                        </a:lnTo>
                        <a:lnTo>
                          <a:pt x="994" y="12"/>
                        </a:lnTo>
                        <a:lnTo>
                          <a:pt x="970" y="4"/>
                        </a:lnTo>
                        <a:lnTo>
                          <a:pt x="944" y="0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3484440" y="3025800"/>
                    <a:ext cx="171144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8" h="354">
                        <a:moveTo>
                          <a:pt x="134" y="0"/>
                        </a:moveTo>
                        <a:lnTo>
                          <a:pt x="122" y="0"/>
                        </a:lnTo>
                        <a:lnTo>
                          <a:pt x="110" y="3"/>
                        </a:lnTo>
                        <a:lnTo>
                          <a:pt x="85" y="11"/>
                        </a:lnTo>
                        <a:lnTo>
                          <a:pt x="42" y="41"/>
                        </a:lnTo>
                        <a:lnTo>
                          <a:pt x="12" y="84"/>
                        </a:lnTo>
                        <a:lnTo>
                          <a:pt x="4" y="108"/>
                        </a:lnTo>
                        <a:lnTo>
                          <a:pt x="0" y="133"/>
                        </a:lnTo>
                        <a:lnTo>
                          <a:pt x="0" y="221"/>
                        </a:lnTo>
                        <a:lnTo>
                          <a:pt x="11" y="269"/>
                        </a:lnTo>
                        <a:lnTo>
                          <a:pt x="42" y="312"/>
                        </a:lnTo>
                        <a:lnTo>
                          <a:pt x="84" y="342"/>
                        </a:lnTo>
                        <a:lnTo>
                          <a:pt x="108" y="350"/>
                        </a:lnTo>
                        <a:lnTo>
                          <a:pt x="134" y="354"/>
                        </a:lnTo>
                        <a:lnTo>
                          <a:pt x="944" y="354"/>
                        </a:lnTo>
                        <a:lnTo>
                          <a:pt x="993" y="343"/>
                        </a:lnTo>
                        <a:lnTo>
                          <a:pt x="1036" y="313"/>
                        </a:lnTo>
                        <a:lnTo>
                          <a:pt x="1066" y="270"/>
                        </a:lnTo>
                        <a:lnTo>
                          <a:pt x="1074" y="246"/>
                        </a:lnTo>
                        <a:lnTo>
                          <a:pt x="1078" y="221"/>
                        </a:lnTo>
                        <a:lnTo>
                          <a:pt x="1078" y="133"/>
                        </a:lnTo>
                        <a:lnTo>
                          <a:pt x="1078" y="121"/>
                        </a:lnTo>
                        <a:lnTo>
                          <a:pt x="1075" y="109"/>
                        </a:lnTo>
                        <a:lnTo>
                          <a:pt x="1067" y="85"/>
                        </a:lnTo>
                        <a:lnTo>
                          <a:pt x="1037" y="42"/>
                        </a:lnTo>
                        <a:lnTo>
                          <a:pt x="994" y="12"/>
                        </a:lnTo>
                        <a:lnTo>
                          <a:pt x="970" y="4"/>
                        </a:lnTo>
                        <a:lnTo>
                          <a:pt x="944" y="0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3484440" y="3025800"/>
                    <a:ext cx="1712880" cy="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3484440" y="3586320"/>
                    <a:ext cx="1712880" cy="28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3484440" y="3027240"/>
                    <a:ext cx="7920" cy="5590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5187960" y="3027240"/>
                    <a:ext cx="9360" cy="5590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3492360" y="3027240"/>
                    <a:ext cx="16956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3492360" y="3583080"/>
                    <a:ext cx="16956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3492360" y="3030480"/>
                    <a:ext cx="9720" cy="55260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178600" y="3030480"/>
                    <a:ext cx="9360" cy="55260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502080" y="3030480"/>
                    <a:ext cx="16765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3502080" y="3579840"/>
                    <a:ext cx="16765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3502080" y="3033720"/>
                    <a:ext cx="7920" cy="5461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5170320" y="3033720"/>
                    <a:ext cx="8280" cy="5461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3510000" y="3033720"/>
                    <a:ext cx="16603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2" name=""/>
                <p:cNvGrpSpPr/>
                <p:nvPr/>
              </p:nvGrpSpPr>
              <p:grpSpPr>
                <a:xfrm>
                  <a:off x="3510000" y="3036960"/>
                  <a:ext cx="1660320" cy="542880"/>
                  <a:chOff x="3510000" y="3036960"/>
                  <a:chExt cx="1660320" cy="54288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3510000" y="3576600"/>
                    <a:ext cx="166032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3510000" y="3036960"/>
                    <a:ext cx="9360" cy="5396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5160960" y="3036960"/>
                    <a:ext cx="9360" cy="5396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3519360" y="3036960"/>
                    <a:ext cx="16416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3519360" y="3573360"/>
                    <a:ext cx="16416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3519360" y="3040200"/>
                    <a:ext cx="9720" cy="53316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5151600" y="3040200"/>
                    <a:ext cx="9360" cy="53316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3529080" y="3040200"/>
                    <a:ext cx="1622520" cy="288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3529080" y="3570120"/>
                    <a:ext cx="162252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3529080" y="3043080"/>
                    <a:ext cx="7920" cy="5270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5143680" y="3043080"/>
                    <a:ext cx="7920" cy="5270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3537000" y="3043080"/>
                    <a:ext cx="1606680" cy="1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3537000" y="3568680"/>
                    <a:ext cx="1606680" cy="144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3537000" y="3044880"/>
                    <a:ext cx="9360" cy="523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5133960" y="3044880"/>
                    <a:ext cx="9720" cy="5238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3546360" y="3044880"/>
                    <a:ext cx="158760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3546360" y="3565440"/>
                    <a:ext cx="158760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3546360" y="3048120"/>
                    <a:ext cx="7920" cy="51732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5126040" y="3048120"/>
                    <a:ext cx="7920" cy="51732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3554280" y="3048120"/>
                    <a:ext cx="1571760" cy="28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3554280" y="3562200"/>
                    <a:ext cx="157176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3554280" y="3051000"/>
                    <a:ext cx="9720" cy="51120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5116680" y="3051000"/>
                    <a:ext cx="9360" cy="51120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3564000" y="3051000"/>
                    <a:ext cx="155268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3564000" y="3559320"/>
                    <a:ext cx="1552680" cy="28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3564000" y="3054240"/>
                    <a:ext cx="9360" cy="5050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5106960" y="3054240"/>
                    <a:ext cx="9720" cy="5050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3573360" y="3054240"/>
                    <a:ext cx="153360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3573360" y="3556080"/>
                    <a:ext cx="153360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3573360" y="3057480"/>
                    <a:ext cx="7920" cy="49860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5099040" y="3057480"/>
                    <a:ext cx="7920" cy="49860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3581280" y="3057480"/>
                    <a:ext cx="151776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3581280" y="3552840"/>
                    <a:ext cx="151776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3581280" y="3060720"/>
                    <a:ext cx="9720" cy="49212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5089680" y="3060720"/>
                    <a:ext cx="9360" cy="49212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3591000" y="3060720"/>
                    <a:ext cx="1498680" cy="1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3591000" y="3549600"/>
                    <a:ext cx="1498680" cy="32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3591000" y="3062160"/>
                    <a:ext cx="792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5079960" y="3062160"/>
                    <a:ext cx="972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3598920" y="3062160"/>
                    <a:ext cx="1481040" cy="324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3598920" y="3548160"/>
                    <a:ext cx="1481040" cy="144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3598920" y="3065400"/>
                    <a:ext cx="9360" cy="48276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5072040" y="3065400"/>
                    <a:ext cx="7920" cy="48276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3608280" y="3065400"/>
                    <a:ext cx="146376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3608280" y="3544920"/>
                    <a:ext cx="146376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3608280" y="3068640"/>
                    <a:ext cx="9720" cy="4762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5062680" y="3068640"/>
                    <a:ext cx="9360" cy="47628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3618000" y="3068640"/>
                    <a:ext cx="144468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3618000" y="3541680"/>
                    <a:ext cx="144468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3618000" y="3071880"/>
                    <a:ext cx="7920" cy="4698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5054760" y="3071880"/>
                    <a:ext cx="7920" cy="4698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3625920" y="3071880"/>
                    <a:ext cx="142884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3625920" y="3538440"/>
                    <a:ext cx="142884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3625920" y="3075120"/>
                    <a:ext cx="9360" cy="46332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5045040" y="3075120"/>
                    <a:ext cx="9720" cy="46332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3635280" y="3075120"/>
                    <a:ext cx="1409760" cy="288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3635280" y="3535200"/>
                    <a:ext cx="140976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3635280" y="3078000"/>
                    <a:ext cx="9720" cy="45720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035680" y="3078000"/>
                    <a:ext cx="9360" cy="45720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3645000" y="3078000"/>
                    <a:ext cx="1390680" cy="324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3645000" y="3532320"/>
                    <a:ext cx="1390680" cy="288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3645000" y="3081240"/>
                    <a:ext cx="7920" cy="45108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5027760" y="3081240"/>
                    <a:ext cx="7920" cy="45108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3652920" y="3081240"/>
                    <a:ext cx="1374840" cy="180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3652920" y="3529080"/>
                    <a:ext cx="1374840" cy="32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3652920" y="3083040"/>
                    <a:ext cx="9360" cy="4460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5018040" y="3083040"/>
                    <a:ext cx="9720" cy="4460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3662280" y="3083040"/>
                    <a:ext cx="1355760" cy="324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3662280" y="3527280"/>
                    <a:ext cx="1355760" cy="1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662280" y="3086280"/>
                    <a:ext cx="7920" cy="4410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5008680" y="3086280"/>
                    <a:ext cx="9360" cy="4410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3670200" y="3086280"/>
                    <a:ext cx="1338480" cy="2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3670200" y="3524400"/>
                    <a:ext cx="1338480" cy="2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670200" y="3089160"/>
                    <a:ext cx="9720" cy="435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5000760" y="3089160"/>
                    <a:ext cx="7920" cy="435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679920" y="3089160"/>
                    <a:ext cx="132084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3679920" y="3521160"/>
                    <a:ext cx="132084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3679920" y="3092400"/>
                    <a:ext cx="9360" cy="42876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4991040" y="3092400"/>
                    <a:ext cx="9720" cy="42876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689280" y="3092400"/>
                    <a:ext cx="130176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689280" y="3517920"/>
                    <a:ext cx="130176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689280" y="3095640"/>
                    <a:ext cx="7920" cy="4222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4983120" y="3095640"/>
                    <a:ext cx="7920" cy="42228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3697200" y="3095640"/>
                    <a:ext cx="1285920" cy="324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3697200" y="3514680"/>
                    <a:ext cx="1285920" cy="324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3697200" y="3098880"/>
                    <a:ext cx="9720" cy="41580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973760" y="3098880"/>
                    <a:ext cx="9360" cy="41580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3706920" y="3098880"/>
                    <a:ext cx="1266840" cy="14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3706920" y="3511440"/>
                    <a:ext cx="1266840" cy="32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3706920" y="3100320"/>
                    <a:ext cx="792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4964040" y="3100320"/>
                    <a:ext cx="972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3714840" y="3100320"/>
                    <a:ext cx="124920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3714840" y="3508200"/>
                    <a:ext cx="124920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3714840" y="3103560"/>
                    <a:ext cx="936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4956120" y="3103560"/>
                    <a:ext cx="792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3724200" y="3103560"/>
                    <a:ext cx="1231920" cy="32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3724200" y="3506760"/>
                    <a:ext cx="1231920" cy="14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724200" y="3106800"/>
                    <a:ext cx="9720" cy="3999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4946760" y="3106800"/>
                    <a:ext cx="9360" cy="3999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733920" y="3106800"/>
                    <a:ext cx="121284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733920" y="3503520"/>
                    <a:ext cx="121284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733920" y="3110040"/>
                    <a:ext cx="7920" cy="3934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4937040" y="3110040"/>
                    <a:ext cx="9720" cy="3934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3741840" y="3110040"/>
                    <a:ext cx="1195200" cy="288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3741840" y="3500280"/>
                    <a:ext cx="119520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41840" y="3112920"/>
                    <a:ext cx="9360" cy="38736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4929120" y="3112920"/>
                    <a:ext cx="7920" cy="38736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51200" y="3112920"/>
                    <a:ext cx="1177920" cy="3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3751200" y="3497400"/>
                    <a:ext cx="1177920" cy="28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3751200" y="3116160"/>
                    <a:ext cx="9720" cy="381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4919760" y="3116160"/>
                    <a:ext cx="9360" cy="381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3760920" y="3116160"/>
                    <a:ext cx="1158840" cy="18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3760920" y="3494160"/>
                    <a:ext cx="1158840" cy="324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3760920" y="3117960"/>
                    <a:ext cx="7920" cy="3762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4911840" y="3117960"/>
                    <a:ext cx="7920" cy="3762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3768840" y="3117960"/>
                    <a:ext cx="114300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3768840" y="3490920"/>
                    <a:ext cx="114300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3768840" y="3121200"/>
                    <a:ext cx="9360" cy="36972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902120" y="3121200"/>
                    <a:ext cx="9720" cy="36972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3778200" y="3121200"/>
                    <a:ext cx="1123920" cy="288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3778200" y="3487680"/>
                    <a:ext cx="1123920" cy="324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3778200" y="3124080"/>
                    <a:ext cx="792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4892760" y="3124080"/>
                    <a:ext cx="93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786120" y="3124080"/>
                    <a:ext cx="1106640" cy="324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3786120" y="3486240"/>
                    <a:ext cx="1106640" cy="144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786120" y="3127320"/>
                    <a:ext cx="9720" cy="35892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4884840" y="3127320"/>
                    <a:ext cx="7920" cy="35892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3795840" y="3127320"/>
                    <a:ext cx="108900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3795840" y="3483000"/>
                    <a:ext cx="108900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3795840" y="3130560"/>
                    <a:ext cx="9360" cy="3524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4875120" y="3130560"/>
                    <a:ext cx="9720" cy="3524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3805200" y="3130560"/>
                    <a:ext cx="106992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3805200" y="3479760"/>
                    <a:ext cx="106992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3805200" y="3133800"/>
                    <a:ext cx="7920" cy="3459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4865760" y="3133800"/>
                    <a:ext cx="9360" cy="3459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3813120" y="3133800"/>
                    <a:ext cx="105264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3813120" y="3476520"/>
                    <a:ext cx="105264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3813120" y="3137040"/>
                    <a:ext cx="9720" cy="3394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4857840" y="3137040"/>
                    <a:ext cx="7920" cy="3394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822840" y="3137040"/>
                    <a:ext cx="1035000" cy="14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822840" y="3473280"/>
                    <a:ext cx="1035000" cy="32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3822840" y="3138480"/>
                    <a:ext cx="792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4848120" y="3138480"/>
                    <a:ext cx="972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3830760" y="3138480"/>
                    <a:ext cx="1017360" cy="324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3830760" y="3470400"/>
                    <a:ext cx="1017360" cy="28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830760" y="3141720"/>
                    <a:ext cx="9360" cy="3286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4840200" y="3141720"/>
                    <a:ext cx="7920" cy="3286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3840120" y="3141720"/>
                    <a:ext cx="1000080" cy="324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3840120" y="3467160"/>
                    <a:ext cx="1000080" cy="324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3840120" y="3144960"/>
                    <a:ext cx="9720" cy="32220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4830840" y="3144960"/>
                    <a:ext cx="9360" cy="32220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3849840" y="3144960"/>
                    <a:ext cx="981000" cy="288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3849840" y="3465360"/>
                    <a:ext cx="981000" cy="180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3849840" y="3147840"/>
                    <a:ext cx="7920" cy="31752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4821120" y="3147840"/>
                    <a:ext cx="9720" cy="31752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3857760" y="3147840"/>
                    <a:ext cx="963360" cy="32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3857760" y="3462480"/>
                    <a:ext cx="963360" cy="288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3857760" y="3151080"/>
                    <a:ext cx="9360" cy="31140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813200" y="3151080"/>
                    <a:ext cx="7920" cy="31140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3867120" y="3151080"/>
                    <a:ext cx="94608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3867120" y="3459240"/>
                    <a:ext cx="94608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3867120" y="3154320"/>
                    <a:ext cx="9720" cy="30492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4803840" y="3154320"/>
                    <a:ext cx="9360" cy="30492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3876840" y="3154320"/>
                    <a:ext cx="927000" cy="180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3876840" y="3456000"/>
                    <a:ext cx="927000" cy="3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876840" y="3156120"/>
                    <a:ext cx="7920" cy="299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4794120" y="3156120"/>
                    <a:ext cx="9720" cy="299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3884760" y="3156120"/>
                    <a:ext cx="909360" cy="288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3884760" y="3452760"/>
                    <a:ext cx="909360" cy="324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3884760" y="3159000"/>
                    <a:ext cx="936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786200" y="3159000"/>
                    <a:ext cx="792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894120" y="3159000"/>
                    <a:ext cx="89208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894120" y="3449520"/>
                    <a:ext cx="89208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3894120" y="3162240"/>
                    <a:ext cx="792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4776840" y="3162240"/>
                    <a:ext cx="93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3902040" y="3162240"/>
                    <a:ext cx="874800" cy="32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3902040" y="3448080"/>
                    <a:ext cx="874800" cy="14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3902040" y="3165480"/>
                    <a:ext cx="9720" cy="2826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768920" y="3165480"/>
                    <a:ext cx="7920" cy="2826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3911760" y="3165480"/>
                    <a:ext cx="85716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3911760" y="3444840"/>
                    <a:ext cx="85716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3911760" y="3168720"/>
                    <a:ext cx="9360" cy="2761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4759200" y="3168720"/>
                    <a:ext cx="9720" cy="2761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921120" y="3168720"/>
                    <a:ext cx="83808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921120" y="3441600"/>
                    <a:ext cx="83808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3921120" y="3171960"/>
                    <a:ext cx="7920" cy="2696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4749840" y="3171960"/>
                    <a:ext cx="9360" cy="2696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929040" y="3171960"/>
                    <a:ext cx="820800" cy="288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929040" y="3438360"/>
                    <a:ext cx="82080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929040" y="3174840"/>
                    <a:ext cx="9720" cy="26352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4741920" y="3174840"/>
                    <a:ext cx="7920" cy="26352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938760" y="3174840"/>
                    <a:ext cx="803160" cy="180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938760" y="3435480"/>
                    <a:ext cx="803160" cy="288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938760" y="3176640"/>
                    <a:ext cx="7920" cy="2588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4732200" y="3176640"/>
                    <a:ext cx="9720" cy="2588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946680" y="3176640"/>
                    <a:ext cx="785520" cy="324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946680" y="3432240"/>
                    <a:ext cx="785520" cy="324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946680" y="3179880"/>
                    <a:ext cx="9360" cy="25236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4722840" y="3179880"/>
                    <a:ext cx="9360" cy="25236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3956040" y="3179880"/>
                    <a:ext cx="766800" cy="288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3" name=""/>
                <p:cNvSpPr/>
                <p:nvPr/>
              </p:nvSpPr>
              <p:spPr>
                <a:xfrm>
                  <a:off x="3956040" y="3429000"/>
                  <a:ext cx="766800" cy="3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956040" y="3182760"/>
                  <a:ext cx="9360" cy="246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4714920" y="3182760"/>
                  <a:ext cx="7920" cy="246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965400" y="3182760"/>
                  <a:ext cx="749520" cy="324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965400" y="3427560"/>
                  <a:ext cx="749520" cy="144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965400" y="3186000"/>
                  <a:ext cx="8280" cy="24156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4705200" y="3186000"/>
                  <a:ext cx="9720" cy="24156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973680" y="3186000"/>
                  <a:ext cx="731520" cy="324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973680" y="3424320"/>
                  <a:ext cx="731520" cy="324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973680" y="3189240"/>
                  <a:ext cx="9360" cy="23508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697280" y="3189240"/>
                  <a:ext cx="7920" cy="23508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983040" y="3189240"/>
                  <a:ext cx="714240" cy="324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983040" y="3421080"/>
                  <a:ext cx="714240" cy="324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983040" y="3192480"/>
                  <a:ext cx="9360" cy="22860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4687920" y="3192480"/>
                  <a:ext cx="9360" cy="22860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992400" y="3192480"/>
                  <a:ext cx="695520" cy="144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992400" y="3417840"/>
                  <a:ext cx="695520" cy="324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992400" y="3193920"/>
                  <a:ext cx="8280" cy="22392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4678200" y="3193920"/>
                  <a:ext cx="9720" cy="22392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4000680" y="3193920"/>
                  <a:ext cx="677520" cy="32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4000680" y="3414600"/>
                  <a:ext cx="677520" cy="32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4000680" y="3197160"/>
                  <a:ext cx="9360" cy="2174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4670280" y="3197160"/>
                  <a:ext cx="7920" cy="2174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010040" y="3197160"/>
                  <a:ext cx="660240" cy="324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4010040" y="3411360"/>
                  <a:ext cx="660240" cy="324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4010040" y="3200400"/>
                  <a:ext cx="7920" cy="21096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4660920" y="3200400"/>
                  <a:ext cx="9360" cy="21096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017960" y="3200400"/>
                  <a:ext cx="642960" cy="324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017960" y="3408480"/>
                  <a:ext cx="642960" cy="288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4017960" y="3203640"/>
                  <a:ext cx="9360" cy="20484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4651200" y="3203640"/>
                  <a:ext cx="9720" cy="20484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4027320" y="3203640"/>
                  <a:ext cx="623880" cy="324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4027320" y="3406680"/>
                  <a:ext cx="623880" cy="180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4027320" y="3206880"/>
                  <a:ext cx="9720" cy="19980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4643280" y="3206880"/>
                  <a:ext cx="7920" cy="19980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4037040" y="3206880"/>
                  <a:ext cx="606240" cy="288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4037040" y="3403440"/>
                  <a:ext cx="606240" cy="324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037040" y="3209760"/>
                  <a:ext cx="7920" cy="19368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4633920" y="3209760"/>
                  <a:ext cx="9360" cy="19368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044960" y="3209760"/>
                  <a:ext cx="588960" cy="180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4044960" y="3400560"/>
                  <a:ext cx="588960" cy="288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4044960" y="3211560"/>
                  <a:ext cx="9360" cy="18900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4626000" y="3211560"/>
                  <a:ext cx="7920" cy="18900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4054320" y="3211560"/>
                  <a:ext cx="571680" cy="324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054320" y="3397320"/>
                  <a:ext cx="571680" cy="324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054320" y="3214800"/>
                  <a:ext cx="7920" cy="18252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616280" y="3214800"/>
                  <a:ext cx="9720" cy="18252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4062240" y="3214800"/>
                  <a:ext cx="554040" cy="32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4062240" y="3394080"/>
                  <a:ext cx="554040" cy="32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4062240" y="3218040"/>
                  <a:ext cx="9720" cy="1760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4606920" y="3218040"/>
                  <a:ext cx="9360" cy="1760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4071960" y="3218040"/>
                  <a:ext cx="534960" cy="288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4071960" y="3390840"/>
                  <a:ext cx="534960" cy="324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4071960" y="3220920"/>
                  <a:ext cx="9360" cy="16992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4599000" y="3220920"/>
                  <a:ext cx="7920" cy="16992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4081320" y="3220920"/>
                  <a:ext cx="517680" cy="32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4081320" y="3387600"/>
                  <a:ext cx="517680" cy="32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4081320" y="3224160"/>
                  <a:ext cx="7920" cy="1634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4589640" y="3224160"/>
                  <a:ext cx="9360" cy="1634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4089240" y="3224160"/>
                  <a:ext cx="500400" cy="324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4089240" y="3386160"/>
                  <a:ext cx="500400" cy="144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4089240" y="3227400"/>
                  <a:ext cx="9720" cy="15876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4579920" y="3227400"/>
                  <a:ext cx="9720" cy="15876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4098960" y="3227400"/>
                  <a:ext cx="480960" cy="324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4098960" y="3382920"/>
                  <a:ext cx="480960" cy="324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098960" y="3230640"/>
                  <a:ext cx="9360" cy="15228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4572000" y="3230640"/>
                  <a:ext cx="7920" cy="15228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108320" y="3230640"/>
                  <a:ext cx="463680" cy="144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108320" y="3379680"/>
                  <a:ext cx="463680" cy="324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4108320" y="3232080"/>
                  <a:ext cx="7920" cy="14760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562640" y="3232080"/>
                  <a:ext cx="9360" cy="14760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4116240" y="3232080"/>
                  <a:ext cx="446400" cy="324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4116240" y="3376440"/>
                  <a:ext cx="446400" cy="324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116240" y="3235320"/>
                  <a:ext cx="9720" cy="14112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4554360" y="3235320"/>
                  <a:ext cx="8280" cy="14112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4125960" y="3235320"/>
                  <a:ext cx="428400" cy="324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4125960" y="3373560"/>
                  <a:ext cx="428400" cy="288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4125960" y="3238560"/>
                  <a:ext cx="7920" cy="13500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4545000" y="3238560"/>
                  <a:ext cx="9360" cy="13500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4133880" y="3238560"/>
                  <a:ext cx="411120" cy="324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4133880" y="3370320"/>
                  <a:ext cx="411120" cy="324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4133880" y="3241800"/>
                  <a:ext cx="9360" cy="12852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4535640" y="3241800"/>
                  <a:ext cx="9360" cy="12852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143240" y="3241800"/>
                  <a:ext cx="392400" cy="288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143240" y="3367080"/>
                  <a:ext cx="392400" cy="324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143240" y="3244680"/>
                  <a:ext cx="9720" cy="12240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527720" y="3244680"/>
                  <a:ext cx="7920" cy="12240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52960" y="3244680"/>
                  <a:ext cx="374760" cy="324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52960" y="3365640"/>
                  <a:ext cx="374760" cy="144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52960" y="3247920"/>
                  <a:ext cx="7920" cy="11772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518000" y="3247920"/>
                  <a:ext cx="9720" cy="11772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160880" y="3247920"/>
                  <a:ext cx="357120" cy="180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160880" y="3362400"/>
                  <a:ext cx="357120" cy="324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160880" y="3249720"/>
                  <a:ext cx="9360" cy="11268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508640" y="3249720"/>
                  <a:ext cx="9360" cy="11268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170240" y="3249720"/>
                  <a:ext cx="338400" cy="324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170240" y="3359160"/>
                  <a:ext cx="338400" cy="324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170240" y="3252960"/>
                  <a:ext cx="7920" cy="10620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500720" y="3252960"/>
                  <a:ext cx="7920" cy="10620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178160" y="3252960"/>
                  <a:ext cx="322560" cy="288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178160" y="3355920"/>
                  <a:ext cx="322560" cy="324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178160" y="3255840"/>
                  <a:ext cx="9720" cy="10008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491000" y="3255840"/>
                  <a:ext cx="9720" cy="10008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187880" y="3255840"/>
                  <a:ext cx="303120" cy="324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187880" y="3352680"/>
                  <a:ext cx="303120" cy="324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187880" y="3259080"/>
                  <a:ext cx="9360" cy="9360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483080" y="3259080"/>
                  <a:ext cx="7920" cy="9360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4197240" y="3259080"/>
                  <a:ext cx="285840" cy="324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4197240" y="3349800"/>
                  <a:ext cx="285840" cy="288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4197240" y="3262320"/>
                  <a:ext cx="7920" cy="8748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4473720" y="3262320"/>
                  <a:ext cx="9360" cy="8748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205160" y="3262320"/>
                  <a:ext cx="268560" cy="324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4205160" y="3346560"/>
                  <a:ext cx="268560" cy="324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4205160" y="3265560"/>
                  <a:ext cx="9720" cy="8100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4464000" y="3265560"/>
                  <a:ext cx="9720" cy="8100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4214880" y="3265560"/>
                  <a:ext cx="249120" cy="324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4214880" y="3344760"/>
                  <a:ext cx="249120" cy="180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4214880" y="3268800"/>
                  <a:ext cx="9360" cy="7596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4456080" y="3268800"/>
                  <a:ext cx="7920" cy="7596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4224240" y="3268800"/>
                  <a:ext cx="231840" cy="144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4224240" y="3341520"/>
                  <a:ext cx="231840" cy="324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4224240" y="3270240"/>
                  <a:ext cx="7920" cy="7128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446720" y="3270240"/>
                  <a:ext cx="9360" cy="7128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232160" y="3270240"/>
                  <a:ext cx="214560" cy="324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232160" y="3338640"/>
                  <a:ext cx="214560" cy="288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232160" y="3273480"/>
                  <a:ext cx="9720" cy="6516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437000" y="3273480"/>
                  <a:ext cx="9720" cy="6516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241880" y="3273480"/>
                  <a:ext cx="195120" cy="324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241880" y="3335400"/>
                  <a:ext cx="195120" cy="324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241880" y="3276720"/>
                  <a:ext cx="7920" cy="5868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429080" y="3276720"/>
                  <a:ext cx="7920" cy="5868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249800" y="3276720"/>
                  <a:ext cx="179280" cy="288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249800" y="3332160"/>
                  <a:ext cx="179280" cy="324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4249800" y="3279600"/>
                  <a:ext cx="9360" cy="5256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4419720" y="3279600"/>
                  <a:ext cx="9360" cy="5256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4259160" y="3279600"/>
                  <a:ext cx="160560" cy="324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4259160" y="3328920"/>
                  <a:ext cx="160560" cy="324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4259160" y="3282840"/>
                  <a:ext cx="9720" cy="4608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4411800" y="3282840"/>
                  <a:ext cx="7920" cy="4608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4268880" y="3282840"/>
                  <a:ext cx="142920" cy="324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4268880" y="3325680"/>
                  <a:ext cx="142920" cy="324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4268880" y="3286080"/>
                  <a:ext cx="7920" cy="3960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4402080" y="3286080"/>
                  <a:ext cx="9720" cy="3960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4276800" y="3286080"/>
                  <a:ext cx="125280" cy="180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4276800" y="3324240"/>
                  <a:ext cx="125280" cy="144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4276800" y="3287880"/>
                  <a:ext cx="9360" cy="3636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4392720" y="3287880"/>
                  <a:ext cx="9360" cy="3636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4286160" y="3287880"/>
                  <a:ext cx="106560" cy="288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4286160" y="3321000"/>
                  <a:ext cx="106560" cy="3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4286160" y="3290760"/>
                  <a:ext cx="7920" cy="30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4384800" y="3290760"/>
                  <a:ext cx="7920" cy="30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4294080" y="3290760"/>
                  <a:ext cx="90720" cy="324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4294080" y="3317760"/>
                  <a:ext cx="90720" cy="324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4294080" y="3294000"/>
                  <a:ext cx="9720" cy="2376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4375080" y="3294000"/>
                  <a:ext cx="9720" cy="2376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303800" y="3294000"/>
                  <a:ext cx="71280" cy="324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303800" y="3314880"/>
                  <a:ext cx="71280" cy="288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303800" y="3297240"/>
                  <a:ext cx="9360" cy="1764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365720" y="3297240"/>
                  <a:ext cx="9360" cy="1764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313160" y="3297240"/>
                  <a:ext cx="52560" cy="324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313160" y="3311640"/>
                  <a:ext cx="52560" cy="324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313160" y="3300480"/>
                  <a:ext cx="7920" cy="1116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357800" y="3300480"/>
                  <a:ext cx="7920" cy="1116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321080" y="3300480"/>
                  <a:ext cx="36720" cy="324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321080" y="3308400"/>
                  <a:ext cx="36720" cy="324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321080" y="3303720"/>
                  <a:ext cx="9720" cy="468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348080" y="3303720"/>
                  <a:ext cx="9720" cy="468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330800" y="3303720"/>
                  <a:ext cx="1728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30800" y="3306600"/>
                  <a:ext cx="17280" cy="180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330800" y="3305160"/>
                  <a:ext cx="792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340160" y="3305160"/>
                  <a:ext cx="792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338720" y="3305160"/>
                  <a:ext cx="144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5" name=""/>
              <p:cNvSpPr/>
              <p:nvPr/>
            </p:nvSpPr>
            <p:spPr>
              <a:xfrm>
                <a:off x="3484440" y="3025800"/>
                <a:ext cx="1711440" cy="561960"/>
              </a:xfrm>
              <a:custGeom>
                <a:avLst/>
                <a:gdLst/>
                <a:ahLst/>
                <a:rect l="l" t="t" r="r" b="b"/>
                <a:pathLst>
                  <a:path w="1078" h="354">
                    <a:moveTo>
                      <a:pt x="134" y="0"/>
                    </a:moveTo>
                    <a:lnTo>
                      <a:pt x="122" y="0"/>
                    </a:lnTo>
                    <a:lnTo>
                      <a:pt x="110" y="3"/>
                    </a:lnTo>
                    <a:lnTo>
                      <a:pt x="85" y="11"/>
                    </a:lnTo>
                    <a:lnTo>
                      <a:pt x="42" y="41"/>
                    </a:lnTo>
                    <a:lnTo>
                      <a:pt x="12" y="84"/>
                    </a:lnTo>
                    <a:lnTo>
                      <a:pt x="4" y="108"/>
                    </a:lnTo>
                    <a:lnTo>
                      <a:pt x="0" y="133"/>
                    </a:lnTo>
                    <a:lnTo>
                      <a:pt x="0" y="221"/>
                    </a:lnTo>
                    <a:lnTo>
                      <a:pt x="11" y="269"/>
                    </a:lnTo>
                    <a:lnTo>
                      <a:pt x="42" y="312"/>
                    </a:lnTo>
                    <a:lnTo>
                      <a:pt x="84" y="342"/>
                    </a:lnTo>
                    <a:lnTo>
                      <a:pt x="108" y="350"/>
                    </a:lnTo>
                    <a:lnTo>
                      <a:pt x="134" y="354"/>
                    </a:lnTo>
                    <a:lnTo>
                      <a:pt x="944" y="354"/>
                    </a:lnTo>
                    <a:lnTo>
                      <a:pt x="993" y="343"/>
                    </a:lnTo>
                    <a:lnTo>
                      <a:pt x="1036" y="313"/>
                    </a:lnTo>
                    <a:lnTo>
                      <a:pt x="1066" y="270"/>
                    </a:lnTo>
                    <a:lnTo>
                      <a:pt x="1074" y="246"/>
                    </a:lnTo>
                    <a:lnTo>
                      <a:pt x="1078" y="221"/>
                    </a:lnTo>
                    <a:lnTo>
                      <a:pt x="1078" y="133"/>
                    </a:lnTo>
                    <a:lnTo>
                      <a:pt x="1078" y="121"/>
                    </a:lnTo>
                    <a:lnTo>
                      <a:pt x="1075" y="109"/>
                    </a:lnTo>
                    <a:lnTo>
                      <a:pt x="1067" y="85"/>
                    </a:lnTo>
                    <a:lnTo>
                      <a:pt x="1037" y="42"/>
                    </a:lnTo>
                    <a:lnTo>
                      <a:pt x="994" y="12"/>
                    </a:lnTo>
                    <a:lnTo>
                      <a:pt x="970" y="4"/>
                    </a:lnTo>
                    <a:lnTo>
                      <a:pt x="944" y="0"/>
                    </a:lnTo>
                    <a:lnTo>
                      <a:pt x="134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6" name=""/>
            <p:cNvSpPr/>
            <p:nvPr/>
          </p:nvSpPr>
          <p:spPr>
            <a:xfrm>
              <a:off x="3641760" y="2998800"/>
              <a:ext cx="1452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700080" y="3013200"/>
              <a:ext cx="1452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echnology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797280" y="3278160"/>
              <a:ext cx="10731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857040" y="3292560"/>
              <a:ext cx="107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lec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380880" y="3048120"/>
            <a:ext cx="2255760" cy="564840"/>
            <a:chOff x="380880" y="3048120"/>
            <a:chExt cx="2255760" cy="564840"/>
          </a:xfrm>
        </p:grpSpPr>
        <p:grpSp>
          <p:nvGrpSpPr>
            <p:cNvPr id="1791" name=""/>
            <p:cNvGrpSpPr/>
            <p:nvPr/>
          </p:nvGrpSpPr>
          <p:grpSpPr>
            <a:xfrm>
              <a:off x="380880" y="3048120"/>
              <a:ext cx="2255760" cy="564840"/>
              <a:chOff x="380880" y="3048120"/>
              <a:chExt cx="2255760" cy="564840"/>
            </a:xfrm>
          </p:grpSpPr>
          <p:grpSp>
            <p:nvGrpSpPr>
              <p:cNvPr id="1792" name=""/>
              <p:cNvGrpSpPr/>
              <p:nvPr/>
            </p:nvGrpSpPr>
            <p:grpSpPr>
              <a:xfrm>
                <a:off x="380880" y="3048120"/>
                <a:ext cx="2255760" cy="564840"/>
                <a:chOff x="380880" y="3048120"/>
                <a:chExt cx="2255760" cy="564840"/>
              </a:xfrm>
            </p:grpSpPr>
            <p:grpSp>
              <p:nvGrpSpPr>
                <p:cNvPr id="1793" name=""/>
                <p:cNvGrpSpPr/>
                <p:nvPr/>
              </p:nvGrpSpPr>
              <p:grpSpPr>
                <a:xfrm>
                  <a:off x="380880" y="3048120"/>
                  <a:ext cx="2255760" cy="564840"/>
                  <a:chOff x="380880" y="3048120"/>
                  <a:chExt cx="2255760" cy="56484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380880" y="3048120"/>
                    <a:ext cx="2255760" cy="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380880" y="3610080"/>
                    <a:ext cx="2255760" cy="28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380880" y="3049560"/>
                    <a:ext cx="11160" cy="5605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2624040" y="3049560"/>
                    <a:ext cx="12600" cy="5605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392040" y="3049560"/>
                    <a:ext cx="22320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392040" y="3606840"/>
                    <a:ext cx="22320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392040" y="3052800"/>
                    <a:ext cx="11160" cy="5540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2612880" y="3052800"/>
                    <a:ext cx="11160" cy="5540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403200" y="3052800"/>
                    <a:ext cx="22096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403200" y="3603600"/>
                    <a:ext cx="22096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403200" y="3056040"/>
                    <a:ext cx="12600" cy="54756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2600280" y="3056040"/>
                    <a:ext cx="12600" cy="54756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415800" y="3056040"/>
                    <a:ext cx="2184480" cy="28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415800" y="3600360"/>
                    <a:ext cx="21844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415800" y="3058920"/>
                    <a:ext cx="11160" cy="54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2589120" y="3058920"/>
                    <a:ext cx="11160" cy="54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426960" y="3058920"/>
                    <a:ext cx="216216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426960" y="3597120"/>
                    <a:ext cx="216216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426960" y="3062160"/>
                    <a:ext cx="11160" cy="53496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2576520" y="3062160"/>
                    <a:ext cx="12600" cy="53496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438120" y="3062160"/>
                    <a:ext cx="21384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438120" y="3593880"/>
                    <a:ext cx="21384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438120" y="3065400"/>
                    <a:ext cx="12600" cy="52848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2565360" y="3065400"/>
                    <a:ext cx="11160" cy="52848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450720" y="3065400"/>
                    <a:ext cx="2114640" cy="144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450720" y="3592440"/>
                    <a:ext cx="2114640" cy="144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450720" y="3066840"/>
                    <a:ext cx="11160" cy="5256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2554200" y="3066840"/>
                    <a:ext cx="11160" cy="5256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461880" y="3066840"/>
                    <a:ext cx="209232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461880" y="3589200"/>
                    <a:ext cx="209232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461880" y="3070080"/>
                    <a:ext cx="12600" cy="51912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2541600" y="3070080"/>
                    <a:ext cx="12600" cy="51912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474480" y="3070080"/>
                    <a:ext cx="206712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474480" y="3585960"/>
                    <a:ext cx="206712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474480" y="3073320"/>
                    <a:ext cx="11160" cy="5126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2530440" y="3073320"/>
                    <a:ext cx="11160" cy="5126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485640" y="3073320"/>
                    <a:ext cx="204480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485640" y="3583080"/>
                    <a:ext cx="2044800" cy="28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485640" y="3076560"/>
                    <a:ext cx="11160" cy="50652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2517840" y="3076560"/>
                    <a:ext cx="12600" cy="50652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496800" y="3076560"/>
                    <a:ext cx="202104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496800" y="3579840"/>
                    <a:ext cx="202104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496800" y="3079800"/>
                    <a:ext cx="12600" cy="5000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2506680" y="3079800"/>
                    <a:ext cx="11160" cy="5000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509400" y="3079800"/>
                    <a:ext cx="199728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509400" y="3576600"/>
                    <a:ext cx="199728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509400" y="3083040"/>
                    <a:ext cx="11160" cy="49356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2495520" y="3083040"/>
                    <a:ext cx="11160" cy="49356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520560" y="3083040"/>
                    <a:ext cx="1974960" cy="288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520560" y="3573360"/>
                    <a:ext cx="1974960" cy="32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520560" y="3085920"/>
                    <a:ext cx="1260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2482560" y="3085920"/>
                    <a:ext cx="1296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533160" y="3085920"/>
                    <a:ext cx="1949400" cy="18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533160" y="3571920"/>
                    <a:ext cx="1949400" cy="144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533160" y="3087720"/>
                    <a:ext cx="11160" cy="4842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2471760" y="3087720"/>
                    <a:ext cx="10800" cy="4842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544320" y="3087720"/>
                    <a:ext cx="192744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>
                    <a:off x="544320" y="3568680"/>
                    <a:ext cx="192744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544320" y="3090960"/>
                    <a:ext cx="11160" cy="47772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2458800" y="3090960"/>
                    <a:ext cx="12960" cy="47772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555480" y="3090960"/>
                    <a:ext cx="1903320" cy="288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555480" y="3565440"/>
                    <a:ext cx="190332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555480" y="3093840"/>
                    <a:ext cx="12600" cy="4716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2447640" y="3093840"/>
                    <a:ext cx="11160" cy="4716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568080" y="3093840"/>
                    <a:ext cx="187956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568080" y="3562200"/>
                    <a:ext cx="187956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568080" y="3097080"/>
                    <a:ext cx="11160" cy="46512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2436840" y="3097080"/>
                    <a:ext cx="10800" cy="46512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579240" y="3097080"/>
                    <a:ext cx="185760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579240" y="3558960"/>
                    <a:ext cx="185760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579240" y="3100320"/>
                    <a:ext cx="12960" cy="4586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2423880" y="3100320"/>
                    <a:ext cx="12960" cy="4586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592200" y="3100320"/>
                    <a:ext cx="1831680" cy="324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592200" y="3556080"/>
                    <a:ext cx="1831680" cy="288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592200" y="3103560"/>
                    <a:ext cx="10800" cy="45252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2412720" y="3103560"/>
                    <a:ext cx="11160" cy="45252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603000" y="3103560"/>
                    <a:ext cx="1809720" cy="32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603000" y="3552840"/>
                    <a:ext cx="1809720" cy="32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603000" y="3106800"/>
                    <a:ext cx="11160" cy="4460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2400120" y="3106800"/>
                    <a:ext cx="12600" cy="4460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614160" y="3106800"/>
                    <a:ext cx="1785960" cy="144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614160" y="3551040"/>
                    <a:ext cx="1785960" cy="1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614160" y="3108240"/>
                    <a:ext cx="12960" cy="442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388960" y="3108240"/>
                    <a:ext cx="11160" cy="442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627120" y="3108240"/>
                    <a:ext cx="1761840" cy="3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627120" y="3548160"/>
                    <a:ext cx="1761840" cy="2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627120" y="3111480"/>
                    <a:ext cx="10800" cy="4366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2377800" y="3111480"/>
                    <a:ext cx="11160" cy="4366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637920" y="3111480"/>
                    <a:ext cx="173988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637920" y="3544920"/>
                    <a:ext cx="173988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637920" y="3114720"/>
                    <a:ext cx="12960" cy="43020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2365200" y="3114720"/>
                    <a:ext cx="12600" cy="43020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650880" y="3114720"/>
                    <a:ext cx="171432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650880" y="3541680"/>
                    <a:ext cx="171432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>
                    <a:off x="650880" y="3117960"/>
                    <a:ext cx="11160" cy="42372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2354040" y="3117960"/>
                    <a:ext cx="11160" cy="42372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662040" y="3117960"/>
                    <a:ext cx="1692000" cy="288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662040" y="3538440"/>
                    <a:ext cx="1692000" cy="324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662040" y="3120840"/>
                    <a:ext cx="10800" cy="41760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2341440" y="3120840"/>
                    <a:ext cx="12600" cy="41760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672840" y="3120840"/>
                    <a:ext cx="1668600" cy="32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>
                    <a:off x="672840" y="3535200"/>
                    <a:ext cx="1668600" cy="32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672840" y="3124080"/>
                    <a:ext cx="1296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2330280" y="3124080"/>
                    <a:ext cx="1116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685800" y="3124080"/>
                    <a:ext cx="164448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685800" y="3531960"/>
                    <a:ext cx="164448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685800" y="3127320"/>
                    <a:ext cx="1116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2319120" y="3127320"/>
                    <a:ext cx="1116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696960" y="3127320"/>
                    <a:ext cx="1622160" cy="14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696960" y="3530520"/>
                    <a:ext cx="1622160" cy="14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696960" y="3128760"/>
                    <a:ext cx="12600" cy="4017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2306520" y="3128760"/>
                    <a:ext cx="12600" cy="4017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709560" y="3128760"/>
                    <a:ext cx="159696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709560" y="3527280"/>
                    <a:ext cx="159696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709560" y="3132000"/>
                    <a:ext cx="11160" cy="3952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2295360" y="3132000"/>
                    <a:ext cx="11160" cy="3952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720720" y="3132000"/>
                    <a:ext cx="157464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720720" y="3524040"/>
                    <a:ext cx="157464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720720" y="3135240"/>
                    <a:ext cx="11160" cy="38880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2282760" y="3135240"/>
                    <a:ext cx="12600" cy="38880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731880" y="3135240"/>
                    <a:ext cx="1550880" cy="3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731880" y="3521160"/>
                    <a:ext cx="1550880" cy="28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731880" y="3138480"/>
                    <a:ext cx="12600" cy="3826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2271600" y="3138480"/>
                    <a:ext cx="11160" cy="3826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744480" y="3138480"/>
                    <a:ext cx="1527120" cy="324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744480" y="3517920"/>
                    <a:ext cx="1527120" cy="324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744480" y="3141720"/>
                    <a:ext cx="11160" cy="3762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2260440" y="3141720"/>
                    <a:ext cx="11160" cy="3762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755640" y="3141720"/>
                    <a:ext cx="150480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755640" y="3514680"/>
                    <a:ext cx="150480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755640" y="3144960"/>
                    <a:ext cx="12600" cy="36972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2247840" y="3144960"/>
                    <a:ext cx="12600" cy="36972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768240" y="3144960"/>
                    <a:ext cx="1479600" cy="288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768240" y="3511440"/>
                    <a:ext cx="1479600" cy="324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768240" y="3147840"/>
                    <a:ext cx="111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2236680" y="3147840"/>
                    <a:ext cx="111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779400" y="3147840"/>
                    <a:ext cx="1457280" cy="180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779400" y="3510000"/>
                    <a:ext cx="1457280" cy="144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779400" y="3149640"/>
                    <a:ext cx="11160" cy="36036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2224080" y="3149640"/>
                    <a:ext cx="12600" cy="36036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790560" y="3149640"/>
                    <a:ext cx="143352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790560" y="3506760"/>
                    <a:ext cx="143352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790560" y="3152880"/>
                    <a:ext cx="12600" cy="35388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2212920" y="3152880"/>
                    <a:ext cx="11160" cy="35388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803160" y="3152880"/>
                    <a:ext cx="1409760" cy="288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803160" y="3503520"/>
                    <a:ext cx="140976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803160" y="3155760"/>
                    <a:ext cx="11160" cy="3477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>
                    <a:off x="2200320" y="3155760"/>
                    <a:ext cx="12600" cy="3477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814320" y="3155760"/>
                    <a:ext cx="138600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814320" y="3500280"/>
                    <a:ext cx="138600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>
                    <a:off x="814320" y="3159000"/>
                    <a:ext cx="12600" cy="3412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2189160" y="3159000"/>
                    <a:ext cx="11160" cy="3412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826920" y="3159000"/>
                    <a:ext cx="1362240" cy="32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826920" y="3497040"/>
                    <a:ext cx="1362240" cy="32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826920" y="3162240"/>
                    <a:ext cx="1116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2178000" y="3162240"/>
                    <a:ext cx="1116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838080" y="3162240"/>
                    <a:ext cx="1339920" cy="324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838080" y="3494160"/>
                    <a:ext cx="1339920" cy="28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838080" y="3165480"/>
                    <a:ext cx="11160" cy="3286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2165400" y="3165480"/>
                    <a:ext cx="12600" cy="3286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849240" y="3165480"/>
                    <a:ext cx="1316160" cy="324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849240" y="3490920"/>
                    <a:ext cx="1316160" cy="324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849240" y="3168720"/>
                    <a:ext cx="12600" cy="32220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2154240" y="3168720"/>
                    <a:ext cx="11160" cy="32220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861840" y="3168720"/>
                    <a:ext cx="1292400" cy="144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861840" y="3489120"/>
                    <a:ext cx="1292400" cy="180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861840" y="3170160"/>
                    <a:ext cx="11160" cy="31896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2141280" y="3170160"/>
                    <a:ext cx="12960" cy="31896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873000" y="3170160"/>
                    <a:ext cx="1268280" cy="32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873000" y="3486240"/>
                    <a:ext cx="1268280" cy="288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873000" y="3173400"/>
                    <a:ext cx="12600" cy="3128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2130480" y="3173400"/>
                    <a:ext cx="10800" cy="3128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885600" y="3173400"/>
                    <a:ext cx="124488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885600" y="3483000"/>
                    <a:ext cx="124488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885600" y="3176640"/>
                    <a:ext cx="11160" cy="30636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2119320" y="3176640"/>
                    <a:ext cx="11160" cy="30636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896760" y="3176640"/>
                    <a:ext cx="1222560" cy="3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896760" y="3479760"/>
                    <a:ext cx="1222560" cy="3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896760" y="3179880"/>
                    <a:ext cx="11160" cy="299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106360" y="3179880"/>
                    <a:ext cx="12960" cy="299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907920" y="3179880"/>
                    <a:ext cx="1198440" cy="288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907920" y="3476520"/>
                    <a:ext cx="1198440" cy="324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907920" y="3182760"/>
                    <a:ext cx="1260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2095560" y="3182760"/>
                    <a:ext cx="1080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920520" y="3182760"/>
                    <a:ext cx="117504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920520" y="3473280"/>
                    <a:ext cx="117504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920520" y="3186000"/>
                    <a:ext cx="111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2082600" y="3186000"/>
                    <a:ext cx="129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931680" y="3186000"/>
                    <a:ext cx="1150920" cy="18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931680" y="3471840"/>
                    <a:ext cx="1150920" cy="14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931680" y="3187800"/>
                    <a:ext cx="11160" cy="2840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2071440" y="3187800"/>
                    <a:ext cx="11160" cy="2840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942840" y="3187800"/>
                    <a:ext cx="1128600" cy="288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942840" y="3468600"/>
                    <a:ext cx="112860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942840" y="3190680"/>
                    <a:ext cx="12600" cy="2779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2060640" y="3190680"/>
                    <a:ext cx="10800" cy="2779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955440" y="3190680"/>
                    <a:ext cx="110520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955440" y="3465360"/>
                    <a:ext cx="110520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955440" y="3193920"/>
                    <a:ext cx="11160" cy="2714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2047680" y="3193920"/>
                    <a:ext cx="12960" cy="2714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4" name=""/>
                <p:cNvGrpSpPr/>
                <p:nvPr/>
              </p:nvGrpSpPr>
              <p:grpSpPr>
                <a:xfrm>
                  <a:off x="380880" y="3048120"/>
                  <a:ext cx="2255760" cy="564840"/>
                  <a:chOff x="380880" y="3048120"/>
                  <a:chExt cx="2255760" cy="56484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966600" y="3193920"/>
                    <a:ext cx="108108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966600" y="3462120"/>
                    <a:ext cx="108108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966600" y="3197160"/>
                    <a:ext cx="12600" cy="26496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2036520" y="3197160"/>
                    <a:ext cx="11160" cy="26496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979200" y="3197160"/>
                    <a:ext cx="1057320" cy="32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979200" y="3459240"/>
                    <a:ext cx="1057320" cy="288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979200" y="3200400"/>
                    <a:ext cx="11160" cy="2588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2023920" y="3200400"/>
                    <a:ext cx="12600" cy="2588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990360" y="3200400"/>
                    <a:ext cx="1033560" cy="324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990360" y="3456000"/>
                    <a:ext cx="1033560" cy="324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990360" y="3203640"/>
                    <a:ext cx="11160" cy="25236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2012760" y="3203640"/>
                    <a:ext cx="11160" cy="25236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1001520" y="3203640"/>
                    <a:ext cx="1011240" cy="288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1001520" y="3452760"/>
                    <a:ext cx="1011240" cy="3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1001520" y="3206520"/>
                    <a:ext cx="12960" cy="246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2001600" y="3206520"/>
                    <a:ext cx="11160" cy="24624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1014480" y="3206520"/>
                    <a:ext cx="987120" cy="180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1014480" y="3451320"/>
                    <a:ext cx="987120" cy="144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1014480" y="3208320"/>
                    <a:ext cx="10800" cy="24300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1989000" y="3208320"/>
                    <a:ext cx="12600" cy="243000"/>
                  </a:xfrm>
                  <a:prstGeom prst="rect">
                    <a:avLst/>
                  </a:prstGeom>
                  <a:solidFill>
                    <a:srgbClr val="bb5e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1025280" y="3208320"/>
                    <a:ext cx="963720" cy="324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1025280" y="3448080"/>
                    <a:ext cx="963720" cy="324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1025280" y="3211560"/>
                    <a:ext cx="12960" cy="23652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1977840" y="3211560"/>
                    <a:ext cx="11160" cy="236520"/>
                  </a:xfrm>
                  <a:prstGeom prst="rect">
                    <a:avLst/>
                  </a:prstGeom>
                  <a:solidFill>
                    <a:srgbClr val="ba5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1038240" y="3211560"/>
                    <a:ext cx="939600" cy="324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1038240" y="3444840"/>
                    <a:ext cx="939600" cy="324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1038240" y="3214800"/>
                    <a:ext cx="11160" cy="23004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1965240" y="3214800"/>
                    <a:ext cx="12600" cy="230040"/>
                  </a:xfrm>
                  <a:prstGeom prst="rect">
                    <a:avLst/>
                  </a:prstGeom>
                  <a:solidFill>
                    <a:srgbClr val="b95a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1049400" y="3214800"/>
                    <a:ext cx="915840" cy="288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1049400" y="3441600"/>
                    <a:ext cx="915840" cy="324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1049400" y="3217680"/>
                    <a:ext cx="10800" cy="22392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1954080" y="3217680"/>
                    <a:ext cx="11160" cy="223920"/>
                  </a:xfrm>
                  <a:prstGeom prst="rect">
                    <a:avLst/>
                  </a:prstGeom>
                  <a:solidFill>
                    <a:srgbClr val="b858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1060200" y="3217680"/>
                    <a:ext cx="893880" cy="32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1060200" y="3438360"/>
                    <a:ext cx="893880" cy="32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1060200" y="3220920"/>
                    <a:ext cx="12960" cy="2174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1942920" y="3220920"/>
                    <a:ext cx="11160" cy="217440"/>
                  </a:xfrm>
                  <a:prstGeom prst="rect">
                    <a:avLst/>
                  </a:prstGeom>
                  <a:solidFill>
                    <a:srgbClr val="b75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1073160" y="3220920"/>
                    <a:ext cx="869760" cy="324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1073160" y="3435120"/>
                    <a:ext cx="869760" cy="324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1073160" y="3224160"/>
                    <a:ext cx="11160" cy="21096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1930320" y="3224160"/>
                    <a:ext cx="12600" cy="210960"/>
                  </a:xfrm>
                  <a:prstGeom prst="rect">
                    <a:avLst/>
                  </a:prstGeom>
                  <a:solidFill>
                    <a:srgbClr val="b654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1084320" y="3224160"/>
                    <a:ext cx="846000" cy="324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1084320" y="3432240"/>
                    <a:ext cx="846000" cy="288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1084320" y="3227400"/>
                    <a:ext cx="12600" cy="20484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1919160" y="3227400"/>
                    <a:ext cx="11160" cy="204840"/>
                  </a:xfrm>
                  <a:prstGeom prst="rect">
                    <a:avLst/>
                  </a:prstGeom>
                  <a:solidFill>
                    <a:srgbClr val="b551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1096920" y="3227400"/>
                    <a:ext cx="822240" cy="144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1096920" y="3430440"/>
                    <a:ext cx="822240" cy="180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096920" y="3228840"/>
                    <a:ext cx="11160" cy="20160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906560" y="3228840"/>
                    <a:ext cx="12600" cy="201600"/>
                  </a:xfrm>
                  <a:prstGeom prst="rect">
                    <a:avLst/>
                  </a:prstGeom>
                  <a:solidFill>
                    <a:srgbClr val="b54f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1108080" y="3228840"/>
                    <a:ext cx="798480" cy="324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1108080" y="3427200"/>
                    <a:ext cx="798480" cy="324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1108080" y="3232080"/>
                    <a:ext cx="11160" cy="19512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1895400" y="3232080"/>
                    <a:ext cx="11160" cy="195120"/>
                  </a:xfrm>
                  <a:prstGeom prst="rect">
                    <a:avLst/>
                  </a:prstGeom>
                  <a:solidFill>
                    <a:srgbClr val="b44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1119240" y="3232080"/>
                    <a:ext cx="776160" cy="324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1119240" y="3424320"/>
                    <a:ext cx="776160" cy="288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1119240" y="3235320"/>
                    <a:ext cx="12600" cy="18900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1884240" y="3235320"/>
                    <a:ext cx="11160" cy="189000"/>
                  </a:xfrm>
                  <a:prstGeom prst="rect">
                    <a:avLst/>
                  </a:prstGeom>
                  <a:solidFill>
                    <a:srgbClr val="b34b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1131840" y="3235320"/>
                    <a:ext cx="752400" cy="324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1131840" y="3421080"/>
                    <a:ext cx="752400" cy="324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1131840" y="3238560"/>
                    <a:ext cx="11160" cy="18252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1871640" y="3238560"/>
                    <a:ext cx="12600" cy="182520"/>
                  </a:xfrm>
                  <a:prstGeom prst="rect">
                    <a:avLst/>
                  </a:prstGeom>
                  <a:solidFill>
                    <a:srgbClr val="b248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1143000" y="3238560"/>
                    <a:ext cx="728640" cy="32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1143000" y="3417840"/>
                    <a:ext cx="728640" cy="32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1143000" y="3241800"/>
                    <a:ext cx="12600" cy="1760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1860480" y="3241800"/>
                    <a:ext cx="11160" cy="176040"/>
                  </a:xfrm>
                  <a:prstGeom prst="rect">
                    <a:avLst/>
                  </a:prstGeom>
                  <a:solidFill>
                    <a:srgbClr val="b246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1155600" y="3241800"/>
                    <a:ext cx="704880" cy="288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1155600" y="3414600"/>
                    <a:ext cx="704880" cy="324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1155600" y="3244680"/>
                    <a:ext cx="11160" cy="16992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1847880" y="3244680"/>
                    <a:ext cx="12600" cy="169920"/>
                  </a:xfrm>
                  <a:prstGeom prst="rect">
                    <a:avLst/>
                  </a:prstGeom>
                  <a:solidFill>
                    <a:srgbClr val="b1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1166760" y="3244680"/>
                    <a:ext cx="681120" cy="32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1166760" y="3411360"/>
                    <a:ext cx="681120" cy="32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1166760" y="3247920"/>
                    <a:ext cx="11160" cy="1634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1836720" y="3247920"/>
                    <a:ext cx="11160" cy="163440"/>
                  </a:xfrm>
                  <a:prstGeom prst="rect">
                    <a:avLst/>
                  </a:prstGeom>
                  <a:solidFill>
                    <a:srgbClr val="b042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1177920" y="3247920"/>
                    <a:ext cx="658800" cy="180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>
                    <a:off x="1177920" y="3409920"/>
                    <a:ext cx="658800" cy="144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1177920" y="3249720"/>
                    <a:ext cx="12600" cy="16020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1823760" y="3249720"/>
                    <a:ext cx="12960" cy="160200"/>
                  </a:xfrm>
                  <a:prstGeom prst="rect">
                    <a:avLst/>
                  </a:prstGeom>
                  <a:solidFill>
                    <a:srgbClr val="af4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1190520" y="3249720"/>
                    <a:ext cx="633240" cy="288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1190520" y="3406680"/>
                    <a:ext cx="633240" cy="324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1190520" y="3252600"/>
                    <a:ext cx="11160" cy="15408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1812960" y="3252600"/>
                    <a:ext cx="10800" cy="154080"/>
                  </a:xfrm>
                  <a:prstGeom prst="rect">
                    <a:avLst/>
                  </a:prstGeom>
                  <a:solidFill>
                    <a:srgbClr val="af3d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1201680" y="3252600"/>
                    <a:ext cx="611280" cy="324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1201680" y="3403440"/>
                    <a:ext cx="611280" cy="324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1201680" y="3255840"/>
                    <a:ext cx="12600" cy="14760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1801800" y="3255840"/>
                    <a:ext cx="11160" cy="147600"/>
                  </a:xfrm>
                  <a:prstGeom prst="rect">
                    <a:avLst/>
                  </a:prstGeom>
                  <a:solidFill>
                    <a:srgbClr val="ae3b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1214280" y="3255840"/>
                    <a:ext cx="587520" cy="324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1214280" y="3400200"/>
                    <a:ext cx="587520" cy="324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1214280" y="3259080"/>
                    <a:ext cx="11160" cy="14112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1788840" y="3259080"/>
                    <a:ext cx="12960" cy="141120"/>
                  </a:xfrm>
                  <a:prstGeom prst="rect">
                    <a:avLst/>
                  </a:prstGeom>
                  <a:solidFill>
                    <a:srgbClr val="ad39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1225440" y="3259080"/>
                    <a:ext cx="563400" cy="324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1225440" y="3397320"/>
                    <a:ext cx="563400" cy="288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1225440" y="3262320"/>
                    <a:ext cx="11160" cy="13500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1778040" y="3262320"/>
                    <a:ext cx="10800" cy="135000"/>
                  </a:xfrm>
                  <a:prstGeom prst="rect">
                    <a:avLst/>
                  </a:prstGeom>
                  <a:solidFill>
                    <a:srgbClr val="ad37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1236600" y="3262320"/>
                    <a:ext cx="541440" cy="324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1236600" y="3394080"/>
                    <a:ext cx="541440" cy="324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1236600" y="3265560"/>
                    <a:ext cx="12600" cy="12852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1765080" y="3265560"/>
                    <a:ext cx="12960" cy="128520"/>
                  </a:xfrm>
                  <a:prstGeom prst="rect">
                    <a:avLst/>
                  </a:prstGeom>
                  <a:solidFill>
                    <a:srgbClr val="ac35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1249200" y="3265560"/>
                    <a:ext cx="515880" cy="288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1249200" y="3390840"/>
                    <a:ext cx="515880" cy="324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1249200" y="3268440"/>
                    <a:ext cx="11160" cy="12240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1753920" y="3268440"/>
                    <a:ext cx="11160" cy="122400"/>
                  </a:xfrm>
                  <a:prstGeom prst="rect">
                    <a:avLst/>
                  </a:prstGeom>
                  <a:solidFill>
                    <a:srgbClr val="ab33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1260360" y="3268440"/>
                    <a:ext cx="493560" cy="180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1260360" y="3389400"/>
                    <a:ext cx="493560" cy="144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1260360" y="3270240"/>
                    <a:ext cx="12600" cy="11916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1743120" y="3270240"/>
                    <a:ext cx="10800" cy="119160"/>
                  </a:xfrm>
                  <a:prstGeom prst="rect">
                    <a:avLst/>
                  </a:prstGeom>
                  <a:solidFill>
                    <a:srgbClr val="ab3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1272960" y="3270240"/>
                    <a:ext cx="470160" cy="324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1272960" y="3386160"/>
                    <a:ext cx="470160" cy="324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1272960" y="3273480"/>
                    <a:ext cx="11160" cy="11268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1730160" y="3273480"/>
                    <a:ext cx="12960" cy="112680"/>
                  </a:xfrm>
                  <a:prstGeom prst="rect">
                    <a:avLst/>
                  </a:prstGeom>
                  <a:solidFill>
                    <a:srgbClr val="aa2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1284120" y="3273480"/>
                    <a:ext cx="446040" cy="324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1284120" y="3382920"/>
                    <a:ext cx="446040" cy="324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1284120" y="3276720"/>
                    <a:ext cx="11160" cy="10620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1719000" y="3276720"/>
                    <a:ext cx="11160" cy="106200"/>
                  </a:xfrm>
                  <a:prstGeom prst="rect">
                    <a:avLst/>
                  </a:prstGeom>
                  <a:solidFill>
                    <a:srgbClr val="aa2d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1295280" y="3276720"/>
                    <a:ext cx="423720" cy="288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1295280" y="3379680"/>
                    <a:ext cx="423720" cy="324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1295280" y="3279600"/>
                    <a:ext cx="12600" cy="10008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>
                    <a:off x="1706400" y="3279600"/>
                    <a:ext cx="12600" cy="100080"/>
                  </a:xfrm>
                  <a:prstGeom prst="rect">
                    <a:avLst/>
                  </a:prstGeom>
                  <a:solidFill>
                    <a:srgbClr val="a92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1307880" y="3279600"/>
                    <a:ext cx="398520" cy="324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1307880" y="3376440"/>
                    <a:ext cx="398520" cy="324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1307880" y="3282840"/>
                    <a:ext cx="11160" cy="9360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1695240" y="3282840"/>
                    <a:ext cx="11160" cy="93600"/>
                  </a:xfrm>
                  <a:prstGeom prst="rect">
                    <a:avLst/>
                  </a:prstGeom>
                  <a:solidFill>
                    <a:srgbClr val="a928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1319040" y="3282840"/>
                    <a:ext cx="376200" cy="324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1319040" y="3373560"/>
                    <a:ext cx="376200" cy="288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1319040" y="3286080"/>
                    <a:ext cx="12600" cy="8748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1684080" y="3286080"/>
                    <a:ext cx="11160" cy="87480"/>
                  </a:xfrm>
                  <a:prstGeom prst="rect">
                    <a:avLst/>
                  </a:prstGeom>
                  <a:solidFill>
                    <a:srgbClr val="a927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1331640" y="3286080"/>
                    <a:ext cx="352440" cy="324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1331640" y="3370320"/>
                    <a:ext cx="352440" cy="324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1331640" y="3289320"/>
                    <a:ext cx="11160" cy="8100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>
                    <a:off x="1671480" y="3289320"/>
                    <a:ext cx="12600" cy="81000"/>
                  </a:xfrm>
                  <a:prstGeom prst="rect">
                    <a:avLst/>
                  </a:prstGeom>
                  <a:solidFill>
                    <a:srgbClr val="a824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>
                    <a:off x="1342800" y="3289320"/>
                    <a:ext cx="328680" cy="144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1342800" y="3368520"/>
                    <a:ext cx="328680" cy="180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1342800" y="3290760"/>
                    <a:ext cx="11160" cy="7776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>
                    <a:off x="1660320" y="3290760"/>
                    <a:ext cx="11160" cy="77760"/>
                  </a:xfrm>
                  <a:prstGeom prst="rect">
                    <a:avLst/>
                  </a:prstGeom>
                  <a:solidFill>
                    <a:srgbClr val="a822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1353960" y="3290760"/>
                    <a:ext cx="306360" cy="324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1353960" y="3365280"/>
                    <a:ext cx="306360" cy="324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1353960" y="3294000"/>
                    <a:ext cx="12600" cy="7128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1647720" y="3294000"/>
                    <a:ext cx="12600" cy="71280"/>
                  </a:xfrm>
                  <a:prstGeom prst="rect">
                    <a:avLst/>
                  </a:prstGeom>
                  <a:solidFill>
                    <a:srgbClr val="a72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1366560" y="3294000"/>
                    <a:ext cx="281160" cy="324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1366560" y="3362400"/>
                    <a:ext cx="281160" cy="288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1366560" y="3297240"/>
                    <a:ext cx="11160" cy="6516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1636560" y="3297240"/>
                    <a:ext cx="11160" cy="65160"/>
                  </a:xfrm>
                  <a:prstGeom prst="rect">
                    <a:avLst/>
                  </a:prstGeom>
                  <a:solidFill>
                    <a:srgbClr val="a71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1377720" y="3297240"/>
                    <a:ext cx="258840" cy="324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1377720" y="3359160"/>
                    <a:ext cx="258840" cy="324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1377720" y="3300480"/>
                    <a:ext cx="12960" cy="5868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1625400" y="3300480"/>
                    <a:ext cx="11160" cy="58680"/>
                  </a:xfrm>
                  <a:prstGeom prst="rect">
                    <a:avLst/>
                  </a:prstGeom>
                  <a:solidFill>
                    <a:srgbClr val="a71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1390680" y="3300480"/>
                    <a:ext cx="234720" cy="288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1390680" y="3355920"/>
                    <a:ext cx="234720" cy="324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1390680" y="3303360"/>
                    <a:ext cx="10800" cy="5256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1612800" y="3303360"/>
                    <a:ext cx="12600" cy="52560"/>
                  </a:xfrm>
                  <a:prstGeom prst="rect">
                    <a:avLst/>
                  </a:prstGeom>
                  <a:solidFill>
                    <a:srgbClr val="a61a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1401480" y="3303360"/>
                    <a:ext cx="211320" cy="324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1401480" y="3352680"/>
                    <a:ext cx="211320" cy="324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1401480" y="3306600"/>
                    <a:ext cx="11160" cy="4608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1601640" y="3306600"/>
                    <a:ext cx="11160" cy="46080"/>
                  </a:xfrm>
                  <a:prstGeom prst="rect">
                    <a:avLst/>
                  </a:prstGeom>
                  <a:solidFill>
                    <a:srgbClr val="a618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1412640" y="3306600"/>
                    <a:ext cx="189000" cy="324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1412640" y="3349440"/>
                    <a:ext cx="189000" cy="324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1412640" y="3309840"/>
                    <a:ext cx="12960" cy="3960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1589040" y="3309840"/>
                    <a:ext cx="12600" cy="39600"/>
                  </a:xfrm>
                  <a:prstGeom prst="rect">
                    <a:avLst/>
                  </a:prstGeom>
                  <a:solidFill>
                    <a:srgbClr val="a616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1425600" y="3309840"/>
                    <a:ext cx="163440" cy="180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1425600" y="3348000"/>
                    <a:ext cx="163440" cy="144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1425600" y="3311640"/>
                    <a:ext cx="10800" cy="3636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1577880" y="3311640"/>
                    <a:ext cx="11160" cy="36360"/>
                  </a:xfrm>
                  <a:prstGeom prst="rect">
                    <a:avLst/>
                  </a:prstGeom>
                  <a:solidFill>
                    <a:srgbClr val="a614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1436400" y="3311640"/>
                    <a:ext cx="141480" cy="288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1436400" y="3344760"/>
                    <a:ext cx="141480" cy="3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1436400" y="3314520"/>
                    <a:ext cx="12960" cy="30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1566720" y="3314520"/>
                    <a:ext cx="11160" cy="30240"/>
                  </a:xfrm>
                  <a:prstGeom prst="rect">
                    <a:avLst/>
                  </a:prstGeom>
                  <a:solidFill>
                    <a:srgbClr val="a51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1449360" y="3314520"/>
                    <a:ext cx="117360" cy="324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1449360" y="3341520"/>
                    <a:ext cx="117360" cy="324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1449360" y="3317760"/>
                    <a:ext cx="11160" cy="2376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1554120" y="3317760"/>
                    <a:ext cx="12600" cy="23760"/>
                  </a:xfrm>
                  <a:prstGeom prst="rect">
                    <a:avLst/>
                  </a:prstGeom>
                  <a:solidFill>
                    <a:srgbClr val="a50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1460520" y="3317760"/>
                    <a:ext cx="93600" cy="324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1460520" y="3338640"/>
                    <a:ext cx="93600" cy="288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1460520" y="3321000"/>
                    <a:ext cx="11160" cy="1764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1542960" y="3321000"/>
                    <a:ext cx="11160" cy="17640"/>
                  </a:xfrm>
                  <a:prstGeom prst="rect">
                    <a:avLst/>
                  </a:prstGeom>
                  <a:solidFill>
                    <a:srgbClr val="a50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1471680" y="3321000"/>
                    <a:ext cx="71280" cy="324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1471680" y="3335400"/>
                    <a:ext cx="71280" cy="324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1471680" y="3324240"/>
                    <a:ext cx="12600" cy="1116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1530360" y="3324240"/>
                    <a:ext cx="12600" cy="11160"/>
                  </a:xfrm>
                  <a:prstGeom prst="rect">
                    <a:avLst/>
                  </a:prstGeom>
                  <a:solidFill>
                    <a:srgbClr val="a50a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1484280" y="3324240"/>
                    <a:ext cx="46080" cy="324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1484280" y="3332160"/>
                    <a:ext cx="46080" cy="324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1484280" y="3327480"/>
                    <a:ext cx="11160" cy="468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1519200" y="3327480"/>
                    <a:ext cx="11160" cy="4680"/>
                  </a:xfrm>
                  <a:prstGeom prst="rect">
                    <a:avLst/>
                  </a:prstGeom>
                  <a:solidFill>
                    <a:srgbClr val="a506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1495440" y="3327480"/>
                    <a:ext cx="2376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1495440" y="3330360"/>
                    <a:ext cx="23760" cy="180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1495440" y="3328920"/>
                    <a:ext cx="1116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1508040" y="3328920"/>
                    <a:ext cx="1116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1506600" y="3328920"/>
                    <a:ext cx="1440" cy="144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380880" y="3048120"/>
                    <a:ext cx="225432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0" h="355">
                        <a:moveTo>
                          <a:pt x="134" y="0"/>
                        </a:moveTo>
                        <a:lnTo>
                          <a:pt x="122" y="0"/>
                        </a:lnTo>
                        <a:lnTo>
                          <a:pt x="110" y="3"/>
                        </a:lnTo>
                        <a:lnTo>
                          <a:pt x="85" y="11"/>
                        </a:lnTo>
                        <a:lnTo>
                          <a:pt x="42" y="41"/>
                        </a:lnTo>
                        <a:lnTo>
                          <a:pt x="12" y="84"/>
                        </a:lnTo>
                        <a:lnTo>
                          <a:pt x="4" y="108"/>
                        </a:lnTo>
                        <a:lnTo>
                          <a:pt x="0" y="133"/>
                        </a:lnTo>
                        <a:lnTo>
                          <a:pt x="0" y="222"/>
                        </a:lnTo>
                        <a:lnTo>
                          <a:pt x="11" y="270"/>
                        </a:lnTo>
                        <a:lnTo>
                          <a:pt x="41" y="313"/>
                        </a:lnTo>
                        <a:lnTo>
                          <a:pt x="84" y="343"/>
                        </a:lnTo>
                        <a:lnTo>
                          <a:pt x="108" y="351"/>
                        </a:lnTo>
                        <a:lnTo>
                          <a:pt x="134" y="355"/>
                        </a:lnTo>
                        <a:lnTo>
                          <a:pt x="1286" y="355"/>
                        </a:lnTo>
                        <a:lnTo>
                          <a:pt x="1335" y="344"/>
                        </a:lnTo>
                        <a:lnTo>
                          <a:pt x="1378" y="313"/>
                        </a:lnTo>
                        <a:lnTo>
                          <a:pt x="1408" y="271"/>
                        </a:lnTo>
                        <a:lnTo>
                          <a:pt x="1416" y="247"/>
                        </a:lnTo>
                        <a:lnTo>
                          <a:pt x="1420" y="222"/>
                        </a:lnTo>
                        <a:lnTo>
                          <a:pt x="1420" y="133"/>
                        </a:lnTo>
                        <a:lnTo>
                          <a:pt x="1420" y="121"/>
                        </a:lnTo>
                        <a:lnTo>
                          <a:pt x="1417" y="109"/>
                        </a:lnTo>
                        <a:lnTo>
                          <a:pt x="1409" y="85"/>
                        </a:lnTo>
                        <a:lnTo>
                          <a:pt x="1379" y="42"/>
                        </a:lnTo>
                        <a:lnTo>
                          <a:pt x="1336" y="12"/>
                        </a:lnTo>
                        <a:lnTo>
                          <a:pt x="1312" y="4"/>
                        </a:lnTo>
                        <a:lnTo>
                          <a:pt x="1286" y="0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380880" y="3048120"/>
                    <a:ext cx="225432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0" h="355">
                        <a:moveTo>
                          <a:pt x="134" y="0"/>
                        </a:moveTo>
                        <a:lnTo>
                          <a:pt x="122" y="0"/>
                        </a:lnTo>
                        <a:lnTo>
                          <a:pt x="110" y="3"/>
                        </a:lnTo>
                        <a:lnTo>
                          <a:pt x="85" y="11"/>
                        </a:lnTo>
                        <a:lnTo>
                          <a:pt x="42" y="41"/>
                        </a:lnTo>
                        <a:lnTo>
                          <a:pt x="12" y="84"/>
                        </a:lnTo>
                        <a:lnTo>
                          <a:pt x="4" y="108"/>
                        </a:lnTo>
                        <a:lnTo>
                          <a:pt x="0" y="133"/>
                        </a:lnTo>
                        <a:lnTo>
                          <a:pt x="0" y="222"/>
                        </a:lnTo>
                        <a:lnTo>
                          <a:pt x="11" y="270"/>
                        </a:lnTo>
                        <a:lnTo>
                          <a:pt x="41" y="313"/>
                        </a:lnTo>
                        <a:lnTo>
                          <a:pt x="84" y="343"/>
                        </a:lnTo>
                        <a:lnTo>
                          <a:pt x="108" y="351"/>
                        </a:lnTo>
                        <a:lnTo>
                          <a:pt x="134" y="355"/>
                        </a:lnTo>
                        <a:lnTo>
                          <a:pt x="1286" y="355"/>
                        </a:lnTo>
                        <a:lnTo>
                          <a:pt x="1335" y="344"/>
                        </a:lnTo>
                        <a:lnTo>
                          <a:pt x="1378" y="313"/>
                        </a:lnTo>
                        <a:lnTo>
                          <a:pt x="1408" y="271"/>
                        </a:lnTo>
                        <a:lnTo>
                          <a:pt x="1416" y="247"/>
                        </a:lnTo>
                        <a:lnTo>
                          <a:pt x="1420" y="222"/>
                        </a:lnTo>
                        <a:lnTo>
                          <a:pt x="1420" y="133"/>
                        </a:lnTo>
                        <a:lnTo>
                          <a:pt x="1420" y="121"/>
                        </a:lnTo>
                        <a:lnTo>
                          <a:pt x="1417" y="109"/>
                        </a:lnTo>
                        <a:lnTo>
                          <a:pt x="1409" y="85"/>
                        </a:lnTo>
                        <a:lnTo>
                          <a:pt x="1379" y="42"/>
                        </a:lnTo>
                        <a:lnTo>
                          <a:pt x="1336" y="12"/>
                        </a:lnTo>
                        <a:lnTo>
                          <a:pt x="1312" y="4"/>
                        </a:lnTo>
                        <a:lnTo>
                          <a:pt x="1286" y="0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380880" y="3048120"/>
                    <a:ext cx="2255760" cy="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380880" y="3610080"/>
                    <a:ext cx="2255760" cy="28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380880" y="3049560"/>
                    <a:ext cx="11160" cy="5605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2624040" y="3049560"/>
                    <a:ext cx="12600" cy="56052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392040" y="3049560"/>
                    <a:ext cx="22320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392040" y="3606840"/>
                    <a:ext cx="223200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392040" y="3052800"/>
                    <a:ext cx="11160" cy="5540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2612880" y="3052800"/>
                    <a:ext cx="11160" cy="5540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403200" y="3052800"/>
                    <a:ext cx="22096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403200" y="3603600"/>
                    <a:ext cx="22096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403200" y="3056040"/>
                    <a:ext cx="12600" cy="54756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2600280" y="3056040"/>
                    <a:ext cx="12600" cy="54756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415800" y="3056040"/>
                    <a:ext cx="2184480" cy="288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5" name=""/>
                <p:cNvGrpSpPr/>
                <p:nvPr/>
              </p:nvGrpSpPr>
              <p:grpSpPr>
                <a:xfrm>
                  <a:off x="415800" y="3058920"/>
                  <a:ext cx="2184480" cy="544680"/>
                  <a:chOff x="415800" y="3058920"/>
                  <a:chExt cx="2184480" cy="54468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>
                    <a:off x="415800" y="3600360"/>
                    <a:ext cx="2184480" cy="32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415800" y="3058920"/>
                    <a:ext cx="11160" cy="54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2589120" y="3058920"/>
                    <a:ext cx="11160" cy="541440"/>
                  </a:xfrm>
                  <a:prstGeom prst="rect">
                    <a:avLst/>
                  </a:prstGeom>
                  <a:solidFill>
                    <a:srgbClr val="da9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426960" y="3058920"/>
                    <a:ext cx="216216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426960" y="3597120"/>
                    <a:ext cx="216216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426960" y="3062160"/>
                    <a:ext cx="11160" cy="53496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2576520" y="3062160"/>
                    <a:ext cx="12600" cy="53496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438120" y="3062160"/>
                    <a:ext cx="21384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438120" y="3593880"/>
                    <a:ext cx="2138400" cy="324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438120" y="3065400"/>
                    <a:ext cx="12600" cy="52848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2565360" y="3065400"/>
                    <a:ext cx="11160" cy="528480"/>
                  </a:xfrm>
                  <a:prstGeom prst="rect">
                    <a:avLst/>
                  </a:prstGeom>
                  <a:solidFill>
                    <a:srgbClr val="da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450720" y="3065400"/>
                    <a:ext cx="2114640" cy="144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450720" y="3592440"/>
                    <a:ext cx="2114640" cy="144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450720" y="3066840"/>
                    <a:ext cx="11160" cy="5256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2554200" y="3066840"/>
                    <a:ext cx="11160" cy="525600"/>
                  </a:xfrm>
                  <a:prstGeom prst="rect">
                    <a:avLst/>
                  </a:prstGeom>
                  <a:solidFill>
                    <a:srgbClr val="d99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461880" y="3066840"/>
                    <a:ext cx="209232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461880" y="3589200"/>
                    <a:ext cx="2092320" cy="324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461880" y="3070080"/>
                    <a:ext cx="12600" cy="51912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2541600" y="3070080"/>
                    <a:ext cx="12600" cy="519120"/>
                  </a:xfrm>
                  <a:prstGeom prst="rect">
                    <a:avLst/>
                  </a:prstGeom>
                  <a:solidFill>
                    <a:srgbClr val="d997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474480" y="3070080"/>
                    <a:ext cx="206712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474480" y="3585960"/>
                    <a:ext cx="206712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474480" y="3073320"/>
                    <a:ext cx="11160" cy="5126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2530440" y="3073320"/>
                    <a:ext cx="11160" cy="5126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485640" y="3073320"/>
                    <a:ext cx="2044800" cy="324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485640" y="3583080"/>
                    <a:ext cx="2044800" cy="288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485640" y="3076560"/>
                    <a:ext cx="11160" cy="50652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2517840" y="3076560"/>
                    <a:ext cx="12600" cy="506520"/>
                  </a:xfrm>
                  <a:prstGeom prst="rect">
                    <a:avLst/>
                  </a:prstGeom>
                  <a:solidFill>
                    <a:srgbClr val="d99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496800" y="3076560"/>
                    <a:ext cx="202104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496800" y="3579840"/>
                    <a:ext cx="2021040" cy="32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496800" y="3079800"/>
                    <a:ext cx="12600" cy="5000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2506680" y="3079800"/>
                    <a:ext cx="11160" cy="500040"/>
                  </a:xfrm>
                  <a:prstGeom prst="rect">
                    <a:avLst/>
                  </a:prstGeom>
                  <a:solidFill>
                    <a:srgbClr val="d9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509400" y="3079800"/>
                    <a:ext cx="199728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509400" y="3576600"/>
                    <a:ext cx="1997280" cy="324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509400" y="3083040"/>
                    <a:ext cx="11160" cy="49356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2495520" y="3083040"/>
                    <a:ext cx="11160" cy="493560"/>
                  </a:xfrm>
                  <a:prstGeom prst="rect">
                    <a:avLst/>
                  </a:prstGeom>
                  <a:solidFill>
                    <a:srgbClr val="d89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520560" y="3083040"/>
                    <a:ext cx="1974960" cy="288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520560" y="3573360"/>
                    <a:ext cx="1974960" cy="32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520560" y="3085920"/>
                    <a:ext cx="1260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2482560" y="3085920"/>
                    <a:ext cx="12960" cy="487440"/>
                  </a:xfrm>
                  <a:prstGeom prst="rect">
                    <a:avLst/>
                  </a:prstGeom>
                  <a:solidFill>
                    <a:srgbClr val="d895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533160" y="3085920"/>
                    <a:ext cx="1949400" cy="18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533160" y="3571920"/>
                    <a:ext cx="1949400" cy="144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533160" y="3087720"/>
                    <a:ext cx="11160" cy="4842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2471760" y="3087720"/>
                    <a:ext cx="10800" cy="484200"/>
                  </a:xfrm>
                  <a:prstGeom prst="rect">
                    <a:avLst/>
                  </a:prstGeom>
                  <a:solidFill>
                    <a:srgbClr val="d89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544320" y="3087720"/>
                    <a:ext cx="192744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544320" y="3568680"/>
                    <a:ext cx="1927440" cy="324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544320" y="3090960"/>
                    <a:ext cx="11160" cy="47772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2458800" y="3090960"/>
                    <a:ext cx="12960" cy="477720"/>
                  </a:xfrm>
                  <a:prstGeom prst="rect">
                    <a:avLst/>
                  </a:prstGeom>
                  <a:solidFill>
                    <a:srgbClr val="d894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555480" y="3090960"/>
                    <a:ext cx="1903320" cy="288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555480" y="3565440"/>
                    <a:ext cx="1903320" cy="324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555480" y="3093840"/>
                    <a:ext cx="12600" cy="4716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2447640" y="3093840"/>
                    <a:ext cx="11160" cy="471600"/>
                  </a:xfrm>
                  <a:prstGeom prst="rect">
                    <a:avLst/>
                  </a:prstGeom>
                  <a:solidFill>
                    <a:srgbClr val="d79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568080" y="3093840"/>
                    <a:ext cx="187956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568080" y="3562200"/>
                    <a:ext cx="1879560" cy="324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568080" y="3097080"/>
                    <a:ext cx="11160" cy="46512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2436840" y="3097080"/>
                    <a:ext cx="10800" cy="465120"/>
                  </a:xfrm>
                  <a:prstGeom prst="rect">
                    <a:avLst/>
                  </a:prstGeom>
                  <a:solidFill>
                    <a:srgbClr val="d7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579240" y="3097080"/>
                    <a:ext cx="185760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579240" y="3558960"/>
                    <a:ext cx="1857600" cy="32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579240" y="3100320"/>
                    <a:ext cx="12960" cy="4586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2423880" y="3100320"/>
                    <a:ext cx="12960" cy="458640"/>
                  </a:xfrm>
                  <a:prstGeom prst="rect">
                    <a:avLst/>
                  </a:prstGeom>
                  <a:solidFill>
                    <a:srgbClr val="d69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592200" y="3100320"/>
                    <a:ext cx="1831680" cy="324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592200" y="3556080"/>
                    <a:ext cx="1831680" cy="288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592200" y="3103560"/>
                    <a:ext cx="10800" cy="45252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2412720" y="3103560"/>
                    <a:ext cx="11160" cy="452520"/>
                  </a:xfrm>
                  <a:prstGeom prst="rect">
                    <a:avLst/>
                  </a:prstGeom>
                  <a:solidFill>
                    <a:srgbClr val="d69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603000" y="3103560"/>
                    <a:ext cx="1809720" cy="32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603000" y="3552840"/>
                    <a:ext cx="1809720" cy="32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603000" y="3106800"/>
                    <a:ext cx="11160" cy="4460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2400120" y="3106800"/>
                    <a:ext cx="12600" cy="446040"/>
                  </a:xfrm>
                  <a:prstGeom prst="rect">
                    <a:avLst/>
                  </a:prstGeom>
                  <a:solidFill>
                    <a:srgbClr val="d69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614160" y="3106800"/>
                    <a:ext cx="1785960" cy="144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614160" y="3551040"/>
                    <a:ext cx="1785960" cy="1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614160" y="3108240"/>
                    <a:ext cx="12960" cy="442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2388960" y="3108240"/>
                    <a:ext cx="11160" cy="442800"/>
                  </a:xfrm>
                  <a:prstGeom prst="rect">
                    <a:avLst/>
                  </a:prstGeom>
                  <a:solidFill>
                    <a:srgbClr val="d590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627120" y="3108240"/>
                    <a:ext cx="1761840" cy="324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627120" y="3548160"/>
                    <a:ext cx="1761840" cy="28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627120" y="3111480"/>
                    <a:ext cx="10800" cy="4366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2377800" y="3111480"/>
                    <a:ext cx="11160" cy="436680"/>
                  </a:xfrm>
                  <a:prstGeom prst="rect">
                    <a:avLst/>
                  </a:prstGeom>
                  <a:solidFill>
                    <a:srgbClr val="d58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637920" y="3111480"/>
                    <a:ext cx="173988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637920" y="3544920"/>
                    <a:ext cx="1739880" cy="324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637920" y="3114720"/>
                    <a:ext cx="12960" cy="43020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2365200" y="3114720"/>
                    <a:ext cx="12600" cy="430200"/>
                  </a:xfrm>
                  <a:prstGeom prst="rect">
                    <a:avLst/>
                  </a:prstGeom>
                  <a:solidFill>
                    <a:srgbClr val="d48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650880" y="3114720"/>
                    <a:ext cx="171432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650880" y="3541680"/>
                    <a:ext cx="1714320" cy="324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650880" y="3117960"/>
                    <a:ext cx="11160" cy="42372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2354040" y="3117960"/>
                    <a:ext cx="11160" cy="423720"/>
                  </a:xfrm>
                  <a:prstGeom prst="rect">
                    <a:avLst/>
                  </a:prstGeom>
                  <a:solidFill>
                    <a:srgbClr val="d48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662040" y="3117960"/>
                    <a:ext cx="1692000" cy="288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662040" y="3538440"/>
                    <a:ext cx="1692000" cy="324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662040" y="3120840"/>
                    <a:ext cx="10800" cy="41760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2341440" y="3120840"/>
                    <a:ext cx="12600" cy="417600"/>
                  </a:xfrm>
                  <a:prstGeom prst="rect">
                    <a:avLst/>
                  </a:prstGeom>
                  <a:solidFill>
                    <a:srgbClr val="d38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672840" y="3120840"/>
                    <a:ext cx="1668600" cy="32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672840" y="3535200"/>
                    <a:ext cx="1668600" cy="324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672840" y="3124080"/>
                    <a:ext cx="1296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2330280" y="3124080"/>
                    <a:ext cx="11160" cy="411120"/>
                  </a:xfrm>
                  <a:prstGeom prst="rect">
                    <a:avLst/>
                  </a:prstGeom>
                  <a:solidFill>
                    <a:srgbClr val="d38b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685800" y="3124080"/>
                    <a:ext cx="164448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685800" y="3531960"/>
                    <a:ext cx="1644480" cy="32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685800" y="3127320"/>
                    <a:ext cx="1116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2319120" y="3127320"/>
                    <a:ext cx="11160" cy="404640"/>
                  </a:xfrm>
                  <a:prstGeom prst="rect">
                    <a:avLst/>
                  </a:prstGeom>
                  <a:solidFill>
                    <a:srgbClr val="d28b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696960" y="3127320"/>
                    <a:ext cx="1622160" cy="14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696960" y="3530520"/>
                    <a:ext cx="1622160" cy="144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696960" y="3128760"/>
                    <a:ext cx="12600" cy="4017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2306520" y="3128760"/>
                    <a:ext cx="12600" cy="401760"/>
                  </a:xfrm>
                  <a:prstGeom prst="rect">
                    <a:avLst/>
                  </a:prstGeom>
                  <a:solidFill>
                    <a:srgbClr val="d18a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709560" y="3128760"/>
                    <a:ext cx="159696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709560" y="3527280"/>
                    <a:ext cx="1596960" cy="324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709560" y="3132000"/>
                    <a:ext cx="11160" cy="3952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2295360" y="3132000"/>
                    <a:ext cx="11160" cy="395280"/>
                  </a:xfrm>
                  <a:prstGeom prst="rect">
                    <a:avLst/>
                  </a:prstGeom>
                  <a:solidFill>
                    <a:srgbClr val="d188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720720" y="3132000"/>
                    <a:ext cx="157464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720720" y="3524040"/>
                    <a:ext cx="1574640" cy="324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720720" y="3135240"/>
                    <a:ext cx="11160" cy="38880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2282760" y="3135240"/>
                    <a:ext cx="12600" cy="388800"/>
                  </a:xfrm>
                  <a:prstGeom prst="rect">
                    <a:avLst/>
                  </a:prstGeom>
                  <a:solidFill>
                    <a:srgbClr val="d087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731880" y="3135240"/>
                    <a:ext cx="1550880" cy="324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731880" y="3521160"/>
                    <a:ext cx="1550880" cy="28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731880" y="3138480"/>
                    <a:ext cx="12600" cy="3826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2271600" y="3138480"/>
                    <a:ext cx="11160" cy="382680"/>
                  </a:xfrm>
                  <a:prstGeom prst="rect">
                    <a:avLst/>
                  </a:prstGeom>
                  <a:solidFill>
                    <a:srgbClr val="d086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744480" y="3138480"/>
                    <a:ext cx="1527120" cy="324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744480" y="3517920"/>
                    <a:ext cx="1527120" cy="324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744480" y="3141720"/>
                    <a:ext cx="11160" cy="3762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2260440" y="3141720"/>
                    <a:ext cx="11160" cy="376200"/>
                  </a:xfrm>
                  <a:prstGeom prst="rect">
                    <a:avLst/>
                  </a:prstGeom>
                  <a:solidFill>
                    <a:srgbClr val="cf85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755640" y="3141720"/>
                    <a:ext cx="150480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755640" y="3514680"/>
                    <a:ext cx="1504800" cy="324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755640" y="3144960"/>
                    <a:ext cx="12600" cy="36972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2247840" y="3144960"/>
                    <a:ext cx="12600" cy="369720"/>
                  </a:xfrm>
                  <a:prstGeom prst="rect">
                    <a:avLst/>
                  </a:prstGeom>
                  <a:solidFill>
                    <a:srgbClr val="ce84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768240" y="3144960"/>
                    <a:ext cx="1479600" cy="288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768240" y="3511440"/>
                    <a:ext cx="1479600" cy="324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768240" y="3147840"/>
                    <a:ext cx="111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2236680" y="3147840"/>
                    <a:ext cx="11160" cy="363600"/>
                  </a:xfrm>
                  <a:prstGeom prst="rect">
                    <a:avLst/>
                  </a:prstGeom>
                  <a:solidFill>
                    <a:srgbClr val="cd82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779400" y="3147840"/>
                    <a:ext cx="1457280" cy="180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779400" y="3510000"/>
                    <a:ext cx="1457280" cy="144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779400" y="3149640"/>
                    <a:ext cx="11160" cy="36036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2224080" y="3149640"/>
                    <a:ext cx="12600" cy="360360"/>
                  </a:xfrm>
                  <a:prstGeom prst="rect">
                    <a:avLst/>
                  </a:prstGeom>
                  <a:solidFill>
                    <a:srgbClr val="cd81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790560" y="3149640"/>
                    <a:ext cx="143352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790560" y="3506760"/>
                    <a:ext cx="1433520" cy="324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790560" y="3152880"/>
                    <a:ext cx="12600" cy="35388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2212920" y="3152880"/>
                    <a:ext cx="11160" cy="353880"/>
                  </a:xfrm>
                  <a:prstGeom prst="rect">
                    <a:avLst/>
                  </a:prstGeom>
                  <a:solidFill>
                    <a:srgbClr val="cc80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803160" y="3152880"/>
                    <a:ext cx="1409760" cy="288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803160" y="3503520"/>
                    <a:ext cx="1409760" cy="324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803160" y="3155760"/>
                    <a:ext cx="11160" cy="3477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2200320" y="3155760"/>
                    <a:ext cx="12600" cy="347760"/>
                  </a:xfrm>
                  <a:prstGeom prst="rect">
                    <a:avLst/>
                  </a:prstGeom>
                  <a:solidFill>
                    <a:srgbClr val="cb7e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814320" y="3155760"/>
                    <a:ext cx="138600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814320" y="3500280"/>
                    <a:ext cx="1386000" cy="324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814320" y="3159000"/>
                    <a:ext cx="12600" cy="3412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2189160" y="3159000"/>
                    <a:ext cx="11160" cy="341280"/>
                  </a:xfrm>
                  <a:prstGeom prst="rect">
                    <a:avLst/>
                  </a:prstGeom>
                  <a:solidFill>
                    <a:srgbClr val="ca7d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826920" y="3159000"/>
                    <a:ext cx="1362240" cy="32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826920" y="3497040"/>
                    <a:ext cx="1362240" cy="324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826920" y="3162240"/>
                    <a:ext cx="1116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2178000" y="3162240"/>
                    <a:ext cx="11160" cy="334800"/>
                  </a:xfrm>
                  <a:prstGeom prst="rect">
                    <a:avLst/>
                  </a:prstGeom>
                  <a:solidFill>
                    <a:srgbClr val="ca7b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838080" y="3162240"/>
                    <a:ext cx="1339920" cy="324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838080" y="3494160"/>
                    <a:ext cx="1339920" cy="28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838080" y="3165480"/>
                    <a:ext cx="11160" cy="3286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2165400" y="3165480"/>
                    <a:ext cx="12600" cy="328680"/>
                  </a:xfrm>
                  <a:prstGeom prst="rect">
                    <a:avLst/>
                  </a:prstGeom>
                  <a:solidFill>
                    <a:srgbClr val="c97a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849240" y="3165480"/>
                    <a:ext cx="1316160" cy="324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849240" y="3490920"/>
                    <a:ext cx="1316160" cy="324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849240" y="3168720"/>
                    <a:ext cx="12600" cy="32220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2154240" y="3168720"/>
                    <a:ext cx="11160" cy="322200"/>
                  </a:xfrm>
                  <a:prstGeom prst="rect">
                    <a:avLst/>
                  </a:prstGeom>
                  <a:solidFill>
                    <a:srgbClr val="c878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861840" y="3168720"/>
                    <a:ext cx="1292400" cy="144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861840" y="3489120"/>
                    <a:ext cx="1292400" cy="180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861840" y="3170160"/>
                    <a:ext cx="11160" cy="31896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2141280" y="3170160"/>
                    <a:ext cx="12960" cy="318960"/>
                  </a:xfrm>
                  <a:prstGeom prst="rect">
                    <a:avLst/>
                  </a:prstGeom>
                  <a:solidFill>
                    <a:srgbClr val="c777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873000" y="3170160"/>
                    <a:ext cx="1268280" cy="32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873000" y="3486240"/>
                    <a:ext cx="1268280" cy="288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873000" y="3173400"/>
                    <a:ext cx="12600" cy="3128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2130480" y="3173400"/>
                    <a:ext cx="10800" cy="312840"/>
                  </a:xfrm>
                  <a:prstGeom prst="rect">
                    <a:avLst/>
                  </a:prstGeom>
                  <a:solidFill>
                    <a:srgbClr val="c675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885600" y="3173400"/>
                    <a:ext cx="124488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885600" y="3483000"/>
                    <a:ext cx="1244880" cy="324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885600" y="3176640"/>
                    <a:ext cx="11160" cy="30636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2119320" y="3176640"/>
                    <a:ext cx="11160" cy="306360"/>
                  </a:xfrm>
                  <a:prstGeom prst="rect">
                    <a:avLst/>
                  </a:prstGeom>
                  <a:solidFill>
                    <a:srgbClr val="c573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896760" y="3176640"/>
                    <a:ext cx="1222560" cy="3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896760" y="3479760"/>
                    <a:ext cx="1222560" cy="324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896760" y="3179880"/>
                    <a:ext cx="11160" cy="299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2106360" y="3179880"/>
                    <a:ext cx="12960" cy="299880"/>
                  </a:xfrm>
                  <a:prstGeom prst="rect">
                    <a:avLst/>
                  </a:prstGeom>
                  <a:solidFill>
                    <a:srgbClr val="c47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907920" y="3179880"/>
                    <a:ext cx="1198440" cy="288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907920" y="3476520"/>
                    <a:ext cx="1198440" cy="324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907920" y="3182760"/>
                    <a:ext cx="1260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2095560" y="3182760"/>
                    <a:ext cx="10800" cy="293760"/>
                  </a:xfrm>
                  <a:prstGeom prst="rect">
                    <a:avLst/>
                  </a:prstGeom>
                  <a:solidFill>
                    <a:srgbClr val="c370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920520" y="3182760"/>
                    <a:ext cx="117504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920520" y="3473280"/>
                    <a:ext cx="1175040" cy="324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920520" y="3186000"/>
                    <a:ext cx="111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2082600" y="3186000"/>
                    <a:ext cx="12960" cy="287280"/>
                  </a:xfrm>
                  <a:prstGeom prst="rect">
                    <a:avLst/>
                  </a:prstGeom>
                  <a:solidFill>
                    <a:srgbClr val="c26d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>
                    <a:off x="931680" y="3186000"/>
                    <a:ext cx="1150920" cy="180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931680" y="3471840"/>
                    <a:ext cx="1150920" cy="14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931680" y="3187800"/>
                    <a:ext cx="11160" cy="2840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2071440" y="3187800"/>
                    <a:ext cx="11160" cy="284040"/>
                  </a:xfrm>
                  <a:prstGeom prst="rect">
                    <a:avLst/>
                  </a:prstGeom>
                  <a:solidFill>
                    <a:srgbClr val="c26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942840" y="3187800"/>
                    <a:ext cx="1128600" cy="288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942840" y="3468600"/>
                    <a:ext cx="1128600" cy="324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942840" y="3190680"/>
                    <a:ext cx="12600" cy="2779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2060640" y="3190680"/>
                    <a:ext cx="10800" cy="277920"/>
                  </a:xfrm>
                  <a:prstGeom prst="rect">
                    <a:avLst/>
                  </a:prstGeom>
                  <a:solidFill>
                    <a:srgbClr val="c16a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955440" y="3190680"/>
                    <a:ext cx="110520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955440" y="3465360"/>
                    <a:ext cx="1105200" cy="32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955440" y="3193920"/>
                    <a:ext cx="11160" cy="2714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2047680" y="3193920"/>
                    <a:ext cx="12960" cy="271440"/>
                  </a:xfrm>
                  <a:prstGeom prst="rect">
                    <a:avLst/>
                  </a:prstGeom>
                  <a:solidFill>
                    <a:srgbClr val="bf6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966600" y="3193920"/>
                    <a:ext cx="108108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966600" y="3462120"/>
                    <a:ext cx="1081080" cy="324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966600" y="3197160"/>
                    <a:ext cx="12600" cy="26496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2036520" y="3197160"/>
                    <a:ext cx="11160" cy="264960"/>
                  </a:xfrm>
                  <a:prstGeom prst="rect">
                    <a:avLst/>
                  </a:prstGeom>
                  <a:solidFill>
                    <a:srgbClr val="bf66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979200" y="3197160"/>
                    <a:ext cx="1057320" cy="32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979200" y="3459240"/>
                    <a:ext cx="1057320" cy="288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979200" y="3200400"/>
                    <a:ext cx="11160" cy="2588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2023920" y="3200400"/>
                    <a:ext cx="12600" cy="258840"/>
                  </a:xfrm>
                  <a:prstGeom prst="rect">
                    <a:avLst/>
                  </a:prstGeom>
                  <a:solidFill>
                    <a:srgbClr val="be64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990360" y="3200400"/>
                    <a:ext cx="1033560" cy="324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990360" y="3456000"/>
                    <a:ext cx="1033560" cy="324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990360" y="3203640"/>
                    <a:ext cx="11160" cy="25236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2012760" y="3203640"/>
                    <a:ext cx="11160" cy="252360"/>
                  </a:xfrm>
                  <a:prstGeom prst="rect">
                    <a:avLst/>
                  </a:prstGeom>
                  <a:solidFill>
                    <a:srgbClr val="bd62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1001520" y="3203640"/>
                    <a:ext cx="1011240" cy="2880"/>
                  </a:xfrm>
                  <a:prstGeom prst="rect">
                    <a:avLst/>
                  </a:prstGeom>
                  <a:solidFill>
                    <a:srgbClr val="bc60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6" name=""/>
                <p:cNvSpPr/>
                <p:nvPr/>
              </p:nvSpPr>
              <p:spPr>
                <a:xfrm>
                  <a:off x="1001520" y="3452760"/>
                  <a:ext cx="1011240" cy="3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1001520" y="3206520"/>
                  <a:ext cx="12960" cy="246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2001600" y="3206520"/>
                  <a:ext cx="11160" cy="246240"/>
                </a:xfrm>
                <a:prstGeom prst="rect">
                  <a:avLst/>
                </a:prstGeom>
                <a:solidFill>
                  <a:srgbClr val="bc6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1014480" y="3206520"/>
                  <a:ext cx="987120" cy="180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1014480" y="3451320"/>
                  <a:ext cx="987120" cy="144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1014480" y="3208320"/>
                  <a:ext cx="10800" cy="24300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1989000" y="3208320"/>
                  <a:ext cx="12600" cy="243000"/>
                </a:xfrm>
                <a:prstGeom prst="rect">
                  <a:avLst/>
                </a:prstGeom>
                <a:solidFill>
                  <a:srgbClr val="bb5e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1025280" y="3208320"/>
                  <a:ext cx="963720" cy="324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1025280" y="3448080"/>
                  <a:ext cx="963720" cy="324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1025280" y="3211560"/>
                  <a:ext cx="12960" cy="23652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1977840" y="3211560"/>
                  <a:ext cx="11160" cy="236520"/>
                </a:xfrm>
                <a:prstGeom prst="rect">
                  <a:avLst/>
                </a:prstGeom>
                <a:solidFill>
                  <a:srgbClr val="ba5c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1038240" y="3211560"/>
                  <a:ext cx="939600" cy="324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1038240" y="3444840"/>
                  <a:ext cx="939600" cy="324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1038240" y="3214800"/>
                  <a:ext cx="11160" cy="23004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1965240" y="3214800"/>
                  <a:ext cx="12600" cy="230040"/>
                </a:xfrm>
                <a:prstGeom prst="rect">
                  <a:avLst/>
                </a:prstGeom>
                <a:solidFill>
                  <a:srgbClr val="b95a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1049400" y="3214800"/>
                  <a:ext cx="915840" cy="288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1049400" y="3441600"/>
                  <a:ext cx="915840" cy="324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1049400" y="3217680"/>
                  <a:ext cx="10800" cy="22392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1954080" y="3217680"/>
                  <a:ext cx="11160" cy="223920"/>
                </a:xfrm>
                <a:prstGeom prst="rect">
                  <a:avLst/>
                </a:prstGeom>
                <a:solidFill>
                  <a:srgbClr val="b85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1060200" y="3217680"/>
                  <a:ext cx="893880" cy="32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1060200" y="3438360"/>
                  <a:ext cx="893880" cy="32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1060200" y="3220920"/>
                  <a:ext cx="12960" cy="2174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1942920" y="3220920"/>
                  <a:ext cx="11160" cy="217440"/>
                </a:xfrm>
                <a:prstGeom prst="rect">
                  <a:avLst/>
                </a:prstGeom>
                <a:solidFill>
                  <a:srgbClr val="b755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1073160" y="3220920"/>
                  <a:ext cx="869760" cy="324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1073160" y="3435120"/>
                  <a:ext cx="869760" cy="324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1073160" y="3224160"/>
                  <a:ext cx="11160" cy="21096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1930320" y="3224160"/>
                  <a:ext cx="12600" cy="210960"/>
                </a:xfrm>
                <a:prstGeom prst="rect">
                  <a:avLst/>
                </a:prstGeom>
                <a:solidFill>
                  <a:srgbClr val="b654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1084320" y="3224160"/>
                  <a:ext cx="846000" cy="324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1084320" y="3432240"/>
                  <a:ext cx="846000" cy="288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1084320" y="3227400"/>
                  <a:ext cx="12600" cy="20484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1919160" y="3227400"/>
                  <a:ext cx="11160" cy="204840"/>
                </a:xfrm>
                <a:prstGeom prst="rect">
                  <a:avLst/>
                </a:prstGeom>
                <a:solidFill>
                  <a:srgbClr val="b55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1096920" y="3227400"/>
                  <a:ext cx="822240" cy="144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1096920" y="3430440"/>
                  <a:ext cx="822240" cy="180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1096920" y="3228840"/>
                  <a:ext cx="11160" cy="20160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1906560" y="3228840"/>
                  <a:ext cx="12600" cy="201600"/>
                </a:xfrm>
                <a:prstGeom prst="rect">
                  <a:avLst/>
                </a:prstGeom>
                <a:solidFill>
                  <a:srgbClr val="b54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1108080" y="3228840"/>
                  <a:ext cx="798480" cy="324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1108080" y="3427200"/>
                  <a:ext cx="798480" cy="324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1108080" y="3232080"/>
                  <a:ext cx="11160" cy="19512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1895400" y="3232080"/>
                  <a:ext cx="11160" cy="195120"/>
                </a:xfrm>
                <a:prstGeom prst="rect">
                  <a:avLst/>
                </a:prstGeom>
                <a:solidFill>
                  <a:srgbClr val="b44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1119240" y="3232080"/>
                  <a:ext cx="776160" cy="324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1119240" y="3424320"/>
                  <a:ext cx="776160" cy="288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1119240" y="3235320"/>
                  <a:ext cx="12600" cy="18900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1884240" y="3235320"/>
                  <a:ext cx="11160" cy="189000"/>
                </a:xfrm>
                <a:prstGeom prst="rect">
                  <a:avLst/>
                </a:prstGeom>
                <a:solidFill>
                  <a:srgbClr val="b34b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1131840" y="3235320"/>
                  <a:ext cx="752400" cy="324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1131840" y="3421080"/>
                  <a:ext cx="752400" cy="324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1131840" y="3238560"/>
                  <a:ext cx="11160" cy="18252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1871640" y="3238560"/>
                  <a:ext cx="12600" cy="182520"/>
                </a:xfrm>
                <a:prstGeom prst="rect">
                  <a:avLst/>
                </a:prstGeom>
                <a:solidFill>
                  <a:srgbClr val="b248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1143000" y="3238560"/>
                  <a:ext cx="728640" cy="32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1143000" y="3417840"/>
                  <a:ext cx="728640" cy="32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1143000" y="3241800"/>
                  <a:ext cx="12600" cy="1760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1860480" y="3241800"/>
                  <a:ext cx="11160" cy="176040"/>
                </a:xfrm>
                <a:prstGeom prst="rect">
                  <a:avLst/>
                </a:prstGeom>
                <a:solidFill>
                  <a:srgbClr val="b246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1155600" y="3241800"/>
                  <a:ext cx="704880" cy="288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1155600" y="3414600"/>
                  <a:ext cx="704880" cy="324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1155600" y="3244680"/>
                  <a:ext cx="11160" cy="16992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1847880" y="3244680"/>
                  <a:ext cx="12600" cy="169920"/>
                </a:xfrm>
                <a:prstGeom prst="rect">
                  <a:avLst/>
                </a:prstGeom>
                <a:solidFill>
                  <a:srgbClr val="b1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1166760" y="3244680"/>
                  <a:ext cx="681120" cy="32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1166760" y="3411360"/>
                  <a:ext cx="681120" cy="32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1166760" y="3247920"/>
                  <a:ext cx="11160" cy="1634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1836720" y="3247920"/>
                  <a:ext cx="11160" cy="163440"/>
                </a:xfrm>
                <a:prstGeom prst="rect">
                  <a:avLst/>
                </a:prstGeom>
                <a:solidFill>
                  <a:srgbClr val="b04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1177920" y="3247920"/>
                  <a:ext cx="658800" cy="180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1177920" y="3409920"/>
                  <a:ext cx="658800" cy="144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1177920" y="3249720"/>
                  <a:ext cx="12600" cy="16020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1823760" y="3249720"/>
                  <a:ext cx="12960" cy="160200"/>
                </a:xfrm>
                <a:prstGeom prst="rect">
                  <a:avLst/>
                </a:prstGeom>
                <a:solidFill>
                  <a:srgbClr val="af4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1190520" y="3249720"/>
                  <a:ext cx="633240" cy="288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1190520" y="3406680"/>
                  <a:ext cx="633240" cy="324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1190520" y="3252600"/>
                  <a:ext cx="11160" cy="15408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1812960" y="3252600"/>
                  <a:ext cx="10800" cy="154080"/>
                </a:xfrm>
                <a:prstGeom prst="rect">
                  <a:avLst/>
                </a:prstGeom>
                <a:solidFill>
                  <a:srgbClr val="af3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1201680" y="3252600"/>
                  <a:ext cx="611280" cy="324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1201680" y="3403440"/>
                  <a:ext cx="611280" cy="324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1201680" y="3255840"/>
                  <a:ext cx="12600" cy="14760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1801800" y="3255840"/>
                  <a:ext cx="11160" cy="147600"/>
                </a:xfrm>
                <a:prstGeom prst="rect">
                  <a:avLst/>
                </a:prstGeom>
                <a:solidFill>
                  <a:srgbClr val="ae3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1214280" y="3255840"/>
                  <a:ext cx="587520" cy="324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1214280" y="3400200"/>
                  <a:ext cx="587520" cy="324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1214280" y="3259080"/>
                  <a:ext cx="11160" cy="14112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1788840" y="3259080"/>
                  <a:ext cx="12960" cy="141120"/>
                </a:xfrm>
                <a:prstGeom prst="rect">
                  <a:avLst/>
                </a:prstGeom>
                <a:solidFill>
                  <a:srgbClr val="ad39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1225440" y="3259080"/>
                  <a:ext cx="563400" cy="324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1225440" y="3397320"/>
                  <a:ext cx="563400" cy="288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1225440" y="3262320"/>
                  <a:ext cx="11160" cy="13500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1778040" y="3262320"/>
                  <a:ext cx="10800" cy="135000"/>
                </a:xfrm>
                <a:prstGeom prst="rect">
                  <a:avLst/>
                </a:prstGeom>
                <a:solidFill>
                  <a:srgbClr val="ad3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1236600" y="3262320"/>
                  <a:ext cx="541440" cy="324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1236600" y="3394080"/>
                  <a:ext cx="541440" cy="324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1236600" y="3265560"/>
                  <a:ext cx="12600" cy="12852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1765080" y="3265560"/>
                  <a:ext cx="12960" cy="128520"/>
                </a:xfrm>
                <a:prstGeom prst="rect">
                  <a:avLst/>
                </a:prstGeom>
                <a:solidFill>
                  <a:srgbClr val="ac35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1249200" y="3265560"/>
                  <a:ext cx="515880" cy="288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1249200" y="3390840"/>
                  <a:ext cx="515880" cy="324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1249200" y="3268440"/>
                  <a:ext cx="11160" cy="12240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1753920" y="3268440"/>
                  <a:ext cx="11160" cy="122400"/>
                </a:xfrm>
                <a:prstGeom prst="rect">
                  <a:avLst/>
                </a:prstGeom>
                <a:solidFill>
                  <a:srgbClr val="ab33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1260360" y="3268440"/>
                  <a:ext cx="493560" cy="180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1260360" y="3389400"/>
                  <a:ext cx="493560" cy="144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1260360" y="3270240"/>
                  <a:ext cx="12600" cy="11916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1743120" y="3270240"/>
                  <a:ext cx="10800" cy="119160"/>
                </a:xfrm>
                <a:prstGeom prst="rect">
                  <a:avLst/>
                </a:prstGeom>
                <a:solidFill>
                  <a:srgbClr val="ab3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1272960" y="3270240"/>
                  <a:ext cx="470160" cy="324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1272960" y="3386160"/>
                  <a:ext cx="470160" cy="324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1272960" y="3273480"/>
                  <a:ext cx="11160" cy="11268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1730160" y="3273480"/>
                  <a:ext cx="12960" cy="112680"/>
                </a:xfrm>
                <a:prstGeom prst="rect">
                  <a:avLst/>
                </a:prstGeom>
                <a:solidFill>
                  <a:srgbClr val="aa2e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1284120" y="3273480"/>
                  <a:ext cx="446040" cy="324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1284120" y="3382920"/>
                  <a:ext cx="446040" cy="324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1284120" y="3276720"/>
                  <a:ext cx="11160" cy="10620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1719000" y="3276720"/>
                  <a:ext cx="11160" cy="106200"/>
                </a:xfrm>
                <a:prstGeom prst="rect">
                  <a:avLst/>
                </a:prstGeom>
                <a:solidFill>
                  <a:srgbClr val="aa2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1295280" y="3276720"/>
                  <a:ext cx="423720" cy="288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1295280" y="3379680"/>
                  <a:ext cx="423720" cy="324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1295280" y="3279600"/>
                  <a:ext cx="12600" cy="10008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1706400" y="3279600"/>
                  <a:ext cx="12600" cy="100080"/>
                </a:xfrm>
                <a:prstGeom prst="rect">
                  <a:avLst/>
                </a:prstGeom>
                <a:solidFill>
                  <a:srgbClr val="a92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1307880" y="3279600"/>
                  <a:ext cx="398520" cy="324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1307880" y="3376440"/>
                  <a:ext cx="398520" cy="324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1307880" y="3282840"/>
                  <a:ext cx="11160" cy="9360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1695240" y="3282840"/>
                  <a:ext cx="11160" cy="93600"/>
                </a:xfrm>
                <a:prstGeom prst="rect">
                  <a:avLst/>
                </a:prstGeom>
                <a:solidFill>
                  <a:srgbClr val="a928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1319040" y="3282840"/>
                  <a:ext cx="376200" cy="324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1319040" y="3373560"/>
                  <a:ext cx="376200" cy="288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1319040" y="3286080"/>
                  <a:ext cx="12600" cy="8748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1684080" y="3286080"/>
                  <a:ext cx="11160" cy="87480"/>
                </a:xfrm>
                <a:prstGeom prst="rect">
                  <a:avLst/>
                </a:prstGeom>
                <a:solidFill>
                  <a:srgbClr val="a927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1331640" y="3286080"/>
                  <a:ext cx="352440" cy="324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331640" y="3370320"/>
                  <a:ext cx="352440" cy="324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1331640" y="3289320"/>
                  <a:ext cx="11160" cy="8100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1671480" y="3289320"/>
                  <a:ext cx="12600" cy="81000"/>
                </a:xfrm>
                <a:prstGeom prst="rect">
                  <a:avLst/>
                </a:prstGeom>
                <a:solidFill>
                  <a:srgbClr val="a824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1342800" y="3289320"/>
                  <a:ext cx="328680" cy="144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1342800" y="3368520"/>
                  <a:ext cx="328680" cy="180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1342800" y="3290760"/>
                  <a:ext cx="11160" cy="7776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1660320" y="3290760"/>
                  <a:ext cx="11160" cy="77760"/>
                </a:xfrm>
                <a:prstGeom prst="rect">
                  <a:avLst/>
                </a:prstGeom>
                <a:solidFill>
                  <a:srgbClr val="a822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1353960" y="3290760"/>
                  <a:ext cx="306360" cy="324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1353960" y="3365280"/>
                  <a:ext cx="306360" cy="324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1353960" y="3294000"/>
                  <a:ext cx="12600" cy="7128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1647720" y="3294000"/>
                  <a:ext cx="12600" cy="71280"/>
                </a:xfrm>
                <a:prstGeom prst="rect">
                  <a:avLst/>
                </a:prstGeom>
                <a:solidFill>
                  <a:srgbClr val="a7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1366560" y="3294000"/>
                  <a:ext cx="281160" cy="324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1366560" y="3362400"/>
                  <a:ext cx="281160" cy="288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1366560" y="3297240"/>
                  <a:ext cx="11160" cy="6516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1636560" y="3297240"/>
                  <a:ext cx="11160" cy="65160"/>
                </a:xfrm>
                <a:prstGeom prst="rect">
                  <a:avLst/>
                </a:prstGeom>
                <a:solidFill>
                  <a:srgbClr val="a71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1377720" y="3297240"/>
                  <a:ext cx="258840" cy="324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1377720" y="3359160"/>
                  <a:ext cx="258840" cy="324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1377720" y="3300480"/>
                  <a:ext cx="12960" cy="5868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1625400" y="3300480"/>
                  <a:ext cx="11160" cy="58680"/>
                </a:xfrm>
                <a:prstGeom prst="rect">
                  <a:avLst/>
                </a:prstGeom>
                <a:solidFill>
                  <a:srgbClr val="a71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1390680" y="3300480"/>
                  <a:ext cx="234720" cy="288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1390680" y="3355920"/>
                  <a:ext cx="234720" cy="324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1390680" y="3303360"/>
                  <a:ext cx="10800" cy="5256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1612800" y="3303360"/>
                  <a:ext cx="12600" cy="52560"/>
                </a:xfrm>
                <a:prstGeom prst="rect">
                  <a:avLst/>
                </a:prstGeom>
                <a:solidFill>
                  <a:srgbClr val="a61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1401480" y="3303360"/>
                  <a:ext cx="211320" cy="324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1401480" y="3352680"/>
                  <a:ext cx="211320" cy="324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1401480" y="3306600"/>
                  <a:ext cx="11160" cy="4608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1601640" y="3306600"/>
                  <a:ext cx="11160" cy="46080"/>
                </a:xfrm>
                <a:prstGeom prst="rect">
                  <a:avLst/>
                </a:prstGeom>
                <a:solidFill>
                  <a:srgbClr val="a61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1412640" y="3306600"/>
                  <a:ext cx="189000" cy="324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1412640" y="3349440"/>
                  <a:ext cx="189000" cy="324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1412640" y="3309840"/>
                  <a:ext cx="12960" cy="3960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1589040" y="3309840"/>
                  <a:ext cx="12600" cy="39600"/>
                </a:xfrm>
                <a:prstGeom prst="rect">
                  <a:avLst/>
                </a:prstGeom>
                <a:solidFill>
                  <a:srgbClr val="a61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1425600" y="3309840"/>
                  <a:ext cx="163440" cy="180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1425600" y="3348000"/>
                  <a:ext cx="163440" cy="144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1425600" y="3311640"/>
                  <a:ext cx="10800" cy="3636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1577880" y="3311640"/>
                  <a:ext cx="11160" cy="36360"/>
                </a:xfrm>
                <a:prstGeom prst="rect">
                  <a:avLst/>
                </a:prstGeom>
                <a:solidFill>
                  <a:srgbClr val="a61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1436400" y="3311640"/>
                  <a:ext cx="141480" cy="288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1436400" y="3344760"/>
                  <a:ext cx="141480" cy="3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1436400" y="3314520"/>
                  <a:ext cx="12960" cy="30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1566720" y="3314520"/>
                  <a:ext cx="11160" cy="30240"/>
                </a:xfrm>
                <a:prstGeom prst="rect">
                  <a:avLst/>
                </a:prstGeom>
                <a:solidFill>
                  <a:srgbClr val="a51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1449360" y="3314520"/>
                  <a:ext cx="117360" cy="324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1449360" y="3341520"/>
                  <a:ext cx="117360" cy="324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1449360" y="3317760"/>
                  <a:ext cx="11160" cy="2376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1554120" y="3317760"/>
                  <a:ext cx="12600" cy="23760"/>
                </a:xfrm>
                <a:prstGeom prst="rect">
                  <a:avLst/>
                </a:prstGeom>
                <a:solidFill>
                  <a:srgbClr val="a50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1460520" y="3317760"/>
                  <a:ext cx="93600" cy="324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1460520" y="3338640"/>
                  <a:ext cx="93600" cy="288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1460520" y="3321000"/>
                  <a:ext cx="11160" cy="1764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1542960" y="3321000"/>
                  <a:ext cx="11160" cy="17640"/>
                </a:xfrm>
                <a:prstGeom prst="rect">
                  <a:avLst/>
                </a:prstGeom>
                <a:solidFill>
                  <a:srgbClr val="a50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1471680" y="3321000"/>
                  <a:ext cx="71280" cy="324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1471680" y="3335400"/>
                  <a:ext cx="71280" cy="324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1471680" y="3324240"/>
                  <a:ext cx="12600" cy="1116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1530360" y="3324240"/>
                  <a:ext cx="12600" cy="11160"/>
                </a:xfrm>
                <a:prstGeom prst="rect">
                  <a:avLst/>
                </a:prstGeom>
                <a:solidFill>
                  <a:srgbClr val="a50a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1484280" y="3324240"/>
                  <a:ext cx="46080" cy="324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1484280" y="3332160"/>
                  <a:ext cx="46080" cy="324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1484280" y="3327480"/>
                  <a:ext cx="11160" cy="468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1519200" y="3327480"/>
                  <a:ext cx="11160" cy="4680"/>
                </a:xfrm>
                <a:prstGeom prst="rect">
                  <a:avLst/>
                </a:prstGeom>
                <a:solidFill>
                  <a:srgbClr val="a506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1495440" y="3327480"/>
                  <a:ext cx="2376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1495440" y="3330360"/>
                  <a:ext cx="23760" cy="180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1495440" y="3328920"/>
                  <a:ext cx="1116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1508040" y="3328920"/>
                  <a:ext cx="1116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1506600" y="3328920"/>
                  <a:ext cx="1440" cy="144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8" name=""/>
              <p:cNvSpPr/>
              <p:nvPr/>
            </p:nvSpPr>
            <p:spPr>
              <a:xfrm>
                <a:off x="380880" y="3048120"/>
                <a:ext cx="2254320" cy="563400"/>
              </a:xfrm>
              <a:custGeom>
                <a:avLst/>
                <a:gdLst/>
                <a:ahLst/>
                <a:rect l="l" t="t" r="r" b="b"/>
                <a:pathLst>
                  <a:path w="1420" h="355">
                    <a:moveTo>
                      <a:pt x="134" y="0"/>
                    </a:moveTo>
                    <a:lnTo>
                      <a:pt x="122" y="0"/>
                    </a:lnTo>
                    <a:lnTo>
                      <a:pt x="110" y="3"/>
                    </a:lnTo>
                    <a:lnTo>
                      <a:pt x="85" y="11"/>
                    </a:lnTo>
                    <a:lnTo>
                      <a:pt x="42" y="41"/>
                    </a:lnTo>
                    <a:lnTo>
                      <a:pt x="12" y="84"/>
                    </a:lnTo>
                    <a:lnTo>
                      <a:pt x="4" y="108"/>
                    </a:lnTo>
                    <a:lnTo>
                      <a:pt x="0" y="133"/>
                    </a:lnTo>
                    <a:lnTo>
                      <a:pt x="0" y="222"/>
                    </a:lnTo>
                    <a:lnTo>
                      <a:pt x="11" y="270"/>
                    </a:lnTo>
                    <a:lnTo>
                      <a:pt x="41" y="313"/>
                    </a:lnTo>
                    <a:lnTo>
                      <a:pt x="84" y="343"/>
                    </a:lnTo>
                    <a:lnTo>
                      <a:pt x="108" y="351"/>
                    </a:lnTo>
                    <a:lnTo>
                      <a:pt x="134" y="355"/>
                    </a:lnTo>
                    <a:lnTo>
                      <a:pt x="1286" y="355"/>
                    </a:lnTo>
                    <a:lnTo>
                      <a:pt x="1335" y="344"/>
                    </a:lnTo>
                    <a:lnTo>
                      <a:pt x="1378" y="313"/>
                    </a:lnTo>
                    <a:lnTo>
                      <a:pt x="1408" y="271"/>
                    </a:lnTo>
                    <a:lnTo>
                      <a:pt x="1416" y="247"/>
                    </a:lnTo>
                    <a:lnTo>
                      <a:pt x="1420" y="222"/>
                    </a:lnTo>
                    <a:lnTo>
                      <a:pt x="1420" y="133"/>
                    </a:lnTo>
                    <a:lnTo>
                      <a:pt x="1420" y="121"/>
                    </a:lnTo>
                    <a:lnTo>
                      <a:pt x="1417" y="109"/>
                    </a:lnTo>
                    <a:lnTo>
                      <a:pt x="1409" y="85"/>
                    </a:lnTo>
                    <a:lnTo>
                      <a:pt x="1379" y="42"/>
                    </a:lnTo>
                    <a:lnTo>
                      <a:pt x="1336" y="12"/>
                    </a:lnTo>
                    <a:lnTo>
                      <a:pt x="1312" y="4"/>
                    </a:lnTo>
                    <a:lnTo>
                      <a:pt x="1286" y="0"/>
                    </a:lnTo>
                    <a:lnTo>
                      <a:pt x="134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9" name=""/>
            <p:cNvSpPr/>
            <p:nvPr/>
          </p:nvSpPr>
          <p:spPr>
            <a:xfrm>
              <a:off x="480960" y="3063960"/>
              <a:ext cx="20905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30280" y="3074760"/>
              <a:ext cx="208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nergy Consum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7600" y="3324240"/>
              <a:ext cx="1551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25120" y="3335400"/>
              <a:ext cx="155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2 Emissi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3" name=""/>
          <p:cNvSpPr/>
          <p:nvPr/>
        </p:nvSpPr>
        <p:spPr>
          <a:xfrm>
            <a:off x="1981080" y="4191120"/>
            <a:ext cx="2667240" cy="2286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4" name=""/>
          <p:cNvGrpSpPr/>
          <p:nvPr/>
        </p:nvGrpSpPr>
        <p:grpSpPr>
          <a:xfrm>
            <a:off x="5272200" y="3114720"/>
            <a:ext cx="637920" cy="398520"/>
            <a:chOff x="5272200" y="3114720"/>
            <a:chExt cx="637920" cy="398520"/>
          </a:xfrm>
        </p:grpSpPr>
        <p:grpSp>
          <p:nvGrpSpPr>
            <p:cNvPr id="2575" name=""/>
            <p:cNvGrpSpPr/>
            <p:nvPr/>
          </p:nvGrpSpPr>
          <p:grpSpPr>
            <a:xfrm>
              <a:off x="5272200" y="3114720"/>
              <a:ext cx="637920" cy="398520"/>
              <a:chOff x="5272200" y="3114720"/>
              <a:chExt cx="637920" cy="398520"/>
            </a:xfrm>
          </p:grpSpPr>
          <p:pic>
            <p:nvPicPr>
              <p:cNvPr id="25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722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481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2448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008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767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5308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94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053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81680" y="311472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2722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3481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2448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08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5767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65308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294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8053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881680" y="3191040"/>
                <a:ext cx="2844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4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722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5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3481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6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42448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5008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767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9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65308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7294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8053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881680" y="326700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2722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4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81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42448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6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5008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7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5767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8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65308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9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7294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0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8053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1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881680" y="334332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2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52722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3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3481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42448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55008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5767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7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65308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8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7294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8053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0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881680" y="3419640"/>
                <a:ext cx="2844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1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52722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3481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3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542448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4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55008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5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55767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6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565308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7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57294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8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58053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9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81680" y="3495600"/>
                <a:ext cx="28440" cy="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0" name=""/>
              <p:cNvSpPr/>
              <p:nvPr/>
            </p:nvSpPr>
            <p:spPr>
              <a:xfrm>
                <a:off x="5272200" y="3114720"/>
                <a:ext cx="636480" cy="396720"/>
              </a:xfrm>
              <a:custGeom>
                <a:avLst/>
                <a:gdLst/>
                <a:ahLst/>
                <a:rect l="l" t="t" r="r" b="b"/>
                <a:pathLst>
                  <a:path w="401" h="250">
                    <a:moveTo>
                      <a:pt x="401" y="47"/>
                    </a:moveTo>
                    <a:lnTo>
                      <a:pt x="113" y="47"/>
                    </a:lnTo>
                    <a:lnTo>
                      <a:pt x="113" y="0"/>
                    </a:lnTo>
                    <a:lnTo>
                      <a:pt x="0" y="125"/>
                    </a:lnTo>
                    <a:lnTo>
                      <a:pt x="113" y="250"/>
                    </a:lnTo>
                    <a:lnTo>
                      <a:pt x="113" y="208"/>
                    </a:lnTo>
                    <a:lnTo>
                      <a:pt x="401" y="208"/>
                    </a:lnTo>
                    <a:lnTo>
                      <a:pt x="401" y="47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272200" y="3114720"/>
                <a:ext cx="636480" cy="396720"/>
              </a:xfrm>
              <a:custGeom>
                <a:avLst/>
                <a:gdLst/>
                <a:ahLst/>
                <a:rect l="l" t="t" r="r" b="b"/>
                <a:pathLst>
                  <a:path w="401" h="250">
                    <a:moveTo>
                      <a:pt x="401" y="47"/>
                    </a:moveTo>
                    <a:lnTo>
                      <a:pt x="113" y="47"/>
                    </a:lnTo>
                    <a:lnTo>
                      <a:pt x="113" y="0"/>
                    </a:lnTo>
                    <a:lnTo>
                      <a:pt x="0" y="125"/>
                    </a:lnTo>
                    <a:lnTo>
                      <a:pt x="113" y="250"/>
                    </a:lnTo>
                    <a:lnTo>
                      <a:pt x="113" y="208"/>
                    </a:lnTo>
                    <a:lnTo>
                      <a:pt x="401" y="208"/>
                    </a:lnTo>
                    <a:lnTo>
                      <a:pt x="40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32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52722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3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53481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4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542448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5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55008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6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55767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7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565308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8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57294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9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58053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0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5881680" y="311472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1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52722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2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53481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3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542448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4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5008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5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5767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6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565308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7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57294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8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58053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9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881680" y="3191040"/>
                <a:ext cx="2844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0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2722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1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53481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2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42448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3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55008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4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55767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5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565308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6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57294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7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58053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8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5881680" y="326700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9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52722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0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53481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1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542448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2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55008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3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55767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4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565308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5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57294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6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58053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7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5881680" y="334332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8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52722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9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53481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0" name="" descr=""/>
              <p:cNvPicPr/>
              <p:nvPr/>
            </p:nvPicPr>
            <p:blipFill>
              <a:blip r:embed="rId95"/>
              <a:stretch/>
            </p:blipFill>
            <p:spPr>
              <a:xfrm>
                <a:off x="542448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1" name="" descr=""/>
              <p:cNvPicPr/>
              <p:nvPr/>
            </p:nvPicPr>
            <p:blipFill>
              <a:blip r:embed="rId96"/>
              <a:stretch/>
            </p:blipFill>
            <p:spPr>
              <a:xfrm>
                <a:off x="55008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2" name="" descr=""/>
              <p:cNvPicPr/>
              <p:nvPr/>
            </p:nvPicPr>
            <p:blipFill>
              <a:blip r:embed="rId97"/>
              <a:stretch/>
            </p:blipFill>
            <p:spPr>
              <a:xfrm>
                <a:off x="55767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3" name="" descr=""/>
              <p:cNvPicPr/>
              <p:nvPr/>
            </p:nvPicPr>
            <p:blipFill>
              <a:blip r:embed="rId98"/>
              <a:stretch/>
            </p:blipFill>
            <p:spPr>
              <a:xfrm>
                <a:off x="565308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4" name="" descr=""/>
              <p:cNvPicPr/>
              <p:nvPr/>
            </p:nvPicPr>
            <p:blipFill>
              <a:blip r:embed="rId99"/>
              <a:stretch/>
            </p:blipFill>
            <p:spPr>
              <a:xfrm>
                <a:off x="57294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5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58053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6" name="" descr=""/>
              <p:cNvPicPr/>
              <p:nvPr/>
            </p:nvPicPr>
            <p:blipFill>
              <a:blip r:embed="rId101"/>
              <a:stretch/>
            </p:blipFill>
            <p:spPr>
              <a:xfrm>
                <a:off x="5881680" y="3419640"/>
                <a:ext cx="2844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7" name="" descr=""/>
              <p:cNvPicPr/>
              <p:nvPr/>
            </p:nvPicPr>
            <p:blipFill>
              <a:blip r:embed="rId102"/>
              <a:stretch/>
            </p:blipFill>
            <p:spPr>
              <a:xfrm>
                <a:off x="52722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8" name="" descr=""/>
              <p:cNvPicPr/>
              <p:nvPr/>
            </p:nvPicPr>
            <p:blipFill>
              <a:blip r:embed="rId103"/>
              <a:stretch/>
            </p:blipFill>
            <p:spPr>
              <a:xfrm>
                <a:off x="53481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9" name="" descr=""/>
              <p:cNvPicPr/>
              <p:nvPr/>
            </p:nvPicPr>
            <p:blipFill>
              <a:blip r:embed="rId104"/>
              <a:stretch/>
            </p:blipFill>
            <p:spPr>
              <a:xfrm>
                <a:off x="542448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0" name="" descr=""/>
              <p:cNvPicPr/>
              <p:nvPr/>
            </p:nvPicPr>
            <p:blipFill>
              <a:blip r:embed="rId105"/>
              <a:stretch/>
            </p:blipFill>
            <p:spPr>
              <a:xfrm>
                <a:off x="55008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1" name="" descr=""/>
              <p:cNvPicPr/>
              <p:nvPr/>
            </p:nvPicPr>
            <p:blipFill>
              <a:blip r:embed="rId106"/>
              <a:stretch/>
            </p:blipFill>
            <p:spPr>
              <a:xfrm>
                <a:off x="55767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2" name="" descr=""/>
              <p:cNvPicPr/>
              <p:nvPr/>
            </p:nvPicPr>
            <p:blipFill>
              <a:blip r:embed="rId107"/>
              <a:stretch/>
            </p:blipFill>
            <p:spPr>
              <a:xfrm>
                <a:off x="565308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3" name="" descr=""/>
              <p:cNvPicPr/>
              <p:nvPr/>
            </p:nvPicPr>
            <p:blipFill>
              <a:blip r:embed="rId108"/>
              <a:stretch/>
            </p:blipFill>
            <p:spPr>
              <a:xfrm>
                <a:off x="57294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4" name="" descr=""/>
              <p:cNvPicPr/>
              <p:nvPr/>
            </p:nvPicPr>
            <p:blipFill>
              <a:blip r:embed="rId109"/>
              <a:stretch/>
            </p:blipFill>
            <p:spPr>
              <a:xfrm>
                <a:off x="58053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5" name="" descr=""/>
              <p:cNvPicPr/>
              <p:nvPr/>
            </p:nvPicPr>
            <p:blipFill>
              <a:blip r:embed="rId110"/>
              <a:stretch/>
            </p:blipFill>
            <p:spPr>
              <a:xfrm>
                <a:off x="5881680" y="3495600"/>
                <a:ext cx="28440" cy="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86" name=""/>
            <p:cNvSpPr/>
            <p:nvPr/>
          </p:nvSpPr>
          <p:spPr>
            <a:xfrm>
              <a:off x="5272200" y="3114720"/>
              <a:ext cx="636480" cy="396720"/>
            </a:xfrm>
            <a:custGeom>
              <a:avLst/>
              <a:gdLst/>
              <a:ahLst/>
              <a:rect l="l" t="t" r="r" b="b"/>
              <a:pathLst>
                <a:path w="401" h="250">
                  <a:moveTo>
                    <a:pt x="401" y="47"/>
                  </a:moveTo>
                  <a:lnTo>
                    <a:pt x="113" y="47"/>
                  </a:lnTo>
                  <a:lnTo>
                    <a:pt x="113" y="0"/>
                  </a:lnTo>
                  <a:lnTo>
                    <a:pt x="0" y="125"/>
                  </a:lnTo>
                  <a:lnTo>
                    <a:pt x="113" y="250"/>
                  </a:lnTo>
                  <a:lnTo>
                    <a:pt x="113" y="208"/>
                  </a:lnTo>
                  <a:lnTo>
                    <a:pt x="401" y="208"/>
                  </a:lnTo>
                  <a:lnTo>
                    <a:pt x="401" y="47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2757600" y="3114720"/>
            <a:ext cx="637920" cy="398520"/>
            <a:chOff x="2757600" y="3114720"/>
            <a:chExt cx="637920" cy="398520"/>
          </a:xfrm>
        </p:grpSpPr>
        <p:grpSp>
          <p:nvGrpSpPr>
            <p:cNvPr id="2688" name=""/>
            <p:cNvGrpSpPr/>
            <p:nvPr/>
          </p:nvGrpSpPr>
          <p:grpSpPr>
            <a:xfrm>
              <a:off x="2757600" y="3114720"/>
              <a:ext cx="637920" cy="398520"/>
              <a:chOff x="2757600" y="3114720"/>
              <a:chExt cx="637920" cy="398520"/>
            </a:xfrm>
          </p:grpSpPr>
          <p:pic>
            <p:nvPicPr>
              <p:cNvPr id="2689" name="" descr=""/>
              <p:cNvPicPr/>
              <p:nvPr/>
            </p:nvPicPr>
            <p:blipFill>
              <a:blip r:embed="rId111"/>
              <a:stretch/>
            </p:blipFill>
            <p:spPr>
              <a:xfrm>
                <a:off x="27576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0" name="" descr=""/>
              <p:cNvPicPr/>
              <p:nvPr/>
            </p:nvPicPr>
            <p:blipFill>
              <a:blip r:embed="rId112"/>
              <a:stretch/>
            </p:blipFill>
            <p:spPr>
              <a:xfrm>
                <a:off x="28335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1" name="" descr=""/>
              <p:cNvPicPr/>
              <p:nvPr/>
            </p:nvPicPr>
            <p:blipFill>
              <a:blip r:embed="rId113"/>
              <a:stretch/>
            </p:blipFill>
            <p:spPr>
              <a:xfrm>
                <a:off x="290988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2" name="" descr=""/>
              <p:cNvPicPr/>
              <p:nvPr/>
            </p:nvPicPr>
            <p:blipFill>
              <a:blip r:embed="rId114"/>
              <a:stretch/>
            </p:blipFill>
            <p:spPr>
              <a:xfrm>
                <a:off x="29862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3" name="" descr=""/>
              <p:cNvPicPr/>
              <p:nvPr/>
            </p:nvPicPr>
            <p:blipFill>
              <a:blip r:embed="rId115"/>
              <a:stretch/>
            </p:blipFill>
            <p:spPr>
              <a:xfrm>
                <a:off x="30621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4" name="" descr=""/>
              <p:cNvPicPr/>
              <p:nvPr/>
            </p:nvPicPr>
            <p:blipFill>
              <a:blip r:embed="rId116"/>
              <a:stretch/>
            </p:blipFill>
            <p:spPr>
              <a:xfrm>
                <a:off x="313848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5" name="" descr=""/>
              <p:cNvPicPr/>
              <p:nvPr/>
            </p:nvPicPr>
            <p:blipFill>
              <a:blip r:embed="rId117"/>
              <a:stretch/>
            </p:blipFill>
            <p:spPr>
              <a:xfrm>
                <a:off x="32148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6" name="" descr=""/>
              <p:cNvPicPr/>
              <p:nvPr/>
            </p:nvPicPr>
            <p:blipFill>
              <a:blip r:embed="rId118"/>
              <a:stretch/>
            </p:blipFill>
            <p:spPr>
              <a:xfrm>
                <a:off x="32907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7" name="" descr=""/>
              <p:cNvPicPr/>
              <p:nvPr/>
            </p:nvPicPr>
            <p:blipFill>
              <a:blip r:embed="rId119"/>
              <a:stretch/>
            </p:blipFill>
            <p:spPr>
              <a:xfrm>
                <a:off x="3367080" y="311472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8" name="" descr=""/>
              <p:cNvPicPr/>
              <p:nvPr/>
            </p:nvPicPr>
            <p:blipFill>
              <a:blip r:embed="rId120"/>
              <a:stretch/>
            </p:blipFill>
            <p:spPr>
              <a:xfrm>
                <a:off x="27576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9" name="" descr=""/>
              <p:cNvPicPr/>
              <p:nvPr/>
            </p:nvPicPr>
            <p:blipFill>
              <a:blip r:embed="rId121"/>
              <a:stretch/>
            </p:blipFill>
            <p:spPr>
              <a:xfrm>
                <a:off x="28335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0" name="" descr=""/>
              <p:cNvPicPr/>
              <p:nvPr/>
            </p:nvPicPr>
            <p:blipFill>
              <a:blip r:embed="rId122"/>
              <a:stretch/>
            </p:blipFill>
            <p:spPr>
              <a:xfrm>
                <a:off x="290988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1" name="" descr=""/>
              <p:cNvPicPr/>
              <p:nvPr/>
            </p:nvPicPr>
            <p:blipFill>
              <a:blip r:embed="rId123"/>
              <a:stretch/>
            </p:blipFill>
            <p:spPr>
              <a:xfrm>
                <a:off x="29862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2" name="" descr=""/>
              <p:cNvPicPr/>
              <p:nvPr/>
            </p:nvPicPr>
            <p:blipFill>
              <a:blip r:embed="rId124"/>
              <a:stretch/>
            </p:blipFill>
            <p:spPr>
              <a:xfrm>
                <a:off x="30621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3" name="" descr=""/>
              <p:cNvPicPr/>
              <p:nvPr/>
            </p:nvPicPr>
            <p:blipFill>
              <a:blip r:embed="rId125"/>
              <a:stretch/>
            </p:blipFill>
            <p:spPr>
              <a:xfrm>
                <a:off x="313848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4" name="" descr=""/>
              <p:cNvPicPr/>
              <p:nvPr/>
            </p:nvPicPr>
            <p:blipFill>
              <a:blip r:embed="rId126"/>
              <a:stretch/>
            </p:blipFill>
            <p:spPr>
              <a:xfrm>
                <a:off x="32148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5" name="" descr=""/>
              <p:cNvPicPr/>
              <p:nvPr/>
            </p:nvPicPr>
            <p:blipFill>
              <a:blip r:embed="rId127"/>
              <a:stretch/>
            </p:blipFill>
            <p:spPr>
              <a:xfrm>
                <a:off x="32907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6" name="" descr=""/>
              <p:cNvPicPr/>
              <p:nvPr/>
            </p:nvPicPr>
            <p:blipFill>
              <a:blip r:embed="rId128"/>
              <a:stretch/>
            </p:blipFill>
            <p:spPr>
              <a:xfrm>
                <a:off x="3367080" y="3191040"/>
                <a:ext cx="2844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7" name="" descr=""/>
              <p:cNvPicPr/>
              <p:nvPr/>
            </p:nvPicPr>
            <p:blipFill>
              <a:blip r:embed="rId129"/>
              <a:stretch/>
            </p:blipFill>
            <p:spPr>
              <a:xfrm>
                <a:off x="27576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8" name="" descr=""/>
              <p:cNvPicPr/>
              <p:nvPr/>
            </p:nvPicPr>
            <p:blipFill>
              <a:blip r:embed="rId130"/>
              <a:stretch/>
            </p:blipFill>
            <p:spPr>
              <a:xfrm>
                <a:off x="28335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9" name="" descr=""/>
              <p:cNvPicPr/>
              <p:nvPr/>
            </p:nvPicPr>
            <p:blipFill>
              <a:blip r:embed="rId131"/>
              <a:stretch/>
            </p:blipFill>
            <p:spPr>
              <a:xfrm>
                <a:off x="290988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0" name="" descr=""/>
              <p:cNvPicPr/>
              <p:nvPr/>
            </p:nvPicPr>
            <p:blipFill>
              <a:blip r:embed="rId132"/>
              <a:stretch/>
            </p:blipFill>
            <p:spPr>
              <a:xfrm>
                <a:off x="29862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1" name="" descr=""/>
              <p:cNvPicPr/>
              <p:nvPr/>
            </p:nvPicPr>
            <p:blipFill>
              <a:blip r:embed="rId133"/>
              <a:stretch/>
            </p:blipFill>
            <p:spPr>
              <a:xfrm>
                <a:off x="30621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2" name="" descr=""/>
              <p:cNvPicPr/>
              <p:nvPr/>
            </p:nvPicPr>
            <p:blipFill>
              <a:blip r:embed="rId134"/>
              <a:stretch/>
            </p:blipFill>
            <p:spPr>
              <a:xfrm>
                <a:off x="313848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3" name="" descr=""/>
              <p:cNvPicPr/>
              <p:nvPr/>
            </p:nvPicPr>
            <p:blipFill>
              <a:blip r:embed="rId135"/>
              <a:stretch/>
            </p:blipFill>
            <p:spPr>
              <a:xfrm>
                <a:off x="32148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4" name="" descr=""/>
              <p:cNvPicPr/>
              <p:nvPr/>
            </p:nvPicPr>
            <p:blipFill>
              <a:blip r:embed="rId136"/>
              <a:stretch/>
            </p:blipFill>
            <p:spPr>
              <a:xfrm>
                <a:off x="32907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5" name="" descr=""/>
              <p:cNvPicPr/>
              <p:nvPr/>
            </p:nvPicPr>
            <p:blipFill>
              <a:blip r:embed="rId137"/>
              <a:stretch/>
            </p:blipFill>
            <p:spPr>
              <a:xfrm>
                <a:off x="3367080" y="326700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6" name="" descr=""/>
              <p:cNvPicPr/>
              <p:nvPr/>
            </p:nvPicPr>
            <p:blipFill>
              <a:blip r:embed="rId138"/>
              <a:stretch/>
            </p:blipFill>
            <p:spPr>
              <a:xfrm>
                <a:off x="27576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7" name="" descr=""/>
              <p:cNvPicPr/>
              <p:nvPr/>
            </p:nvPicPr>
            <p:blipFill>
              <a:blip r:embed="rId139"/>
              <a:stretch/>
            </p:blipFill>
            <p:spPr>
              <a:xfrm>
                <a:off x="28335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8" name="" descr=""/>
              <p:cNvPicPr/>
              <p:nvPr/>
            </p:nvPicPr>
            <p:blipFill>
              <a:blip r:embed="rId140"/>
              <a:stretch/>
            </p:blipFill>
            <p:spPr>
              <a:xfrm>
                <a:off x="290988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9" name="" descr=""/>
              <p:cNvPicPr/>
              <p:nvPr/>
            </p:nvPicPr>
            <p:blipFill>
              <a:blip r:embed="rId141"/>
              <a:stretch/>
            </p:blipFill>
            <p:spPr>
              <a:xfrm>
                <a:off x="29862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0" name="" descr=""/>
              <p:cNvPicPr/>
              <p:nvPr/>
            </p:nvPicPr>
            <p:blipFill>
              <a:blip r:embed="rId142"/>
              <a:stretch/>
            </p:blipFill>
            <p:spPr>
              <a:xfrm>
                <a:off x="30621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1" name="" descr=""/>
              <p:cNvPicPr/>
              <p:nvPr/>
            </p:nvPicPr>
            <p:blipFill>
              <a:blip r:embed="rId143"/>
              <a:stretch/>
            </p:blipFill>
            <p:spPr>
              <a:xfrm>
                <a:off x="313848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2" name="" descr=""/>
              <p:cNvPicPr/>
              <p:nvPr/>
            </p:nvPicPr>
            <p:blipFill>
              <a:blip r:embed="rId144"/>
              <a:stretch/>
            </p:blipFill>
            <p:spPr>
              <a:xfrm>
                <a:off x="32148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3" name="" descr=""/>
              <p:cNvPicPr/>
              <p:nvPr/>
            </p:nvPicPr>
            <p:blipFill>
              <a:blip r:embed="rId145"/>
              <a:stretch/>
            </p:blipFill>
            <p:spPr>
              <a:xfrm>
                <a:off x="32907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4" name="" descr=""/>
              <p:cNvPicPr/>
              <p:nvPr/>
            </p:nvPicPr>
            <p:blipFill>
              <a:blip r:embed="rId146"/>
              <a:stretch/>
            </p:blipFill>
            <p:spPr>
              <a:xfrm>
                <a:off x="3367080" y="334332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5" name="" descr=""/>
              <p:cNvPicPr/>
              <p:nvPr/>
            </p:nvPicPr>
            <p:blipFill>
              <a:blip r:embed="rId147"/>
              <a:stretch/>
            </p:blipFill>
            <p:spPr>
              <a:xfrm>
                <a:off x="27576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6" name="" descr=""/>
              <p:cNvPicPr/>
              <p:nvPr/>
            </p:nvPicPr>
            <p:blipFill>
              <a:blip r:embed="rId148"/>
              <a:stretch/>
            </p:blipFill>
            <p:spPr>
              <a:xfrm>
                <a:off x="28335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7" name="" descr=""/>
              <p:cNvPicPr/>
              <p:nvPr/>
            </p:nvPicPr>
            <p:blipFill>
              <a:blip r:embed="rId149"/>
              <a:stretch/>
            </p:blipFill>
            <p:spPr>
              <a:xfrm>
                <a:off x="290988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8" name="" descr=""/>
              <p:cNvPicPr/>
              <p:nvPr/>
            </p:nvPicPr>
            <p:blipFill>
              <a:blip r:embed="rId150"/>
              <a:stretch/>
            </p:blipFill>
            <p:spPr>
              <a:xfrm>
                <a:off x="29862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9" name="" descr=""/>
              <p:cNvPicPr/>
              <p:nvPr/>
            </p:nvPicPr>
            <p:blipFill>
              <a:blip r:embed="rId151"/>
              <a:stretch/>
            </p:blipFill>
            <p:spPr>
              <a:xfrm>
                <a:off x="30621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0" name="" descr=""/>
              <p:cNvPicPr/>
              <p:nvPr/>
            </p:nvPicPr>
            <p:blipFill>
              <a:blip r:embed="rId152"/>
              <a:stretch/>
            </p:blipFill>
            <p:spPr>
              <a:xfrm>
                <a:off x="313848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1" name="" descr=""/>
              <p:cNvPicPr/>
              <p:nvPr/>
            </p:nvPicPr>
            <p:blipFill>
              <a:blip r:embed="rId153"/>
              <a:stretch/>
            </p:blipFill>
            <p:spPr>
              <a:xfrm>
                <a:off x="32148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2" name="" descr=""/>
              <p:cNvPicPr/>
              <p:nvPr/>
            </p:nvPicPr>
            <p:blipFill>
              <a:blip r:embed="rId154"/>
              <a:stretch/>
            </p:blipFill>
            <p:spPr>
              <a:xfrm>
                <a:off x="32907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3" name="" descr=""/>
              <p:cNvPicPr/>
              <p:nvPr/>
            </p:nvPicPr>
            <p:blipFill>
              <a:blip r:embed="rId155"/>
              <a:stretch/>
            </p:blipFill>
            <p:spPr>
              <a:xfrm>
                <a:off x="3367080" y="3419640"/>
                <a:ext cx="2844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4" name="" descr=""/>
              <p:cNvPicPr/>
              <p:nvPr/>
            </p:nvPicPr>
            <p:blipFill>
              <a:blip r:embed="rId156"/>
              <a:stretch/>
            </p:blipFill>
            <p:spPr>
              <a:xfrm>
                <a:off x="27576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5" name="" descr=""/>
              <p:cNvPicPr/>
              <p:nvPr/>
            </p:nvPicPr>
            <p:blipFill>
              <a:blip r:embed="rId157"/>
              <a:stretch/>
            </p:blipFill>
            <p:spPr>
              <a:xfrm>
                <a:off x="28335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6" name="" descr=""/>
              <p:cNvPicPr/>
              <p:nvPr/>
            </p:nvPicPr>
            <p:blipFill>
              <a:blip r:embed="rId158"/>
              <a:stretch/>
            </p:blipFill>
            <p:spPr>
              <a:xfrm>
                <a:off x="290988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7" name="" descr=""/>
              <p:cNvPicPr/>
              <p:nvPr/>
            </p:nvPicPr>
            <p:blipFill>
              <a:blip r:embed="rId159"/>
              <a:stretch/>
            </p:blipFill>
            <p:spPr>
              <a:xfrm>
                <a:off x="29862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8" name="" descr=""/>
              <p:cNvPicPr/>
              <p:nvPr/>
            </p:nvPicPr>
            <p:blipFill>
              <a:blip r:embed="rId160"/>
              <a:stretch/>
            </p:blipFill>
            <p:spPr>
              <a:xfrm>
                <a:off x="30621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9" name="" descr=""/>
              <p:cNvPicPr/>
              <p:nvPr/>
            </p:nvPicPr>
            <p:blipFill>
              <a:blip r:embed="rId161"/>
              <a:stretch/>
            </p:blipFill>
            <p:spPr>
              <a:xfrm>
                <a:off x="313848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0" name="" descr=""/>
              <p:cNvPicPr/>
              <p:nvPr/>
            </p:nvPicPr>
            <p:blipFill>
              <a:blip r:embed="rId162"/>
              <a:stretch/>
            </p:blipFill>
            <p:spPr>
              <a:xfrm>
                <a:off x="32148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1" name="" descr=""/>
              <p:cNvPicPr/>
              <p:nvPr/>
            </p:nvPicPr>
            <p:blipFill>
              <a:blip r:embed="rId163"/>
              <a:stretch/>
            </p:blipFill>
            <p:spPr>
              <a:xfrm>
                <a:off x="32907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2" name="" descr=""/>
              <p:cNvPicPr/>
              <p:nvPr/>
            </p:nvPicPr>
            <p:blipFill>
              <a:blip r:embed="rId164"/>
              <a:stretch/>
            </p:blipFill>
            <p:spPr>
              <a:xfrm>
                <a:off x="3367080" y="3495600"/>
                <a:ext cx="28440" cy="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3" name=""/>
              <p:cNvSpPr/>
              <p:nvPr/>
            </p:nvSpPr>
            <p:spPr>
              <a:xfrm>
                <a:off x="2757600" y="3114720"/>
                <a:ext cx="636480" cy="396720"/>
              </a:xfrm>
              <a:custGeom>
                <a:avLst/>
                <a:gdLst/>
                <a:ahLst/>
                <a:rect l="l" t="t" r="r" b="b"/>
                <a:pathLst>
                  <a:path w="401" h="250">
                    <a:moveTo>
                      <a:pt x="401" y="47"/>
                    </a:moveTo>
                    <a:lnTo>
                      <a:pt x="113" y="47"/>
                    </a:lnTo>
                    <a:lnTo>
                      <a:pt x="113" y="0"/>
                    </a:lnTo>
                    <a:lnTo>
                      <a:pt x="0" y="125"/>
                    </a:lnTo>
                    <a:lnTo>
                      <a:pt x="113" y="250"/>
                    </a:lnTo>
                    <a:lnTo>
                      <a:pt x="113" y="208"/>
                    </a:lnTo>
                    <a:lnTo>
                      <a:pt x="401" y="208"/>
                    </a:lnTo>
                    <a:lnTo>
                      <a:pt x="401" y="47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757600" y="3114720"/>
                <a:ext cx="636480" cy="396720"/>
              </a:xfrm>
              <a:custGeom>
                <a:avLst/>
                <a:gdLst/>
                <a:ahLst/>
                <a:rect l="l" t="t" r="r" b="b"/>
                <a:pathLst>
                  <a:path w="401" h="250">
                    <a:moveTo>
                      <a:pt x="401" y="47"/>
                    </a:moveTo>
                    <a:lnTo>
                      <a:pt x="113" y="47"/>
                    </a:lnTo>
                    <a:lnTo>
                      <a:pt x="113" y="0"/>
                    </a:lnTo>
                    <a:lnTo>
                      <a:pt x="0" y="125"/>
                    </a:lnTo>
                    <a:lnTo>
                      <a:pt x="113" y="250"/>
                    </a:lnTo>
                    <a:lnTo>
                      <a:pt x="113" y="208"/>
                    </a:lnTo>
                    <a:lnTo>
                      <a:pt x="401" y="208"/>
                    </a:lnTo>
                    <a:lnTo>
                      <a:pt x="40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45" name="" descr=""/>
              <p:cNvPicPr/>
              <p:nvPr/>
            </p:nvPicPr>
            <p:blipFill>
              <a:blip r:embed="rId165"/>
              <a:stretch/>
            </p:blipFill>
            <p:spPr>
              <a:xfrm>
                <a:off x="27576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6" name="" descr=""/>
              <p:cNvPicPr/>
              <p:nvPr/>
            </p:nvPicPr>
            <p:blipFill>
              <a:blip r:embed="rId166"/>
              <a:stretch/>
            </p:blipFill>
            <p:spPr>
              <a:xfrm>
                <a:off x="28335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7" name="" descr=""/>
              <p:cNvPicPr/>
              <p:nvPr/>
            </p:nvPicPr>
            <p:blipFill>
              <a:blip r:embed="rId167"/>
              <a:stretch/>
            </p:blipFill>
            <p:spPr>
              <a:xfrm>
                <a:off x="290988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8" name="" descr=""/>
              <p:cNvPicPr/>
              <p:nvPr/>
            </p:nvPicPr>
            <p:blipFill>
              <a:blip r:embed="rId168"/>
              <a:stretch/>
            </p:blipFill>
            <p:spPr>
              <a:xfrm>
                <a:off x="29862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9" name="" descr=""/>
              <p:cNvPicPr/>
              <p:nvPr/>
            </p:nvPicPr>
            <p:blipFill>
              <a:blip r:embed="rId169"/>
              <a:stretch/>
            </p:blipFill>
            <p:spPr>
              <a:xfrm>
                <a:off x="30621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0" name="" descr=""/>
              <p:cNvPicPr/>
              <p:nvPr/>
            </p:nvPicPr>
            <p:blipFill>
              <a:blip r:embed="rId170"/>
              <a:stretch/>
            </p:blipFill>
            <p:spPr>
              <a:xfrm>
                <a:off x="313848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1" name="" descr=""/>
              <p:cNvPicPr/>
              <p:nvPr/>
            </p:nvPicPr>
            <p:blipFill>
              <a:blip r:embed="rId171"/>
              <a:stretch/>
            </p:blipFill>
            <p:spPr>
              <a:xfrm>
                <a:off x="3214800" y="31147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2" name="" descr=""/>
              <p:cNvPicPr/>
              <p:nvPr/>
            </p:nvPicPr>
            <p:blipFill>
              <a:blip r:embed="rId172"/>
              <a:stretch/>
            </p:blipFill>
            <p:spPr>
              <a:xfrm>
                <a:off x="3290760" y="31147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3" name="" descr=""/>
              <p:cNvPicPr/>
              <p:nvPr/>
            </p:nvPicPr>
            <p:blipFill>
              <a:blip r:embed="rId173"/>
              <a:stretch/>
            </p:blipFill>
            <p:spPr>
              <a:xfrm>
                <a:off x="3367080" y="311472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4" name="" descr=""/>
              <p:cNvPicPr/>
              <p:nvPr/>
            </p:nvPicPr>
            <p:blipFill>
              <a:blip r:embed="rId174"/>
              <a:stretch/>
            </p:blipFill>
            <p:spPr>
              <a:xfrm>
                <a:off x="27576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5" name="" descr=""/>
              <p:cNvPicPr/>
              <p:nvPr/>
            </p:nvPicPr>
            <p:blipFill>
              <a:blip r:embed="rId175"/>
              <a:stretch/>
            </p:blipFill>
            <p:spPr>
              <a:xfrm>
                <a:off x="28335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6" name="" descr=""/>
              <p:cNvPicPr/>
              <p:nvPr/>
            </p:nvPicPr>
            <p:blipFill>
              <a:blip r:embed="rId176"/>
              <a:stretch/>
            </p:blipFill>
            <p:spPr>
              <a:xfrm>
                <a:off x="290988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7" name="" descr=""/>
              <p:cNvPicPr/>
              <p:nvPr/>
            </p:nvPicPr>
            <p:blipFill>
              <a:blip r:embed="rId177"/>
              <a:stretch/>
            </p:blipFill>
            <p:spPr>
              <a:xfrm>
                <a:off x="29862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8" name="" descr=""/>
              <p:cNvPicPr/>
              <p:nvPr/>
            </p:nvPicPr>
            <p:blipFill>
              <a:blip r:embed="rId178"/>
              <a:stretch/>
            </p:blipFill>
            <p:spPr>
              <a:xfrm>
                <a:off x="30621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9" name="" descr=""/>
              <p:cNvPicPr/>
              <p:nvPr/>
            </p:nvPicPr>
            <p:blipFill>
              <a:blip r:embed="rId179"/>
              <a:stretch/>
            </p:blipFill>
            <p:spPr>
              <a:xfrm>
                <a:off x="313848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0" name="" descr=""/>
              <p:cNvPicPr/>
              <p:nvPr/>
            </p:nvPicPr>
            <p:blipFill>
              <a:blip r:embed="rId180"/>
              <a:stretch/>
            </p:blipFill>
            <p:spPr>
              <a:xfrm>
                <a:off x="3214800" y="31910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1" name="" descr=""/>
              <p:cNvPicPr/>
              <p:nvPr/>
            </p:nvPicPr>
            <p:blipFill>
              <a:blip r:embed="rId181"/>
              <a:stretch/>
            </p:blipFill>
            <p:spPr>
              <a:xfrm>
                <a:off x="3290760" y="31910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2" name="" descr=""/>
              <p:cNvPicPr/>
              <p:nvPr/>
            </p:nvPicPr>
            <p:blipFill>
              <a:blip r:embed="rId182"/>
              <a:stretch/>
            </p:blipFill>
            <p:spPr>
              <a:xfrm>
                <a:off x="3367080" y="3191040"/>
                <a:ext cx="2844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3" name="" descr=""/>
              <p:cNvPicPr/>
              <p:nvPr/>
            </p:nvPicPr>
            <p:blipFill>
              <a:blip r:embed="rId183"/>
              <a:stretch/>
            </p:blipFill>
            <p:spPr>
              <a:xfrm>
                <a:off x="27576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4" name="" descr=""/>
              <p:cNvPicPr/>
              <p:nvPr/>
            </p:nvPicPr>
            <p:blipFill>
              <a:blip r:embed="rId184"/>
              <a:stretch/>
            </p:blipFill>
            <p:spPr>
              <a:xfrm>
                <a:off x="28335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5" name="" descr=""/>
              <p:cNvPicPr/>
              <p:nvPr/>
            </p:nvPicPr>
            <p:blipFill>
              <a:blip r:embed="rId185"/>
              <a:stretch/>
            </p:blipFill>
            <p:spPr>
              <a:xfrm>
                <a:off x="290988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6" name="" descr=""/>
              <p:cNvPicPr/>
              <p:nvPr/>
            </p:nvPicPr>
            <p:blipFill>
              <a:blip r:embed="rId186"/>
              <a:stretch/>
            </p:blipFill>
            <p:spPr>
              <a:xfrm>
                <a:off x="29862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7" name="" descr=""/>
              <p:cNvPicPr/>
              <p:nvPr/>
            </p:nvPicPr>
            <p:blipFill>
              <a:blip r:embed="rId187"/>
              <a:stretch/>
            </p:blipFill>
            <p:spPr>
              <a:xfrm>
                <a:off x="30621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8" name="" descr=""/>
              <p:cNvPicPr/>
              <p:nvPr/>
            </p:nvPicPr>
            <p:blipFill>
              <a:blip r:embed="rId188"/>
              <a:stretch/>
            </p:blipFill>
            <p:spPr>
              <a:xfrm>
                <a:off x="313848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9" name="" descr=""/>
              <p:cNvPicPr/>
              <p:nvPr/>
            </p:nvPicPr>
            <p:blipFill>
              <a:blip r:embed="rId189"/>
              <a:stretch/>
            </p:blipFill>
            <p:spPr>
              <a:xfrm>
                <a:off x="3214800" y="326700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0" name="" descr=""/>
              <p:cNvPicPr/>
              <p:nvPr/>
            </p:nvPicPr>
            <p:blipFill>
              <a:blip r:embed="rId190"/>
              <a:stretch/>
            </p:blipFill>
            <p:spPr>
              <a:xfrm>
                <a:off x="3290760" y="326700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1" name="" descr=""/>
              <p:cNvPicPr/>
              <p:nvPr/>
            </p:nvPicPr>
            <p:blipFill>
              <a:blip r:embed="rId191"/>
              <a:stretch/>
            </p:blipFill>
            <p:spPr>
              <a:xfrm>
                <a:off x="3367080" y="326700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2" name="" descr=""/>
              <p:cNvPicPr/>
              <p:nvPr/>
            </p:nvPicPr>
            <p:blipFill>
              <a:blip r:embed="rId192"/>
              <a:stretch/>
            </p:blipFill>
            <p:spPr>
              <a:xfrm>
                <a:off x="27576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3" name="" descr=""/>
              <p:cNvPicPr/>
              <p:nvPr/>
            </p:nvPicPr>
            <p:blipFill>
              <a:blip r:embed="rId193"/>
              <a:stretch/>
            </p:blipFill>
            <p:spPr>
              <a:xfrm>
                <a:off x="28335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4" name="" descr=""/>
              <p:cNvPicPr/>
              <p:nvPr/>
            </p:nvPicPr>
            <p:blipFill>
              <a:blip r:embed="rId194"/>
              <a:stretch/>
            </p:blipFill>
            <p:spPr>
              <a:xfrm>
                <a:off x="290988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5" name="" descr=""/>
              <p:cNvPicPr/>
              <p:nvPr/>
            </p:nvPicPr>
            <p:blipFill>
              <a:blip r:embed="rId195"/>
              <a:stretch/>
            </p:blipFill>
            <p:spPr>
              <a:xfrm>
                <a:off x="29862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6" name="" descr=""/>
              <p:cNvPicPr/>
              <p:nvPr/>
            </p:nvPicPr>
            <p:blipFill>
              <a:blip r:embed="rId196"/>
              <a:stretch/>
            </p:blipFill>
            <p:spPr>
              <a:xfrm>
                <a:off x="30621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7" name="" descr=""/>
              <p:cNvPicPr/>
              <p:nvPr/>
            </p:nvPicPr>
            <p:blipFill>
              <a:blip r:embed="rId197"/>
              <a:stretch/>
            </p:blipFill>
            <p:spPr>
              <a:xfrm>
                <a:off x="313848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8" name="" descr=""/>
              <p:cNvPicPr/>
              <p:nvPr/>
            </p:nvPicPr>
            <p:blipFill>
              <a:blip r:embed="rId198"/>
              <a:stretch/>
            </p:blipFill>
            <p:spPr>
              <a:xfrm>
                <a:off x="3214800" y="3343320"/>
                <a:ext cx="7596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9" name="" descr=""/>
              <p:cNvPicPr/>
              <p:nvPr/>
            </p:nvPicPr>
            <p:blipFill>
              <a:blip r:embed="rId199"/>
              <a:stretch/>
            </p:blipFill>
            <p:spPr>
              <a:xfrm>
                <a:off x="3290760" y="3343320"/>
                <a:ext cx="7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0" name="" descr=""/>
              <p:cNvPicPr/>
              <p:nvPr/>
            </p:nvPicPr>
            <p:blipFill>
              <a:blip r:embed="rId200"/>
              <a:stretch/>
            </p:blipFill>
            <p:spPr>
              <a:xfrm>
                <a:off x="3367080" y="3343320"/>
                <a:ext cx="284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1" name="" descr=""/>
              <p:cNvPicPr/>
              <p:nvPr/>
            </p:nvPicPr>
            <p:blipFill>
              <a:blip r:embed="rId201"/>
              <a:stretch/>
            </p:blipFill>
            <p:spPr>
              <a:xfrm>
                <a:off x="27576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2" name="" descr=""/>
              <p:cNvPicPr/>
              <p:nvPr/>
            </p:nvPicPr>
            <p:blipFill>
              <a:blip r:embed="rId202"/>
              <a:stretch/>
            </p:blipFill>
            <p:spPr>
              <a:xfrm>
                <a:off x="28335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3" name="" descr=""/>
              <p:cNvPicPr/>
              <p:nvPr/>
            </p:nvPicPr>
            <p:blipFill>
              <a:blip r:embed="rId203"/>
              <a:stretch/>
            </p:blipFill>
            <p:spPr>
              <a:xfrm>
                <a:off x="290988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4" name="" descr=""/>
              <p:cNvPicPr/>
              <p:nvPr/>
            </p:nvPicPr>
            <p:blipFill>
              <a:blip r:embed="rId204"/>
              <a:stretch/>
            </p:blipFill>
            <p:spPr>
              <a:xfrm>
                <a:off x="29862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5" name="" descr=""/>
              <p:cNvPicPr/>
              <p:nvPr/>
            </p:nvPicPr>
            <p:blipFill>
              <a:blip r:embed="rId205"/>
              <a:stretch/>
            </p:blipFill>
            <p:spPr>
              <a:xfrm>
                <a:off x="30621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6" name="" descr=""/>
              <p:cNvPicPr/>
              <p:nvPr/>
            </p:nvPicPr>
            <p:blipFill>
              <a:blip r:embed="rId206"/>
              <a:stretch/>
            </p:blipFill>
            <p:spPr>
              <a:xfrm>
                <a:off x="313848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7" name="" descr=""/>
              <p:cNvPicPr/>
              <p:nvPr/>
            </p:nvPicPr>
            <p:blipFill>
              <a:blip r:embed="rId207"/>
              <a:stretch/>
            </p:blipFill>
            <p:spPr>
              <a:xfrm>
                <a:off x="3214800" y="3419640"/>
                <a:ext cx="7596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8" name="" descr=""/>
              <p:cNvPicPr/>
              <p:nvPr/>
            </p:nvPicPr>
            <p:blipFill>
              <a:blip r:embed="rId208"/>
              <a:stretch/>
            </p:blipFill>
            <p:spPr>
              <a:xfrm>
                <a:off x="3290760" y="3419640"/>
                <a:ext cx="7632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9" name="" descr=""/>
              <p:cNvPicPr/>
              <p:nvPr/>
            </p:nvPicPr>
            <p:blipFill>
              <a:blip r:embed="rId209"/>
              <a:stretch/>
            </p:blipFill>
            <p:spPr>
              <a:xfrm>
                <a:off x="3367080" y="3419640"/>
                <a:ext cx="2844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0" name="" descr=""/>
              <p:cNvPicPr/>
              <p:nvPr/>
            </p:nvPicPr>
            <p:blipFill>
              <a:blip r:embed="rId210"/>
              <a:stretch/>
            </p:blipFill>
            <p:spPr>
              <a:xfrm>
                <a:off x="27576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1" name="" descr=""/>
              <p:cNvPicPr/>
              <p:nvPr/>
            </p:nvPicPr>
            <p:blipFill>
              <a:blip r:embed="rId211"/>
              <a:stretch/>
            </p:blipFill>
            <p:spPr>
              <a:xfrm>
                <a:off x="28335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2" name="" descr=""/>
              <p:cNvPicPr/>
              <p:nvPr/>
            </p:nvPicPr>
            <p:blipFill>
              <a:blip r:embed="rId212"/>
              <a:stretch/>
            </p:blipFill>
            <p:spPr>
              <a:xfrm>
                <a:off x="290988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3" name="" descr=""/>
              <p:cNvPicPr/>
              <p:nvPr/>
            </p:nvPicPr>
            <p:blipFill>
              <a:blip r:embed="rId213"/>
              <a:stretch/>
            </p:blipFill>
            <p:spPr>
              <a:xfrm>
                <a:off x="29862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4" name="" descr=""/>
              <p:cNvPicPr/>
              <p:nvPr/>
            </p:nvPicPr>
            <p:blipFill>
              <a:blip r:embed="rId214"/>
              <a:stretch/>
            </p:blipFill>
            <p:spPr>
              <a:xfrm>
                <a:off x="30621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5" name="" descr=""/>
              <p:cNvPicPr/>
              <p:nvPr/>
            </p:nvPicPr>
            <p:blipFill>
              <a:blip r:embed="rId215"/>
              <a:stretch/>
            </p:blipFill>
            <p:spPr>
              <a:xfrm>
                <a:off x="313848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6" name="" descr=""/>
              <p:cNvPicPr/>
              <p:nvPr/>
            </p:nvPicPr>
            <p:blipFill>
              <a:blip r:embed="rId216"/>
              <a:stretch/>
            </p:blipFill>
            <p:spPr>
              <a:xfrm>
                <a:off x="3214800" y="3495600"/>
                <a:ext cx="7596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7" name="" descr=""/>
              <p:cNvPicPr/>
              <p:nvPr/>
            </p:nvPicPr>
            <p:blipFill>
              <a:blip r:embed="rId217"/>
              <a:stretch/>
            </p:blipFill>
            <p:spPr>
              <a:xfrm>
                <a:off x="3290760" y="3495600"/>
                <a:ext cx="7632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8" name="" descr=""/>
              <p:cNvPicPr/>
              <p:nvPr/>
            </p:nvPicPr>
            <p:blipFill>
              <a:blip r:embed="rId218"/>
              <a:stretch/>
            </p:blipFill>
            <p:spPr>
              <a:xfrm>
                <a:off x="3367080" y="3495600"/>
                <a:ext cx="28440" cy="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99" name=""/>
            <p:cNvSpPr/>
            <p:nvPr/>
          </p:nvSpPr>
          <p:spPr>
            <a:xfrm>
              <a:off x="2757600" y="3114720"/>
              <a:ext cx="636480" cy="396720"/>
            </a:xfrm>
            <a:custGeom>
              <a:avLst/>
              <a:gdLst/>
              <a:ahLst/>
              <a:rect l="l" t="t" r="r" b="b"/>
              <a:pathLst>
                <a:path w="401" h="250">
                  <a:moveTo>
                    <a:pt x="401" y="47"/>
                  </a:moveTo>
                  <a:lnTo>
                    <a:pt x="113" y="47"/>
                  </a:lnTo>
                  <a:lnTo>
                    <a:pt x="113" y="0"/>
                  </a:lnTo>
                  <a:lnTo>
                    <a:pt x="0" y="125"/>
                  </a:lnTo>
                  <a:lnTo>
                    <a:pt x="113" y="250"/>
                  </a:lnTo>
                  <a:lnTo>
                    <a:pt x="113" y="208"/>
                  </a:lnTo>
                  <a:lnTo>
                    <a:pt x="401" y="208"/>
                  </a:lnTo>
                  <a:lnTo>
                    <a:pt x="401" y="47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0" name=""/>
          <p:cNvSpPr/>
          <p:nvPr/>
        </p:nvSpPr>
        <p:spPr>
          <a:xfrm>
            <a:off x="304920" y="228600"/>
            <a:ext cx="601956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Structure of IPAC-AIM/Technology Mode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04920" y="838080"/>
            <a:ext cx="8458200" cy="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5CC-D03E-40E9-A9BA-C25A1DD812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2" name=""/>
          <p:cNvGraphicFramePr/>
          <p:nvPr/>
        </p:nvGraphicFramePr>
        <p:xfrm>
          <a:off x="1981080" y="228600"/>
          <a:ext cx="63579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6357960" cy="6400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04" name=""/>
          <p:cNvSpPr/>
          <p:nvPr/>
        </p:nvSpPr>
        <p:spPr>
          <a:xfrm rot="16200000">
            <a:off x="-144360" y="302832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7545600" y="64008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imes New Roman"/>
              </a:rPr>
              <a:t>ERI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545600" y="64008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imes New Roman"/>
              </a:rPr>
              <a:t>ERI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543800" y="6705720"/>
            <a:ext cx="12952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9C1-0863-423A-8CA4-06DD3E77FE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"/>
          <p:cNvSpPr/>
          <p:nvPr/>
        </p:nvSpPr>
        <p:spPr>
          <a:xfrm>
            <a:off x="866880" y="460440"/>
            <a:ext cx="4435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955800" y="525600"/>
            <a:ext cx="425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teel production process in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03200" y="1128600"/>
            <a:ext cx="8458200" cy="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365720" y="1298520"/>
            <a:ext cx="114912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4459320" y="136224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ke m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5889600" y="1298520"/>
            <a:ext cx="84600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5982480" y="1362240"/>
            <a:ext cx="65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in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5127480" y="1984320"/>
            <a:ext cx="10684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5220360" y="204804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Iron m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651720" y="1984320"/>
            <a:ext cx="7714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6745320" y="2048040"/>
            <a:ext cx="58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ig I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5280120" y="3051000"/>
            <a:ext cx="91584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5373720" y="3114720"/>
            <a:ext cx="72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nver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575400" y="3051000"/>
            <a:ext cx="110952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670440" y="311472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Open H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3298680" y="3051000"/>
            <a:ext cx="13654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391920" y="3114720"/>
            <a:ext cx="117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lectric Furn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3679920" y="1984320"/>
            <a:ext cx="99216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951720" y="20480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i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805200" y="2260440"/>
            <a:ext cx="73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384280" y="1755720"/>
            <a:ext cx="798480" cy="74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74720" y="181944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707200" y="203184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481480" y="2244600"/>
            <a:ext cx="60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R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165320" y="2822400"/>
            <a:ext cx="91584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289160" y="2886120"/>
            <a:ext cx="6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457640" y="309888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te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18000" y="3813120"/>
            <a:ext cx="73980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612680" y="387684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a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518000" y="4346640"/>
            <a:ext cx="75888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4613040" y="4410000"/>
            <a:ext cx="56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213080" y="4879800"/>
            <a:ext cx="144000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4304880" y="4943520"/>
            <a:ext cx="125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ot Rolling Ste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518000" y="5413320"/>
            <a:ext cx="758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4613040" y="5477040"/>
            <a:ext cx="56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213080" y="6022800"/>
            <a:ext cx="151956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304160" y="6086520"/>
            <a:ext cx="133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ol Rolling Ste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5" name=""/>
          <p:cNvGrpSpPr/>
          <p:nvPr/>
        </p:nvGrpSpPr>
        <p:grpSpPr>
          <a:xfrm>
            <a:off x="4822920" y="1603440"/>
            <a:ext cx="685800" cy="380880"/>
            <a:chOff x="4822920" y="1603440"/>
            <a:chExt cx="685800" cy="380880"/>
          </a:xfrm>
        </p:grpSpPr>
        <p:sp>
          <p:nvSpPr>
            <p:cNvPr id="2846" name=""/>
            <p:cNvSpPr/>
            <p:nvPr/>
          </p:nvSpPr>
          <p:spPr>
            <a:xfrm>
              <a:off x="4822920" y="1603440"/>
              <a:ext cx="60300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397480" y="1893960"/>
              <a:ext cx="111240" cy="9036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55"/>
                  </a:moveTo>
                  <a:lnTo>
                    <a:pt x="70" y="57"/>
                  </a:lnTo>
                  <a:lnTo>
                    <a:pt x="31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5737320" y="1603440"/>
            <a:ext cx="533160" cy="380880"/>
            <a:chOff x="5737320" y="1603440"/>
            <a:chExt cx="533160" cy="380880"/>
          </a:xfrm>
        </p:grpSpPr>
        <p:sp>
          <p:nvSpPr>
            <p:cNvPr id="2849" name=""/>
            <p:cNvSpPr/>
            <p:nvPr/>
          </p:nvSpPr>
          <p:spPr>
            <a:xfrm flipH="1">
              <a:off x="5813280" y="1603440"/>
              <a:ext cx="45720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737320" y="1886040"/>
              <a:ext cx="108000" cy="9828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32" y="0"/>
                  </a:moveTo>
                  <a:lnTo>
                    <a:pt x="0" y="62"/>
                  </a:lnTo>
                  <a:lnTo>
                    <a:pt x="68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1" name=""/>
          <p:cNvGrpSpPr/>
          <p:nvPr/>
        </p:nvGrpSpPr>
        <p:grpSpPr>
          <a:xfrm>
            <a:off x="5610240" y="2365200"/>
            <a:ext cx="100080" cy="685800"/>
            <a:chOff x="5610240" y="2365200"/>
            <a:chExt cx="100080" cy="685800"/>
          </a:xfrm>
        </p:grpSpPr>
        <p:sp>
          <p:nvSpPr>
            <p:cNvPr id="2852" name=""/>
            <p:cNvSpPr/>
            <p:nvPr/>
          </p:nvSpPr>
          <p:spPr>
            <a:xfrm>
              <a:off x="5661000" y="2365200"/>
              <a:ext cx="144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610240" y="295272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4" name=""/>
          <p:cNvGrpSpPr/>
          <p:nvPr/>
        </p:nvGrpSpPr>
        <p:grpSpPr>
          <a:xfrm>
            <a:off x="4162320" y="2517840"/>
            <a:ext cx="100080" cy="533160"/>
            <a:chOff x="4162320" y="2517840"/>
            <a:chExt cx="100080" cy="533160"/>
          </a:xfrm>
        </p:grpSpPr>
        <p:sp>
          <p:nvSpPr>
            <p:cNvPr id="2855" name=""/>
            <p:cNvSpPr/>
            <p:nvPr/>
          </p:nvSpPr>
          <p:spPr>
            <a:xfrm>
              <a:off x="4213080" y="2517840"/>
              <a:ext cx="180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162320" y="295272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7" name=""/>
          <p:cNvGrpSpPr/>
          <p:nvPr/>
        </p:nvGrpSpPr>
        <p:grpSpPr>
          <a:xfrm>
            <a:off x="4848120" y="4194000"/>
            <a:ext cx="100080" cy="152640"/>
            <a:chOff x="4848120" y="4194000"/>
            <a:chExt cx="100080" cy="152640"/>
          </a:xfrm>
        </p:grpSpPr>
        <p:sp>
          <p:nvSpPr>
            <p:cNvPr id="2858" name=""/>
            <p:cNvSpPr/>
            <p:nvPr/>
          </p:nvSpPr>
          <p:spPr>
            <a:xfrm>
              <a:off x="4898880" y="4194000"/>
              <a:ext cx="180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848120" y="4248000"/>
              <a:ext cx="10008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0" name=""/>
          <p:cNvGrpSpPr/>
          <p:nvPr/>
        </p:nvGrpSpPr>
        <p:grpSpPr>
          <a:xfrm>
            <a:off x="2079720" y="3078000"/>
            <a:ext cx="1218960" cy="100080"/>
            <a:chOff x="2079720" y="3078000"/>
            <a:chExt cx="1218960" cy="100080"/>
          </a:xfrm>
        </p:grpSpPr>
        <p:sp>
          <p:nvSpPr>
            <p:cNvPr id="2861" name=""/>
            <p:cNvSpPr/>
            <p:nvPr/>
          </p:nvSpPr>
          <p:spPr>
            <a:xfrm>
              <a:off x="2079720" y="312732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200400" y="307800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3" name=""/>
          <p:cNvGrpSpPr/>
          <p:nvPr/>
        </p:nvGrpSpPr>
        <p:grpSpPr>
          <a:xfrm>
            <a:off x="6194520" y="2087640"/>
            <a:ext cx="457200" cy="100080"/>
            <a:chOff x="6194520" y="2087640"/>
            <a:chExt cx="457200" cy="100080"/>
          </a:xfrm>
        </p:grpSpPr>
        <p:sp>
          <p:nvSpPr>
            <p:cNvPr id="2864" name=""/>
            <p:cNvSpPr/>
            <p:nvPr/>
          </p:nvSpPr>
          <p:spPr>
            <a:xfrm>
              <a:off x="6194520" y="2136600"/>
              <a:ext cx="36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53080" y="2087640"/>
              <a:ext cx="9864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6" name=""/>
          <p:cNvGrpSpPr/>
          <p:nvPr/>
        </p:nvGrpSpPr>
        <p:grpSpPr>
          <a:xfrm>
            <a:off x="4848120" y="4651200"/>
            <a:ext cx="100080" cy="228600"/>
            <a:chOff x="4848120" y="4651200"/>
            <a:chExt cx="100080" cy="228600"/>
          </a:xfrm>
        </p:grpSpPr>
        <p:sp>
          <p:nvSpPr>
            <p:cNvPr id="2867" name=""/>
            <p:cNvSpPr/>
            <p:nvPr/>
          </p:nvSpPr>
          <p:spPr>
            <a:xfrm>
              <a:off x="4898880" y="4651200"/>
              <a:ext cx="180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848120" y="478152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4848120" y="5184720"/>
            <a:ext cx="100080" cy="228600"/>
            <a:chOff x="4848120" y="5184720"/>
            <a:chExt cx="100080" cy="228600"/>
          </a:xfrm>
        </p:grpSpPr>
        <p:sp>
          <p:nvSpPr>
            <p:cNvPr id="2870" name=""/>
            <p:cNvSpPr/>
            <p:nvPr/>
          </p:nvSpPr>
          <p:spPr>
            <a:xfrm>
              <a:off x="4898880" y="5184720"/>
              <a:ext cx="180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848120" y="531504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4848120" y="5794200"/>
            <a:ext cx="100080" cy="228600"/>
            <a:chOff x="4848120" y="5794200"/>
            <a:chExt cx="100080" cy="228600"/>
          </a:xfrm>
        </p:grpSpPr>
        <p:sp>
          <p:nvSpPr>
            <p:cNvPr id="2873" name=""/>
            <p:cNvSpPr/>
            <p:nvPr/>
          </p:nvSpPr>
          <p:spPr>
            <a:xfrm>
              <a:off x="4898880" y="5794200"/>
              <a:ext cx="180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848120" y="592452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5" name=""/>
          <p:cNvSpPr/>
          <p:nvPr/>
        </p:nvSpPr>
        <p:spPr>
          <a:xfrm>
            <a:off x="2841480" y="2517840"/>
            <a:ext cx="1371600" cy="15228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0"/>
                </a:moveTo>
                <a:lnTo>
                  <a:pt x="0" y="96"/>
                </a:lnTo>
                <a:lnTo>
                  <a:pt x="864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4213080" y="2822400"/>
            <a:ext cx="1268640" cy="228600"/>
            <a:chOff x="4213080" y="2822400"/>
            <a:chExt cx="1268640" cy="228600"/>
          </a:xfrm>
        </p:grpSpPr>
        <p:sp>
          <p:nvSpPr>
            <p:cNvPr id="2877" name=""/>
            <p:cNvSpPr/>
            <p:nvPr/>
          </p:nvSpPr>
          <p:spPr>
            <a:xfrm>
              <a:off x="4213080" y="2822400"/>
              <a:ext cx="1219320" cy="133560"/>
            </a:xfrm>
            <a:custGeom>
              <a:avLst/>
              <a:gdLst/>
              <a:ahLst/>
              <a:rect l="l" t="t" r="r" b="b"/>
              <a:pathLst>
                <a:path w="768" h="84">
                  <a:moveTo>
                    <a:pt x="0" y="0"/>
                  </a:moveTo>
                  <a:lnTo>
                    <a:pt x="768" y="0"/>
                  </a:lnTo>
                  <a:lnTo>
                    <a:pt x="768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381640" y="295272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5889600" y="2365200"/>
            <a:ext cx="1219320" cy="685800"/>
            <a:chOff x="5889600" y="2365200"/>
            <a:chExt cx="1219320" cy="685800"/>
          </a:xfrm>
        </p:grpSpPr>
        <p:sp>
          <p:nvSpPr>
            <p:cNvPr id="2880" name=""/>
            <p:cNvSpPr/>
            <p:nvPr/>
          </p:nvSpPr>
          <p:spPr>
            <a:xfrm>
              <a:off x="5889600" y="2365200"/>
              <a:ext cx="1136520" cy="6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997680" y="2960640"/>
              <a:ext cx="111240" cy="9036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55"/>
                  </a:moveTo>
                  <a:lnTo>
                    <a:pt x="70" y="57"/>
                  </a:lnTo>
                  <a:lnTo>
                    <a:pt x="31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2" name=""/>
          <p:cNvSpPr/>
          <p:nvPr/>
        </p:nvSpPr>
        <p:spPr>
          <a:xfrm>
            <a:off x="4060800" y="3355920"/>
            <a:ext cx="30481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737320" y="33559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4" name=""/>
          <p:cNvGrpSpPr/>
          <p:nvPr/>
        </p:nvGrpSpPr>
        <p:grpSpPr>
          <a:xfrm>
            <a:off x="4848120" y="3508200"/>
            <a:ext cx="100080" cy="304920"/>
            <a:chOff x="4848120" y="3508200"/>
            <a:chExt cx="100080" cy="304920"/>
          </a:xfrm>
        </p:grpSpPr>
        <p:sp>
          <p:nvSpPr>
            <p:cNvPr id="2885" name=""/>
            <p:cNvSpPr/>
            <p:nvPr/>
          </p:nvSpPr>
          <p:spPr>
            <a:xfrm>
              <a:off x="4898880" y="3508200"/>
              <a:ext cx="180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848120" y="371484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7" name=""/>
          <p:cNvSpPr/>
          <p:nvPr/>
        </p:nvSpPr>
        <p:spPr>
          <a:xfrm>
            <a:off x="5889600" y="4041720"/>
            <a:ext cx="160488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5979960" y="4105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ntinuous Ca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6448320" y="3508200"/>
            <a:ext cx="100080" cy="533520"/>
            <a:chOff x="6448320" y="3508200"/>
            <a:chExt cx="100080" cy="533520"/>
          </a:xfrm>
        </p:grpSpPr>
        <p:sp>
          <p:nvSpPr>
            <p:cNvPr id="2890" name=""/>
            <p:cNvSpPr/>
            <p:nvPr/>
          </p:nvSpPr>
          <p:spPr>
            <a:xfrm>
              <a:off x="6499080" y="3508200"/>
              <a:ext cx="1800" cy="4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448320" y="394344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2" name=""/>
          <p:cNvGrpSpPr/>
          <p:nvPr/>
        </p:nvGrpSpPr>
        <p:grpSpPr>
          <a:xfrm>
            <a:off x="5381640" y="4346640"/>
            <a:ext cx="1117440" cy="533160"/>
            <a:chOff x="5381640" y="4346640"/>
            <a:chExt cx="1117440" cy="533160"/>
          </a:xfrm>
        </p:grpSpPr>
        <p:sp>
          <p:nvSpPr>
            <p:cNvPr id="2893" name=""/>
            <p:cNvSpPr/>
            <p:nvPr/>
          </p:nvSpPr>
          <p:spPr>
            <a:xfrm>
              <a:off x="5432400" y="4346640"/>
              <a:ext cx="1066680" cy="438120"/>
            </a:xfrm>
            <a:custGeom>
              <a:avLst/>
              <a:gdLst/>
              <a:ahLst/>
              <a:rect l="l" t="t" r="r" b="b"/>
              <a:pathLst>
                <a:path w="672" h="276">
                  <a:moveTo>
                    <a:pt x="672" y="0"/>
                  </a:moveTo>
                  <a:lnTo>
                    <a:pt x="672" y="240"/>
                  </a:lnTo>
                  <a:lnTo>
                    <a:pt x="0" y="240"/>
                  </a:lnTo>
                  <a:lnTo>
                    <a:pt x="0" y="2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381640" y="478152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5" name=""/>
          <p:cNvGrpSpPr/>
          <p:nvPr/>
        </p:nvGrpSpPr>
        <p:grpSpPr>
          <a:xfrm>
            <a:off x="2819520" y="2743200"/>
            <a:ext cx="5360400" cy="921960"/>
            <a:chOff x="2819520" y="2743200"/>
            <a:chExt cx="5360400" cy="921960"/>
          </a:xfrm>
        </p:grpSpPr>
        <p:sp>
          <p:nvSpPr>
            <p:cNvPr id="2896" name=""/>
            <p:cNvSpPr/>
            <p:nvPr/>
          </p:nvSpPr>
          <p:spPr>
            <a:xfrm>
              <a:off x="2819520" y="2743200"/>
              <a:ext cx="33480" cy="424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6" y="3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27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819520" y="281412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2819520" y="288072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819520" y="294732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819520" y="3013920"/>
              <a:ext cx="9720" cy="3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2819520" y="308052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819520" y="314712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2819520" y="321336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819520" y="327996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819520" y="334692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819520" y="341352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819520" y="347976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819520" y="3546360"/>
              <a:ext cx="972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819520" y="3613320"/>
              <a:ext cx="9720" cy="3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8432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91024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9772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0441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1107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1777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24468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116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786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4452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5121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57912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6460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7130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7796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8466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91356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9805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0471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1140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1810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2480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3149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3815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4485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51584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5824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6494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7160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7829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5028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9168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9838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0504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1174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18472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2513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3182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3848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4518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551916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5857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6527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7193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57862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58536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9202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9871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0537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12108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1880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2546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3216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3882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45552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5224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5890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6560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7226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78996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8569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9235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9904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0570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12440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1913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2579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249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915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4588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5258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5924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65936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72632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79328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8602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92684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99380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060760" y="365616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127720" y="365616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170560" y="360360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170560" y="353700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170560" y="3470400"/>
              <a:ext cx="9360" cy="3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170560" y="340380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170560" y="333720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170560" y="327060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170560" y="320436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170560" y="3137760"/>
              <a:ext cx="9360" cy="3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170560" y="307080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170560" y="300420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170560" y="293796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170560" y="2871360"/>
              <a:ext cx="936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170560" y="2804760"/>
              <a:ext cx="9360" cy="3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165880" y="2743200"/>
              <a:ext cx="14040" cy="327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3" y="21"/>
                  </a:moveTo>
                  <a:lnTo>
                    <a:pt x="9" y="21"/>
                  </a:lnTo>
                  <a:lnTo>
                    <a:pt x="9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0989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0319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9653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8984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83144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7644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6975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6309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5639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49700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4300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3630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964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295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1622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0956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0286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9620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89508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8277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7611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6942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6276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6064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4933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4267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3597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2931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2620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588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0922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0253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9587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89176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8244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7578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908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6242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5569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4900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4234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3564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28984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2225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1555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50889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0220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95540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8880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8211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7545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6875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62096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5536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4866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4200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3531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28652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2192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1522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0856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0186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9517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8847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8178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7512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68424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6172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35503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4833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41676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34980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2828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21588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1489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08232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015360" y="2743200"/>
              <a:ext cx="3780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94840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881440" y="2743200"/>
              <a:ext cx="38160" cy="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3" name=""/>
          <p:cNvSpPr/>
          <p:nvPr/>
        </p:nvSpPr>
        <p:spPr>
          <a:xfrm>
            <a:off x="7032600" y="2441520"/>
            <a:ext cx="111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7121160" y="250020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teel m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5BE-75A6-4951-A3A3-4463422ECD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10520" cy="50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EA2-F62D-4B9C-9AAD-E13596F99F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7T02:05:20Z</dcterms:created>
  <dc:creator>Kejun JIANG</dc:creator>
  <dc:description/>
  <cp:keywords>emission projections</cp:keywords>
  <dc:language>en-US</dc:language>
  <cp:lastModifiedBy>camenen</cp:lastModifiedBy>
  <dcterms:modified xsi:type="dcterms:W3CDTF">2004-09-07T13:02:06Z</dcterms:modified>
  <cp:revision>375</cp:revision>
  <dc:subject/>
  <dc:title>Methodology to model the future energy scenario for China</dc:title>
</cp:coreProperties>
</file>