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147-A953-4841-8615-1673D2EF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D65-3018-44CB-AA4A-C4EA443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736-8935-4711-AFDF-610F0334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FD2-AA3D-46A9-AB1E-C0C5D365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C026-C5D7-4A6D-88F5-2959790C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6007-FA92-46BC-B4E9-54D0C50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6CD-3C33-4D64-8691-5B700AA4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0E0-E369-436B-BC75-552BAC23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5EA9-2925-4370-9F50-6D416E58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1768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7B54-CE41-4B78-B8C7-AEAA50BC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6BE9-3143-4A37-AE95-0D9D3C6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3B4-3B52-4BFD-A291-5E73A876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E97-65C6-431B-BFF4-A4F82A4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3D0F-850A-4E58-BC4A-C8A2A12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AF26-30B0-4D00-94FF-B3D8A0D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34C-64C0-4EC8-9920-FA429624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94C3-065F-42E8-979B-416469B5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EAB-A172-481A-9E1C-97B42EAF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806-8EDB-4A64-B7A7-545C2D1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761-26E2-4C00-8775-B5B6BE1A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768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5FB-8BAC-4133-875A-65B600D2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53C-ABE1-4512-A89C-62A9E1C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8C5-1782-44E3-A169-B280758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837-86E8-4066-964C-9F7EC841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ED6C-EFF5-45E6-91AC-006CD8154F1A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450720" y="5805360"/>
          <a:ext cx="1995480" cy="5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720" y="5805360"/>
                    <a:ext cx="19954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3174840" y="5734080"/>
          <a:ext cx="3324240" cy="66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74840" y="5734080"/>
                    <a:ext cx="3324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" name=""/>
          <p:cNvGraphicFramePr/>
          <p:nvPr/>
        </p:nvGraphicFramePr>
        <p:xfrm>
          <a:off x="6558120" y="5734080"/>
          <a:ext cx="2085840" cy="63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8120" y="5734080"/>
                    <a:ext cx="20858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Base" hidden="1"/>
          <p:cNvSpPr/>
          <p:nvPr/>
        </p:nvSpPr>
        <p:spPr>
          <a:xfrm>
            <a:off x="1523880" y="1227240"/>
            <a:ext cx="609624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AAA-B821-4973-BC3C-FFD86B9A4FB4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0720" y="5805360"/>
          <a:ext cx="1995480" cy="5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720" y="5805360"/>
                    <a:ext cx="19954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174840" y="5734080"/>
          <a:ext cx="3324240" cy="66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74840" y="5734080"/>
                    <a:ext cx="3324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558120" y="5734080"/>
          <a:ext cx="2085840" cy="63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8120" y="5734080"/>
                    <a:ext cx="20858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160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0720" y="5805360"/>
          <a:ext cx="199548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720" y="5805360"/>
                    <a:ext cx="19954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174840" y="5734080"/>
          <a:ext cx="3324240" cy="665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74840" y="5734080"/>
                    <a:ext cx="3324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558120" y="5734080"/>
          <a:ext cx="2085840" cy="638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58120" y="5734080"/>
                    <a:ext cx="20858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17680" y="5637240"/>
          <a:ext cx="285876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680" y="5637240"/>
                    <a:ext cx="285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900000" y="1628640"/>
            <a:ext cx="776304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Projecting GHG emissions &amp; removals from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Agriculture &amp; LULUC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New Zealand methods &amp;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onard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New Zealand Climate Chang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Presented at the UNFCCC workshop on projections Bonn Sept 6-8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346800" y="5661000"/>
          <a:ext cx="2298600" cy="7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46800" y="5661000"/>
                    <a:ext cx="22986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03640" y="3645000"/>
            <a:ext cx="3456000" cy="20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860640"/>
            <a:ext cx="324036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Institutional arrangements</a:t>
            </a:r>
            <a:br>
              <a:rPr sz="3200"/>
            </a:br>
            <a:r>
              <a:rPr b="0" i="1" lang="en-NZ" sz="2400" spc="-1" strike="noStrike">
                <a:solidFill>
                  <a:srgbClr val="333399"/>
                </a:solidFill>
                <a:latin typeface="Arial"/>
              </a:rPr>
              <a:t>(for inventory &amp; projection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2924280"/>
            <a:ext cx="4219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9900"/>
                </a:solidFill>
                <a:latin typeface="Arial"/>
              </a:rPr>
              <a:t>Agriculture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nistry of Agriculture and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170028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New Zealand Climate Change Office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716280"/>
            <a:ext cx="4219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National exotic fores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860640"/>
            <a:ext cx="4219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tatistics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Animal census &amp;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653000"/>
            <a:ext cx="42195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gResearch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CH</a:t>
            </a:r>
            <a:r>
              <a:rPr b="0" lang="en-NZ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Tier 2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Overseer N</a:t>
            </a:r>
            <a:r>
              <a:rPr b="0" lang="en-NZ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0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852640"/>
            <a:ext cx="4219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9900"/>
                </a:solidFill>
                <a:latin typeface="Arial"/>
              </a:rPr>
              <a:t>LULUCF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0" idx="0"/>
            <a:endCxn id="121" idx="2"/>
          </p:cNvCxnSpPr>
          <p:nvPr/>
        </p:nvCxnSpPr>
        <p:spPr>
          <a:xfrm flipV="1">
            <a:off x="2433240" y="2096640"/>
            <a:ext cx="232020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27" name=""/>
          <p:cNvSpPr/>
          <p:nvPr/>
        </p:nvSpPr>
        <p:spPr>
          <a:xfrm>
            <a:off x="4643280" y="5013360"/>
            <a:ext cx="4219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Z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NZ Carbon Accoun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4365720"/>
            <a:ext cx="4219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est Research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Growth &amp; C sequest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5" idx="0"/>
            <a:endCxn id="121" idx="2"/>
          </p:cNvCxnSpPr>
          <p:nvPr/>
        </p:nvCxnSpPr>
        <p:spPr>
          <a:xfrm flipH="1" flipV="1">
            <a:off x="4752720" y="2096280"/>
            <a:ext cx="19296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0" name=""/>
          <p:cNvSpPr/>
          <p:nvPr/>
        </p:nvSpPr>
        <p:spPr>
          <a:xfrm>
            <a:off x="5003640" y="4365720"/>
            <a:ext cx="3456000" cy="1368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6520" y="1537200"/>
            <a:ext cx="635148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 population by species: beef, sheep, dairy, deer – (Pastoral Supply Response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 &amp; emissions per ani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of nitrogen fertiliser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76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70320" y="3592440"/>
            <a:ext cx="3853080" cy="32655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5364000" y="2565360"/>
            <a:ext cx="3323880" cy="951120"/>
            <a:chOff x="5364000" y="2565360"/>
            <a:chExt cx="3323880" cy="951120"/>
          </a:xfrm>
        </p:grpSpPr>
        <p:sp>
          <p:nvSpPr>
            <p:cNvPr id="135" name=""/>
            <p:cNvSpPr/>
            <p:nvPr/>
          </p:nvSpPr>
          <p:spPr>
            <a:xfrm>
              <a:off x="5364000" y="2565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4000" y="342900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495760" y="2924280"/>
              <a:ext cx="8647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6561360" y="2925720"/>
              <a:ext cx="212652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60560" y="4089600"/>
            <a:ext cx="46378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ies &amp;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36324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nvironmental N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36324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rice measures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36324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2649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15400" y="333360"/>
            <a:ext cx="2837520" cy="2519280"/>
            <a:chOff x="6215400" y="333360"/>
            <a:chExt cx="2837520" cy="2519280"/>
          </a:xfrm>
        </p:grpSpPr>
        <p:sp>
          <p:nvSpPr>
            <p:cNvPr id="141" name=""/>
            <p:cNvSpPr/>
            <p:nvPr/>
          </p:nvSpPr>
          <p:spPr>
            <a:xfrm>
              <a:off x="6300720" y="765000"/>
              <a:ext cx="2664000" cy="20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215400" y="333360"/>
              <a:ext cx="2837520" cy="2303640"/>
              <a:chOff x="6215400" y="333360"/>
              <a:chExt cx="2837520" cy="2303640"/>
            </a:xfrm>
          </p:grpSpPr>
          <p:sp>
            <p:nvSpPr>
              <p:cNvPr id="143" name=""/>
              <p:cNvSpPr/>
              <p:nvPr/>
            </p:nvSpPr>
            <p:spPr>
              <a:xfrm>
                <a:off x="6576840" y="1054080"/>
                <a:ext cx="930600" cy="72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400" spc="-1" strike="noStrike">
                    <a:solidFill>
                      <a:srgbClr val="000000"/>
                    </a:solidFill>
                    <a:latin typeface="Arial"/>
                  </a:rPr>
                  <a:t>$N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72400" y="1773360"/>
                <a:ext cx="930240" cy="72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400" spc="-1" strike="noStrike">
                    <a:solidFill>
                      <a:srgbClr val="000000"/>
                    </a:solidFill>
                    <a:latin typeface="Arial"/>
                  </a:rPr>
                  <a:t>Pric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40640" y="909720"/>
                <a:ext cx="930240" cy="72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400" spc="-1" strike="noStrike">
                    <a:solidFill>
                      <a:srgbClr val="000000"/>
                    </a:solidFill>
                    <a:latin typeface="Arial"/>
                  </a:rPr>
                  <a:t>Weath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43640" y="693720"/>
                <a:ext cx="225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15400" y="333360"/>
                <a:ext cx="283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000" spc="-1" strike="noStrike">
                    <a:solidFill>
                      <a:srgbClr val="000000"/>
                    </a:solidFill>
                    <a:latin typeface="Arial"/>
                  </a:rPr>
                  <a:t>Carrying capac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32720" y="1916280"/>
                <a:ext cx="930240" cy="72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400" spc="-1" strike="noStrike">
                    <a:solidFill>
                      <a:srgbClr val="000000"/>
                    </a:solidFill>
                    <a:latin typeface="Arial"/>
                  </a:rPr>
                  <a:t>Livestoc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Agriculture improv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503720"/>
            <a:ext cx="7140600" cy="34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model development -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input parameters over time, e.g. forag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 analysis and scenario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estimation of carrying capacity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tock unit estimation by livest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Forest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5680" y="1256760"/>
            <a:ext cx="534888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planted in Kyoto forests to 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s of future new forest pla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n accumulation 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rotation 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or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219640" y="1844640"/>
            <a:ext cx="4248360" cy="3080880"/>
            <a:chOff x="5219640" y="1844640"/>
            <a:chExt cx="4248360" cy="3080880"/>
          </a:xfrm>
        </p:grpSpPr>
        <p:sp>
          <p:nvSpPr>
            <p:cNvPr id="154" name=""/>
            <p:cNvSpPr/>
            <p:nvPr/>
          </p:nvSpPr>
          <p:spPr>
            <a:xfrm>
              <a:off x="5910480" y="2133360"/>
              <a:ext cx="146196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10000 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10% defores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0480" y="3070080"/>
              <a:ext cx="146196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20000 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5% defores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8880" y="2565360"/>
              <a:ext cx="146232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30000 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0% defores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19640" y="4294080"/>
              <a:ext cx="4248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333399"/>
                  </a:solidFill>
                  <a:latin typeface="Arial"/>
                </a:rPr>
                <a:t>planting and Kyoto defores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333399"/>
                  </a:solidFill>
                  <a:latin typeface="Arial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8560" y="1844640"/>
              <a:ext cx="3189240" cy="2304720"/>
            </a:xfrm>
            <a:prstGeom prst="ellipse">
              <a:avLst/>
            </a:prstGeom>
            <a:solidFill>
              <a:srgbClr val="bbe0e3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Forestry improv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4520" y="1680120"/>
            <a:ext cx="852948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ing - Capability and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Improve modelling – scenarios, vary multipl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 - New Zealand Carbon Accoun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Refine &amp; validate the accuracy of plantings sinc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Refine and spatialise growth rates of planted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Improve deforestation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d4d4d"/>
                </a:solidFill>
                <a:latin typeface="Arial"/>
              </a:rPr>
              <a:t>Improve estimate of carbon in all pools for all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43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622440"/>
                <a:tab algn="l" pos="12556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1:44:33Z</dcterms:created>
  <dc:creator>Leonard Brown</dc:creator>
  <dc:description/>
  <cp:keywords>emission projections</cp:keywords>
  <dc:language>en-US</dc:language>
  <cp:lastModifiedBy>camenen</cp:lastModifiedBy>
  <cp:lastPrinted>2003-04-07T18:49:33Z</cp:lastPrinted>
  <dcterms:modified xsi:type="dcterms:W3CDTF">2004-09-09T08:42:40Z</dcterms:modified>
  <cp:revision>148</cp:revision>
  <dc:subject/>
  <dc:title>Agriculture &amp; LULUCF New Zealand methods &amp; experien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74689764</vt:r8>
  </property>
  <property fmtid="{D5CDD505-2E9C-101B-9397-08002B2CF9AE}" pid="3" name="_AuthorEmail">
    <vt:lpwstr>bruce.arnold@mfe.govt.nz</vt:lpwstr>
  </property>
  <property fmtid="{D5CDD505-2E9C-101B-9397-08002B2CF9AE}" pid="4" name="_AuthorEmailDisplayName">
    <vt:lpwstr>Bruce Arnold</vt:lpwstr>
  </property>
  <property fmtid="{D5CDD505-2E9C-101B-9397-08002B2CF9AE}" pid="5" name="_EmailSubject">
    <vt:lpwstr>Energy Show and Tell Presentation.ppt</vt:lpwstr>
  </property>
  <property fmtid="{D5CDD505-2E9C-101B-9397-08002B2CF9AE}" pid="6" name="_PreviousAdHocReviewCycleID">
    <vt:r8>1405514737</vt:r8>
  </property>
  <property fmtid="{D5CDD505-2E9C-101B-9397-08002B2CF9AE}" pid="7" name="_ReviewingToolsShownOnce">
    <vt:lpwstr/>
  </property>
</Properties>
</file>