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69DF-AF49-47B1-A64B-5D9D30094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410076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CA8C-1878-475A-A71D-D1C135199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200" y="17521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1007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200" y="41007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A8DF-D299-498B-9633-5C0FF799F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06720" y="17521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79920" y="17521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41007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06720" y="41007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79920" y="41007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AEDC-71DE-4112-90C3-28E05C075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2200" y="17521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2200" y="17521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1007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1FDD-6E83-4A41-BDCC-E8C1FAB52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200" y="17521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2200" y="41007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2200" y="17521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10076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10076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2200" y="17521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1007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2200" y="41007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6720" y="17521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79920" y="17521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1007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6720" y="41007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479920" y="41007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E2CC2-49F3-4213-A5BB-B835B72AF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200" y="17521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57DD-64BF-443B-80F4-14A45D0D2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E563-9426-4BCD-9912-E82E409E4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B107-24A5-4F1F-BA14-6C54C3B5A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200" y="17521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41007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F6D96-DE0E-4D6A-8960-95AA29668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200" y="17521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200" y="41007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23DE-B045-44C4-B104-10C05EFDF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200" y="17521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410076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BFD8C-FE06-4722-8E1C-1C6C008CC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99560" y="5410080"/>
            <a:ext cx="1525320" cy="1446480"/>
          </a:xfrm>
          <a:prstGeom prst="rect">
            <a:avLst/>
          </a:prstGeom>
          <a:solidFill>
            <a:srgbClr val="fbee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1000" y="0"/>
            <a:ext cx="1523880" cy="1522440"/>
          </a:xfrm>
          <a:prstGeom prst="rect">
            <a:avLst/>
          </a:prstGeom>
          <a:solidFill>
            <a:srgbClr val="fbee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107200" y="5524560"/>
            <a:ext cx="1308240" cy="113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4800240" y="64008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53316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ED2A-B5D4-4FFF-AE95-6B650E96F67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999560" y="5410080"/>
            <a:ext cx="1525320" cy="1446480"/>
          </a:xfrm>
          <a:prstGeom prst="rect">
            <a:avLst/>
          </a:prstGeom>
          <a:solidFill>
            <a:srgbClr val="fbee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01000" y="0"/>
            <a:ext cx="1523880" cy="1522440"/>
          </a:xfrm>
          <a:prstGeom prst="rect">
            <a:avLst/>
          </a:prstGeom>
          <a:solidFill>
            <a:srgbClr val="fbee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07200" y="5524560"/>
            <a:ext cx="1308240" cy="1139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8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5050"/>
                </a:solidFill>
                <a:latin typeface="Arial"/>
              </a:rPr>
              <a:t>The ECN model structure for energy projections</a:t>
            </a:r>
            <a:endParaRPr b="1" lang="en-US" sz="4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520" y="2743200"/>
            <a:ext cx="6324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van D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CN Polic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ril@ecn.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CCC Workshop on Emissions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nn 6-8 september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400" spc="-1" strike="noStrike">
                <a:solidFill>
                  <a:srgbClr val="ff5050"/>
                </a:solidFill>
                <a:latin typeface="Arial"/>
              </a:rPr>
              <a:t>Options penetration process, year t</a:t>
            </a:r>
            <a:endParaRPr b="1" lang="en-US" sz="3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1600200"/>
            <a:ext cx="464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1480" y="1828800"/>
            <a:ext cx="49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aluation of IRR, competing o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19051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1828800"/>
            <a:ext cx="261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tential options sh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7240" y="2514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9320" y="2743200"/>
            <a:ext cx="510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otal capacity increase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placement of reference technology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placement of older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lifetime not influenced by tax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1320" y="33526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3080" y="3200400"/>
            <a:ext cx="26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vailable capacity for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4648320"/>
            <a:ext cx="40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mitations for separate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4724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4495680"/>
            <a:ext cx="26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x capacity per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54100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tions division, year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800" spc="-1" strike="noStrike">
                <a:solidFill>
                  <a:srgbClr val="ff5050"/>
                </a:solidFill>
                <a:latin typeface="Arial"/>
              </a:rPr>
              <a:t>Policy model step 1</a:t>
            </a:r>
            <a:endParaRPr b="1" lang="en-US" sz="3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policy makers have to identi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sired physica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cision makers and their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ccurences of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800" spc="-1" strike="noStrike">
                <a:solidFill>
                  <a:srgbClr val="ff5050"/>
                </a:solidFill>
                <a:latin typeface="Arial"/>
              </a:rPr>
              <a:t>Policy model step 2</a:t>
            </a:r>
            <a:endParaRPr b="1" lang="en-US" sz="3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policies have to cre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ttention (awaren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ssibilities (technical, leg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antage (financial, avoid san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&gt;&gt;effective policies meet all thre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800" spc="-1" strike="noStrike">
                <a:solidFill>
                  <a:srgbClr val="ff5050"/>
                </a:solidFill>
                <a:latin typeface="Arial"/>
              </a:rPr>
              <a:t>Policy model step 3</a:t>
            </a:r>
            <a:endParaRPr b="1" lang="en-US" sz="3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ttention policies: information campaigns, building regulations, environmental permits, cove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&gt;often taken for 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ssibility policies: R&amp;D, demonstration, audits, company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&gt;options, replacement rate and implementation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antage policies: taxes, subsidies, regulation and sanctions, emission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&gt;IRR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800" spc="-1" strike="noStrike">
                <a:solidFill>
                  <a:srgbClr val="ff5050"/>
                </a:solidFill>
                <a:latin typeface="Arial"/>
              </a:rPr>
              <a:t>Strenghts and weaknesses</a:t>
            </a:r>
            <a:endParaRPr b="1" lang="en-US" sz="3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39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ing ahead for new trends or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data set of options requires filling the bl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feedback of energy costs on sect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requirements and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wareness and inform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400" spc="-1" strike="noStrike">
                <a:solidFill>
                  <a:srgbClr val="ff5050"/>
                </a:solidFill>
                <a:latin typeface="Arial"/>
              </a:rPr>
              <a:t>Further ideas for improvement</a:t>
            </a:r>
            <a:endParaRPr b="1" lang="en-US" sz="3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ulti layer approach: select processes first, then energy options, then short term behavior, then on-site suppl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mand sector growth depending on climate policies: emissions t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wareness and inform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ulti criteria + limited o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000" spc="-1" strike="noStrike">
                <a:solidFill>
                  <a:srgbClr val="ff5050"/>
                </a:solidFill>
                <a:latin typeface="Arial"/>
              </a:rPr>
              <a:t>Further ideas for improvement</a:t>
            </a: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sistency in energy and CO2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sistency in international economic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sistency of improvements on global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sistency in EU policy persp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sistency in uncertainties regarding the previous bull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000" spc="-1" strike="noStrike">
                <a:solidFill>
                  <a:srgbClr val="ff5050"/>
                </a:solidFill>
                <a:latin typeface="Arial"/>
              </a:rPr>
              <a:t>Research suggestions</a:t>
            </a: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jection comparisons using the demonstrate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vide tasks among research groups/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lyse and compare policy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228600" y="380880"/>
            <a:ext cx="1155240" cy="533520"/>
            <a:chOff x="228600" y="380880"/>
            <a:chExt cx="1155240" cy="533520"/>
          </a:xfrm>
        </p:grpSpPr>
        <p:sp>
          <p:nvSpPr>
            <p:cNvPr id="299" name=""/>
            <p:cNvSpPr/>
            <p:nvPr/>
          </p:nvSpPr>
          <p:spPr>
            <a:xfrm>
              <a:off x="228600" y="380880"/>
              <a:ext cx="1155240" cy="533520"/>
            </a:xfrm>
            <a:prstGeom prst="flowChartProcess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8600" y="380880"/>
              <a:ext cx="1155240" cy="533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. 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895480" y="380880"/>
            <a:ext cx="1155600" cy="533520"/>
            <a:chOff x="2895480" y="380880"/>
            <a:chExt cx="1155600" cy="533520"/>
          </a:xfrm>
        </p:grpSpPr>
        <p:sp>
          <p:nvSpPr>
            <p:cNvPr id="302" name=""/>
            <p:cNvSpPr/>
            <p:nvPr/>
          </p:nvSpPr>
          <p:spPr>
            <a:xfrm>
              <a:off x="2895480" y="380880"/>
              <a:ext cx="1155600" cy="533520"/>
            </a:xfrm>
            <a:prstGeom prst="flowChartProcess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95480" y="380880"/>
              <a:ext cx="1155600" cy="533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. Duurza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092560" y="1523880"/>
            <a:ext cx="1155600" cy="533520"/>
            <a:chOff x="5092560" y="1523880"/>
            <a:chExt cx="1155600" cy="533520"/>
          </a:xfrm>
        </p:grpSpPr>
        <p:sp>
          <p:nvSpPr>
            <p:cNvPr id="305" name=""/>
            <p:cNvSpPr/>
            <p:nvPr/>
          </p:nvSpPr>
          <p:spPr>
            <a:xfrm>
              <a:off x="5092560" y="1523880"/>
              <a:ext cx="1155600" cy="533520"/>
            </a:xfrm>
            <a:prstGeom prst="flowChartProcess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92560" y="1523880"/>
              <a:ext cx="1155600" cy="533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. SE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292640" y="4572000"/>
            <a:ext cx="1155240" cy="533520"/>
            <a:chOff x="4292640" y="4572000"/>
            <a:chExt cx="1155240" cy="533520"/>
          </a:xfrm>
        </p:grpSpPr>
        <p:sp>
          <p:nvSpPr>
            <p:cNvPr id="308" name=""/>
            <p:cNvSpPr/>
            <p:nvPr/>
          </p:nvSpPr>
          <p:spPr>
            <a:xfrm>
              <a:off x="4292640" y="4572000"/>
              <a:ext cx="1155240" cy="533520"/>
            </a:xfrm>
            <a:prstGeom prst="flowChartProcess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92640" y="4572000"/>
              <a:ext cx="1155240" cy="533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. SEL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772400" y="2590920"/>
            <a:ext cx="1345680" cy="685440"/>
            <a:chOff x="7772400" y="2590920"/>
            <a:chExt cx="1345680" cy="685440"/>
          </a:xfrm>
        </p:grpSpPr>
        <p:sp>
          <p:nvSpPr>
            <p:cNvPr id="311" name=""/>
            <p:cNvSpPr/>
            <p:nvPr/>
          </p:nvSpPr>
          <p:spPr>
            <a:xfrm>
              <a:off x="7772400" y="2590920"/>
              <a:ext cx="1345680" cy="685440"/>
            </a:xfrm>
            <a:prstGeom prst="flowChartProcess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72400" y="2590920"/>
              <a:ext cx="1345680" cy="685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. SAVE-Industry CH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311880" y="1676520"/>
            <a:ext cx="1155240" cy="533160"/>
            <a:chOff x="6311880" y="1676520"/>
            <a:chExt cx="1155240" cy="533160"/>
          </a:xfrm>
        </p:grpSpPr>
        <p:sp>
          <p:nvSpPr>
            <p:cNvPr id="314" name=""/>
            <p:cNvSpPr/>
            <p:nvPr/>
          </p:nvSpPr>
          <p:spPr>
            <a:xfrm>
              <a:off x="6311880" y="1676520"/>
              <a:ext cx="1155240" cy="533160"/>
            </a:xfrm>
            <a:prstGeom prst="flowChartProcess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11880" y="1676520"/>
              <a:ext cx="1155240" cy="533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. SAVE-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873600" y="1371600"/>
            <a:ext cx="1155240" cy="533520"/>
            <a:chOff x="3873600" y="1371600"/>
            <a:chExt cx="1155240" cy="533520"/>
          </a:xfrm>
        </p:grpSpPr>
        <p:sp>
          <p:nvSpPr>
            <p:cNvPr id="317" name=""/>
            <p:cNvSpPr/>
            <p:nvPr/>
          </p:nvSpPr>
          <p:spPr>
            <a:xfrm>
              <a:off x="3873600" y="1371600"/>
              <a:ext cx="1155240" cy="533520"/>
            </a:xfrm>
            <a:prstGeom prst="flowChartProcess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73600" y="1371600"/>
              <a:ext cx="1155240" cy="533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. SAVE-H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264440" y="380880"/>
            <a:ext cx="1155240" cy="533520"/>
            <a:chOff x="7264440" y="380880"/>
            <a:chExt cx="1155240" cy="533520"/>
          </a:xfrm>
        </p:grpSpPr>
        <p:sp>
          <p:nvSpPr>
            <p:cNvPr id="320" name=""/>
            <p:cNvSpPr/>
            <p:nvPr/>
          </p:nvSpPr>
          <p:spPr>
            <a:xfrm>
              <a:off x="7264440" y="380880"/>
              <a:ext cx="1155240" cy="533520"/>
            </a:xfrm>
            <a:prstGeom prst="flowChartProcess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64440" y="380880"/>
              <a:ext cx="1155240" cy="533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adf"/>
                  </a:solidFill>
                  <a:latin typeface="Times New Roman"/>
                </a:rPr>
                <a:t>4. Tarie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153280" y="4572000"/>
            <a:ext cx="1218960" cy="533520"/>
            <a:chOff x="8153280" y="4572000"/>
            <a:chExt cx="1218960" cy="533520"/>
          </a:xfrm>
        </p:grpSpPr>
        <p:sp>
          <p:nvSpPr>
            <p:cNvPr id="323" name=""/>
            <p:cNvSpPr/>
            <p:nvPr/>
          </p:nvSpPr>
          <p:spPr>
            <a:xfrm>
              <a:off x="8153280" y="4572000"/>
              <a:ext cx="1218960" cy="533520"/>
            </a:xfrm>
            <a:prstGeom prst="flowChartProcess">
              <a:avLst/>
            </a:prstGeom>
            <a:solidFill>
              <a:srgbClr val="ff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153280" y="4572000"/>
              <a:ext cx="1218960" cy="5335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. Po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038480" y="5410080"/>
            <a:ext cx="1599840" cy="533520"/>
            <a:chOff x="4038480" y="5410080"/>
            <a:chExt cx="1599840" cy="533520"/>
          </a:xfrm>
        </p:grpSpPr>
        <p:sp>
          <p:nvSpPr>
            <p:cNvPr id="326" name=""/>
            <p:cNvSpPr/>
            <p:nvPr/>
          </p:nvSpPr>
          <p:spPr>
            <a:xfrm>
              <a:off x="4038480" y="5410080"/>
              <a:ext cx="1599840" cy="533520"/>
            </a:xfrm>
            <a:prstGeom prst="flowChartProcess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8480" y="5410080"/>
              <a:ext cx="1599840" cy="533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adf"/>
                  </a:solidFill>
                  <a:latin typeface="Times New Roman"/>
                </a:rPr>
                <a:t>11. Monit, P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adf"/>
                  </a:solidFill>
                  <a:latin typeface="Times New Roman"/>
                </a:rPr>
                <a:t>convers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"/>
          <p:cNvCxnSpPr>
            <a:stCxn id="309" idx="2"/>
            <a:endCxn id="327" idx="0"/>
          </p:cNvCxnSpPr>
          <p:nvPr/>
        </p:nvCxnSpPr>
        <p:spPr>
          <a:xfrm rot="5400000">
            <a:off x="4701600" y="5241960"/>
            <a:ext cx="305280" cy="324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29" name=""/>
          <p:cNvCxnSpPr>
            <a:stCxn id="303" idx="2"/>
            <a:endCxn id="309" idx="0"/>
          </p:cNvCxnSpPr>
          <p:nvPr/>
        </p:nvCxnSpPr>
        <p:spPr>
          <a:xfrm flipH="1" rot="16200000">
            <a:off x="2342160" y="2044440"/>
            <a:ext cx="3658320" cy="139788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30" name=""/>
          <p:cNvCxnSpPr>
            <a:stCxn id="318" idx="2"/>
            <a:endCxn id="309" idx="0"/>
          </p:cNvCxnSpPr>
          <p:nvPr/>
        </p:nvCxnSpPr>
        <p:spPr>
          <a:xfrm flipH="1" rot="16200000">
            <a:off x="3327480" y="3028680"/>
            <a:ext cx="2667240" cy="41976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31" name=""/>
          <p:cNvCxnSpPr>
            <a:stCxn id="306" idx="2"/>
            <a:endCxn id="309" idx="0"/>
          </p:cNvCxnSpPr>
          <p:nvPr/>
        </p:nvCxnSpPr>
        <p:spPr>
          <a:xfrm rot="5400000">
            <a:off x="4012560" y="2914200"/>
            <a:ext cx="2515320" cy="801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32" name=""/>
          <p:cNvCxnSpPr>
            <a:stCxn id="315" idx="2"/>
            <a:endCxn id="309" idx="0"/>
          </p:cNvCxnSpPr>
          <p:nvPr/>
        </p:nvCxnSpPr>
        <p:spPr>
          <a:xfrm rot="5400000">
            <a:off x="4698000" y="2381040"/>
            <a:ext cx="2363040" cy="201996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33" name=""/>
          <p:cNvCxnSpPr>
            <a:stCxn id="306" idx="2"/>
            <a:endCxn id="312" idx="0"/>
          </p:cNvCxnSpPr>
          <p:nvPr/>
        </p:nvCxnSpPr>
        <p:spPr>
          <a:xfrm flipH="1" rot="16200000">
            <a:off x="6791400" y="936360"/>
            <a:ext cx="534240" cy="2775600"/>
          </a:xfrm>
          <a:prstGeom prst="curvedConnector5">
            <a:avLst>
              <a:gd name="adj1" fmla="val 49966"/>
              <a:gd name="adj2" fmla="val 49993"/>
              <a:gd name="adj3" fmla="val 49966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34" name=""/>
          <p:cNvCxnSpPr>
            <a:stCxn id="315" idx="2"/>
            <a:endCxn id="312" idx="0"/>
          </p:cNvCxnSpPr>
          <p:nvPr/>
        </p:nvCxnSpPr>
        <p:spPr>
          <a:xfrm flipH="1" rot="16200000">
            <a:off x="7476840" y="1621800"/>
            <a:ext cx="381960" cy="155664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35" name=""/>
          <p:cNvCxnSpPr>
            <a:stCxn id="312" idx="2"/>
            <a:endCxn id="324" idx="0"/>
          </p:cNvCxnSpPr>
          <p:nvPr/>
        </p:nvCxnSpPr>
        <p:spPr>
          <a:xfrm flipH="1" rot="16200000">
            <a:off x="7956720" y="3765600"/>
            <a:ext cx="1296000" cy="317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36" name=""/>
          <p:cNvCxnSpPr>
            <a:stCxn id="324" idx="2"/>
            <a:endCxn id="309" idx="0"/>
          </p:cNvCxnSpPr>
          <p:nvPr/>
        </p:nvCxnSpPr>
        <p:spPr>
          <a:xfrm flipV="1" rot="16200000">
            <a:off x="6549480" y="2891880"/>
            <a:ext cx="534240" cy="3893400"/>
          </a:xfrm>
          <a:prstGeom prst="curvedConnector5">
            <a:avLst>
              <a:gd name="adj1" fmla="val -42818"/>
              <a:gd name="adj2" fmla="val 25198"/>
              <a:gd name="adj3" fmla="val -428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24" idx="2"/>
            <a:endCxn id="321" idx="0"/>
          </p:cNvCxnSpPr>
          <p:nvPr/>
        </p:nvCxnSpPr>
        <p:spPr>
          <a:xfrm flipV="1" rot="16200000">
            <a:off x="5940000" y="2282400"/>
            <a:ext cx="4725000" cy="921600"/>
          </a:xfrm>
          <a:prstGeom prst="curvedConnector5">
            <a:avLst>
              <a:gd name="adj1" fmla="val -4830"/>
              <a:gd name="adj2" fmla="val 93786"/>
              <a:gd name="adj3" fmla="val -483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38" name=""/>
          <p:cNvCxnSpPr>
            <a:stCxn id="321" idx="2"/>
            <a:endCxn id="318" idx="0"/>
          </p:cNvCxnSpPr>
          <p:nvPr/>
        </p:nvCxnSpPr>
        <p:spPr>
          <a:xfrm rot="5400000">
            <a:off x="5917320" y="-552600"/>
            <a:ext cx="457920" cy="339156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39" name=""/>
          <p:cNvCxnSpPr>
            <a:stCxn id="321" idx="2"/>
            <a:endCxn id="306" idx="0"/>
          </p:cNvCxnSpPr>
          <p:nvPr/>
        </p:nvCxnSpPr>
        <p:spPr>
          <a:xfrm rot="5400000">
            <a:off x="6451560" y="133200"/>
            <a:ext cx="610200" cy="217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40" name=""/>
          <p:cNvCxnSpPr>
            <a:stCxn id="321" idx="2"/>
            <a:endCxn id="315" idx="0"/>
          </p:cNvCxnSpPr>
          <p:nvPr/>
        </p:nvCxnSpPr>
        <p:spPr>
          <a:xfrm rot="5400000">
            <a:off x="6984360" y="819000"/>
            <a:ext cx="762840" cy="953280"/>
          </a:xfrm>
          <a:prstGeom prst="curvedConnector5">
            <a:avLst>
              <a:gd name="adj1" fmla="val 50000"/>
              <a:gd name="adj2" fmla="val 49981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41" name=""/>
          <p:cNvCxnSpPr>
            <a:stCxn id="315" idx="2"/>
            <a:endCxn id="324" idx="0"/>
          </p:cNvCxnSpPr>
          <p:nvPr/>
        </p:nvCxnSpPr>
        <p:spPr>
          <a:xfrm flipH="1" rot="16200000">
            <a:off x="6645240" y="2453760"/>
            <a:ext cx="2363040" cy="1874160"/>
          </a:xfrm>
          <a:prstGeom prst="curvedConnector5">
            <a:avLst>
              <a:gd name="adj1" fmla="val 49992"/>
              <a:gd name="adj2" fmla="val 49990"/>
              <a:gd name="adj3" fmla="val 49992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42" name=""/>
          <p:cNvCxnSpPr>
            <a:stCxn id="306" idx="2"/>
            <a:endCxn id="324" idx="0"/>
          </p:cNvCxnSpPr>
          <p:nvPr/>
        </p:nvCxnSpPr>
        <p:spPr>
          <a:xfrm flipH="1" rot="16200000">
            <a:off x="5959440" y="1767960"/>
            <a:ext cx="2515320" cy="309312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43" name=""/>
          <p:cNvCxnSpPr>
            <a:stCxn id="318" idx="2"/>
            <a:endCxn id="324" idx="0"/>
          </p:cNvCxnSpPr>
          <p:nvPr/>
        </p:nvCxnSpPr>
        <p:spPr>
          <a:xfrm flipH="1" rot="16200000">
            <a:off x="5272920" y="1082520"/>
            <a:ext cx="2667240" cy="4312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44" name=""/>
          <p:cNvCxnSpPr>
            <a:stCxn id="300" idx="2"/>
            <a:endCxn id="324" idx="0"/>
          </p:cNvCxnSpPr>
          <p:nvPr/>
        </p:nvCxnSpPr>
        <p:spPr>
          <a:xfrm flipH="1" rot="16200000">
            <a:off x="2955960" y="-1235520"/>
            <a:ext cx="3658320" cy="7957440"/>
          </a:xfrm>
          <a:prstGeom prst="curvedConnector5">
            <a:avLst>
              <a:gd name="adj1" fmla="val 49995"/>
              <a:gd name="adj2" fmla="val 49997"/>
              <a:gd name="adj3" fmla="val 49995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45" name=""/>
          <p:cNvCxnSpPr>
            <a:stCxn id="303" idx="2"/>
            <a:endCxn id="324" idx="0"/>
          </p:cNvCxnSpPr>
          <p:nvPr/>
        </p:nvCxnSpPr>
        <p:spPr>
          <a:xfrm flipH="1" rot="16200000">
            <a:off x="4289400" y="98280"/>
            <a:ext cx="3658320" cy="529020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46" name=""/>
          <p:cNvCxnSpPr>
            <a:stCxn id="312" idx="2"/>
            <a:endCxn id="309" idx="0"/>
          </p:cNvCxnSpPr>
          <p:nvPr/>
        </p:nvCxnSpPr>
        <p:spPr>
          <a:xfrm rot="5400000">
            <a:off x="6009480" y="2136600"/>
            <a:ext cx="1296000" cy="3575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47" name=""/>
          <p:cNvCxnSpPr>
            <a:stCxn id="324" idx="2"/>
            <a:endCxn id="312" idx="0"/>
          </p:cNvCxnSpPr>
          <p:nvPr/>
        </p:nvCxnSpPr>
        <p:spPr>
          <a:xfrm flipV="1" rot="16200000">
            <a:off x="7346880" y="3688920"/>
            <a:ext cx="2515320" cy="317880"/>
          </a:xfrm>
          <a:prstGeom prst="curvedConnector5">
            <a:avLst>
              <a:gd name="adj1" fmla="val -9089"/>
              <a:gd name="adj2" fmla="val 192176"/>
              <a:gd name="adj3" fmla="val -9089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grpSp>
        <p:nvGrpSpPr>
          <p:cNvPr id="348" name=""/>
          <p:cNvGrpSpPr/>
          <p:nvPr/>
        </p:nvGrpSpPr>
        <p:grpSpPr>
          <a:xfrm>
            <a:off x="7010280" y="6172200"/>
            <a:ext cx="990360" cy="609480"/>
            <a:chOff x="7010280" y="6172200"/>
            <a:chExt cx="990360" cy="609480"/>
          </a:xfrm>
        </p:grpSpPr>
        <p:sp>
          <p:nvSpPr>
            <p:cNvPr id="349" name=""/>
            <p:cNvSpPr/>
            <p:nvPr/>
          </p:nvSpPr>
          <p:spPr>
            <a:xfrm>
              <a:off x="7010280" y="6172200"/>
              <a:ext cx="990360" cy="609480"/>
            </a:xfrm>
            <a:prstGeom prst="flowChartDocumen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10280" y="6172200"/>
              <a:ext cx="9903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bell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1" name=""/>
          <p:cNvCxnSpPr>
            <a:stCxn id="309" idx="2"/>
            <a:endCxn id="350" idx="0"/>
          </p:cNvCxnSpPr>
          <p:nvPr/>
        </p:nvCxnSpPr>
        <p:spPr>
          <a:xfrm flipH="1" rot="16200000">
            <a:off x="5654520" y="4320720"/>
            <a:ext cx="1067400" cy="2635920"/>
          </a:xfrm>
          <a:prstGeom prst="curvedConnector5">
            <a:avLst>
              <a:gd name="adj1" fmla="val 50000"/>
              <a:gd name="adj2" fmla="val 4999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grpSp>
        <p:nvGrpSpPr>
          <p:cNvPr id="352" name=""/>
          <p:cNvGrpSpPr/>
          <p:nvPr/>
        </p:nvGrpSpPr>
        <p:grpSpPr>
          <a:xfrm>
            <a:off x="5448240" y="6172200"/>
            <a:ext cx="990360" cy="609480"/>
            <a:chOff x="5448240" y="6172200"/>
            <a:chExt cx="990360" cy="609480"/>
          </a:xfrm>
        </p:grpSpPr>
        <p:sp>
          <p:nvSpPr>
            <p:cNvPr id="353" name=""/>
            <p:cNvSpPr/>
            <p:nvPr/>
          </p:nvSpPr>
          <p:spPr>
            <a:xfrm>
              <a:off x="5448240" y="6172200"/>
              <a:ext cx="990360" cy="609480"/>
            </a:xfrm>
            <a:prstGeom prst="flowChartDocumen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48240" y="6172200"/>
              <a:ext cx="9903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ON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27" idx="2"/>
            <a:endCxn id="354" idx="0"/>
          </p:cNvCxnSpPr>
          <p:nvPr/>
        </p:nvCxnSpPr>
        <p:spPr>
          <a:xfrm flipH="1" rot="16200000">
            <a:off x="5275800" y="5505120"/>
            <a:ext cx="229320" cy="1105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grpSp>
        <p:nvGrpSpPr>
          <p:cNvPr id="356" name=""/>
          <p:cNvGrpSpPr/>
          <p:nvPr/>
        </p:nvGrpSpPr>
        <p:grpSpPr>
          <a:xfrm>
            <a:off x="3301920" y="6172200"/>
            <a:ext cx="990360" cy="609480"/>
            <a:chOff x="3301920" y="6172200"/>
            <a:chExt cx="990360" cy="609480"/>
          </a:xfrm>
        </p:grpSpPr>
        <p:sp>
          <p:nvSpPr>
            <p:cNvPr id="357" name=""/>
            <p:cNvSpPr/>
            <p:nvPr/>
          </p:nvSpPr>
          <p:spPr>
            <a:xfrm>
              <a:off x="3301920" y="6172200"/>
              <a:ext cx="990360" cy="609480"/>
            </a:xfrm>
            <a:prstGeom prst="flowChartDocumen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01920" y="6172200"/>
              <a:ext cx="9903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V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27" idx="2"/>
            <a:endCxn id="358" idx="0"/>
          </p:cNvCxnSpPr>
          <p:nvPr/>
        </p:nvCxnSpPr>
        <p:spPr>
          <a:xfrm rot="5400000">
            <a:off x="4203000" y="5536800"/>
            <a:ext cx="229320" cy="1042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grpSp>
        <p:nvGrpSpPr>
          <p:cNvPr id="360" name=""/>
          <p:cNvGrpSpPr/>
          <p:nvPr/>
        </p:nvGrpSpPr>
        <p:grpSpPr>
          <a:xfrm>
            <a:off x="1523880" y="380880"/>
            <a:ext cx="1276200" cy="533520"/>
            <a:chOff x="1523880" y="380880"/>
            <a:chExt cx="1276200" cy="533520"/>
          </a:xfrm>
        </p:grpSpPr>
        <p:sp>
          <p:nvSpPr>
            <p:cNvPr id="361" name=""/>
            <p:cNvSpPr/>
            <p:nvPr/>
          </p:nvSpPr>
          <p:spPr>
            <a:xfrm>
              <a:off x="1523880" y="380880"/>
              <a:ext cx="1276200" cy="533520"/>
            </a:xfrm>
            <a:prstGeom prst="flowChartProcess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3880" y="380880"/>
              <a:ext cx="1276200" cy="533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. Gaswi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>
            <a:stCxn id="362" idx="2"/>
            <a:endCxn id="309" idx="0"/>
          </p:cNvCxnSpPr>
          <p:nvPr/>
        </p:nvCxnSpPr>
        <p:spPr>
          <a:xfrm flipH="1" rot="16200000">
            <a:off x="1686600" y="1388880"/>
            <a:ext cx="3658320" cy="270900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64" name=""/>
          <p:cNvCxnSpPr>
            <a:stCxn id="362" idx="2"/>
            <a:endCxn id="324" idx="0"/>
          </p:cNvCxnSpPr>
          <p:nvPr/>
        </p:nvCxnSpPr>
        <p:spPr>
          <a:xfrm flipH="1" rot="16200000">
            <a:off x="3633840" y="-557640"/>
            <a:ext cx="3658320" cy="6601680"/>
          </a:xfrm>
          <a:prstGeom prst="curvedConnector5">
            <a:avLst>
              <a:gd name="adj1" fmla="val 49995"/>
              <a:gd name="adj2" fmla="val 49997"/>
              <a:gd name="adj3" fmla="val 49995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grpSp>
        <p:nvGrpSpPr>
          <p:cNvPr id="365" name=""/>
          <p:cNvGrpSpPr/>
          <p:nvPr/>
        </p:nvGrpSpPr>
        <p:grpSpPr>
          <a:xfrm>
            <a:off x="1219320" y="6248520"/>
            <a:ext cx="1433160" cy="457200"/>
            <a:chOff x="1219320" y="6248520"/>
            <a:chExt cx="1433160" cy="457200"/>
          </a:xfrm>
        </p:grpSpPr>
        <p:sp>
          <p:nvSpPr>
            <p:cNvPr id="366" name=""/>
            <p:cNvSpPr/>
            <p:nvPr/>
          </p:nvSpPr>
          <p:spPr>
            <a:xfrm>
              <a:off x="1219320" y="6248520"/>
              <a:ext cx="1433160" cy="457200"/>
            </a:xfrm>
            <a:prstGeom prst="flowChartProcess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19320" y="6248520"/>
              <a:ext cx="1433160" cy="45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c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convers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52280" y="6248520"/>
            <a:ext cx="990720" cy="380880"/>
            <a:chOff x="152280" y="6248520"/>
            <a:chExt cx="990720" cy="380880"/>
          </a:xfrm>
        </p:grpSpPr>
        <p:sp>
          <p:nvSpPr>
            <p:cNvPr id="369" name=""/>
            <p:cNvSpPr/>
            <p:nvPr/>
          </p:nvSpPr>
          <p:spPr>
            <a:xfrm>
              <a:off x="152280" y="6248520"/>
              <a:ext cx="990720" cy="380880"/>
            </a:xfrm>
            <a:prstGeom prst="flowChartProcess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6248520"/>
              <a:ext cx="990720" cy="3808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52280" y="5334120"/>
            <a:ext cx="990720" cy="380880"/>
            <a:chOff x="152280" y="5334120"/>
            <a:chExt cx="990720" cy="380880"/>
          </a:xfrm>
        </p:grpSpPr>
        <p:sp>
          <p:nvSpPr>
            <p:cNvPr id="372" name=""/>
            <p:cNvSpPr/>
            <p:nvPr/>
          </p:nvSpPr>
          <p:spPr>
            <a:xfrm>
              <a:off x="152280" y="5334120"/>
              <a:ext cx="990720" cy="380880"/>
            </a:xfrm>
            <a:prstGeom prst="flowChartProcess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2280" y="5334120"/>
              <a:ext cx="99072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IM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43000" y="5791320"/>
            <a:ext cx="1585440" cy="380880"/>
            <a:chOff x="243000" y="5791320"/>
            <a:chExt cx="1585440" cy="380880"/>
          </a:xfrm>
        </p:grpSpPr>
        <p:sp>
          <p:nvSpPr>
            <p:cNvPr id="375" name=""/>
            <p:cNvSpPr/>
            <p:nvPr/>
          </p:nvSpPr>
          <p:spPr>
            <a:xfrm>
              <a:off x="243000" y="5791320"/>
              <a:ext cx="1585440" cy="380880"/>
            </a:xfrm>
            <a:prstGeom prst="flowChartProcess">
              <a:avLst/>
            </a:prstGeom>
            <a:solidFill>
              <a:srgbClr val="ff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3000" y="5791320"/>
              <a:ext cx="1585440" cy="3808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cel/Vens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219320" y="5334120"/>
            <a:ext cx="1433160" cy="380880"/>
            <a:chOff x="1219320" y="5334120"/>
            <a:chExt cx="1433160" cy="380880"/>
          </a:xfrm>
        </p:grpSpPr>
        <p:sp>
          <p:nvSpPr>
            <p:cNvPr id="378" name=""/>
            <p:cNvSpPr/>
            <p:nvPr/>
          </p:nvSpPr>
          <p:spPr>
            <a:xfrm>
              <a:off x="1219320" y="5334120"/>
              <a:ext cx="1433160" cy="380880"/>
            </a:xfrm>
            <a:prstGeom prst="flowChartProcess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19320" y="5334120"/>
              <a:ext cx="1433160" cy="380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adf"/>
                  </a:solidFill>
                  <a:latin typeface="Times New Roman"/>
                </a:rPr>
                <a:t>AIM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adf"/>
                  </a:solidFill>
                  <a:latin typeface="Times New Roman"/>
                </a:rPr>
                <a:t>dataconvers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905120" y="5791320"/>
            <a:ext cx="990360" cy="380880"/>
            <a:chOff x="1905120" y="5791320"/>
            <a:chExt cx="990360" cy="380880"/>
          </a:xfrm>
        </p:grpSpPr>
        <p:sp>
          <p:nvSpPr>
            <p:cNvPr id="381" name=""/>
            <p:cNvSpPr/>
            <p:nvPr/>
          </p:nvSpPr>
          <p:spPr>
            <a:xfrm>
              <a:off x="1905120" y="5791320"/>
              <a:ext cx="990360" cy="380880"/>
            </a:xfrm>
            <a:prstGeom prst="flowChartProcess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05120" y="5791320"/>
              <a:ext cx="990360" cy="380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c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18960" y="4876920"/>
            <a:ext cx="1433160" cy="380880"/>
            <a:chOff x="318960" y="4876920"/>
            <a:chExt cx="1433160" cy="380880"/>
          </a:xfrm>
        </p:grpSpPr>
        <p:sp>
          <p:nvSpPr>
            <p:cNvPr id="384" name=""/>
            <p:cNvSpPr/>
            <p:nvPr/>
          </p:nvSpPr>
          <p:spPr>
            <a:xfrm>
              <a:off x="318960" y="4876920"/>
              <a:ext cx="1433160" cy="380880"/>
            </a:xfrm>
            <a:prstGeom prst="flowChartProcess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8960" y="4876920"/>
              <a:ext cx="1433160" cy="380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cel/G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21" idx="2"/>
            <a:endCxn id="312" idx="0"/>
          </p:cNvCxnSpPr>
          <p:nvPr/>
        </p:nvCxnSpPr>
        <p:spPr>
          <a:xfrm flipH="1" rot="16200000">
            <a:off x="7305480" y="1450800"/>
            <a:ext cx="1677240" cy="60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87" name=""/>
          <p:cNvCxnSpPr>
            <a:stCxn id="321" idx="2"/>
            <a:endCxn id="324" idx="0"/>
          </p:cNvCxnSpPr>
          <p:nvPr/>
        </p:nvCxnSpPr>
        <p:spPr>
          <a:xfrm flipH="1" rot="16200000">
            <a:off x="6473880" y="2282400"/>
            <a:ext cx="3658320" cy="921600"/>
          </a:xfrm>
          <a:prstGeom prst="curvedConnector5">
            <a:avLst>
              <a:gd name="adj1" fmla="val 49995"/>
              <a:gd name="adj2" fmla="val 49980"/>
              <a:gd name="adj3" fmla="val 49995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88" name=""/>
          <p:cNvCxnSpPr>
            <a:stCxn id="324" idx="2"/>
            <a:endCxn id="303" idx="0"/>
          </p:cNvCxnSpPr>
          <p:nvPr/>
        </p:nvCxnSpPr>
        <p:spPr>
          <a:xfrm flipV="1" rot="16200000">
            <a:off x="3755880" y="98280"/>
            <a:ext cx="4725000" cy="5290200"/>
          </a:xfrm>
          <a:prstGeom prst="bentConnector5">
            <a:avLst>
              <a:gd name="adj1" fmla="val -4830"/>
              <a:gd name="adj2" fmla="val 50299"/>
              <a:gd name="adj3" fmla="val 104838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grpSp>
        <p:nvGrpSpPr>
          <p:cNvPr id="389" name=""/>
          <p:cNvGrpSpPr/>
          <p:nvPr/>
        </p:nvGrpSpPr>
        <p:grpSpPr>
          <a:xfrm>
            <a:off x="166680" y="1981080"/>
            <a:ext cx="1356840" cy="533520"/>
            <a:chOff x="166680" y="1981080"/>
            <a:chExt cx="1356840" cy="533520"/>
          </a:xfrm>
        </p:grpSpPr>
        <p:sp>
          <p:nvSpPr>
            <p:cNvPr id="390" name=""/>
            <p:cNvSpPr/>
            <p:nvPr/>
          </p:nvSpPr>
          <p:spPr>
            <a:xfrm>
              <a:off x="166680" y="1981080"/>
              <a:ext cx="1356840" cy="533520"/>
            </a:xfrm>
            <a:prstGeom prst="flowChartProcess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6680" y="1981080"/>
              <a:ext cx="1356840" cy="533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2. SpecialFu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2" name=""/>
          <p:cNvCxnSpPr>
            <a:stCxn id="300" idx="2"/>
            <a:endCxn id="391" idx="0"/>
          </p:cNvCxnSpPr>
          <p:nvPr/>
        </p:nvCxnSpPr>
        <p:spPr>
          <a:xfrm flipH="1" rot="16200000">
            <a:off x="292680" y="1427400"/>
            <a:ext cx="1067400" cy="40320"/>
          </a:xfrm>
          <a:prstGeom prst="curvedConnector5">
            <a:avLst>
              <a:gd name="adj1" fmla="val 50000"/>
              <a:gd name="adj2" fmla="val 4954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93" name=""/>
          <p:cNvCxnSpPr>
            <a:stCxn id="391" idx="2"/>
            <a:endCxn id="309" idx="0"/>
          </p:cNvCxnSpPr>
          <p:nvPr/>
        </p:nvCxnSpPr>
        <p:spPr>
          <a:xfrm flipH="1" rot="16200000">
            <a:off x="1828800" y="1530360"/>
            <a:ext cx="2057760" cy="402516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94" name=""/>
          <p:cNvCxnSpPr>
            <a:stCxn id="391" idx="2"/>
            <a:endCxn id="324" idx="0"/>
          </p:cNvCxnSpPr>
          <p:nvPr/>
        </p:nvCxnSpPr>
        <p:spPr>
          <a:xfrm flipH="1" rot="16200000">
            <a:off x="3776040" y="-416160"/>
            <a:ext cx="2057760" cy="7917840"/>
          </a:xfrm>
          <a:prstGeom prst="curvedConnector5">
            <a:avLst>
              <a:gd name="adj1" fmla="val 49991"/>
              <a:gd name="adj2" fmla="val 49997"/>
              <a:gd name="adj3" fmla="val 49991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95" name=""/>
          <p:cNvCxnSpPr>
            <a:stCxn id="300" idx="2"/>
            <a:endCxn id="309" idx="0"/>
          </p:cNvCxnSpPr>
          <p:nvPr/>
        </p:nvCxnSpPr>
        <p:spPr>
          <a:xfrm flipH="1" rot="16200000">
            <a:off x="1008360" y="711000"/>
            <a:ext cx="3658320" cy="4064400"/>
          </a:xfrm>
          <a:prstGeom prst="curvedConnector5">
            <a:avLst>
              <a:gd name="adj1" fmla="val 49995"/>
              <a:gd name="adj2" fmla="val 49995"/>
              <a:gd name="adj3" fmla="val 49995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396" name=""/>
          <p:cNvCxnSpPr>
            <a:stCxn id="309" idx="2"/>
            <a:endCxn id="362" idx="0"/>
          </p:cNvCxnSpPr>
          <p:nvPr/>
        </p:nvCxnSpPr>
        <p:spPr>
          <a:xfrm flipV="1" rot="16200000">
            <a:off x="1153440" y="1388880"/>
            <a:ext cx="4725000" cy="2709000"/>
          </a:xfrm>
          <a:prstGeom prst="bentConnector5">
            <a:avLst>
              <a:gd name="adj1" fmla="val -4830"/>
              <a:gd name="adj2" fmla="val 48883"/>
              <a:gd name="adj3" fmla="val 104838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1676520"/>
            <a:ext cx="83818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800" spc="-1" strike="noStrike">
                <a:solidFill>
                  <a:srgbClr val="ff5050"/>
                </a:solidFill>
                <a:latin typeface="Arial"/>
              </a:rPr>
              <a:t>Modeling specific developments in energy consumption on the technology level</a:t>
            </a:r>
            <a:br>
              <a:rPr sz="3800"/>
            </a:br>
            <a:r>
              <a:rPr b="1" lang="nl-NL" sz="3800" spc="-1" strike="noStrike">
                <a:solidFill>
                  <a:srgbClr val="ff5050"/>
                </a:solidFill>
                <a:latin typeface="Arial"/>
              </a:rPr>
              <a:t>(      ottom-up)</a:t>
            </a:r>
            <a:endParaRPr b="1" lang="en-US" sz="3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3588840" y="3339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000" spc="-1" strike="noStrike">
                <a:solidFill>
                  <a:srgbClr val="ff5050"/>
                </a:solidFill>
                <a:latin typeface="Arial"/>
              </a:rPr>
              <a:t>The </a:t>
            </a:r>
            <a:r>
              <a:rPr b="1" lang="en-GB" sz="3000" spc="-1" strike="noStrike">
                <a:solidFill>
                  <a:srgbClr val="ff5050"/>
                </a:solidFill>
                <a:latin typeface="Arial"/>
              </a:rPr>
              <a:t>technological</a:t>
            </a:r>
            <a:r>
              <a:rPr b="1" lang="nl-NL" sz="3000" spc="-1" strike="noStrike">
                <a:solidFill>
                  <a:srgbClr val="ff5050"/>
                </a:solidFill>
                <a:latin typeface="Arial"/>
              </a:rPr>
              <a:t> bypass</a:t>
            </a: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90680" y="2252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90680" y="2252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86280" y="3222720"/>
            <a:ext cx="935280" cy="70632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577880"/>
            <a:ext cx="1589040" cy="9493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680" y="160164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Statist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400" y="180972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0680" y="201600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Physical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0680" y="2224080"/>
            <a:ext cx="82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090880" y="2224080"/>
            <a:ext cx="1093680" cy="949320"/>
            <a:chOff x="2090880" y="2224080"/>
            <a:chExt cx="1093680" cy="949320"/>
          </a:xfrm>
        </p:grpSpPr>
        <p:sp>
          <p:nvSpPr>
            <p:cNvPr id="98" name=""/>
            <p:cNvSpPr/>
            <p:nvPr/>
          </p:nvSpPr>
          <p:spPr>
            <a:xfrm>
              <a:off x="2090880" y="2224080"/>
              <a:ext cx="1025280" cy="900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051000"/>
              <a:ext cx="136440" cy="122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0" y="69"/>
                  </a:moveTo>
                  <a:lnTo>
                    <a:pt x="86" y="77"/>
                  </a:lnTo>
                  <a:lnTo>
                    <a:pt x="5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90680" y="3160800"/>
            <a:ext cx="1589040" cy="11826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200400"/>
            <a:ext cx="1371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General sectoral characteristics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657600"/>
            <a:ext cx="15238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Production capac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Proces and technology da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28840" y="2895480"/>
            <a:ext cx="1712880" cy="1121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63400" y="307656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Reconstruction of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63400" y="3282840"/>
            <a:ext cx="114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energyfunctions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3040" y="349092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and technology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952880" y="3505320"/>
            <a:ext cx="811440" cy="133200"/>
            <a:chOff x="4952880" y="3505320"/>
            <a:chExt cx="811440" cy="133200"/>
          </a:xfrm>
        </p:grpSpPr>
        <p:sp>
          <p:nvSpPr>
            <p:cNvPr id="108" name=""/>
            <p:cNvSpPr/>
            <p:nvPr/>
          </p:nvSpPr>
          <p:spPr>
            <a:xfrm>
              <a:off x="4952880" y="3565440"/>
              <a:ext cx="7207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51280" y="3505320"/>
              <a:ext cx="11304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0" y="84"/>
                  </a:moveTo>
                  <a:lnTo>
                    <a:pt x="71" y="38"/>
                  </a:ln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554960" y="3186000"/>
            <a:ext cx="1589040" cy="9493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89880" y="3209760"/>
            <a:ext cx="13255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Outlook for energy functions and technology penetrati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133720" y="3429000"/>
            <a:ext cx="1059840" cy="133200"/>
            <a:chOff x="2133720" y="3429000"/>
            <a:chExt cx="1059840" cy="133200"/>
          </a:xfrm>
        </p:grpSpPr>
        <p:sp>
          <p:nvSpPr>
            <p:cNvPr id="113" name=""/>
            <p:cNvSpPr/>
            <p:nvPr/>
          </p:nvSpPr>
          <p:spPr>
            <a:xfrm>
              <a:off x="2133720" y="3489120"/>
              <a:ext cx="96984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81240" y="3429000"/>
              <a:ext cx="11232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0" y="84"/>
                  </a:moveTo>
                  <a:lnTo>
                    <a:pt x="71" y="38"/>
                  </a:ln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143680" y="4572000"/>
            <a:ext cx="1544400" cy="816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79680" y="4622760"/>
            <a:ext cx="1139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Expectations on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0400" y="4830840"/>
            <a:ext cx="1450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Energy functions an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960" y="503712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chnolog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89680" y="3941640"/>
            <a:ext cx="225360" cy="596880"/>
            <a:chOff x="5989680" y="3941640"/>
            <a:chExt cx="225360" cy="596880"/>
          </a:xfrm>
        </p:grpSpPr>
        <p:sp>
          <p:nvSpPr>
            <p:cNvPr id="120" name=""/>
            <p:cNvSpPr/>
            <p:nvPr/>
          </p:nvSpPr>
          <p:spPr>
            <a:xfrm flipV="1">
              <a:off x="5989680" y="4025880"/>
              <a:ext cx="168120" cy="512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02360" y="3941640"/>
              <a:ext cx="112680" cy="146160"/>
            </a:xfrm>
            <a:custGeom>
              <a:avLst/>
              <a:gdLst/>
              <a:ahLst/>
              <a:rect l="l" t="t" r="r" b="b"/>
              <a:pathLst>
                <a:path w="71" h="92">
                  <a:moveTo>
                    <a:pt x="71" y="92"/>
                  </a:moveTo>
                  <a:lnTo>
                    <a:pt x="64" y="0"/>
                  </a:lnTo>
                  <a:lnTo>
                    <a:pt x="0" y="53"/>
                  </a:lnTo>
                  <a:lnTo>
                    <a:pt x="7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008680" y="1760400"/>
            <a:ext cx="1712880" cy="8049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828800"/>
            <a:ext cx="17384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Expectations on economic, structural and policy development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45120" y="2602080"/>
            <a:ext cx="214560" cy="583920"/>
            <a:chOff x="6045120" y="2602080"/>
            <a:chExt cx="214560" cy="583920"/>
          </a:xfrm>
        </p:grpSpPr>
        <p:sp>
          <p:nvSpPr>
            <p:cNvPr id="125" name=""/>
            <p:cNvSpPr/>
            <p:nvPr/>
          </p:nvSpPr>
          <p:spPr>
            <a:xfrm>
              <a:off x="6045120" y="2602080"/>
              <a:ext cx="158760" cy="49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35840" y="305100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23"/>
                  </a:moveTo>
                  <a:lnTo>
                    <a:pt x="64" y="85"/>
                  </a:lnTo>
                  <a:lnTo>
                    <a:pt x="7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8164440" y="2527200"/>
            <a:ext cx="123840" cy="622080"/>
            <a:chOff x="8164440" y="2527200"/>
            <a:chExt cx="123840" cy="622080"/>
          </a:xfrm>
        </p:grpSpPr>
        <p:sp>
          <p:nvSpPr>
            <p:cNvPr id="128" name=""/>
            <p:cNvSpPr/>
            <p:nvPr/>
          </p:nvSpPr>
          <p:spPr>
            <a:xfrm flipV="1">
              <a:off x="8220240" y="2625480"/>
              <a:ext cx="1440" cy="523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64440" y="2527200"/>
              <a:ext cx="123840" cy="122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77"/>
                  </a:moveTo>
                  <a:lnTo>
                    <a:pt x="35" y="0"/>
                  </a:lnTo>
                  <a:lnTo>
                    <a:pt x="0" y="77"/>
                  </a:lnTo>
                  <a:lnTo>
                    <a:pt x="7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467480" y="1676520"/>
            <a:ext cx="1600200" cy="8395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46320" y="1795320"/>
            <a:ext cx="1427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300" spc="-1" strike="noStrike">
                <a:solidFill>
                  <a:srgbClr val="000000"/>
                </a:solidFill>
                <a:latin typeface="Times New Roman"/>
              </a:rPr>
              <a:t>Outlook for energy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5240" y="2003400"/>
            <a:ext cx="135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Physical producti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2209680"/>
            <a:ext cx="82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090880" y="1919160"/>
            <a:ext cx="2771640" cy="133560"/>
            <a:chOff x="2090880" y="1919160"/>
            <a:chExt cx="2771640" cy="133560"/>
          </a:xfrm>
        </p:grpSpPr>
        <p:sp>
          <p:nvSpPr>
            <p:cNvPr id="135" name=""/>
            <p:cNvSpPr/>
            <p:nvPr/>
          </p:nvSpPr>
          <p:spPr>
            <a:xfrm>
              <a:off x="2090880" y="1979640"/>
              <a:ext cx="44280" cy="1260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58920" y="197964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3668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1624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95440" y="197964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7320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8" y="0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5276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31960" y="197964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0972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8" y="0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8928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68480" y="197964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4624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8" y="0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2580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05000" y="197964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84560" y="1979640"/>
              <a:ext cx="5544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232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41520" y="197964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1080" y="1979640"/>
              <a:ext cx="5544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9884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78400" y="1979640"/>
              <a:ext cx="5544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7600" y="1979640"/>
              <a:ext cx="5544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3536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14920" y="1979640"/>
              <a:ext cx="5544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94120" y="1979640"/>
              <a:ext cx="5544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7188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51440" y="1979640"/>
              <a:ext cx="5688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30640" y="1979640"/>
              <a:ext cx="5544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840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87960" y="1979640"/>
              <a:ext cx="5688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67160" y="1979640"/>
              <a:ext cx="5544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4492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8" y="0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4480" y="1979640"/>
              <a:ext cx="5688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03680" y="197964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81440" y="197964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8" y="0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49840" y="1919160"/>
              <a:ext cx="112680" cy="13356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0" y="84"/>
                  </a:moveTo>
                  <a:lnTo>
                    <a:pt x="71" y="38"/>
                  </a:ln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800760" y="1893960"/>
            <a:ext cx="665280" cy="135000"/>
            <a:chOff x="6800760" y="1893960"/>
            <a:chExt cx="665280" cy="135000"/>
          </a:xfrm>
        </p:grpSpPr>
        <p:sp>
          <p:nvSpPr>
            <p:cNvPr id="171" name=""/>
            <p:cNvSpPr/>
            <p:nvPr/>
          </p:nvSpPr>
          <p:spPr>
            <a:xfrm>
              <a:off x="6800760" y="1955880"/>
              <a:ext cx="44640" cy="1260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67360" y="195588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46920" y="195588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6120" y="195588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04240" y="1955880"/>
              <a:ext cx="5688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83440" y="1955880"/>
              <a:ext cx="5724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62640" y="195588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7" y="0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40760" y="195588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8" y="0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53360" y="1893960"/>
              <a:ext cx="112680" cy="135000"/>
            </a:xfrm>
            <a:custGeom>
              <a:avLst/>
              <a:gdLst/>
              <a:ahLst/>
              <a:rect l="l" t="t" r="r" b="b"/>
              <a:pathLst>
                <a:path w="71" h="85">
                  <a:moveTo>
                    <a:pt x="0" y="85"/>
                  </a:moveTo>
                  <a:lnTo>
                    <a:pt x="71" y="39"/>
                  </a:ln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781680" y="3505320"/>
            <a:ext cx="733680" cy="133200"/>
            <a:chOff x="6781680" y="3505320"/>
            <a:chExt cx="733680" cy="133200"/>
          </a:xfrm>
        </p:grpSpPr>
        <p:sp>
          <p:nvSpPr>
            <p:cNvPr id="181" name=""/>
            <p:cNvSpPr/>
            <p:nvPr/>
          </p:nvSpPr>
          <p:spPr>
            <a:xfrm>
              <a:off x="6781680" y="3565440"/>
              <a:ext cx="64296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02320" y="3505320"/>
              <a:ext cx="11304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0" y="84"/>
                  </a:moveTo>
                  <a:lnTo>
                    <a:pt x="71" y="38"/>
                  </a:ln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899320" y="3441600"/>
            <a:ext cx="69840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3352680"/>
            <a:ext cx="476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3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3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584280"/>
            <a:ext cx="761040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800" spc="-1" strike="noStrike">
                <a:solidFill>
                  <a:srgbClr val="ff5050"/>
                </a:solidFill>
                <a:latin typeface="Arial"/>
              </a:rPr>
              <a:t>Demand model inputs</a:t>
            </a:r>
            <a:endParaRPr b="1" lang="en-US" sz="3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toral economic in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PB Athena or macro data  &gt;  ECN secto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ergy prices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world markets for fuels, C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eedback from supply model for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hysical capacity and material flows: -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N process capacity data, Stream model on 5 major physic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chnologies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-Households gas and power use surveys,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U I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rus4 database, buildings and horticulture data (ECN, L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mplementation characteristics: -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ert jud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cies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polic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400" spc="-1" strike="noStrike">
                <a:solidFill>
                  <a:srgbClr val="ff5050"/>
                </a:solidFill>
                <a:latin typeface="Arial"/>
              </a:rPr>
              <a:t>Supply model inputs</a:t>
            </a:r>
            <a:endParaRPr b="1" lang="en-US" sz="3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isting capacity, installa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el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ice and CO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costs pass-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erational characteristics, mark-ups and liberalisation/market power, cross-border supply characteristic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7758000" cy="5246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000" spc="-1" strike="noStrike">
                <a:solidFill>
                  <a:srgbClr val="ff5050"/>
                </a:solidFill>
                <a:latin typeface="Arial"/>
              </a:rPr>
              <a:t>Technology implementation characteristics</a:t>
            </a: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79760" y="1434960"/>
            <a:ext cx="5344920" cy="41450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3480" y="2230560"/>
            <a:ext cx="1440" cy="2832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24160" y="5062680"/>
            <a:ext cx="10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24160" y="4594320"/>
            <a:ext cx="10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24160" y="4114800"/>
            <a:ext cx="10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24160" y="3646440"/>
            <a:ext cx="100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24160" y="3178080"/>
            <a:ext cx="100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24160" y="2698920"/>
            <a:ext cx="10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24160" y="2230560"/>
            <a:ext cx="10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3480" y="5062680"/>
            <a:ext cx="4398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27348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46392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292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84336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04496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35400" y="5011200"/>
            <a:ext cx="180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42440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61340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80384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99284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18328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37228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57388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76432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952960" y="5011200"/>
            <a:ext cx="180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14376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332400" y="5011200"/>
            <a:ext cx="180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52320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711840" y="5011200"/>
            <a:ext cx="180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90084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104240" y="501120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292880" y="5011200"/>
            <a:ext cx="180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483320" y="5011200"/>
            <a:ext cx="180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672320" y="5011200"/>
            <a:ext cx="180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3480" y="2698920"/>
            <a:ext cx="4398840" cy="2363760"/>
          </a:xfrm>
          <a:custGeom>
            <a:avLst/>
            <a:gdLst/>
            <a:ahLst/>
            <a:rect l="l" t="t" r="r" b="b"/>
            <a:pathLst>
              <a:path w="348" h="187">
                <a:moveTo>
                  <a:pt x="0" y="187"/>
                </a:moveTo>
                <a:lnTo>
                  <a:pt x="15" y="150"/>
                </a:lnTo>
                <a:lnTo>
                  <a:pt x="30" y="112"/>
                </a:lnTo>
                <a:lnTo>
                  <a:pt x="45" y="75"/>
                </a:lnTo>
                <a:lnTo>
                  <a:pt x="61" y="66"/>
                </a:lnTo>
                <a:lnTo>
                  <a:pt x="76" y="56"/>
                </a:lnTo>
                <a:lnTo>
                  <a:pt x="91" y="47"/>
                </a:lnTo>
                <a:lnTo>
                  <a:pt x="106" y="38"/>
                </a:lnTo>
                <a:lnTo>
                  <a:pt x="121" y="28"/>
                </a:lnTo>
                <a:lnTo>
                  <a:pt x="136" y="19"/>
                </a:lnTo>
                <a:lnTo>
                  <a:pt x="151" y="10"/>
                </a:lnTo>
                <a:lnTo>
                  <a:pt x="166" y="0"/>
                </a:lnTo>
                <a:lnTo>
                  <a:pt x="182" y="0"/>
                </a:lnTo>
                <a:lnTo>
                  <a:pt x="197" y="0"/>
                </a:lnTo>
                <a:lnTo>
                  <a:pt x="212" y="0"/>
                </a:lnTo>
                <a:lnTo>
                  <a:pt x="227" y="0"/>
                </a:lnTo>
                <a:lnTo>
                  <a:pt x="242" y="0"/>
                </a:lnTo>
                <a:lnTo>
                  <a:pt x="257" y="0"/>
                </a:lnTo>
                <a:lnTo>
                  <a:pt x="272" y="0"/>
                </a:lnTo>
                <a:lnTo>
                  <a:pt x="287" y="0"/>
                </a:lnTo>
                <a:lnTo>
                  <a:pt x="303" y="0"/>
                </a:lnTo>
                <a:lnTo>
                  <a:pt x="318" y="0"/>
                </a:lnTo>
                <a:lnTo>
                  <a:pt x="333" y="0"/>
                </a:lnTo>
                <a:lnTo>
                  <a:pt x="34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02680" y="4960800"/>
            <a:ext cx="23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07640" y="449280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2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07640" y="401328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07640" y="354492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6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07640" y="307800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8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12960" y="259704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12960" y="213048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12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2005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08640" y="52005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00680" y="52005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80120" y="52005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59560" y="52005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82120" y="5200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74160" y="5200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53600" y="5200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31240" y="5200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10680" y="5200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03080" y="5200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82160" y="5200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Sans Serif"/>
              </a:rPr>
              <a:t>2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79760" y="1434960"/>
            <a:ext cx="5344920" cy="4145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68760" y="1611360"/>
            <a:ext cx="137772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02960" y="1636560"/>
            <a:ext cx="1198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30880" y="4379760"/>
            <a:ext cx="7333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66880" y="440532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08560" y="3203640"/>
            <a:ext cx="207324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60200" y="3581280"/>
            <a:ext cx="648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Times New Roman"/>
              </a:rPr>
              <a:t>1/Lpl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59080" y="3949560"/>
            <a:ext cx="1225800" cy="3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95080" y="3975120"/>
            <a:ext cx="51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Times New Roman"/>
              </a:rPr>
              <a:t>1/Lo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792600" y="3949200"/>
            <a:ext cx="34128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91080" y="3873600"/>
            <a:ext cx="139680" cy="139680"/>
          </a:xfrm>
          <a:custGeom>
            <a:avLst/>
            <a:gdLst/>
            <a:ahLst/>
            <a:rect l="l" t="t" r="r" b="b"/>
            <a:pathLst>
              <a:path w="88" h="88">
                <a:moveTo>
                  <a:pt x="88" y="0"/>
                </a:moveTo>
                <a:lnTo>
                  <a:pt x="0" y="24"/>
                </a:lnTo>
                <a:lnTo>
                  <a:pt x="64" y="88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4952880" y="3047760"/>
            <a:ext cx="542880" cy="41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971800"/>
            <a:ext cx="152280" cy="125280"/>
          </a:xfrm>
          <a:custGeom>
            <a:avLst/>
            <a:gdLst/>
            <a:ahLst/>
            <a:rect l="l" t="t" r="r" b="b"/>
            <a:pathLst>
              <a:path w="96" h="79">
                <a:moveTo>
                  <a:pt x="96" y="7"/>
                </a:moveTo>
                <a:lnTo>
                  <a:pt x="0" y="0"/>
                </a:lnTo>
                <a:lnTo>
                  <a:pt x="40" y="79"/>
                </a:lnTo>
                <a:lnTo>
                  <a:pt x="9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5943600"/>
            <a:ext cx="465120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47000" y="5959440"/>
            <a:ext cx="2751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Times New Roman"/>
              </a:rPr>
              <a:t>Lold: Lifetime of the old equip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44120" y="6224760"/>
            <a:ext cx="364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Times New Roman"/>
              </a:rPr>
              <a:t>Lplant: Lifetime of the equipment surroundin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1371600"/>
            <a:ext cx="1997280" cy="476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6000" y="143496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6360" y="2459160"/>
            <a:ext cx="916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6720" y="2849400"/>
            <a:ext cx="142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imes New Roman"/>
              </a:rPr>
              <a:t>replac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6000" y="3241800"/>
            <a:ext cx="1248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000" spc="-1" strike="noStrike">
                <a:solidFill>
                  <a:srgbClr val="ff5050"/>
                </a:solidFill>
                <a:latin typeface="Arial"/>
              </a:rPr>
              <a:t>Technology implementation characteristics</a:t>
            </a: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7848720" cy="50529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000" spc="-1" strike="noStrike">
                <a:solidFill>
                  <a:srgbClr val="ff5050"/>
                </a:solidFill>
                <a:latin typeface="Arial"/>
              </a:rPr>
              <a:t>Technology implementation characteristics</a:t>
            </a:r>
            <a:endParaRPr b="1" lang="en-US" sz="3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4:50:34Z</dcterms:created>
  <dc:creator>A.W.N.van Dril</dc:creator>
  <dc:description/>
  <cp:keywords>emission projections</cp:keywords>
  <dc:language>en-US</dc:language>
  <cp:lastModifiedBy>camenen</cp:lastModifiedBy>
  <cp:lastPrinted>2002-06-05T08:53:55Z</cp:lastPrinted>
  <dcterms:modified xsi:type="dcterms:W3CDTF">2004-09-07T13:36:27Z</dcterms:modified>
  <cp:revision>36</cp:revision>
  <dc:subject/>
  <dc:title>The ECN model structure for energy projections</dc:title>
</cp:coreProperties>
</file>