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25F4-6B46-4837-A0CC-D38EA0293E62}" type="slidenum">
              <a:rPr b="0" lang="nb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028880" y="0"/>
            <a:ext cx="4655880" cy="349236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89000" y="3779640"/>
            <a:ext cx="6480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003320" y="250920"/>
            <a:ext cx="4707000" cy="35290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260280" y="4140360"/>
            <a:ext cx="6337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835280" y="685800"/>
            <a:ext cx="3260520" cy="24462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59920" y="3347640"/>
            <a:ext cx="626436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835280" y="685800"/>
            <a:ext cx="3260520" cy="24462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259920" y="3347640"/>
            <a:ext cx="626436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28760" y="324000"/>
            <a:ext cx="4129200" cy="30956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0" y="3779640"/>
            <a:ext cx="6858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2F9-5C99-4232-AF99-D34D4CAB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9AF-4D4A-480D-8D09-1D8DED17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245D-42D5-42F5-A6E6-4DAA7BA9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F99-95E2-4EC8-8474-B7681611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8198-B9A7-47BE-A921-90CBFB18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C0B-4820-47FE-A5DB-F2E06A7D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9DF-C1A7-4FC9-AEA1-045796F2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D4E-ABE7-4CBC-9C1A-21B0AFE1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079E-A25E-464B-8AFB-0AED290E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FD2-BF2A-4AF5-9926-5A118DBC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15C-ACCB-47CF-A318-6D04EC7A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C29-9371-4ADF-8177-10D67BD3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F49F-9AFC-4AE4-9B5C-D0DB802E0622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Norwegian Emission proj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Facts and experien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Challenges :Land-Use Change and Forestry</a:t>
            </a: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icult to project harvesting rate, since this is mainly driven by the international prices on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icult to predict eventually increased in the natural dieoff (decay) when the rate of old forests increase due to reduces harvesting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icult to predict changes in soil carbon stock due to changed harvesting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icult to project effect of past measures (improved forest 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icult to predict carbon changes in marginal forests (forest in mountain areas and in northern parts of Norw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Methologie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Authorities involv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Main characteristics and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LUCF pro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(Reporting issu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Methodology in u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CO2 projections are based on a macroeconomic model called M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An emission calculation model is included in M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Projections for non- CO2 emissions are based on information from concerned sectors and consistent with macroeconomic pro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Emission projections are (as a rule) fully updated every 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 u="sng">
                <a:solidFill>
                  <a:srgbClr val="000000"/>
                </a:solidFill>
                <a:uFillTx/>
                <a:latin typeface="Arial"/>
              </a:rPr>
              <a:t>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Updated projections (2010/ 2020) will be published in a White paper in Nov. 200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on calculation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ifferent pollutants (CO2, NOX, SO2 and VOC)  are disaggregated by source and sector and specified in the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mission are projected as a function of activity data and emission coeffisi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mission coeffisients are calibrated to a base year, and  emissions are projected by taking into account effects of environmental instruments or policies that are already implemented or dec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croinformation are used as guidance </a:t>
            </a:r>
            <a:r>
              <a:rPr b="0" i="1" lang="nb-NO" sz="2400" spc="-1" strike="noStrike">
                <a:solidFill>
                  <a:srgbClr val="000000"/>
                </a:solidFill>
                <a:latin typeface="Arial"/>
              </a:rPr>
              <a:t>to adjust or overrule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model proj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Emission model..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tatistics Norway develop and update the Emission calculation model in collaboration with The Norwegian State Pollu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Emission calculation model are updated on the basis of historical emission data and takes into account the effects of adopted environmental policies, technological change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Update of model is done every fourth or fifth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Authorities involved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istry of Finance are responsible for the production and publishing  of the official emission projections, and activity data fed into the MSG ( including energy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he Norwegian State Pollution control are responsible for the production of emission projections of non- CO2 gases, and also for publishing emisson by source for all GHG-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istry of Oil and Energy are responsible for the annual projections of  the emissions from the Petroleum s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istry of Agriculture and The Norwegian State Pollution are responsible for the LUCF pro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LUCF projections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Norway there are no permanent institutional arrangement for making projection on GHG emission/removals from LUCF s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stry of Agriculture and The Norwegian State Pollution are responsible for the LUCF pro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wegian forest has a long rotation period (70-120 years), thus the projection is mainly driven by past forest management practice which will result in continuing gross increment the next 10-2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jection is based on following assumptions: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ontinuation of increase in gross incremen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ontinuation of current harvesting rat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no changes in natural dieof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no change in forest polic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oil carbon and non-CO2 GHGs not included</a:t>
            </a: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Main characteristics of the Norwegia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Emissions projections  consistent with overall macroeconomic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Combination of a top down and  a buttom up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Macroapproach to  emissions mainly driven by energy use (CO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Micro aproac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non- CO2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processing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road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petroleum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Micro level and micro information more relevant and available for  2010 than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Intersection between macro and micro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How to ensure consistensy with macrolevel and activity data fed into the macro model, and emission projections when relying on a large degree of micro- information and information gathered from the branches themselv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How to deal with ”voluntary agreements” in projections and scenarios when measures and emisson reductions would be achieved anyw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How to interprete the different scenarios in the reporting guidelin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1:03:57Z</dcterms:created>
  <dc:creator>Ann Forsli</dc:creator>
  <dc:description/>
  <cp:keywords>loggings</cp:keywords>
  <dc:language>en-US</dc:language>
  <cp:lastModifiedBy>camenen</cp:lastModifiedBy>
  <dcterms:modified xsi:type="dcterms:W3CDTF">2004-09-07T06:33:56Z</dcterms:modified>
  <cp:revision>119</cp:revision>
  <dc:subject/>
  <dc:title>Norwegian emission projections. Facts and experien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23398725</vt:r8>
  </property>
  <property fmtid="{D5CDD505-2E9C-101B-9397-08002B2CF9AE}" pid="3" name="_AuthorEmail">
    <vt:lpwstr>audun.rosland@sft.no</vt:lpwstr>
  </property>
  <property fmtid="{D5CDD505-2E9C-101B-9397-08002B2CF9AE}" pid="4" name="_AuthorEmailDisplayName">
    <vt:lpwstr>Audun Rosland</vt:lpwstr>
  </property>
  <property fmtid="{D5CDD505-2E9C-101B-9397-08002B2CF9AE}" pid="5" name="_EmailSubject">
    <vt:lpwstr>Projections.ppt</vt:lpwstr>
  </property>
  <property fmtid="{D5CDD505-2E9C-101B-9397-08002B2CF9AE}" pid="6" name="_NewReviewCycle">
    <vt:lpwstr/>
  </property>
  <property fmtid="{D5CDD505-2E9C-101B-9397-08002B2CF9AE}" pid="7" name="_PreviousAdHocReviewCycleID">
    <vt:r8>-1701800182</vt:r8>
  </property>
</Properties>
</file>