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CB0-F29F-4096-9981-944B94B6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FAB-85DF-4F8E-8C9A-D7616769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857-8873-4F81-891A-9F6F6AF3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9168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336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09168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336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B59-2678-4932-BA20-50ECE1E0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CC28-C5BF-4C31-9112-990A6922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AB33-90CD-4A5E-87E8-0A7EECF9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7DDF-D7B7-42A8-9B24-7C0BCAD3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ADB2-C560-45FF-AB11-6AD7DF39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326B-3A80-474B-8975-610574B8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1768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7C39-CD49-48A8-A0B6-CF7A4B69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68AB-C44A-4704-992A-C3A6699F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C05-BA76-4397-8EF7-D4C45FD8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611B-8B9A-4A7D-A774-1BD84779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5167-FC08-4593-B5A3-EAFE6890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0451-797D-4808-8006-75C7AAA2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FEE8-B1CD-4E9F-9151-3FCDF9C6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09168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8336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09168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8336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DB28-D835-492E-818B-942F1678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4B1-B4E1-4483-A6BF-06D966B7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3D1-D0AF-4FE4-BCB7-2DE2F94B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0F8-E10E-4E4A-97CD-1C57427F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1768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2EF-AB14-4962-9CB8-554763DD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0A5-322B-443A-AAAB-1AC9BDC9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40C-2AF1-4FD2-A9FC-DC13CB9F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2BB-769F-48E2-8EB5-009C4133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0"/>
          <a:ext cx="9144000" cy="686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E8F2-2631-41EE-930D-173DE8868F92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450720" y="5805360"/>
          <a:ext cx="1995480" cy="51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720" y="5805360"/>
                    <a:ext cx="19954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" name=""/>
          <p:cNvGraphicFramePr/>
          <p:nvPr/>
        </p:nvGraphicFramePr>
        <p:xfrm>
          <a:off x="3174840" y="5734080"/>
          <a:ext cx="3324240" cy="66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74840" y="5734080"/>
                    <a:ext cx="33242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" name=""/>
          <p:cNvGraphicFramePr/>
          <p:nvPr/>
        </p:nvGraphicFramePr>
        <p:xfrm>
          <a:off x="6558120" y="5734080"/>
          <a:ext cx="2085840" cy="638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58120" y="5734080"/>
                    <a:ext cx="208584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" name="Base" hidden="1"/>
          <p:cNvSpPr/>
          <p:nvPr/>
        </p:nvSpPr>
        <p:spPr>
          <a:xfrm>
            <a:off x="1523880" y="1227240"/>
            <a:ext cx="609624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9144000" cy="686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A782-3EFC-4C21-957A-F2E28BADF43C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0720" y="5805360"/>
          <a:ext cx="1995480" cy="51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720" y="5805360"/>
                    <a:ext cx="19954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174840" y="5734080"/>
          <a:ext cx="3324240" cy="66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74840" y="5734080"/>
                    <a:ext cx="33242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558120" y="5734080"/>
          <a:ext cx="2085840" cy="638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58120" y="5734080"/>
                    <a:ext cx="208584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1604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0"/>
          <a:ext cx="9144000" cy="6869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50720" y="5805360"/>
          <a:ext cx="1995480" cy="51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0720" y="5805360"/>
                    <a:ext cx="19954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174840" y="5734080"/>
          <a:ext cx="3324240" cy="665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74840" y="5734080"/>
                    <a:ext cx="33242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558120" y="5734080"/>
          <a:ext cx="2085840" cy="638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558120" y="5734080"/>
                    <a:ext cx="208584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5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0"/>
          <a:ext cx="9144000" cy="68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17680" y="5637240"/>
          <a:ext cx="285876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7680" y="5637240"/>
                    <a:ext cx="285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247760" y="2133720"/>
            <a:ext cx="711504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Projecting GHG emissions &amp; remov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New Ze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Leonard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New Zealand Climate Change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Presented at the UNFCCC workshop on projections Bonn Sept 6-8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346800" y="5661000"/>
          <a:ext cx="2298600" cy="70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46800" y="5661000"/>
                    <a:ext cx="22986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Institutional arrangements</a:t>
            </a:r>
            <a:br>
              <a:rPr sz="3200"/>
            </a:br>
            <a:r>
              <a:rPr b="0" i="1" lang="en-NZ" sz="2400" spc="-1" strike="noStrike">
                <a:solidFill>
                  <a:srgbClr val="333399"/>
                </a:solidFill>
                <a:latin typeface="Arial"/>
              </a:rPr>
              <a:t>(for inventory &amp; projection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2360" y="2060640"/>
            <a:ext cx="42195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inistry of Economic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Energy &amp; Industrial Processes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120" y="4365720"/>
            <a:ext cx="421956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inistry of Agriculture and Fore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Agriculture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Forestry removals &amp;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38600" y="2060640"/>
            <a:ext cx="4219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inistry for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Waste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77960" y="3429000"/>
            <a:ext cx="42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New Zealand Climate Change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900760" y="2852640"/>
            <a:ext cx="598320" cy="57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3080" y="2997360"/>
            <a:ext cx="598680" cy="43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76480" y="3860280"/>
            <a:ext cx="665280" cy="505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8031" t="21922" r="17601" b="10001"/>
          <a:stretch/>
        </p:blipFill>
        <p:spPr>
          <a:xfrm>
            <a:off x="4836960" y="3860640"/>
            <a:ext cx="409752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Energy Sector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7680" y="3284640"/>
            <a:ext cx="1528560" cy="107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Projected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e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78160" y="4221000"/>
            <a:ext cx="152856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Emission fa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78160" y="2205000"/>
            <a:ext cx="152856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Energy 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07040" y="4221000"/>
            <a:ext cx="152856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National GH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8" idx="2"/>
            <a:endCxn id="127" idx="5"/>
          </p:cNvCxnSpPr>
          <p:nvPr/>
        </p:nvCxnSpPr>
        <p:spPr>
          <a:xfrm flipH="1" flipV="1">
            <a:off x="1821960" y="4204800"/>
            <a:ext cx="556560" cy="55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2"/>
            <a:endCxn id="127" idx="7"/>
          </p:cNvCxnSpPr>
          <p:nvPr/>
        </p:nvCxnSpPr>
        <p:spPr>
          <a:xfrm flipH="1">
            <a:off x="1821960" y="2744280"/>
            <a:ext cx="55656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30" idx="2"/>
            <a:endCxn id="128" idx="6"/>
          </p:cNvCxnSpPr>
          <p:nvPr/>
        </p:nvCxnSpPr>
        <p:spPr>
          <a:xfrm flipH="1">
            <a:off x="3906360" y="4760640"/>
            <a:ext cx="40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4307040" y="1413000"/>
            <a:ext cx="1528560" cy="107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Energy pr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07040" y="2852640"/>
            <a:ext cx="152856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Socio-econo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4" idx="2"/>
            <a:endCxn id="129" idx="7"/>
          </p:cNvCxnSpPr>
          <p:nvPr/>
        </p:nvCxnSpPr>
        <p:spPr>
          <a:xfrm flipH="1">
            <a:off x="3682440" y="1952640"/>
            <a:ext cx="62460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5" idx="2"/>
            <a:endCxn id="129" idx="5"/>
          </p:cNvCxnSpPr>
          <p:nvPr/>
        </p:nvCxnSpPr>
        <p:spPr>
          <a:xfrm flipH="1" flipV="1">
            <a:off x="3682440" y="3125520"/>
            <a:ext cx="62460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6100920" y="2205000"/>
            <a:ext cx="93024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00920" y="2997360"/>
            <a:ext cx="93024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0920" y="3789360"/>
            <a:ext cx="93024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R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8" idx="2"/>
            <a:endCxn id="135" idx="7"/>
          </p:cNvCxnSpPr>
          <p:nvPr/>
        </p:nvCxnSpPr>
        <p:spPr>
          <a:xfrm flipH="1">
            <a:off x="5611320" y="2565000"/>
            <a:ext cx="489600" cy="44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9" idx="2"/>
            <a:endCxn id="135" idx="6"/>
          </p:cNvCxnSpPr>
          <p:nvPr/>
        </p:nvCxnSpPr>
        <p:spPr>
          <a:xfrm flipH="1">
            <a:off x="5834880" y="3357360"/>
            <a:ext cx="26604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2"/>
            <a:endCxn id="135" idx="5"/>
          </p:cNvCxnSpPr>
          <p:nvPr/>
        </p:nvCxnSpPr>
        <p:spPr>
          <a:xfrm flipH="1" flipV="1">
            <a:off x="5611320" y="3772800"/>
            <a:ext cx="489600" cy="37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395280" y="404640"/>
            <a:ext cx="3240000" cy="1800360"/>
            <a:chOff x="395280" y="404640"/>
            <a:chExt cx="3240000" cy="1800360"/>
          </a:xfrm>
        </p:grpSpPr>
        <p:sp>
          <p:nvSpPr>
            <p:cNvPr id="145" name=""/>
            <p:cNvSpPr/>
            <p:nvPr/>
          </p:nvSpPr>
          <p:spPr>
            <a:xfrm>
              <a:off x="849240" y="1268280"/>
              <a:ext cx="93204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efficie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46440" y="1268280"/>
              <a:ext cx="93024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Pric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meas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040" y="1052640"/>
              <a:ext cx="2193840" cy="1152360"/>
            </a:xfrm>
            <a:prstGeom prst="ellipse">
              <a:avLst/>
            </a:prstGeom>
            <a:solidFill>
              <a:srgbClr val="ff99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"/>
            <p:cNvCxnSpPr>
              <a:stCxn id="147" idx="5"/>
              <a:endCxn id="129" idx="0"/>
            </p:cNvCxnSpPr>
            <p:nvPr/>
          </p:nvCxnSpPr>
          <p:spPr>
            <a:xfrm>
              <a:off x="2588760" y="2036520"/>
              <a:ext cx="554760" cy="16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" name=""/>
            <p:cNvSpPr/>
            <p:nvPr/>
          </p:nvSpPr>
          <p:spPr>
            <a:xfrm>
              <a:off x="395280" y="404640"/>
              <a:ext cx="32400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ff9900"/>
                  </a:solidFill>
                  <a:latin typeface="Arial"/>
                </a:rPr>
                <a:t>“</a:t>
              </a:r>
              <a:r>
                <a:rPr b="0" lang="en-NZ" sz="1600" spc="-1" strike="noStrike">
                  <a:solidFill>
                    <a:srgbClr val="ff9900"/>
                  </a:solidFill>
                  <a:latin typeface="Arial"/>
                </a:rPr>
                <a:t>With additional measure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ff9900"/>
                  </a:solidFill>
                  <a:latin typeface="Arial"/>
                </a:rPr>
                <a:t>scen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64200" y="765000"/>
            <a:ext cx="1730520" cy="4375080"/>
            <a:chOff x="6964200" y="765000"/>
            <a:chExt cx="1730520" cy="4375080"/>
          </a:xfrm>
        </p:grpSpPr>
        <p:sp>
          <p:nvSpPr>
            <p:cNvPr id="151" name=""/>
            <p:cNvSpPr/>
            <p:nvPr/>
          </p:nvSpPr>
          <p:spPr>
            <a:xfrm>
              <a:off x="6964200" y="4508640"/>
              <a:ext cx="1730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0" lang="en-NZ" sz="1600" spc="-1" strike="noStrike">
                  <a:solidFill>
                    <a:srgbClr val="333399"/>
                  </a:solidFill>
                  <a:latin typeface="Arial"/>
                </a:rPr>
                <a:t>With measure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333399"/>
                  </a:solidFill>
                  <a:latin typeface="Arial"/>
                </a:rPr>
                <a:t>scen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62520" y="3286080"/>
              <a:ext cx="93096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GD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3.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62520" y="1054080"/>
              <a:ext cx="93096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GD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1.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62520" y="2278080"/>
              <a:ext cx="93096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GD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2.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63080" y="765000"/>
              <a:ext cx="1329480" cy="3600720"/>
            </a:xfrm>
            <a:prstGeom prst="ellipse">
              <a:avLst/>
            </a:prstGeom>
            <a:solidFill>
              <a:srgbClr val="bbe0e3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6" name=""/>
            <p:cNvCxnSpPr>
              <a:stCxn id="155" idx="2"/>
              <a:endCxn id="138" idx="6"/>
            </p:cNvCxnSpPr>
            <p:nvPr/>
          </p:nvCxnSpPr>
          <p:spPr>
            <a:xfrm flipH="1">
              <a:off x="7029720" y="2565000"/>
              <a:ext cx="333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82480" y="544680"/>
          <a:ext cx="7777440" cy="51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480" y="544680"/>
                    <a:ext cx="777744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960" y="1689840"/>
            <a:ext cx="658728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072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 by species: beef, sheep, dairy, deer - PR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ty &amp; emissions per anim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cast of nitrogen fertiliser u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76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333399"/>
                </a:solidFill>
                <a:latin typeface="Arial"/>
              </a:rPr>
              <a:t>Agri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70320" y="3592440"/>
            <a:ext cx="3853080" cy="326556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5364000" y="2565360"/>
            <a:ext cx="3323880" cy="951120"/>
            <a:chOff x="5364000" y="2565360"/>
            <a:chExt cx="3323880" cy="951120"/>
          </a:xfrm>
        </p:grpSpPr>
        <p:sp>
          <p:nvSpPr>
            <p:cNvPr id="163" name=""/>
            <p:cNvSpPr/>
            <p:nvPr/>
          </p:nvSpPr>
          <p:spPr>
            <a:xfrm>
              <a:off x="5364000" y="2565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64000" y="3429000"/>
              <a:ext cx="9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495760" y="2924280"/>
              <a:ext cx="86472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6561360" y="2925720"/>
              <a:ext cx="212652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240120" y="3894480"/>
            <a:ext cx="463788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072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ies &amp;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36324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Environmental N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36324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Price measures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36324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-26496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-26496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215400" y="333360"/>
            <a:ext cx="2837520" cy="2303640"/>
            <a:chOff x="6215400" y="333360"/>
            <a:chExt cx="2837520" cy="2303640"/>
          </a:xfrm>
        </p:grpSpPr>
        <p:sp>
          <p:nvSpPr>
            <p:cNvPr id="169" name=""/>
            <p:cNvSpPr/>
            <p:nvPr/>
          </p:nvSpPr>
          <p:spPr>
            <a:xfrm>
              <a:off x="6576840" y="1054080"/>
              <a:ext cx="93060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400" spc="-1" strike="noStrike">
                  <a:solidFill>
                    <a:srgbClr val="000000"/>
                  </a:solidFill>
                  <a:latin typeface="Arial"/>
                </a:rPr>
                <a:t>$N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72400" y="1773360"/>
              <a:ext cx="93024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400" spc="-1" strike="noStrike">
                  <a:solidFill>
                    <a:srgbClr val="000000"/>
                  </a:solidFill>
                  <a:latin typeface="Arial"/>
                </a:rPr>
                <a:t>Pr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640" y="909720"/>
              <a:ext cx="93024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400" spc="-1" strike="noStrike">
                  <a:solidFill>
                    <a:srgbClr val="000000"/>
                  </a:solidFill>
                  <a:latin typeface="Arial"/>
                </a:rPr>
                <a:t>Weat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43640" y="693720"/>
              <a:ext cx="225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15400" y="333360"/>
              <a:ext cx="28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Carrying capac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32720" y="1916280"/>
              <a:ext cx="93024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400" spc="-1" strike="noStrike">
                  <a:solidFill>
                    <a:srgbClr val="000000"/>
                  </a:solidFill>
                  <a:latin typeface="Arial"/>
                </a:rPr>
                <a:t>Livest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333399"/>
                </a:solidFill>
                <a:latin typeface="Arial"/>
              </a:rPr>
              <a:t>Agriculture improve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1467720"/>
            <a:ext cx="7140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model development: data quality and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input parameters over time, e.g. forage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ity analysis and scenario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estimation carrying capacity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stock unit estimation by livest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333399"/>
                </a:solidFill>
                <a:latin typeface="Arial"/>
              </a:rPr>
              <a:t>Forest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0400" y="1256760"/>
            <a:ext cx="496944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planted in Kyoto forests to d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s of future new forest pla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 accumulation mod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d rotation leng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or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076720" y="1916280"/>
            <a:ext cx="4248360" cy="3080880"/>
            <a:chOff x="5076720" y="1916280"/>
            <a:chExt cx="4248360" cy="3080880"/>
          </a:xfrm>
        </p:grpSpPr>
        <p:sp>
          <p:nvSpPr>
            <p:cNvPr id="180" name=""/>
            <p:cNvSpPr/>
            <p:nvPr/>
          </p:nvSpPr>
          <p:spPr>
            <a:xfrm>
              <a:off x="5767560" y="2205000"/>
              <a:ext cx="1461960" cy="86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10000 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10% defores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67560" y="3141720"/>
              <a:ext cx="1461960" cy="86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20000 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5% defores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95960" y="2637000"/>
              <a:ext cx="1462320" cy="86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30000 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0% defores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76720" y="4365720"/>
              <a:ext cx="42483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333399"/>
                  </a:solidFill>
                  <a:latin typeface="Arial"/>
                </a:rPr>
                <a:t>planting and Kyoto defore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333399"/>
                  </a:solidFill>
                  <a:latin typeface="Arial"/>
                </a:rPr>
                <a:t>scen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35640" y="1916280"/>
              <a:ext cx="3189240" cy="2304720"/>
            </a:xfrm>
            <a:prstGeom prst="ellipse">
              <a:avLst/>
            </a:prstGeom>
            <a:solidFill>
              <a:srgbClr val="bbe0e3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333399"/>
                </a:solidFill>
                <a:latin typeface="Arial"/>
              </a:rPr>
              <a:t>Forestry improve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4520" y="1680120"/>
            <a:ext cx="8529480" cy="34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ing Capability and 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43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d4d4d"/>
                </a:solidFill>
                <a:latin typeface="Arial"/>
              </a:rPr>
              <a:t>Improve modelling – scenarios, vary multiple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43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Zealand Carbon Accoun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43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d4d4d"/>
                </a:solidFill>
                <a:latin typeface="Arial"/>
              </a:rPr>
              <a:t>Refine &amp; validate the accuracy of plantings since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43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d4d4d"/>
                </a:solidFill>
                <a:latin typeface="Arial"/>
              </a:rPr>
              <a:t>Refine and spatialise growth rates of planted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43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d4d4d"/>
                </a:solidFill>
                <a:latin typeface="Arial"/>
              </a:rPr>
              <a:t>Improve deforestation 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43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d4d4d"/>
                </a:solidFill>
                <a:latin typeface="Arial"/>
              </a:rPr>
              <a:t>Improve estimate of carbon in all pools for all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43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333399"/>
                </a:solidFill>
                <a:latin typeface="Arial"/>
              </a:rPr>
              <a:t>Cross-cutting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1564200"/>
            <a:ext cx="8207640" cy="39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808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cy of methods, assumptions &amp;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92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808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UNFCCC, New Zealand industry, NZ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921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r" pos="808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808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nsistency of assumptions across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92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808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d4d4d"/>
                </a:solidFill>
                <a:latin typeface="Arial"/>
              </a:rPr>
              <a:t>GDP,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921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r" pos="808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808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808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onte-Carlo method – PDF, inputs &amp; correl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921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r" pos="808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808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 &amp;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92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808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ssumptions, projected inputs, bias and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921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r" pos="808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808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ong-term projections vs. inventory data and short-term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1:44:33Z</dcterms:created>
  <dc:creator>Leonard Brown</dc:creator>
  <dc:description/>
  <cp:keywords>emission projections</cp:keywords>
  <dc:language>en-US</dc:language>
  <cp:lastModifiedBy>camenen</cp:lastModifiedBy>
  <cp:lastPrinted>2003-04-07T18:49:33Z</cp:lastPrinted>
  <dcterms:modified xsi:type="dcterms:W3CDTF">2004-09-03T15:12:01Z</dcterms:modified>
  <cp:revision>134</cp:revision>
  <dc:subject/>
  <dc:title>Projecting GHG emissions &amp; removals New Zea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57016227</vt:r8>
  </property>
  <property fmtid="{D5CDD505-2E9C-101B-9397-08002B2CF9AE}" pid="3" name="_AuthorEmail">
    <vt:lpwstr>len.brown@mfe.govt.nz</vt:lpwstr>
  </property>
  <property fmtid="{D5CDD505-2E9C-101B-9397-08002B2CF9AE}" pid="4" name="_AuthorEmailDisplayName">
    <vt:lpwstr>Len Brown</vt:lpwstr>
  </property>
  <property fmtid="{D5CDD505-2E9C-101B-9397-08002B2CF9AE}" pid="5" name="_EmailSubject">
    <vt:lpwstr>information for the emissions projections workshop</vt:lpwstr>
  </property>
  <property fmtid="{D5CDD505-2E9C-101B-9397-08002B2CF9AE}" pid="6" name="_PreviousAdHocReviewCycleID">
    <vt:r8>-974689764</vt:r8>
  </property>
</Properties>
</file>