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907588" cy="6858000"/>
  <p:notesSz cx="6664325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1816-594D-4834-88EA-5395B7BD5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7FA2-EA06-4F4E-B61B-C17B3678C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0FCE-073D-47AC-80DB-863497C81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97F9-9DE3-4D80-B747-7CB355ECB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891D-A49A-49D6-96BA-6CB0EAB61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7FB9-A58E-4E28-ADF2-CC629E370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CAF3-6DA0-4407-9296-4E76D5C65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80B0-84AD-4A3F-B0E2-17B19A292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7FCA-FD9B-4C62-B68D-2C1E25C75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A615-4A91-444F-9B34-5F3D561C2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C9C4-ECC1-47E8-8E31-289CD13E6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3B26-A73B-43BC-A0D1-377C223F9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1A01C-BAFD-481D-91C2-E853AA5D5991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4600" cy="4572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750160" y="0"/>
            <a:ext cx="1155960" cy="6843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3467160" y="0"/>
            <a:ext cx="3136680" cy="257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240" y="761760"/>
            <a:ext cx="9448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ulgaria GHG Emission Projections -   Results and Methodological Problems</a:t>
            </a:r>
            <a:br>
              <a:rPr sz="4000"/>
            </a:b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. Christo Christov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y Institut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SCo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fia, Bulg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66680" y="5562720"/>
            <a:ext cx="7696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nn, Ger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-8 September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609480"/>
            <a:ext cx="9601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974B-CB16-4B14-81FC-6827A51711DE}" type="slidenum">
              <a:t>1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000" y="914040"/>
            <a:ext cx="89154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ctivities forecast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– independent expe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nal energy demand forecast  by energy and  fuel types and  by s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duction volumes forecast by se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ergy  sector construction plan (heat, electricity, oil and oil products, coal, g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imary energy demand fore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aste sector p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8565-06EE-4666-921C-39434298200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HG Emission foreca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360" y="1142640"/>
            <a:ext cx="8572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ing the IPCC classification of the secto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 and sub-se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ustrial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ri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formation Data base for the parameter and emission factors according to the IPCC methodology that is applied for the annual inventories in the country i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6A84-6D8A-4358-AC6F-699CCDDB42A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HG Emission forecast follows the Inventory methodolog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360" y="1371600"/>
            <a:ext cx="8572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ergy by sub-s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PEP package for integrated energy 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formation Data base for the fuel and technology aggregation and emission factors that is applied for the annual inven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ustrial processes, Agriculture and Waste sectors by sub-secto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read sheets and the information Data base for the sub-sectors parameter and emission factors that is applied for the annual inventories. The  mitigation measures and technological changes are reflected in the sub-sectors emission factors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480D-C9EB-4BAA-A5E6-D3B44720F308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000" y="1219320"/>
            <a:ext cx="89154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privatization of the industry and services is almost entirely finalized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tate experts from the relevant ministries are not already concerned with the reporting, control and planning of the sectoral  activiti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y are not in the capacity of giving forecasts for the development of the industry and serv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situation considerably makes difficult the work of the team of the Energy Institute which elaborates the projections for GHG emiss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the forecasts elasticity of the production volume and energy demand to the GDP and population is appl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8C87-6EA4-4273-AA15-379E8A9366A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e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5000" y="1143000"/>
            <a:ext cx="89154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siderable improvement of the capacity in all ministries and creation of units for projection of the development of the economic sect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Significant improvement of the capacity for development and assessment of the effects of the policies and measu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Further improvement of the capacities of the Ministries to select and assess the political instruments that would make the measur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portation models for activities forecast and for emissions foreca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ricultural models for activities forecast and for emissions foreca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557B-CF00-495F-BF46-29C42CDD6B0C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tact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r. Christo Christov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ecutive Dir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ergy Institute, 20 Joliot – Curie Str.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fia 1113, Bulgar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one: </a:t>
            </a:r>
            <a:r>
              <a:rPr b="1" lang="bg-BG" sz="2800" spc="-1" strike="noStrike">
                <a:solidFill>
                  <a:srgbClr val="000000"/>
                </a:solidFill>
                <a:latin typeface="Arial"/>
              </a:rPr>
              <a:t>(359 2)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69 86 38, Fax (359 2) 963 40 38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SM (359 88) 82 83 8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-mail: christov@eninbg.com; office@eninbg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0166-48E8-4E11-BA67-C16E5BE84D3B}" type="slidenum">
              <a:t>15</a:t>
            </a:fld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000" y="6120"/>
            <a:ext cx="8915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000" y="762120"/>
            <a:ext cx="89154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ergy Institu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n independent private joint-stock company dedicated to providing solutions in the field of energy, environmental protection and climate chan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he recent two years we have developed more than 100 projects in the field of the nuclear and thermal energy, power transmission and distribution, co-generation, district heating and renewable ener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ergy Institute and climate  chan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rst, Second and Third National Communications on Climate Chang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onal Greenhouse Gases (GHG) Inventories and National Inventory Reports for the years 1988, 1990 – 200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ises to the Governmental officials on national policies and measures for reducing GHG emiss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ational Action Plan on Climate Change approved by the Bulgarian Government in 2000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714D-6FF6-42D4-9EED-432C4D9DAB6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LGARIA and UNFCC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lgaria ratified the Convention in March 1995, thus committing to keep its GHG emissions below those in the base yea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suant to article 4 (section 2c and 6) of the UNFCCC, Bulgaria used its right to choose as a base year different from the commonly accepted 1990, i.e. 1988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lgaria ratified the Kyoto Protocol to the UNFCCC on August 15th, 2002. The target adopted by Bulgaria is an 8% reduction compared to the base year 1988.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7700-A418-4276-AF4B-13C5AFB22C6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Historic overview of GHG emi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533520" y="1066680"/>
          <a:ext cx="8839080" cy="510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066680"/>
                    <a:ext cx="883908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CB91-93FF-483B-A189-0E012D9939C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95000" y="1143000"/>
            <a:ext cx="89154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2002 Bulgaria has achieved 79 million ton GHG emission reduction (minus 56%) compared to the base year 1988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main reduction  driver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overnmental policies for transition to the market economy, restructuring of industry, privatisation and liberalizatio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ergy policy towards liberalization of the energy market and removal of subsidie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GHG intensity (GHG/GDP) of the Bulgarian economy decreased by 46% from 3.63 k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2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q./ BGN(2002) in 1988 to 1.95 k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2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q. / BGN(2002) in 200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accounted emission reduction of 79 million ton results from two fact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DP and population decrease: 26 million ton (33%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conomic and energy policies: 53 million ton (67%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7D82-D719-44D9-A1D8-9C839D47FE7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HG Emission Foreca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000" y="914040"/>
            <a:ext cx="89154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GHG emission forecast is based on projections for the following indicato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mographic developmen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DP development of sectors and sub-sector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ange in the energy-intensity of the industries and services as a result of improved energy efficiency / production technologie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anges in the energy-intensity of households as a result of the development of income and improved energy-efficiency of dwellings and applianc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1F57-E670-4C58-A116-B5382947190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000" y="44280"/>
            <a:ext cx="8915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000" y="609480"/>
            <a:ext cx="89154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the demographic development official projections of the Government are used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opulation size will further decline with 0.8% per year in the period 2003-2009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llowed by an annual reduction of 0.6% in the period 2010-202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 a result, it is projected that in 2020 the country population will reach 6.9 million peop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GDP forecast assumes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.25% growth for 2004-2005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.5% for the 2006-2016 peri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fter then, the growth gradually declines to 3.5% in 2020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forecast of total GHG emissions are based on the cumulative forecast for each secto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2DFC-32B4-427E-AE0C-81067085EEC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44280"/>
            <a:ext cx="8915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57200" y="380880"/>
          <a:ext cx="8763120" cy="5867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0880"/>
                    <a:ext cx="8763120" cy="586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C962-A844-4A81-9314-72498CC2331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hod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000" y="1219320"/>
            <a:ext cx="89154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Within the last years there was no place for the capacity building activities in the field of GHG emission projec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The methodology and approach that were adopted during the US CSP are still apply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economic forecasts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Governmental ag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mographic Forecas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DP forecast by sectors and sub-sectors (following IPCC Inventory sectors): Metallurgy, Chemical Industry, Construction materials, Other industries, Agriculture and forestry, Transportation, Serv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81A8-96EA-4AF1-BC84-83ABC7FB8E0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1:43:34Z</dcterms:created>
  <dc:creator>Ch. Christov</dc:creator>
  <dc:description/>
  <cp:keywords>emission projections</cp:keywords>
  <dc:language>en-US</dc:language>
  <cp:lastModifiedBy>camenen</cp:lastModifiedBy>
  <cp:lastPrinted>2000-09-01T14:54:26Z</cp:lastPrinted>
  <dcterms:modified xsi:type="dcterms:W3CDTF">2004-09-09T08:29:39Z</dcterms:modified>
  <cp:revision>287</cp:revision>
  <dc:subject/>
  <dc:title>Bulgaria GHG Emission Projections -   Results and Methodological Problems</dc:title>
</cp:coreProperties>
</file>