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A1DD-34AD-4C5E-9552-2E46C8EFA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000" spc="-1" strike="noStrike">
                <a:solidFill>
                  <a:srgbClr val="000000"/>
                </a:solidFill>
                <a:latin typeface="Times New Roman"/>
              </a:rPr>
              <a:t>Impacts of policies and measures in agriculture could have impacts on forestry. And that both sectors consider the opportunity costs of land us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o keep EF constant over time for the projections or to use revised, updated EFs to ensure that emissions are not under-estimated. Apply EF from the current inventory though it was recognized that emission factors may change in the future. For example, as a result of increased productivity of livestock. However, the group thought that it would be better to keep EF constant in projections until better information/data becomes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link between NH4 emissions and N2O emissions. And that P&amp;Ms designed to abate NH4 could result in corresponding increase in N2O emiss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agriculture sector becomes more globalized, the projections could become more sensitive to international economic variables. For example, international exchange rates.  Reform of the EU CAP will make the agriculture sector more globalized and thus more vulnerable to changes in international exchange rates. Hence, it strengthens the case for sensitivity analysis. Shocks and changes in natural conditions could not be modell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odelling community in agriculture projections that the benchmark is to project for 10 years into the future, though the guidelines request projections until 2020. A view was expressed that the increasing uncertainties in projections over 10 years meant that there was less value-added to longer term projections. Most of the models in use today were designed over 10-15 years ago and are constantly being updated as data becomes availa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in getting detailed statistics on specific issues (in the Netherlands). Do we need to update such data yearly or provide 5- year data sets ? For example, the availability of data for manure management. There is no regular data collection. Hence, cannot add to mitigation measures in the model if such data was not available. While it is a matter of good statistics, huge gaps exist in present statistics. At this point, difficult to find solutions to closing these ga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down approach not the only way to incorporate P&amp;Ms into model, could also use the bottom-up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raising awareness” for adopting good practice for N fertilizer use. How do we quantify this and incorporate into a mod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eration between models would allow consideration of EU CAP, WTO regulations and other international influences. Perhaps, to merge bottom-up and top-down approaches to increase robustness of projection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uggested to provide an Annex to the NC when there is a need to provide detailed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interpretation of the UNFCCC guidelines to preparing NC for AI countries, such as providing a glossary of terms, work examples, interpretation of scenarios,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information on the main drivers was not so much of a methodological issue, but rather a reporting iss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jections should be consistent with inventory. The robustness of the inventory can then be brought to the proj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ite examples from Norwegian presentation on LULUCF – challenges to projections and collecting data. Projecting harvesting rates could be difficult. But is it any more difficult than projecting world oil prices or GD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ctivity data. National statistics may have been collected some time ago. Whether to use official data from the National Statistics Office to do projections or base it on FAO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7375D-5CAD-4548-8766-9C54FE3CA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7AB5-7792-405F-A4A8-1BD814E3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F24DA-CCF9-49FA-A744-8C1E213EE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4AAA4-D5B2-4B94-BAEC-9CF8FF819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2E86-A18C-4633-A862-D0E504E2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7B89E-1B7A-46B1-B140-98D4943E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1B7E-5834-45C2-B059-B8186EF2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957C8-D7C8-4773-84BD-5D743438C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A99E-1D25-451E-B41A-A28EA0DE0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80E2E-D54A-437D-B210-7E4E4242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44AA-DA7B-463D-99B7-2B8E40CBB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73FF-7551-4820-AB0C-01A5D4DC4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57E7-0D46-43D0-8DA0-01F180B090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00200"/>
            <a:ext cx="78487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s in the preparation of GHG projections for agriculture and land use, land-use change and forestry</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Discussions of</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eak Out Group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September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drivers behind projection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a list of variables (eg. Growth rates, tree density, biomass expansion factors) to guide better proj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hange of information on available methods and model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linkage between agriculture and forestry for modelling. Existence of forest invento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data sets on forest inventory, maps, remote sensing – allows simple extrapo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lso expert opinion in projections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G-LULUCF improves inventories, hence proje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unable to elaborate further on LULUCF projections and provide 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titutional Arrangement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ce of  co-operation between institution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vercome methodological issues and probl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stimate effects of policies and measur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o building of projection esti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icipation in Group</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Parties and the European Community</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4 presentations (Irl, Fin, Nz, Dk)</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 of expertise in agri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methodological issues for agricultur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jecti</a:t>
            </a:r>
            <a:r>
              <a:rPr b="0" lang="en-IE" sz="3200" spc="-1" strike="noStrike">
                <a:solidFill>
                  <a:srgbClr val="000000"/>
                </a:solidFill>
                <a:latin typeface="Times New Roman"/>
              </a:rPr>
              <a:t>ons of</a:t>
            </a:r>
            <a:r>
              <a:rPr b="0" lang="en-GB" sz="3200" spc="-1" strike="noStrike">
                <a:solidFill>
                  <a:srgbClr val="000000"/>
                </a:solidFill>
                <a:latin typeface="Times New Roman"/>
              </a:rPr>
              <a:t> activity levels and emission facto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e of specialized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delling impact of GHG-related factors – methodological problems and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esentation of m</a:t>
            </a:r>
            <a:r>
              <a:rPr b="0" lang="en-GB" sz="3200" spc="-1" strike="noStrike">
                <a:solidFill>
                  <a:srgbClr val="000000"/>
                </a:solidFill>
                <a:latin typeface="Times New Roman"/>
              </a:rPr>
              <a:t>ain drivers for GHG emissions proj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roject</a:t>
            </a:r>
            <a:r>
              <a:rPr b="0" lang="en-IE" sz="3600" spc="-1" strike="noStrike">
                <a:solidFill>
                  <a:srgbClr val="000000"/>
                </a:solidFill>
                <a:latin typeface="Times New Roman"/>
              </a:rPr>
              <a:t>ions of </a:t>
            </a:r>
            <a:r>
              <a:rPr b="0" lang="en-GB" sz="3600" spc="-1" strike="noStrike">
                <a:solidFill>
                  <a:srgbClr val="000000"/>
                </a:solidFill>
                <a:latin typeface="Times New Roman"/>
              </a:rPr>
              <a:t> activity levels and </a:t>
            </a:r>
            <a:br>
              <a:rPr sz="3600"/>
            </a:br>
            <a:r>
              <a:rPr b="0" lang="en-GB" sz="3600" spc="-1" strike="noStrike">
                <a:solidFill>
                  <a:srgbClr val="000000"/>
                </a:solidFill>
                <a:latin typeface="Times New Roman"/>
              </a:rPr>
              <a:t>emission factors (EF)</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possible future changes in E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a:t>
            </a:r>
            <a:r>
              <a:rPr b="0" lang="en-GB" sz="2800" spc="-1" strike="noStrike">
                <a:solidFill>
                  <a:srgbClr val="000000"/>
                </a:solidFill>
                <a:latin typeface="Times New Roman"/>
              </a:rPr>
              <a:t>rovide information on policies and measures to abate ammonia emis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merging importance on sensitivity analysis for proj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ime frame for projections</a:t>
            </a:r>
            <a:r>
              <a:rPr b="0" lang="en-IE"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specialized model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nd models used in inventory should also be used in projections, if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good scientific practice rather than specialized models or models per 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unable to recommend use of any specialized mode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l approach desira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ling impact of GHG-related factors – methodological problems and solution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 of data, getting statistics on specific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uld also use bottom-up approach to include policies and measures in projection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rect effects of policies and meas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eration between models to refine proj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imes New Roman"/>
              </a:rPr>
              <a:t>Presentation of m</a:t>
            </a:r>
            <a:r>
              <a:rPr b="0" lang="en-GB" sz="3600" spc="-1" strike="noStrike">
                <a:solidFill>
                  <a:srgbClr val="000000"/>
                </a:solidFill>
                <a:latin typeface="Times New Roman"/>
              </a:rPr>
              <a:t>ain drivers for GHG </a:t>
            </a:r>
            <a:br>
              <a:rPr sz="3600"/>
            </a:br>
            <a:r>
              <a:rPr b="0" lang="en-GB" sz="3600" spc="-1" strike="noStrike">
                <a:solidFill>
                  <a:srgbClr val="000000"/>
                </a:solidFill>
                <a:latin typeface="Times New Roman"/>
              </a:rPr>
              <a:t>emissions projection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rs not only related to projections but also to the inven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 list of emission drivers, with reference to CR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ural interpretation of drivers and contex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level of detail on information to be provided in N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methodological issues for LULUCF</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difficulties related to GHG projections for LULUC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of main drivers behind proj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of information on available methods and models and sharing of solutions adopted by Par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 difficulties related to GHG projections for LULUCF</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ions in forestry – common in the indus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re is a good inventory, then projections not an issue; changes in carbon stocks very l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s in tracking changes in land use and changes in carbon stocks from land us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y data needs impro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7:45:47Z</dcterms:created>
  <dc:creator>Neil Ferry</dc:creator>
  <dc:description/>
  <cp:keywords>emission projections</cp:keywords>
  <dc:language>en-US</dc:language>
  <cp:lastModifiedBy>camenen</cp:lastModifiedBy>
  <dcterms:modified xsi:type="dcterms:W3CDTF">2004-09-09T11:56:45Z</dcterms:modified>
  <cp:revision>9</cp:revision>
  <dc:subject/>
  <dc:title>Issues in the preparation of GHG projections for agriculture and land use, land-use change and forestry</dc:title>
</cp:coreProperties>
</file>