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EBB-AE88-4C25-9413-3C866AFF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B28-1854-4A0A-B95B-E0561D64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EC3-BE07-4D53-9E8D-B6D3690A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F0E-A917-454C-8B59-EE280BB4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66BF-70D9-47FA-A92E-7B3D8772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8ACE-372E-4758-8FBA-561D238C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53F7-0BD2-4CB3-A0E8-83250FD1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2621-D848-4134-8D5C-89DA558D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1821-90DE-4368-98C0-973DFCB3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6805-E9D7-4E47-8374-636CCDD4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5D14-125C-4507-ADB2-5F46F8D7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169-D5B7-4778-B571-BF10A768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9223-F0BE-406A-A2EA-400B1D84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2FF5-1B55-4BB6-82BB-A96A77A7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3E4E-432D-4FCB-85CA-F58FFF1C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501B-DD13-48DF-94DF-1C62CF96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8088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516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944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C052-68C8-4378-82A6-265B9E95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2E0-DE63-4842-BB18-75171301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80F-CC23-44E4-9293-43D50864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DA0-B043-4269-9C98-4786EB06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67F-B40A-4D70-AD3A-4065F1C9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97F-67EA-4708-ACFE-4617F205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4A5-1A8A-47B8-95E9-2592599F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02C-4186-4808-88EE-EF1E920C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0B21-FB26-4980-BC53-5D18E91A3C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" name=""/>
            <p:cNvSpPr/>
            <p:nvPr/>
          </p:nvSpPr>
          <p:spPr>
            <a:xfrm>
              <a:off x="1440" y="0"/>
              <a:ext cx="9142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440"/>
              <a:ext cx="0" cy="6854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40" y="6856200"/>
              <a:ext cx="9142560" cy="1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0" y="0"/>
              <a:ext cx="0" cy="6854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599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17B3-9DBF-4732-985C-402C0C85BE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1440" y="0"/>
              <a:ext cx="9142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440"/>
              <a:ext cx="0" cy="6854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40" y="6856200"/>
              <a:ext cx="9142560" cy="1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0" y="0"/>
              <a:ext cx="0" cy="6854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38080" y="312408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HG projections for the energy sector, transport, industry and waste manage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440" y="36572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 on emissions projections from Annex I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n, 6-8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countries made presentations at this ses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zech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ur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ited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xchange of experience through these presentations and subsequent discussions was very useful and import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cuss methods, assumptions, [etc] and dissemination of methodologi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nd compare’ information through presentations and discussion is key outcome of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to parties is what they themselves take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range of very complex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s ‘best practice’ differs from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key points over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arent presentation of assumptions and data was found to be very import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quality GHG projections, clear and sufficient presentation of key assumptions and critical data may be as important as the modelling process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o useful to vary key assumptions and identify sensitivity of projected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rying views on ‘GD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importance of structur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key points over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reed that projections methodology, choice of models etc ultimately matters fo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of value of ‘common international assumption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il prices, carbon pric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sues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provid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ether Govts would welcome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t sharing information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tionary combu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ue of countries consulting with neighb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specially re common iss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ue of having ‘robust and available’ model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oncerns about whether ‘free’ and costs of adapting/us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Bottom up models seen as easier to transl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of modelling P&amp;Ms: both endogenous and exogenous approache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M issue again- discussion about whether usefu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ny countries focus on WM/WAM for policy cho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of Key Source Analysis/Key driver analysis generally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tionary combu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ue of having complete energy bal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of including international emissions trading in pro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es not change domestic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t part of analysis of policy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ETS, it may be too early to evaluate impact on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udi Arabia: need to model spill-over effects on non-Annex I Parties and ways to have ‘win-wi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. Tran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issions from transport should be shown separately from the emissions of the rest of the energy se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model individual transport modes and the selection among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udi Arabia: emissions taxation in transport =&gt; impact on non-Annex I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nker fuels: Saudi Arabia = it is premature; Germany = no methodological problems; Belgium: need to have for complete energy bala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dustry, wast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ce of having data on activity levels and emission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ce of presenting results and assumptions clear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-Gases: rapidly changing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‘reality check’ on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0:15:17Z</dcterms:created>
  <dc:creator>MIcheal Young</dc:creator>
  <dc:description/>
  <cp:keywords>emission projections</cp:keywords>
  <dc:language>en-US</dc:language>
  <cp:lastModifiedBy>camenen</cp:lastModifiedBy>
  <dcterms:modified xsi:type="dcterms:W3CDTF">2004-09-09T12:05:17Z</dcterms:modified>
  <cp:revision>18</cp:revision>
  <dc:subject/>
  <dc:title>GHG projections for the energy sector, transport, industry and waste management: summary of discussion</dc:title>
</cp:coreProperties>
</file>