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94C-83A8-4F3E-B300-FF11FE7A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B7E-02E3-49E1-9BDA-C046FEE2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CD7-F5D4-40DC-BCC2-D6460D82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798-7BDE-496D-8DF3-7489B6E7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8CB-FC06-4744-AB23-BDE51549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C3F-6341-40FE-A7F4-28A05ED7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9DB-215E-4433-8E4E-7277AEC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FE8-94FD-4E7D-A3FC-0CE99698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757-0E5E-496A-B147-00149FF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BF7-DAC7-473D-BF00-0A90DD24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05D-4FC8-44DA-869A-ED91983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E89-0FFD-42A1-9E9B-125411CB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3D3-CC53-46FB-BBD5-2F87FE9F1165}" type="slidenum">
              <a:rPr b="0" lang="da-D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210960" y="6095880"/>
              <a:ext cx="855720" cy="534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838080"/>
            <a:ext cx="7315200" cy="59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GHG emission pro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from the agricultural sector in Den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Times New Roman"/>
              </a:rPr>
              <a:t>Steen Gyldenkærne (</a:t>
            </a:r>
            <a:r>
              <a:rPr b="1" i="1" lang="en-AU" sz="2000" spc="-1" strike="noStrike">
                <a:solidFill>
                  <a:srgbClr val="ffffff"/>
                </a:solidFill>
                <a:latin typeface="Times New Roman"/>
              </a:rPr>
              <a:t>Agronomist, Ph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National Environmental Research Instit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Denma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Workshop on emission projections: Bonn, Germany 6-8 September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88920" y="1371600"/>
          <a:ext cx="815508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371600"/>
                    <a:ext cx="815508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149480" y="380880"/>
            <a:ext cx="73152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and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mis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and without 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923760" y="1371600"/>
          <a:ext cx="815364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371600"/>
                    <a:ext cx="815364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143000" y="1447920"/>
          <a:ext cx="8155080" cy="46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447920"/>
                    <a:ext cx="8155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149480" y="380880"/>
            <a:ext cx="73152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and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mis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and without 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228600"/>
            <a:ext cx="7315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ffect of Land U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PCC guidelines Tier 2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eliminary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68280"/>
            <a:ext cx="816768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457200"/>
            <a:ext cx="7315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rojection mode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50532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724280" y="-228600"/>
            <a:ext cx="457200" cy="5486400"/>
          </a:xfrm>
          <a:prstGeom prst="triangle">
            <a:avLst>
              <a:gd name="adj" fmla="val 468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724280" y="361440"/>
            <a:ext cx="457200" cy="5486400"/>
          </a:xfrm>
          <a:prstGeom prst="triangle">
            <a:avLst>
              <a:gd name="adj" fmla="val 468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rot="16200000">
            <a:off x="4724280" y="952560"/>
            <a:ext cx="457200" cy="5486400"/>
          </a:xfrm>
          <a:prstGeom prst="triangle">
            <a:avLst>
              <a:gd name="adj" fmla="val 468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724280" y="1542600"/>
            <a:ext cx="457200" cy="5486400"/>
          </a:xfrm>
          <a:prstGeom prst="triangle">
            <a:avLst>
              <a:gd name="adj" fmla="val 468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724280" y="2133360"/>
            <a:ext cx="457200" cy="5486400"/>
          </a:xfrm>
          <a:prstGeom prst="triangle">
            <a:avLst>
              <a:gd name="adj" fmla="val 468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04120" y="342756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acroeconom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Supply-Demand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5040" y="32148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xpert knowlegde / Bottom up / regr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33496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High national agricultural and environmental regul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52692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11120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dustrial state of the agricul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70664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Veterinarian Standa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93004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vestments in buildings and machine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MonteCarlo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892760" cy="541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5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andling Uncertainty - Monte-Car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andling new technolo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EMA is able to handle new technology by adding new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today app. 100 different stable combi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26 combinations of manur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iogas plants are incorporated in a preliminary 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ant with agricultural knowledge, good net-work and colleagues (informal contacts are invalu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ttom-up models and expert knowledge gives the most detailed projections and may be preferred on the short ter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croeconomic models are a good sup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reporting obligations has to be followed up by allocated financial resour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27040" y="2285280"/>
            <a:ext cx="721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Palatino"/>
              </a:rPr>
              <a:t>Thanks to all my colleag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Palatino"/>
              </a:rPr>
              <a:t>Thank you for your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oduction to Danish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mission inven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Agricul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LULUC(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e of the art in the pro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Regression models/macro economic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905120" y="1066680"/>
          <a:ext cx="64767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64767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786360" y="658332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urce: O. Hertel, NERI (200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9480" y="426960"/>
            <a:ext cx="528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and N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mission  in Eu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2% of the land is under pl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g production: 85 % is ex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iry products: 60% is ex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gh leaching rates of nitrogen to coastal wa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higher than the IPCC default fa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orestation is b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y regulated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maximum N application rates are 90% of economical opt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demands for high N-efficiency in manure (50-7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tablisment of wetlands and extensification of agricult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anish Agricul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371960" y="1599480"/>
            <a:ext cx="7089480" cy="4115520"/>
            <a:chOff x="1371960" y="1599480"/>
            <a:chExt cx="7089480" cy="41155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828800" y="1904760"/>
              <a:ext cx="66326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371960" y="159948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800" spc="-1" strike="noStrike">
                  <a:solidFill>
                    <a:srgbClr val="ffffff"/>
                  </a:solidFill>
                  <a:latin typeface="Times New Roman"/>
                </a:rPr>
                <a:t>Cattle and sow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38160" y="159948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igs, to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295280" y="457200"/>
            <a:ext cx="7315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ment in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7120" y="140004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828800" y="1600200"/>
          <a:ext cx="6858000" cy="469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685800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95280" y="457200"/>
            <a:ext cx="7315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Times New Roman"/>
              </a:rPr>
              <a:t>Number of hol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8640" y="396144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nus 8-9% 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8800" y="2406960"/>
            <a:ext cx="38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verage farmer does not ex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lifestyle has disappe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457200"/>
            <a:ext cx="7315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Times New Roman"/>
              </a:rPr>
              <a:t>Data for Agri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533412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276720"/>
            <a:ext cx="76212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23880" cy="628920"/>
          </a:xfrm>
          <a:prstGeom prst="rect">
            <a:avLst/>
          </a:prstGeom>
          <a:ln w="0">
            <a:noFill/>
          </a:ln>
        </p:spPr>
      </p:pic>
      <p:pic>
        <p:nvPicPr>
          <p:cNvPr id="69" name="Normtal%20forside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1168560" cy="164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95880" y="3124080"/>
            <a:ext cx="2524320" cy="47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6720" y="396252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790960" y="396252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0680" y="26661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tatistics Denma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3080" y="266616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anish Agricultural Advisory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67480" y="15994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anish Institute of Agricultural Scie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7800" y="571428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ational Environmental Research Instit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352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990720"/>
          <a:ext cx="7315200" cy="55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295280" y="228600"/>
            <a:ext cx="7315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ricultural inventory in ONE mo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5715000"/>
            <a:ext cx="11430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5791320"/>
            <a:ext cx="16765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228600"/>
            <a:ext cx="7315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ata sheet for Dairy cows (Poulsen et al.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Køer%20normtal2" descr=""/>
          <p:cNvPicPr/>
          <p:nvPr/>
        </p:nvPicPr>
        <p:blipFill>
          <a:blip r:embed="rId1"/>
          <a:stretch/>
        </p:blipFill>
        <p:spPr>
          <a:xfrm>
            <a:off x="1285920" y="1447920"/>
            <a:ext cx="74008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6:38:59Z</dcterms:created>
  <dc:creator>Steen Gyldenkærne </dc:creator>
  <dc:description/>
  <cp:keywords>emission projections</cp:keywords>
  <dc:language>en-US</dc:language>
  <cp:lastModifiedBy>camenen</cp:lastModifiedBy>
  <cp:lastPrinted>2003-08-19T11:10:40Z</cp:lastPrinted>
  <dcterms:modified xsi:type="dcterms:W3CDTF">2004-09-09T08:38:13Z</dcterms:modified>
  <cp:revision>111</cp:revision>
  <dc:subject/>
  <dc:title>GHG emission projections from the agricultural sector in Denmark</dc:title>
</cp:coreProperties>
</file>