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577013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12680"/>
            <a:ext cx="8382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33520" y="65530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Analysis and Technology Evaluation (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28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Roman"/>
              </a:rPr>
              <a:t>Forschungszentrum Jü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95280"/>
            <a:ext cx="28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533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utiger Roman"/>
              </a:rPr>
              <a:t>in der Helmholtz-Gemeinsch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533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4876560" y="65530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. Martinsen, V. Krey, P. Markewitz, S. Vög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553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logo-j-weiss-blau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7280" y="1450800"/>
            <a:ext cx="53517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IKARUS Instr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. Martinsen, V. Krey, P. Markewitz, S. Vög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ystems Analysis and Technology Evaluation (S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orschungszentrum Jülich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2425 Jülich Ger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80880" y="2362320"/>
          <a:ext cx="8467920" cy="34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46792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69600" y="1371600"/>
            <a:ext cx="77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mportant Bounds concerning Energy Policy and Quantity Pot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838080"/>
            <a:ext cx="8157960" cy="550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gy Scenarios for Germany 2000 - 2030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ference scenario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-scenarios: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„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novation+Saving“</a:t>
            </a:r>
            <a:br>
              <a:rPr sz="2400"/>
            </a:b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Imposing various technical (measures of improvements) and economic guidelines in order to advance innovation and energy saving (for example by laws or subsid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„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eduction Scenario“</a:t>
            </a:r>
            <a:br>
              <a:rPr sz="2400"/>
            </a:b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Giving boundary conditions (CO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constraint) only and leaving to the energy system to decide which options should be chosen to fulfill these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04800" y="831960"/>
            <a:ext cx="57340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01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30720" y="83808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apacity and Load of Power P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371600"/>
            <a:ext cx="8458200" cy="495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77320" cy="4803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4280" y="1371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11680" cy="495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78720" y="838080"/>
            <a:ext cx="64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-related Infrastructure in Western and Central Europ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1600200"/>
          <a:ext cx="8229600" cy="47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95480" y="838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KARUS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952720" y="276228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77840" y="2381400"/>
            <a:ext cx="30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dditional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86600" cy="558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00200" y="5867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2000                 2010                      2020                      2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0520" y="1447920"/>
            <a:ext cx="173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ference 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2362320"/>
          <a:ext cx="838224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38224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128680" y="11430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velopment of some Industri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90840" y="1047600"/>
          <a:ext cx="6562440" cy="524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047600"/>
                    <a:ext cx="656244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33520" y="1066680"/>
          <a:ext cx="7772400" cy="506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77240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990720"/>
          <a:ext cx="403704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4037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648320" y="990720"/>
          <a:ext cx="4039920" cy="495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990720"/>
                    <a:ext cx="40399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22440" y="1031760"/>
            <a:ext cx="474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issions in Germany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34 million 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495680" y="2209680"/>
          <a:ext cx="4286520" cy="37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209680"/>
                    <a:ext cx="42865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04920" y="2209680"/>
          <a:ext cx="4295520" cy="375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09680"/>
                    <a:ext cx="42955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09480" y="957240"/>
          <a:ext cx="8001000" cy="52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57240"/>
                    <a:ext cx="800100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596960"/>
            <a:ext cx="7219800" cy="4687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5320" y="76212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ucture of the IKARUS Energ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74920" y="29718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ference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990720"/>
            <a:ext cx="3981600" cy="5257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3951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160880" cy="5496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157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122720" cy="5500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1288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838080"/>
            <a:ext cx="739152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enario: „Innovation + Savin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 most important changes compared to the reference scenario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wer plants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fficiency improvement  2 – 3 point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easures of energy saving for production and utilization of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s heat and electricit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mall consumer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hermal insulation of buildings within renovation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easures for saving of process heat and use of electricit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ousehold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hermal insulation of old buildings within renovation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mproved standard of space heat demand for new houses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ore efficient use of electricity in new applianc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ehicles with a clear reduction of fuel consumption. Share of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blic transport at the upper lim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80880" y="838080"/>
          <a:ext cx="8305920" cy="54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0592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809880" y="29718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276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40320" y="308916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duction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010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191120" cy="5357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95680" y="1066680"/>
            <a:ext cx="4191120" cy="5362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74200" y="68580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duction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192200" y="3124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81240" y="1336680"/>
            <a:ext cx="70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28600" y="1413000"/>
            <a:ext cx="74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8600" y="1336680"/>
            <a:ext cx="71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066680"/>
            <a:ext cx="853452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Long Term Energy Supply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ime period 2 - 5 decad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de-DE" sz="1600" spc="-1" strike="noStrike">
                <a:solidFill>
                  <a:srgbClr val="008000"/>
                </a:solidFill>
                <a:latin typeface="Times New Roman"/>
              </a:rPr>
              <a:t>Perfect foresight LP-Model  </a:t>
            </a:r>
            <a:r>
              <a:rPr b="1" lang="de-DE" sz="16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000"/>
                </a:solidFill>
                <a:latin typeface="Times New Roman"/>
              </a:rPr>
              <a:t>         MARKAL with IKARUS-Dat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8000"/>
                </a:solidFill>
                <a:latin typeface="Times New Roman"/>
              </a:rPr>
              <a:t>             </a:t>
            </a:r>
            <a:r>
              <a:rPr b="1" lang="de-DE" sz="1400" spc="-1" strike="noStrike">
                <a:solidFill>
                  <a:srgbClr val="008000"/>
                </a:solidFill>
                <a:latin typeface="Times New Roman"/>
              </a:rPr>
              <a:t>1                          ............                   Optimum           ...........                                                 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de-DE" sz="1600" spc="-1" strike="noStrike">
                <a:solidFill>
                  <a:srgbClr val="0000cc"/>
                </a:solidFill>
                <a:latin typeface="Times New Roman"/>
              </a:rPr>
              <a:t>Time-step LP-Model </a:t>
            </a:r>
            <a:r>
              <a:rPr b="1" lang="de-DE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00cc"/>
                </a:solidFill>
                <a:latin typeface="Times New Roman"/>
              </a:rPr>
              <a:t>          IKARUS-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lang="de-DE" sz="1400" spc="-1" strike="noStrike">
                <a:solidFill>
                  <a:srgbClr val="0000cc"/>
                </a:solidFill>
                <a:latin typeface="Times New Roman"/>
              </a:rPr>
              <a:t>Opt.                                                       Opt.          Opt.                                                             O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lang="de-DE" sz="1400" spc="-1" strike="noStrike">
                <a:solidFill>
                  <a:srgbClr val="0000cc"/>
                </a:solidFill>
                <a:latin typeface="Times New Roman"/>
              </a:rPr>
              <a:t>1                     ..........                                 i-1              i                                                                  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579132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 “ or Projection.                    Interaction without Iteration.                        „Sudden“ Changes.                               Flexibility or „Lost opportunities“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590920"/>
            <a:ext cx="7238880" cy="0"/>
          </a:xfrm>
          <a:prstGeom prst="line">
            <a:avLst/>
          </a:prstGeom>
          <a:ln w="255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038480"/>
            <a:ext cx="723888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590920"/>
            <a:ext cx="0" cy="1522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2590920"/>
            <a:ext cx="0" cy="1522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2590920"/>
            <a:ext cx="0" cy="1522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2590920"/>
            <a:ext cx="0" cy="1522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0384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40384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40384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40384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40384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40384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419720"/>
            <a:ext cx="3808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4114440"/>
            <a:ext cx="0" cy="30492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4191120"/>
            <a:ext cx="0" cy="228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4419720"/>
            <a:ext cx="3808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495680" y="4114440"/>
            <a:ext cx="0" cy="30492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4191120"/>
            <a:ext cx="0" cy="228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419720"/>
            <a:ext cx="3808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43800" y="4114440"/>
            <a:ext cx="0" cy="30492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057400"/>
            <a:ext cx="0" cy="2514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057400"/>
            <a:ext cx="7772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2057400"/>
            <a:ext cx="0" cy="2514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000" y="4724280"/>
            <a:ext cx="3556440" cy="9464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Times New Roman"/>
              </a:rPr>
              <a:t>Heritage (Capacit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Times New Roman"/>
              </a:rPr>
              <a:t>Corrections of data  (z.B. load, η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Times New Roman"/>
              </a:rPr>
              <a:t>(Elasticities, Learning and Order of scale,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34340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724280" y="434340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2960" y="50292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Times New Roman"/>
              </a:rPr>
              <a:t>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5334120"/>
            <a:ext cx="1143000" cy="307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Times New Roman"/>
              </a:rPr>
              <a:t>MIS-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486400"/>
            <a:ext cx="533160" cy="0"/>
          </a:xfrm>
          <a:prstGeom prst="line">
            <a:avLst/>
          </a:prstGeom>
          <a:ln w="22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80880" y="838080"/>
          <a:ext cx="83725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725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85800" y="914400"/>
          <a:ext cx="7848720" cy="52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84872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04920" y="838080"/>
          <a:ext cx="853416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5341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160020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zzy linear optimization means that one assumes fuzzy aspiration levels for each of the goals, the problem is then f.ex. transformed into a crisp "satisfaction model" by using membership functions for the constraints (equal to some "satisfaction" func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ea is then to maximize "total satisfaction", i.e. maximizing a minimum operator for all the membership functions. This normally give as a solution beeing some kind of a compromise, i.e total satisfaction &lt;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63880" y="9907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ZZY LINEAR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34340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zzy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Z = Cx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x&lt;~z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&lt;=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&lt;~b (included some crisp &lt;=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=0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057400" y="762120"/>
            <a:ext cx="6019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-function  f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Satisfaction):        (assuming 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27432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144792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1447920"/>
            <a:ext cx="198108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1676520"/>
            <a:ext cx="1447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((Bx)</a:t>
            </a:r>
            <a:r>
              <a:rPr b="1" lang="it-IT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</a:t>
            </a:r>
            <a:r>
              <a:rPr b="1" lang="it-IT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d</a:t>
            </a:r>
            <a:r>
              <a:rPr b="1" lang="it-IT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2514600"/>
            <a:ext cx="50292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                                                di                                   (Bx)</a:t>
            </a:r>
            <a:r>
              <a:rPr b="1" lang="it-IT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b</a:t>
            </a:r>
            <a:r>
              <a:rPr b="1" lang="it-IT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b</a:t>
            </a:r>
            <a:r>
              <a:rPr b="1" lang="it-IT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d</a:t>
            </a:r>
            <a:r>
              <a:rPr b="1" lang="it-IT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1295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3200400"/>
            <a:ext cx="70102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Min f</a:t>
            </a:r>
            <a:r>
              <a:rPr b="1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Bx)</a:t>
            </a:r>
            <a:r>
              <a:rPr b="1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where Min-Operator = Intersection Set of f</a:t>
            </a:r>
            <a:r>
              <a:rPr b="1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Min (1+b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– (B’x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;       b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=b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B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=B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648320"/>
            <a:ext cx="19047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3809880"/>
            <a:ext cx="41148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ng variable ß=common satisfaction: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x)</a:t>
            </a:r>
            <a:r>
              <a:rPr b="1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b</a:t>
            </a:r>
            <a:r>
              <a:rPr b="1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ß)d</a:t>
            </a:r>
            <a:r>
              <a:rPr b="1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&lt;ß&lt;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00600"/>
            <a:ext cx="2057400" cy="13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sp LP-Probl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ßd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Bx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b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d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g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d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1219320"/>
            <a:ext cx="61722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    Refin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ast costs solutio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1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30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oline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40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s too high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fer -100)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oline too low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fer +2)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 higher cost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x +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zzy – solution as a compromise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8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oline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.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ß  =  0.6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69560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848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04920" y="762120"/>
          <a:ext cx="8076960" cy="57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076960" cy="57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7391520" y="2590920"/>
            <a:ext cx="457200" cy="276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2296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98440" y="1976400"/>
          <a:ext cx="8558280" cy="39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976400"/>
                    <a:ext cx="855828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823400" y="99072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mographic and overall Econom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80880" y="2514600"/>
          <a:ext cx="8458200" cy="133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84582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901160" y="137160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mand of Passenger and Freight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out pedestrians and cyclists.  Air traffic: Domestic concep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98440" y="1976400"/>
          <a:ext cx="8543880" cy="31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976400"/>
                    <a:ext cx="854388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747440" y="106668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ture Prices for Imported Energy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08:36:51Z</dcterms:created>
  <dc:creator>Vögele</dc:creator>
  <dc:description/>
  <cp:keywords>emission projections</cp:keywords>
  <dc:language>en-US</dc:language>
  <cp:lastModifiedBy>camenen</cp:lastModifiedBy>
  <dcterms:modified xsi:type="dcterms:W3CDTF">2004-09-07T12:55:38Z</dcterms:modified>
  <cp:revision>123</cp:revision>
  <dc:subject/>
  <dc:title>The IKARUS Instruments</dc:title>
</cp:coreProperties>
</file>