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27E0-7E2D-4D16-B302-C333DE144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0880" y="3875400"/>
            <a:ext cx="8382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477B-3315-4B8C-A154-E604F4E3A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80880" y="387540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6040" y="387540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FBBC-C65A-4BAA-A3DD-073228985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15160" y="144756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9440" y="144756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80880" y="387540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15160" y="387540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9440" y="387540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B403-AC20-445E-9197-4D96BC981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65D18-5AAB-4CE3-913B-B9C313F4D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AF1C3-A3C1-4DE7-833C-FC5D78986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28D94-6E48-47E6-B0C1-FF768E1B6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3A220-083C-4BF5-A7E4-380C9C40A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EBA8C-A60E-4A71-AAAE-AD3AFAD51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3822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C8B61-42B9-4A83-BEEF-FFCAEA4B0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87540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8D681-C62C-464E-AA1F-BC393BDB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E88C-30FA-42D9-A2DE-527822167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6040" y="387540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7E289-55DB-4984-835C-B2F4449A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875400"/>
            <a:ext cx="8382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D4FEE-86EC-408C-A832-F83557FD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0880" y="3875400"/>
            <a:ext cx="8382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0F093-A85A-4C8F-A29D-3CB054734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80880" y="387540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6040" y="387540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0B984-6B07-4A3A-ADCC-77230FF01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15160" y="144756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9440" y="144756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80880" y="387540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15160" y="387540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9440" y="387540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43433-9FEF-4C4F-96FE-26235E65D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FAA2-6A2C-47F4-9A6A-153F6BABD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A24D-3F45-4F60-B153-D39C1B7FA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5B98-76E6-4894-A2BF-5DF24B0BF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3822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353E-7AF8-465A-82C7-4C7EDCA5F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387540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47B5-1993-49FD-819B-954FEDFE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6040" y="387540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C3FA-5C7B-459B-A1FC-00C83DC3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875400"/>
            <a:ext cx="8382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936D-EB43-4161-B291-0EFE7BF6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746B5-E0A3-45FC-8F99-FE63AA6A9B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TRANSP_P" descr=""/>
          <p:cNvPicPr/>
          <p:nvPr/>
        </p:nvPicPr>
        <p:blipFill>
          <a:blip r:embed="rId2"/>
          <a:stretch/>
        </p:blipFill>
        <p:spPr>
          <a:xfrm flipH="1" rot="10800000">
            <a:off x="0" y="6095880"/>
            <a:ext cx="9144000" cy="609840"/>
          </a:xfrm>
          <a:prstGeom prst="rect">
            <a:avLst/>
          </a:prstGeom>
          <a:ln w="0">
            <a:noFill/>
          </a:ln>
        </p:spPr>
      </p:pic>
      <p:grpSp>
        <p:nvGrpSpPr>
          <p:cNvPr id="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" name=""/>
            <p:cNvSpPr/>
            <p:nvPr/>
          </p:nvSpPr>
          <p:spPr>
            <a:xfrm>
              <a:off x="1440" y="0"/>
              <a:ext cx="914256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440"/>
              <a:ext cx="0" cy="685476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440" y="6856200"/>
              <a:ext cx="9142560" cy="18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44000" y="0"/>
              <a:ext cx="0" cy="685476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380880" y="129528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15998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DB807-FE2F-4ACC-880F-A7B5493ED1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TRANSP_P" descr=""/>
          <p:cNvPicPr/>
          <p:nvPr/>
        </p:nvPicPr>
        <p:blipFill>
          <a:blip r:embed="rId2"/>
          <a:stretch/>
        </p:blipFill>
        <p:spPr>
          <a:xfrm flipH="1" rot="10800000">
            <a:off x="0" y="6095880"/>
            <a:ext cx="9144000" cy="60984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1440" y="0"/>
              <a:ext cx="914256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1440"/>
              <a:ext cx="0" cy="685476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440" y="6856200"/>
              <a:ext cx="9142560" cy="18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144000" y="0"/>
              <a:ext cx="0" cy="685476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838080" y="3124080"/>
            <a:ext cx="792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1599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ductory presentation by the UNFCCC secretari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38080" y="3580920"/>
            <a:ext cx="79250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hop on emissions projections from Annex I Pa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n, 6-8 September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lios Pesmajoglou, UNFCCC secretari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ation and synthesis of the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ational commun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sues to discuss – Docu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liver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ganization of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nd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BSTA 19 – Milan, December 20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cussions on review of methodological work under the Convention and the Kyoto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ies requested the secretariat to organize a workshop on projections in the second half of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ibution to the preparation of 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Cs  from Annex I Pa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chnical discussions on methodological issues relating to the preparation of proj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verag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thods, Assumptions, Indicators, Key parameters, Sensitivity analysis - Dissemination of method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en exchange of views and of experiences with the preparation of proj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ssons learnt and identification of areas for fur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orting guidelines for Annex I Parties will not be discussed or re-negoti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ilation and synthe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cretariat completed the C&amp;S of the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Cs from Annex I Parties in 2003 (FCCC/SBI/2003/7 and Add.1-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CCC/SBI/2003/7/Add.3 dealt with the projections information reported in the N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highlights of the C&amp;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verall, the reporting on projections has improved in comparison with the previous N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iderable efforts made by Parties in the preparation of the proj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Parties have not reported their GHG projections in full compliance with the UNFCCC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ypical deficiencies are the absence of a GHG projection for transport and forestry, the absence of a projection for HFCs, PFCs and SF6, and the limitation of the projection period to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&amp;S did NOT address methodological issues in detail; some discussions were conducted at in-depth reviews but no comprehensive general discussion until 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sues to discuss - Docu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orking papers prepared for the workshop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results of the C&amp;S of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N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-depth review repo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iews of Parties (FCCC/SBSTA/2004/MISC.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retariat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papers contain issues that could form the basis of the discuss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icipants may identify other issues and/or reformulate the issues presented in the pa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liver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s and/or recommendations that could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dentification of major methodological challenges for preparing GHG projections for national communications under UNFCCC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ghlights from national experiences in the preparation of GHG projections, including approaches/methods for overcoming the encountered difficul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ort to SBSTA 21 (Buenos Aires, December 200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put to the upcoming workshop on the 4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NCs (Dublin, 30 September - 1 October 200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ganization of 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al for the organization of 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nday: Plenary session on general and cross-cutting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uesday: Two parallel breakout group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up 1: Energy, Transport, Industry and Wa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up 2: Agriculture and LULUC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dnesday: Plenary s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ort of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nding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alization of conclu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posal for the presentatio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cus on the mandated scope (identification of methodological challenges, national experiences in solving key proble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ggestions for possible conclusions/recommend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need to review/discuss projected national GHG tr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2T10:15:17Z</dcterms:created>
  <dc:creator/>
  <dc:description/>
  <cp:keywords>emission projections</cp:keywords>
  <dc:language>en-US</dc:language>
  <cp:lastModifiedBy>camenen</cp:lastModifiedBy>
  <dcterms:modified xsi:type="dcterms:W3CDTF">2004-09-03T15:13:58Z</dcterms:modified>
  <cp:revision>10</cp:revision>
  <dc:subject/>
  <dc:title>Introductory presentation by the UNFCCC secretariat</dc:title>
</cp:coreProperties>
</file>