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9.jpeg" ContentType="image/jpeg"/>
  <Override PartName="/ppt/media/image17.wmf" ContentType="image/x-wmf"/>
  <Override PartName="/ppt/media/image16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0" y="7542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680" y="4714200"/>
            <a:ext cx="54370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1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1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rgeted workshops organised with project participants in the above mentioned projects to assess possible solutions to the identified barri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1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760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832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688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760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832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7240" y="309240"/>
            <a:ext cx="852336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6760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832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688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6760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4832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7240" y="309240"/>
            <a:ext cx="852336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6760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4832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688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6760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4832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7240" y="309240"/>
            <a:ext cx="852336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760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48320" y="126324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688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760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48320" y="3523680"/>
            <a:ext cx="27432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7240" y="309240"/>
            <a:ext cx="852336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2960" y="352368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688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2960" y="1263240"/>
            <a:ext cx="41576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6880" y="3523680"/>
            <a:ext cx="852012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4760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755280" y="1263600"/>
            <a:ext cx="14760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84360" y="77796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84360" y="607860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92280" y="6261120"/>
            <a:ext cx="146664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1263600"/>
            <a:ext cx="14760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9755280" y="1263600"/>
            <a:ext cx="14760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3"/>
          <p:cNvSpPr/>
          <p:nvPr/>
        </p:nvSpPr>
        <p:spPr>
          <a:xfrm>
            <a:off x="684360" y="77796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48" name="Line 34"/>
          <p:cNvSpPr/>
          <p:nvPr/>
        </p:nvSpPr>
        <p:spPr>
          <a:xfrm>
            <a:off x="684360" y="607860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49" name="Picture 47" descr="unfccc_logos_big"/>
          <p:cNvPicPr/>
          <p:nvPr/>
        </p:nvPicPr>
        <p:blipFill>
          <a:blip r:embed="rId2"/>
          <a:stretch/>
        </p:blipFill>
        <p:spPr>
          <a:xfrm>
            <a:off x="692280" y="6261120"/>
            <a:ext cx="146664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4"/>
          <p:cNvSpPr/>
          <p:nvPr/>
        </p:nvSpPr>
        <p:spPr>
          <a:xfrm>
            <a:off x="0" y="1265400"/>
            <a:ext cx="990288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87" name="Line 38"/>
          <p:cNvSpPr/>
          <p:nvPr/>
        </p:nvSpPr>
        <p:spPr>
          <a:xfrm>
            <a:off x="684360" y="77796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684360" y="607860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89" name="Picture 40" descr="unfccc_schriftzug_big"/>
          <p:cNvPicPr/>
          <p:nvPr/>
        </p:nvPicPr>
        <p:blipFill>
          <a:blip r:embed="rId2"/>
          <a:stretch/>
        </p:blipFill>
        <p:spPr>
          <a:xfrm>
            <a:off x="625320" y="309600"/>
            <a:ext cx="8518680" cy="31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unfccc-letter-es-e-header"/>
          <p:cNvPicPr/>
          <p:nvPr/>
        </p:nvPicPr>
        <p:blipFill>
          <a:blip r:embed="rId3"/>
          <a:stretch/>
        </p:blipFill>
        <p:spPr>
          <a:xfrm>
            <a:off x="669960" y="6105600"/>
            <a:ext cx="703080" cy="649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3544920" y="6505560"/>
            <a:ext cx="5665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UNFCCC secretariat, SDM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544920" y="6261120"/>
            <a:ext cx="5665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Xing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4"/>
          <p:cNvSpPr/>
          <p:nvPr/>
        </p:nvSpPr>
        <p:spPr>
          <a:xfrm>
            <a:off x="0" y="1265400"/>
            <a:ext cx="990288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684360" y="77796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684360" y="6078600"/>
            <a:ext cx="852948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134" name="Picture 40" descr="unfccc_schriftzug_big"/>
          <p:cNvPicPr/>
          <p:nvPr/>
        </p:nvPicPr>
        <p:blipFill>
          <a:blip r:embed="rId2"/>
          <a:stretch/>
        </p:blipFill>
        <p:spPr>
          <a:xfrm>
            <a:off x="625320" y="309600"/>
            <a:ext cx="8518680" cy="31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unfccc-letter-es-e-header"/>
          <p:cNvPicPr/>
          <p:nvPr/>
        </p:nvPicPr>
        <p:blipFill>
          <a:blip r:embed="rId3"/>
          <a:stretch/>
        </p:blipFill>
        <p:spPr>
          <a:xfrm>
            <a:off x="669960" y="6105600"/>
            <a:ext cx="703080" cy="649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6880" y="1263240"/>
            <a:ext cx="85201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3"/>
          </p:nvPr>
        </p:nvSpPr>
        <p:spPr>
          <a:xfrm>
            <a:off x="3544920" y="6505560"/>
            <a:ext cx="5665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UNFCCC secretariat, SDM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4"/>
          </p:nvPr>
        </p:nvSpPr>
        <p:spPr>
          <a:xfrm>
            <a:off x="3544920" y="6261120"/>
            <a:ext cx="56656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Xing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7"/>
          <p:cNvSpPr/>
          <p:nvPr/>
        </p:nvSpPr>
        <p:spPr>
          <a:xfrm>
            <a:off x="3544920" y="6261120"/>
            <a:ext cx="5665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  <a:ea typeface="SimSun"/>
              </a:rPr>
              <a:t>UNFCCC secretariat</a:t>
            </a: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565000"/>
            <a:ext cx="743580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Goals, expected outcomes and structure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Training workshop</a:t>
            </a:r>
            <a:br>
              <a:rPr sz="2400"/>
            </a:b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539640" y="1773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ssion 1. Opening</a:t>
            </a:r>
            <a:endParaRPr b="0" lang="en-US" sz="28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66280" y="4292640"/>
            <a:ext cx="78822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Training-Workshop to support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Uganda Municipal Waste Compost Programme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SimSun"/>
              </a:rPr>
              <a:t>21st -24th Oct 2013, Mukono Municipality, Ug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Participants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Freeform 2"/>
          <p:cNvSpPr/>
          <p:nvPr/>
        </p:nvSpPr>
        <p:spPr>
          <a:xfrm>
            <a:off x="1279440" y="1123920"/>
            <a:ext cx="1631880" cy="4921200"/>
          </a:xfrm>
          <a:prstGeom prst="pi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984240" bIns="98424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NEMA </a:t>
            </a:r>
            <a:endParaRPr b="0" lang="en-US" sz="24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  <a:ea typeface="Verdana"/>
              </a:rPr>
              <a:t>PoA Management Team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3043080" y="1123920"/>
            <a:ext cx="1703520" cy="4921200"/>
          </a:xfrm>
          <a:prstGeom prst="pi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984240" bIns="984240" anchor="t">
            <a:noAutofit/>
          </a:bodyPr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  <a:ea typeface="Verdana"/>
              </a:rPr>
              <a:t>CPA Teams/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  <a:ea typeface="Verdana"/>
              </a:rPr>
              <a:t>Municipalitie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Jinj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Fort Portal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Kabale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Kasese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Lir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bale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ukono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Soroti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barar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70c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Verdana"/>
                <a:ea typeface="Verdana"/>
              </a:rPr>
              <a:t>Hoim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70c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Verdana"/>
                <a:ea typeface="Verdana"/>
              </a:rPr>
              <a:t>Masindi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0070c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Verdana"/>
                <a:ea typeface="Verdana"/>
              </a:rPr>
              <a:t>Aru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86" name="Freeform 10"/>
          <p:cNvSpPr/>
          <p:nvPr/>
        </p:nvSpPr>
        <p:spPr>
          <a:xfrm>
            <a:off x="4959360" y="1197000"/>
            <a:ext cx="1703520" cy="49197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984240" bIns="984240" anchor="t">
            <a:noAutofit/>
          </a:bodyPr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  <a:ea typeface="Verdana"/>
              </a:rPr>
              <a:t>Other Ugandan agencie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CCU/DN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EMD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KCC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PFCC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CCPC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187" name="Freeform 11"/>
          <p:cNvSpPr/>
          <p:nvPr/>
        </p:nvSpPr>
        <p:spPr>
          <a:xfrm>
            <a:off x="6823080" y="1268280"/>
            <a:ext cx="1704960" cy="4921560"/>
          </a:xfrm>
          <a:prstGeom prst="pi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984240" bIns="984240" anchor="t">
            <a:noAutofit/>
          </a:bodyPr>
          <a:p>
            <a:pPr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  <a:ea typeface="Verdana"/>
              </a:rPr>
              <a:t>Other African Countries 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Ethiopi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Keny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alawi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Mozambique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Rwand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 lvl="1" marL="114480" indent="-114480">
              <a:lnSpc>
                <a:spcPct val="90000"/>
              </a:lnSpc>
              <a:spcAft>
                <a:spcPts val="264"/>
              </a:spcAft>
              <a:buClr>
                <a:srgbClr val="ff0000"/>
              </a:buClr>
              <a:buFont typeface="Verdana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Verdana"/>
              </a:rPr>
              <a:t>Tanzani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Objectives and expected outcome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577800" y="2060640"/>
            <a:ext cx="3411720" cy="3403440"/>
            <a:chOff x="577800" y="2060640"/>
            <a:chExt cx="3411720" cy="3403440"/>
          </a:xfrm>
        </p:grpSpPr>
        <p:grpSp>
          <p:nvGrpSpPr>
            <p:cNvPr id="190" name="Oval 5"/>
            <p:cNvGrpSpPr/>
            <p:nvPr/>
          </p:nvGrpSpPr>
          <p:grpSpPr>
            <a:xfrm>
              <a:off x="577800" y="2855880"/>
              <a:ext cx="2757960" cy="2608200"/>
              <a:chOff x="577800" y="2855880"/>
              <a:chExt cx="2757960" cy="2608200"/>
            </a:xfrm>
          </p:grpSpPr>
          <p:pic>
            <p:nvPicPr>
              <p:cNvPr id="191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77800" y="2855880"/>
                <a:ext cx="2757960" cy="26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071360" y="3318120"/>
                <a:ext cx="1766880" cy="16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b927d"/>
                  </a:solidFill>
                  <a:latin typeface="Verdana"/>
                </a:endParaRPr>
              </a:p>
            </p:txBody>
          </p:sp>
        </p:grpSp>
        <p:sp>
          <p:nvSpPr>
            <p:cNvPr id="193" name="Oval 6"/>
            <p:cNvSpPr/>
            <p:nvPr/>
          </p:nvSpPr>
          <p:spPr>
            <a:xfrm>
              <a:off x="1183680" y="3403800"/>
              <a:ext cx="1532520" cy="14850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1556640" y="3755520"/>
              <a:ext cx="738000" cy="691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5" name="Straight Connector 9"/>
            <p:cNvSpPr/>
            <p:nvPr/>
          </p:nvSpPr>
          <p:spPr>
            <a:xfrm>
              <a:off x="3311280" y="2060640"/>
              <a:ext cx="518040" cy="144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6" name="Straight Connector 10"/>
            <p:cNvSpPr/>
            <p:nvPr/>
          </p:nvSpPr>
          <p:spPr>
            <a:xfrm flipH="1">
              <a:off x="1950840" y="2062080"/>
              <a:ext cx="1404360" cy="203940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7" name="Straight Connector 12"/>
            <p:cNvSpPr/>
            <p:nvPr/>
          </p:nvSpPr>
          <p:spPr>
            <a:xfrm>
              <a:off x="3465360" y="2974320"/>
              <a:ext cx="52416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8" name="Straight Connector 13"/>
            <p:cNvSpPr/>
            <p:nvPr/>
          </p:nvSpPr>
          <p:spPr>
            <a:xfrm flipH="1">
              <a:off x="2116080" y="2974320"/>
              <a:ext cx="1349280" cy="16905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199" name="Straight Connector 15"/>
            <p:cNvSpPr/>
            <p:nvPr/>
          </p:nvSpPr>
          <p:spPr>
            <a:xfrm>
              <a:off x="3465360" y="4096800"/>
              <a:ext cx="36360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  <p:sp>
          <p:nvSpPr>
            <p:cNvPr id="200" name="Straight Connector 16"/>
            <p:cNvSpPr/>
            <p:nvPr/>
          </p:nvSpPr>
          <p:spPr>
            <a:xfrm flipH="1">
              <a:off x="2419920" y="4101480"/>
              <a:ext cx="1045080" cy="89388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b927d"/>
                </a:solidFill>
                <a:latin typeface="Verdana"/>
              </a:endParaRPr>
            </a:p>
          </p:txBody>
        </p:sp>
      </p:grpSp>
      <p:sp>
        <p:nvSpPr>
          <p:cNvPr id="201" name="Pentagon 22"/>
          <p:cNvSpPr/>
          <p:nvPr/>
        </p:nvSpPr>
        <p:spPr>
          <a:xfrm>
            <a:off x="3786120" y="3976560"/>
            <a:ext cx="3057480" cy="125280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1252800"/>
              <a:gd name="textAreaBottom" fmla="*/ 1253160 h 12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73" y="0"/>
                </a:lnTo>
                <a:lnTo>
                  <a:pt x="21600" y="10800"/>
                </a:lnTo>
                <a:lnTo>
                  <a:pt x="171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hance understanding of CDM rules to ensure real GHG emission reductions and more saleable credit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2" name="Chevron 19"/>
          <p:cNvSpPr/>
          <p:nvPr/>
        </p:nvSpPr>
        <p:spPr>
          <a:xfrm>
            <a:off x="6246720" y="1362240"/>
            <a:ext cx="3267000" cy="987120"/>
          </a:xfrm>
          <a:custGeom>
            <a:avLst/>
            <a:gdLst>
              <a:gd name="textAreaLeft" fmla="*/ 0 w 3267000"/>
              <a:gd name="textAreaRight" fmla="*/ 3267360 w 326700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6" y="0"/>
                </a:lnTo>
                <a:lnTo>
                  <a:pt x="21600" y="10800"/>
                </a:lnTo>
                <a:lnTo>
                  <a:pt x="18336" y="21600"/>
                </a:lnTo>
                <a:lnTo>
                  <a:pt x="0" y="21600"/>
                </a:lnTo>
                <a:lnTo>
                  <a:pt x="3264" y="10800"/>
                </a:lnTo>
                <a:close/>
              </a:path>
            </a:pathLst>
          </a:custGeom>
          <a:solidFill>
            <a:srgbClr val="b7d4f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ccessful PoA and CPA implementation (lower transaction costs, higher CER revenues) 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3" name="Chevron 24"/>
          <p:cNvSpPr/>
          <p:nvPr/>
        </p:nvSpPr>
        <p:spPr>
          <a:xfrm>
            <a:off x="6246720" y="2494080"/>
            <a:ext cx="3338640" cy="1261800"/>
          </a:xfrm>
          <a:custGeom>
            <a:avLst/>
            <a:gdLst>
              <a:gd name="textAreaLeft" fmla="*/ 0 w 3338640"/>
              <a:gd name="textAreaRight" fmla="*/ 3339000 w 333864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17" y="0"/>
                </a:lnTo>
                <a:lnTo>
                  <a:pt x="21600" y="10800"/>
                </a:lnTo>
                <a:lnTo>
                  <a:pt x="17517" y="21600"/>
                </a:lnTo>
                <a:lnTo>
                  <a:pt x="0" y="21600"/>
                </a:lnTo>
                <a:lnTo>
                  <a:pt x="4083" y="10800"/>
                </a:lnTo>
                <a:close/>
              </a:path>
            </a:pathLst>
          </a:custGeom>
          <a:solidFill>
            <a:srgbClr val="b7d4f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nefits to the community, host country (income generation, employment, air quality and health improvement, gender equality) 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4" name="Chevron 25"/>
          <p:cNvSpPr/>
          <p:nvPr/>
        </p:nvSpPr>
        <p:spPr>
          <a:xfrm>
            <a:off x="6175440" y="3976560"/>
            <a:ext cx="3267000" cy="1252800"/>
          </a:xfrm>
          <a:custGeom>
            <a:avLst/>
            <a:gdLst>
              <a:gd name="textAreaLeft" fmla="*/ 0 w 3267000"/>
              <a:gd name="textAreaRight" fmla="*/ 3267360 w 3267000"/>
              <a:gd name="textAreaTop" fmla="*/ 0 h 1252800"/>
              <a:gd name="textAreaBottom" fmla="*/ 1253160 h 12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9" y="0"/>
                </a:lnTo>
                <a:lnTo>
                  <a:pt x="21600" y="10800"/>
                </a:lnTo>
                <a:lnTo>
                  <a:pt x="17459" y="21600"/>
                </a:lnTo>
                <a:lnTo>
                  <a:pt x="0" y="21600"/>
                </a:lnTo>
                <a:lnTo>
                  <a:pt x="4141" y="10800"/>
                </a:lnTo>
                <a:close/>
              </a:path>
            </a:pathLst>
          </a:custGeom>
          <a:solidFill>
            <a:srgbClr val="b7d4f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nefits to the environment  and global community (lower GHG emissions, more capital  flows to developing countries)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5" name="TextBox 27"/>
          <p:cNvSpPr/>
          <p:nvPr/>
        </p:nvSpPr>
        <p:spPr>
          <a:xfrm>
            <a:off x="4024440" y="765000"/>
            <a:ext cx="156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Workshop objective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6" name="Pentagon 18"/>
          <p:cNvSpPr/>
          <p:nvPr/>
        </p:nvSpPr>
        <p:spPr>
          <a:xfrm>
            <a:off x="3821040" y="2494080"/>
            <a:ext cx="3048120" cy="12636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28" y="0"/>
                </a:lnTo>
                <a:lnTo>
                  <a:pt x="21600" y="10800"/>
                </a:lnTo>
                <a:lnTo>
                  <a:pt x="171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courage similar projects in Uganda and  other African countrie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crease uptake of CDM projects in Africa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6823080" y="765000"/>
            <a:ext cx="156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Expected Outcome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  <p:sp>
        <p:nvSpPr>
          <p:cNvPr id="208" name="Pentagon 17"/>
          <p:cNvSpPr/>
          <p:nvPr/>
        </p:nvSpPr>
        <p:spPr>
          <a:xfrm>
            <a:off x="3807000" y="1362240"/>
            <a:ext cx="3016080" cy="987120"/>
          </a:xfrm>
          <a:custGeom>
            <a:avLst/>
            <a:gdLst>
              <a:gd name="textAreaLeft" fmla="*/ 0 w 3016080"/>
              <a:gd name="textAreaRight" fmla="*/ 3016440 w 301608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4" y="0"/>
                </a:lnTo>
                <a:lnTo>
                  <a:pt x="21600" y="10800"/>
                </a:lnTo>
                <a:lnTo>
                  <a:pt x="180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46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hance technical and managerial capacity of the PoA and CPA project teams</a:t>
            </a:r>
            <a:endParaRPr b="0" lang="en-US" sz="1400" spc="-1" strike="noStrike">
              <a:solidFill>
                <a:srgbClr val="fb92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93dc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10" name="Picture 7" descr="file00029400867"/>
          <p:cNvPicPr/>
          <p:nvPr/>
        </p:nvPicPr>
        <p:blipFill>
          <a:blip r:embed="rId1"/>
          <a:stretch/>
        </p:blipFill>
        <p:spPr>
          <a:xfrm>
            <a:off x="4816440" y="836640"/>
            <a:ext cx="2035080" cy="14778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703440" y="1052640"/>
            <a:ext cx="4319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0000" indent="-2700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1 - 21 October</a:t>
            </a: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CDM and PoA Concepts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2 – 22 October</a:t>
            </a: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Case study of the Uganda PoA 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Site visit to the Mukono composting CPA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3 – 23 October</a:t>
            </a: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Workshop/Group exercises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4 – 24 October</a:t>
            </a: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Workshop/Group exercises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Participants’ presentations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lvl="1" marL="62856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MS PGothic"/>
              </a:rPr>
              <a:t>Closing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 algn="r">
              <a:lnSpc>
                <a:spcPct val="6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 algn="r">
              <a:lnSpc>
                <a:spcPct val="6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 algn="r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  <a:p>
            <a:pPr marL="270000" indent="-270000" algn="r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6967440" y="4486320"/>
            <a:ext cx="2158920" cy="1227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4807080" y="301788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7101000" y="1844640"/>
            <a:ext cx="2025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93dc"/>
                </a:solidFill>
                <a:latin typeface="Arial"/>
              </a:rPr>
              <a:t>Collaborating agencie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pic>
        <p:nvPicPr>
          <p:cNvPr id="216" name="Picture 6" descr="file000890717941"/>
          <p:cNvPicPr/>
          <p:nvPr/>
        </p:nvPicPr>
        <p:blipFill>
          <a:blip r:embed="rId1"/>
          <a:stretch/>
        </p:blipFill>
        <p:spPr>
          <a:xfrm>
            <a:off x="3371760" y="2703600"/>
            <a:ext cx="271620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4076640" y="1042920"/>
            <a:ext cx="1306440" cy="94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1817640" y="1042920"/>
            <a:ext cx="1724040" cy="866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6221520" y="930240"/>
            <a:ext cx="1103040" cy="979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5"/>
          <a:stretch/>
        </p:blipFill>
        <p:spPr>
          <a:xfrm>
            <a:off x="1566720" y="2884320"/>
            <a:ext cx="1554480" cy="49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6"/>
          <a:stretch/>
        </p:blipFill>
        <p:spPr>
          <a:xfrm>
            <a:off x="1468440" y="3700440"/>
            <a:ext cx="1751040" cy="30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7"/>
          <a:stretch/>
        </p:blipFill>
        <p:spPr>
          <a:xfrm>
            <a:off x="6221520" y="2509920"/>
            <a:ext cx="2208240" cy="74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BMU_Office_Farbe_en_auftrag"/>
          <p:cNvPicPr/>
          <p:nvPr/>
        </p:nvPicPr>
        <p:blipFill>
          <a:blip r:embed="rId8"/>
          <a:stretch/>
        </p:blipFill>
        <p:spPr>
          <a:xfrm>
            <a:off x="6375240" y="3556080"/>
            <a:ext cx="1922760" cy="1120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9"/>
          <a:stretch/>
        </p:blipFill>
        <p:spPr>
          <a:xfrm>
            <a:off x="2055960" y="5425920"/>
            <a:ext cx="969840" cy="5889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 flipV="1" rot="10800000">
            <a:off x="2835000" y="5577480"/>
            <a:ext cx="32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93beea"/>
                </a:solidFill>
                <a:latin typeface="Verdana"/>
              </a:rPr>
              <a:t> </a:t>
            </a:r>
            <a:r>
              <a:rPr b="1" lang="it-IT" sz="1200" spc="-1" strike="noStrike">
                <a:solidFill>
                  <a:srgbClr val="93beea"/>
                </a:solidFill>
                <a:latin typeface="Verdana"/>
              </a:rPr>
              <a:t>CDM Regional Collaboration Centre - Kampala</a:t>
            </a:r>
            <a:endParaRPr b="0" lang="en-US" sz="12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10"/>
          <a:stretch/>
        </p:blipFill>
        <p:spPr>
          <a:xfrm>
            <a:off x="6119640" y="5448240"/>
            <a:ext cx="236088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2200" y="1699920"/>
            <a:ext cx="853596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SimSun"/>
              </a:rPr>
              <a:t>Thank you for your attention</a:t>
            </a:r>
            <a:endParaRPr b="0" lang="en-US" sz="29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927080" y="3678120"/>
            <a:ext cx="640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DM Regional Collaboration Centre 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 collaboration between the UNFCCC Climate Change Secretariat 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nd the East African Development Bank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ADB Offices, No. 4, Nile Avenue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.O. Box 7128, Kampala, Uganda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hone: +256 (0) 312517814</a:t>
            </a:r>
            <a:endParaRPr b="0" lang="en-US" sz="1600" spc="-1" strike="noStrike">
              <a:solidFill>
                <a:srgbClr val="fb927d"/>
              </a:solidFill>
              <a:latin typeface="Verdana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7759800" y="479412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631800" y="4941720"/>
            <a:ext cx="2359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7240" y="309240"/>
            <a:ext cx="85233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3dc"/>
                </a:solidFill>
                <a:latin typeface="Arial"/>
              </a:rPr>
              <a:t>Workshop Groups</a:t>
            </a:r>
            <a:endParaRPr b="0" lang="en-US" sz="2400" spc="-1" strike="noStrike">
              <a:solidFill>
                <a:srgbClr val="4b93dc"/>
              </a:solidFill>
              <a:latin typeface="Arial"/>
            </a:endParaRPr>
          </a:p>
        </p:txBody>
      </p:sp>
      <p:graphicFrame>
        <p:nvGraphicFramePr>
          <p:cNvPr id="232" name="Object 5"/>
          <p:cNvGraphicFramePr/>
          <p:nvPr/>
        </p:nvGraphicFramePr>
        <p:xfrm>
          <a:off x="1855800" y="1052640"/>
          <a:ext cx="6408720" cy="45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052640"/>
                    <a:ext cx="640872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3:23:48Z</dcterms:created>
  <dc:creator>Peggy Albrecht</dc:creator>
  <dc:description/>
  <dc:language>en-US</dc:language>
  <cp:lastModifiedBy>Flordeliza Andres</cp:lastModifiedBy>
  <cp:lastPrinted>2013-10-18T10:08:15Z</cp:lastPrinted>
  <dcterms:modified xsi:type="dcterms:W3CDTF">2013-10-22T17:08:18Z</dcterms:modified>
  <cp:revision>1035</cp:revision>
  <dc:subject/>
  <dc:title>No Slide Title</dc:title>
</cp:coreProperties>
</file>