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8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8120"/>
            <a:ext cx="6108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0800"/>
            <a:ext cx="6107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1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DP est indubitablement un grand succès de l’UNFCCC. C’est près de 7 000 projets et plus de 100 programmes d’activités enregist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pendant, depuis la CMP.2 la question de la répartition géographique des projets est resté un problème politique maj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échec du processus à résoudre cette question a eu un impact négatif sur la réputation du MDP, du Protocole de Kyoto et de son secré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Header Placeholder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atalyseur d’inégalité et de dispa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impacts sur les secteurs stratégiques de développement économiques : foresterie, agriculture, tourisme, production d’énergi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pulations pauvres plus vulnérable; 300 000 morts/an; 250 millions de migrants climatiques d’ici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PED : peu de moyens humains, financiers et techniques de faire face aux conséquences des changements climat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tablir la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justice climatiqu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t considérer les inégalités face aux évolutions du cli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pondre aux besoins énergétiques des populations tout en réduisant nos émissions de 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duire la vulnérabilité pour ne pas freiner la croissance et l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gager les émergents vers des objectifs de réduction de 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érer les enjeux géopolitiques considérables et combattre l’in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5720" y="4862520"/>
            <a:ext cx="5210280" cy="46022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1c58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c5840"/>
                </a:solidFill>
                <a:latin typeface="Arial"/>
              </a:rPr>
              <a:t>Les instruments économiques de la lutte contre les changements climatiques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églementa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ex. normes europé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iscalité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ex. taxe car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stème d’échange de droits d’émission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ex. Ky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space réservé de l'en-tête 3"/>
          <p:cNvSpPr/>
          <p:nvPr/>
        </p:nvSpPr>
        <p:spPr>
          <a:xfrm>
            <a:off x="490680" y="154080"/>
            <a:ext cx="6107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0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0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NFCCC secretariat, Sustainable Development Mechanisms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Conor B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UNFCCC – BOAD CDM Regional Collaboration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8648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ormation sur la préparation des PINs , des PDDs, sur  la validation et la vérification des projets MDP au Burundi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0640" y="4437000"/>
            <a:ext cx="7881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pe Demba NDIAYE, Conseiller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ujumbura, 08 octobr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 5" descr="BOAD-Logo"/>
          <p:cNvPicPr/>
          <p:nvPr/>
        </p:nvPicPr>
        <p:blipFill>
          <a:blip r:embed="rId1"/>
          <a:srcRect l="16359" t="10551" r="14028" b="23219"/>
          <a:stretch/>
        </p:blipFill>
        <p:spPr>
          <a:xfrm>
            <a:off x="7916760" y="6129360"/>
            <a:ext cx="571680" cy="6174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320760" y="3213000"/>
            <a:ext cx="842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57000"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sentation du Centre Régional de Collaboration de Lo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7822-234E-49F7-8094-68AA15AC1D1E}" type="slidenum"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MDP : Etat de mise en oeuvr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538200" y="3284640"/>
            <a:ext cx="8210520" cy="3456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21780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9007560" y="2178000"/>
            <a:ext cx="136440" cy="4326120"/>
          </a:xfrm>
          <a:prstGeom prst="rect">
            <a:avLst/>
          </a:prstGeom>
          <a:solidFill>
            <a:srgbClr val="4a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631800" y="457200"/>
            <a:ext cx="7875720" cy="1440"/>
          </a:xfrm>
          <a:custGeom>
            <a:avLst/>
            <a:gdLst>
              <a:gd name="textAreaLeft" fmla="*/ 0 w 7875720"/>
              <a:gd name="textAreaRight" fmla="*/ 7876080 w 7875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2" h="3">
                <a:moveTo>
                  <a:pt x="0" y="0"/>
                </a:moveTo>
                <a:lnTo>
                  <a:pt x="12402" y="2"/>
                </a:lnTo>
              </a:path>
            </a:pathLst>
          </a:custGeom>
          <a:noFill/>
          <a:ln w="12600">
            <a:solidFill>
              <a:srgbClr val="4a92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8280" rIns="393480" tIns="457200" bIns="-7596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71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71280" y="42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684360" y="981000"/>
            <a:ext cx="8064360" cy="23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7 000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s enregistrés dans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88 p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1.3 milliard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Rs émis et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1,7 Md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ine (60% des crédits) et Inde (15%) = 2/3 des proj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/3 des CER : gaz industriels, 10 projets ont délivrés 45% des 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 PMA et la finance carbone : l’exemple de l’Afrique et ses 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0AF-0B3F-470B-AE68-F4E620A6540D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Politique d’ouverture de la CCNUCC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entre Régional de Collaboration : pourquoi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: activités e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: avant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et CRC Lom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EA9-A34E-42EA-809D-39AB15872355}" type="slidenum"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justification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ontexte politique et institutionnel des p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tagnation du marché du carbo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ous représentation dans le MDP de l’Afrique occidentale et de l’Afrique francoph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arrière linguistique à la promotion des projets MD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F4F-C972-4C6F-8C6E-D2B769645A4B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: activités et services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42600" y="999720"/>
            <a:ext cx="786780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C : Quelques formes d’app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aux porteurs de projets dans l’identification de projets M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cation des projets bloqués dans le cycle d’approbation/délivrance de l’UNFCCC et des nouveaux projets potent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technique et procédural pendant les phases de conception, de validation et de vérification des 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aux bureaux locaux des AND, porteurs de projets et partenaires financiers et institut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A66-A223-4652-BDDC-B27D590258DD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activités dans le cycle du projet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outien direct au design et au développement des projets MD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311-B9DD-4C7B-B439-B6A31F86E1D3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avantage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1039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es coûts et du temps pour démarcher les projets M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registrement accru de programmes d’activités, ce qui permet une reproduction facile des plus petit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i aux développement des Stadardised Bas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renforcé des investisseurs/promoteurs de projets du marché carbone aux pays les moins avanc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atuité des presta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22E-1CD7-45CF-A05C-001CCBB4614F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s Régionaux de Collaboration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entres Régionaux de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omé, T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Kampala, Ougan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anille, Philipp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ogota, Colomb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Grenade, Antil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DB1D-9567-4F5E-8E65-A40D3124CFF6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pérationnel en janvi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rtenariat BOAD et la CCNUC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llaboration mutuell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CNUCC : proximité des acteurs, expérience de 40 ans de la BOAD, barrières linguistiqu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OAD : faciliter les Etats de l’UEMOA à accéder à la finance carbone pour un développement d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F873-C206-41B7-8CF2-611FA18C320C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 : appui aux projet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rtefeuille de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rojets dans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missions réalisé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lus de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rojets identifié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s avec soumission de formulaire d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rio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projets très act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Graphique 5" descr=""/>
          <p:cNvPicPr/>
          <p:nvPr/>
        </p:nvPicPr>
        <p:blipFill>
          <a:blip r:embed="rId1"/>
          <a:stretch/>
        </p:blipFill>
        <p:spPr>
          <a:xfrm>
            <a:off x="1352520" y="3738600"/>
            <a:ext cx="62229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A1F-C478-41B2-86A1-1D2BEEB8FD02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5040" y="309600"/>
            <a:ext cx="85089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 : Standardised Baseline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9640" y="1628640"/>
          <a:ext cx="7683480" cy="3095640"/>
        </p:xfrm>
        <a:graphic>
          <a:graphicData uri="http://schemas.openxmlformats.org/drawingml/2006/table">
            <a:tbl>
              <a:tblPr/>
              <a:tblGrid>
                <a:gridCol w="4103640"/>
                <a:gridCol w="3579840"/>
              </a:tblGrid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tives ré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ives nation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African Power Pool Grid Emis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bo Verde Grid Emis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hane destruction in landf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 Bissau Grid Emis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ksto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 Grid Emis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co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 Grid Emis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EF7B-A9B4-4B82-93E5-D2B25D733F7C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Sommair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mpacts du changement cli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sponsabilit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adre international contre le changement cli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CNUC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rotocole de  Kyo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écanisme de développement Prop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entres Régionaux de Collaboration de CCNUC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24DD-D68F-475E-BBE4-77FA25D21137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309600"/>
            <a:ext cx="889308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 : renforcement des capacité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68360" y="1123920"/>
          <a:ext cx="8229600" cy="4978440"/>
        </p:xfrm>
        <a:graphic>
          <a:graphicData uri="http://schemas.openxmlformats.org/drawingml/2006/table">
            <a:tbl>
              <a:tblPr/>
              <a:tblGrid>
                <a:gridCol w="627120"/>
                <a:gridCol w="1962000"/>
                <a:gridCol w="4479840"/>
                <a:gridCol w="1160640"/>
              </a:tblGrid>
              <a:tr h="4255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DM introduction and promotion events in 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i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et promotion du  MDP aux PPs, AND, universités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 Ver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b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 Tome et Princi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el du CDM dans le secteur de la bioénergie en Afrique de l’Ouest avec le Fonds Africain des Energies Renouvelabl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et promotion du  MDP aux  PPs, AND, universités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CCC-E137-4CE5-A5C6-215CACB16C5B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Un peu de lecture!!!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introductory pack developed by World Bank Institute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vigating the Kyoto flexible mechanisms – CDM and J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uidebook for CDM - CDM in Ch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viroscope.iges.or.jp/modules/envirolib/view.php?docid=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about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for CDM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diagra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o CD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gu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 governan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EB/govern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 rules and regulatory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Reference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projse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DM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cdm.unfccc.int/about/dev_be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3773-89A6-47AD-A47A-403AE98DD64F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Lomé : contact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1280" y="1098720"/>
            <a:ext cx="786744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ndard: (228) 22 23 27 79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mail: RCCLome@unfccc.i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kype: rcc.l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glophone : Vintura SILVA - vsilva@unfccc.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glophone : Chunyu LIANG - cliang@unfccc.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ophone : Pape Demba NDIAYE - pndiaye@bo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ophone : Myrtille ALAPINI - m</a:t>
            </a:r>
            <a:r>
              <a:rPr b="0" lang="fr-FR" sz="2000" spc="-1" strike="noStrike">
                <a:solidFill>
                  <a:srgbClr val="0d0d0d"/>
                </a:solidFill>
                <a:latin typeface="Arial"/>
              </a:rPr>
              <a:t>alapin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@bo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ophone : Mélissa OLYMPIO - molympio@bo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816F-8C4F-427A-A588-5C65E2EC9192}" type="slidenum"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40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 algn="ctr">
              <a:lnSpc>
                <a:spcPts val="2398"/>
              </a:lnSpc>
              <a:spcBef>
                <a:spcPts val="187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ts val="2398"/>
              </a:lnSpc>
              <a:spcBef>
                <a:spcPts val="187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ts val="2398"/>
              </a:lnSpc>
              <a:spcBef>
                <a:spcPts val="187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9" descr=""/>
          <p:cNvPicPr/>
          <p:nvPr/>
        </p:nvPicPr>
        <p:blipFill>
          <a:blip r:embed="rId1"/>
          <a:stretch/>
        </p:blipFill>
        <p:spPr>
          <a:xfrm>
            <a:off x="2259000" y="2205000"/>
            <a:ext cx="4905360" cy="32702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635040" y="116532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E6A3-3473-41D2-BA58-7344550C3805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5040" y="309600"/>
            <a:ext cx="81849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hangements climatiques : inégalité et disparité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4680" y="981000"/>
            <a:ext cx="7824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talyseur d’inégalité et de dispari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éserves en eau do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riculture et sécurité alimentaire : baisse des rend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an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iodivers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flits armés et géopolitique (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" descr=""/>
          <p:cNvPicPr/>
          <p:nvPr/>
        </p:nvPicPr>
        <p:blipFill>
          <a:blip r:embed="rId1"/>
          <a:stretch/>
        </p:blipFill>
        <p:spPr>
          <a:xfrm>
            <a:off x="2268360" y="3267000"/>
            <a:ext cx="4578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8FF6-2F6A-478C-A96D-BDFF6A9FC697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hangements climatiques et responsabilité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9D2-F1F2-4332-9D56-E16CF210A255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309600"/>
            <a:ext cx="86407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Réponse internationale aux changements climatiques : CCNUCC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5040" y="981000"/>
            <a:ext cx="78674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48400" indent="-2484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férence de Rio 92 sur l’environnement et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option de la Convention Cadre des Nations Unies sur les Changements Cli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princip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ponsabilité commune mais différenc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oit au développement écon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groupes de pay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ys développés (annex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000" indent="-2480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ys en développement et Pays les Moins Avanc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AEA-5E16-41AA-BE5D-8AAEFB56170A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Mise en œuvre de la CCNUCC :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8113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tifié en 1997 par 183 pays et entré en vigueur en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8 pays, 55% des émissions mondiales, - 5 % d’émissions GES entre 2008-2012 par rapport à l’année de référence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rotocole, deux objectifs maj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es émissions de gaz à effets de serre ( pays annex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ment durable pour les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Protocole de Kyoto : calendrier et évolution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35040" y="2708280"/>
            <a:ext cx="786744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3800" indent="-25380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ériode d’engagement : 2008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2 Par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191 Etats + EU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fs pour 37 pays de l’Annex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riode d’eng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2013 à [2017 ou 2020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gociations sur les objectifs et les adhé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33552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uveaux mécanismes de marché pour 20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36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A1E-BC2D-439B-BA3D-E4B7A9A86A5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635040" y="116532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www.rtcc.org/files/2012/09/flags-in-bangkok-source-flickr-unfccc.jpg"/>
          <p:cNvPicPr/>
          <p:nvPr/>
        </p:nvPicPr>
        <p:blipFill>
          <a:blip r:embed="rId1"/>
          <a:stretch/>
        </p:blipFill>
        <p:spPr>
          <a:xfrm>
            <a:off x="5940360" y="836640"/>
            <a:ext cx="256392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C47-54B6-47E5-9D4D-1174EA156A3E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Objectifs de réduction de GES du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3AD-0BF1-40CD-AAB2-2B5EF5FA6611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3 mécanismes de flexibilité du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ays peuvent respecter leur engagement de réduction de GES par trois mécanismes de 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ème international  d’échanges de droits d’émissions (UQA) entre pays de l’annex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œuvre conjointe (URE) entre pays de l’annex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écanisme pour  un Développement Propre (URCE) : PE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39640" y="4253040"/>
            <a:ext cx="8136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9:05:47Z</dcterms:created>
  <dc:creator>barry</dc:creator>
  <dc:description/>
  <dc:language>en-US</dc:language>
  <cp:lastModifiedBy>NDIAYE Pape Demba</cp:lastModifiedBy>
  <cp:lastPrinted>2013-10-08T04:33:01Z</cp:lastPrinted>
  <dcterms:modified xsi:type="dcterms:W3CDTF">2013-10-08T04:33:16Z</dcterms:modified>
  <cp:revision>159</cp:revision>
  <dc:subject/>
  <dc:title>TITLE HEADER</dc:title>
</cp:coreProperties>
</file>