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496800" y="40176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496800" y="952992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hdr"/>
          </p:nvPr>
        </p:nvSpPr>
        <p:spPr>
          <a:xfrm>
            <a:off x="49032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2" descr="unfccc_logos+text"/>
          <p:cNvPicPr/>
          <p:nvPr/>
        </p:nvPicPr>
        <p:blipFill>
          <a:blip r:embed="rId2"/>
          <a:stretch/>
        </p:blipFill>
        <p:spPr>
          <a:xfrm>
            <a:off x="496800" y="9642600"/>
            <a:ext cx="6104160" cy="59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71440" indent="-271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MDP est indubitablement un grand succès de l’UNFCCC. C’est près de 7 000 projets et plus de 100 programmes d’activités enregistr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pendant, depuis la CMP.2 la question de la répartition géographique des projets est resté un problème politique maj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’échec du processus à résoudre cette question a eu un impact négatif sur la réputation du MDP, du Protocole de Kyoto et de son secré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Espace réservé de l'en-tête 3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e l'en-tête 3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Header Placeholder 3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e l'en-tête 3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catalyseur d’inégalité et de dispar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es impacts sur les secteurs stratégiques de développement économiques : foresterie, agriculture, tourisme, production d’énergi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pulations pauvres plus vulnérable; 300 000 morts/an; 250 millions de migrants climatiques d’ici 20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les PED : peu de moyens humains, financiers et techniques de faire face aux conséquences des changements climat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Espace réservé de l'en-tête 3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e l'en-tête 3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établir la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justice climatique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t considérer les inégalités face aux évolutions du cli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épondre aux besoins énergétiques des populations tout en réduisant nos émissions de 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éduire la vulnérabilité pour ne pas freiner la croissance et le développ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gager les émergents vers des objectifs de réduction de 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sidérer les enjeux géopolitiques considérables et combattre l’in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Espace réservé de l'en-tête 3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e l'en-tête 3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71440" indent="-271440">
              <a:spcBef>
                <a:spcPts val="451"/>
              </a:spcBef>
              <a:buClr>
                <a:srgbClr val="1c58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1c5840"/>
                </a:solidFill>
                <a:latin typeface="Arial"/>
              </a:rPr>
              <a:t>Les instruments économiques de la lutte contre les changements climatiques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églementatio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ex. normes européen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iscalité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ex. taxe carb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stème d’échange de droits d’émissions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: ex. Ky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e l'en-tête 3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50" descr="unfccc-letter-es-e-header"/>
          <p:cNvPicPr/>
          <p:nvPr/>
        </p:nvPicPr>
        <p:blipFill>
          <a:blip r:embed="rId2"/>
          <a:srcRect l="0" t="0" r="86370" b="44262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4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8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9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0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0" descr="unfccc-letter-es-e-header"/>
          <p:cNvPicPr/>
          <p:nvPr/>
        </p:nvPicPr>
        <p:blipFill>
          <a:blip r:embed="rId3"/>
          <a:srcRect l="0" t="0" r="86370" b="44262"/>
          <a:stretch/>
        </p:blipFill>
        <p:spPr>
          <a:xfrm>
            <a:off x="619200" y="61056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NFCCC secretariat, Sustainable Development Mechanisms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Conor BA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3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NFCCC secretariat,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4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irstname Lastname, Job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6"/>
          <p:cNvSpPr/>
          <p:nvPr/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UNFCCC – BOAD CDM Regional Collaboration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6600" y="1412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otentiel du Mécanisme de Développement Propre dans le secteur du bioénergie en Afrique de l’Ouest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20640" y="4437000"/>
            <a:ext cx="788184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ape Demba NDIAYE, Technical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omé, 04 octobre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Image 5" descr="BOAD-Logo"/>
          <p:cNvPicPr/>
          <p:nvPr/>
        </p:nvPicPr>
        <p:blipFill>
          <a:blip r:embed="rId1"/>
          <a:srcRect l="16359" t="10551" r="14028" b="23219"/>
          <a:stretch/>
        </p:blipFill>
        <p:spPr>
          <a:xfrm>
            <a:off x="7916760" y="6129360"/>
            <a:ext cx="571680" cy="6174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"/>
          <p:cNvSpPr/>
          <p:nvPr/>
        </p:nvSpPr>
        <p:spPr>
          <a:xfrm>
            <a:off x="320760" y="3213000"/>
            <a:ext cx="8427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21000"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Module introduct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2248-2CE6-499E-BD61-8694AE6801F4}" type="slidenum"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CRC : justification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ontexte politique et institutionnel des pay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Stagnation du marché du carbon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Sous représentation dans le MDP de l’Afrique occidentale et de l’Afrique francoph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Barrière linguistique à la promotion des projets MD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A3C9-8517-4F55-8C86-AEB5876C861D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Centre régional de Collaboration : activités et services 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42600" y="999720"/>
            <a:ext cx="7867800" cy="51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C : Quelques formes d’app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ui aux porteurs de projets dans l’identification de projets M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dentification des projets bloqués dans le cycle d’approbation/délivrance de l’UNFCCC et des nouveaux projets potenti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ui technique et procédural pendant les phases de conception, de validation et de vérification des proj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ui aux bureaux locaux des AND, porteurs de projets et partenaires financiers et institutio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F4D1-A9DF-4436-AE1C-33EDD541AC53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CRC : activités dans le cycle du projet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Soutien direct au design et au développement des projets MDP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8CD0-6C24-43BE-9EF4-959DE8424F2A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CRC : avantages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052640"/>
            <a:ext cx="810396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duction des coûts et du temps pour démarcher les projets M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registrement accru de programmes d’activités, ce qui permet une reproduction facile des plus petits proj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ès renforcé des investisseurs/promoteurs de projets du marché carbone aux pays les moins avanc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ratuité des prestat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B183-8B0B-4F20-B499-F3BF2BA40B43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Centres Régionaux de Collaboration 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Nos Centres Régionaux de Collabo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 algn="just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Lomé, Tog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 algn="just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Kampala, Ougan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 algn="just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Manille, Philipp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 algn="just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Bogota, Colombi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 algn="just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Grenade, Antil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4BA0-13A7-4211-8809-A98442366CC4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Centre Régional de Collaboration de Lomé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Opérationnel en janvier 201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Partenariat BOAD et la CCNUCC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ollaboration mutuelle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CNUCC : proximité des acteurs, expérience de 40 ans de la BOAD, barrières linguistiques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 algn="just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BOAD : faciliter les Etats de l’UEMOA a accéder à la finance carbone pour un développement dur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4344-8844-4BAA-BA1F-98F118A0F884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Centre Régional de Collaboration de Lomé : quelques chiffres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Portefeuille de 290 projets dans 30 pay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Plus de 50 projets identifiés/17 missions réalisé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Renforcement des capacités des acteurs direct/indirect réguli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Appui à 9 niveaux de référence normalisés : WAPP, destruction de méthane, foyers améliorés…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8689-D3FC-408B-A478-27D50E9908DD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Un peu de lecture!!!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introductory pack developed by World Bank Institute 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vigating the Kyoto flexible mechanisms – CDM and J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guidebook for CDM - CDM in Cha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viroscope.iges.or.jp/modules/envirolib/view.php?docid=8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dm.unfccc.int/about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for CDM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dm.unfccc.int/Projects/diagra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o CD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dm.unfccc.int/Projects/guid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 governanc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dm.unfccc.int/EB/governa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 rules and regulatory 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dm.unfccc.int/Reference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ful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dm.unfccc.int/Projects/projsearch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DM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cdm.unfccc.int/about/dev_ben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392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093C-EC7B-4612-A30B-027861D2B8CE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CRC Lomé : contacts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712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Standard: (228) 22 23 27 79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Fax: (228) 22 23 25 90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Email: RCCLome@unfccc.int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Skype:rcc.lom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712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glophone : Vintura SI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mail: vsilva@unfccc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glophone : Chunyu LI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mail: cliang@unfccc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Francophone 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pe Demba NDIA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12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mail:pndiaye@boad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12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12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3D8A-1064-41AC-9CDD-24120ADDFA69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MERCI DE VOTRE ATTENTION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DC01-6026-45CD-9457-5FCD251E4E7F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35040" y="309600"/>
            <a:ext cx="81849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Changements climatiques : catalyseur d’inégalité et de disparité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34680" y="981000"/>
            <a:ext cx="7824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talyseur d’inégalité et de dispar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serves en eau do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griculture et sécurité alimentaire : baisse des rend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iodivers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flits armés et géopolitique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Image 1" descr=""/>
          <p:cNvPicPr/>
          <p:nvPr/>
        </p:nvPicPr>
        <p:blipFill>
          <a:blip r:embed="rId1"/>
          <a:stretch/>
        </p:blipFill>
        <p:spPr>
          <a:xfrm>
            <a:off x="2268360" y="3267000"/>
            <a:ext cx="45784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DC25-6862-48D1-B81D-B9F4DE6A6FC2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Changements climatiques et responsabilités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8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F141-9511-42FF-88EF-2CAD0CEA1165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09600"/>
            <a:ext cx="864072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Réponse internationale aux changements climatiques : CCNUCC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férence de Rio 92 sur l’environnement et le développ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option de la Convention Cadre des Nations Unies sur les Changements Clima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 principes : précaution, responsabilité commune mais différenciés, droit au développement écono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 groupes de pays : annexe 1 et P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1AA8-BD4F-40CC-866F-163DF3A8F14F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Mise en œuvre de la CCNUCC : Protocole de Kyoto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atifié en 1997 par 183 pays et entré en vigueur en 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8 pays, 55% des émissions mondiales, - 5 % d’émissions GES entre 2008-2012 par rapport à l’année de référence 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rotocole deux objectifs maj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duction des émissions de gaz à effets de serre (Pays annexe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veloppement durable pour les 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A3CB-9059-4D11-B4EA-6D25808BC297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Objectifs de réduction de GES du Protocole de Kyoto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425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2B29-68F5-4583-B0F8-487E31511564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3 mécanismes de flexibilité du Protocole de Kyoto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pays peuvent respecter leur engagement de réduction de GES par trois mécanismes de march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stème international  d’échanges de droits d’émissions (UQA) entre pays de l’annex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e en œuvre conjointe (URE) entre pays de l’annex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écanisme pour  un Développement Propre (URCE) : PED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1"/>
          <a:stretch/>
        </p:blipFill>
        <p:spPr>
          <a:xfrm>
            <a:off x="539640" y="4253040"/>
            <a:ext cx="81360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1C2F-A8C1-4626-BF9F-B2E4EAB05D58}" type="slidenum"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  <a:ea typeface="宋体"/>
              </a:rPr>
              <a:t>MDP : Etat de mise en oeuvre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538200" y="3284640"/>
            <a:ext cx="8210520" cy="3456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7"/>
          <p:cNvSpPr/>
          <p:nvPr/>
        </p:nvSpPr>
        <p:spPr>
          <a:xfrm>
            <a:off x="0" y="21780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9007560" y="2178000"/>
            <a:ext cx="136440" cy="4326120"/>
          </a:xfrm>
          <a:prstGeom prst="rect">
            <a:avLst/>
          </a:prstGeom>
          <a:solidFill>
            <a:srgbClr val="4a9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9"/>
          <p:cNvSpPr/>
          <p:nvPr/>
        </p:nvSpPr>
        <p:spPr>
          <a:xfrm>
            <a:off x="631800" y="457200"/>
            <a:ext cx="7875720" cy="1440"/>
          </a:xfrm>
          <a:custGeom>
            <a:avLst/>
            <a:gdLst>
              <a:gd name="textAreaLeft" fmla="*/ 0 w 7875720"/>
              <a:gd name="textAreaRight" fmla="*/ 7876080 w 7875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402" h="3">
                <a:moveTo>
                  <a:pt x="0" y="0"/>
                </a:moveTo>
                <a:lnTo>
                  <a:pt x="12402" y="2"/>
                </a:lnTo>
              </a:path>
            </a:pathLst>
          </a:custGeom>
          <a:noFill/>
          <a:ln w="12600">
            <a:solidFill>
              <a:srgbClr val="4a92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8280" rIns="393480" tIns="457200" bIns="-7596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0" y="92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712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71280" y="427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4"/>
          <p:cNvSpPr/>
          <p:nvPr/>
        </p:nvSpPr>
        <p:spPr>
          <a:xfrm>
            <a:off x="684360" y="981000"/>
            <a:ext cx="8064360" cy="230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a92dc"/>
                </a:solidFill>
                <a:latin typeface="Arial"/>
                <a:ea typeface="Times New Roman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a92dc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4a92dc"/>
                </a:solidFill>
                <a:latin typeface="Arial"/>
                <a:ea typeface="Times New Roman"/>
              </a:rPr>
              <a:t>6 950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ts enregistrés dans </a:t>
            </a:r>
            <a:r>
              <a:rPr b="1" lang="fr-FR" sz="1600" spc="-1" strike="noStrike">
                <a:solidFill>
                  <a:srgbClr val="4a92dc"/>
                </a:solidFill>
                <a:latin typeface="Arial"/>
                <a:ea typeface="Times New Roman"/>
              </a:rPr>
              <a:t>88 pay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a92dc"/>
                </a:solidFill>
                <a:latin typeface="Arial"/>
                <a:ea typeface="Times New Roman"/>
              </a:rPr>
              <a:t>1.3 milliard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Rs émis et </a:t>
            </a:r>
            <a:r>
              <a:rPr b="1" lang="fr-FR" sz="1600" spc="-1" strike="noStrike">
                <a:solidFill>
                  <a:srgbClr val="4a92dc"/>
                </a:solidFill>
                <a:latin typeface="Arial"/>
                <a:ea typeface="Times New Roman"/>
              </a:rPr>
              <a:t>1,7 Md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 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ine (60% des crédits) et Inde (15%) = 2/3 des proje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/3 des CER : gaz industriels, 10 projets ont délivrés 45% des 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PMA et la finance carbone : l’exemple de l’Afrique et ses 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23F0-346E-48E8-8D8C-10158CCE1060}" type="slidenum">
              <a:rPr b="0" lang="fr-FR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b93dc"/>
                </a:solidFill>
                <a:latin typeface="Arial"/>
              </a:rPr>
              <a:t>Politique d’ouverture de la CCNUCC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entre Régional de Collaboration : pourquoi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RC : activités et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RC : avant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RC et CRC Lom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09:05:47Z</dcterms:created>
  <dc:creator>barry</dc:creator>
  <dc:description/>
  <dc:language>en-US</dc:language>
  <cp:lastModifiedBy>NDIAYE Pape Demba</cp:lastModifiedBy>
  <cp:lastPrinted>2013-03-20T20:10:23Z</cp:lastPrinted>
  <dcterms:modified xsi:type="dcterms:W3CDTF">2013-09-28T16:25:04Z</dcterms:modified>
  <cp:revision>141</cp:revision>
  <dc:subject/>
  <dc:title>TITLE HEADER</dc:title>
</cp:coreProperties>
</file>