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71A0-51F0-40BB-8041-71E5777A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2813-CD44-44C6-BEA2-31BF5EA5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1956-76F5-4FFF-9DC5-A883B4399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E76C-2B76-41A1-966B-E5BF043D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4B52-C706-4C9B-8F1B-47AE880A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4C69-4141-43D6-BCA8-8030137E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FD88-7436-4D40-BF1F-B377ABA7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5BA5-35F4-42B9-9FA4-256FB4E0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E119-AA51-4059-923C-2D14DF6F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F1F0-AAAB-49EC-BAC3-812E7059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1709-C2E4-46E0-907E-EE7C6089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657E-CA18-4B6B-8052-A6532B16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solidFill>
            <a:srgbClr val="a99ef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0EFA-5E7D-4FFC-912B-35C087052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925040" cy="4648320"/>
          </a:xfrm>
          <a:prstGeom prst="rect">
            <a:avLst/>
          </a:prstGeom>
          <a:solidFill>
            <a:srgbClr val="a99ef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kuman Hasil Pokja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 2006/2007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kad Memperbaiki Nasib Bangsa Pascaamandemen UUD: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sme Baru dalam Merealisasikan Visi Bang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54100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vensi Kampus ke-4 dan Temu Tahunan FRI ke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ung, 16-17 Juli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1293-4892-4395-AAB5-A89B6CA07D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401840"/>
          </a:xfrm>
          <a:prstGeom prst="rect">
            <a:avLst/>
          </a:prstGeom>
          <a:solidFill>
            <a:srgbClr val="a99ef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lanjutan ekonom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eranan negara dalam pengelolaan aset strategis dan cabang produksi yang menguasai hajat hidup orang banyak harus ditingkatkan. Dalam kaitan itu pemerintah perlu untu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a) mengkaji kembali UU Penanaman Mod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b) mengkaji kembali kontrak-kontrak karya pertambanga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c) menghentikan privatisasi air yang merugikan masyaraka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d) melibatkan masyarakat domestik (koperasi rakyat) dalam sistem produksi dan distribusi listrik dengan berbagai sumber energ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1108-6E98-4276-93AE-9F989D4E00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solidFill>
            <a:srgbClr val="a99ef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lanjutan ekonom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e) mengambilalih kendali secara bertahap terhadap bisnis telekomunikasi yang dikuasai asing dan mengarahkan penguasaan bisnis telekomunikasi agar dimiliki oleh publik domesti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g) memberdayakan media-media lokal untuk mengurangi sentralisasi informasi di Jakar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7961-E0AA-4D77-B051-3A6B77B611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solidFill>
            <a:srgbClr val="a99ef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lanjutan ekonom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gelolaan faktor-faktor produksi dalam pengembangan ekonomi kerakyatan harus mampu membangun sektor riil melalui pengembangan UMKM (Usaha Mikro Kecil dan Menenga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ungsi intermediasi dan redistribusi perbankan nasional perlu dioptimalkan dan lembaga-lembaga pembiayaan alternatif (keuangan mikro) harus diberdayak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BDE0-039D-4B42-BF03-A1D987D327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solidFill>
            <a:srgbClr val="a99ef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lanjutan ekonom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lam pembangunan ekonomi kerakayatan harus memperhatikan status NKRI yaitu yang perekonomiannya digerakkan oleh pertanian. Oleh karena it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nting diimplementasikan hal-hal yang berkaitan dengan revitalisasi pertanian dan ketahanan pan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A34E-B345-43F0-A591-DF102F3FB2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solidFill>
            <a:srgbClr val="a99ef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 Pendidikan yang Mencerdaskan Kehidupan Bang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dudukan Pancasila sebagai ideologi dan dasar negara RI harus diperkoko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ajian ilmiah mengenai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ilosofi bangsa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iintensifkan untuk memberi pegangan dan arah pengembangan dalam hal demokrasi, HAM, penegakan hukum, dan penyelesaian masalah lingkungan hid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sep pendidikan diorientasikan untuk membangu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awasan kebangsaan yang berfalsafah keindonesiaan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D6DF-FC46-426F-894D-C59B1991CD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solidFill>
            <a:srgbClr val="a99ef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lanjutan pendidikan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KRI dicirikan oleh keanekaragaman yang tinggi yang berhubungan dengan sosiokultural atau multikultural. Oleh karena itu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ngat penting dikembangkan pendidikan berbasis multikultu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endidikan Pancasila perlu diapresiasikan sebagai mata kuliah tersendiri dalam kurikulum pendidikan tingg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8A7B-5D46-4B62-896D-2A5904727F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solidFill>
            <a:srgbClr val="a99ef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lanjutan pendidikan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erguruan tinggi negeri dan swasta seyogyanya dapat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menunjukkan kepeloporan dan keteladanan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dalam mewujudkan penyelenggaraan pendidikan berdasar prinsip demokratis, berkeadilan, dan non-diskriminati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Kualitas pendidikan senantiasa dijaga dan ditingkatkan dengan didukung oleh sistem penjaminan mutu dan akredita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erubahan struktur dan  kultur tata pamong kependidikan perlu didorong disertai “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capacity building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” aparaturnya secara sistematis dan pragmati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5B31-31B2-4F30-96FE-93CAA1AED8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solidFill>
            <a:srgbClr val="a99ef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lanjutan pendidikan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endidikan kesetaraan dikembangkan agar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menjangkau daerah terpencil dan masyarakat termarjinalkan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untuk mewujudkan prinsip pendidikan sistem terbuka, multi makna dan pendidikan sepanjang haya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endidikan merupakan tanggung jawab pemerintah dan masyarakat dalam membangun 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social capital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dan 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intelectual capital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bagi kemajuan bang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53CF-15B1-4F75-AC9D-17042586B0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a99ef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lanjutan pendidikan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engelolaan pendidikan secara otonom tidak berarti mengurangi tanggung jawab pemerintah, bahkan pemerintah perlu meningkatkan alokasi APBN untuk mendukung penyelenggaraan dan pengembangan pendidik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sentif perpajakan perlu diberikan kepada perusahaan atau perorangan yang membantu pendanaan pendidikan. C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orporate social responsibility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seyogyanya mencakup pemberian beasiswa sebagai salah satu programny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erlu dikembangkan insentif bagi desa, kecamatan, dan kabupaten/kota yang berprestasi dalam memajukan pendidikan wargany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64A1-41E2-4BDB-850F-E6E1053FE0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solidFill>
            <a:srgbClr val="a99ef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Tata Kelola Pemerintahan yang Bai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enguatan sistem pemerintahan presidens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enyederhanaan partai politik perlu didor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stem rekrutmen yang memisah tegas antara jalur karir profesional dan jalur politi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 lingkungan pemerintah daerah harus dipertimbangkan untuk membangun keseimbangan kompetensi aparatur pemerintah antara bidang keahlian sosial-humaniora dan bidang yang berkaitan dengan pengelolaan sumberdaya alam dan lingkungan hidup, industri, dan teknolog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8886-EE40-40D0-B621-2B9D58B761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solidFill>
            <a:srgbClr val="a99ef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ngan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nvensi Kampus Perta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0-22 Mei 2004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 Universitas Gadjah Mada:</a:t>
            </a:r>
            <a:br>
              <a:rPr sz="2400"/>
            </a:b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onvensi Kampus untuk Masa Depan Indonesia.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nvensi Kampus Kedu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17-19 Mei 2005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 Universitas Surabaya: </a:t>
            </a:r>
            <a:br>
              <a:rPr sz="2400"/>
            </a:b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Peran Perguruan Tinggi dalam Menggugah Kembali Semangat Keadaban Publik.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nvensi Kampus Ketig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1-12 Juli 2006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 Universitas Gadjah Mada: </a:t>
            </a:r>
            <a:br>
              <a:rPr sz="2400"/>
            </a:b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Refleksi Kritis Atas Nasib Bangsa Pascaamandemen UU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nvensi Kampus Keemp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6-17 Juli 2007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 Institut Teknologi Bandung: </a:t>
            </a:r>
            <a:br>
              <a:rPr sz="2400"/>
            </a:b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Dengan Optimisme Baru Merealisasikan Visi Bang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3308-7206-4C97-B540-983B3BFDA0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solidFill>
            <a:srgbClr val="a99ef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lanjutan pemerintahan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sentralisasi perlu didukung oleh peraturan operasional yang cukup (kewenangan pusat daerah, alokasi keuangan, pengelolaan aparatur negar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emekaran daerah otonom perlu diperketat kriteriany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kses yg lebih luas bagi partisipasi dan kontrol masyarak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C7DE-6405-407D-AC9B-BD34D5D837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solidFill>
            <a:srgbClr val="a99ef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Konstitusi untuk mencapai Tujuan Berbangsa dan Bernegar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enyempurnaan UUD yang kelima merupaka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uatu keniscayaa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 Pasal-pasal dalam UUD harus secara konsisten diturunkan dari semangat Pembukaan UUD 1945. Pasal-pasal yang disusun harus mampu memberikan landasan dalam jangka waktu yang panj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enyempurnaan harus dilakukan secara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mprehensif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ngan pendekatan yang holistik, mencakup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1) pemisahan kekuasaan, (2) sistem pemerintahan, (3) sistem parlemen, (4) kelembagaan peradilan, (5) hubungan pemerintah pusat dan daerah, (6) sistem ekonomi kerakyat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FBFD-300E-46B6-9D66-9A125BC43C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solidFill>
            <a:srgbClr val="a99ef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lanjutan konstitus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enyempurnaan harus mendasarkan pada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enghayatan terhadap makna kedaulatan raky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enyempurnaan menyangkut substansi, redaksional, dan sistematika antar Bab, antar pasal, dan antar ayat untuk menghasilkan konstitusi yang dapat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enjamin terwujudnya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insip kedaulatan rakyat dan keadilan sosial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4B7F-A314-4A34-B59A-A83424073B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solidFill>
            <a:srgbClr val="a99ef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lanjutan konstitus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am butir usulan substansi UU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1) UUD perlu memberi wewenang yang sama antara DPR dan DPD di bidang legislasi, menciptakan mekanism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checks and balance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tara legislatif dan eksekutif, memberi hak Presiden untuk menolak RU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2) UUD perlu mengatur mekanism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mpeachmen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cara jelas dengan memberikan proses penyelesaian pada lembaga politik. Untuk menghasilkan pemerintahan yang stabil dan efektif Presiden dan Wakil Presiden sebagai pasangan perlu diusulkan oleh partai yang sam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64DE-E7FB-4C66-89A4-AD78E9390D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solidFill>
            <a:srgbClr val="a99ef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lanjutan konstitus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3) Parlemen berupa sistem MPR dengan pilar utama DPR dan DPD (forum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joint sessio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4) Kelembagaan peradilan dengan dua puncak lembaga peradilan, yakni Mahkamah Agung dan Mahkamah Konstitusi, yang para hakimnya diawasi oleh Komisi Yudisia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5) Pasal 18 perlu diperjelas rumusan pasalnya agar tidak menimbulkan kerancuan pembagian kewenangan antara pemerintah Pusat dan Daerah, dan memperjelas pemilihan kepala daerah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6) UUD perlu mengadopsi penjelasan Pasal 33 UUD 1945 dalam muatan pasal perubahan secara jelas dan benar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3E53-D319-404D-9113-78814FD3CE1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solidFill>
            <a:srgbClr val="a99ef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lanjutan konstitus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ses perubahan UUD yang komprehensif dan menjunjung tinggi asas kerakyat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1) MPR membentuk Komisi Konstitusi Negara dengan tugas khusus menyerap aspirasi rakyat dan pandangan para ahli untuk menghasilkan konstitusi baru yang lebih sempurn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2) Hasil kerja Komisi Konstitusi Negara selanjutnya diserahkan kepada MPR untuk dibahas dan ditetapkan menjadi Undang-Undang Dasar Negara Kesatuan Republik Indone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5AC5-A79C-46E9-92B7-B23CC248E29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solidFill>
            <a:srgbClr val="a99ef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lanjutan konstitus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dayakan pusat-pusat kajian tentang pelaksasanaan konstitusi dan praktik politik ketatanegaraan untuk mengawal penyempurnaan UUD dan mendorong terwujudny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ving constit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 dengan dukungan pusat-pusat kajian menelaah perkembangan masalah kebangsaan kontemporer terutama perkembangan yang berimplikasi pada NKRI dan mendukung pusat-pusat kajian tersebut untuk bersama FRI menjadi mitra strategis lembaga-lembaga negara seperti DPR, DPD, Mahkamah Konstitusi, Komisi Yudisial d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ERIMAKASIH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7847-0CFD-471F-976B-33FDC1EFA8E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solidFill>
            <a:srgbClr val="a99ef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han Pertimbangan Perumus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temuan FRI di Unhas 7-8 Juni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il Kelompok-kelompok Kerja FRI 2006/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temuan Dewan Pertimbangan FRI tanggal 15 Juli 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dato, presentasi dan diskusi pada Konvensi Kampus ke-4 hari pertama Sesi 1 dan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DA29-DB3B-489D-8DDE-4A07C2F855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solidFill>
            <a:srgbClr val="a99ef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stematika Pemikir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143000"/>
          <a:ext cx="8229600" cy="5318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01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juan Berbangsa Bernegara dan Filosofi Das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embukaan UUD 194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1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mbanguna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erkelanjut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OKJA B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7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konomi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ng Berkeadilan Sos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OKJA 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d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dika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uk Mencerdaskan Bang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OKJA D, 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7c2"/>
                    </a:solidFill>
                  </a:tcPr>
                </a:tc>
              </a:tr>
              <a:tr h="1135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ta Kelola Pemerintahan yang Ba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OKJA B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e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7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stitu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uk Mencapai Tujuan Berbangsa dan Bernega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OKJA A, F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0f1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E9CD-09B2-466C-9186-8D7FA30FE4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solidFill>
            <a:srgbClr val="a99ef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Pembangunan yang Berkelanjut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embangunan berkelanjutan merupaka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eharusa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yang penerapannya menuntut pengelolaan sumber daya alam secara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intas sektor dan lintas level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embangunan berkelanjutan mengandung banyak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aradoks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yang pelaksanaannya perlu didukung denga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eraturan perundanga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embangunan berkelanjutan memerluka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aradigma berpiki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pengelolaan lingkungan hidup yan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erintegrasi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yang mempertimbangkan wilayah Indonesia yang terdiri dari wilayah darat, pesisir, dan la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D76A-52C8-4354-8AA6-ABCEDF2691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solidFill>
            <a:srgbClr val="a99ef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lanjutan pembangunan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guruan tinggi melakukan kegiatan secara kongkrit dalam konteks pembangunan daerah yait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erikan contoh nyata untuk mengelola sumberdaya dan lingkungan hidup secara baik dan ben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ngan membangun desa bin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gembangan industri dan teknologi harus memperhatikan dengan serius dampaknya terhadap aspek sosial masyarakat dan tidak merusak lingkungan hidup atau dengan kata la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mbuatan kebijakan industri dan teknologi ditempatkan dalam perspektif pembangunan berkelanjut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DBEF-FE17-4A20-926A-9A28F064A3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solidFill>
            <a:srgbClr val="a99ef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lanjutan pembangunan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digma eksploitatif yang merusak lingkung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us dihentik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merintah baik pada level nasional atau daerah haru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lakukan pemantauan terhadap kerusakan lingkungan hidup secara seri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n diperhatikan sungguh-sungguh untuk tidak melakukan rangkap jabatan sebagai regulator dan operator dalam pengelolaan sumberdaya dan lingkungan hid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6E58-6E32-48E9-B13F-3B22AC2B54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solidFill>
            <a:srgbClr val="a99ef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Ekonomi yang Berkeadilan Sos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ingkungan berusaha yang kondusif perlu diciptakan terutama untuk menjamin terselenggaranya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kanisme alokasi secara berkepastian dan berkeadila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edisiplinan dalam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ngelolaan keuangan negara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perlu ditegakkan untuk memerangi KKN dalam segala dimensi dan bentukny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ADAD-210C-43FC-9778-70991D342F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solidFill>
            <a:srgbClr val="a99ef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lanjutan ekonom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ak-hak dasa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para pekerja harus dijamin dan partisipasi dalam penyelenggaraan perusahaan perlu ditingkatkan dengan kepemilikan saham oleh peker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enguasaan laha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perlu dibatasi, redistribusi pemilikan lahan pertanian kepada para petani penggarap perlu dilakukan, HPH untuk rakyat perlu dialokasik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UU koperas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perlu diperbarui dan koperasi-koperasi sejati dalam berbagai bidang usaha dan kegiatan perlu dibentu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F80D-333A-4F88-ACE9-9EE0304B38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5T10:41:36Z</dcterms:created>
  <dc:creator>P2T UGM</dc:creator>
  <dc:description/>
  <dc:language>en-US</dc:language>
  <cp:lastModifiedBy>AppzStock</cp:lastModifiedBy>
  <dcterms:modified xsi:type="dcterms:W3CDTF">2007-07-18T03:06:20Z</dcterms:modified>
  <cp:revision>63</cp:revision>
  <dc:subject/>
  <dc:title>Slide 1</dc:title>
</cp:coreProperties>
</file>