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dt" idx="2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551D-335F-4006-9348-4B33A7426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ftr" idx="3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 type="sldNum" idx="3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4FDB-CB44-4ECD-8423-F7162F14C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750A-A7D7-45BD-AB18-4C91BCA723D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A190-2167-4102-ABCF-56515F71A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76F2-4694-4648-992B-87F4F19FF0E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A3DD-7A39-40E0-99CA-75DB11D30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F327-1AD8-4379-A651-97ACAB4DF28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6105-EEB1-4FBB-B3DE-E2B90474F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D667-F271-4EF6-B596-DA5CE1FDCB6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9E17-16C3-419F-9ED1-B2312E5AA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BE91-DA08-490A-88EE-B9BBD257B3E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6D63-C8E8-4D72-9392-42840CAE6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FC7A-28CD-4089-BAA4-C58A4CAD943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7864-3669-49D3-9AF3-21152D9B6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87F1-BAE2-4D3C-872F-8F4519CF70C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12F1-CD47-4804-B78C-952D70DEE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EE15-9F70-4E65-B0C5-ECE5849F44B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B233-EF51-4E11-BF95-6298FC908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7939-C084-4894-ADB7-B73CF5B9343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A9B7-0063-4DBB-8FFA-B05799F5D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F2A4-9377-4C25-8AF6-35FD29AEB32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5650-D49E-4741-9292-36C04D636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EBC0-3B71-46F4-B275-C20EE7325BB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6A3E-04AA-4CE2-8B75-65BCB85B6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AB8B-E25B-46A8-87C8-F2FB1D6B4CD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45F8-3DCF-48ED-9164-FD0476A8E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99E7-CA94-4F15-A324-2DE3A8502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3A85-7689-4CCF-90A4-571AEAA34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F86B-B7C9-4576-85C1-4857D92F272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9BF6D2-5959-4F40-BD7C-ADE0F4568CD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898B22-F8EA-4288-979E-A992E1A0B6D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CD2459-25CD-487D-A987-503ECFB97B3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CEA815-C575-47CC-A207-7E5268F621D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B2F1D-B504-473E-9D55-CE10B91BAA2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818B3-DD99-4E69-A70F-E5453F3CDC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0B293-B9BB-4184-B82B-DE6B542C08A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E61AD-1F2D-476F-9E88-016409089D3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C20485-EE61-423B-9188-B1A24AD9BA5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357FF-592B-4225-8DAB-726838D07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A80F-751D-4F27-B533-C19BC998D09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8CA19-9F1B-4891-95B9-C62336A4FC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FABE9-9FF6-448B-92A3-8DA3FC705C1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8F5B9-D952-4446-A6D6-7714A73E61C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DD4FC-628A-4F7A-9D0E-05B39EF855C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62E9C-114A-4FF5-80AF-D009C003705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C06B8-49B2-4E6E-8CA6-F8726284EB5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AAEDB-4513-4BBB-A58B-F426D78A577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49A7F-3B50-4084-A45D-32DC839E00D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6101A-89A6-49AA-8054-C06682F51AC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8F79A-1361-42AC-9AE7-CEF4CD88E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5033-9F0D-4609-B122-710D3F4B9A5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28BC5-1E20-4C53-99C8-FD0AB72B6A2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8DDF65-D446-4E0F-9A72-9A44087C216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9D8233-A631-41A4-8711-A862F5BC474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642C41-D73E-43F8-B208-61891C1E1CF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C1686E-6090-4D61-863B-1131BDB043B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6ABC2A-F69A-468C-A1F6-F55E99B23F0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D8D363-F6E1-474C-841F-5D3F14FAB5B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A85B24-92B7-4496-A1D5-9588FDE3850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9276A3-3F99-4D14-B0E6-788F09A8D6A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3AC645-0CA5-4490-B79F-A0CC70BDB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DB800-9219-4FBF-8A50-245D2139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26A78A-2FE6-473D-9572-6887442B799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3C5279-D5B8-4753-AE05-1E7079BFE2E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7C5099-5A44-4B9F-893A-2C7C0B62C49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3854D-BC1E-455B-BB35-3D173CC768A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57817-7495-4081-8B90-0374BD2FC87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08727-9CBC-48E7-A01D-D3FDFFBA90C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B316B-FF70-482B-9FA6-75A8D8730E8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BFD67-C72F-492B-BA3C-F04BC6B372F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A1982-BBF2-46D2-BE09-2F8E34AB37A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1B9B8-AA4F-48E3-B954-73E250D99A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3B915-F782-454B-B784-A7A28BD2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60D21-5EE5-4BEE-B800-B6FBABE96EC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B918A-C756-48D1-8859-A8D39F56F1D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1EF2C-2EF0-48F8-BBD1-BF87DB44C5E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41DC1-CEFA-40D3-A47C-F1DB59A89B4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F6AE44-EA5E-4806-8B32-0CA8DB8674D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E931A-FA13-4993-82D0-7E22B72E747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8AF70-186A-4CD2-A064-5297007ECD5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73776-0BE6-4913-9309-7D545119453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6D23A-80D9-4BC6-A8B2-4D9985F22F9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ED0D1-466B-4AA0-8A5C-510A3DE283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C49BB-BDBA-4362-8AE8-B5DAA285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F1849-0000-4DB6-BF31-DC12439E5B6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4D941-E199-40BC-B323-045B90226E2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331C4-48B6-4D4F-962D-9816CD59E78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FE045-AB2F-4ED5-AD6A-4BD30D4EB45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12692-71D9-46CA-A09B-03C4D8AA606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AB051-B0D0-47D6-9C7F-A320FDA00A0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0858A-F7DE-4564-BA77-27AB1F8D371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96CD13-71B9-43AA-9ABE-A0BD64838BB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5C70EF-9F6B-4F56-BF76-5FB2ADEAB81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87893D-7D6B-4A7C-A684-BDE8B50320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297D1-81AD-4915-9C04-A499FF85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51566B-A3E4-4076-9910-753434E8E02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8FD50B-527F-4579-8522-3744C43B1DD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1FA7DB-03A4-4AF2-98FB-8D6E0EA28AB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37A5AE-9FD5-40F2-801F-54B20CFB496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F96427-8611-49F1-9EBF-8A3F870ACAC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24E0DD-7FD3-4785-B53B-38B71EDC336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1861C6-82A7-4722-A260-8369EC990A1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A238FF-B3F7-4854-A94A-F93F83AABB7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4EC535-173E-435A-806B-F47F0DC964A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712F9-82A0-47DF-9C49-DB7C894B1D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60D09-958D-40D5-AD04-8E9277AC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38E32-2626-4404-8D3C-C3CC3616731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BD3DE0-C74B-4ED9-979A-96591F56536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72994-7D56-4E9E-B7F0-F155DD51C69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1FA26D-109C-43EE-BABA-3220941B611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76D505-0A03-42F9-B59A-A41C0584753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625DCE-2A26-461B-BE5D-923049DFE0D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09F47-25DA-4485-B5AA-3B93DF9A10E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3A18E1-1DCE-44C9-B014-BB8FD4986CB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F738F-501D-4CB2-A7EA-99E34BF15AA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29ED0-A7F4-43DB-A35E-7322DB2508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FBADF-0467-47DD-BDE4-2F9AE4E1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52C15-B4E7-481D-85EF-6AC09F34120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CBF59-F0ED-4238-A549-8501BECFAC9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E909D-DAA8-4948-A95D-494FDFD6586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31481-9AD1-4C45-B337-7DC94AAF64F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FF7BF-0FC0-4D90-B976-EC9105AFA34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E9644-A658-4659-85ED-28373630B0A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0E7E1-106F-4F05-9ED7-D6E0EC96B08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3B87C-B961-466D-823B-B31F1B83F3C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8EF43-3C3C-4F85-8C44-F3923BB6C90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33E95-0170-45F4-886A-619E0DC072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3389B-0F99-4361-9CF1-157126BF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C7A6A-51C9-4F0C-9A89-4F2FC73E5EB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B5BE6-2B41-494C-A2A0-8536FD15C06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02BA2-43AA-4984-A1A3-3C4BE9B7D1F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0F8A08-8815-4D83-8A76-EE384BEDA41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1C36D3-A09D-413A-BF3F-7042B32DD10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0D8F25-0C53-4BB4-B10F-9E464D5F96B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530086-CDC0-40B8-A61F-CA63633A6DA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7F6F6B-F2C3-4FEE-8520-F7F9DCF51C0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47C4E6-492F-4AF1-8F99-F7A3F9C9220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C6503E-7185-45D4-8078-7D053DEDB4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C1C7-2A8D-4E79-AA27-9D9EB76AC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BC390-9D48-4EA1-A715-50D8942E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5F89A0-63C6-4A59-B013-29F1542603D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BC5FAF-E872-42D3-B303-7C449EDE937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81C599-693E-4BF4-859C-B1BA3D2044A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0C2D7D-6E2E-4DB0-BADE-50B6E32D991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365428-7596-446E-9F3D-4051061B122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3E48C-D549-43E5-B72F-8F062104014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9CE02D-D98E-45BA-8441-5BCDB269A44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6433DD-2C7C-469F-9E7B-01E15030D8B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F71572-6845-4775-92F8-240CB6EBAD3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E40EBC-CC25-4BFA-A879-5D22B1C6DF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8F4E2-256E-4256-AC7E-E18130F2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EE799F-260A-4AE4-A00C-6A55F9FC7A8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921E2-85D1-47E3-93D8-27DFB8C4C1E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143DED-D5A0-40E9-86C1-E2524A5E03A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48EA59-01B2-4FC6-B849-003A0A5AE37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A14670-DED1-4294-8EBF-452FF2C4CE1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22C030-AFF1-4ACE-A94A-3C06B2CF972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B9DD3-5B71-4FDC-B659-A7736A6BC9B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824AA-F136-46FE-81EC-33BBE08E013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1A3F2-C93D-4C56-ACC9-AFA9C91D239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DB095-0889-45D7-92E7-C0F047A712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7C3D5-EFAC-4008-B296-866D6938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4223C-8B38-4FFA-AB81-BBAB9931B10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9BA0F-E827-49FF-A292-F1E5A38C740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7345A-84CB-41B9-91AF-056E183E59E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F9DA3-4E79-488F-A0C4-3CFCADF230D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9CB47-81C2-4542-8E5D-3D5380BE172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E6F58-AAAB-4DF5-8D26-D7E5AF43358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833A3-1BE2-46C5-8402-082940F6DAE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7BF8E-6D32-433D-A7BA-96DDA0F2888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14F81-0DF3-41F1-8768-EC20CAB9EF1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9EA51A-6DAD-492F-A67B-75950FEC42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65322-1B7E-489A-BFA8-C806FD85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4EA43A-363F-4DB2-A36C-EE0499BFF93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21A72D-457D-47A6-A80E-94A4ACEEC46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52FD41-E9A5-471A-B604-0BEC70E10B7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56CB5E-39D1-463A-860E-7659FECECD7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80B887-45E5-4D18-9BDF-FD018401412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594BB2-D766-4434-8B41-CCD71EED1A1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7BCC36-245B-4728-B530-0793C8DF02C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93F8F5-C2E0-4AC1-9995-D4C53D765F6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A43166-AB03-4331-AC6F-9CAA2CAC969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683953-4FCC-41C0-9825-51515E8B60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5D835-878E-4117-8A14-F052C614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2D88F9-0AFD-4894-9F2C-34285CB965D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B75D01-D8FC-4679-AF5A-6733C3FA70E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43AC52-057C-4540-8438-900D7FDD67C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F396F2-C32B-4C37-A5BE-BD64BF60C30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103599-2157-4A3A-8025-866B999824C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B8D6EA-CE57-4D00-89A6-92A457DAA17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AB4833-2E2D-4CAE-9FC9-0EE84E89F90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30F7A5-EDFF-473F-9062-06BC04AD91C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509898-68D1-40E5-9221-A7A32FAC94D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7881F5-55FF-41A6-B669-093287A009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8822D-8F5D-46EC-ADF0-D6CF7707CE6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53924D-BBBE-416B-8B95-949F4FEB534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5F3C5A-30E1-418D-925D-359CDF3070D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DDAAE5-F80F-42B9-A38C-50B53A7BA95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FC274-8B79-4609-81F6-CD2D2EF7B09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CC4DB-52C6-4FAD-8688-5D4DBD302C7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1D775-6CFD-426F-AF74-32244C4AEA4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85002-CDCE-4C36-9D04-B48FEEBA0E3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B1E21-B179-4BFF-B880-39B3304DE20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5B0C0-3541-4BBE-970A-F53A2FAFFEF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30218-433E-4364-8EFC-7B03D21CC7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2554F-41E1-4DE8-818B-7D56F7F3AA2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70BC9-8999-4DC4-8102-E1CE05EDBC7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07123-2C39-4793-8CB8-ABA808FCC02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0CA99-56AA-48CB-87D6-0E988BEDEA1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76E26-A4C1-4AF0-B75C-22D56A2E01A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3B30F-86AF-44BC-8B40-F5105F9DDDB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BA901-1F0F-423A-9185-64D2F5305AA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DE169-D5F8-468D-BF8B-7D209DB9415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3F5E1-8989-47CA-B89C-5249D4C6B1B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8C194-7BC4-46E4-921E-49CC95CFF39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4DEC19-F03B-4E9D-AEF6-891DB76B70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B3DCE-225F-4412-8C11-F6CE60872E4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A5311E-F35B-499C-B56D-BA6030D8694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9D27B-7D7A-4A93-B3F2-8C2B4D2E800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93598-6BE7-42B3-9ED4-620E82BC639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DEDA5-CE36-48A3-A31F-855F6032109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23C93-C8D7-410A-881F-29CD6281A48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998EB-BA9F-49CF-A893-AE289AD32FD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ABFF7-F317-44B9-A96D-55AE0DE4233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67A223-18CF-40B5-97D5-BE4F5640097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88E6C7-6651-432F-9B6E-A2B1B40ED26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FF6786-65FB-497F-83DC-8C80854972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3F817-E6D3-4110-9EA1-29230C98F1E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7F8822-F3C3-4356-B502-C778E31E35E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221991-508D-4D61-93E3-75ED526A43F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524354-4692-4E8F-897A-6F0FDB8A54F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B6E155-07F6-4001-8368-89F04407598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F98540-8E1F-4A97-AA43-AD39EA16390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9BF3DD-2597-4592-9FC7-272A4BD7D5F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FBBA81-1102-4645-97FA-36F97881FF6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AF6161-EFD3-4918-B742-316F5AEE5B3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4B356D-C974-49B4-A6C6-8FA7EE3267F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60D37-3A0F-40AE-93B3-205A05F105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07E80-CA9C-46D9-9B50-3F53294E49E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80367-A5E7-4261-AC3B-AD291C79A3F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75BA9-0D5F-4C6C-A287-0BAD7CD70FB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9F453-9F79-480F-B8C3-F96392E480A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5FFC3-409B-4978-93B5-8C3FD5DFF4C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40A1C-8E66-456A-AB9B-82DD8A77E14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227E6-9AAD-4774-BEAB-3D37E6E692B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4749A-8285-4A94-9A00-CB4832EF358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61E34-2566-4A4D-A733-5B51290F2A5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C628A-E0BD-46F3-8B10-593DFA23BE2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C8F43-6708-4147-A869-AACB394177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2D67-BA29-4140-A08C-B86C35CACB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ADD3C-158A-4A28-9F80-D46544FFE5C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5B25E-5B40-4146-BBD6-87397CF017C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253D5-A8F0-4AE6-8507-A8ADB889050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998B5-960F-4E67-9082-356CFC2A9C8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36D24-4A32-46DE-A26F-3F3B541897B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6C703-3D60-4CD2-97AB-500BDAC551C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81D0C-F0D3-45BE-B019-7C062AA1B2A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7A85C-5A64-4F61-B9B3-19EFE1C2B8F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9AFE7-7310-4431-AFDC-998A9CBDC58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1998E-B168-430A-8FD0-F807C1A134D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C2858-E332-4F42-96C1-FF8D1EE15B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D29CF-F5B3-42F9-B3B3-F3B106C6E68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1F64F3-026C-4308-A14B-9BC4E29BAFD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60DB1-2856-447E-84CD-1F7D977C9EA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538CE-9C75-476D-9994-4A7DF5E4E4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9521E-DDE8-477B-B681-110E5C8182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8C28E-EC8B-47DF-A058-7DAFAE1376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1B89F-8C93-4280-9A42-BF0F06BB4A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97C37-C984-4FF8-AB41-ABDDECA5DE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393BD-7F01-4551-B912-97C43F5D7B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3BF4-70AC-4072-9E89-6B59BECEEF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5300-D86F-45D9-94C7-C60C7515B2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033E-26E1-421F-934A-9267E7A6B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5020-19B5-4309-BE2B-922B8F1B92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E584-5564-4A21-90BB-39C9BCF291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974A-AE3B-46B8-B5AD-B05E7C2A2B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58B7-ABDD-4E81-8A6E-BF04B578B8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32AE-B270-4734-A914-4B35E33AF6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1E6E-7B12-4E81-AB8A-E611107AE5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3005-2379-425B-B927-A8EACEF7A0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CC9E-DED9-4CDC-89F6-88B177BB07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940D-7B56-47AE-AB48-F61D53FE99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A1B8-C33B-44FC-ADB2-F2642D904DC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C51D37-5192-4709-AED3-57BB3CBDE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50E0-EAAD-47BD-B9B7-D0F3FF4F59C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C45A83-5E50-4B44-B993-67CE3A96170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DB897D-3DE4-4FFC-9021-EC7D931EF87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D9745-2439-4511-BAEE-8E6FD35E60A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473134-894C-4423-B840-24B19939070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DDD67-CCEC-49A4-8454-5A8137D6127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82B6AB-98E0-4B20-A2DA-1FCF640A62B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96E01-4133-4703-A50F-3AECDBE6BF0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875E17-C3C8-468D-B83D-6609F035998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E2467A-A9BC-4D89-A12A-EBC7EDC348F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7CFA7B-C4EC-46A1-8FBC-6F6A802E5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0D51-66E8-4D11-855D-C9F56D48F33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4E36E8-4645-400E-A2E7-BA0BC55CDEF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0DC1B-8A78-4967-B95F-2481C481376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10B12-FAA4-48D5-8AD8-36AF71276C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5C343-4700-4429-A76F-CF12436768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7BE48-044C-40F2-8874-6DAA3BBB662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C7B3B-F907-4782-9CAC-A59323FC786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2727B-86B0-456A-A024-A53B1490A35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AE3A7-1A13-4E92-A99F-FE65B404A3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02439-3568-41A1-AD79-CF0F312561A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C81AF-1614-4301-AB7F-B03CBFEF3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7DB7-F675-4F7E-963D-5CE944D9CB1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D829E-6B89-463F-B539-4488EC652E8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D5670-5BB3-4F9E-A63B-F9F5F8609D3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98F19-7B77-419E-840E-07DDF9B14C7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3E7F0-BDFF-47B4-BE7A-9000FB4C972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53DE6-3196-4F2E-9670-EDA8D0AA1D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E6877-3852-4415-8C79-3E0FED943AC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A7383-30E7-4E76-9A85-80FA6B2205D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281DE-379B-46DA-A71D-85854BC94D7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842A7-A6AA-4E75-83FC-5B07E825597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5FD21-1191-43F3-B52C-12B7E8911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4A47-4816-4646-AF25-C52206AF913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D76B0-9684-4332-AA7A-230EA759CC1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8C11D-A1FF-42B2-94F5-3A585BD9106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816F-DE0B-4C49-8AAC-9B22D73DA65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6BACF-F55C-4F0B-B3BB-5F3A4EBA165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CDC5-354D-4016-8EBF-FCFA8E35669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3D6712-9214-41F8-B12D-0B7238806B4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5115F1-7ECF-457A-9E64-B4EF8271750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13E0CD-6C68-43DF-B91B-901DA8DC9D5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383B20-6185-405F-A8F3-62D0C4753B2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5B030-CCD6-4F02-8F39-EFB44532D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0DDA-D2B2-4545-8A73-771C8BD7C19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74480" y="460080"/>
            <a:ext cx="820404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D15FF2-98D5-4C1B-908B-CC92142C34A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B5C457-C095-4DE7-AD55-35378A27327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A78D1-79BF-43A4-AC15-68A98C25BB6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3FE5E-88C6-458B-97A3-696B363B671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1760" y="3543840"/>
            <a:ext cx="818676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EA5920-1234-41D2-A46F-3F2BA56A953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6840" y="167652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176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6840" y="3543840"/>
            <a:ext cx="3994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3C3400-5D22-4523-871C-FC49CDFDDB3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5980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7840" y="167652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9176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5980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7840" y="3543840"/>
            <a:ext cx="2635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6F5C8B-AF56-4AC7-AD6D-703B9F1AE3B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AA305-4495-4518-8CB8-4250FF977DD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2E165B-1A9B-4160-ABC7-EFE5E3D84D3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F9D48-B5D9-4CC1-82C1-377192241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09.xml"/><Relationship Id="rId13" Type="http://schemas.openxmlformats.org/officeDocument/2006/relationships/slideLayout" Target="../slideLayouts/slideLayout110.xml"/><Relationship Id="rId14" Type="http://schemas.openxmlformats.org/officeDocument/2006/relationships/slideLayout" Target="../slideLayouts/slideLayout111.xml"/><Relationship Id="rId15" Type="http://schemas.openxmlformats.org/officeDocument/2006/relationships/slideLayout" Target="../slideLayouts/slideLayout112.xml"/><Relationship Id="rId16" Type="http://schemas.openxmlformats.org/officeDocument/2006/relationships/slideLayout" Target="../slideLayouts/slideLayout113.xml"/><Relationship Id="rId17" Type="http://schemas.openxmlformats.org/officeDocument/2006/relationships/slideLayout" Target="../slideLayouts/slideLayout114.xml"/><Relationship Id="rId18" Type="http://schemas.openxmlformats.org/officeDocument/2006/relationships/slideLayout" Target="../slideLayouts/slideLayout115.xml"/><Relationship Id="rId19" Type="http://schemas.openxmlformats.org/officeDocument/2006/relationships/slideLayout" Target="../slideLayouts/slideLayout116.xml"/><Relationship Id="rId20" Type="http://schemas.openxmlformats.org/officeDocument/2006/relationships/slideLayout" Target="../slideLayouts/slideLayout117.xml"/><Relationship Id="rId21" Type="http://schemas.openxmlformats.org/officeDocument/2006/relationships/slideLayout" Target="../slideLayouts/slideLayout118.xml"/><Relationship Id="rId22" Type="http://schemas.openxmlformats.org/officeDocument/2006/relationships/slideLayout" Target="../slideLayouts/slideLayout119.xml"/><Relationship Id="rId2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21.xml"/><Relationship Id="rId13" Type="http://schemas.openxmlformats.org/officeDocument/2006/relationships/slideLayout" Target="../slideLayouts/slideLayout122.xml"/><Relationship Id="rId14" Type="http://schemas.openxmlformats.org/officeDocument/2006/relationships/slideLayout" Target="../slideLayouts/slideLayout123.xml"/><Relationship Id="rId15" Type="http://schemas.openxmlformats.org/officeDocument/2006/relationships/slideLayout" Target="../slideLayouts/slideLayout124.xml"/><Relationship Id="rId16" Type="http://schemas.openxmlformats.org/officeDocument/2006/relationships/slideLayout" Target="../slideLayouts/slideLayout125.xml"/><Relationship Id="rId17" Type="http://schemas.openxmlformats.org/officeDocument/2006/relationships/slideLayout" Target="../slideLayouts/slideLayout126.xml"/><Relationship Id="rId18" Type="http://schemas.openxmlformats.org/officeDocument/2006/relationships/slideLayout" Target="../slideLayouts/slideLayout127.xml"/><Relationship Id="rId19" Type="http://schemas.openxmlformats.org/officeDocument/2006/relationships/slideLayout" Target="../slideLayouts/slideLayout128.xml"/><Relationship Id="rId20" Type="http://schemas.openxmlformats.org/officeDocument/2006/relationships/slideLayout" Target="../slideLayouts/slideLayout129.xml"/><Relationship Id="rId21" Type="http://schemas.openxmlformats.org/officeDocument/2006/relationships/slideLayout" Target="../slideLayouts/slideLayout130.xml"/><Relationship Id="rId22" Type="http://schemas.openxmlformats.org/officeDocument/2006/relationships/slideLayout" Target="../slideLayouts/slideLayout131.xml"/><Relationship Id="rId2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33.xml"/><Relationship Id="rId13" Type="http://schemas.openxmlformats.org/officeDocument/2006/relationships/slideLayout" Target="../slideLayouts/slideLayout134.xml"/><Relationship Id="rId14" Type="http://schemas.openxmlformats.org/officeDocument/2006/relationships/slideLayout" Target="../slideLayouts/slideLayout135.xml"/><Relationship Id="rId15" Type="http://schemas.openxmlformats.org/officeDocument/2006/relationships/slideLayout" Target="../slideLayouts/slideLayout136.xml"/><Relationship Id="rId16" Type="http://schemas.openxmlformats.org/officeDocument/2006/relationships/slideLayout" Target="../slideLayouts/slideLayout137.xml"/><Relationship Id="rId17" Type="http://schemas.openxmlformats.org/officeDocument/2006/relationships/slideLayout" Target="../slideLayouts/slideLayout138.xml"/><Relationship Id="rId18" Type="http://schemas.openxmlformats.org/officeDocument/2006/relationships/slideLayout" Target="../slideLayouts/slideLayout139.xml"/><Relationship Id="rId19" Type="http://schemas.openxmlformats.org/officeDocument/2006/relationships/slideLayout" Target="../slideLayouts/slideLayout140.xml"/><Relationship Id="rId20" Type="http://schemas.openxmlformats.org/officeDocument/2006/relationships/slideLayout" Target="../slideLayouts/slideLayout141.xml"/><Relationship Id="rId21" Type="http://schemas.openxmlformats.org/officeDocument/2006/relationships/slideLayout" Target="../slideLayouts/slideLayout142.xml"/><Relationship Id="rId22" Type="http://schemas.openxmlformats.org/officeDocument/2006/relationships/slideLayout" Target="../slideLayouts/slideLayout143.xml"/><Relationship Id="rId2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69.xml"/><Relationship Id="rId12" Type="http://schemas.openxmlformats.org/officeDocument/2006/relationships/slideLayout" Target="../slideLayouts/slideLayout170.xml"/><Relationship Id="rId13" Type="http://schemas.openxmlformats.org/officeDocument/2006/relationships/slideLayout" Target="../slideLayouts/slideLayout171.xml"/><Relationship Id="rId14" Type="http://schemas.openxmlformats.org/officeDocument/2006/relationships/slideLayout" Target="../slideLayouts/slideLayout172.xml"/><Relationship Id="rId15" Type="http://schemas.openxmlformats.org/officeDocument/2006/relationships/slideLayout" Target="../slideLayouts/slideLayout173.xml"/><Relationship Id="rId16" Type="http://schemas.openxmlformats.org/officeDocument/2006/relationships/slideLayout" Target="../slideLayouts/slideLayout174.xml"/><Relationship Id="rId17" Type="http://schemas.openxmlformats.org/officeDocument/2006/relationships/slideLayout" Target="../slideLayouts/slideLayout175.xml"/><Relationship Id="rId18" Type="http://schemas.openxmlformats.org/officeDocument/2006/relationships/slideLayout" Target="../slideLayouts/slideLayout176.xml"/><Relationship Id="rId19" Type="http://schemas.openxmlformats.org/officeDocument/2006/relationships/slideLayout" Target="../slideLayouts/slideLayout177.xml"/><Relationship Id="rId20" Type="http://schemas.openxmlformats.org/officeDocument/2006/relationships/slideLayout" Target="../slideLayouts/slideLayout178.xml"/><Relationship Id="rId21" Type="http://schemas.openxmlformats.org/officeDocument/2006/relationships/slideLayout" Target="../slideLayouts/slideLayout179.xml"/><Relationship Id="rId22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81.xml"/><Relationship Id="rId12" Type="http://schemas.openxmlformats.org/officeDocument/2006/relationships/slideLayout" Target="../slideLayouts/slideLayout182.xml"/><Relationship Id="rId13" Type="http://schemas.openxmlformats.org/officeDocument/2006/relationships/slideLayout" Target="../slideLayouts/slideLayout183.xml"/><Relationship Id="rId14" Type="http://schemas.openxmlformats.org/officeDocument/2006/relationships/slideLayout" Target="../slideLayouts/slideLayout184.xml"/><Relationship Id="rId15" Type="http://schemas.openxmlformats.org/officeDocument/2006/relationships/slideLayout" Target="../slideLayouts/slideLayout185.xml"/><Relationship Id="rId16" Type="http://schemas.openxmlformats.org/officeDocument/2006/relationships/slideLayout" Target="../slideLayouts/slideLayout186.xml"/><Relationship Id="rId17" Type="http://schemas.openxmlformats.org/officeDocument/2006/relationships/slideLayout" Target="../slideLayouts/slideLayout187.xml"/><Relationship Id="rId18" Type="http://schemas.openxmlformats.org/officeDocument/2006/relationships/slideLayout" Target="../slideLayouts/slideLayout188.xml"/><Relationship Id="rId19" Type="http://schemas.openxmlformats.org/officeDocument/2006/relationships/slideLayout" Target="../slideLayouts/slideLayout189.xml"/><Relationship Id="rId20" Type="http://schemas.openxmlformats.org/officeDocument/2006/relationships/slideLayout" Target="../slideLayouts/slideLayout190.xml"/><Relationship Id="rId21" Type="http://schemas.openxmlformats.org/officeDocument/2006/relationships/slideLayout" Target="../slideLayouts/slideLayout191.xml"/><Relationship Id="rId22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93.xml"/><Relationship Id="rId12" Type="http://schemas.openxmlformats.org/officeDocument/2006/relationships/slideLayout" Target="../slideLayouts/slideLayout194.xml"/><Relationship Id="rId13" Type="http://schemas.openxmlformats.org/officeDocument/2006/relationships/slideLayout" Target="../slideLayouts/slideLayout195.xml"/><Relationship Id="rId14" Type="http://schemas.openxmlformats.org/officeDocument/2006/relationships/slideLayout" Target="../slideLayouts/slideLayout196.xml"/><Relationship Id="rId15" Type="http://schemas.openxmlformats.org/officeDocument/2006/relationships/slideLayout" Target="../slideLayouts/slideLayout197.xml"/><Relationship Id="rId16" Type="http://schemas.openxmlformats.org/officeDocument/2006/relationships/slideLayout" Target="../slideLayouts/slideLayout198.xml"/><Relationship Id="rId17" Type="http://schemas.openxmlformats.org/officeDocument/2006/relationships/slideLayout" Target="../slideLayouts/slideLayout199.xml"/><Relationship Id="rId18" Type="http://schemas.openxmlformats.org/officeDocument/2006/relationships/slideLayout" Target="../slideLayouts/slideLayout200.xml"/><Relationship Id="rId19" Type="http://schemas.openxmlformats.org/officeDocument/2006/relationships/slideLayout" Target="../slideLayouts/slideLayout201.xml"/><Relationship Id="rId20" Type="http://schemas.openxmlformats.org/officeDocument/2006/relationships/slideLayout" Target="../slideLayouts/slideLayout202.xml"/><Relationship Id="rId21" Type="http://schemas.openxmlformats.org/officeDocument/2006/relationships/slideLayout" Target="../slideLayouts/slideLayout203.xml"/><Relationship Id="rId22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05.xml"/><Relationship Id="rId12" Type="http://schemas.openxmlformats.org/officeDocument/2006/relationships/slideLayout" Target="../slideLayouts/slideLayout206.xml"/><Relationship Id="rId13" Type="http://schemas.openxmlformats.org/officeDocument/2006/relationships/slideLayout" Target="../slideLayouts/slideLayout207.xml"/><Relationship Id="rId14" Type="http://schemas.openxmlformats.org/officeDocument/2006/relationships/slideLayout" Target="../slideLayouts/slideLayout208.xml"/><Relationship Id="rId15" Type="http://schemas.openxmlformats.org/officeDocument/2006/relationships/slideLayout" Target="../slideLayouts/slideLayout209.xml"/><Relationship Id="rId16" Type="http://schemas.openxmlformats.org/officeDocument/2006/relationships/slideLayout" Target="../slideLayouts/slideLayout210.xml"/><Relationship Id="rId17" Type="http://schemas.openxmlformats.org/officeDocument/2006/relationships/slideLayout" Target="../slideLayouts/slideLayout211.xml"/><Relationship Id="rId18" Type="http://schemas.openxmlformats.org/officeDocument/2006/relationships/slideLayout" Target="../slideLayouts/slideLayout212.xml"/><Relationship Id="rId19" Type="http://schemas.openxmlformats.org/officeDocument/2006/relationships/slideLayout" Target="../slideLayouts/slideLayout213.xml"/><Relationship Id="rId20" Type="http://schemas.openxmlformats.org/officeDocument/2006/relationships/slideLayout" Target="../slideLayouts/slideLayout214.xml"/><Relationship Id="rId21" Type="http://schemas.openxmlformats.org/officeDocument/2006/relationships/slideLayout" Target="../slideLayouts/slideLayout215.xml"/><Relationship Id="rId22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17.xml"/><Relationship Id="rId12" Type="http://schemas.openxmlformats.org/officeDocument/2006/relationships/slideLayout" Target="../slideLayouts/slideLayout218.xml"/><Relationship Id="rId13" Type="http://schemas.openxmlformats.org/officeDocument/2006/relationships/slideLayout" Target="../slideLayouts/slideLayout219.xml"/><Relationship Id="rId14" Type="http://schemas.openxmlformats.org/officeDocument/2006/relationships/slideLayout" Target="../slideLayouts/slideLayout220.xml"/><Relationship Id="rId15" Type="http://schemas.openxmlformats.org/officeDocument/2006/relationships/slideLayout" Target="../slideLayouts/slideLayout221.xml"/><Relationship Id="rId16" Type="http://schemas.openxmlformats.org/officeDocument/2006/relationships/slideLayout" Target="../slideLayouts/slideLayout222.xml"/><Relationship Id="rId17" Type="http://schemas.openxmlformats.org/officeDocument/2006/relationships/slideLayout" Target="../slideLayouts/slideLayout223.xml"/><Relationship Id="rId18" Type="http://schemas.openxmlformats.org/officeDocument/2006/relationships/slideLayout" Target="../slideLayouts/slideLayout224.xml"/><Relationship Id="rId19" Type="http://schemas.openxmlformats.org/officeDocument/2006/relationships/slideLayout" Target="../slideLayouts/slideLayout225.xml"/><Relationship Id="rId20" Type="http://schemas.openxmlformats.org/officeDocument/2006/relationships/slideLayout" Target="../slideLayouts/slideLayout226.xml"/><Relationship Id="rId21" Type="http://schemas.openxmlformats.org/officeDocument/2006/relationships/slideLayout" Target="../slideLayouts/slideLayout227.xml"/><Relationship Id="rId22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29.xml"/><Relationship Id="rId12" Type="http://schemas.openxmlformats.org/officeDocument/2006/relationships/slideLayout" Target="../slideLayouts/slideLayout230.xml"/><Relationship Id="rId13" Type="http://schemas.openxmlformats.org/officeDocument/2006/relationships/slideLayout" Target="../slideLayouts/slideLayout231.xml"/><Relationship Id="rId14" Type="http://schemas.openxmlformats.org/officeDocument/2006/relationships/slideLayout" Target="../slideLayouts/slideLayout232.xml"/><Relationship Id="rId15" Type="http://schemas.openxmlformats.org/officeDocument/2006/relationships/slideLayout" Target="../slideLayouts/slideLayout233.xml"/><Relationship Id="rId16" Type="http://schemas.openxmlformats.org/officeDocument/2006/relationships/slideLayout" Target="../slideLayouts/slideLayout234.xml"/><Relationship Id="rId17" Type="http://schemas.openxmlformats.org/officeDocument/2006/relationships/slideLayout" Target="../slideLayouts/slideLayout235.xml"/><Relationship Id="rId18" Type="http://schemas.openxmlformats.org/officeDocument/2006/relationships/slideLayout" Target="../slideLayouts/slideLayout236.xml"/><Relationship Id="rId19" Type="http://schemas.openxmlformats.org/officeDocument/2006/relationships/slideLayout" Target="../slideLayouts/slideLayout237.xml"/><Relationship Id="rId20" Type="http://schemas.openxmlformats.org/officeDocument/2006/relationships/slideLayout" Target="../slideLayouts/slideLayout238.xml"/><Relationship Id="rId21" Type="http://schemas.openxmlformats.org/officeDocument/2006/relationships/slideLayout" Target="../slideLayouts/slideLayout239.xml"/><Relationship Id="rId22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41.xml"/><Relationship Id="rId12" Type="http://schemas.openxmlformats.org/officeDocument/2006/relationships/slideLayout" Target="../slideLayouts/slideLayout242.xml"/><Relationship Id="rId13" Type="http://schemas.openxmlformats.org/officeDocument/2006/relationships/slideLayout" Target="../slideLayouts/slideLayout243.xml"/><Relationship Id="rId14" Type="http://schemas.openxmlformats.org/officeDocument/2006/relationships/slideLayout" Target="../slideLayouts/slideLayout244.xml"/><Relationship Id="rId15" Type="http://schemas.openxmlformats.org/officeDocument/2006/relationships/slideLayout" Target="../slideLayouts/slideLayout245.xml"/><Relationship Id="rId16" Type="http://schemas.openxmlformats.org/officeDocument/2006/relationships/slideLayout" Target="../slideLayouts/slideLayout246.xml"/><Relationship Id="rId17" Type="http://schemas.openxmlformats.org/officeDocument/2006/relationships/slideLayout" Target="../slideLayouts/slideLayout247.xml"/><Relationship Id="rId18" Type="http://schemas.openxmlformats.org/officeDocument/2006/relationships/slideLayout" Target="../slideLayouts/slideLayout248.xml"/><Relationship Id="rId19" Type="http://schemas.openxmlformats.org/officeDocument/2006/relationships/slideLayout" Target="../slideLayouts/slideLayout249.xml"/><Relationship Id="rId20" Type="http://schemas.openxmlformats.org/officeDocument/2006/relationships/slideLayout" Target="../slideLayouts/slideLayout250.xml"/><Relationship Id="rId21" Type="http://schemas.openxmlformats.org/officeDocument/2006/relationships/slideLayout" Target="../slideLayouts/slideLayout251.xml"/><Relationship Id="rId22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3.xml"/><Relationship Id="rId12" Type="http://schemas.openxmlformats.org/officeDocument/2006/relationships/slideLayout" Target="../slideLayouts/slideLayout254.xml"/><Relationship Id="rId13" Type="http://schemas.openxmlformats.org/officeDocument/2006/relationships/slideLayout" Target="../slideLayouts/slideLayout255.xml"/><Relationship Id="rId14" Type="http://schemas.openxmlformats.org/officeDocument/2006/relationships/slideLayout" Target="../slideLayouts/slideLayout256.xml"/><Relationship Id="rId15" Type="http://schemas.openxmlformats.org/officeDocument/2006/relationships/slideLayout" Target="../slideLayouts/slideLayout257.xml"/><Relationship Id="rId16" Type="http://schemas.openxmlformats.org/officeDocument/2006/relationships/slideLayout" Target="../slideLayouts/slideLayout258.xml"/><Relationship Id="rId17" Type="http://schemas.openxmlformats.org/officeDocument/2006/relationships/slideLayout" Target="../slideLayouts/slideLayout259.xml"/><Relationship Id="rId18" Type="http://schemas.openxmlformats.org/officeDocument/2006/relationships/slideLayout" Target="../slideLayouts/slideLayout260.xml"/><Relationship Id="rId19" Type="http://schemas.openxmlformats.org/officeDocument/2006/relationships/slideLayout" Target="../slideLayouts/slideLayout261.xml"/><Relationship Id="rId20" Type="http://schemas.openxmlformats.org/officeDocument/2006/relationships/slideLayout" Target="../slideLayouts/slideLayout262.xml"/><Relationship Id="rId21" Type="http://schemas.openxmlformats.org/officeDocument/2006/relationships/slideLayout" Target="../slideLayouts/slideLayout263.xml"/><Relationship Id="rId22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65.xml"/><Relationship Id="rId12" Type="http://schemas.openxmlformats.org/officeDocument/2006/relationships/slideLayout" Target="../slideLayouts/slideLayout266.xml"/><Relationship Id="rId13" Type="http://schemas.openxmlformats.org/officeDocument/2006/relationships/slideLayout" Target="../slideLayouts/slideLayout267.xml"/><Relationship Id="rId14" Type="http://schemas.openxmlformats.org/officeDocument/2006/relationships/slideLayout" Target="../slideLayouts/slideLayout268.xml"/><Relationship Id="rId15" Type="http://schemas.openxmlformats.org/officeDocument/2006/relationships/slideLayout" Target="../slideLayouts/slideLayout269.xml"/><Relationship Id="rId16" Type="http://schemas.openxmlformats.org/officeDocument/2006/relationships/slideLayout" Target="../slideLayouts/slideLayout270.xml"/><Relationship Id="rId17" Type="http://schemas.openxmlformats.org/officeDocument/2006/relationships/slideLayout" Target="../slideLayouts/slideLayout271.xml"/><Relationship Id="rId18" Type="http://schemas.openxmlformats.org/officeDocument/2006/relationships/slideLayout" Target="../slideLayouts/slideLayout272.xml"/><Relationship Id="rId19" Type="http://schemas.openxmlformats.org/officeDocument/2006/relationships/slideLayout" Target="../slideLayouts/slideLayout273.xml"/><Relationship Id="rId20" Type="http://schemas.openxmlformats.org/officeDocument/2006/relationships/slideLayout" Target="../slideLayouts/slideLayout274.xml"/><Relationship Id="rId21" Type="http://schemas.openxmlformats.org/officeDocument/2006/relationships/slideLayout" Target="../slideLayouts/slideLayout275.xml"/><Relationship Id="rId22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77.xml"/><Relationship Id="rId12" Type="http://schemas.openxmlformats.org/officeDocument/2006/relationships/slideLayout" Target="../slideLayouts/slideLayout278.xml"/><Relationship Id="rId13" Type="http://schemas.openxmlformats.org/officeDocument/2006/relationships/slideLayout" Target="../slideLayouts/slideLayout279.xml"/><Relationship Id="rId14" Type="http://schemas.openxmlformats.org/officeDocument/2006/relationships/slideLayout" Target="../slideLayouts/slideLayout280.xml"/><Relationship Id="rId15" Type="http://schemas.openxmlformats.org/officeDocument/2006/relationships/slideLayout" Target="../slideLayouts/slideLayout281.xml"/><Relationship Id="rId16" Type="http://schemas.openxmlformats.org/officeDocument/2006/relationships/slideLayout" Target="../slideLayouts/slideLayout282.xml"/><Relationship Id="rId17" Type="http://schemas.openxmlformats.org/officeDocument/2006/relationships/slideLayout" Target="../slideLayouts/slideLayout283.xml"/><Relationship Id="rId18" Type="http://schemas.openxmlformats.org/officeDocument/2006/relationships/slideLayout" Target="../slideLayouts/slideLayout284.xml"/><Relationship Id="rId19" Type="http://schemas.openxmlformats.org/officeDocument/2006/relationships/slideLayout" Target="../slideLayouts/slideLayout285.xml"/><Relationship Id="rId20" Type="http://schemas.openxmlformats.org/officeDocument/2006/relationships/slideLayout" Target="../slideLayouts/slideLayout286.xml"/><Relationship Id="rId21" Type="http://schemas.openxmlformats.org/officeDocument/2006/relationships/slideLayout" Target="../slideLayouts/slideLayout287.xml"/><Relationship Id="rId22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89.xml"/><Relationship Id="rId12" Type="http://schemas.openxmlformats.org/officeDocument/2006/relationships/slideLayout" Target="../slideLayouts/slideLayout290.xml"/><Relationship Id="rId13" Type="http://schemas.openxmlformats.org/officeDocument/2006/relationships/slideLayout" Target="../slideLayouts/slideLayout291.xml"/><Relationship Id="rId14" Type="http://schemas.openxmlformats.org/officeDocument/2006/relationships/slideLayout" Target="../slideLayouts/slideLayout292.xml"/><Relationship Id="rId15" Type="http://schemas.openxmlformats.org/officeDocument/2006/relationships/slideLayout" Target="../slideLayouts/slideLayout293.xml"/><Relationship Id="rId16" Type="http://schemas.openxmlformats.org/officeDocument/2006/relationships/slideLayout" Target="../slideLayouts/slideLayout294.xml"/><Relationship Id="rId17" Type="http://schemas.openxmlformats.org/officeDocument/2006/relationships/slideLayout" Target="../slideLayouts/slideLayout295.xml"/><Relationship Id="rId18" Type="http://schemas.openxmlformats.org/officeDocument/2006/relationships/slideLayout" Target="../slideLayouts/slideLayout296.xml"/><Relationship Id="rId19" Type="http://schemas.openxmlformats.org/officeDocument/2006/relationships/slideLayout" Target="../slideLayouts/slideLayout297.xml"/><Relationship Id="rId20" Type="http://schemas.openxmlformats.org/officeDocument/2006/relationships/slideLayout" Target="../slideLayouts/slideLayout298.xml"/><Relationship Id="rId21" Type="http://schemas.openxmlformats.org/officeDocument/2006/relationships/slideLayout" Target="../slideLayouts/slideLayout299.xml"/><Relationship Id="rId22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01.xml"/><Relationship Id="rId12" Type="http://schemas.openxmlformats.org/officeDocument/2006/relationships/slideLayout" Target="../slideLayouts/slideLayout302.xml"/><Relationship Id="rId13" Type="http://schemas.openxmlformats.org/officeDocument/2006/relationships/slideLayout" Target="../slideLayouts/slideLayout303.xml"/><Relationship Id="rId14" Type="http://schemas.openxmlformats.org/officeDocument/2006/relationships/slideLayout" Target="../slideLayouts/slideLayout304.xml"/><Relationship Id="rId15" Type="http://schemas.openxmlformats.org/officeDocument/2006/relationships/slideLayout" Target="../slideLayouts/slideLayout305.xml"/><Relationship Id="rId16" Type="http://schemas.openxmlformats.org/officeDocument/2006/relationships/slideLayout" Target="../slideLayouts/slideLayout306.xml"/><Relationship Id="rId17" Type="http://schemas.openxmlformats.org/officeDocument/2006/relationships/slideLayout" Target="../slideLayouts/slideLayout307.xml"/><Relationship Id="rId18" Type="http://schemas.openxmlformats.org/officeDocument/2006/relationships/slideLayout" Target="../slideLayouts/slideLayout308.xml"/><Relationship Id="rId19" Type="http://schemas.openxmlformats.org/officeDocument/2006/relationships/slideLayout" Target="../slideLayouts/slideLayout309.xml"/><Relationship Id="rId20" Type="http://schemas.openxmlformats.org/officeDocument/2006/relationships/slideLayout" Target="../slideLayouts/slideLayout310.xml"/><Relationship Id="rId21" Type="http://schemas.openxmlformats.org/officeDocument/2006/relationships/slideLayout" Target="../slideLayouts/slideLayout311.xml"/><Relationship Id="rId22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85.xml"/><Relationship Id="rId13" Type="http://schemas.openxmlformats.org/officeDocument/2006/relationships/slideLayout" Target="../slideLayouts/slideLayout86.xml"/><Relationship Id="rId14" Type="http://schemas.openxmlformats.org/officeDocument/2006/relationships/slideLayout" Target="../slideLayouts/slideLayout87.xml"/><Relationship Id="rId15" Type="http://schemas.openxmlformats.org/officeDocument/2006/relationships/slideLayout" Target="../slideLayouts/slideLayout88.xml"/><Relationship Id="rId16" Type="http://schemas.openxmlformats.org/officeDocument/2006/relationships/slideLayout" Target="../slideLayouts/slideLayout89.xml"/><Relationship Id="rId17" Type="http://schemas.openxmlformats.org/officeDocument/2006/relationships/slideLayout" Target="../slideLayouts/slideLayout90.xml"/><Relationship Id="rId18" Type="http://schemas.openxmlformats.org/officeDocument/2006/relationships/slideLayout" Target="../slideLayouts/slideLayout91.xml"/><Relationship Id="rId19" Type="http://schemas.openxmlformats.org/officeDocument/2006/relationships/slideLayout" Target="../slideLayouts/slideLayout92.xml"/><Relationship Id="rId20" Type="http://schemas.openxmlformats.org/officeDocument/2006/relationships/slideLayout" Target="../slideLayouts/slideLayout93.xml"/><Relationship Id="rId21" Type="http://schemas.openxmlformats.org/officeDocument/2006/relationships/slideLayout" Target="../slideLayouts/slideLayout94.xml"/><Relationship Id="rId22" Type="http://schemas.openxmlformats.org/officeDocument/2006/relationships/slideLayout" Target="../slideLayouts/slideLayout95.xml"/><Relationship Id="rId2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97.xml"/><Relationship Id="rId13" Type="http://schemas.openxmlformats.org/officeDocument/2006/relationships/slideLayout" Target="../slideLayouts/slideLayout98.xml"/><Relationship Id="rId14" Type="http://schemas.openxmlformats.org/officeDocument/2006/relationships/slideLayout" Target="../slideLayouts/slideLayout99.xml"/><Relationship Id="rId15" Type="http://schemas.openxmlformats.org/officeDocument/2006/relationships/slideLayout" Target="../slideLayouts/slideLayout100.xml"/><Relationship Id="rId16" Type="http://schemas.openxmlformats.org/officeDocument/2006/relationships/slideLayout" Target="../slideLayouts/slideLayout101.xml"/><Relationship Id="rId17" Type="http://schemas.openxmlformats.org/officeDocument/2006/relationships/slideLayout" Target="../slideLayouts/slideLayout102.xml"/><Relationship Id="rId18" Type="http://schemas.openxmlformats.org/officeDocument/2006/relationships/slideLayout" Target="../slideLayouts/slideLayout103.xml"/><Relationship Id="rId19" Type="http://schemas.openxmlformats.org/officeDocument/2006/relationships/slideLayout" Target="../slideLayouts/slideLayout104.xml"/><Relationship Id="rId20" Type="http://schemas.openxmlformats.org/officeDocument/2006/relationships/slideLayout" Target="../slideLayouts/slideLayout105.xml"/><Relationship Id="rId21" Type="http://schemas.openxmlformats.org/officeDocument/2006/relationships/slideLayout" Target="../slideLayouts/slideLayout106.xml"/><Relationship Id="rId22" Type="http://schemas.openxmlformats.org/officeDocument/2006/relationships/slideLayout" Target="../slideLayouts/slideLayout107.xml"/><Relationship Id="rId2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72800" y="6453000"/>
            <a:ext cx="5094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DDCF-5AE4-4943-ACBA-16B643B3717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Presentation_Footer.png"/>
          <p:cNvPicPr/>
          <p:nvPr/>
        </p:nvPicPr>
        <p:blipFill>
          <a:blip r:embed="rId2"/>
          <a:stretch/>
        </p:blipFill>
        <p:spPr>
          <a:xfrm>
            <a:off x="0" y="5143680"/>
            <a:ext cx="9144000" cy="17143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PNNL_Logo.png"/>
          <p:cNvPicPr/>
          <p:nvPr/>
        </p:nvPicPr>
        <p:blipFill>
          <a:blip r:embed="rId3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d5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9" descr="Proudly_Operated_by_Battelle_Onyx.png"/>
          <p:cNvPicPr/>
          <p:nvPr/>
        </p:nvPicPr>
        <p:blipFill>
          <a:blip r:embed="rId4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2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83E4-DC3E-4E07-8B1E-86FD351D568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2"/>
    <p:sldLayoutId id="2147483767" r:id="rId13"/>
    <p:sldLayoutId id="2147483768" r:id="rId14"/>
    <p:sldLayoutId id="2147483769" r:id="rId15"/>
    <p:sldLayoutId id="2147483770" r:id="rId16"/>
    <p:sldLayoutId id="2147483771" r:id="rId17"/>
    <p:sldLayoutId id="2147483772" r:id="rId18"/>
    <p:sldLayoutId id="2147483773" r:id="rId19"/>
    <p:sldLayoutId id="2147483774" r:id="rId20"/>
    <p:sldLayoutId id="2147483775" r:id="rId21"/>
    <p:sldLayoutId id="2147483776" r:id="rId22"/>
    <p:sldLayoutId id="2147483777" r:id="rId2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Presentation_Footer.png"/>
          <p:cNvPicPr/>
          <p:nvPr/>
        </p:nvPicPr>
        <p:blipFill>
          <a:blip r:embed="rId2"/>
          <a:stretch/>
        </p:blipFill>
        <p:spPr>
          <a:xfrm>
            <a:off x="0" y="5143680"/>
            <a:ext cx="9144000" cy="1714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PNNL_Logo.png"/>
          <p:cNvPicPr/>
          <p:nvPr/>
        </p:nvPicPr>
        <p:blipFill>
          <a:blip r:embed="rId3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d5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9" descr="Proudly_Operated_by_Battelle_Onyx.png"/>
          <p:cNvPicPr/>
          <p:nvPr/>
        </p:nvPicPr>
        <p:blipFill>
          <a:blip r:embed="rId4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13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DB2D-571D-4571-8352-E0C26887E96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2"/>
    <p:sldLayoutId id="2147483780" r:id="rId13"/>
    <p:sldLayoutId id="2147483781" r:id="rId14"/>
    <p:sldLayoutId id="2147483782" r:id="rId15"/>
    <p:sldLayoutId id="2147483783" r:id="rId16"/>
    <p:sldLayoutId id="2147483784" r:id="rId17"/>
    <p:sldLayoutId id="2147483785" r:id="rId18"/>
    <p:sldLayoutId id="2147483786" r:id="rId19"/>
    <p:sldLayoutId id="2147483787" r:id="rId20"/>
    <p:sldLayoutId id="2147483788" r:id="rId21"/>
    <p:sldLayoutId id="2147483789" r:id="rId22"/>
    <p:sldLayoutId id="2147483790" r:id="rId2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Presentation_Footer.png"/>
          <p:cNvPicPr/>
          <p:nvPr/>
        </p:nvPicPr>
        <p:blipFill>
          <a:blip r:embed="rId2"/>
          <a:stretch/>
        </p:blipFill>
        <p:spPr>
          <a:xfrm>
            <a:off x="0" y="5143680"/>
            <a:ext cx="9144000" cy="17143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PNNL_Logo.png"/>
          <p:cNvPicPr/>
          <p:nvPr/>
        </p:nvPicPr>
        <p:blipFill>
          <a:blip r:embed="rId3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d5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Proudly_Operated_by_Battelle_Onyx.png"/>
          <p:cNvPicPr/>
          <p:nvPr/>
        </p:nvPicPr>
        <p:blipFill>
          <a:blip r:embed="rId4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14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86BC-1DBC-42EC-AC23-516673AB368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2"/>
    <p:sldLayoutId id="2147483793" r:id="rId13"/>
    <p:sldLayoutId id="2147483794" r:id="rId14"/>
    <p:sldLayoutId id="2147483795" r:id="rId15"/>
    <p:sldLayoutId id="2147483796" r:id="rId16"/>
    <p:sldLayoutId id="2147483797" r:id="rId17"/>
    <p:sldLayoutId id="2147483798" r:id="rId18"/>
    <p:sldLayoutId id="2147483799" r:id="rId19"/>
    <p:sldLayoutId id="2147483800" r:id="rId20"/>
    <p:sldLayoutId id="2147483801" r:id="rId21"/>
    <p:sldLayoutId id="2147483802" r:id="rId22"/>
    <p:sldLayoutId id="2147483803" r:id="rId2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6" descr="PNNL_Logo.png"/>
          <p:cNvPicPr/>
          <p:nvPr/>
        </p:nvPicPr>
        <p:blipFill>
          <a:blip r:embed="rId2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6"/>
          <p:cNvSpPr/>
          <p:nvPr/>
        </p:nvSpPr>
        <p:spPr>
          <a:xfrm>
            <a:off x="1440" y="0"/>
            <a:ext cx="9144000" cy="914400"/>
          </a:xfrm>
          <a:prstGeom prst="rect">
            <a:avLst/>
          </a:prstGeom>
          <a:solidFill>
            <a:srgbClr val="d5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9" descr="Proudly_Operated_by_Battelle_Onyx.png"/>
          <p:cNvPicPr/>
          <p:nvPr/>
        </p:nvPicPr>
        <p:blipFill>
          <a:blip r:embed="rId3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5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88D6-0B68-4FCC-BCC7-552AEDBC358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PNNL_Logo.png"/>
          <p:cNvPicPr/>
          <p:nvPr/>
        </p:nvPicPr>
        <p:blipFill>
          <a:blip r:embed="rId2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6"/>
          <p:cNvSpPr/>
          <p:nvPr/>
        </p:nvSpPr>
        <p:spPr>
          <a:xfrm>
            <a:off x="1440" y="0"/>
            <a:ext cx="9144000" cy="914400"/>
          </a:xfrm>
          <a:prstGeom prst="rect">
            <a:avLst/>
          </a:prstGeom>
          <a:solidFill>
            <a:srgbClr val="d5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9" descr="Proudly_Operated_by_Battelle_Onyx.png"/>
          <p:cNvPicPr/>
          <p:nvPr/>
        </p:nvPicPr>
        <p:blipFill>
          <a:blip r:embed="rId3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Num" idx="16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28CC-B6FC-4401-AD8A-F23407A142E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PNNL_Logo.png"/>
          <p:cNvPicPr/>
          <p:nvPr/>
        </p:nvPicPr>
        <p:blipFill>
          <a:blip r:embed="rId2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6"/>
          <p:cNvSpPr/>
          <p:nvPr/>
        </p:nvSpPr>
        <p:spPr>
          <a:xfrm>
            <a:off x="1440" y="0"/>
            <a:ext cx="9144000" cy="914400"/>
          </a:xfrm>
          <a:prstGeom prst="rect">
            <a:avLst/>
          </a:prstGeom>
          <a:solidFill>
            <a:srgbClr val="d5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9" descr="Proudly_Operated_by_Battelle_Onyx.png"/>
          <p:cNvPicPr/>
          <p:nvPr/>
        </p:nvPicPr>
        <p:blipFill>
          <a:blip r:embed="rId3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sldNum" idx="17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9735-8214-4FD7-A40F-A838DB54C18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1"/>
    <p:sldLayoutId id="2147483832" r:id="rId12"/>
    <p:sldLayoutId id="2147483833" r:id="rId13"/>
    <p:sldLayoutId id="2147483834" r:id="rId14"/>
    <p:sldLayoutId id="2147483835" r:id="rId15"/>
    <p:sldLayoutId id="2147483836" r:id="rId16"/>
    <p:sldLayoutId id="2147483837" r:id="rId17"/>
    <p:sldLayoutId id="2147483838" r:id="rId18"/>
    <p:sldLayoutId id="2147483839" r:id="rId19"/>
    <p:sldLayoutId id="2147483840" r:id="rId20"/>
    <p:sldLayoutId id="2147483841" r:id="rId21"/>
    <p:sldLayoutId id="2147483842" r:id="rId22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6" descr="PNNL_Logo.png"/>
          <p:cNvPicPr/>
          <p:nvPr/>
        </p:nvPicPr>
        <p:blipFill>
          <a:blip r:embed="rId2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6"/>
          <p:cNvSpPr/>
          <p:nvPr/>
        </p:nvSpPr>
        <p:spPr>
          <a:xfrm>
            <a:off x="0" y="0"/>
            <a:ext cx="9144000" cy="1311120"/>
          </a:xfrm>
          <a:prstGeom prst="rect">
            <a:avLst/>
          </a:prstGeom>
          <a:solidFill>
            <a:srgbClr val="d5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9" descr="Proudly_Operated_by_Battelle_Onyx.png"/>
          <p:cNvPicPr/>
          <p:nvPr/>
        </p:nvPicPr>
        <p:blipFill>
          <a:blip r:embed="rId3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18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BE35-13A6-490D-8144-995FC4944CC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1"/>
    <p:sldLayoutId id="2147483845" r:id="rId12"/>
    <p:sldLayoutId id="2147483846" r:id="rId13"/>
    <p:sldLayoutId id="2147483847" r:id="rId14"/>
    <p:sldLayoutId id="2147483848" r:id="rId15"/>
    <p:sldLayoutId id="2147483849" r:id="rId16"/>
    <p:sldLayoutId id="2147483850" r:id="rId17"/>
    <p:sldLayoutId id="2147483851" r:id="rId18"/>
    <p:sldLayoutId id="2147483852" r:id="rId19"/>
    <p:sldLayoutId id="2147483853" r:id="rId20"/>
    <p:sldLayoutId id="2147483854" r:id="rId21"/>
    <p:sldLayoutId id="2147483855" r:id="rId22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6" descr="PNNL_Logo.png"/>
          <p:cNvPicPr/>
          <p:nvPr/>
        </p:nvPicPr>
        <p:blipFill>
          <a:blip r:embed="rId2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6"/>
          <p:cNvSpPr/>
          <p:nvPr/>
        </p:nvSpPr>
        <p:spPr>
          <a:xfrm>
            <a:off x="0" y="0"/>
            <a:ext cx="9144000" cy="1311120"/>
          </a:xfrm>
          <a:prstGeom prst="rect">
            <a:avLst/>
          </a:prstGeom>
          <a:solidFill>
            <a:srgbClr val="d5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9" descr="Proudly_Operated_by_Battelle_Onyx.png"/>
          <p:cNvPicPr/>
          <p:nvPr/>
        </p:nvPicPr>
        <p:blipFill>
          <a:blip r:embed="rId3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Num" idx="19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CE32-414B-4680-BE62-00FA41113E7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1"/>
    <p:sldLayoutId id="2147483858" r:id="rId12"/>
    <p:sldLayoutId id="2147483859" r:id="rId13"/>
    <p:sldLayoutId id="2147483860" r:id="rId14"/>
    <p:sldLayoutId id="2147483861" r:id="rId15"/>
    <p:sldLayoutId id="2147483862" r:id="rId16"/>
    <p:sldLayoutId id="2147483863" r:id="rId17"/>
    <p:sldLayoutId id="2147483864" r:id="rId18"/>
    <p:sldLayoutId id="2147483865" r:id="rId19"/>
    <p:sldLayoutId id="2147483866" r:id="rId20"/>
    <p:sldLayoutId id="2147483867" r:id="rId21"/>
    <p:sldLayoutId id="2147483868" r:id="rId22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4" descr="PNNL_Logo.png"/>
          <p:cNvPicPr/>
          <p:nvPr/>
        </p:nvPicPr>
        <p:blipFill>
          <a:blip r:embed="rId2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6"/>
          <p:cNvSpPr/>
          <p:nvPr/>
        </p:nvSpPr>
        <p:spPr>
          <a:xfrm>
            <a:off x="0" y="0"/>
            <a:ext cx="9144000" cy="1311120"/>
          </a:xfrm>
          <a:prstGeom prst="rect">
            <a:avLst/>
          </a:prstGeom>
          <a:solidFill>
            <a:srgbClr val="d5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9" descr="Proudly_Operated_by_Battelle_Onyx.png"/>
          <p:cNvPicPr/>
          <p:nvPr/>
        </p:nvPicPr>
        <p:blipFill>
          <a:blip r:embed="rId3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20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A6D5-BDBE-4EB5-8340-026CF430BA2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11"/>
    <p:sldLayoutId id="2147483871" r:id="rId12"/>
    <p:sldLayoutId id="2147483872" r:id="rId13"/>
    <p:sldLayoutId id="2147483873" r:id="rId14"/>
    <p:sldLayoutId id="2147483874" r:id="rId15"/>
    <p:sldLayoutId id="2147483875" r:id="rId16"/>
    <p:sldLayoutId id="2147483876" r:id="rId17"/>
    <p:sldLayoutId id="2147483877" r:id="rId18"/>
    <p:sldLayoutId id="2147483878" r:id="rId19"/>
    <p:sldLayoutId id="2147483879" r:id="rId20"/>
    <p:sldLayoutId id="2147483880" r:id="rId21"/>
    <p:sldLayoutId id="2147483881" r:id="rId22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6" descr="PNNL_Logo.png"/>
          <p:cNvPicPr/>
          <p:nvPr/>
        </p:nvPicPr>
        <p:blipFill>
          <a:blip r:embed="rId2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9" descr="Proudly_Operated_by_Battelle_Onyx.png"/>
          <p:cNvPicPr/>
          <p:nvPr/>
        </p:nvPicPr>
        <p:blipFill>
          <a:blip r:embed="rId3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21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4D03-FC9C-457F-8CEA-808D68B8025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11"/>
    <p:sldLayoutId id="2147483884" r:id="rId12"/>
    <p:sldLayoutId id="2147483885" r:id="rId13"/>
    <p:sldLayoutId id="2147483886" r:id="rId14"/>
    <p:sldLayoutId id="2147483887" r:id="rId15"/>
    <p:sldLayoutId id="2147483888" r:id="rId16"/>
    <p:sldLayoutId id="2147483889" r:id="rId17"/>
    <p:sldLayoutId id="2147483890" r:id="rId18"/>
    <p:sldLayoutId id="2147483891" r:id="rId19"/>
    <p:sldLayoutId id="2147483892" r:id="rId20"/>
    <p:sldLayoutId id="2147483893" r:id="rId21"/>
    <p:sldLayoutId id="2147483894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E2F7-F1BE-4664-A6DC-85B1778707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4"/>
          <p:cNvSpPr/>
          <p:nvPr/>
        </p:nvSpPr>
        <p:spPr>
          <a:xfrm>
            <a:off x="0" y="0"/>
            <a:ext cx="9144000" cy="6865920"/>
          </a:xfrm>
          <a:prstGeom prst="rect">
            <a:avLst/>
          </a:prstGeom>
          <a:solidFill>
            <a:srgbClr val="7072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6" descr="PNNL_Logo_Reverse.png"/>
          <p:cNvPicPr/>
          <p:nvPr/>
        </p:nvPicPr>
        <p:blipFill>
          <a:blip r:embed="rId2"/>
          <a:stretch/>
        </p:blipFill>
        <p:spPr>
          <a:xfrm>
            <a:off x="6492960" y="5662440"/>
            <a:ext cx="2651040" cy="73188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7" descr="Proudly_Operated_by_Battelle_Reverse.png"/>
          <p:cNvPicPr/>
          <p:nvPr/>
        </p:nvPicPr>
        <p:blipFill>
          <a:blip r:embed="rId3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Num" idx="22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82B0-7B21-4332-A941-5E0FA3CD8AD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11"/>
    <p:sldLayoutId id="2147483897" r:id="rId12"/>
    <p:sldLayoutId id="2147483898" r:id="rId13"/>
    <p:sldLayoutId id="2147483899" r:id="rId14"/>
    <p:sldLayoutId id="2147483900" r:id="rId15"/>
    <p:sldLayoutId id="2147483901" r:id="rId16"/>
    <p:sldLayoutId id="2147483902" r:id="rId17"/>
    <p:sldLayoutId id="2147483903" r:id="rId18"/>
    <p:sldLayoutId id="2147483904" r:id="rId19"/>
    <p:sldLayoutId id="2147483905" r:id="rId20"/>
    <p:sldLayoutId id="2147483906" r:id="rId21"/>
    <p:sldLayoutId id="2147483907" r:id="rId22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4"/>
          <p:cNvSpPr/>
          <p:nvPr/>
        </p:nvSpPr>
        <p:spPr>
          <a:xfrm>
            <a:off x="0" y="0"/>
            <a:ext cx="9144000" cy="6865920"/>
          </a:xfrm>
          <a:prstGeom prst="rect">
            <a:avLst/>
          </a:prstGeom>
          <a:solidFill>
            <a:srgbClr val="7072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PNNL_Logo_Reverse.png"/>
          <p:cNvPicPr/>
          <p:nvPr/>
        </p:nvPicPr>
        <p:blipFill>
          <a:blip r:embed="rId2"/>
          <a:stretch/>
        </p:blipFill>
        <p:spPr>
          <a:xfrm>
            <a:off x="6492960" y="5662440"/>
            <a:ext cx="2651040" cy="7318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7" descr="Proudly_Operated_by_Battelle_Reverse.png"/>
          <p:cNvPicPr/>
          <p:nvPr/>
        </p:nvPicPr>
        <p:blipFill>
          <a:blip r:embed="rId3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sldNum" idx="23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020C-37D5-4827-AF4D-C2BFEBE18BA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11"/>
    <p:sldLayoutId id="2147483910" r:id="rId12"/>
    <p:sldLayoutId id="2147483911" r:id="rId13"/>
    <p:sldLayoutId id="2147483912" r:id="rId14"/>
    <p:sldLayoutId id="2147483913" r:id="rId15"/>
    <p:sldLayoutId id="2147483914" r:id="rId16"/>
    <p:sldLayoutId id="2147483915" r:id="rId17"/>
    <p:sldLayoutId id="2147483916" r:id="rId18"/>
    <p:sldLayoutId id="2147483917" r:id="rId19"/>
    <p:sldLayoutId id="2147483918" r:id="rId20"/>
    <p:sldLayoutId id="2147483919" r:id="rId21"/>
    <p:sldLayoutId id="2147483920" r:id="rId22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4"/>
          <p:cNvSpPr/>
          <p:nvPr/>
        </p:nvSpPr>
        <p:spPr>
          <a:xfrm>
            <a:off x="0" y="0"/>
            <a:ext cx="9144000" cy="6865920"/>
          </a:xfrm>
          <a:prstGeom prst="rect">
            <a:avLst/>
          </a:prstGeom>
          <a:solidFill>
            <a:srgbClr val="7072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6" descr="PNNL_Logo_Reverse.png"/>
          <p:cNvPicPr/>
          <p:nvPr/>
        </p:nvPicPr>
        <p:blipFill>
          <a:blip r:embed="rId2"/>
          <a:stretch/>
        </p:blipFill>
        <p:spPr>
          <a:xfrm>
            <a:off x="6492960" y="5662440"/>
            <a:ext cx="2651040" cy="73188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7" descr="Proudly_Operated_by_Battelle_Reverse.png"/>
          <p:cNvPicPr/>
          <p:nvPr/>
        </p:nvPicPr>
        <p:blipFill>
          <a:blip r:embed="rId3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24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590A-A064-411A-BDB1-C2C88FEF650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11"/>
    <p:sldLayoutId id="2147483923" r:id="rId12"/>
    <p:sldLayoutId id="2147483924" r:id="rId13"/>
    <p:sldLayoutId id="2147483925" r:id="rId14"/>
    <p:sldLayoutId id="2147483926" r:id="rId15"/>
    <p:sldLayoutId id="2147483927" r:id="rId16"/>
    <p:sldLayoutId id="2147483928" r:id="rId17"/>
    <p:sldLayoutId id="2147483929" r:id="rId18"/>
    <p:sldLayoutId id="2147483930" r:id="rId19"/>
    <p:sldLayoutId id="2147483931" r:id="rId20"/>
    <p:sldLayoutId id="2147483932" r:id="rId21"/>
    <p:sldLayoutId id="2147483933" r:id="rId22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6" descr="PNNL_Logo_Reverse.png"/>
          <p:cNvPicPr/>
          <p:nvPr/>
        </p:nvPicPr>
        <p:blipFill>
          <a:blip r:embed="rId2"/>
          <a:stretch/>
        </p:blipFill>
        <p:spPr>
          <a:xfrm>
            <a:off x="6492960" y="5662440"/>
            <a:ext cx="2651040" cy="7318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7" descr="Proudly_Operated_by_Battelle_Reverse.png"/>
          <p:cNvPicPr/>
          <p:nvPr/>
        </p:nvPicPr>
        <p:blipFill>
          <a:blip r:embed="rId3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sldNum" idx="25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6406-F5D4-4583-871C-68F58537647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11"/>
    <p:sldLayoutId id="2147483936" r:id="rId12"/>
    <p:sldLayoutId id="2147483937" r:id="rId13"/>
    <p:sldLayoutId id="2147483938" r:id="rId14"/>
    <p:sldLayoutId id="2147483939" r:id="rId15"/>
    <p:sldLayoutId id="2147483940" r:id="rId16"/>
    <p:sldLayoutId id="2147483941" r:id="rId17"/>
    <p:sldLayoutId id="2147483942" r:id="rId18"/>
    <p:sldLayoutId id="2147483943" r:id="rId19"/>
    <p:sldLayoutId id="2147483944" r:id="rId20"/>
    <p:sldLayoutId id="2147483945" r:id="rId21"/>
    <p:sldLayoutId id="2147483946" r:id="rId22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6" name="Picture 6" descr="PNNL_Logo_Reverse.png"/>
          <p:cNvPicPr/>
          <p:nvPr/>
        </p:nvPicPr>
        <p:blipFill>
          <a:blip r:embed="rId2"/>
          <a:stretch/>
        </p:blipFill>
        <p:spPr>
          <a:xfrm>
            <a:off x="6492960" y="5662440"/>
            <a:ext cx="2651040" cy="7318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7" descr="Proudly_Operated_by_Battelle_Reverse.png"/>
          <p:cNvPicPr/>
          <p:nvPr/>
        </p:nvPicPr>
        <p:blipFill>
          <a:blip r:embed="rId3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sldNum" idx="26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2201-12AC-41E7-A69F-220562FB89E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11"/>
    <p:sldLayoutId id="2147483949" r:id="rId12"/>
    <p:sldLayoutId id="2147483950" r:id="rId13"/>
    <p:sldLayoutId id="2147483951" r:id="rId14"/>
    <p:sldLayoutId id="2147483952" r:id="rId15"/>
    <p:sldLayoutId id="2147483953" r:id="rId16"/>
    <p:sldLayoutId id="2147483954" r:id="rId17"/>
    <p:sldLayoutId id="2147483955" r:id="rId18"/>
    <p:sldLayoutId id="2147483956" r:id="rId19"/>
    <p:sldLayoutId id="2147483957" r:id="rId20"/>
    <p:sldLayoutId id="2147483958" r:id="rId21"/>
    <p:sldLayoutId id="2147483959" r:id="rId22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Picture 6" descr="PNNL_Logo_Reverse.png"/>
          <p:cNvPicPr/>
          <p:nvPr/>
        </p:nvPicPr>
        <p:blipFill>
          <a:blip r:embed="rId2"/>
          <a:stretch/>
        </p:blipFill>
        <p:spPr>
          <a:xfrm>
            <a:off x="6492960" y="5662440"/>
            <a:ext cx="2651040" cy="7318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7" descr="Proudly_Operated_by_Battelle_Reverse.png"/>
          <p:cNvPicPr/>
          <p:nvPr/>
        </p:nvPicPr>
        <p:blipFill>
          <a:blip r:embed="rId3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7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691E-2D7E-4882-AEA8-6C3BEE51579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11"/>
    <p:sldLayoutId id="2147483962" r:id="rId12"/>
    <p:sldLayoutId id="2147483963" r:id="rId13"/>
    <p:sldLayoutId id="2147483964" r:id="rId14"/>
    <p:sldLayoutId id="2147483965" r:id="rId15"/>
    <p:sldLayoutId id="2147483966" r:id="rId16"/>
    <p:sldLayoutId id="2147483967" r:id="rId17"/>
    <p:sldLayoutId id="2147483968" r:id="rId18"/>
    <p:sldLayoutId id="2147483969" r:id="rId19"/>
    <p:sldLayoutId id="2147483970" r:id="rId20"/>
    <p:sldLayoutId id="2147483971" r:id="rId21"/>
    <p:sldLayoutId id="2147483972" r:id="rId22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6" descr="PNNL_Logo.png"/>
          <p:cNvPicPr/>
          <p:nvPr/>
        </p:nvPicPr>
        <p:blipFill>
          <a:blip r:embed="rId2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9" descr="Proudly_Operated_by_Battelle_Onyx.png"/>
          <p:cNvPicPr/>
          <p:nvPr/>
        </p:nvPicPr>
        <p:blipFill>
          <a:blip r:embed="rId3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sldNum" idx="28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33B6-3DC4-40FB-97C8-ED000DC2101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11"/>
    <p:sldLayoutId id="2147483975" r:id="rId12"/>
    <p:sldLayoutId id="2147483976" r:id="rId13"/>
    <p:sldLayoutId id="2147483977" r:id="rId14"/>
    <p:sldLayoutId id="2147483978" r:id="rId15"/>
    <p:sldLayoutId id="2147483979" r:id="rId16"/>
    <p:sldLayoutId id="2147483980" r:id="rId17"/>
    <p:sldLayoutId id="2147483981" r:id="rId18"/>
    <p:sldLayoutId id="2147483982" r:id="rId19"/>
    <p:sldLayoutId id="2147483983" r:id="rId20"/>
    <p:sldLayoutId id="2147483984" r:id="rId21"/>
    <p:sldLayoutId id="2147483985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Title_Backgroun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Title_Footer.png"/>
          <p:cNvPicPr/>
          <p:nvPr/>
        </p:nvPicPr>
        <p:blipFill>
          <a:blip r:embed="rId3"/>
          <a:stretch/>
        </p:blipFill>
        <p:spPr>
          <a:xfrm>
            <a:off x="0" y="5143680"/>
            <a:ext cx="9144000" cy="1714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PNNL_Logo.png"/>
          <p:cNvPicPr/>
          <p:nvPr/>
        </p:nvPicPr>
        <p:blipFill>
          <a:blip r:embed="rId4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Proudly_Operated_by_Battelle_Onyx.png"/>
          <p:cNvPicPr/>
          <p:nvPr/>
        </p:nvPicPr>
        <p:blipFill>
          <a:blip r:embed="rId5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A875-1204-467F-B9E6-32C2F8AFC1B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Presentation_Footer.png"/>
          <p:cNvPicPr/>
          <p:nvPr/>
        </p:nvPicPr>
        <p:blipFill>
          <a:blip r:embed="rId2"/>
          <a:stretch/>
        </p:blipFill>
        <p:spPr>
          <a:xfrm>
            <a:off x="0" y="5143680"/>
            <a:ext cx="914400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PNNL_Logo.png"/>
          <p:cNvPicPr/>
          <p:nvPr/>
        </p:nvPicPr>
        <p:blipFill>
          <a:blip r:embed="rId3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Proudly_Operated_by_Battelle_Onyx.png"/>
          <p:cNvPicPr/>
          <p:nvPr/>
        </p:nvPicPr>
        <p:blipFill>
          <a:blip r:embed="rId4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6E2B-CDA9-44DB-B684-0EE6D17DD4A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Presentation_Footer.png"/>
          <p:cNvPicPr/>
          <p:nvPr/>
        </p:nvPicPr>
        <p:blipFill>
          <a:blip r:embed="rId2"/>
          <a:stretch/>
        </p:blipFill>
        <p:spPr>
          <a:xfrm>
            <a:off x="0" y="5143680"/>
            <a:ext cx="9144000" cy="1714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PNNL_Logo.png"/>
          <p:cNvPicPr/>
          <p:nvPr/>
        </p:nvPicPr>
        <p:blipFill>
          <a:blip r:embed="rId3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Proudly_Operated_by_Battelle_Onyx.png"/>
          <p:cNvPicPr/>
          <p:nvPr/>
        </p:nvPicPr>
        <p:blipFill>
          <a:blip r:embed="rId4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7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0D2E-D38D-40EA-9B0B-524C09D4C85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resentation_Footer.png"/>
          <p:cNvPicPr/>
          <p:nvPr/>
        </p:nvPicPr>
        <p:blipFill>
          <a:blip r:embed="rId2"/>
          <a:stretch/>
        </p:blipFill>
        <p:spPr>
          <a:xfrm>
            <a:off x="0" y="5143680"/>
            <a:ext cx="9144000" cy="1714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PNNL_Logo.png"/>
          <p:cNvPicPr/>
          <p:nvPr/>
        </p:nvPicPr>
        <p:blipFill>
          <a:blip r:embed="rId3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Proudly_Operated_by_Battelle_Onyx.png"/>
          <p:cNvPicPr/>
          <p:nvPr/>
        </p:nvPicPr>
        <p:blipFill>
          <a:blip r:embed="rId4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8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284C-4BA1-406E-97AF-51D025708CC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Presentation_Footer.png"/>
          <p:cNvPicPr/>
          <p:nvPr/>
        </p:nvPicPr>
        <p:blipFill>
          <a:blip r:embed="rId2"/>
          <a:stretch/>
        </p:blipFill>
        <p:spPr>
          <a:xfrm>
            <a:off x="0" y="5143680"/>
            <a:ext cx="9144000" cy="1714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PNNL_Logo.png"/>
          <p:cNvPicPr/>
          <p:nvPr/>
        </p:nvPicPr>
        <p:blipFill>
          <a:blip r:embed="rId3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Proudly_Operated_by_Battelle_Onyx.png"/>
          <p:cNvPicPr/>
          <p:nvPr/>
        </p:nvPicPr>
        <p:blipFill>
          <a:blip r:embed="rId4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9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38E5-DF64-447C-87CC-73180E1F12F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Presentation_Footer.png"/>
          <p:cNvPicPr/>
          <p:nvPr/>
        </p:nvPicPr>
        <p:blipFill>
          <a:blip r:embed="rId2"/>
          <a:stretch/>
        </p:blipFill>
        <p:spPr>
          <a:xfrm>
            <a:off x="0" y="5143680"/>
            <a:ext cx="9144000" cy="1714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PNNL_Logo.png"/>
          <p:cNvPicPr/>
          <p:nvPr/>
        </p:nvPicPr>
        <p:blipFill>
          <a:blip r:embed="rId3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Proudly_Operated_by_Battelle_Onyx.png"/>
          <p:cNvPicPr/>
          <p:nvPr/>
        </p:nvPicPr>
        <p:blipFill>
          <a:blip r:embed="rId4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0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CDE5-F2DE-48C6-83B5-FFEB02AB0F9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2"/>
    <p:sldLayoutId id="2147483741" r:id="rId13"/>
    <p:sldLayoutId id="2147483742" r:id="rId14"/>
    <p:sldLayoutId id="2147483743" r:id="rId15"/>
    <p:sldLayoutId id="2147483744" r:id="rId16"/>
    <p:sldLayoutId id="2147483745" r:id="rId17"/>
    <p:sldLayoutId id="2147483746" r:id="rId18"/>
    <p:sldLayoutId id="2147483747" r:id="rId19"/>
    <p:sldLayoutId id="2147483748" r:id="rId20"/>
    <p:sldLayoutId id="2147483749" r:id="rId21"/>
    <p:sldLayoutId id="2147483750" r:id="rId22"/>
    <p:sldLayoutId id="2147483751" r:id="rId2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Presentation_Footer.png"/>
          <p:cNvPicPr/>
          <p:nvPr/>
        </p:nvPicPr>
        <p:blipFill>
          <a:blip r:embed="rId2"/>
          <a:stretch/>
        </p:blipFill>
        <p:spPr>
          <a:xfrm>
            <a:off x="0" y="5143680"/>
            <a:ext cx="9144000" cy="1714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PNNL_Logo.png"/>
          <p:cNvPicPr/>
          <p:nvPr/>
        </p:nvPicPr>
        <p:blipFill>
          <a:blip r:embed="rId3"/>
          <a:stretch/>
        </p:blipFill>
        <p:spPr>
          <a:xfrm>
            <a:off x="6492960" y="5670720"/>
            <a:ext cx="2651040" cy="731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Proudly_Operated_by_Battelle_Onyx.png"/>
          <p:cNvPicPr/>
          <p:nvPr/>
        </p:nvPicPr>
        <p:blipFill>
          <a:blip r:embed="rId4"/>
          <a:stretch/>
        </p:blipFill>
        <p:spPr>
          <a:xfrm>
            <a:off x="6492960" y="6400800"/>
            <a:ext cx="265104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11"/>
          </p:nvPr>
        </p:nvSpPr>
        <p:spPr>
          <a:xfrm>
            <a:off x="112680" y="6482880"/>
            <a:ext cx="509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4B3F-C615-43C4-823A-CD5301F6019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2"/>
    <p:sldLayoutId id="2147483754" r:id="rId13"/>
    <p:sldLayoutId id="2147483755" r:id="rId14"/>
    <p:sldLayoutId id="2147483756" r:id="rId15"/>
    <p:sldLayoutId id="2147483757" r:id="rId16"/>
    <p:sldLayoutId id="2147483758" r:id="rId17"/>
    <p:sldLayoutId id="2147483759" r:id="rId18"/>
    <p:sldLayoutId id="2147483760" r:id="rId19"/>
    <p:sldLayoutId id="2147483761" r:id="rId20"/>
    <p:sldLayoutId id="2147483762" r:id="rId21"/>
    <p:sldLayoutId id="2147483763" r:id="rId22"/>
    <p:sldLayoutId id="2147483764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ha.yu@pnl.gov" TargetMode="External"/><Relationship Id="rId2" Type="http://schemas.openxmlformats.org/officeDocument/2006/relationships/hyperlink" Target="mailto:m.evans@pnl.gov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69800" y="1832040"/>
            <a:ext cx="821232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97a00"/>
                </a:solidFill>
                <a:latin typeface="Arial"/>
              </a:rPr>
              <a:t>Building Energy Code Modeling and Its application</a:t>
            </a:r>
            <a:endParaRPr b="1" lang="en-US" sz="4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71600" y="2972880"/>
            <a:ext cx="8208720" cy="22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s from China, India, and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 Yu, Mereydd Evans, and Bing L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s under UNFCCC Flexible Mechanisms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4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112680" y="6483240"/>
            <a:ext cx="50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ECEA-BFCA-4ED9-B155-8BA51A7C25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The Twelve Building Sectors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pic>
        <p:nvPicPr>
          <p:cNvPr id="1152" name="Content Placeholder 4" descr=""/>
          <p:cNvPicPr/>
          <p:nvPr/>
        </p:nvPicPr>
        <p:blipFill>
          <a:blip r:embed="rId1"/>
          <a:stretch/>
        </p:blipFill>
        <p:spPr>
          <a:xfrm>
            <a:off x="596880" y="1407960"/>
            <a:ext cx="8156520" cy="3956040"/>
          </a:xfrm>
          <a:prstGeom prst="rect">
            <a:avLst/>
          </a:prstGeom>
          <a:ln w="0">
            <a:noFill/>
          </a:ln>
        </p:spPr>
      </p:pic>
      <p:grpSp>
        <p:nvGrpSpPr>
          <p:cNvPr id="1153" name="TextBox 10"/>
          <p:cNvGrpSpPr/>
          <p:nvPr/>
        </p:nvGrpSpPr>
        <p:grpSpPr>
          <a:xfrm>
            <a:off x="1773360" y="5522760"/>
            <a:ext cx="1341360" cy="1219320"/>
            <a:chOff x="1773360" y="5522760"/>
            <a:chExt cx="1341360" cy="1219320"/>
          </a:xfrm>
        </p:grpSpPr>
        <p:pic>
          <p:nvPicPr>
            <p:cNvPr id="1154" name="TextBox 10" descr=""/>
            <p:cNvPicPr/>
            <p:nvPr/>
          </p:nvPicPr>
          <p:blipFill>
            <a:blip r:embed="rId2"/>
            <a:stretch/>
          </p:blipFill>
          <p:spPr>
            <a:xfrm>
              <a:off x="1773360" y="5522760"/>
              <a:ext cx="13413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"/>
            <p:cNvSpPr/>
            <p:nvPr/>
          </p:nvSpPr>
          <p:spPr>
            <a:xfrm>
              <a:off x="1835280" y="5560920"/>
              <a:ext cx="12240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9 Provi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Beijing, </a:t>
              </a:r>
              <a:r>
                <a:rPr b="1" lang="en-US" sz="1100" spc="-1" strike="noStrike">
                  <a:solidFill>
                    <a:srgbClr val="8064a2"/>
                  </a:solidFill>
                  <a:latin typeface="Calibri"/>
                </a:rPr>
                <a:t>Tianjin, </a:t>
              </a: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Hebei, Shanxi, </a:t>
              </a:r>
              <a:r>
                <a:rPr b="1" lang="en-US" sz="1100" spc="-1" strike="noStrike">
                  <a:solidFill>
                    <a:srgbClr val="8064a2"/>
                  </a:solidFill>
                  <a:latin typeface="Calibri"/>
                </a:rPr>
                <a:t>Shandong, </a:t>
              </a: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Henan, Tibet, Shaanxi, Gans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6" name="TextBox 11"/>
          <p:cNvGrpSpPr/>
          <p:nvPr/>
        </p:nvGrpSpPr>
        <p:grpSpPr>
          <a:xfrm>
            <a:off x="3213000" y="5522760"/>
            <a:ext cx="1414440" cy="1219320"/>
            <a:chOff x="3213000" y="5522760"/>
            <a:chExt cx="1414440" cy="1219320"/>
          </a:xfrm>
        </p:grpSpPr>
        <p:pic>
          <p:nvPicPr>
            <p:cNvPr id="1157" name="TextBox 11" descr=""/>
            <p:cNvPicPr/>
            <p:nvPr/>
          </p:nvPicPr>
          <p:blipFill>
            <a:blip r:embed="rId3"/>
            <a:stretch/>
          </p:blipFill>
          <p:spPr>
            <a:xfrm>
              <a:off x="3213000" y="5522760"/>
              <a:ext cx="14144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8" name=""/>
            <p:cNvSpPr/>
            <p:nvPr/>
          </p:nvSpPr>
          <p:spPr>
            <a:xfrm>
              <a:off x="3276720" y="5560920"/>
              <a:ext cx="12952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9 Provi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Shanghai, Jiangsu, </a:t>
              </a:r>
              <a:r>
                <a:rPr b="1" lang="en-US" sz="1100" spc="-1" strike="noStrike">
                  <a:solidFill>
                    <a:srgbClr val="8064a2"/>
                  </a:solidFill>
                  <a:latin typeface="Calibri"/>
                </a:rPr>
                <a:t>Zhejiang, </a:t>
              </a: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Anhui, Jiangxi, Hubei, Hunan, Chongqing, Sichua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TextBox 12"/>
          <p:cNvGrpSpPr/>
          <p:nvPr/>
        </p:nvGrpSpPr>
        <p:grpSpPr>
          <a:xfrm>
            <a:off x="4657680" y="5522760"/>
            <a:ext cx="1481040" cy="1219320"/>
            <a:chOff x="4657680" y="5522760"/>
            <a:chExt cx="1481040" cy="1219320"/>
          </a:xfrm>
        </p:grpSpPr>
        <p:pic>
          <p:nvPicPr>
            <p:cNvPr id="1160" name="TextBox 12" descr=""/>
            <p:cNvPicPr/>
            <p:nvPr/>
          </p:nvPicPr>
          <p:blipFill>
            <a:blip r:embed="rId4"/>
            <a:stretch/>
          </p:blipFill>
          <p:spPr>
            <a:xfrm>
              <a:off x="4657680" y="5522760"/>
              <a:ext cx="14810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"/>
            <p:cNvSpPr/>
            <p:nvPr/>
          </p:nvSpPr>
          <p:spPr>
            <a:xfrm>
              <a:off x="4716360" y="5560920"/>
              <a:ext cx="13683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6 Provinces &amp;      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2 countr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Fujian, </a:t>
              </a:r>
              <a:r>
                <a:rPr b="1" lang="en-US" sz="1100" spc="-1" strike="noStrike">
                  <a:solidFill>
                    <a:srgbClr val="8064a2"/>
                  </a:solidFill>
                  <a:latin typeface="Calibri"/>
                </a:rPr>
                <a:t>Guangdong, </a:t>
              </a: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Guangxi, Hainan, Guizhou, Yunnan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ambodia, Vietna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2" name="TextBox 13"/>
          <p:cNvGrpSpPr/>
          <p:nvPr/>
        </p:nvGrpSpPr>
        <p:grpSpPr>
          <a:xfrm>
            <a:off x="6168960" y="5522760"/>
            <a:ext cx="1627200" cy="1219320"/>
            <a:chOff x="6168960" y="5522760"/>
            <a:chExt cx="1627200" cy="1219320"/>
          </a:xfrm>
        </p:grpSpPr>
        <p:pic>
          <p:nvPicPr>
            <p:cNvPr id="1163" name="TextBox 13" descr=""/>
            <p:cNvPicPr/>
            <p:nvPr/>
          </p:nvPicPr>
          <p:blipFill>
            <a:blip r:embed="rId5"/>
            <a:stretch/>
          </p:blipFill>
          <p:spPr>
            <a:xfrm>
              <a:off x="6168960" y="5522760"/>
              <a:ext cx="16272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4" name=""/>
            <p:cNvSpPr/>
            <p:nvPr/>
          </p:nvSpPr>
          <p:spPr>
            <a:xfrm>
              <a:off x="6227640" y="5560920"/>
              <a:ext cx="1513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6 Provinces &amp;           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2 countr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Inner Mongolia, Jilin, </a:t>
              </a:r>
              <a:r>
                <a:rPr b="1" lang="en-US" sz="1100" spc="-1" strike="noStrike">
                  <a:solidFill>
                    <a:srgbClr val="8064a2"/>
                  </a:solidFill>
                  <a:latin typeface="Calibri"/>
                </a:rPr>
                <a:t>Heilongjiang,</a:t>
              </a: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 Qinghai, Xinjiang, Liaoning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ongolia, DP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ethodological Framework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166" name="Rectangle 31"/>
          <p:cNvSpPr/>
          <p:nvPr/>
        </p:nvSpPr>
        <p:spPr>
          <a:xfrm>
            <a:off x="2743200" y="4027320"/>
            <a:ext cx="1828800" cy="838440"/>
          </a:xfrm>
          <a:prstGeom prst="rect">
            <a:avLst/>
          </a:prstGeom>
          <a:solidFill>
            <a:srgbClr val="8eb4e3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alibri"/>
              </a:rPr>
              <a:t>Building Stock Model: U &amp; F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ounded Rectangle 32"/>
          <p:cNvSpPr/>
          <p:nvPr/>
        </p:nvSpPr>
        <p:spPr>
          <a:xfrm>
            <a:off x="5148360" y="2359080"/>
            <a:ext cx="1814400" cy="94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Heating/Cooling Degree Days by Sub-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33"/>
          <p:cNvSpPr/>
          <p:nvPr/>
        </p:nvSpPr>
        <p:spPr>
          <a:xfrm>
            <a:off x="5105520" y="4027320"/>
            <a:ext cx="1904760" cy="838440"/>
          </a:xfrm>
          <a:prstGeom prst="rect">
            <a:avLst/>
          </a:prstGeom>
          <a:solidFill>
            <a:srgbClr val="8eb4e3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alibri"/>
              </a:rPr>
              <a:t>GCAM Detailed Build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ounded Rectangle 34"/>
          <p:cNvSpPr/>
          <p:nvPr/>
        </p:nvSpPr>
        <p:spPr>
          <a:xfrm>
            <a:off x="3059280" y="2359080"/>
            <a:ext cx="1873080" cy="9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Urbanization assumptions for each sub-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ounded Rectangle 35"/>
          <p:cNvSpPr/>
          <p:nvPr/>
        </p:nvSpPr>
        <p:spPr>
          <a:xfrm>
            <a:off x="1565280" y="119700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GCAM assumptions about population/ income for Chin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36"/>
          <p:cNvSpPr/>
          <p:nvPr/>
        </p:nvSpPr>
        <p:spPr>
          <a:xfrm>
            <a:off x="539640" y="3906720"/>
            <a:ext cx="1890720" cy="20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Historical info.: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Building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Codes/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U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FS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38"/>
          <p:cNvSpPr/>
          <p:nvPr/>
        </p:nvSpPr>
        <p:spPr>
          <a:xfrm>
            <a:off x="2716200" y="5143680"/>
            <a:ext cx="1905120" cy="59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Policy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3" name="Straight Arrow Connector 39"/>
          <p:cNvCxnSpPr>
            <a:stCxn id="1166" idx="3"/>
            <a:endCxn id="1168" idx="1"/>
          </p:cNvCxnSpPr>
          <p:nvPr/>
        </p:nvCxnSpPr>
        <p:spPr>
          <a:xfrm>
            <a:off x="4572000" y="4446720"/>
            <a:ext cx="53424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174" name="Straight Arrow Connector 40"/>
          <p:cNvCxnSpPr>
            <a:stCxn id="1172" idx="0"/>
            <a:endCxn id="1166" idx="2"/>
          </p:cNvCxnSpPr>
          <p:nvPr/>
        </p:nvCxnSpPr>
        <p:spPr>
          <a:xfrm flipH="1" flipV="1">
            <a:off x="3656880" y="4865760"/>
            <a:ext cx="11880" cy="278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175" name="Straight Arrow Connector 41"/>
          <p:cNvCxnSpPr>
            <a:stCxn id="1167" idx="2"/>
            <a:endCxn id="1168" idx="0"/>
          </p:cNvCxnSpPr>
          <p:nvPr/>
        </p:nvCxnSpPr>
        <p:spPr>
          <a:xfrm>
            <a:off x="6053760" y="3308040"/>
            <a:ext cx="3960" cy="719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176" name="Straight Arrow Connector 42"/>
          <p:cNvCxnSpPr>
            <a:stCxn id="1169" idx="2"/>
            <a:endCxn id="1168" idx="0"/>
          </p:cNvCxnSpPr>
          <p:nvPr/>
        </p:nvCxnSpPr>
        <p:spPr>
          <a:xfrm>
            <a:off x="3994560" y="3330360"/>
            <a:ext cx="2063160" cy="697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177" name="Straight Arrow Connector 43"/>
          <p:cNvCxnSpPr>
            <a:stCxn id="1169" idx="2"/>
            <a:endCxn id="1166" idx="0"/>
          </p:cNvCxnSpPr>
          <p:nvPr/>
        </p:nvCxnSpPr>
        <p:spPr>
          <a:xfrm flipH="1">
            <a:off x="3656880" y="3330360"/>
            <a:ext cx="338760" cy="697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178" name="Straight Arrow Connector 44"/>
          <p:cNvCxnSpPr>
            <a:stCxn id="1179" idx="0"/>
            <a:endCxn id="1168" idx="2"/>
          </p:cNvCxnSpPr>
          <p:nvPr/>
        </p:nvCxnSpPr>
        <p:spPr>
          <a:xfrm flipV="1">
            <a:off x="6053040" y="4865040"/>
            <a:ext cx="5760" cy="229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179" name="Rectangle 45"/>
          <p:cNvSpPr/>
          <p:nvPr/>
        </p:nvSpPr>
        <p:spPr>
          <a:xfrm>
            <a:off x="4960800" y="5094360"/>
            <a:ext cx="21830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Base-year building energy consumption by fuel and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46"/>
          <p:cNvSpPr/>
          <p:nvPr/>
        </p:nvSpPr>
        <p:spPr>
          <a:xfrm>
            <a:off x="7391520" y="4027320"/>
            <a:ext cx="1295280" cy="838440"/>
          </a:xfrm>
          <a:prstGeom prst="rect">
            <a:avLst/>
          </a:prstGeom>
          <a:solidFill>
            <a:srgbClr val="8eb4e3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alibri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1" name="Straight Arrow Connector 47"/>
          <p:cNvCxnSpPr>
            <a:stCxn id="1168" idx="3"/>
            <a:endCxn id="1180" idx="1"/>
          </p:cNvCxnSpPr>
          <p:nvPr/>
        </p:nvCxnSpPr>
        <p:spPr>
          <a:xfrm>
            <a:off x="7009920" y="4446720"/>
            <a:ext cx="3819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182" name="Rounded Rectangle 49"/>
          <p:cNvSpPr/>
          <p:nvPr/>
        </p:nvSpPr>
        <p:spPr>
          <a:xfrm>
            <a:off x="525600" y="2359080"/>
            <a:ext cx="2209680" cy="9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Income path for urban/rural for each sub-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3" name="Straight Arrow Connector 50"/>
          <p:cNvCxnSpPr>
            <a:stCxn id="1170" idx="2"/>
            <a:endCxn id="1169" idx="0"/>
          </p:cNvCxnSpPr>
          <p:nvPr/>
        </p:nvCxnSpPr>
        <p:spPr>
          <a:xfrm>
            <a:off x="2708280" y="2035080"/>
            <a:ext cx="1288080" cy="324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184" name="Straight Arrow Connector 51"/>
          <p:cNvCxnSpPr>
            <a:stCxn id="1170" idx="2"/>
            <a:endCxn id="1182" idx="0"/>
          </p:cNvCxnSpPr>
          <p:nvPr/>
        </p:nvCxnSpPr>
        <p:spPr>
          <a:xfrm flipH="1">
            <a:off x="1630440" y="2035080"/>
            <a:ext cx="1078200" cy="324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185" name="Straight Arrow Connector 52"/>
          <p:cNvCxnSpPr>
            <a:stCxn id="1182" idx="2"/>
            <a:endCxn id="1166" idx="0"/>
          </p:cNvCxnSpPr>
          <p:nvPr/>
        </p:nvCxnSpPr>
        <p:spPr>
          <a:xfrm>
            <a:off x="1629360" y="3330360"/>
            <a:ext cx="2027520" cy="697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186" name="Straight Arrow Connector 53"/>
          <p:cNvCxnSpPr>
            <a:stCxn id="1182" idx="2"/>
            <a:endCxn id="1168" idx="0"/>
          </p:cNvCxnSpPr>
          <p:nvPr/>
        </p:nvCxnSpPr>
        <p:spPr>
          <a:xfrm>
            <a:off x="1629360" y="3330360"/>
            <a:ext cx="4428360" cy="697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187" name="Straight Arrow Connector 57"/>
          <p:cNvCxnSpPr>
            <a:stCxn id="1169" idx="1"/>
            <a:endCxn id="1182" idx="3"/>
          </p:cNvCxnSpPr>
          <p:nvPr/>
        </p:nvCxnSpPr>
        <p:spPr>
          <a:xfrm flipH="1" flipV="1">
            <a:off x="2734920" y="2844000"/>
            <a:ext cx="32472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188" name="Straight Arrow Connector 66"/>
          <p:cNvCxnSpPr>
            <a:stCxn id="1171" idx="3"/>
            <a:endCxn id="1166" idx="1"/>
          </p:cNvCxnSpPr>
          <p:nvPr/>
        </p:nvCxnSpPr>
        <p:spPr>
          <a:xfrm flipV="1">
            <a:off x="2430000" y="4446360"/>
            <a:ext cx="313560" cy="475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dvanced Energy Guides for Existing Buildings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guid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ages of energy efficiency improvements at three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ages relative to the Commercial Reference Buil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ques to ensure energy savings ach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Energ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ssioning, Operations, Maintenance, and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112680" y="6483240"/>
            <a:ext cx="50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A663-7D52-4405-AD78-01EE81F878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ontacts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 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1-314-67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ha.yu@pnl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edydd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1-314-67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.evans@pnl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112680" y="6483240"/>
            <a:ext cx="50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30E5-66D1-42A5-AE77-D3AA360BEB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722160" y="36925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023"/>
                </a:solidFill>
                <a:latin typeface="Arial"/>
              </a:rPr>
              <a:t>THANK YOU! </a:t>
            </a:r>
            <a:endParaRPr b="1" lang="en-US" sz="4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722160" y="21920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112680" y="6483240"/>
            <a:ext cx="50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BF41-7FF2-4392-8D81-906508C8A9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Topics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-Based Codes and Energy Bench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 Building Energy Code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Energy Guides for Existing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112680" y="6483240"/>
            <a:ext cx="50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A19A-23F5-4655-B902-F91214D50A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Outcome-based codes and energy benchmarking 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’s Energy Conservation Building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 energy performance v. building design and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-based codes: energy usage of th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112680" y="6483240"/>
            <a:ext cx="50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6561-C4F6-42CE-B7B3-E81A59B5F2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Traditional Building Energy Codes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of building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ection of actual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anc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es and pen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-party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023"/>
                </a:solidFill>
                <a:latin typeface="Arial"/>
              </a:rPr>
              <a:t>Traditional code enforcement does not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loads and plug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ith modeled loads, theoretical and actual performance can differ substanti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lide Number Placeholder 3"/>
          <p:cNvSpPr/>
          <p:nvPr/>
        </p:nvSpPr>
        <p:spPr>
          <a:xfrm>
            <a:off x="112680" y="6483240"/>
            <a:ext cx="50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6808-226D-4B34-97F6-9908950EEC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pic>
        <p:nvPicPr>
          <p:cNvPr id="1110" name="Content Placeholder 4" descr=""/>
          <p:cNvPicPr/>
          <p:nvPr/>
        </p:nvPicPr>
        <p:blipFill>
          <a:blip r:embed="rId1"/>
          <a:stretch/>
        </p:blipFill>
        <p:spPr>
          <a:xfrm>
            <a:off x="407880" y="719280"/>
            <a:ext cx="7986960" cy="5432400"/>
          </a:xfrm>
          <a:prstGeom prst="rect">
            <a:avLst/>
          </a:prstGeom>
          <a:ln w="0">
            <a:noFill/>
          </a:ln>
        </p:spPr>
      </p:pic>
      <p:sp>
        <p:nvSpPr>
          <p:cNvPr id="1111" name="Slide Number Placeholder 3"/>
          <p:cNvSpPr/>
          <p:nvPr/>
        </p:nvSpPr>
        <p:spPr>
          <a:xfrm>
            <a:off x="112680" y="6483240"/>
            <a:ext cx="50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7F46-69F8-44F0-8CFC-7086FD51D0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Energy Benchmarking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a particular building to similar set of buildings to establish a benchmark and then scoring the particular building’s actual energy performance against the bench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imulated performance of the building as the bench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s and performance contr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companies and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lide Number Placeholder 3"/>
          <p:cNvSpPr/>
          <p:nvPr/>
        </p:nvSpPr>
        <p:spPr>
          <a:xfrm>
            <a:off x="112680" y="6483240"/>
            <a:ext cx="50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07C1-E9CE-477B-A033-BD538BA65A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Verification process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audits at set moment post-occup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energy consumption to benchmark could trigger pen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a benchmark that could trigger an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lide Number Placeholder 3"/>
          <p:cNvSpPr/>
          <p:nvPr/>
        </p:nvSpPr>
        <p:spPr>
          <a:xfrm>
            <a:off x="112680" y="6483240"/>
            <a:ext cx="50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3FE8-D1D9-45F9-BEC9-4EFFE1667A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China Building Energy Codes Modeling</a:t>
            </a: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91760" y="1676520"/>
            <a:ext cx="818676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 the “long-term” effect of China’s building codes/standards on its energy use and greenhouse gas emissions, consi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oeconomic development (income, urbanizat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sion of building floorspace and energ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retirement and code 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heterogeneity in building c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heterogeneity in the effect of climate 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7"/>
          <p:cNvGrpSpPr/>
          <p:nvPr/>
        </p:nvGrpSpPr>
        <p:grpSpPr>
          <a:xfrm>
            <a:off x="195120" y="1441440"/>
            <a:ext cx="8701200" cy="3884760"/>
            <a:chOff x="195120" y="1441440"/>
            <a:chExt cx="8701200" cy="3884760"/>
          </a:xfrm>
        </p:grpSpPr>
        <p:sp>
          <p:nvSpPr>
            <p:cNvPr id="1121" name="TextBox 691"/>
            <p:cNvSpPr/>
            <p:nvPr/>
          </p:nvSpPr>
          <p:spPr>
            <a:xfrm>
              <a:off x="4511880" y="1441440"/>
              <a:ext cx="1520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Arial"/>
                </a:rPr>
                <a:t>Energy Servic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Arial"/>
                </a:rPr>
                <a:t>Dema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TextBox 7"/>
            <p:cNvSpPr/>
            <p:nvPr/>
          </p:nvSpPr>
          <p:spPr>
            <a:xfrm>
              <a:off x="3116160" y="4503960"/>
              <a:ext cx="107784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mercial Building Floorsp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TextBox 673"/>
            <p:cNvSpPr/>
            <p:nvPr/>
          </p:nvSpPr>
          <p:spPr>
            <a:xfrm>
              <a:off x="398160" y="2668680"/>
              <a:ext cx="106668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4" name="Shape 167"/>
            <p:cNvCxnSpPr>
              <a:stCxn id="1123" idx="2"/>
              <a:endCxn id="1122" idx="1"/>
            </p:cNvCxnSpPr>
            <p:nvPr/>
          </p:nvCxnSpPr>
          <p:spPr>
            <a:xfrm flipH="1" rot="16200000">
              <a:off x="1267560" y="2978280"/>
              <a:ext cx="1513440" cy="2185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25" name="TextBox 7"/>
            <p:cNvSpPr/>
            <p:nvPr/>
          </p:nvSpPr>
          <p:spPr>
            <a:xfrm>
              <a:off x="1758600" y="2135160"/>
              <a:ext cx="107784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rban pop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Box 7"/>
            <p:cNvSpPr/>
            <p:nvPr/>
          </p:nvSpPr>
          <p:spPr>
            <a:xfrm>
              <a:off x="1758600" y="3325680"/>
              <a:ext cx="107784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ural pop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Box 7"/>
            <p:cNvSpPr/>
            <p:nvPr/>
          </p:nvSpPr>
          <p:spPr>
            <a:xfrm>
              <a:off x="3116160" y="2135160"/>
              <a:ext cx="107784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rban Building Floorsp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TextBox 7"/>
            <p:cNvSpPr/>
            <p:nvPr/>
          </p:nvSpPr>
          <p:spPr>
            <a:xfrm>
              <a:off x="3116160" y="3328920"/>
              <a:ext cx="107784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u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ilding Floorsp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9" name="Straight Arrow Connector 172"/>
            <p:cNvCxnSpPr>
              <a:stCxn id="1123" idx="3"/>
              <a:endCxn id="1125" idx="1"/>
            </p:cNvCxnSpPr>
            <p:nvPr/>
          </p:nvCxnSpPr>
          <p:spPr>
            <a:xfrm flipV="1">
              <a:off x="1464480" y="2458080"/>
              <a:ext cx="29412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30" name="Straight Arrow Connector 173"/>
            <p:cNvCxnSpPr>
              <a:stCxn id="1123" idx="3"/>
              <a:endCxn id="1126" idx="1"/>
            </p:cNvCxnSpPr>
            <p:nvPr/>
          </p:nvCxnSpPr>
          <p:spPr>
            <a:xfrm>
              <a:off x="1464480" y="2991960"/>
              <a:ext cx="294120" cy="65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31" name="TextBox 7"/>
            <p:cNvSpPr/>
            <p:nvPr/>
          </p:nvSpPr>
          <p:spPr>
            <a:xfrm>
              <a:off x="4522680" y="1949400"/>
              <a:ext cx="1382760" cy="100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o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H&amp;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gh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pli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7"/>
            <p:cNvSpPr/>
            <p:nvPr/>
          </p:nvSpPr>
          <p:spPr>
            <a:xfrm>
              <a:off x="4533840" y="3147840"/>
              <a:ext cx="1382760" cy="100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o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H&amp;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gh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pli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7"/>
            <p:cNvSpPr/>
            <p:nvPr/>
          </p:nvSpPr>
          <p:spPr>
            <a:xfrm>
              <a:off x="4533840" y="4319640"/>
              <a:ext cx="1382760" cy="100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o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H&amp;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gh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4" name="Straight Arrow Connector 177"/>
            <p:cNvCxnSpPr>
              <a:stCxn id="1127" idx="3"/>
              <a:endCxn id="1131" idx="1"/>
            </p:cNvCxnSpPr>
            <p:nvPr/>
          </p:nvCxnSpPr>
          <p:spPr>
            <a:xfrm flipV="1">
              <a:off x="4194000" y="2457000"/>
              <a:ext cx="329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135" name="Straight Arrow Connector 178"/>
            <p:cNvCxnSpPr>
              <a:stCxn id="1128" idx="3"/>
              <a:endCxn id="1132" idx="1"/>
            </p:cNvCxnSpPr>
            <p:nvPr/>
          </p:nvCxnSpPr>
          <p:spPr>
            <a:xfrm>
              <a:off x="4193640" y="3652920"/>
              <a:ext cx="34020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136" name="Straight Arrow Connector 179"/>
            <p:cNvCxnSpPr>
              <a:stCxn id="1122" idx="3"/>
              <a:endCxn id="1133" idx="1"/>
            </p:cNvCxnSpPr>
            <p:nvPr/>
          </p:nvCxnSpPr>
          <p:spPr>
            <a:xfrm>
              <a:off x="4193640" y="4827240"/>
              <a:ext cx="340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137" name="TextBox 7"/>
            <p:cNvSpPr/>
            <p:nvPr/>
          </p:nvSpPr>
          <p:spPr>
            <a:xfrm>
              <a:off x="6189840" y="2408040"/>
              <a:ext cx="1230120" cy="246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r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i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t pum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ct he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ok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ter he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andesc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uoresc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lid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m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plia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7"/>
            <p:cNvSpPr/>
            <p:nvPr/>
          </p:nvSpPr>
          <p:spPr>
            <a:xfrm>
              <a:off x="7655040" y="2960640"/>
              <a:ext cx="123012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tri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iom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d. biom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9" name="Straight Arrow Connector 182"/>
            <p:cNvCxnSpPr>
              <a:stCxn id="1138" idx="1"/>
              <a:endCxn id="1137" idx="3"/>
            </p:cNvCxnSpPr>
            <p:nvPr/>
          </p:nvCxnSpPr>
          <p:spPr>
            <a:xfrm flipH="1">
              <a:off x="7419600" y="3652920"/>
              <a:ext cx="2354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40" name="Elbow Connector 183"/>
            <p:cNvCxnSpPr>
              <a:stCxn id="1131" idx="3"/>
              <a:endCxn id="1137" idx="1"/>
            </p:cNvCxnSpPr>
            <p:nvPr/>
          </p:nvCxnSpPr>
          <p:spPr>
            <a:xfrm>
              <a:off x="5905080" y="2457000"/>
              <a:ext cx="284400" cy="1197360"/>
            </a:xfrm>
            <a:prstGeom prst="bentConnector3">
              <a:avLst>
                <a:gd name="adj1" fmla="val 49936"/>
              </a:avLst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1141" name="Elbow Connector 184"/>
            <p:cNvCxnSpPr>
              <a:stCxn id="1132" idx="3"/>
              <a:endCxn id="1137" idx="1"/>
            </p:cNvCxnSpPr>
            <p:nvPr/>
          </p:nvCxnSpPr>
          <p:spPr>
            <a:xfrm flipV="1">
              <a:off x="5916600" y="3654000"/>
              <a:ext cx="27324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1142" name="Elbow Connector 185"/>
            <p:cNvCxnSpPr>
              <a:stCxn id="1133" idx="3"/>
              <a:endCxn id="1137" idx="1"/>
            </p:cNvCxnSpPr>
            <p:nvPr/>
          </p:nvCxnSpPr>
          <p:spPr>
            <a:xfrm flipV="1">
              <a:off x="5916600" y="3653640"/>
              <a:ext cx="273240" cy="117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1143" name="TextBox 691"/>
            <p:cNvSpPr/>
            <p:nvPr/>
          </p:nvSpPr>
          <p:spPr>
            <a:xfrm>
              <a:off x="6113520" y="1474560"/>
              <a:ext cx="133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Arial"/>
                </a:rPr>
                <a:t>End-Use Technolog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4" name="Straight Arrow Connector 187"/>
            <p:cNvCxnSpPr>
              <a:stCxn id="1125" idx="3"/>
              <a:endCxn id="1127" idx="1"/>
            </p:cNvCxnSpPr>
            <p:nvPr/>
          </p:nvCxnSpPr>
          <p:spPr>
            <a:xfrm>
              <a:off x="2836800" y="2458800"/>
              <a:ext cx="280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45" name="Straight Arrow Connector 188"/>
            <p:cNvCxnSpPr>
              <a:stCxn id="1126" idx="3"/>
              <a:endCxn id="1128" idx="1"/>
            </p:cNvCxnSpPr>
            <p:nvPr/>
          </p:nvCxnSpPr>
          <p:spPr>
            <a:xfrm>
              <a:off x="2836800" y="3647880"/>
              <a:ext cx="28008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46" name="TextBox 691"/>
            <p:cNvSpPr/>
            <p:nvPr/>
          </p:nvSpPr>
          <p:spPr>
            <a:xfrm>
              <a:off x="1503000" y="15508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Arial"/>
                </a:rPr>
                <a:t>Urbaniz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Box 691"/>
            <p:cNvSpPr/>
            <p:nvPr/>
          </p:nvSpPr>
          <p:spPr>
            <a:xfrm>
              <a:off x="2836800" y="1446120"/>
              <a:ext cx="167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Arial"/>
                </a:rPr>
                <a:t>Floorsp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Arial"/>
                </a:rPr>
                <a:t>Expa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Box 691"/>
            <p:cNvSpPr/>
            <p:nvPr/>
          </p:nvSpPr>
          <p:spPr>
            <a:xfrm>
              <a:off x="7561440" y="1474560"/>
              <a:ext cx="133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Arial"/>
                </a:rPr>
                <a:t>Delivered Fu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Box 691"/>
            <p:cNvSpPr/>
            <p:nvPr/>
          </p:nvSpPr>
          <p:spPr>
            <a:xfrm>
              <a:off x="195120" y="144936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Arial"/>
                </a:rPr>
                <a:t>Socioeconom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Arial"/>
                </a:rPr>
                <a:t>Assum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74480" y="460080"/>
            <a:ext cx="82040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The Detailed Model for China Building Energy Use</a:t>
            </a:r>
            <a:br>
              <a:rPr sz="3000"/>
            </a:br>
            <a:endParaRPr b="1" lang="en-US" sz="3000" spc="-1" strike="noStrike">
              <a:solidFill>
                <a:srgbClr val="cb70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9:28:32Z</dcterms:created>
  <dc:creator>Staff</dc:creator>
  <dc:description/>
  <dc:language>en-US</dc:language>
  <cp:lastModifiedBy>Jacob Halcomb</cp:lastModifiedBy>
  <dcterms:modified xsi:type="dcterms:W3CDTF">2011-03-14T14:05:08Z</dcterms:modified>
  <cp:revision>90</cp:revision>
  <dc:subject/>
  <dc:title>Slide 1</dc:title>
</cp:coreProperties>
</file>