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287136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ildings Under UNFCCC Flexible Mechanisms </a:t>
            </a:r>
            <a:br>
              <a:rPr sz="30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ting the Scene: UNFCCC Charge for Buildings and Flexible Mechanisms</a:t>
            </a:r>
            <a:br>
              <a:rPr sz="3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24960" y="43257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Venue:  Marshall Room, UNFCCC Headquarters 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4 March 201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59280" y="6237360"/>
            <a:ext cx="5688000" cy="4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janana Hegd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ndards Setting Unit, Sustainable Development Mechanism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-360"/>
            <a:ext cx="8113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DM energy efficiency methodologies-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at has worked?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12760" y="620640"/>
            <a:ext cx="6771960" cy="5803560"/>
            <a:chOff x="1112760" y="620640"/>
            <a:chExt cx="6771960" cy="58035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rcRect l="18278" t="7112" r="15208" b="0"/>
            <a:stretch/>
          </p:blipFill>
          <p:spPr>
            <a:xfrm>
              <a:off x="1112760" y="620640"/>
              <a:ext cx="6771960" cy="580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"/>
            <p:cNvGrpSpPr/>
            <p:nvPr/>
          </p:nvGrpSpPr>
          <p:grpSpPr>
            <a:xfrm>
              <a:off x="1641600" y="1198800"/>
              <a:ext cx="4417200" cy="3899160"/>
              <a:chOff x="1641600" y="1198800"/>
              <a:chExt cx="4417200" cy="3899160"/>
            </a:xfrm>
          </p:grpSpPr>
          <p:sp>
            <p:nvSpPr>
              <p:cNvPr id="275" name=""/>
              <p:cNvSpPr/>
              <p:nvPr/>
            </p:nvSpPr>
            <p:spPr>
              <a:xfrm>
                <a:off x="3107160" y="2081880"/>
                <a:ext cx="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50240" y="1828440"/>
                <a:ext cx="4056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MS AE :Whole building, simu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45560" y="1198800"/>
                <a:ext cx="176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M 46: Ligh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42320" y="3173400"/>
                <a:ext cx="3957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MS II E :efficiency and fuel switc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53640" y="3926880"/>
                <a:ext cx="1905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MS II J :ligh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81120" y="4792680"/>
                <a:ext cx="3577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MS II C : specific technolog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41600" y="2588760"/>
                <a:ext cx="2684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MS III X: Refrigera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971640" y="3141720"/>
            <a:ext cx="6553080" cy="79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88920" y="1628640"/>
            <a:ext cx="6553440" cy="792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56800" y="182880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07120" y="3213000"/>
            <a:ext cx="1101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 POAs,  31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gistered AMS II E project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35040" y="946080"/>
          <a:ext cx="7867440" cy="5062680"/>
        </p:xfrm>
        <a:graphic>
          <a:graphicData uri="http://schemas.openxmlformats.org/drawingml/2006/table">
            <a:tbl>
              <a:tblPr/>
              <a:tblGrid>
                <a:gridCol w="2281320"/>
                <a:gridCol w="1382760"/>
                <a:gridCol w="1785600"/>
                <a:gridCol w="1800360"/>
                <a:gridCol w="617400"/>
              </a:tblGrid>
              <a:tr h="109872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ment in Energy Consumption of a Ho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 &amp; Pa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E new buil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S-II.E.+AMS-II.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efficiency measures in "Technopolis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 &amp; Pa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VAC &amp; l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S-II.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ldova Biomass Heating in Rural Commun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 &amp; Central 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E public build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S-II.E.+AMS-I.C.+AMS-III.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yasa low-cost urban housing energy upgrad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ighting &amp; Insulation &amp; S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S-II.E.+AMS-I.C.+AMS-II.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rogrammatic</a:t>
            </a:r>
            <a:r>
              <a:rPr b="1" lang="en-US" sz="28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 C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4211640" y="907920"/>
            <a:ext cx="464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policies or enforcement of existing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olicies for Mitig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Energy secu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0 Po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the pipe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lenges remain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e.g. liability sharing, addition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some partially resolved (e.g.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bination methodologies, debundling che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ioneer program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erging with recent EE methodolo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I AE Energy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efficiency in residential build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B 48, 07/200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I AR Substituting fossil fuel based lighting with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ED ligh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B 58, 11/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0920" y="1413000"/>
            <a:ext cx="3848040" cy="4336560"/>
            <a:chOff x="250920" y="1413000"/>
            <a:chExt cx="3848040" cy="4336560"/>
          </a:xfrm>
        </p:grpSpPr>
        <p:sp>
          <p:nvSpPr>
            <p:cNvPr id="291" name="WordArt 34"/>
            <p:cNvSpPr txBox="1"/>
            <p:nvPr/>
          </p:nvSpPr>
          <p:spPr>
            <a:xfrm>
              <a:off x="1251720" y="1413000"/>
              <a:ext cx="2127240" cy="607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ROGRAM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92" name="Picture 7" descr="umbrella.png"/>
            <p:cNvPicPr/>
            <p:nvPr/>
          </p:nvPicPr>
          <p:blipFill>
            <a:blip r:embed="rId7"/>
            <a:stretch/>
          </p:blipFill>
          <p:spPr>
            <a:xfrm>
              <a:off x="250920" y="2020320"/>
              <a:ext cx="3848040" cy="372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>
            <a:off x="249480" y="658332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Cool N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anded Microscale additionality guidelines- solution t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A additionality problems?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46083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397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rier due to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nders project additional (conditions app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29988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 size in CDM:  =&lt;5MW, =&lt;20 GWh/y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=&lt;20kt/yr? S=5+20+20?, applicable to CP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29988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Geographical lo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DCs OR underdeveloped zones OR off gr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as in DCs (small size and high investment ris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29988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nd us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CDM measures are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ouseholds/communities/SM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urrently low share of CDM benefits to these target grou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29988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merging RE technolog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w share in national energy mi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Board and DNAs to identify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421320" y="327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424480" y="1390680"/>
            <a:ext cx="33242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184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sh list for the workshop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35040" y="105228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37600" indent="-237600">
              <a:lnSpc>
                <a:spcPts val="2398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solutions for large scale and small scale methodologies under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ts val="2398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approach versus metering approach for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baseline/reference/benchmark build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and conservativeness of calibr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sh list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ts val="2398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future emissions ( unmet/suppressed dem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ts val="2398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barrier for building EE methodology (language for non binding best practice example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cost analysis, … CER revenue as the income and the PP expenses as the only costs, in cases where:  (a) The project involves distributed, household end-use energy efficiency measures; (b) The PP receives no revenue other than the CER revenue; and (c) The PP actually supplies the energy efficiency measures (equipment).  That is in these cases the end-user energy cost savings, or other end-user benefits/costs do not have to be consider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34680" y="-171720"/>
            <a:ext cx="786924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ing is not new in CDM- Numerous waste sector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jects rely on IPCC model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65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C first order decay model ( baseline methane emission is a function of height of landf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C Waste water model (Methane emissions from lagoon is a function of depth of the water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field measurements of type, qty of waste/waste water, sample check of organic content in some insta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859280" y="949320"/>
            <a:ext cx="3529080" cy="4784760"/>
            <a:chOff x="4859280" y="949320"/>
            <a:chExt cx="3529080" cy="47847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859280" y="1268280"/>
              <a:ext cx="352908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4871880" y="3673440"/>
              <a:ext cx="3494160" cy="20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05" name=""/>
            <p:cNvSpPr/>
            <p:nvPr/>
          </p:nvSpPr>
          <p:spPr>
            <a:xfrm>
              <a:off x="6155280" y="949320"/>
              <a:ext cx="90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df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56000" y="3340080"/>
              <a:ext cx="919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go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9:55:48Z</dcterms:created>
  <dc:creator>Detlef Abbing</dc:creator>
  <dc:description/>
  <dc:language>en-US</dc:language>
  <cp:lastModifiedBy>hegde</cp:lastModifiedBy>
  <cp:lastPrinted>2004-03-02T21:24:15Z</cp:lastPrinted>
  <dcterms:modified xsi:type="dcterms:W3CDTF">2011-03-14T07:20:29Z</dcterms:modified>
  <cp:revision>238</cp:revision>
  <dc:subject/>
  <dc:title>TITLE HEADER</dc:title>
</cp:coreProperties>
</file>