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C73E-0D68-445E-BACD-FC4CCAAEC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HRAE Guideline 14-2002 or the IPMVP</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8255-6D67-4EE7-9099-B395425A726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Project 1794 (AMS II.E.) used simulation modeling</a:t>
            </a:r>
            <a:endParaRPr b="0" lang="en-US" sz="2400" spc="-1" strike="noStrike">
              <a:solidFill>
                <a:srgbClr val="000000"/>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AMS III.AE. explicitly includes simulation modeling</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A2C8-85E3-428E-91FB-E0FC803C9B1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2A34-55E6-4A64-B195-51AC155AC7A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D541B-B8F7-4E02-91E3-96E3CA8A4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42EF7-C6EA-4310-88BF-AD6C5E5EF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3CF8FE-33E6-4EBF-BFBF-663DADA723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DDA8FA-DFE7-418E-BB6A-E9F1092EF9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D4C4BB-0C49-48A6-87D2-265514A917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F7A37D-AA65-493F-99B2-6FA6FF361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97CBB-DE3E-4366-86CC-70AEEE16D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6CB0FA-5A1E-410F-BC5C-D5582C8270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42E801-83BC-41EC-8B0B-7B605CCD0A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7657EF-523F-48BF-9C51-A25E13705A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A1B764-300F-46D0-9F9F-08BEB448DC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475FCA-F744-4E50-B3C9-848370996A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61642-B545-49BD-96C5-12F38573E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087912-6147-421A-BB07-ACD4A1089D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13BEEB-09C0-4FB7-932A-24AF3144D7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352A85-A7CD-405F-8444-57A1E65235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4FF950-5102-4E54-8ABD-DAF742D3CA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C08AF4-6819-4180-A2F2-3345FB8506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D3617E-DA0F-4953-97C4-D08E75F730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E844A3-3672-4395-9628-E40739E8FF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D3267E-29FC-46B1-BE31-B5EAEC7A32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0C6108-611E-4F1C-ACE8-7236E0CFBB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761DC6-63EE-4939-97D4-2F0F06DF10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24445-3CEA-43FF-B0C5-606A272DC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953FA5-ABCF-47D2-988D-8C8AAA447E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03689B-A935-4B06-9303-6B7C6CD109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94109E-CA5B-4430-815D-482AE5F863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2927B3-D915-4F4C-AFC0-D71348BF42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B5050F-069D-40EE-BCF8-4BD81CDB99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CC7462-2587-46EA-875E-B71C1C4119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B6DFEA-ED61-47EB-8B39-FD4B3ABB82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C934F0-3CB0-40EE-BFC0-CE71943254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A156AD-76C0-4899-AA7D-4EFDFD80CC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913955-6C70-45A6-A86C-DCFE7FCEC4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0595A-DD15-4833-8AAB-85672DBDB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C0638D-D8DC-4EEC-967E-3ADFAC6257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379E0C-546E-4304-ACF0-5C7A743DBF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41E9FF-2ACA-490D-ADF2-D98BE41FB5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1DD905-6F2C-4E46-920C-9DC4C48605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C2C16A-DD04-4686-96AD-9591363169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0FA4D7-06BC-4BC7-B5B7-5BBD428913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7CDC2B-A34F-4A9D-A0EB-19659606F4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8EEAA2-B453-45B6-9501-E1A8E7A826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FFC8B4-0273-4DEF-87B2-8DB1E5DDC6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C083D5-82D1-46CF-BBE7-7B9F1E77C4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6A211-976C-47DF-B808-10B84F77E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B874E5-E0DB-4550-B755-13B094F5A7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D0E037-73B9-4DB9-93AC-36AF6821E2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3C8D19-7C2D-46EB-9613-1ED1365002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AC0905-EF15-4D51-9364-834D90D5C2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2C539D-6A56-47D0-8FB8-BD2CD883EA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24C09-71BE-4E17-889F-38C73B06E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F4679-8E88-414B-ACBD-639034E9C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71BB1-925E-4D08-B797-9CD80AAF4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99750-6637-4339-87F6-20B0AFF4A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95ED5-DD15-4B68-9BF6-60A385BB2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08E7-733A-4CD1-96F7-0AE08A8AA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AFCE5-00F4-4A86-B6D0-040107C9C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BA9FD-EF51-4606-AA9F-8A966C35A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9EFF4-111D-432F-AF64-538DB8837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E0DC0-4764-4827-822F-C9C381746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D3895-93D1-4E1D-84F4-A96450D70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C9F05D-BFF3-4708-A211-53E85EF224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EB87F-74BB-476A-81BD-75A78FE37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98BCE-F968-4BBA-A73B-B740F8958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F0C032-3709-4F84-BF9F-7294281A0C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75F609-EBAD-49CD-A7E5-13AAD46602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A25E4-BEC4-4D71-B469-360138B15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336D24-50BF-4250-B7D4-317CE7723D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2A9DD-9688-46E9-B497-596811F8C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BC38E-8546-41F0-9C00-84D841435D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59732-0FB9-4502-B9A0-D4BC40988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DCA870-7FEA-4CB3-9F1C-673A3CAFF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C0F945-78A9-44F6-B308-E62E38635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F173EA-9597-478C-BD5D-003E4E4B6B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139DD5-4E84-404D-9066-67BC3894C4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0CE0C-89B9-4C00-A32A-F2BDD494BF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493A51-2DA7-4941-9D3D-1550C65357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FE720-80F3-45A0-B922-12994EA85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226BC-829B-4CD5-8085-5A95AD406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46FAA3-F263-42FB-86EE-8A9164463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AB6B3-DECB-4847-81BD-15A3153A0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E9CED-87C9-4C2D-8F3A-D886BB62E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58630-7E62-48B2-BF56-26F7A6BA5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32A68-3F6B-4D1A-8389-827FD1DC3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042C27-5A8F-4E2C-9451-17BFA4182F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108F41-1624-4736-856F-071C915539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D4370A-D8FA-4C7C-AF36-3120F21E6A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B9B7A5-227F-4ED9-9B28-2D73E99D2E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B68F-A605-41AE-B823-D3FAB596B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911B4C-DE22-48D7-BEBA-6A55140EB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0E2191-8412-46F1-9542-0980D1FBD8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47869-43EC-459D-AA6E-0135F35B54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FA690-5C46-4F97-8593-021F577900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8F99B-9EAD-4375-B55B-D0621D4B71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F6B75-21E2-4A8B-B43E-3D147D94D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D5F38-2382-49A1-8148-ED3FF20D6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CFE9A2-E477-4A37-AFE0-BEA280140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2C6FB4-1219-4E0B-B7F0-6FE61A4A3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426531-4BE2-4016-81D8-F0505CE844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443E7-3021-4E07-97CB-A08399783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D88F4E-1E18-4070-8A88-FF9D3408C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8C4323-4709-4450-98F6-5FEFF3F447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4463A9-9055-45CF-BE3C-7C54972CE1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9B2E0B-F64D-4CC0-AD8F-ADED3ABC50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F76FA-174D-4DB9-80AD-C4BDE6A258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C55D59-B678-41CF-BF00-387901F007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2212B3-C8B2-4400-8186-A756AA95AE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14C1F-C167-4471-81CD-0EAF412EE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4C2892-709B-48D0-A52D-9DE93BE385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33DE4-75C1-4742-B33E-11FFE47F5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C9FE6-8EFC-447C-A534-A8B3F13F6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981F93-8651-4D22-9898-08E151836C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E07480-2C58-4786-8004-2B258C394A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EB2C3D-D568-4278-B284-0D4674575E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BF4ED2-26BB-4B5D-B276-9B4DEC1685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6A5484-BB82-4B17-B176-7C1641094D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2BB36-869A-42FE-B020-1B5C4B3532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80525-57D4-4893-98C3-BF3245C02E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9EE2EA-7B68-4329-B8CC-B00EEE7169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2CFDDD-D372-4FAD-A8D7-D23693868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F1E12-4886-474B-BE3B-992C71E4D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67ABF-F1F8-4963-B032-B51B060C2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5C86A-4E1E-4261-A786-C284F581F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C7CAE0-95DC-432B-AEA3-54AF59EED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D07CAB-4C4A-4E42-A085-79D799140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52F2E7-9908-439D-B80F-4D2F5AA7D9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4BB0D8-46E3-48FA-83A6-703ACDDE99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E851C5-392D-4EF3-99E5-CC49092A59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B98DB5-B226-46BC-9B13-D53DD7FB2C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2FAB7-ABF1-4E61-A278-B4FA434567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D8FC7-FBF2-4FEB-AAB7-4DC0B4C334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023809-E200-473B-8BDA-7A3376A961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06239-6FFF-40A3-9CB3-DF6781580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E385B0-F516-4E56-BE9E-A3FAF7182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352C71-5D3F-4F6E-9A8F-6DE61E8C9E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DAB0CD-845A-4600-B87E-6E06FEE40C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8C412F-8048-48C2-A441-6AB7EF8910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AA9AE8-C9E2-4D85-B944-3D76B8E5D4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939B4F-7983-41C1-9221-4604EC5421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5FBFF7-32BA-49A7-9A78-8359EE2004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6D8138-D89D-4AA9-BE0F-0BBA853277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9C4D85-9D07-4EE1-9D4B-105976D0DF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A0C7C2-FB6D-4319-9DCB-5230977A32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41A4-C2E9-4F74-A70E-4A890117BB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7FCA-A50E-4AC2-B7FA-462BA0B9B2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D131-69BC-4118-B538-8201AE17AE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4929-42D2-49C6-8194-22B65AEF0E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92CD-AC3D-4133-AC8E-ED7C5B3C39E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75F4-4580-4D3E-8BA2-01E398A45F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1DAE-BC74-4158-BDB8-19E8F54FE7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C6E1-AAA4-4269-AA2D-C897243E8B6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6F15-81F1-4BC8-9CC8-6CF26840C4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810F-EA64-4478-B8CA-61C36CE8FA6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DDCB-4CE8-4D5C-AC41-D862082537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c08"/>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F8A8-56E1-4A81-AE10-F70022583E7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472760"/>
            <a:ext cx="7772400" cy="2187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SC-NM0053</a:t>
            </a:r>
            <a:endParaRPr b="0" lang="en-US" sz="4400" spc="-1" strike="noStrike">
              <a:solidFill>
                <a:srgbClr val="ffffff"/>
              </a:solidFill>
              <a:latin typeface="Calibri"/>
            </a:endParaRPr>
          </a:p>
        </p:txBody>
      </p:sp>
      <p:sp>
        <p:nvSpPr>
          <p:cNvPr id="500" name="PlaceHolder 2"/>
          <p:cNvSpPr>
            <a:spLocks noGrp="1"/>
          </p:cNvSpPr>
          <p:nvPr>
            <p:ph type="subTitle"/>
          </p:nvPr>
        </p:nvSpPr>
        <p:spPr>
          <a:xfrm>
            <a:off x="1215720" y="2943000"/>
            <a:ext cx="6716520" cy="3290760"/>
          </a:xfrm>
          <a:prstGeom prst="rect">
            <a:avLst/>
          </a:prstGeom>
          <a:noFill/>
          <a:ln w="0">
            <a:noFill/>
          </a:ln>
        </p:spPr>
        <p:txBody>
          <a:bodyPr anchor="t">
            <a:noAutofit/>
          </a:bodyPr>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Determination of Greenhouse Gas Emissions Reductions Based on Whole-Building Simulation of Building Mitigation Efforts Using eQUEST/DOE-2.2</a:t>
            </a:r>
            <a:endParaRPr b="0" lang="en-US" sz="3000" spc="-1" strike="noStrike">
              <a:solidFill>
                <a:srgbClr val="ffffff"/>
              </a:solidFill>
              <a:latin typeface="Calibri"/>
            </a:endParaRPr>
          </a:p>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nne Arquit Niederberger</a:t>
            </a:r>
            <a:endParaRPr b="0" lang="en-US" sz="3000" spc="-1" strike="noStrike">
              <a:solidFill>
                <a:srgbClr val="ffffff"/>
              </a:solidFill>
              <a:latin typeface="Calibri"/>
            </a:endParaRPr>
          </a:p>
          <a:p>
            <a:pPr indent="0" algn="ctr">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arch 14, 2011</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1: Data Collection</a:t>
            </a:r>
            <a:endParaRPr b="0" lang="en-US" sz="4400" spc="-1" strike="noStrike">
              <a:solidFill>
                <a:srgbClr val="ffffff"/>
              </a:solidFill>
              <a:latin typeface="Calibri"/>
            </a:endParaRPr>
          </a:p>
        </p:txBody>
      </p:sp>
      <p:sp>
        <p:nvSpPr>
          <p:cNvPr id="524"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ompile data to describe benchmark building, including:</a:t>
            </a:r>
            <a:endParaRPr b="0" lang="en-US" sz="2800" spc="-1" strike="noStrike">
              <a:solidFill>
                <a:srgbClr val="ffffff"/>
              </a:solidFill>
              <a:latin typeface="Calibri"/>
            </a:endParaRPr>
          </a:p>
          <a:p>
            <a:pPr lvl="1" marL="984240" indent="-44784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Physical properties (building envelope and thermal properties)</a:t>
            </a:r>
            <a:endParaRPr b="0" lang="en-US" sz="2400" spc="-1" strike="noStrike">
              <a:solidFill>
                <a:srgbClr val="ffffff"/>
              </a:solidFill>
              <a:latin typeface="Calibri"/>
            </a:endParaRPr>
          </a:p>
          <a:p>
            <a:pPr lvl="1" marL="984240" indent="-44784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Space conditioning system</a:t>
            </a:r>
            <a:endParaRPr b="0" lang="en-US" sz="2400" spc="-1" strike="noStrike">
              <a:solidFill>
                <a:srgbClr val="ffffff"/>
              </a:solidFill>
              <a:latin typeface="Calibri"/>
            </a:endParaRPr>
          </a:p>
          <a:p>
            <a:pPr lvl="1" marL="984240" indent="-44784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Calibri"/>
              </a:rPr>
              <a:t>Initial assumptions for internal loads and building operations (to be calibrated in Step 2)</a:t>
            </a:r>
            <a:endParaRPr b="0" lang="en-US" sz="2400" spc="-1" strike="noStrike">
              <a:solidFill>
                <a:srgbClr val="ffffff"/>
              </a:solidFill>
              <a:latin typeface="Calibri"/>
            </a:endParaRPr>
          </a:p>
          <a:p>
            <a:pPr marL="514440" indent="-5144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 initial benchmark building model</a:t>
            </a:r>
            <a:br>
              <a:rPr sz="2800"/>
            </a:br>
            <a:r>
              <a:rPr b="0" lang="en-US" sz="2800" spc="-1" strike="noStrike">
                <a:solidFill>
                  <a:srgbClr val="ffffff"/>
                </a:solidFill>
                <a:latin typeface="Calibri"/>
              </a:rPr>
              <a:t>= simulation input fil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tep 2: Pre-Implementation Calibration</a:t>
            </a:r>
            <a:endParaRPr b="0" lang="en-US" sz="4000" spc="-1" strike="noStrike">
              <a:solidFill>
                <a:srgbClr val="ffffff"/>
              </a:solidFill>
              <a:latin typeface="Calibri"/>
            </a:endParaRPr>
          </a:p>
        </p:txBody>
      </p:sp>
      <p:sp>
        <p:nvSpPr>
          <p:cNvPr id="5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Procedure:</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Run simulation using input file from Step 1</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Compare simulation output for the benchmark building to data typical for the building stock or new constructio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Iteratively refine modeling rules (assumptions on internal loads and building operation), as needed </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Result: Calibrated version of eQUEST = pre-defined set of modeling rul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tep 3: Computer Simulation to Estimate Energy Savings</a:t>
            </a:r>
            <a:endParaRPr b="0" lang="en-US" sz="4000" spc="-1" strike="noStrike">
              <a:solidFill>
                <a:srgbClr val="ffffff"/>
              </a:solidFill>
              <a:latin typeface="Calibri"/>
            </a:endParaRPr>
          </a:p>
        </p:txBody>
      </p:sp>
      <p:sp>
        <p:nvSpPr>
          <p:cNvPr id="52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Energy savings for baseline and project building are simulated using project building input file:</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ffffff"/>
                </a:solidFill>
                <a:latin typeface="Calibri"/>
              </a:rPr>
              <a:t>ex ante </a:t>
            </a:r>
            <a:r>
              <a:rPr b="0" lang="en-US" sz="2400" spc="-1" strike="noStrike">
                <a:solidFill>
                  <a:srgbClr val="ffffff"/>
                </a:solidFill>
                <a:latin typeface="Calibri"/>
              </a:rPr>
              <a:t>(for validation purpose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ffffff"/>
                </a:solidFill>
                <a:latin typeface="Calibri"/>
              </a:rPr>
              <a:t>ex post </a:t>
            </a:r>
            <a:r>
              <a:rPr b="0" lang="en-US" sz="2400" spc="-1" strike="noStrike">
                <a:solidFill>
                  <a:srgbClr val="ffffff"/>
                </a:solidFill>
                <a:latin typeface="Calibri"/>
              </a:rPr>
              <a:t>(for crediting purposes), using actual weather data and emission factors for the year in question</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Baseline &amp; project models are identical, except for the mitigation measures (all other factors, including weather and occupancy, are uniform)</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Isolation of effects of mitigation measures is major advantage of simulation approach</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Monitoring</a:t>
            </a:r>
            <a:endParaRPr b="0" lang="en-US" sz="4400" spc="-1" strike="noStrike">
              <a:solidFill>
                <a:srgbClr val="ffffff"/>
              </a:solidFill>
              <a:latin typeface="Calibri"/>
            </a:endParaRPr>
          </a:p>
        </p:txBody>
      </p:sp>
      <p:sp>
        <p:nvSpPr>
          <p:cNvPr id="53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re-Validation Information</a:t>
            </a:r>
            <a:endParaRPr b="0" lang="en-US" sz="2400" spc="-1" strike="noStrike">
              <a:solidFill>
                <a:srgbClr val="ffffff"/>
              </a:solidFill>
              <a:latin typeface="Calibri"/>
            </a:endParaRPr>
          </a:p>
        </p:txBody>
      </p:sp>
      <p:sp>
        <p:nvSpPr>
          <p:cNvPr id="53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oftware Versio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tep 1 input files to define benchmark building</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tep 2 information documenting calibration proces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tep 3 input files for project building</a:t>
            </a:r>
            <a:endParaRPr b="0" lang="en-US" sz="2400" spc="-1" strike="noStrike">
              <a:solidFill>
                <a:srgbClr val="ffffff"/>
              </a:solidFill>
              <a:latin typeface="Calibri"/>
            </a:endParaRPr>
          </a:p>
        </p:txBody>
      </p:sp>
      <p:sp>
        <p:nvSpPr>
          <p:cNvPr id="53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During Crediting Period</a:t>
            </a:r>
            <a:endParaRPr b="0" lang="en-US" sz="2400" spc="-1" strike="noStrike">
              <a:solidFill>
                <a:srgbClr val="ffffff"/>
              </a:solidFill>
              <a:latin typeface="Calibri"/>
            </a:endParaRPr>
          </a:p>
        </p:txBody>
      </p:sp>
      <p:sp>
        <p:nvSpPr>
          <p:cNvPr id="533" name=""/>
          <p:cNvSpPr txBox="1"/>
          <p:nvPr/>
        </p:nvSpPr>
        <p:spPr>
          <a:xfrm>
            <a:off x="4644720" y="2174760"/>
            <a:ext cx="4041720" cy="3951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eather data</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lectricity emission factor (if applicable)</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nput and output files from model simulation of electrical and thermal energy savings performed under Step 3</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nergy consumption of the project building on at least a monthly ba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tep 4: Optional Post-Installation Calibration</a:t>
            </a:r>
            <a:endParaRPr b="0" lang="en-US" sz="4000" spc="-1" strike="noStrike">
              <a:solidFill>
                <a:srgbClr val="ffffff"/>
              </a:solidFill>
              <a:latin typeface="Calibri"/>
            </a:endParaRPr>
          </a:p>
        </p:txBody>
      </p:sp>
      <p:sp>
        <p:nvSpPr>
          <p:cNvPr id="535" name=""/>
          <p:cNvSpPr txBox="1"/>
          <p:nvPr/>
        </p:nvSpPr>
        <p:spPr>
          <a:xfrm>
            <a:off x="457200" y="1600200"/>
            <a:ext cx="8229600" cy="48211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Deviations in energy use obtained from post-installation monitoring (e.g., utility bills) compared with simulated output values</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hen measured data for project building are:</a:t>
            </a:r>
            <a:endParaRPr b="0" lang="en-US" sz="2800" spc="-1" strike="noStrike">
              <a:solidFill>
                <a:srgbClr val="ffffff"/>
              </a:solidFill>
              <a:latin typeface="Calibri"/>
            </a:endParaRPr>
          </a:p>
          <a:p>
            <a:pPr lvl="2" marL="1789200" indent="-1432080">
              <a:lnSpc>
                <a:spcPct val="90000"/>
              </a:lnSpc>
              <a:spcBef>
                <a:spcPts val="55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Calibri"/>
              </a:rPr>
              <a:t>≤ </a:t>
            </a:r>
            <a:r>
              <a:rPr b="0" lang="en-US" sz="2200" spc="-1" strike="noStrike">
                <a:solidFill>
                  <a:srgbClr val="ffffff"/>
                </a:solidFill>
                <a:latin typeface="Calibri"/>
              </a:rPr>
              <a:t>simulated value: Use simulated energy consumption in baseline and project activity</a:t>
            </a:r>
            <a:endParaRPr b="0" lang="en-US" sz="2200" spc="-1" strike="noStrike">
              <a:solidFill>
                <a:srgbClr val="ffffff"/>
              </a:solidFill>
              <a:latin typeface="Calibri"/>
            </a:endParaRPr>
          </a:p>
          <a:p>
            <a:pPr lvl="2" marL="1789200" indent="-1432080">
              <a:lnSpc>
                <a:spcPct val="90000"/>
              </a:lnSpc>
              <a:spcBef>
                <a:spcPts val="55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Calibri"/>
              </a:rPr>
              <a:t>&lt; 20% higher than simulated value: Use simulated energy uses in baseline and measured data for project activity</a:t>
            </a:r>
            <a:endParaRPr b="0" lang="en-US" sz="2200" spc="-1" strike="noStrike">
              <a:solidFill>
                <a:srgbClr val="ffffff"/>
              </a:solidFill>
              <a:latin typeface="Calibri"/>
            </a:endParaRPr>
          </a:p>
          <a:p>
            <a:pPr lvl="2" marL="1789200" indent="-1432080">
              <a:lnSpc>
                <a:spcPct val="90000"/>
              </a:lnSpc>
              <a:spcBef>
                <a:spcPts val="55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Calibri"/>
              </a:rPr>
              <a:t>&gt; 20% higher than simulated value: PP may either: (i) apply simulated energy uses in baseline and measured data for the project activity to calculate energy savings and emissions reductions, or (ii) re‐calibrate the model to the measured data and re‐apply the above approach.</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5: Calculate ER</a:t>
            </a:r>
            <a:endParaRPr b="0" lang="en-US" sz="4400" spc="-1" strike="noStrike">
              <a:solidFill>
                <a:srgbClr val="ffffff"/>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missions reductions from electrici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missions reductions from thermal energ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j = reference building typ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S = modeled energy savings</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pic>
        <p:nvPicPr>
          <p:cNvPr id="538" name="Picture 3" descr=""/>
          <p:cNvPicPr/>
          <p:nvPr/>
        </p:nvPicPr>
        <p:blipFill>
          <a:blip r:embed="rId1"/>
          <a:stretch/>
        </p:blipFill>
        <p:spPr>
          <a:xfrm>
            <a:off x="885960" y="2247840"/>
            <a:ext cx="4762440" cy="787320"/>
          </a:xfrm>
          <a:prstGeom prst="rect">
            <a:avLst/>
          </a:prstGeom>
          <a:ln w="0">
            <a:noFill/>
          </a:ln>
        </p:spPr>
      </p:pic>
      <p:pic>
        <p:nvPicPr>
          <p:cNvPr id="539" name="Picture 4" descr=""/>
          <p:cNvPicPr/>
          <p:nvPr/>
        </p:nvPicPr>
        <p:blipFill>
          <a:blip r:embed="rId2"/>
          <a:stretch/>
        </p:blipFill>
        <p:spPr>
          <a:xfrm>
            <a:off x="885960" y="4037040"/>
            <a:ext cx="3695400" cy="77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otivation</a:t>
            </a:r>
            <a:endParaRPr b="0" lang="en-US" sz="4400" spc="-1" strike="noStrike">
              <a:solidFill>
                <a:srgbClr val="ffffff"/>
              </a:solidFill>
              <a:latin typeface="Calibri"/>
            </a:endParaRPr>
          </a:p>
        </p:txBody>
      </p:sp>
      <p:sp>
        <p:nvSpPr>
          <p:cNvPr id="502" name=""/>
          <p:cNvSpPr txBox="1"/>
          <p:nvPr/>
        </p:nvSpPr>
        <p:spPr>
          <a:xfrm>
            <a:off x="457200" y="1420560"/>
            <a:ext cx="8229600" cy="51433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Need to isolate effects of mitigation measures</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No comprehensive methodology for buildings</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Better guidance needed for use of building simulation under CDM</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hy single building energy simulation framework?</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Make EB, not DOEs, responsible for approving credible model framework</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eQUEST/DOE-2.2 widely-used globally, free of charge, well-documented, approved by many regulatory regime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Increase consistency across project activitie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Facilitate capacity building by focusing resource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Build publicly available catalog of calibrations to aid learning and analysis (reduce transaction cost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2">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2">
                                            <p:txEl>
                                              <p:pRg st="4" end="4"/>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02">
                                            <p:txEl>
                                              <p:pRg st="5" end="5"/>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02">
                                            <p:txEl>
                                              <p:pRg st="6" end="6"/>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02">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istory</a:t>
            </a:r>
            <a:endParaRPr b="0" lang="en-US" sz="4400" spc="-1" strike="noStrike">
              <a:solidFill>
                <a:srgbClr val="ffffff"/>
              </a:solidFill>
              <a:latin typeface="Calibri"/>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20 April 2010: Submitted by World Bank</a:t>
            </a:r>
            <a:endParaRPr b="0" lang="en-US" sz="2500" spc="-1" strike="noStrike">
              <a:solidFill>
                <a:srgbClr val="ffffff"/>
              </a:solidFill>
              <a:latin typeface="Calibri"/>
            </a:endParaRPr>
          </a:p>
          <a:p>
            <a:pPr marL="343080" indent="-343080">
              <a:lnSpc>
                <a:spcPct val="80000"/>
              </a:lnSpc>
              <a:spcBef>
                <a:spcPts val="624"/>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15 June 2010: SSC WG26 Recommendation</a:t>
            </a:r>
            <a:endParaRPr b="0" lang="en-US" sz="2500" spc="-1" strike="noStrike">
              <a:solidFill>
                <a:srgbClr val="ffffff"/>
              </a:solidFill>
              <a:latin typeface="Calibri"/>
            </a:endParaRPr>
          </a:p>
          <a:p>
            <a:pPr marL="343080" indent="-343080">
              <a:lnSpc>
                <a:spcPct val="80000"/>
              </a:lnSpc>
              <a:spcBef>
                <a:spcPts val="624"/>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16 August 2010: SSC WG27 Revised Recommendation</a:t>
            </a:r>
            <a:endParaRPr b="0" lang="en-US" sz="2500" spc="-1" strike="noStrike">
              <a:solidFill>
                <a:srgbClr val="ffffff"/>
              </a:solidFill>
              <a:latin typeface="Calibri"/>
            </a:endParaRPr>
          </a:p>
          <a:p>
            <a:pPr lvl="1" marL="625320" indent="-268200">
              <a:lnSpc>
                <a:spcPct val="80000"/>
              </a:lnSpc>
              <a:spcBef>
                <a:spcPts val="550"/>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SSC WG recommended that the Secretariat retain further expert input</a:t>
            </a:r>
            <a:endParaRPr b="0" lang="en-US" sz="2200" spc="-1" strike="noStrike">
              <a:solidFill>
                <a:srgbClr val="ffffff"/>
              </a:solidFill>
              <a:latin typeface="Calibri"/>
            </a:endParaRPr>
          </a:p>
          <a:p>
            <a:pPr lvl="1" marL="625320" indent="-268200">
              <a:lnSpc>
                <a:spcPct val="80000"/>
              </a:lnSpc>
              <a:spcBef>
                <a:spcPts val="550"/>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SSC WG will further consider the draft methodology upon receipt of such input</a:t>
            </a:r>
            <a:endParaRPr b="0" lang="en-US" sz="2200" spc="-1" strike="noStrike">
              <a:solidFill>
                <a:srgbClr val="ffffff"/>
              </a:solidFill>
              <a:latin typeface="Calibri"/>
            </a:endParaRPr>
          </a:p>
          <a:p>
            <a:pPr lvl="1" marL="625320" indent="-268200">
              <a:lnSpc>
                <a:spcPct val="80000"/>
              </a:lnSpc>
              <a:spcBef>
                <a:spcPts val="550"/>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SSC WG would welcome participating in, and perhaps even co-organizing, a buildings and building simulation workshop should the methodology’s sponsor care to organize such an event</a:t>
            </a:r>
            <a:r>
              <a:rPr b="0" lang="en-US" sz="2200" spc="-1" strike="noStrike">
                <a:solidFill>
                  <a:srgbClr val="ffffff"/>
                </a:solidFill>
                <a:latin typeface="Calibri"/>
              </a:rPr>
              <a:t>	</a:t>
            </a:r>
            <a:endParaRPr b="0" lang="en-US" sz="2200" spc="-1" strike="noStrike">
              <a:solidFill>
                <a:srgbClr val="ffffff"/>
              </a:solidFill>
              <a:latin typeface="Calibri"/>
            </a:endParaRPr>
          </a:p>
          <a:p>
            <a:pPr lvl="1" marL="625320" indent="-2682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 </a:t>
            </a:r>
            <a:r>
              <a:rPr b="0" lang="en-US" sz="2200" spc="-1" strike="noStrike">
                <a:solidFill>
                  <a:srgbClr val="ffffff"/>
                </a:solidFill>
                <a:latin typeface="Calibri"/>
              </a:rPr>
              <a:t>	</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alibri"/>
              </a:rPr>
              <a:t>ELEMENTS OF THE METHODOLOGY</a:t>
            </a:r>
            <a:endParaRPr b="0" lang="en-US" sz="4000" spc="-1" strike="noStrike">
              <a:solidFill>
                <a:srgbClr val="ffffff"/>
              </a:solidFill>
              <a:latin typeface="Calibri"/>
            </a:endParaRPr>
          </a:p>
        </p:txBody>
      </p:sp>
      <p:sp>
        <p:nvSpPr>
          <p:cNvPr id="5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echnology/Measure</a:t>
            </a:r>
            <a:endParaRPr b="0" lang="en-US" sz="4400" spc="-1" strike="noStrike">
              <a:solidFill>
                <a:srgbClr val="ffffff"/>
              </a:solidFill>
              <a:latin typeface="Calibri"/>
            </a:endParaRPr>
          </a:p>
        </p:txBody>
      </p:sp>
      <p:sp>
        <p:nvSpPr>
          <p:cNvPr id="5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GHG emissions mitigation from:</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On-site building energy supply </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Building energy end-use (thermal and/or electrical, including plug-loads)</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Existing building retrofits and new construction</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ype III (RE, EE, fossil fuel switch, passive desig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pplicability</a:t>
            </a:r>
            <a:endParaRPr b="0" lang="en-US" sz="4400" spc="-1" strike="noStrike">
              <a:solidFill>
                <a:srgbClr val="ffffff"/>
              </a:solidFill>
              <a:latin typeface="Calibri"/>
            </a:endParaRPr>
          </a:p>
        </p:txBody>
      </p:sp>
      <p:sp>
        <p:nvSpPr>
          <p:cNvPr id="51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pplicability</a:t>
            </a:r>
            <a:endParaRPr b="0" lang="en-US" sz="2400" spc="-1" strike="noStrike">
              <a:solidFill>
                <a:srgbClr val="ffffff"/>
              </a:solidFill>
              <a:latin typeface="Calibri"/>
            </a:endParaRPr>
          </a:p>
        </p:txBody>
      </p:sp>
      <p:sp>
        <p:nvSpPr>
          <p:cNvPr id="51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QUEST/DOE-2.2 building energy simulation package must be use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Project participants can demonstrate that building energy simulations (and related calibrations) will be performed by a skilled operator</a:t>
            </a:r>
            <a:endParaRPr b="0" lang="en-US" sz="2400" spc="-1" strike="noStrike">
              <a:solidFill>
                <a:srgbClr val="ffffff"/>
              </a:solidFill>
              <a:latin typeface="Calibri"/>
            </a:endParaRPr>
          </a:p>
        </p:txBody>
      </p:sp>
      <p:sp>
        <p:nvSpPr>
          <p:cNvPr id="51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Underlying PDD</a:t>
            </a:r>
            <a:endParaRPr b="0" lang="en-US" sz="2400" spc="-1" strike="noStrike">
              <a:solidFill>
                <a:srgbClr val="ffffff"/>
              </a:solidFill>
              <a:latin typeface="Calibri"/>
            </a:endParaRPr>
          </a:p>
        </p:txBody>
      </p:sp>
      <p:sp>
        <p:nvSpPr>
          <p:cNvPr id="513" name=""/>
          <p:cNvSpPr txBox="1"/>
          <p:nvPr/>
        </p:nvSpPr>
        <p:spPr>
          <a:xfrm>
            <a:off x="4644720" y="2174760"/>
            <a:ext cx="4041720" cy="3951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Green Public Housing Project (Tianjin, China)</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7 residential towers (569 apartments); floor area 37,885 m2</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easures</a:t>
            </a:r>
            <a:endParaRPr b="0" lang="en-US" sz="24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On-site solar</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Building envelope</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Efficient building technologies, fixtures, lighting &amp; appliance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tionality</a:t>
            </a:r>
            <a:endParaRPr b="0" lang="en-US" sz="4400" spc="-1" strike="noStrike">
              <a:solidFill>
                <a:srgbClr val="ffffff"/>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an be demonstrated through achievement of voluntary green building certification, if standard is more stringent than any local mandatory requirement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Requirement to file F-CDM-Prior consideration waived</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Crediting period for such project activities may begin from the date of first occupancy (not prior to 1 January 2009)</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Otherwise, SSC additionality provisions included in Attachment A to Appendix B of 4/CMP.1 Annex II</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Baseline</a:t>
            </a:r>
            <a:endParaRPr b="0" lang="en-US" sz="4400" spc="-1" strike="noStrike">
              <a:solidFill>
                <a:srgbClr val="ffffff"/>
              </a:solidFill>
              <a:latin typeface="Calibri"/>
            </a:endParaRPr>
          </a:p>
        </p:txBody>
      </p:sp>
      <p:sp>
        <p:nvSpPr>
          <p:cNvPr id="51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Baseline Scenario</a:t>
            </a:r>
            <a:endParaRPr b="0" lang="en-US" sz="2400" spc="-1" strike="noStrike">
              <a:solidFill>
                <a:srgbClr val="ffffff"/>
              </a:solidFill>
              <a:latin typeface="Calibri"/>
            </a:endParaRPr>
          </a:p>
        </p:txBody>
      </p:sp>
      <p:sp>
        <p:nvSpPr>
          <p:cNvPr id="518"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Retrofit: Existing building in pre-retrofit conditio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ew construction: Planned building as it would have been constructed were it not for the CDM project activity:</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Existing building code or</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Typical of the building stock</a:t>
            </a:r>
            <a:endParaRPr b="0" lang="en-US" sz="2000" spc="-1" strike="noStrike">
              <a:solidFill>
                <a:srgbClr val="ffffff"/>
              </a:solidFill>
              <a:latin typeface="Calibri"/>
            </a:endParaRPr>
          </a:p>
        </p:txBody>
      </p:sp>
      <p:sp>
        <p:nvSpPr>
          <p:cNvPr id="51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Baseline Energy Consumption</a:t>
            </a:r>
            <a:endParaRPr b="0" lang="en-US" sz="2400" spc="-1" strike="noStrike">
              <a:solidFill>
                <a:srgbClr val="ffffff"/>
              </a:solidFill>
              <a:latin typeface="Calibri"/>
            </a:endParaRPr>
          </a:p>
        </p:txBody>
      </p:sp>
      <p:sp>
        <p:nvSpPr>
          <p:cNvPr id="52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imulate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alibri"/>
              </a:rPr>
              <a:t>EMISSIONS REDUCTIONS</a:t>
            </a:r>
            <a:endParaRPr b="0" lang="en-US" sz="4000" spc="-1" strike="noStrike">
              <a:solidFill>
                <a:srgbClr val="ffffff"/>
              </a:solidFill>
              <a:latin typeface="Calibri"/>
            </a:endParaRPr>
          </a:p>
        </p:txBody>
      </p:sp>
      <p:sp>
        <p:nvSpPr>
          <p:cNvPr id="52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2T14:51:14Z</dcterms:created>
  <dc:creator>Anne Arquit Niederberger</dc:creator>
  <dc:description/>
  <dc:language>en-US</dc:language>
  <cp:lastModifiedBy>Jacob Halcomb</cp:lastModifiedBy>
  <dcterms:modified xsi:type="dcterms:W3CDTF">2011-03-14T14:04:39Z</dcterms:modified>
  <cp:revision>13</cp:revision>
  <dc:subject/>
  <dc:title>SSC-NM0053</dc:title>
</cp:coreProperties>
</file>