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D387E9-E459-4B26-B5A4-B24E8AB56AC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C07F7E-8DC7-4B5E-AAA9-EE29F7FD0E6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31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D4AA82A3-DBAF-4080-AE3A-4BF64C0E34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46000" y="78912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543640" cy="46036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presentation has to be delivered in 1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great pleasure for me to be there today and to have the opportunity to present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ever common carbon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ing a basic building b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any international policies to reduce greenhouse gas emissions from buil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on  Carbon Metric protocol and reporting template provides industry with a  globally consistent methodology by which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 energy use and report related greenhouse gas emissions from building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mon Carbon Metrics has been jointly developed by a large number of national and international organizations and experts concerned with energy efficiency and climate mitigation in the building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resentation I will give you a brief introduction to the Metrics, and I will outline how it may enable the building sector to contribute significantly through emission reductions to a low-carbon society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D8C3ED-EF32-4130-925D-FB9D65A0DB7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19CB35-D160-4039-89B1-B28A4584FDD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5C3634-26A8-44A9-AFB7-E98EF4BF769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0D6E62-4558-4098-AD23-62B679D3324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use - the full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 research into operational energy use points to a worrying discrepancy between forecast and actual energy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iagram describes the key contributors to this discrepancy, namely that during design stages the legislative requirements for energy forecasting relates to fixed building services only.  However occupant-related energy consumption can account for over 2/3rds of a building's total energy use. Reducing this requires input from clients, consultants, contractors, facilities managers and occupants. CarbonBuzz campaigns for better awareness of these factors amongst all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A77150-4370-497E-808D-3625C08E750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AB119D-CE2B-4425-9890-357EC62F803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B7718E-EC8E-4FBE-9E8D-7F741C835DF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249C58-F00C-4471-B62F-4FF0C9753E1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AC6350-911E-4778-B651-AB9F2E3759D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1972BA-DD7F-4C0A-A91C-9EF8A430924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ECA248-01C2-4D14-8660-2F2A197D784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57999C-FBCB-491D-9AB7-B86C28A3821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39CE7D-3894-44B2-9C07-E0329E4764F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182B27-D00C-47AA-BDC2-EE3F554405F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3F57B9-81D7-4817-8C49-8565C579FFF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3E895D-B29B-4C58-BBD6-AB0B38962A5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CDBE3A-2416-42D0-9586-51838B7F463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3F124F-26E3-48A5-811E-0E50E9AC817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6BE5A8-2F2D-4B3D-A028-3CA3A312162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927563-2033-4F5D-8325-0FC162B9F64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03A43E-8B7C-4133-ABE8-2868B1A9F91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C28C5A-5988-47AA-910D-07561A845D6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1466EB-7F99-42F0-B808-5D6D487EABD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F37928-6667-409D-9A44-C0D2832FECA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9FD-C7B4-44AA-B3AF-000D1F5D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BDB-73F7-4651-8EDF-C6CE7A2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3F7-66D1-446B-80C7-71D7444F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B8B-5668-4C73-B522-92A49530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89C-E419-4BAB-9E2E-28905A12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25F-7930-4CFA-A923-2D956393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E28-D52A-462D-9D17-E3F43986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B68-C074-45D1-901A-CCAC53C5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843-1BDC-4BFA-8571-790F389E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E5C-3BEC-4F9E-A245-0216E6E7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E6D-CA9A-4025-8B35-8EA5B1B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224-6048-4CCB-99CC-48142825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B95F-90C7-4EF4-A535-3CFB9286E5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547560"/>
            <a:ext cx="85330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00cc"/>
                </a:solidFill>
                <a:latin typeface="Arial"/>
              </a:rPr>
              <a:t>Modelling energy use in buildings: making it simpler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3481200"/>
            <a:ext cx="7891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Buildings Under UNFCCC Flexible Mechanisms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March 2011, Bonn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Rajat Gupt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nt UNEP-SB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upta@brookes.ac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2124000" y="1600200"/>
            <a:ext cx="4413240" cy="2620800"/>
            <a:chOff x="2124000" y="1600200"/>
            <a:chExt cx="4413240" cy="2620800"/>
          </a:xfrm>
        </p:grpSpPr>
        <p:pic>
          <p:nvPicPr>
            <p:cNvPr id="52" name="Picture 8" descr="mind_the_gap-logo-1"/>
            <p:cNvPicPr/>
            <p:nvPr/>
          </p:nvPicPr>
          <p:blipFill>
            <a:blip r:embed="rId1"/>
            <a:stretch/>
          </p:blipFill>
          <p:spPr>
            <a:xfrm>
              <a:off x="2124000" y="1600200"/>
              <a:ext cx="441324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9"/>
            <p:cNvSpPr/>
            <p:nvPr/>
          </p:nvSpPr>
          <p:spPr>
            <a:xfrm>
              <a:off x="4211640" y="2412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red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V="1">
              <a:off x="4859280" y="3326760"/>
              <a:ext cx="14292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5002200" y="3327120"/>
              <a:ext cx="14436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55640" y="790560"/>
            <a:ext cx="7704000" cy="6054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2627280" y="260280"/>
            <a:ext cx="65167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The Credibility Gap: Prediction and Ac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124000" y="258840"/>
            <a:ext cx="7020000" cy="56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Modelled and actual energy use: Credibility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1680" y="3789360"/>
          <a:ext cx="8191440" cy="2151000"/>
        </p:xfrm>
        <a:graphic>
          <a:graphicData uri="http://schemas.openxmlformats.org/drawingml/2006/table">
            <a:tbl>
              <a:tblPr/>
              <a:tblGrid>
                <a:gridCol w="2476440"/>
                <a:gridCol w="1981080"/>
                <a:gridCol w="1609560"/>
                <a:gridCol w="21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consumption (kW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(£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area (kWh/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 (29 Jan 08-28 Jan 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65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ity (Lighting + fans/ pumps + applian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ater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(energy on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46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33520" y="1436760"/>
          <a:ext cx="8153280" cy="1920960"/>
        </p:xfrm>
        <a:graphic>
          <a:graphicData uri="http://schemas.openxmlformats.org/drawingml/2006/table">
            <a:tbl>
              <a:tblPr/>
              <a:tblGrid>
                <a:gridCol w="2452680"/>
                <a:gridCol w="1933560"/>
                <a:gridCol w="1560240"/>
                <a:gridCol w="2206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P Energy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consumption (kW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(£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area (kWh/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797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ity (Lighting +fans/ pum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99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62"/>
          <p:cNvSpPr/>
          <p:nvPr/>
        </p:nvSpPr>
        <p:spPr>
          <a:xfrm>
            <a:off x="2843280" y="2781360"/>
            <a:ext cx="2160360" cy="71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2843280" y="5446800"/>
            <a:ext cx="2160360" cy="71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47640" y="981000"/>
            <a:ext cx="5472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30s Victorian terrace house in Oxford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611280" y="5261040"/>
            <a:ext cx="9061200" cy="276480"/>
            <a:chOff x="611280" y="5261040"/>
            <a:chExt cx="9061200" cy="276480"/>
          </a:xfrm>
        </p:grpSpPr>
        <p:sp>
          <p:nvSpPr>
            <p:cNvPr id="99" name="Text Box 3"/>
            <p:cNvSpPr/>
            <p:nvPr/>
          </p:nvSpPr>
          <p:spPr>
            <a:xfrm>
              <a:off x="1180800" y="5261040"/>
              <a:ext cx="849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Unregulated Energy Use includes: plugload, server rooms, security, external lighting, lifts et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611280" y="5305320"/>
              <a:ext cx="515880" cy="9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600120" y="5486400"/>
            <a:ext cx="9072000" cy="276480"/>
            <a:chOff x="600120" y="5486400"/>
            <a:chExt cx="9072000" cy="276480"/>
          </a:xfrm>
        </p:grpSpPr>
        <p:sp>
          <p:nvSpPr>
            <p:cNvPr id="102" name="Text Box 6"/>
            <p:cNvSpPr/>
            <p:nvPr/>
          </p:nvSpPr>
          <p:spPr>
            <a:xfrm>
              <a:off x="1181520" y="5486400"/>
              <a:ext cx="849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Special Functions include: trading floors, server rooms, cafeteria et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600120" y="5529960"/>
              <a:ext cx="516240" cy="972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4795920" y="2671920"/>
            <a:ext cx="3921120" cy="423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3422520" y="2671920"/>
            <a:ext cx="2665440" cy="422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078600" y="2668680"/>
            <a:ext cx="1003320" cy="42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064280" y="2673360"/>
            <a:ext cx="798480" cy="42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-3343320" y="2676600"/>
            <a:ext cx="7131240" cy="420480"/>
          </a:xfrm>
          <a:custGeom>
            <a:avLst/>
            <a:gdLst>
              <a:gd name="textAreaLeft" fmla="*/ 0 w 7131240"/>
              <a:gd name="textAreaRight" fmla="*/ 7131600 w 713124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1" y="0"/>
                </a:lnTo>
                <a:lnTo>
                  <a:pt x="21600" y="10800"/>
                </a:lnTo>
                <a:lnTo>
                  <a:pt x="20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-3421080" y="2637000"/>
            <a:ext cx="373860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4"/>
          <p:cNvGrpSpPr/>
          <p:nvPr/>
        </p:nvGrpSpPr>
        <p:grpSpPr>
          <a:xfrm>
            <a:off x="5576760" y="3973680"/>
            <a:ext cx="1859040" cy="899640"/>
            <a:chOff x="5576760" y="3973680"/>
            <a:chExt cx="1859040" cy="899640"/>
          </a:xfrm>
        </p:grpSpPr>
        <p:sp>
          <p:nvSpPr>
            <p:cNvPr id="111" name="Line 15"/>
            <p:cNvSpPr/>
            <p:nvPr/>
          </p:nvSpPr>
          <p:spPr>
            <a:xfrm>
              <a:off x="6521040" y="397368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5576760" y="4130640"/>
              <a:ext cx="185904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Extra occup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&amp; operating h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7"/>
          <p:cNvSpPr/>
          <p:nvPr/>
        </p:nvSpPr>
        <p:spPr>
          <a:xfrm>
            <a:off x="6483240" y="199692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Myriad Pro"/>
                <a:ea typeface="ヒラギノ角ゴ Pro W3"/>
              </a:rPr>
              <a:t>Actual – Real energy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41280" y="1989000"/>
            <a:ext cx="8342280" cy="67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9"/>
          <p:cNvGrpSpPr/>
          <p:nvPr/>
        </p:nvGrpSpPr>
        <p:grpSpPr>
          <a:xfrm>
            <a:off x="7316640" y="3119400"/>
            <a:ext cx="1860840" cy="573480"/>
            <a:chOff x="7316640" y="3119400"/>
            <a:chExt cx="1860840" cy="573480"/>
          </a:xfrm>
        </p:grpSpPr>
        <p:sp>
          <p:nvSpPr>
            <p:cNvPr id="116" name="Line 20"/>
            <p:cNvSpPr/>
            <p:nvPr/>
          </p:nvSpPr>
          <p:spPr>
            <a:xfrm>
              <a:off x="8260560" y="31194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7316640" y="3274560"/>
              <a:ext cx="18608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Spe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fu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1601640" y="237348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del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39840" y="2382840"/>
            <a:ext cx="345600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"/>
          <p:cNvGrpSpPr/>
          <p:nvPr/>
        </p:nvGrpSpPr>
        <p:grpSpPr>
          <a:xfrm>
            <a:off x="955800" y="3114720"/>
            <a:ext cx="2268000" cy="581400"/>
            <a:chOff x="955800" y="3114720"/>
            <a:chExt cx="2268000" cy="581400"/>
          </a:xfrm>
        </p:grpSpPr>
        <p:grpSp>
          <p:nvGrpSpPr>
            <p:cNvPr id="121" name="Group 25"/>
            <p:cNvGrpSpPr/>
            <p:nvPr/>
          </p:nvGrpSpPr>
          <p:grpSpPr>
            <a:xfrm>
              <a:off x="955800" y="3114720"/>
              <a:ext cx="2119320" cy="581400"/>
              <a:chOff x="955800" y="3114720"/>
              <a:chExt cx="2119320" cy="581400"/>
            </a:xfrm>
          </p:grpSpPr>
          <p:sp>
            <p:nvSpPr>
              <p:cNvPr id="122" name="Line 26"/>
              <p:cNvSpPr/>
              <p:nvPr/>
            </p:nvSpPr>
            <p:spPr>
              <a:xfrm>
                <a:off x="2027880" y="311472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27"/>
              <p:cNvSpPr/>
              <p:nvPr/>
            </p:nvSpPr>
            <p:spPr>
              <a:xfrm>
                <a:off x="955800" y="3277800"/>
                <a:ext cx="2119320" cy="41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Myriad Pro"/>
                    <a:ea typeface="ヒラギノ角ゴ Pro W3"/>
                  </a:rPr>
                  <a:t>Forecast Regulated 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yriad Pro"/>
                    <a:ea typeface="ヒラギノ角ゴ Pro W3"/>
                  </a:rPr>
                  <a:t>Part 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28"/>
            <p:cNvSpPr/>
            <p:nvPr/>
          </p:nvSpPr>
          <p:spPr>
            <a:xfrm>
              <a:off x="2739960" y="3298680"/>
              <a:ext cx="483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9"/>
          <p:cNvGrpSpPr/>
          <p:nvPr/>
        </p:nvGrpSpPr>
        <p:grpSpPr>
          <a:xfrm>
            <a:off x="3759120" y="3147840"/>
            <a:ext cx="1860480" cy="733680"/>
            <a:chOff x="3759120" y="3147840"/>
            <a:chExt cx="1860480" cy="733680"/>
          </a:xfrm>
        </p:grpSpPr>
        <p:sp>
          <p:nvSpPr>
            <p:cNvPr id="126" name="Line 30"/>
            <p:cNvSpPr/>
            <p:nvPr/>
          </p:nvSpPr>
          <p:spPr>
            <a:xfrm>
              <a:off x="4703040" y="3147840"/>
              <a:ext cx="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1"/>
            <p:cNvSpPr/>
            <p:nvPr/>
          </p:nvSpPr>
          <p:spPr>
            <a:xfrm>
              <a:off x="3759120" y="3313080"/>
              <a:ext cx="18604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Unregulated CO</a:t>
              </a:r>
              <a:r>
                <a:rPr b="0" lang="en-GB" sz="1400" spc="-1" strike="noStrike" baseline="-25000">
                  <a:solidFill>
                    <a:srgbClr val="000000"/>
                  </a:solidFill>
                  <a:latin typeface="Myriad Pro"/>
                  <a:ea typeface="ヒラギノ角ゴ Pro W3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2"/>
          <p:cNvGrpSpPr/>
          <p:nvPr/>
        </p:nvGrpSpPr>
        <p:grpSpPr>
          <a:xfrm>
            <a:off x="6499080" y="3284640"/>
            <a:ext cx="1860840" cy="1174320"/>
            <a:chOff x="6499080" y="3284640"/>
            <a:chExt cx="1860840" cy="1174320"/>
          </a:xfrm>
        </p:grpSpPr>
        <p:sp>
          <p:nvSpPr>
            <p:cNvPr id="129" name="Text Box 33"/>
            <p:cNvSpPr/>
            <p:nvPr/>
          </p:nvSpPr>
          <p:spPr>
            <a:xfrm>
              <a:off x="6499080" y="3716280"/>
              <a:ext cx="186084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Inefficien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From B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7435080" y="328464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35"/>
          <p:cNvSpPr/>
          <p:nvPr/>
        </p:nvSpPr>
        <p:spPr>
          <a:xfrm>
            <a:off x="247680" y="2614680"/>
            <a:ext cx="84708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6"/>
          <p:cNvGrpSpPr/>
          <p:nvPr/>
        </p:nvGrpSpPr>
        <p:grpSpPr>
          <a:xfrm>
            <a:off x="611280" y="5013360"/>
            <a:ext cx="9073800" cy="276480"/>
            <a:chOff x="611280" y="5013360"/>
            <a:chExt cx="9073800" cy="276480"/>
          </a:xfrm>
        </p:grpSpPr>
        <p:sp>
          <p:nvSpPr>
            <p:cNvPr id="133" name="Rectangle 37"/>
            <p:cNvSpPr/>
            <p:nvPr/>
          </p:nvSpPr>
          <p:spPr>
            <a:xfrm>
              <a:off x="611280" y="5059080"/>
              <a:ext cx="515880" cy="97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8"/>
            <p:cNvSpPr/>
            <p:nvPr/>
          </p:nvSpPr>
          <p:spPr>
            <a:xfrm>
              <a:off x="1193760" y="5013360"/>
              <a:ext cx="849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Pro"/>
                  <a:ea typeface="ヒラギノ角ゴ Pro W3"/>
                </a:rPr>
                <a:t>Regulated Energy Use includes: fixed building services, heating, hot water, cooling, ventilation, ligh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39"/>
          <p:cNvSpPr/>
          <p:nvPr/>
        </p:nvSpPr>
        <p:spPr>
          <a:xfrm>
            <a:off x="268200" y="3071880"/>
            <a:ext cx="84726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987640" y="260280"/>
            <a:ext cx="615636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Energy use in buildings: the full pic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6566040"/>
            <a:ext cx="396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ource: Aedas Architects, 201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The theoretical potential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of the base building’s fabric and services under standard assumptions is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 the following are NOT conside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build qu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issio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it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the occup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qui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ded by the occup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patte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use of the building &amp; equi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on, control, maintenance, manag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all the above, by both landlord and ten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0920" y="260280"/>
            <a:ext cx="7093080" cy="520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So, what do energy models consider and ign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6566040"/>
            <a:ext cx="396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ource: Bill Bordass, 200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6300720" y="3573360"/>
            <a:ext cx="2448000" cy="1224000"/>
            <a:chOff x="6300720" y="3573360"/>
            <a:chExt cx="2448000" cy="1224000"/>
          </a:xfrm>
        </p:grpSpPr>
        <p:sp>
          <p:nvSpPr>
            <p:cNvPr id="142" name="Line 6"/>
            <p:cNvSpPr/>
            <p:nvPr/>
          </p:nvSpPr>
          <p:spPr>
            <a:xfrm>
              <a:off x="6300720" y="3573360"/>
              <a:ext cx="0" cy="1224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6588000" y="3645000"/>
              <a:ext cx="216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rial"/>
                </a:rPr>
                <a:t>Influenced by socio-economic-cultural fa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rcRect l="0" t="0" r="33975" b="0"/>
          <a:stretch/>
        </p:blipFill>
        <p:spPr>
          <a:xfrm>
            <a:off x="1187280" y="1295280"/>
            <a:ext cx="6409080" cy="4365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-36360" y="655308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(Source: Energy for Sustainable Development,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2052720" y="1006560"/>
            <a:ext cx="4463640" cy="2305080"/>
            <a:chOff x="2052720" y="1006560"/>
            <a:chExt cx="4463640" cy="2305080"/>
          </a:xfrm>
        </p:grpSpPr>
        <p:sp>
          <p:nvSpPr>
            <p:cNvPr id="147" name="Line 5"/>
            <p:cNvSpPr/>
            <p:nvPr/>
          </p:nvSpPr>
          <p:spPr>
            <a:xfrm flipV="1">
              <a:off x="5651280" y="1006560"/>
              <a:ext cx="865080" cy="936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2052720" y="1727280"/>
              <a:ext cx="0" cy="1584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195280" y="1727280"/>
              <a:ext cx="3889080" cy="1584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2"/>
          <p:cNvGrpSpPr/>
          <p:nvPr/>
        </p:nvGrpSpPr>
        <p:grpSpPr>
          <a:xfrm>
            <a:off x="1763640" y="1726920"/>
            <a:ext cx="6337440" cy="3903840"/>
            <a:chOff x="1763640" y="1726920"/>
            <a:chExt cx="6337440" cy="3903840"/>
          </a:xfrm>
        </p:grpSpPr>
        <p:sp>
          <p:nvSpPr>
            <p:cNvPr id="151" name="Line 7"/>
            <p:cNvSpPr/>
            <p:nvPr/>
          </p:nvSpPr>
          <p:spPr>
            <a:xfrm flipV="1">
              <a:off x="7235640" y="2085840"/>
              <a:ext cx="865440" cy="93636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1763640" y="1727280"/>
              <a:ext cx="0" cy="388764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21"/>
            <p:cNvGrpSpPr/>
            <p:nvPr/>
          </p:nvGrpSpPr>
          <p:grpSpPr>
            <a:xfrm>
              <a:off x="2195280" y="1726920"/>
              <a:ext cx="5400720" cy="3903840"/>
              <a:chOff x="2195280" y="1726920"/>
              <a:chExt cx="5400720" cy="3903840"/>
            </a:xfrm>
          </p:grpSpPr>
          <p:sp>
            <p:nvSpPr>
              <p:cNvPr id="154" name="Line 12"/>
              <p:cNvSpPr/>
              <p:nvPr/>
            </p:nvSpPr>
            <p:spPr>
              <a:xfrm>
                <a:off x="2195280" y="1727280"/>
                <a:ext cx="0" cy="388764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3"/>
              <p:cNvSpPr/>
              <p:nvPr/>
            </p:nvSpPr>
            <p:spPr>
              <a:xfrm>
                <a:off x="2195280" y="5630760"/>
                <a:ext cx="2448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4"/>
              <p:cNvSpPr/>
              <p:nvPr/>
            </p:nvSpPr>
            <p:spPr>
              <a:xfrm flipV="1">
                <a:off x="4627440" y="3311640"/>
                <a:ext cx="0" cy="230328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5"/>
              <p:cNvSpPr/>
              <p:nvPr/>
            </p:nvSpPr>
            <p:spPr>
              <a:xfrm>
                <a:off x="4643280" y="3311640"/>
                <a:ext cx="1441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"/>
              <p:cNvSpPr/>
              <p:nvPr/>
            </p:nvSpPr>
            <p:spPr>
              <a:xfrm>
                <a:off x="6084720" y="3311640"/>
                <a:ext cx="0" cy="230328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7"/>
              <p:cNvSpPr/>
              <p:nvPr/>
            </p:nvSpPr>
            <p:spPr>
              <a:xfrm>
                <a:off x="6084720" y="5630760"/>
                <a:ext cx="1511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8"/>
              <p:cNvSpPr/>
              <p:nvPr/>
            </p:nvSpPr>
            <p:spPr>
              <a:xfrm flipV="1">
                <a:off x="7596000" y="1726920"/>
                <a:ext cx="0" cy="388764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9"/>
              <p:cNvSpPr/>
              <p:nvPr/>
            </p:nvSpPr>
            <p:spPr>
              <a:xfrm flipH="1">
                <a:off x="2195280" y="1727280"/>
                <a:ext cx="5400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Text Box 2"/>
          <p:cNvSpPr/>
          <p:nvPr/>
        </p:nvSpPr>
        <p:spPr>
          <a:xfrm>
            <a:off x="1187280" y="260280"/>
            <a:ext cx="79567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Assessing energy use in buildings: Approach in U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059280" y="260280"/>
            <a:ext cx="6084720" cy="1312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Changing role of building energy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le 1"/>
          <p:cNvSpPr/>
          <p:nvPr/>
        </p:nvSpPr>
        <p:spPr>
          <a:xfrm>
            <a:off x="179280" y="1233360"/>
            <a:ext cx="3097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S Map-based domestic carbon-counting and carbon-reduction model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 toolkit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ergy use and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missions, on a house-by-house level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156360" y="5445000"/>
            <a:ext cx="29592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79280" y="260280"/>
            <a:ext cx="8964720" cy="535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Arial Narrow"/>
              </a:rPr>
              <a:t>Assessing energy use of a large number of buildings rapid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6360" y="655308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(Source: www.decorum-model.org.u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3203640" y="1341360"/>
            <a:ext cx="5940360" cy="4718160"/>
            <a:chOff x="3203640" y="1341360"/>
            <a:chExt cx="5940360" cy="4718160"/>
          </a:xfrm>
        </p:grpSpPr>
        <p:pic>
          <p:nvPicPr>
            <p:cNvPr id="169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1341360"/>
              <a:ext cx="594036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2"/>
            <p:cNvSpPr/>
            <p:nvPr/>
          </p:nvSpPr>
          <p:spPr>
            <a:xfrm>
              <a:off x="3564000" y="5373720"/>
              <a:ext cx="543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  <a:ea typeface="SimSun"/>
                </a:rPr>
                <a:t>Carbon mapping of houses in North Oxford : DECoR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42560" y="907920"/>
            <a:ext cx="9001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energy consumption or energy imported 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duc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site renewables 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av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6505" t="15118" r="4262" b="10889"/>
          <a:stretch/>
        </p:blipFill>
        <p:spPr>
          <a:xfrm>
            <a:off x="1619280" y="1916280"/>
            <a:ext cx="7523280" cy="4392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08000" y="2205000"/>
            <a:ext cx="180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Arial"/>
              </a:rPr>
              <a:t>So poor buildings can’t hide under low-carbon supplies (avoids Greenwash, Eco-bling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187280" y="260280"/>
            <a:ext cx="79567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Reporting energy and carbon performance ethical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ktangel 8"/>
          <p:cNvSpPr/>
          <p:nvPr/>
        </p:nvSpPr>
        <p:spPr>
          <a:xfrm>
            <a:off x="2357280" y="47862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79280" y="1052640"/>
            <a:ext cx="8785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’ utilisation factors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(Refer to energy use of comparable existing building ty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poke’ occupancy schedules for different building typologies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(empirical studies on building energy consumption essential, CCM type methods could he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going monitoring and evaluation to understand what really happens in use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(rapidly feed back this information into mod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parency and accountability is essential to avoid unintended consequences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(Validation of model predictions with actual utility da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unmanageable complication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 (Keep things as simple as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39640" y="260280"/>
            <a:ext cx="8604360" cy="596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Towards evidence-based assumptions in energy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508720" y="260280"/>
            <a:ext cx="363528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Conclusions and                   final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ktangel 8"/>
          <p:cNvSpPr/>
          <p:nvPr/>
        </p:nvSpPr>
        <p:spPr>
          <a:xfrm>
            <a:off x="2357280" y="47862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68360" y="1628640"/>
            <a:ext cx="806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cc"/>
                </a:solidFill>
                <a:latin typeface="Arial"/>
              </a:rPr>
              <a:t>in theory, theory and practice are the same, in practice they are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ANTA FE INSTITUTE for research into complex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ktangel 8"/>
          <p:cNvSpPr/>
          <p:nvPr/>
        </p:nvSpPr>
        <p:spPr>
          <a:xfrm>
            <a:off x="2357280" y="47862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08000" y="907920"/>
            <a:ext cx="8856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wo different approaches to measuring and reporting energy use in a building exi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ork down from annual fuel consump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ork up from the components of energy 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ally, reconcile between top-down and bottom-up, to connect inputs with out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804000" y="260280"/>
            <a:ext cx="2340000" cy="630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ere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ktangel 8"/>
          <p:cNvSpPr/>
          <p:nvPr/>
        </p:nvSpPr>
        <p:spPr>
          <a:xfrm>
            <a:off x="2357280" y="47862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79280" y="1774800"/>
            <a:ext cx="7488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 the boundary of the premises (build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lect annual energy use data by f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the building type and floor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ply each fuel use by the appropriate emission fa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lculate performance indic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kWh/m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per ann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kgCO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/m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per ann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ust if necessary,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.g. for weather and/or occupa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Review against appropriate reference data, e.g. published benchmarks,</a:t>
            </a:r>
            <a:r>
              <a:rPr b="0" i="1" lang="en-GB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performance in previous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Establish energy and CO</a:t>
            </a:r>
            <a:r>
              <a:rPr b="0" lang="en-GB" sz="22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cc"/>
                </a:solidFill>
                <a:latin typeface="Arial"/>
              </a:rPr>
              <a:t> reduction tar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8000" y="258840"/>
            <a:ext cx="9036000" cy="1166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sing a Common Carbon Metric based approach: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making energy assessment 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919920" y="1628640"/>
            <a:ext cx="211608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ynamic three-way inte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ists between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eo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buildin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at dictates our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energy nee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buildings – It is essential to consider this in building energy models and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Credibility gap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increa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tween energy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redictions from mode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actual energy consum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buildings: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liability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Energy 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buildings should be reported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ethically: no ‘green was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ALL energy u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hen developing energy models: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ata avail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user experti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void information over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Making it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Common Carbon Metric based-appro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sing complementary top-down and bottom-up approa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867280" y="260280"/>
            <a:ext cx="32767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So in conclusion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971640" y="1503360"/>
          <a:ext cx="29034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03360"/>
                    <a:ext cx="2903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3"/>
          <p:cNvSpPr/>
          <p:nvPr/>
        </p:nvSpPr>
        <p:spPr>
          <a:xfrm>
            <a:off x="4124160" y="185436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"We cannot solve our problems with the same thinking we used when we created them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-763560" y="5465880"/>
            <a:ext cx="16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259680" y="365436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427640" y="260280"/>
            <a:ext cx="471636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Its really about Re-Thinking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484360" y="5661000"/>
            <a:ext cx="46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cc"/>
                </a:solidFill>
                <a:latin typeface="Arial"/>
              </a:rPr>
              <a:t>Thank you for list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ktangel 8"/>
          <p:cNvSpPr/>
          <p:nvPr/>
        </p:nvSpPr>
        <p:spPr>
          <a:xfrm>
            <a:off x="2357280" y="47862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79280" y="620640"/>
            <a:ext cx="849636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Big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building energy models: predicting energy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ys of assessing energy use in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ding energy prediction: limitations and 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redibility G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the full picture: impact of occupant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ing role of building energy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delling energy use of a large number of buildings rapi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thical reporting: avoiding ‘green wash’ and ‘eco-bl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lusions and final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nex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427640" y="189000"/>
            <a:ext cx="4716360" cy="596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Structure of  this pres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372360" y="260280"/>
            <a:ext cx="2771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8"/>
          <p:cNvGrpSpPr/>
          <p:nvPr/>
        </p:nvGrpSpPr>
        <p:grpSpPr>
          <a:xfrm>
            <a:off x="1332000" y="1700280"/>
            <a:ext cx="7140240" cy="3842640"/>
            <a:chOff x="1332000" y="1700280"/>
            <a:chExt cx="7140240" cy="3842640"/>
          </a:xfrm>
        </p:grpSpPr>
        <p:sp>
          <p:nvSpPr>
            <p:cNvPr id="63" name="Line 2"/>
            <p:cNvSpPr/>
            <p:nvPr/>
          </p:nvSpPr>
          <p:spPr>
            <a:xfrm flipH="1">
              <a:off x="2633400" y="2467440"/>
              <a:ext cx="1367280" cy="20926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"/>
            <p:cNvSpPr/>
            <p:nvPr/>
          </p:nvSpPr>
          <p:spPr>
            <a:xfrm>
              <a:off x="5108760" y="2467440"/>
              <a:ext cx="1235880" cy="22323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4"/>
            <p:cNvSpPr/>
            <p:nvPr/>
          </p:nvSpPr>
          <p:spPr>
            <a:xfrm>
              <a:off x="3024000" y="5467680"/>
              <a:ext cx="306108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5"/>
            <p:cNvSpPr/>
            <p:nvPr/>
          </p:nvSpPr>
          <p:spPr>
            <a:xfrm>
              <a:off x="3881880" y="1700280"/>
              <a:ext cx="169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Narrow"/>
                </a:rPr>
                <a:t>Peopl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6193800" y="4839480"/>
              <a:ext cx="227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Narrow"/>
                </a:rPr>
                <a:t>Building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332000" y="4839480"/>
              <a:ext cx="188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Narrow"/>
                </a:rPr>
                <a:t>Climat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8"/>
          <p:cNvSpPr/>
          <p:nvPr/>
        </p:nvSpPr>
        <p:spPr>
          <a:xfrm>
            <a:off x="1092240" y="2514600"/>
            <a:ext cx="176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lture and preferences are partly determined by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372360" y="2492280"/>
            <a:ext cx="169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ople control buildings to suit themselves in climatic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340000" y="5734080"/>
            <a:ext cx="44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ilding ameliorates climate to suit occupants within cultural n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7"/>
          <p:cNvGrpSpPr/>
          <p:nvPr/>
        </p:nvGrpSpPr>
        <p:grpSpPr>
          <a:xfrm>
            <a:off x="3492360" y="2678040"/>
            <a:ext cx="2098800" cy="2514600"/>
            <a:chOff x="3492360" y="2678040"/>
            <a:chExt cx="2098800" cy="2514600"/>
          </a:xfrm>
        </p:grpSpPr>
        <p:sp>
          <p:nvSpPr>
            <p:cNvPr id="73" name="Text Box 11"/>
            <p:cNvSpPr/>
            <p:nvPr/>
          </p:nvSpPr>
          <p:spPr>
            <a:xfrm>
              <a:off x="3564000" y="2982960"/>
              <a:ext cx="19652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nergy use is influenced by climatic, social, economic and cultural contex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2"/>
            <p:cNvSpPr/>
            <p:nvPr/>
          </p:nvSpPr>
          <p:spPr>
            <a:xfrm>
              <a:off x="3492360" y="2678040"/>
              <a:ext cx="2098800" cy="251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3"/>
          <p:cNvSpPr/>
          <p:nvPr/>
        </p:nvSpPr>
        <p:spPr>
          <a:xfrm>
            <a:off x="108000" y="95076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ynamic three-way interaction between climate, people and buildings dictates our energy needs i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-28440" y="6540480"/>
            <a:ext cx="367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ource: Professor Fergus Nicol, 200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516720" y="260280"/>
            <a:ext cx="2627280" cy="1166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The 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87200" y="1125360"/>
            <a:ext cx="895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lining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sessing energy and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missions from all energy-related end-uses in buildings,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Building energy modelling (predicting energy us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examples are Ecotect, IES, TAS, Energy Plus, ESPr, D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Actual energy measur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etered energy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isting performance against best-practice,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rget setting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tablishing ambitious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duction targets – Relative (60%, 80%) or Absolute (15kg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ye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aluation and apprais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low-energy and low-carbon measures and technologies to achieve targets.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(Building energy mod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lementation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itoring, reporting and verify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energy and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ductions achieved as a result: sharing experiences.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(Actual energy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etisation of saving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uture carbon markets &amp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missions trading for building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260280"/>
            <a:ext cx="8675640" cy="596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Role of building energy modelling: predicting energy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edictive energy simulation mode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mputer programs which are used to generate an energy performance prediction from calculation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ES, TAS, Energy Plus, ESPr, eQu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implified energy models or Correl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easure a particular element such as energy efficiency or thermal comfort and focus on providing a quick evaluation of a proposed design in the form of a simple indicator, such as UK’s Standard Assessment Procedure (SAP) for dwelling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11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corecard rating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ward points against pre-defined set of criteria which are then weighted and an overall rating is given, such as LEED (US), BREEAM (UK), Griha (Indi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11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ctual energy consumption measur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ctual data is measured by fuel (gas, electricity etc) consumption or by end use (heating, cooling, appliances) if buildings are specifically sub-meter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03280" y="260280"/>
            <a:ext cx="77407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Approaches for assessing energy use in buil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939960"/>
            <a:ext cx="8642160" cy="1295280"/>
          </a:xfrm>
          <a:prstGeom prst="rect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50920" y="5084640"/>
            <a:ext cx="8642160" cy="1295640"/>
          </a:xfrm>
          <a:prstGeom prst="rect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59280" y="260280"/>
            <a:ext cx="6084720" cy="1312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Narrow"/>
              </a:rPr>
              <a:t>Building energy predictions:  </a:t>
            </a: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Limitations and co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484360" y="260280"/>
            <a:ext cx="665964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Narrow"/>
              </a:rPr>
              <a:t>The Credibility Gap: Prediction and Ac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566040"/>
            <a:ext cx="3960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ource: Bill Bordass, 200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684360" y="1108080"/>
            <a:ext cx="7859520" cy="4842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484360" y="1828800"/>
            <a:ext cx="5975280" cy="2016000"/>
          </a:xfrm>
          <a:prstGeom prst="rect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484360" y="3916440"/>
            <a:ext cx="5975280" cy="647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9:55:36Z</dcterms:created>
  <dc:creator>RG</dc:creator>
  <dc:description/>
  <dc:language>en-US</dc:language>
  <cp:lastModifiedBy>RS</cp:lastModifiedBy>
  <dcterms:modified xsi:type="dcterms:W3CDTF">2011-03-13T22:23:19Z</dcterms:modified>
  <cp:revision>249</cp:revision>
  <dc:subject/>
  <dc:title>Slide 1</dc:title>
</cp:coreProperties>
</file>